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3.jpeg" ContentType="image/jpeg"/>
  <Override PartName="/ppt/media/image20.gif" ContentType="image/gif"/>
  <Override PartName="/ppt/media/image52.jpeg" ContentType="image/jpeg"/>
  <Override PartName="/ppt/media/image50.jpeg" ContentType="image/jpeg"/>
  <Override PartName="/ppt/media/image49.jpeg" ContentType="image/jpeg"/>
  <Override PartName="/ppt/media/image45.wmf" ContentType="image/x-wmf"/>
  <Override PartName="/ppt/media/image48.jpeg" ContentType="image/jpeg"/>
  <Override PartName="/ppt/media/image47.jpeg" ContentType="image/jpeg"/>
  <Override PartName="/ppt/media/image46.jpeg" ContentType="image/jpeg"/>
  <Override PartName="/ppt/media/image55.gif" ContentType="image/gif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35.png" ContentType="image/png"/>
  <Override PartName="/ppt/media/image34.png" ContentType="image/png"/>
  <Override PartName="/ppt/media/image33.jpeg" ContentType="image/jpeg"/>
  <Override PartName="/ppt/media/image32.jpeg" ContentType="image/jpeg"/>
  <Override PartName="/ppt/media/image54.gif" ContentType="image/gif"/>
  <Override PartName="/ppt/media/image10.png" ContentType="image/png"/>
  <Override PartName="/ppt/media/image1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22.gif" ContentType="image/gif"/>
  <Override PartName="/ppt/media/image18.jpeg" ContentType="image/jpeg"/>
  <Override PartName="/ppt/media/image59.gif" ContentType="image/gif"/>
  <Override PartName="/ppt/media/image72.gif" ContentType="image/gif"/>
  <Override PartName="/ppt/media/image71.jpeg" ContentType="image/jpeg"/>
  <Override PartName="/ppt/media/image56.gif" ContentType="image/gif"/>
  <Override PartName="/ppt/media/image66.jpeg" ContentType="image/jpeg"/>
  <Override PartName="/ppt/media/image9.jpeg" ContentType="image/jpeg"/>
  <Override PartName="/ppt/media/image69.jpeg" ContentType="image/jpeg"/>
  <Override PartName="/ppt/media/image21.gif" ContentType="image/gif"/>
  <Override PartName="/ppt/media/image68.jpeg" ContentType="image/jpeg"/>
  <Override PartName="/ppt/media/image19.jpeg" ContentType="image/jpeg"/>
  <Override PartName="/ppt/media/image5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gif" ContentType="image/gif"/>
  <Override PartName="/ppt/media/image67.png" ContentType="image/png"/>
  <Override PartName="/ppt/media/image61.gif" ContentType="image/gif"/>
  <Override PartName="/ppt/media/image60.jpeg" ContentType="image/jpeg"/>
  <Override PartName="/ppt/media/image3.jpeg" ContentType="image/jpeg"/>
  <Override PartName="/ppt/media/image37.jpeg" ContentType="image/jpeg"/>
  <Override PartName="/ppt/media/image62.gif" ContentType="image/gif"/>
  <Override PartName="/ppt/media/image16.jpeg" ContentType="image/jpeg"/>
  <Override PartName="/ppt/media/image70.gif" ContentType="image/gif"/>
  <Override PartName="/ppt/media/projctor.wav" ContentType="audio/x-wav"/>
  <Override PartName="/ppt/media/image4.jpeg" ContentType="image/jpeg"/>
  <Override PartName="/ppt/media/image25.jpeg" ContentType="image/jpeg"/>
  <Override PartName="/ppt/media/cashreg.wav" ContentType="audio/x-wav"/>
  <Override PartName="/ppt/media/type.wav" ContentType="audio/x-wav"/>
  <Override PartName="/ppt/media/image6.jpeg" ContentType="image/jpeg"/>
  <Override PartName="/ppt/media/image5.jpeg" ContentType="image/jpeg"/>
  <Override PartName="/ppt/media/image42.jpeg" ContentType="image/jpeg"/>
  <Override PartName="/ppt/media/image15.gif" ContentType="image/gif"/>
  <Override PartName="/ppt/media/camera.wav" ContentType="audio/x-wav"/>
  <Override PartName="/ppt/media/image7.jpeg" ContentType="image/jpeg"/>
  <Override PartName="/ppt/media/image11.jpeg" ContentType="image/jpeg"/>
  <Override PartName="/ppt/media/image26.jpeg" ContentType="image/jpeg"/>
  <Override PartName="/ppt/media/image24.jpeg" ContentType="image/jpeg"/>
  <Override PartName="/ppt/media/image27.gif" ContentType="image/gif"/>
  <Override PartName="/ppt/media/image51.jpeg" ContentType="image/jpeg"/>
  <Override PartName="/ppt/media/image63.jpeg" ContentType="image/jpeg"/>
  <Override PartName="/ppt/media/image29.png" ContentType="image/png"/>
  <Override PartName="/ppt/media/image36.gif" ContentType="image/gif"/>
  <Override PartName="/ppt/media/chimes.wav" ContentType="audio/x-wav"/>
  <Override PartName="/ppt/media/image17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E86-CD17-481C-A8ED-515D87C9C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看看他给我们介绍的中国石拱桥是怎样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什么叫石拱桥呢？石，材料也。拱，形状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文重点写了那两座石拱桥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à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补充说明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右下标记返回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体会说明语言的准确性、古代劳动人民的勤劳、智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补充说明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右下标记返回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补充说明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右下标记返回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重点：说明赵州桥时抓住了那些特点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每一小点都链接相关说明幻灯片，点击后边箭头即可，也可以返回本页。最下边箭头返回到幻灯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对话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在我国古代就能造出这么优美、科学、实用的桥，说明了什么呀？（体会劳动人民的勤劳、智慧。点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后箭头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点击左下标记，返回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能力训练：说明事物，抓住特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不同特点的桥，让学生说出特点，不必求全，大致说出即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每张右下角都有箭头链接下课幻灯片（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BC8-789D-40D9-824B-F34629BF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6AE-18A8-4EDD-B964-7C2FACF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872DC-7B19-4765-A8B7-EF715BAD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68BF3-F470-443E-8798-83810E9E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91D0D-158E-40CA-AA34-95341D3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13F1B-9982-43FD-B42F-C3D3A45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EBAC7-380F-4A06-B5AA-7D233699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00F09-B0D7-48D6-B944-70F5538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6AA99-434F-4CA6-9FF9-EB855CCD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251C-F3FC-422A-BBA6-D7CA574F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2F2A1-BE2A-41E4-A164-51DC7995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DB253-DFC9-464C-8259-EFEACCBA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780-ED0E-4A68-85E6-6230919C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53CF8-A952-4B69-A449-B955DDD0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3B275-F63C-42CF-B7A0-551306D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EF6B3-BD9F-40AA-952C-B054304F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18A98-D70B-47F9-8724-339459C0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2F8C4-FD77-42D8-B831-559DAB7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5404B-D9AD-461C-8020-FAA00C0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161A-0DA2-4438-8FED-4C0DEF8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8F5D2-EAD5-4322-9333-C76D0F3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E15E9-3177-4BAC-ACD9-7C481774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6D527-F9F5-4DDE-94F2-C30FA1BC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36E-022A-4E53-A3A7-12091C8F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45EEF-42DF-4DC1-A8E5-C6F83DC6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E088E-2CE8-46D1-8BFD-AB5B9C39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02693-2BBF-4A64-A307-834BA45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E2093-3EC4-4538-97BA-F39D10D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DBA17-320E-4ACC-8970-C6548765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3DAD6-B1B8-44F0-9C8C-0164C2FD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3D73D-618B-4C4F-B1D1-89EDCDA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5131E-2BD8-4FB9-8EC5-5F125A0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3DBD-F442-4CA4-A73F-7260C77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11379-96D9-4EB0-A421-EA9974B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010C-F2BB-41FF-B5A6-16D8EBFE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7FC42-E81C-4C91-9289-7D22FBA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9C3F-9F40-4B5E-AEDD-3D48E435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F0F45-D4F1-4A2A-B55B-2BACD155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2A447-0913-4F7C-94E0-02FAC4CA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9D6C7-50C4-4D4A-99BC-8DD4A206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5A8FF-3C49-409A-8C06-5E6E50EF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0B1DF-9586-48D9-920F-64EAAA84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500F5-18B8-4087-AEB9-CD953D55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EB4CF-89D7-4E3F-B4AB-FA5F528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601B3-AED8-4BCA-AD0F-6BC563A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6877-2070-49C7-9D74-DD2C0F61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954EC-3790-4ED4-8E6A-D94E6F12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2BC62-2F4B-4A83-936E-842617C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9F8B1-244A-438C-9CDC-7CBD8E69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29AA6-8DAA-4AF7-B373-F661424A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D2AA7-A462-4B93-8546-49E249B8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C426B-EB8F-48D1-9C5B-4A820480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0E79F-E805-462A-BF67-E2B3A62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A1BB8-C472-4A52-B281-212B2DB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DA611-352C-409B-BDA6-7A9927C2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D202C-D012-48CC-96C6-B4EB7B0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92EF-837E-4ED4-A160-2D9D0E9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1DE84-C5A5-4BDF-ABCB-971B222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C104D-A295-4B27-A7AE-9A5C07B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84BC7-D7FC-4236-9922-AD828C5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D7A74-B465-489B-9CFA-C7E34AB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7CA31-4617-45D0-BF20-ED7D3FA5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2DEE2-D171-486F-A7D4-6FF68C5B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7EC13-B4E0-47D3-BC1B-4C3BC9C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9992-8125-4250-9082-26AF4A73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8689-0966-4A87-8281-0CF2476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B7E-D0ED-4F55-A4B5-749F76DE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EA1-0C70-4AAB-858C-5083B34F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3E7-2C4C-40A6-BD8F-D76D695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0563-4A2A-4D41-878A-45CB759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7D0E-725F-4755-A145-C78532D7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F4C9-2C8F-4DC5-A167-F11CFA20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B7C1-3FBD-46EC-BDEC-F8BC92EC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DB4-4DF4-4174-970D-5CB57B00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2C84-B589-4C38-990F-89ACC09F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D0A9-C14A-491E-80C2-74975D3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AEB7-AB04-4E11-B499-5BB08DF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CB0C-970B-4C9D-8521-EC435379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4B4F-F4B1-4BCC-9E19-F59D675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32B-E272-46D1-B732-190B84F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BD57-7A87-4355-88DB-B8E168B5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CFEF-FADB-4C65-AA81-936944F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CB46-E858-43D4-911C-B79FDDBC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668B-B358-4565-A62A-7F75D01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0DA5-311D-4F81-8445-1A1E2203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68B0-8B46-458F-BACF-C658B21D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EA69-C4DE-448A-8B3A-8DF0A93B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A7A6-18C0-4313-B0A5-04FEDEC0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FB71-D0A8-4D5D-A4C1-29CBE458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E85D-EF2D-4B12-A84C-6912B6B4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AB1-6278-47E9-9DFD-CC5CAF76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D22C-2627-4510-96E9-ECFD74F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CA17-C190-4D2C-9BD6-DCD81DB2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FCBD-1127-4C88-A5F0-8F6D1B0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C6B3-BA4C-420A-84DD-7AA005CD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E818-5CED-4D86-8572-3AD5784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22AB-277B-40F1-94FA-A2B846A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5E67-EA9F-4DE4-A204-598D17EB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F7FA0-9B47-43C7-883E-E6D97608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DE84-0C7C-4156-8E6B-2F2D34BE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2FAEB-6612-4DAB-BF6A-E1D77AE9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A43-7476-4945-9AD9-CD3A41FD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5C5A-524A-4D79-98CD-CD7590FC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3AD9-0DF1-427B-98C3-4577D98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B707-EAFE-4D8A-AA84-C4165BC9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B025-99BF-479C-A3B7-4B44806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71B8-2E88-411B-B5F1-F5ABB273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A0F2-65D3-4E99-A0D6-0B2CCA7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8AB6E-CCA3-454B-995C-DA76F65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0AA6-00F4-4215-889C-A247B28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CA63-17A5-47EA-BD38-A2CBAA22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576E-2B38-4371-A37B-23E6204D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E5C-DDFF-4930-8F0E-5E357C9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1BB3-DC90-4C2F-B17F-AFF1D8D4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2942-718C-45F9-99C4-683025B4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4F1E-8C5A-4DD9-B576-8C1C196F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5214-3913-48EB-A7D8-F863106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531B-3810-4C23-871E-CEB29077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3F73-074C-4F2F-8E9B-C900BCFF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7C31-2DD3-426C-BFB4-FA5F8D4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FCF7-77B8-4F0C-A8F3-03227B0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51CC8-12C2-41E4-86F3-33C5585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60BD1-B8A0-4466-A2C9-652E64A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F2E-6264-47F8-A11D-DDAE739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5832-06C3-438E-B012-684D973E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DF26C-59E7-44E3-9D76-417D6CEA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AC28-DC79-412D-A87E-CFFC0F13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3991-A571-4CF2-AA7A-1441B2D7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F651-3B87-49EA-9F52-1E8F36A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2FA8-EE08-486F-B5DF-46689922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2C1B-1A62-4589-89BC-FDE8F3CF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6286-52F7-4418-BDAC-5DC69C3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7FDCE-067E-4CC6-9CBC-B62743A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26F3F-0F43-42AB-9A72-8528F7DE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934-CFFF-43A7-B3F1-FE884AC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B452-9BE8-4987-BDEE-CC3DEBE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D019-9D2E-4B58-BD19-831A1463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B6835-85BF-439E-AA18-8123BC98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D7E71-3F46-47FD-ACC0-44226F3E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B3CB-A06B-426C-A69B-7053BF50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9D4C-900D-4B04-81D6-3EB6FC41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3A74-E073-40FB-B238-F123B0C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8B11-2E4E-4C8A-9292-B1AB6074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B4EB-D381-4026-878E-78114D5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D47B-CA45-46C9-BAA4-4CE584DE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242-D201-4B9F-9F26-83F7839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136B-A59F-405E-9D99-521E5CA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3004-C8E3-430F-8DD2-343C255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DDCE-813B-423F-B056-1CA7819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E0506-565F-4C4C-95B2-AC27C94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277BC-5CB0-4A64-BDC2-7BA6E300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B2FD-ACB6-4511-A840-1FA1748D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6A59-9795-4FDC-BBA2-868AA38B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0D739-77D0-4167-896E-5950C9B3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B720C-DEA9-4C60-828B-7C087D6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3461F-0440-4CD6-A86F-E517079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0604-2188-4CC3-94B3-348BBD3BE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3937-A6A0-4576-B954-CECBF36311B3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44B-B7D2-4E04-97E9-430BBCC365BE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B9FD-785A-43AC-A4B3-CE81BD41DA8F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B6C-0A5F-4D10-85C2-62A9183F5B0F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4A0-EAB4-4FB3-9124-76B662A89A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205-4548-4F38-8A55-37E52B2CFD18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66C9-F817-4A7B-BCF6-860CF054BEBE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DD1-5685-4A29-9FFF-F8840C2C140D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D5AE-D50C-4D9F-9B25-9F39D2368C4F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6429-B42D-41B3-A186-8F0D8E3A250B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85C4-C7B3-41A4-BC7E-A9F171C35D99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A5CD-89A3-46DD-8433-0A12A7E26CE7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7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4.gif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43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image" Target="../media/image70.gif"/><Relationship Id="rId6" Type="http://schemas.openxmlformats.org/officeDocument/2006/relationships/image" Target="../media/image70.gif"/><Relationship Id="rId7" Type="http://schemas.openxmlformats.org/officeDocument/2006/relationships/image" Target="../media/image70.gi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image" Target="../media/image70.gi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0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-gate"/>
          <p:cNvPicPr/>
          <p:nvPr/>
        </p:nvPicPr>
        <p:blipFill>
          <a:blip r:embed="rId1"/>
          <a:stretch/>
        </p:blipFill>
        <p:spPr>
          <a:xfrm>
            <a:off x="-609480" y="0"/>
            <a:ext cx="10287000" cy="6786720"/>
          </a:xfrm>
          <a:prstGeom prst="rect">
            <a:avLst/>
          </a:prstGeom>
          <a:ln w="0">
            <a:noFill/>
          </a:ln>
        </p:spPr>
      </p:pic>
      <p:sp>
        <p:nvSpPr>
          <p:cNvPr id="541" name="WordArt 3"/>
          <p:cNvSpPr txBox="1"/>
          <p:nvPr/>
        </p:nvSpPr>
        <p:spPr>
          <a:xfrm>
            <a:off x="4191120" y="563868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美国金门大桥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2" name="矩形 1"/>
          <p:cNvSpPr/>
          <p:nvPr/>
        </p:nvSpPr>
        <p:spPr>
          <a:xfrm>
            <a:off x="2989440" y="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b5481"/>
                </a:solidFill>
                <a:latin typeface="Tahoma"/>
              </a:rPr>
              <a:t>中国石拱桥</a:t>
            </a:r>
            <a:r>
              <a:rPr b="0" lang="zh-CN" sz="4000" spc="-1" strike="noStrike">
                <a:solidFill>
                  <a:srgbClr val="2b5481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2b5481"/>
                </a:solidFill>
                <a:latin typeface="Tahoma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-368640" y="621504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blinds dir="horz"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mdq"/>
          <p:cNvPicPr/>
          <p:nvPr/>
        </p:nvPicPr>
        <p:blipFill>
          <a:blip r:embed="rId1"/>
          <a:stretch/>
        </p:blipFill>
        <p:spPr>
          <a:xfrm>
            <a:off x="-457200" y="0"/>
            <a:ext cx="11125080" cy="690228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81532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WordArt 4"/>
          <p:cNvSpPr txBox="1"/>
          <p:nvPr/>
        </p:nvSpPr>
        <p:spPr>
          <a:xfrm>
            <a:off x="3633840" y="4033800"/>
            <a:ext cx="26906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苏州古桥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612360" cy="7004160"/>
          </a:xfrm>
          <a:prstGeom prst="rect">
            <a:avLst/>
          </a:prstGeom>
          <a:ln w="0">
            <a:noFill/>
          </a:ln>
        </p:spPr>
      </p:pic>
      <p:sp>
        <p:nvSpPr>
          <p:cNvPr id="564" name="WordArt 3"/>
          <p:cNvSpPr txBox="1"/>
          <p:nvPr/>
        </p:nvSpPr>
        <p:spPr>
          <a:xfrm>
            <a:off x="1371600" y="1049400"/>
            <a:ext cx="693432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隶书"/>
              </a:rPr>
              <a:t>中国石拱桥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00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565" name="Picture 4" descr="说明文"/>
          <p:cNvPicPr/>
          <p:nvPr/>
        </p:nvPicPr>
        <p:blipFill>
          <a:blip r:embed="rId2"/>
          <a:stretch/>
        </p:blipFill>
        <p:spPr>
          <a:xfrm>
            <a:off x="2819520" y="99072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3200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971800" y="1639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Times New Roman"/>
              </a:rPr>
              <a:t>（                  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246120" y="4419720"/>
            <a:ext cx="2905560" cy="19224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说明文：是一种介绍事物或事理特点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文章。其表达方式以说明为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也可适当穿插描写、记叙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28600" y="4495680"/>
            <a:ext cx="9144000" cy="18144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说明文为了更好说明事物、事理的特征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注意运用</a:t>
            </a:r>
            <a:r>
              <a:rPr b="0" lang="zh-CN" sz="3600" spc="-1" strike="noStrike" u="sng">
                <a:solidFill>
                  <a:srgbClr val="00ccff"/>
                </a:solidFill>
                <a:uFillTx/>
                <a:latin typeface="Times New Roman"/>
                <a:hlinkClick r:id="rId3" action="ppaction://hlinksldjump"/>
              </a:rPr>
              <a:t>说明方法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为了使说明的内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条理化，还要注意说明顺序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桥-6"/>
          <p:cNvPicPr/>
          <p:nvPr/>
        </p:nvPicPr>
        <p:blipFill>
          <a:blip r:embed="rId1"/>
          <a:stretch/>
        </p:blipFill>
        <p:spPr>
          <a:xfrm>
            <a:off x="2590920" y="0"/>
            <a:ext cx="2971800" cy="35812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533520" y="441972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茅以升（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896-198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，江苏镇江人。桥梁学家，被誉为“中国桥梁之父”。三十年代即主持建造了钱塘江大桥，解放后培养了大批桥梁专家，著名的南京长江大桥就是由他的学生担任总工程师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4" descr="南京大桥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5"/>
          <p:cNvSpPr/>
          <p:nvPr/>
        </p:nvSpPr>
        <p:spPr>
          <a:xfrm>
            <a:off x="2286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茅以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6" descr="MAOYISHENG-2"/>
          <p:cNvPicPr/>
          <p:nvPr/>
        </p:nvPicPr>
        <p:blipFill>
          <a:blip r:embed="rId3"/>
          <a:stretch/>
        </p:blipFill>
        <p:spPr>
          <a:xfrm>
            <a:off x="0" y="0"/>
            <a:ext cx="2514600" cy="35812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7"/>
          <p:cNvSpPr/>
          <p:nvPr/>
        </p:nvSpPr>
        <p:spPr>
          <a:xfrm>
            <a:off x="3124080" y="373392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钱塘江大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6400800" y="37339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南京长江大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684360" y="549360"/>
            <a:ext cx="8459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生字巩固：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洨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Xi</a:t>
            </a:r>
            <a:r>
              <a:rPr b="0" lang="en-US" sz="60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á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鷟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zhu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ó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   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匀称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y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ú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n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 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 ch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è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n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佥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qiān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河堤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en-US" sz="60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0" lang="en-US" sz="6000" spc="-1" strike="noStrike">
                <a:solidFill>
                  <a:srgbClr val="ff3399"/>
                </a:solidFill>
                <a:latin typeface="Times New Roman"/>
                <a:ea typeface="黑体"/>
              </a:rPr>
              <a:t>í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3" descr="ZW_029"/>
          <p:cNvPicPr/>
          <p:nvPr/>
        </p:nvPicPr>
        <p:blipFill>
          <a:blip r:embed="rId1"/>
          <a:stretch/>
        </p:blipFill>
        <p:spPr>
          <a:xfrm>
            <a:off x="5003640" y="4724280"/>
            <a:ext cx="3529080" cy="19274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4"/>
          <p:cNvSpPr/>
          <p:nvPr/>
        </p:nvSpPr>
        <p:spPr>
          <a:xfrm>
            <a:off x="153000" y="64533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95280" y="476280"/>
            <a:ext cx="8748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解词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：</a:t>
            </a:r>
            <a:br>
              <a:rPr sz="48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古朴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朴素而有古代的风格。</a:t>
            </a:r>
            <a:br>
              <a:rPr sz="4800"/>
            </a:b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惟妙惟肖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形容描绘或模仿得生动逼真。惟，特别；肖，相似。</a:t>
            </a:r>
            <a:br>
              <a:rPr sz="4800"/>
            </a:b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绝伦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独一无二，无可比拟。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推崇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：很尊重。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4" name="Picture 3" descr="ZQ_008"/>
          <p:cNvPicPr/>
          <p:nvPr/>
        </p:nvPicPr>
        <p:blipFill>
          <a:blip r:embed="rId1"/>
          <a:stretch/>
        </p:blipFill>
        <p:spPr>
          <a:xfrm>
            <a:off x="6443640" y="404640"/>
            <a:ext cx="2158920" cy="158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0560" y="491760"/>
            <a:ext cx="46753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99"/>
                </a:solidFill>
                <a:latin typeface="Tahoma"/>
                <a:ea typeface="华文琥珀"/>
              </a:rPr>
              <a:t>整体感知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3399"/>
                </a:solidFill>
                <a:latin typeface="Tahoma"/>
                <a:ea typeface="黑体"/>
              </a:rPr>
              <a:t>石拱桥、中国石拱桥、赵州桥、卢沟桥的特点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：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石拱桥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中国石拱桥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赵州桥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</a:rPr>
              <a:t>卢沟桥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2158920" y="2852640"/>
            <a:ext cx="69850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桥洞为弧形，桥梁史上出现得较早，形式优美，结构坚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2195640" y="386064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悠久，分布广、形式多样，有许多是惊人的杰作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2195640" y="486900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悠久，结构坚固，设计巧妙，形状像弓，用料省，艺术价值高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195640" y="5950080"/>
            <a:ext cx="7164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石拱相联，结构精巧，坚固耐用，形式优美，艺术价值高，历史价值突出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1" name="Picture 8" descr="line05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2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中国石拱桥的总体特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１）．历史悠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２）．结构坚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３）．形式优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SGQZ 拷贝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5068800" y="60948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拱的             两个小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5003640" y="2840040"/>
            <a:ext cx="36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拱的                  两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拱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5021280" y="5278320"/>
            <a:ext cx="343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拱的                     两个小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5" descr="ZZQG-1"/>
          <p:cNvPicPr/>
          <p:nvPr/>
        </p:nvPicPr>
        <p:blipFill>
          <a:blip r:embed="rId1"/>
          <a:stretch/>
        </p:blipFill>
        <p:spPr>
          <a:xfrm>
            <a:off x="0" y="2276640"/>
            <a:ext cx="4859280" cy="2284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ZZQG-2"/>
          <p:cNvPicPr/>
          <p:nvPr/>
        </p:nvPicPr>
        <p:blipFill>
          <a:blip r:embed="rId2"/>
          <a:stretch/>
        </p:blipFill>
        <p:spPr>
          <a:xfrm>
            <a:off x="0" y="-3240"/>
            <a:ext cx="4859280" cy="2208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ZZQG-3"/>
          <p:cNvPicPr/>
          <p:nvPr/>
        </p:nvPicPr>
        <p:blipFill>
          <a:blip r:embed="rId3"/>
          <a:stretch/>
        </p:blipFill>
        <p:spPr>
          <a:xfrm>
            <a:off x="0" y="4605480"/>
            <a:ext cx="4859280" cy="22082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8"/>
          <p:cNvSpPr/>
          <p:nvPr/>
        </p:nvSpPr>
        <p:spPr>
          <a:xfrm>
            <a:off x="6154560" y="5572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面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6129360" y="276696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头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各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6102360" y="520524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肩上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各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11" descr="箭（回）1"/>
          <p:cNvPicPr/>
          <p:nvPr/>
        </p:nvPicPr>
        <p:blipFill>
          <a:blip r:embed="rId4"/>
          <a:stretch/>
        </p:blipFill>
        <p:spPr>
          <a:xfrm>
            <a:off x="8077320" y="6019920"/>
            <a:ext cx="685800" cy="514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3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香港青马大桥（施工时，18K）"/>
          <p:cNvPicPr/>
          <p:nvPr/>
        </p:nvPicPr>
        <p:blipFill>
          <a:blip r:embed="rId1"/>
          <a:stretch/>
        </p:blipFill>
        <p:spPr>
          <a:xfrm>
            <a:off x="0" y="0"/>
            <a:ext cx="9144000" cy="598788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2895480" y="6095880"/>
            <a:ext cx="289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香港青马大桥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388620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37.40</a:t>
            </a:r>
            <a:r>
              <a:rPr b="0" lang="zh-CN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8098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50.82</a:t>
            </a:r>
            <a:r>
              <a:rPr b="0" lang="zh-CN" sz="24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88620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弓型大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8487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小   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Freeform 6"/>
          <p:cNvSpPr/>
          <p:nvPr/>
        </p:nvSpPr>
        <p:spPr>
          <a:xfrm>
            <a:off x="2422440" y="1614600"/>
            <a:ext cx="351000" cy="358560"/>
          </a:xfrm>
          <a:custGeom>
            <a:avLst/>
            <a:gdLst/>
            <a:ahLst/>
            <a:rect l="l" t="t" r="r" b="b"/>
            <a:pathLst>
              <a:path w="221" h="226">
                <a:moveTo>
                  <a:pt x="0" y="202"/>
                </a:moveTo>
                <a:cubicBezTo>
                  <a:pt x="6" y="152"/>
                  <a:pt x="18" y="79"/>
                  <a:pt x="58" y="39"/>
                </a:cubicBezTo>
                <a:cubicBezTo>
                  <a:pt x="80" y="17"/>
                  <a:pt x="144" y="1"/>
                  <a:pt x="144" y="1"/>
                </a:cubicBezTo>
                <a:cubicBezTo>
                  <a:pt x="167" y="4"/>
                  <a:pt x="191" y="0"/>
                  <a:pt x="212" y="10"/>
                </a:cubicBezTo>
                <a:cubicBezTo>
                  <a:pt x="221" y="14"/>
                  <a:pt x="221" y="29"/>
                  <a:pt x="221" y="39"/>
                </a:cubicBezTo>
                <a:cubicBezTo>
                  <a:pt x="221" y="78"/>
                  <a:pt x="183" y="87"/>
                  <a:pt x="154" y="97"/>
                </a:cubicBezTo>
                <a:cubicBezTo>
                  <a:pt x="136" y="114"/>
                  <a:pt x="114" y="127"/>
                  <a:pt x="96" y="145"/>
                </a:cubicBezTo>
                <a:cubicBezTo>
                  <a:pt x="66" y="175"/>
                  <a:pt x="47" y="226"/>
                  <a:pt x="0" y="202"/>
                </a:cubicBezTo>
                <a:close/>
              </a:path>
            </a:pathLst>
          </a:custGeom>
          <a:solidFill>
            <a:srgbClr val="e5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Freeform 7"/>
          <p:cNvSpPr/>
          <p:nvPr/>
        </p:nvSpPr>
        <p:spPr>
          <a:xfrm>
            <a:off x="2373480" y="1569960"/>
            <a:ext cx="411120" cy="411120"/>
          </a:xfrm>
          <a:custGeom>
            <a:avLst/>
            <a:gdLst/>
            <a:ahLst/>
            <a:rect l="l" t="t" r="r" b="b"/>
            <a:pathLst>
              <a:path w="259" h="259">
                <a:moveTo>
                  <a:pt x="22" y="259"/>
                </a:moveTo>
                <a:cubicBezTo>
                  <a:pt x="34" y="183"/>
                  <a:pt x="25" y="217"/>
                  <a:pt x="51" y="144"/>
                </a:cubicBezTo>
                <a:cubicBezTo>
                  <a:pt x="54" y="134"/>
                  <a:pt x="47" y="165"/>
                  <a:pt x="41" y="173"/>
                </a:cubicBezTo>
                <a:cubicBezTo>
                  <a:pt x="35" y="182"/>
                  <a:pt x="28" y="192"/>
                  <a:pt x="22" y="201"/>
                </a:cubicBezTo>
                <a:cubicBezTo>
                  <a:pt x="4" y="151"/>
                  <a:pt x="26" y="96"/>
                  <a:pt x="70" y="67"/>
                </a:cubicBezTo>
                <a:cubicBezTo>
                  <a:pt x="76" y="57"/>
                  <a:pt x="80" y="46"/>
                  <a:pt x="89" y="38"/>
                </a:cubicBezTo>
                <a:cubicBezTo>
                  <a:pt x="106" y="23"/>
                  <a:pt x="147" y="0"/>
                  <a:pt x="147" y="0"/>
                </a:cubicBezTo>
                <a:cubicBezTo>
                  <a:pt x="193" y="11"/>
                  <a:pt x="209" y="14"/>
                  <a:pt x="243" y="48"/>
                </a:cubicBezTo>
                <a:cubicBezTo>
                  <a:pt x="259" y="100"/>
                  <a:pt x="245" y="118"/>
                  <a:pt x="195" y="134"/>
                </a:cubicBezTo>
                <a:cubicBezTo>
                  <a:pt x="170" y="158"/>
                  <a:pt x="151" y="172"/>
                  <a:pt x="118" y="182"/>
                </a:cubicBezTo>
                <a:cubicBezTo>
                  <a:pt x="50" y="227"/>
                  <a:pt x="79" y="208"/>
                  <a:pt x="31" y="240"/>
                </a:cubicBezTo>
                <a:cubicBezTo>
                  <a:pt x="23" y="245"/>
                  <a:pt x="7" y="240"/>
                  <a:pt x="3" y="249"/>
                </a:cubicBezTo>
                <a:cubicBezTo>
                  <a:pt x="0" y="255"/>
                  <a:pt x="16" y="256"/>
                  <a:pt x="22" y="259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Freeform 8"/>
          <p:cNvSpPr/>
          <p:nvPr/>
        </p:nvSpPr>
        <p:spPr>
          <a:xfrm>
            <a:off x="6308640" y="1463760"/>
            <a:ext cx="412920" cy="396720"/>
          </a:xfrm>
          <a:custGeom>
            <a:avLst/>
            <a:gdLst/>
            <a:ahLst/>
            <a:rect l="l" t="t" r="r" b="b"/>
            <a:pathLst>
              <a:path w="260" h="250">
                <a:moveTo>
                  <a:pt x="0" y="96"/>
                </a:moveTo>
                <a:cubicBezTo>
                  <a:pt x="16" y="50"/>
                  <a:pt x="69" y="15"/>
                  <a:pt x="116" y="0"/>
                </a:cubicBezTo>
                <a:cubicBezTo>
                  <a:pt x="223" y="25"/>
                  <a:pt x="243" y="123"/>
                  <a:pt x="260" y="220"/>
                </a:cubicBezTo>
                <a:cubicBezTo>
                  <a:pt x="257" y="230"/>
                  <a:pt x="260" y="250"/>
                  <a:pt x="250" y="249"/>
                </a:cubicBezTo>
                <a:cubicBezTo>
                  <a:pt x="197" y="242"/>
                  <a:pt x="204" y="206"/>
                  <a:pt x="164" y="192"/>
                </a:cubicBezTo>
                <a:cubicBezTo>
                  <a:pt x="125" y="179"/>
                  <a:pt x="87" y="166"/>
                  <a:pt x="48" y="153"/>
                </a:cubicBezTo>
                <a:cubicBezTo>
                  <a:pt x="35" y="143"/>
                  <a:pt x="20" y="136"/>
                  <a:pt x="10" y="124"/>
                </a:cubicBezTo>
                <a:cubicBezTo>
                  <a:pt x="4" y="116"/>
                  <a:pt x="0" y="96"/>
                  <a:pt x="0" y="96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Freeform 9"/>
          <p:cNvSpPr/>
          <p:nvPr/>
        </p:nvSpPr>
        <p:spPr>
          <a:xfrm>
            <a:off x="6878520" y="1494000"/>
            <a:ext cx="665280" cy="944280"/>
          </a:xfrm>
          <a:custGeom>
            <a:avLst/>
            <a:gdLst/>
            <a:ahLst/>
            <a:rect l="l" t="t" r="r" b="b"/>
            <a:pathLst>
              <a:path w="405" h="615">
                <a:moveTo>
                  <a:pt x="35" y="288"/>
                </a:moveTo>
                <a:cubicBezTo>
                  <a:pt x="26" y="233"/>
                  <a:pt x="0" y="187"/>
                  <a:pt x="45" y="144"/>
                </a:cubicBezTo>
                <a:cubicBezTo>
                  <a:pt x="53" y="117"/>
                  <a:pt x="81" y="76"/>
                  <a:pt x="102" y="57"/>
                </a:cubicBezTo>
                <a:cubicBezTo>
                  <a:pt x="119" y="42"/>
                  <a:pt x="141" y="32"/>
                  <a:pt x="160" y="19"/>
                </a:cubicBezTo>
                <a:cubicBezTo>
                  <a:pt x="170" y="13"/>
                  <a:pt x="189" y="0"/>
                  <a:pt x="189" y="0"/>
                </a:cubicBezTo>
                <a:cubicBezTo>
                  <a:pt x="261" y="13"/>
                  <a:pt x="302" y="46"/>
                  <a:pt x="342" y="105"/>
                </a:cubicBezTo>
                <a:cubicBezTo>
                  <a:pt x="345" y="118"/>
                  <a:pt x="346" y="132"/>
                  <a:pt x="352" y="144"/>
                </a:cubicBezTo>
                <a:cubicBezTo>
                  <a:pt x="362" y="164"/>
                  <a:pt x="390" y="201"/>
                  <a:pt x="390" y="201"/>
                </a:cubicBezTo>
                <a:cubicBezTo>
                  <a:pt x="393" y="320"/>
                  <a:pt x="400" y="438"/>
                  <a:pt x="400" y="557"/>
                </a:cubicBezTo>
                <a:cubicBezTo>
                  <a:pt x="400" y="573"/>
                  <a:pt x="405" y="598"/>
                  <a:pt x="390" y="605"/>
                </a:cubicBezTo>
                <a:cubicBezTo>
                  <a:pt x="370" y="615"/>
                  <a:pt x="345" y="598"/>
                  <a:pt x="323" y="595"/>
                </a:cubicBezTo>
                <a:cubicBezTo>
                  <a:pt x="317" y="585"/>
                  <a:pt x="309" y="577"/>
                  <a:pt x="304" y="566"/>
                </a:cubicBezTo>
                <a:cubicBezTo>
                  <a:pt x="295" y="545"/>
                  <a:pt x="301" y="516"/>
                  <a:pt x="285" y="499"/>
                </a:cubicBezTo>
                <a:cubicBezTo>
                  <a:pt x="278" y="492"/>
                  <a:pt x="266" y="492"/>
                  <a:pt x="256" y="489"/>
                </a:cubicBezTo>
                <a:cubicBezTo>
                  <a:pt x="209" y="443"/>
                  <a:pt x="148" y="402"/>
                  <a:pt x="93" y="365"/>
                </a:cubicBezTo>
                <a:cubicBezTo>
                  <a:pt x="86" y="355"/>
                  <a:pt x="81" y="345"/>
                  <a:pt x="73" y="336"/>
                </a:cubicBezTo>
                <a:cubicBezTo>
                  <a:pt x="29" y="286"/>
                  <a:pt x="2" y="288"/>
                  <a:pt x="35" y="288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Line 10"/>
          <p:cNvSpPr/>
          <p:nvPr/>
        </p:nvSpPr>
        <p:spPr>
          <a:xfrm flipH="1" flipV="1">
            <a:off x="7314840" y="1828440"/>
            <a:ext cx="685800" cy="685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1530360" y="1646280"/>
            <a:ext cx="633240" cy="904680"/>
          </a:xfrm>
          <a:custGeom>
            <a:avLst/>
            <a:gdLst/>
            <a:ahLst/>
            <a:rect l="l" t="t" r="r" b="b"/>
            <a:pathLst>
              <a:path w="399" h="570">
                <a:moveTo>
                  <a:pt x="25" y="499"/>
                </a:moveTo>
                <a:cubicBezTo>
                  <a:pt x="22" y="441"/>
                  <a:pt x="20" y="384"/>
                  <a:pt x="15" y="326"/>
                </a:cubicBezTo>
                <a:cubicBezTo>
                  <a:pt x="14" y="310"/>
                  <a:pt x="6" y="262"/>
                  <a:pt x="6" y="278"/>
                </a:cubicBezTo>
                <a:cubicBezTo>
                  <a:pt x="6" y="340"/>
                  <a:pt x="5" y="329"/>
                  <a:pt x="44" y="355"/>
                </a:cubicBezTo>
                <a:cubicBezTo>
                  <a:pt x="41" y="326"/>
                  <a:pt x="39" y="297"/>
                  <a:pt x="34" y="269"/>
                </a:cubicBezTo>
                <a:cubicBezTo>
                  <a:pt x="32" y="259"/>
                  <a:pt x="24" y="250"/>
                  <a:pt x="25" y="240"/>
                </a:cubicBezTo>
                <a:cubicBezTo>
                  <a:pt x="27" y="220"/>
                  <a:pt x="38" y="201"/>
                  <a:pt x="44" y="182"/>
                </a:cubicBezTo>
                <a:cubicBezTo>
                  <a:pt x="49" y="166"/>
                  <a:pt x="46" y="148"/>
                  <a:pt x="54" y="134"/>
                </a:cubicBezTo>
                <a:cubicBezTo>
                  <a:pt x="60" y="124"/>
                  <a:pt x="73" y="121"/>
                  <a:pt x="82" y="115"/>
                </a:cubicBezTo>
                <a:cubicBezTo>
                  <a:pt x="108" y="39"/>
                  <a:pt x="69" y="132"/>
                  <a:pt x="121" y="67"/>
                </a:cubicBezTo>
                <a:cubicBezTo>
                  <a:pt x="127" y="59"/>
                  <a:pt x="123" y="45"/>
                  <a:pt x="130" y="38"/>
                </a:cubicBezTo>
                <a:cubicBezTo>
                  <a:pt x="137" y="31"/>
                  <a:pt x="149" y="32"/>
                  <a:pt x="159" y="29"/>
                </a:cubicBezTo>
                <a:cubicBezTo>
                  <a:pt x="197" y="17"/>
                  <a:pt x="182" y="23"/>
                  <a:pt x="217" y="0"/>
                </a:cubicBezTo>
                <a:cubicBezTo>
                  <a:pt x="278" y="14"/>
                  <a:pt x="243" y="2"/>
                  <a:pt x="313" y="48"/>
                </a:cubicBezTo>
                <a:cubicBezTo>
                  <a:pt x="323" y="54"/>
                  <a:pt x="342" y="67"/>
                  <a:pt x="342" y="67"/>
                </a:cubicBezTo>
                <a:cubicBezTo>
                  <a:pt x="373" y="114"/>
                  <a:pt x="383" y="131"/>
                  <a:pt x="399" y="182"/>
                </a:cubicBezTo>
                <a:cubicBezTo>
                  <a:pt x="396" y="220"/>
                  <a:pt x="398" y="259"/>
                  <a:pt x="390" y="297"/>
                </a:cubicBezTo>
                <a:cubicBezTo>
                  <a:pt x="384" y="324"/>
                  <a:pt x="314" y="355"/>
                  <a:pt x="284" y="365"/>
                </a:cubicBezTo>
                <a:cubicBezTo>
                  <a:pt x="249" y="417"/>
                  <a:pt x="201" y="454"/>
                  <a:pt x="150" y="489"/>
                </a:cubicBezTo>
                <a:cubicBezTo>
                  <a:pt x="128" y="521"/>
                  <a:pt x="88" y="543"/>
                  <a:pt x="54" y="566"/>
                </a:cubicBezTo>
                <a:cubicBezTo>
                  <a:pt x="41" y="563"/>
                  <a:pt x="17" y="570"/>
                  <a:pt x="15" y="557"/>
                </a:cubicBezTo>
                <a:cubicBezTo>
                  <a:pt x="0" y="431"/>
                  <a:pt x="34" y="322"/>
                  <a:pt x="34" y="201"/>
                </a:cubicBezTo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Freeform 12"/>
          <p:cNvSpPr/>
          <p:nvPr/>
        </p:nvSpPr>
        <p:spPr>
          <a:xfrm>
            <a:off x="7254720" y="2286000"/>
            <a:ext cx="258840" cy="195120"/>
          </a:xfrm>
          <a:custGeom>
            <a:avLst/>
            <a:gdLst/>
            <a:ahLst/>
            <a:rect l="l" t="t" r="r" b="b"/>
            <a:pathLst>
              <a:path w="163" h="123">
                <a:moveTo>
                  <a:pt x="124" y="106"/>
                </a:moveTo>
                <a:cubicBezTo>
                  <a:pt x="83" y="106"/>
                  <a:pt x="41" y="106"/>
                  <a:pt x="0" y="106"/>
                </a:cubicBezTo>
                <a:lnTo>
                  <a:pt x="38" y="48"/>
                </a:lnTo>
                <a:cubicBezTo>
                  <a:pt x="48" y="35"/>
                  <a:pt x="52" y="14"/>
                  <a:pt x="67" y="10"/>
                </a:cubicBezTo>
                <a:cubicBezTo>
                  <a:pt x="77" y="7"/>
                  <a:pt x="76" y="58"/>
                  <a:pt x="76" y="29"/>
                </a:cubicBezTo>
                <a:cubicBezTo>
                  <a:pt x="79" y="19"/>
                  <a:pt x="76" y="0"/>
                  <a:pt x="86" y="0"/>
                </a:cubicBezTo>
                <a:cubicBezTo>
                  <a:pt x="96" y="0"/>
                  <a:pt x="90" y="21"/>
                  <a:pt x="96" y="29"/>
                </a:cubicBezTo>
                <a:cubicBezTo>
                  <a:pt x="103" y="38"/>
                  <a:pt x="115" y="41"/>
                  <a:pt x="124" y="48"/>
                </a:cubicBezTo>
                <a:cubicBezTo>
                  <a:pt x="146" y="66"/>
                  <a:pt x="147" y="71"/>
                  <a:pt x="163" y="96"/>
                </a:cubicBezTo>
                <a:cubicBezTo>
                  <a:pt x="130" y="117"/>
                  <a:pt x="143" y="123"/>
                  <a:pt x="124" y="106"/>
                </a:cubicBezTo>
                <a:close/>
              </a:path>
            </a:pathLst>
          </a:custGeom>
          <a:solidFill>
            <a:srgbClr val="2b5481"/>
          </a:solidFill>
          <a:ln w="9360">
            <a:solidFill>
              <a:srgbClr val="2b5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Freeform 13"/>
          <p:cNvSpPr/>
          <p:nvPr/>
        </p:nvSpPr>
        <p:spPr>
          <a:xfrm>
            <a:off x="7361280" y="2270160"/>
            <a:ext cx="1440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cubicBezTo>
                  <a:pt x="6" y="10"/>
                  <a:pt x="0" y="29"/>
                  <a:pt x="0" y="29"/>
                </a:cubicBezTo>
                <a:cubicBezTo>
                  <a:pt x="0" y="29"/>
                  <a:pt x="6" y="10"/>
                  <a:pt x="9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7315200" y="2209680"/>
            <a:ext cx="152280" cy="152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5"/>
          <p:cNvSpPr/>
          <p:nvPr/>
        </p:nvSpPr>
        <p:spPr>
          <a:xfrm>
            <a:off x="7238880" y="2209680"/>
            <a:ext cx="228600" cy="1526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Line 16"/>
          <p:cNvSpPr/>
          <p:nvPr/>
        </p:nvSpPr>
        <p:spPr>
          <a:xfrm>
            <a:off x="6324480" y="1676520"/>
            <a:ext cx="45720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Line 17"/>
          <p:cNvSpPr/>
          <p:nvPr/>
        </p:nvSpPr>
        <p:spPr>
          <a:xfrm>
            <a:off x="6400800" y="1676520"/>
            <a:ext cx="22860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Line 18"/>
          <p:cNvSpPr/>
          <p:nvPr/>
        </p:nvSpPr>
        <p:spPr>
          <a:xfrm>
            <a:off x="2438280" y="1752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19"/>
          <p:cNvSpPr/>
          <p:nvPr/>
        </p:nvSpPr>
        <p:spPr>
          <a:xfrm>
            <a:off x="304920" y="914400"/>
            <a:ext cx="152280" cy="1676520"/>
          </a:xfrm>
          <a:prstGeom prst="rect">
            <a:avLst/>
          </a:prstGeom>
          <a:solidFill>
            <a:srgbClr val="2b5481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20"/>
          <p:cNvGrpSpPr/>
          <p:nvPr/>
        </p:nvGrpSpPr>
        <p:grpSpPr>
          <a:xfrm>
            <a:off x="457200" y="609480"/>
            <a:ext cx="8229240" cy="1295280"/>
            <a:chOff x="457200" y="609480"/>
            <a:chExt cx="8229240" cy="1295280"/>
          </a:xfrm>
        </p:grpSpPr>
        <p:sp>
          <p:nvSpPr>
            <p:cNvPr id="624" name="Line 21"/>
            <p:cNvSpPr/>
            <p:nvPr/>
          </p:nvSpPr>
          <p:spPr>
            <a:xfrm>
              <a:off x="8686440" y="609480"/>
              <a:ext cx="0" cy="1295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Line 22"/>
            <p:cNvSpPr/>
            <p:nvPr/>
          </p:nvSpPr>
          <p:spPr>
            <a:xfrm>
              <a:off x="5125680" y="702000"/>
              <a:ext cx="35607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Line 23"/>
            <p:cNvSpPr/>
            <p:nvPr/>
          </p:nvSpPr>
          <p:spPr>
            <a:xfrm flipH="1">
              <a:off x="536040" y="702000"/>
              <a:ext cx="32439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Line 24"/>
            <p:cNvSpPr/>
            <p:nvPr/>
          </p:nvSpPr>
          <p:spPr>
            <a:xfrm>
              <a:off x="457200" y="609480"/>
              <a:ext cx="0" cy="1295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8" name="Group 25"/>
          <p:cNvGrpSpPr/>
          <p:nvPr/>
        </p:nvGrpSpPr>
        <p:grpSpPr>
          <a:xfrm>
            <a:off x="1600200" y="2439360"/>
            <a:ext cx="5943600" cy="3351960"/>
            <a:chOff x="1600200" y="2439360"/>
            <a:chExt cx="5943600" cy="3351960"/>
          </a:xfrm>
        </p:grpSpPr>
        <p:sp>
          <p:nvSpPr>
            <p:cNvPr id="629" name="Line 26"/>
            <p:cNvSpPr/>
            <p:nvPr/>
          </p:nvSpPr>
          <p:spPr>
            <a:xfrm flipV="1">
              <a:off x="7543800" y="2439360"/>
              <a:ext cx="0" cy="3351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Line 27"/>
            <p:cNvSpPr/>
            <p:nvPr/>
          </p:nvSpPr>
          <p:spPr>
            <a:xfrm>
              <a:off x="4971960" y="5551560"/>
              <a:ext cx="2571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 flipH="1">
              <a:off x="1657440" y="5551560"/>
              <a:ext cx="2342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Line 29"/>
            <p:cNvSpPr/>
            <p:nvPr/>
          </p:nvSpPr>
          <p:spPr>
            <a:xfrm flipV="1">
              <a:off x="1600200" y="2439360"/>
              <a:ext cx="0" cy="3351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633" name="Picture 30" descr="箭（回）1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1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5943600" cy="1295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2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8458200" cy="1676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ZZQ-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GONG-1-26"/>
          <p:cNvPicPr/>
          <p:nvPr/>
        </p:nvPicPr>
        <p:blipFill>
          <a:blip r:embed="rId2"/>
          <a:stretch/>
        </p:blipFill>
        <p:spPr>
          <a:xfrm>
            <a:off x="1143000" y="3352680"/>
            <a:ext cx="5867280" cy="13716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GONG-28"/>
          <p:cNvPicPr/>
          <p:nvPr/>
        </p:nvPicPr>
        <p:blipFill>
          <a:blip r:embed="rId3"/>
          <a:stretch/>
        </p:blipFill>
        <p:spPr>
          <a:xfrm>
            <a:off x="1066680" y="3200400"/>
            <a:ext cx="7162920" cy="17524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GON-QUAN"/>
          <p:cNvPicPr/>
          <p:nvPr/>
        </p:nvPicPr>
        <p:blipFill>
          <a:blip r:embed="rId4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2286000" y="457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新舒体简体"/>
              </a:rPr>
              <a:t>拱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5905440" y="304920"/>
            <a:ext cx="32385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方正行楷简体"/>
                <a:ea typeface="方正行楷简体"/>
              </a:rPr>
              <a:t>这样的拱圈有</a:t>
            </a:r>
            <a:r>
              <a:rPr b="1" lang="en-US" sz="2800" spc="-1" strike="noStrike">
                <a:solidFill>
                  <a:srgbClr val="336699"/>
                </a:solidFill>
                <a:latin typeface="方正行楷简体"/>
                <a:ea typeface="方正行楷简体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方正行楷简体"/>
                <a:ea typeface="方正行楷简体"/>
              </a:rPr>
              <a:t>道，各自独立承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8" descr="箭（回）1"/>
          <p:cNvPicPr/>
          <p:nvPr/>
        </p:nvPicPr>
        <p:blipFill>
          <a:blip r:embed="rId5"/>
          <a:stretch/>
        </p:blipFill>
        <p:spPr>
          <a:xfrm>
            <a:off x="8077320" y="60199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"/>
          <p:cNvPicPr/>
          <p:nvPr/>
        </p:nvPicPr>
        <p:blipFill>
          <a:blip r:embed="rId6"/>
          <a:stretch/>
        </p:blipFill>
        <p:spPr>
          <a:xfrm>
            <a:off x="1143000" y="3429000"/>
            <a:ext cx="5943600" cy="144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2057400" y="45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只有一个弓型大拱（最长、无坡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4906440" y="512604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拱肩上各有两小拱（省料、防洪、美观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2909520" y="563868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</a:t>
            </a:r>
            <a:r>
              <a:rPr b="1" lang="en-US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道拱圈拼成大拱（独立承重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3340800" y="6095880"/>
            <a:ext cx="39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结构匀称环境和谐（初月出云，长虹饮涧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8" name="Picture 6" descr="ZAOZHOUQIAO-AB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7"/>
          <p:cNvSpPr/>
          <p:nvPr/>
        </p:nvSpPr>
        <p:spPr>
          <a:xfrm>
            <a:off x="1828800" y="48006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0" y="5257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方正美黑简体"/>
              </a:rPr>
              <a:t>独拱石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3429000" y="5335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赵州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Picture 10" descr="箭（回）1"/>
          <p:cNvPicPr/>
          <p:nvPr/>
        </p:nvPicPr>
        <p:blipFill>
          <a:blip r:embed="rId2"/>
          <a:stretch/>
        </p:blipFill>
        <p:spPr>
          <a:xfrm>
            <a:off x="8244000" y="6458040"/>
            <a:ext cx="900000" cy="399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1" descr="箭头1"/>
          <p:cNvPicPr/>
          <p:nvPr/>
        </p:nvPicPr>
        <p:blipFill>
          <a:blip r:embed="rId3"/>
          <a:stretch/>
        </p:blipFill>
        <p:spPr>
          <a:xfrm>
            <a:off x="8534520" y="4648320"/>
            <a:ext cx="307800" cy="285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箭头1"/>
          <p:cNvPicPr/>
          <p:nvPr/>
        </p:nvPicPr>
        <p:blipFill>
          <a:blip r:embed="rId4"/>
          <a:stretch/>
        </p:blipFill>
        <p:spPr>
          <a:xfrm>
            <a:off x="8534520" y="5181480"/>
            <a:ext cx="307800" cy="285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3" descr="箭头1"/>
          <p:cNvPicPr/>
          <p:nvPr/>
        </p:nvPicPr>
        <p:blipFill>
          <a:blip r:embed="rId5"/>
          <a:stretch/>
        </p:blipFill>
        <p:spPr>
          <a:xfrm>
            <a:off x="8534520" y="5715000"/>
            <a:ext cx="307800" cy="2858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4" descr="箭头1"/>
          <p:cNvPicPr/>
          <p:nvPr/>
        </p:nvPicPr>
        <p:blipFill>
          <a:blip r:embed="rId6"/>
          <a:stretch/>
        </p:blipFill>
        <p:spPr>
          <a:xfrm>
            <a:off x="8534520" y="6172200"/>
            <a:ext cx="307800" cy="285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lugouqiao-3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卢沟桥A-1"/>
          <p:cNvPicPr/>
          <p:nvPr/>
        </p:nvPicPr>
        <p:blipFill>
          <a:blip r:embed="rId2"/>
          <a:stretch/>
        </p:blipFill>
        <p:spPr>
          <a:xfrm>
            <a:off x="0" y="2971800"/>
            <a:ext cx="6705720" cy="3886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狮子-1"/>
          <p:cNvPicPr/>
          <p:nvPr/>
        </p:nvPicPr>
        <p:blipFill>
          <a:blip r:embed="rId3"/>
          <a:stretch/>
        </p:blipFill>
        <p:spPr>
          <a:xfrm>
            <a:off x="6781680" y="2971800"/>
            <a:ext cx="2362320" cy="1536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10_lugouqiao001"/>
          <p:cNvPicPr/>
          <p:nvPr/>
        </p:nvPicPr>
        <p:blipFill>
          <a:blip r:embed="rId4"/>
          <a:stretch/>
        </p:blipFill>
        <p:spPr>
          <a:xfrm>
            <a:off x="6781680" y="45720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1187280" y="811080"/>
            <a:ext cx="43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隶二简体"/>
              </a:rPr>
              <a:t>十一个拱联成整体，坚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1065240" y="1387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方正隶二简体"/>
                <a:ea typeface="方正隶二简体"/>
              </a:rPr>
              <a:t>桥面用石板铺砌成，平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97164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隶二简体"/>
              </a:rPr>
              <a:t>石栏上雕刻有狮子，美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8019360" y="5105520"/>
            <a:ext cx="91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5481"/>
                </a:solidFill>
                <a:latin typeface="Times New Roman"/>
                <a:ea typeface="华文行楷"/>
              </a:rPr>
              <a:t>卢沟晓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AutoShape 10"/>
          <p:cNvSpPr/>
          <p:nvPr/>
        </p:nvSpPr>
        <p:spPr>
          <a:xfrm>
            <a:off x="1042920" y="9907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539640" y="868320"/>
            <a:ext cx="6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联拱石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0" y="838080"/>
            <a:ext cx="5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99"/>
                </a:solidFill>
                <a:latin typeface="Times New Roman"/>
                <a:ea typeface="华文新魏"/>
              </a:rPr>
              <a:t>卢沟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8" name="Picture 13" descr="箭（回）1"/>
          <p:cNvPicPr/>
          <p:nvPr/>
        </p:nvPicPr>
        <p:blipFill>
          <a:blip r:embed="rId5"/>
          <a:stretch/>
        </p:blipFill>
        <p:spPr>
          <a:xfrm>
            <a:off x="533520" y="609588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3995640" y="1700280"/>
            <a:ext cx="10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卢沟桥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0" name="Picture 3" descr="b580"/>
          <p:cNvPicPr/>
          <p:nvPr/>
        </p:nvPicPr>
        <p:blipFill>
          <a:blip r:embed="rId1"/>
          <a:stretch/>
        </p:blipFill>
        <p:spPr>
          <a:xfrm>
            <a:off x="0" y="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lgq"/>
          <p:cNvPicPr/>
          <p:nvPr/>
        </p:nvPicPr>
        <p:blipFill>
          <a:blip r:embed="rId2"/>
          <a:stretch/>
        </p:blipFill>
        <p:spPr>
          <a:xfrm>
            <a:off x="0" y="3933720"/>
            <a:ext cx="3780000" cy="2924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lugou00"/>
          <p:cNvPicPr/>
          <p:nvPr/>
        </p:nvPicPr>
        <p:blipFill>
          <a:blip r:embed="rId3"/>
          <a:stretch/>
        </p:blipFill>
        <p:spPr>
          <a:xfrm>
            <a:off x="5419800" y="3933720"/>
            <a:ext cx="3724200" cy="2924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lugou03"/>
          <p:cNvPicPr/>
          <p:nvPr/>
        </p:nvPicPr>
        <p:blipFill>
          <a:blip r:embed="rId4"/>
          <a:stretch/>
        </p:blipFill>
        <p:spPr>
          <a:xfrm>
            <a:off x="5364000" y="0"/>
            <a:ext cx="3780000" cy="2997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324000" y="1484280"/>
            <a:ext cx="84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1</a:t>
            </a:r>
            <a:r>
              <a:rPr b="0" lang="zh-CN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、中国的石拱桥很多</a:t>
            </a: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,</a:t>
            </a:r>
            <a:r>
              <a:rPr b="0" lang="zh-CN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都有相同的特点</a:t>
            </a: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,</a:t>
            </a:r>
            <a:r>
              <a:rPr b="0" lang="zh-CN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作者为  什么选择赵州桥和卢沟桥作为说明的例子</a:t>
            </a:r>
            <a:r>
              <a:rPr b="0" lang="en-US" sz="4000" spc="-1" strike="noStrike">
                <a:solidFill>
                  <a:srgbClr val="ff3399"/>
                </a:solidFill>
                <a:latin typeface="华文中宋"/>
                <a:ea typeface="华文中宋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95280" y="36450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赵州桥和卢沟桥历史悠久，气魄宏伟、驰名中外，有中国石拱桥的典型特点，很有代表性。选择有代表性的例子说明事物的特征方法可以起到举一反三的作用，使读者对被说明事物的特征认识得更具体、更明确、更深刻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103560" y="333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课堂讨论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7" name="Picture 5" descr="line05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95280" y="1484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既然赵州桥和卢沟桥都具有中国石拱桥的共同特点，作者为什么不选一个而要选两个呢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539640" y="3573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赵州桥和卢沟桥既有共同点，也有不同点。前者是“独拱”石桥，后者是“联拱”石桥，既有共性也有个性。作者选择两例可以起到互相对照、互相补充的作用，说明了中国石拱桥形式多样、多彩多姿的特点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0" name="Picture 4" descr="line05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5"/>
          <p:cNvSpPr/>
          <p:nvPr/>
        </p:nvSpPr>
        <p:spPr>
          <a:xfrm>
            <a:off x="3103560" y="333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课堂讨论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WordArt 3"/>
          <p:cNvSpPr txBox="1"/>
          <p:nvPr/>
        </p:nvSpPr>
        <p:spPr>
          <a:xfrm>
            <a:off x="609480" y="3068640"/>
            <a:ext cx="792504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桥说特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4" name="WordArt 4"/>
          <p:cNvSpPr txBox="1"/>
          <p:nvPr/>
        </p:nvSpPr>
        <p:spPr>
          <a:xfrm>
            <a:off x="1143000" y="838080"/>
            <a:ext cx="6705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一起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Q-4A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86" name="WordArt 3"/>
          <p:cNvSpPr txBox="1"/>
          <p:nvPr/>
        </p:nvSpPr>
        <p:spPr>
          <a:xfrm>
            <a:off x="1143000" y="5029200"/>
            <a:ext cx="3254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国古代石拱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360" y="5950080"/>
            <a:ext cx="3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14400" y="6095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古朴、简单、材料粗糙、弧度大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Q-8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90" name="WordArt 3"/>
          <p:cNvSpPr txBox="1"/>
          <p:nvPr/>
        </p:nvSpPr>
        <p:spPr>
          <a:xfrm>
            <a:off x="6019920" y="152280"/>
            <a:ext cx="27892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上海杨浦大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83808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方正行楷简体"/>
              </a:rPr>
              <a:t>漂亮、现代感、螺旋引桥、两个拉索支架、平直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方正行楷简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0" y="6021360"/>
            <a:ext cx="5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7282440" y="64533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广州丫髻沙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WordArt 3"/>
          <p:cNvSpPr txBox="1"/>
          <p:nvPr/>
        </p:nvSpPr>
        <p:spPr>
          <a:xfrm>
            <a:off x="304920" y="5715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广州丫髻沙大桥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blinds dir="horz"/>
    <p:sndAc>
      <p:stSnd>
        <p:snd r:embed="rId2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桥-2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95" name="WordArt 3"/>
          <p:cNvSpPr txBox="1"/>
          <p:nvPr/>
        </p:nvSpPr>
        <p:spPr>
          <a:xfrm>
            <a:off x="304920" y="457200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伦敦塔桥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04920" y="595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95280" y="5950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方正大黑简体"/>
              </a:rPr>
              <a:t>古典型双塔、艺术性强、华丽辉煌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方正大黑简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495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Q-3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108000" y="606744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WordArt 4"/>
          <p:cNvSpPr txBox="1"/>
          <p:nvPr/>
        </p:nvSpPr>
        <p:spPr>
          <a:xfrm>
            <a:off x="380880" y="4952880"/>
            <a:ext cx="3429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美国加州大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1187280" y="58053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双塔结构简洁、斜拉索、跨度大、色彩鲜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桥-111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03" name="WordArt 3"/>
          <p:cNvSpPr txBox="1"/>
          <p:nvPr/>
        </p:nvSpPr>
        <p:spPr>
          <a:xfrm>
            <a:off x="6781680" y="4495680"/>
            <a:ext cx="20923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金华双龙大桥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80880" y="579132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177840" y="560232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900000" y="558972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方正行楷简体"/>
              </a:rPr>
              <a:t>由双拱吊拉桥梁、结构优美、简洁、桥面平坦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方正行楷简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BS119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3"/>
          <p:cNvSpPr/>
          <p:nvPr/>
        </p:nvSpPr>
        <p:spPr>
          <a:xfrm>
            <a:off x="0" y="228600"/>
            <a:ext cx="51814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　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土地与土地被水分割了的时候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道路与道路被水截断了的时候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智慧的人类伫立在水边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于是产生了桥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苦于跋涉的人类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应该感谢啊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桥是土地与土地的联系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桥是河流与土地的联系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桥是船只与车辆点头致敬的驿站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桥是乘船者与步行者挥手告别的地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3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BS107464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6993000" y="1143000"/>
            <a:ext cx="215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构建－－－友谊之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搭筑－－－理解之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勇创－－－幸福之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D101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3"/>
          <p:cNvSpPr/>
          <p:nvPr/>
        </p:nvSpPr>
        <p:spPr>
          <a:xfrm>
            <a:off x="1055160" y="1523880"/>
            <a:ext cx="170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时间顺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空间顺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逻辑顺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117400" y="1592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时间先后、朝代先后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478840" y="22543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从上到下、从里到外、从南到北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5283000" y="2940120"/>
            <a:ext cx="70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因到果、从整体到局部、从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般到特殊、从主到次等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6" name="Picture 7" descr="说明顺序"/>
          <p:cNvPicPr/>
          <p:nvPr/>
        </p:nvPicPr>
        <p:blipFill>
          <a:blip r:embed="rId2"/>
          <a:stretch/>
        </p:blipFill>
        <p:spPr>
          <a:xfrm>
            <a:off x="2819520" y="-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8"/>
          <p:cNvSpPr/>
          <p:nvPr/>
        </p:nvSpPr>
        <p:spPr>
          <a:xfrm>
            <a:off x="8305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2"/>
          <p:cNvSpPr/>
          <p:nvPr/>
        </p:nvSpPr>
        <p:spPr>
          <a:xfrm>
            <a:off x="304920" y="2209680"/>
            <a:ext cx="838080" cy="25146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514600"/>
              <a:gd name="textAreaBottom" fmla="*/ 2460600 h 2514600"/>
            </a:gdLst>
            <a:ahLst/>
            <a:rect l="textAreaLeft" t="textAreaTop" r="textAreaRight" b="textAreaBottom"/>
            <a:pathLst>
              <a:path w="21600" h="64791">
                <a:moveTo>
                  <a:pt x="0" y="0"/>
                </a:moveTo>
                <a:lnTo>
                  <a:pt x="21600" y="0"/>
                </a:lnTo>
                <a:lnTo>
                  <a:pt x="21600" y="64791"/>
                </a:lnTo>
                <a:lnTo>
                  <a:pt x="0" y="64791"/>
                </a:lnTo>
                <a:close/>
              </a:path>
              <a:path fill="lightenLess" w="21600" h="6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91">
                <a:moveTo>
                  <a:pt x="21600" y="0"/>
                </a:moveTo>
                <a:lnTo>
                  <a:pt x="21600" y="64791"/>
                </a:lnTo>
                <a:lnTo>
                  <a:pt x="20200" y="63391"/>
                </a:lnTo>
                <a:lnTo>
                  <a:pt x="20200" y="1400"/>
                </a:lnTo>
                <a:close/>
              </a:path>
              <a:path fill="darkenLess" w="21600" h="64791">
                <a:moveTo>
                  <a:pt x="21600" y="64791"/>
                </a:moveTo>
                <a:lnTo>
                  <a:pt x="0" y="64791"/>
                </a:lnTo>
                <a:lnTo>
                  <a:pt x="1400" y="63391"/>
                </a:lnTo>
                <a:lnTo>
                  <a:pt x="20200" y="63391"/>
                </a:lnTo>
                <a:close/>
              </a:path>
              <a:path fill="lighten" w="21600" h="64791">
                <a:moveTo>
                  <a:pt x="0" y="6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91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1905120" y="2209680"/>
            <a:ext cx="838080" cy="25146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514600"/>
              <a:gd name="textAreaBottom" fmla="*/ 2460600 h 2514600"/>
            </a:gdLst>
            <a:ahLst/>
            <a:rect l="textAreaLeft" t="textAreaTop" r="textAreaRight" b="textAreaBottom"/>
            <a:pathLst>
              <a:path w="21600" h="64791">
                <a:moveTo>
                  <a:pt x="0" y="0"/>
                </a:moveTo>
                <a:lnTo>
                  <a:pt x="21600" y="0"/>
                </a:lnTo>
                <a:lnTo>
                  <a:pt x="21600" y="64791"/>
                </a:lnTo>
                <a:lnTo>
                  <a:pt x="0" y="64791"/>
                </a:lnTo>
                <a:close/>
              </a:path>
              <a:path fill="lightenLess" w="21600" h="6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4791">
                <a:moveTo>
                  <a:pt x="21600" y="0"/>
                </a:moveTo>
                <a:lnTo>
                  <a:pt x="21600" y="64791"/>
                </a:lnTo>
                <a:lnTo>
                  <a:pt x="20200" y="63391"/>
                </a:lnTo>
                <a:lnTo>
                  <a:pt x="20200" y="1400"/>
                </a:lnTo>
                <a:close/>
              </a:path>
              <a:path fill="darkenLess" w="21600" h="64791">
                <a:moveTo>
                  <a:pt x="21600" y="64791"/>
                </a:moveTo>
                <a:lnTo>
                  <a:pt x="0" y="64791"/>
                </a:lnTo>
                <a:lnTo>
                  <a:pt x="1400" y="63391"/>
                </a:lnTo>
                <a:lnTo>
                  <a:pt x="20200" y="63391"/>
                </a:lnTo>
                <a:close/>
              </a:path>
              <a:path fill="lighten" w="21600" h="64791">
                <a:moveTo>
                  <a:pt x="0" y="6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63391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1219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289548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3200400" y="18288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赵州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3200400" y="36576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卢沟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5562720" y="3048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9"/>
          <p:cNvSpPr/>
          <p:nvPr/>
        </p:nvSpPr>
        <p:spPr>
          <a:xfrm>
            <a:off x="6400800" y="1447920"/>
            <a:ext cx="1143000" cy="380988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3809880"/>
              <a:gd name="textAreaBottom" fmla="*/ 3736080 h 3809880"/>
            </a:gdLst>
            <a:ahLst/>
            <a:rect l="textAreaLeft" t="textAreaTop" r="textAreaRight" b="textAreaBottom"/>
            <a:pathLst>
              <a:path w="21600" h="71982">
                <a:moveTo>
                  <a:pt x="0" y="0"/>
                </a:moveTo>
                <a:lnTo>
                  <a:pt x="21600" y="0"/>
                </a:lnTo>
                <a:lnTo>
                  <a:pt x="21600" y="71982"/>
                </a:lnTo>
                <a:lnTo>
                  <a:pt x="0" y="71982"/>
                </a:lnTo>
                <a:close/>
              </a:path>
              <a:path fill="lightenLess" w="21600" h="71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1982">
                <a:moveTo>
                  <a:pt x="21600" y="0"/>
                </a:moveTo>
                <a:lnTo>
                  <a:pt x="21600" y="71982"/>
                </a:lnTo>
                <a:lnTo>
                  <a:pt x="20200" y="70582"/>
                </a:lnTo>
                <a:lnTo>
                  <a:pt x="20200" y="1400"/>
                </a:lnTo>
                <a:close/>
              </a:path>
              <a:path fill="darkenLess" w="21600" h="71982">
                <a:moveTo>
                  <a:pt x="21600" y="71982"/>
                </a:moveTo>
                <a:lnTo>
                  <a:pt x="0" y="71982"/>
                </a:lnTo>
                <a:lnTo>
                  <a:pt x="1400" y="70582"/>
                </a:lnTo>
                <a:lnTo>
                  <a:pt x="20200" y="70582"/>
                </a:lnTo>
                <a:close/>
              </a:path>
              <a:path fill="lighten" w="21600" h="71982">
                <a:moveTo>
                  <a:pt x="0" y="71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7058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放后兴建的各种拱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WordArt 10"/>
          <p:cNvSpPr txBox="1"/>
          <p:nvPr/>
        </p:nvSpPr>
        <p:spPr>
          <a:xfrm>
            <a:off x="914400" y="3049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6832" dir="12403642" blurRad="0" rotWithShape="0">
                    <a:srgbClr val="9999ff"/>
                  </a:outerShdw>
                </a:effectLst>
                <a:latin typeface="宋体"/>
              </a:rPr>
              <a:t>本文的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6832" dir="12403642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27" name="Picture 11" descr="思路"/>
          <p:cNvPicPr/>
          <p:nvPr/>
        </p:nvPicPr>
        <p:blipFill>
          <a:blip r:embed="rId1"/>
          <a:stretch/>
        </p:blipFill>
        <p:spPr>
          <a:xfrm>
            <a:off x="2514600" y="-129528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AutoShape 2"/>
          <p:cNvSpPr/>
          <p:nvPr/>
        </p:nvSpPr>
        <p:spPr>
          <a:xfrm>
            <a:off x="3049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3"/>
          <p:cNvSpPr/>
          <p:nvPr/>
        </p:nvSpPr>
        <p:spPr>
          <a:xfrm>
            <a:off x="19051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石拱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AutoShape 4"/>
          <p:cNvSpPr/>
          <p:nvPr/>
        </p:nvSpPr>
        <p:spPr>
          <a:xfrm>
            <a:off x="1219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5"/>
          <p:cNvSpPr/>
          <p:nvPr/>
        </p:nvSpPr>
        <p:spPr>
          <a:xfrm>
            <a:off x="289548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200400" y="182880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赵州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200400" y="365760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卢沟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8"/>
          <p:cNvSpPr/>
          <p:nvPr/>
        </p:nvSpPr>
        <p:spPr>
          <a:xfrm>
            <a:off x="5562720" y="3048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AutoShape 9"/>
          <p:cNvSpPr/>
          <p:nvPr/>
        </p:nvSpPr>
        <p:spPr>
          <a:xfrm>
            <a:off x="6400800" y="1447920"/>
            <a:ext cx="1143000" cy="38862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3886200"/>
              <a:gd name="textAreaBottom" fmla="*/ 3812400 h 3886200"/>
            </a:gdLst>
            <a:ahLst/>
            <a:rect l="textAreaLeft" t="textAreaTop" r="textAreaRight" b="textAreaBottom"/>
            <a:pathLst>
              <a:path w="21600" h="73424">
                <a:moveTo>
                  <a:pt x="0" y="0"/>
                </a:moveTo>
                <a:lnTo>
                  <a:pt x="21600" y="0"/>
                </a:lnTo>
                <a:lnTo>
                  <a:pt x="21600" y="73424"/>
                </a:lnTo>
                <a:lnTo>
                  <a:pt x="0" y="73424"/>
                </a:lnTo>
                <a:close/>
              </a:path>
              <a:path fill="lightenLess" w="21600" h="73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424">
                <a:moveTo>
                  <a:pt x="21600" y="0"/>
                </a:moveTo>
                <a:lnTo>
                  <a:pt x="21600" y="73424"/>
                </a:lnTo>
                <a:lnTo>
                  <a:pt x="20200" y="72024"/>
                </a:lnTo>
                <a:lnTo>
                  <a:pt x="20200" y="1400"/>
                </a:lnTo>
                <a:close/>
              </a:path>
              <a:path fill="darkenLess" w="21600" h="73424">
                <a:moveTo>
                  <a:pt x="21600" y="73424"/>
                </a:moveTo>
                <a:lnTo>
                  <a:pt x="0" y="73424"/>
                </a:lnTo>
                <a:lnTo>
                  <a:pt x="1400" y="72024"/>
                </a:lnTo>
                <a:lnTo>
                  <a:pt x="20200" y="72024"/>
                </a:lnTo>
                <a:close/>
              </a:path>
              <a:path fill="lighten" w="21600" h="73424">
                <a:moveTo>
                  <a:pt x="0" y="73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7202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放后兴建的各种拱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1966680" y="380880"/>
            <a:ext cx="47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整体看，全文用了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23328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一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2702160" y="54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特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Line 13"/>
          <p:cNvSpPr/>
          <p:nvPr/>
        </p:nvSpPr>
        <p:spPr>
          <a:xfrm>
            <a:off x="1143000" y="586728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0" name="Picture 14" descr="逻辑顺"/>
          <p:cNvPicPr/>
          <p:nvPr/>
        </p:nvPicPr>
        <p:blipFill>
          <a:blip r:embed="rId1"/>
          <a:stretch/>
        </p:blipFill>
        <p:spPr>
          <a:xfrm>
            <a:off x="3657600" y="4419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15">
            <a:hlinkClick r:id="" action="ppaction://hlinkshowjump?jump=firstslide"/>
          </p:cNvPr>
          <p:cNvSpPr/>
          <p:nvPr/>
        </p:nvSpPr>
        <p:spPr>
          <a:xfrm>
            <a:off x="80773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16"/>
          <p:cNvSpPr/>
          <p:nvPr/>
        </p:nvSpPr>
        <p:spPr>
          <a:xfrm>
            <a:off x="72388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帮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34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3"/>
          <p:cNvSpPr/>
          <p:nvPr/>
        </p:nvSpPr>
        <p:spPr>
          <a:xfrm>
            <a:off x="0" y="0"/>
            <a:ext cx="8686800" cy="167652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石 拱 桥 有 哪 些 特 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5" name="Picture 4" descr="形式优美"/>
          <p:cNvPicPr/>
          <p:nvPr/>
        </p:nvPicPr>
        <p:blipFill>
          <a:blip r:embed="rId2"/>
          <a:stretch/>
        </p:blipFill>
        <p:spPr>
          <a:xfrm>
            <a:off x="533520" y="1371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结构"/>
          <p:cNvPicPr/>
          <p:nvPr/>
        </p:nvPicPr>
        <p:blipFill>
          <a:blip r:embed="rId3"/>
          <a:stretch/>
        </p:blipFill>
        <p:spPr>
          <a:xfrm>
            <a:off x="3733920" y="2895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3855240" y="60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第三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1708560" y="1035000"/>
            <a:ext cx="49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文中的第二句具体说明了哪一句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4002120" y="1800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我国的石拱桥有悠久的历史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128040" y="2635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我国的石拱桥有哪些特征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291200" y="342900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历史久、形式多、分布广、杰作多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7"/>
          <p:cNvSpPr/>
          <p:nvPr/>
        </p:nvSpPr>
        <p:spPr>
          <a:xfrm>
            <a:off x="7543800" y="59436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548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语言准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2971800" y="6172200"/>
            <a:ext cx="3095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广东虎门大桥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4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  <p:sndAc>
      <p:stSnd>
        <p:snd r:embed="rId2" name="cashreg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赵州桥"/>
          <p:cNvPicPr/>
          <p:nvPr/>
        </p:nvPicPr>
        <p:blipFill>
          <a:blip r:embed="rId2"/>
          <a:stretch/>
        </p:blipFill>
        <p:spPr>
          <a:xfrm>
            <a:off x="3048120" y="-609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55" name="AutoShape 4"/>
          <p:cNvSpPr/>
          <p:nvPr/>
        </p:nvSpPr>
        <p:spPr>
          <a:xfrm>
            <a:off x="304920" y="1371600"/>
            <a:ext cx="8305560" cy="838080"/>
          </a:xfrm>
          <a:custGeom>
            <a:avLst/>
            <a:gdLst>
              <a:gd name="textAreaLeft" fmla="*/ 54000 w 8305560"/>
              <a:gd name="textAreaRight" fmla="*/ 8251560 w 8305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3978" h="21600">
                <a:moveTo>
                  <a:pt x="0" y="0"/>
                </a:moveTo>
                <a:lnTo>
                  <a:pt x="213978" y="0"/>
                </a:lnTo>
                <a:lnTo>
                  <a:pt x="213978" y="21600"/>
                </a:lnTo>
                <a:lnTo>
                  <a:pt x="0" y="21600"/>
                </a:lnTo>
                <a:close/>
              </a:path>
              <a:path fill="lightenLess" w="213978" h="21600">
                <a:moveTo>
                  <a:pt x="0" y="0"/>
                </a:moveTo>
                <a:lnTo>
                  <a:pt x="213978" y="0"/>
                </a:lnTo>
                <a:lnTo>
                  <a:pt x="212578" y="1400"/>
                </a:lnTo>
                <a:lnTo>
                  <a:pt x="1400" y="1400"/>
                </a:lnTo>
                <a:close/>
              </a:path>
              <a:path fill="darken" w="213978" h="21600">
                <a:moveTo>
                  <a:pt x="213978" y="0"/>
                </a:moveTo>
                <a:lnTo>
                  <a:pt x="213978" y="21600"/>
                </a:lnTo>
                <a:lnTo>
                  <a:pt x="212578" y="20200"/>
                </a:lnTo>
                <a:lnTo>
                  <a:pt x="212578" y="1400"/>
                </a:lnTo>
                <a:close/>
              </a:path>
              <a:path fill="darkenLess" w="213978" h="21600">
                <a:moveTo>
                  <a:pt x="213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578" y="20200"/>
                </a:lnTo>
                <a:close/>
              </a:path>
              <a:path fill="lighten" w="213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介绍赵州桥时用了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243720" y="2787480"/>
            <a:ext cx="14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2b548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段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4394880" y="27590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的地理位置、建造时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及解放后的修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154440" y="4159080"/>
            <a:ext cx="11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2b548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2953080" y="4206960"/>
            <a:ext cx="37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首先介绍赵州桥的长度、宽度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设计施工的精巧；接着从四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5481"/>
                </a:solidFill>
                <a:latin typeface="Times New Roman"/>
              </a:rPr>
              <a:t>方面来说明其特点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5574960" y="3344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5481"/>
                </a:solidFill>
                <a:latin typeface="Times New Roman"/>
              </a:rPr>
              <a:t>（概括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5819400" y="5402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具体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2" name="Picture 11" descr="和"/>
          <p:cNvPicPr/>
          <p:nvPr/>
        </p:nvPicPr>
        <p:blipFill>
          <a:blip r:embed="rId3"/>
          <a:stretch/>
        </p:blipFill>
        <p:spPr>
          <a:xfrm>
            <a:off x="6629400" y="2743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63" name="AutoShape 12"/>
          <p:cNvSpPr/>
          <p:nvPr/>
        </p:nvSpPr>
        <p:spPr>
          <a:xfrm>
            <a:off x="7620120" y="2895480"/>
            <a:ext cx="304560" cy="3048120"/>
          </a:xfrm>
          <a:custGeom>
            <a:avLst/>
            <a:gdLst>
              <a:gd name="textAreaLeft" fmla="*/ 0 w 304560"/>
              <a:gd name="textAreaRight" fmla="*/ 109800 w 3045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540720" cy="69022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3"/>
          <p:cNvSpPr/>
          <p:nvPr/>
        </p:nvSpPr>
        <p:spPr>
          <a:xfrm>
            <a:off x="2045160" y="5335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四个方面的特点，你能用最简洁的语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概括出来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1816920" y="1692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一）结构巧妙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2061360" y="23781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二）造型优美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2185200" y="32925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三）结构坚固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1360440" y="4130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四）结构匀称，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景色配合和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75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1510560" y="822240"/>
            <a:ext cx="69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引用张嘉贞和张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zhuo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话各说明了什么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118880" y="1768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用张嘉贞的话：是为了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Line 4"/>
          <p:cNvSpPr/>
          <p:nvPr/>
        </p:nvSpPr>
        <p:spPr>
          <a:xfrm>
            <a:off x="6324480" y="24382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3809880" y="3200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6639840" y="169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构造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4451400" y="2606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奇特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904320" y="3381480"/>
            <a:ext cx="44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用张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hu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话：是为了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Line 9"/>
          <p:cNvSpPr/>
          <p:nvPr/>
        </p:nvSpPr>
        <p:spPr>
          <a:xfrm>
            <a:off x="5943600" y="3886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Line 10"/>
          <p:cNvSpPr/>
          <p:nvPr/>
        </p:nvSpPr>
        <p:spPr>
          <a:xfrm>
            <a:off x="3581280" y="457200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6411240" y="3216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的形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4110840" y="3978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优美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lugou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卢"/>
          <p:cNvPicPr/>
          <p:nvPr/>
        </p:nvPicPr>
        <p:blipFill>
          <a:blip r:embed="rId2"/>
          <a:stretch/>
        </p:blipFill>
        <p:spPr>
          <a:xfrm>
            <a:off x="2666880" y="0"/>
            <a:ext cx="4419720" cy="2651040"/>
          </a:xfrm>
          <a:prstGeom prst="rect">
            <a:avLst/>
          </a:prstGeom>
          <a:ln w="0">
            <a:noFill/>
          </a:ln>
        </p:spPr>
      </p:pic>
      <p:sp>
        <p:nvSpPr>
          <p:cNvPr id="783" name="AutoShape 4">
            <a:hlinkClick r:id="" action="ppaction://hlinkshowjump?jump=firstslide"/>
          </p:cNvPr>
          <p:cNvSpPr/>
          <p:nvPr/>
        </p:nvSpPr>
        <p:spPr>
          <a:xfrm>
            <a:off x="64008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AutoShape 5"/>
          <p:cNvSpPr/>
          <p:nvPr/>
        </p:nvSpPr>
        <p:spPr>
          <a:xfrm>
            <a:off x="304920" y="2209680"/>
            <a:ext cx="7924680" cy="99072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介绍卢沟桥时，采用了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5" name="Picture 6" descr="逻辑顺"/>
          <p:cNvPicPr/>
          <p:nvPr/>
        </p:nvPicPr>
        <p:blipFill>
          <a:blip r:embed="rId3"/>
          <a:stretch/>
        </p:blipFill>
        <p:spPr>
          <a:xfrm>
            <a:off x="2743200" y="28195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7"/>
          <p:cNvSpPr/>
          <p:nvPr/>
        </p:nvSpPr>
        <p:spPr>
          <a:xfrm>
            <a:off x="153000" y="64533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lugouqiao-shizi"/>
          <p:cNvPicPr/>
          <p:nvPr/>
        </p:nvPicPr>
        <p:blipFill>
          <a:blip r:embed="rId1"/>
          <a:stretch/>
        </p:blipFill>
        <p:spPr>
          <a:xfrm>
            <a:off x="0" y="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lugou0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" descr="lugouqiao"/>
          <p:cNvPicPr/>
          <p:nvPr/>
        </p:nvPicPr>
        <p:blipFill>
          <a:blip r:embed="rId3"/>
          <a:stretch/>
        </p:blipFill>
        <p:spPr>
          <a:xfrm>
            <a:off x="0" y="373392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lgqiao101"/>
          <p:cNvPicPr/>
          <p:nvPr/>
        </p:nvPicPr>
        <p:blipFill>
          <a:blip r:embed="rId4"/>
          <a:stretch/>
        </p:blipFill>
        <p:spPr>
          <a:xfrm>
            <a:off x="2666880" y="3581280"/>
            <a:ext cx="6248520" cy="32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78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10000"/>
                            </p:stCondLst>
                            <p:childTnLst>
                              <p:par>
                                <p:cTn id="864" nodeType="afterEffect" fill="hold" presetClass="entr" presetID="19" presetSubtype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31000"/>
                            </p:stCondLst>
                            <p:childTnLst>
                              <p:par>
                                <p:cTn id="86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2"/>
          <p:cNvSpPr/>
          <p:nvPr/>
        </p:nvSpPr>
        <p:spPr>
          <a:xfrm>
            <a:off x="2183040" y="3445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请在文中依次找出所写的桥名及建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时间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1714680" y="2301840"/>
            <a:ext cx="591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旅人桥：大约建成于公元二八二年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：建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左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卢沟桥：建成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8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9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长虹大桥：建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6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144828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是什么说明顺序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Oval 5"/>
          <p:cNvSpPr/>
          <p:nvPr/>
        </p:nvSpPr>
        <p:spPr>
          <a:xfrm>
            <a:off x="4343400" y="5715000"/>
            <a:ext cx="3048120" cy="838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时间顺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D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WordArt 3"/>
          <p:cNvSpPr txBox="1"/>
          <p:nvPr/>
        </p:nvSpPr>
        <p:spPr>
          <a:xfrm>
            <a:off x="2209680" y="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准确的说明语言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099240" y="14479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所谓准确，就是按照事物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情况，选用最恰当的词语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恰如其分地把事物的特征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质和规律性表达出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3696480" y="388620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要表现在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数量、程度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范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方面用词准确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AutoShape 6">
            <a:hlinkClick r:id="" action="ppaction://hlinkshowjump?jump=firstslide"/>
          </p:cNvPr>
          <p:cNvSpPr/>
          <p:nvPr/>
        </p:nvSpPr>
        <p:spPr>
          <a:xfrm>
            <a:off x="79246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1936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10091" y="3794"/>
                </a:lnTo>
                <a:lnTo>
                  <a:pt x="10091" y="17806"/>
                </a:lnTo>
                <a:lnTo>
                  <a:pt x="8428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AutoShape 7"/>
          <p:cNvSpPr/>
          <p:nvPr/>
        </p:nvSpPr>
        <p:spPr>
          <a:xfrm>
            <a:off x="7010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跳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AutoShape 3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下列句子中加点的词能删去吗？为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3274560" y="1568520"/>
            <a:ext cx="24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旅人桥大约建成于公元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8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，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能是有记载的最早的石拱桥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760200" y="377820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我国的石拱桥几乎到处都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5" name="Picture 6" descr="标记点1"/>
          <p:cNvPicPr/>
          <p:nvPr/>
        </p:nvPicPr>
        <p:blipFill>
          <a:blip r:embed="rId2"/>
          <a:stretch/>
        </p:blipFill>
        <p:spPr>
          <a:xfrm>
            <a:off x="3032280" y="2057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标记点1"/>
          <p:cNvPicPr/>
          <p:nvPr/>
        </p:nvPicPr>
        <p:blipFill>
          <a:blip r:embed="rId3"/>
          <a:stretch/>
        </p:blipFill>
        <p:spPr>
          <a:xfrm>
            <a:off x="3489480" y="2057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标记点1"/>
          <p:cNvPicPr/>
          <p:nvPr/>
        </p:nvPicPr>
        <p:blipFill>
          <a:blip r:embed="rId4"/>
          <a:stretch/>
        </p:blipFill>
        <p:spPr>
          <a:xfrm>
            <a:off x="1600200" y="2666880"/>
            <a:ext cx="320760" cy="1717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标记点1"/>
          <p:cNvPicPr/>
          <p:nvPr/>
        </p:nvPicPr>
        <p:blipFill>
          <a:blip r:embed="rId5"/>
          <a:stretch/>
        </p:blipFill>
        <p:spPr>
          <a:xfrm>
            <a:off x="7772400" y="20574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标记点1"/>
          <p:cNvPicPr/>
          <p:nvPr/>
        </p:nvPicPr>
        <p:blipFill>
          <a:blip r:embed="rId6"/>
          <a:stretch/>
        </p:blipFill>
        <p:spPr>
          <a:xfrm>
            <a:off x="4419720" y="4343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标记点1"/>
          <p:cNvPicPr/>
          <p:nvPr/>
        </p:nvPicPr>
        <p:blipFill>
          <a:blip r:embed="rId7"/>
          <a:stretch/>
        </p:blipFill>
        <p:spPr>
          <a:xfrm>
            <a:off x="4937040" y="4343400"/>
            <a:ext cx="320760" cy="17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685440" cy="700236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3"/>
          <p:cNvSpPr/>
          <p:nvPr/>
        </p:nvSpPr>
        <p:spPr>
          <a:xfrm>
            <a:off x="2332440" y="549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列句子中加点的词语能删去吗？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2720160" y="1720800"/>
            <a:ext cx="19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这座桥修建于公元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0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左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2791440" y="3016080"/>
            <a:ext cx="12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桥的主要设计者李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就是一位杰出的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匠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5" name="Picture 6" descr="标记点1"/>
          <p:cNvPicPr/>
          <p:nvPr/>
        </p:nvPicPr>
        <p:blipFill>
          <a:blip r:embed="rId2"/>
          <a:stretch/>
        </p:blipFill>
        <p:spPr>
          <a:xfrm>
            <a:off x="1660680" y="281952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标记点1"/>
          <p:cNvPicPr/>
          <p:nvPr/>
        </p:nvPicPr>
        <p:blipFill>
          <a:blip r:embed="rId3"/>
          <a:stretch/>
        </p:blipFill>
        <p:spPr>
          <a:xfrm>
            <a:off x="2193840" y="28195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标记点1"/>
          <p:cNvPicPr/>
          <p:nvPr/>
        </p:nvPicPr>
        <p:blipFill>
          <a:blip r:embed="rId4"/>
          <a:stretch/>
        </p:blipFill>
        <p:spPr>
          <a:xfrm>
            <a:off x="272736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标记点1"/>
          <p:cNvPicPr/>
          <p:nvPr/>
        </p:nvPicPr>
        <p:blipFill>
          <a:blip r:embed="rId5"/>
          <a:stretch/>
        </p:blipFill>
        <p:spPr>
          <a:xfrm>
            <a:off x="3124080" y="3505320"/>
            <a:ext cx="320760" cy="17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685440" cy="700236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3"/>
          <p:cNvSpPr/>
          <p:nvPr/>
        </p:nvSpPr>
        <p:spPr>
          <a:xfrm>
            <a:off x="1886040" y="958680"/>
            <a:ext cx="53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米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当时可算是世界是最长的石拱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1" name="Picture 4" descr="标记点1"/>
          <p:cNvPicPr/>
          <p:nvPr/>
        </p:nvPicPr>
        <p:blipFill>
          <a:blip r:embed="rId2"/>
          <a:stretch/>
        </p:blipFill>
        <p:spPr>
          <a:xfrm>
            <a:off x="1447920" y="20574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标记点1"/>
          <p:cNvPicPr/>
          <p:nvPr/>
        </p:nvPicPr>
        <p:blipFill>
          <a:blip r:embed="rId3"/>
          <a:stretch/>
        </p:blipFill>
        <p:spPr>
          <a:xfrm>
            <a:off x="1981080" y="20574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标记点1"/>
          <p:cNvPicPr/>
          <p:nvPr/>
        </p:nvPicPr>
        <p:blipFill>
          <a:blip r:embed="rId4"/>
          <a:stretch/>
        </p:blipFill>
        <p:spPr>
          <a:xfrm>
            <a:off x="2438280" y="2057400"/>
            <a:ext cx="320760" cy="17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Baishazho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WordArt 3"/>
          <p:cNvSpPr txBox="1"/>
          <p:nvPr/>
        </p:nvSpPr>
        <p:spPr>
          <a:xfrm>
            <a:off x="5334120" y="228600"/>
            <a:ext cx="35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新魏"/>
              </a:rPr>
              <a:t>武汉白沙洲大桥</a:t>
            </a:r>
            <a:endParaRPr b="1" lang="en-US" sz="1800" spc="1" strike="noStrike">
              <a:ln cap="rnd" w="936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5000"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685440" cy="70023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3"/>
          <p:cNvSpPr/>
          <p:nvPr/>
        </p:nvSpPr>
        <p:spPr>
          <a:xfrm>
            <a:off x="1066680" y="25146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打比方、举例子、作比较、分类别、列数字、下定义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画图表、引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6" name="Picture 4" descr="说明方法"/>
          <p:cNvPicPr/>
          <p:nvPr/>
        </p:nvPicPr>
        <p:blipFill>
          <a:blip r:embed="rId2"/>
          <a:stretch/>
        </p:blipFill>
        <p:spPr>
          <a:xfrm>
            <a:off x="25909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5"/>
          <p:cNvSpPr/>
          <p:nvPr/>
        </p:nvSpPr>
        <p:spPr>
          <a:xfrm>
            <a:off x="1044720" y="652608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WordArt 3"/>
          <p:cNvSpPr txBox="1"/>
          <p:nvPr/>
        </p:nvSpPr>
        <p:spPr>
          <a:xfrm>
            <a:off x="2819520" y="5105520"/>
            <a:ext cx="4495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日本明石海峡大桥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nanpu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5" name="WordArt 3"/>
          <p:cNvSpPr txBox="1"/>
          <p:nvPr/>
        </p:nvSpPr>
        <p:spPr>
          <a:xfrm>
            <a:off x="2895480" y="533412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上海南浦大桥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Norman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WordArt 3"/>
          <p:cNvSpPr txBox="1"/>
          <p:nvPr/>
        </p:nvSpPr>
        <p:spPr>
          <a:xfrm>
            <a:off x="3352680" y="5638680"/>
            <a:ext cx="342900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法国诺曼底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pj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WordArt 3"/>
          <p:cNvSpPr txBox="1"/>
          <p:nvPr/>
        </p:nvSpPr>
        <p:spPr>
          <a:xfrm>
            <a:off x="3200400" y="5024520"/>
            <a:ext cx="26906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苏州古桥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advTm="4000">
    <p:pull dir="ru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2:46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0:5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