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256-8AB9-47D7-A8CE-28BA7DF5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20C-6790-4D41-8FC3-D047C7E8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B7CE2-2480-4EEA-9442-797C007C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F1A1C-2357-4A98-ABDA-59F5A59F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1B3BE-5FC1-4D2A-9F6C-8098AD9F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34B43-31F6-4DF8-92CA-9FF2407D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0CDE0-CF97-442E-91E5-45F65410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14F8C-24E2-425C-AAFB-A34E78A6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F29C3-260F-4BE1-AF71-7D048431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528B7-5D8F-4D7E-8EED-C73A69E9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7A543-E287-44EA-8502-935CC699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393D7-CCC1-45DD-A4FC-A7AD6F89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F99-46C7-4DC4-9A00-FA54CDDC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B1FB4-F1F1-4783-A8D5-B29967CD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E9510-7B12-46C0-87EE-2F0C36D7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D52AA-F04E-4680-8DD7-56C4649A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314F5-E662-4D3C-A8E6-768721EE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BC82A-2571-4149-9131-072D88B9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7E577-15D4-4116-82BB-1CCC7FB6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E91B3-CE1C-4C42-A7B7-BD75F0C3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77896-BD1A-4E0F-B5E9-06D98D75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45740-51A6-4C95-BF2A-FD529FB6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85776-0472-4544-B90D-A8B4B7EE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6F8-6749-4B34-A5DD-40173ADC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A3A0B-57AF-4247-9A05-3D384A98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D2B44-9D66-4E52-9AA5-8DE324D5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65649-9D83-4579-B937-04FFE8E9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4A1C9-8668-4EA1-90FE-FCB5F833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0690F-312B-42F8-BD29-82239A22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0813B-9F79-40D1-B92B-5EF789CA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79053-6939-44BF-86CD-B96B8F63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22561-0851-4A1E-8161-1DC1128D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A1994-4000-4564-8D4D-AA9A3FE4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42AE5-762C-4CFF-A8D1-11F45DE9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5009-8127-49E2-8B31-49324F7C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80B45-C1F7-42BF-9356-A1C6DC86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EC30A-3923-4BE8-8B3D-726D1BE8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EEABC-3CD0-4DFA-90CC-B98012C9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B54C5-F5DF-4194-BD81-25917CF1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30405-D5A6-4EB3-8A30-2C5AEA25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A4B17-9A07-41F4-8159-F6FB3DA7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87C59-D6BF-438C-B9B3-987E4FFC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D1181-8043-4063-894E-65D6F088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7AC2E-931C-4980-9E27-676DD421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90639-E5ED-4D06-9D42-88E0BAD0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72BF-49F2-441E-ADA0-9B370709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FF45A-304A-49AA-9044-98918050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D0D2B-BF44-4783-883B-1A5885B9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A1B26-520E-4042-B2AA-7A230BB9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55B6C-0BA4-4AE4-B486-A3342E94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07B63-8EB7-4D8C-987A-1E9BEDAA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DA476-06D7-4BAB-90A2-BED4B80F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D2D57-5483-4790-A45B-9457FE51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B81CB-5113-4E6E-82B9-A9BAC32D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D5318-929A-480A-ABAA-4431E5A4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C478F-4080-44DC-9C06-5AD1AFD7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28D4-3375-44EE-AD47-9922D9DE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E99BA-240E-4F74-8959-5AA23B11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14622-85B2-4D32-9B6A-93A08888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2D0CA-AA81-4FB0-80E9-646060B5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2A448-5F5A-4AF3-B1F4-799E0781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EF832-8965-4F88-BC57-8689ADCD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E3C29-5323-42F5-809C-A90AC531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7F14C-6009-434C-8334-E2464C02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A0A5-4BD8-4C9B-AA62-1FA217B4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EF42-BD8B-4A0C-8802-BB9B21C6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1DF7-341A-469B-A588-E1B94983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F89B-43AF-41E2-BECF-080E8587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033-422A-4467-BF09-00475777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4724-F4E3-42BB-A6F1-D5603C00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0688-8A35-409A-BDED-A7D23065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E7DE-0EC5-4E00-8AD3-49459BBB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0DFC-593F-4096-9027-05A7C0DF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F009-7A1E-4556-8AE9-5E4D7749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AEAE-4071-4DE2-B80A-AACCB33A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81F5E-F772-4056-90B6-29A24364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56E4A-7173-4456-88EE-6C4F9D88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7169-B46F-4554-8269-85BCC04E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ACFAA-5D9B-461B-8BB7-AEB5E614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554-85C4-4E7B-8186-79868635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5071D-F489-4DC1-A67F-4DB5A2E1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7D35A-96C7-4597-B5F5-86AD93A5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DA349-C2B6-4DB4-BF72-4FF045E3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B458F-A095-4016-B919-BB9260AB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9E607-2D98-4D96-AE12-E60E6170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9099-B5D1-49F7-A163-5D771A67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F98E8-FE58-4E96-A91E-08C8ED6A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C9DFF-9938-4CFC-B30B-D0E739E4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72753-6E4A-4E47-AE16-93264748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76443-BE8D-4B2A-8209-5E008943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C0F-D3B6-4E9D-B488-D3998D56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88AC4-478D-411B-9B7C-964FF388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BE892-88A7-459A-AB14-E64AFE80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07F7D-672B-4D3F-8E76-64E9322F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010B3-C830-41E4-BF32-764C3B4D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3DEF3-F07C-4FD1-A220-984DDCE7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B6EE0-DE82-4A2A-B865-18FFE9F1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9578E-2888-44E6-8E1C-E37067EF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9C62-863C-4EE2-AFA5-C77FAEEE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A0623-7206-4375-8A98-F8852653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C0EDC-6AF6-4B63-9680-8738BBCF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9AF-7112-420B-ACC0-EE14A0F4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21EB2-BCE6-40B1-AF1A-6838B0AA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1CB2E-E8ED-46FC-8814-3151CE23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6955C-3B91-46A3-ACC2-99D7689F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483BC-431B-49F6-86B2-5FCFB3DB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533FC-28B0-46F5-A60A-7CA4E8B5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24531-C7F7-4E1C-9D84-5404C14F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9D754-CBBF-4133-AF44-3E5B3603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7659C-D292-4C2F-8CAF-9EF41C26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CD199-1287-417B-BF79-C9D91FC7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8325B-B661-483A-B95B-AE49AB13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DBF-B155-46CE-AFE0-5D9BD932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974F8-9296-46A9-862D-0186C28D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17B43-9479-4EFC-9D69-343D1681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0DA6B-C33B-4B66-AE77-306A5B94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446A7-1293-4C85-9340-1497B766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011B0-DDFA-43D4-B7FF-95E7DD94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C5AF2-377D-4C0F-9539-B1C97663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7B9E0-C434-4643-BF2F-31677C74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9C47B-7AD3-454E-B93F-CD744355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F0DEE-0DB9-4A52-B8D2-074480D9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22857-40D8-4054-ACEE-E070F2AB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4B1-E517-4A6E-94F9-1AD257AA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95E23-0066-4866-81AF-336E3090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1D676-FA20-4F41-8DF1-6F50ABB1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CCD53-10FC-44AA-A3CC-EB575D3D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CBFE0-26A2-4CCE-9345-A64573DA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B36F1-E24E-4142-97C2-7FE80447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2A722-8519-407D-A0EB-9C1671BF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16853-2B6D-4F60-AED8-E5618ED8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26822-17DB-4AF7-A7A6-96F3EF5D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3FC48-56DF-4939-A344-F814C609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6A61A-8B37-46FC-B14A-1945CC5E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5BF-2C3A-41D9-A447-4282DAE9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34C66-9022-48E8-AE3C-78C237DD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AF338-63F1-403D-905A-8ABC90A9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D6703-BF29-4D78-A3A4-D3F36BE5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3C52B-A6E0-435E-8598-4AC2CD21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5445B-F889-47D7-AACF-16A96618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7262C-D8C6-4A06-B284-0A251342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F7276-B86E-4024-BAD6-89CCAED9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0C929-D9C5-44F0-ABAC-898BC54A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A695E-CD20-4E6D-B659-6E4AAFCB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65A5A-6487-4589-90EC-E00A3C64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AD9-A76D-4375-A639-0292906E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7A78F-D4C0-42F5-83D8-2CD784F9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D885D-EC57-48F8-8853-547F6DE2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9719D-1F91-4FD9-A8EC-C90F80AB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69E31-3E9E-4D6E-AEDA-10494008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2A3D8-8254-40C5-8374-99A2BE00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EA79A-7727-4EB3-A30C-EB002677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21733-E7E7-47E3-955C-9257570C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A4E48-6403-423D-B3C6-638540CA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1F450-CFCE-496D-8713-C15D940E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442C4-6469-4CB6-AFAA-7F1C020D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77D7-F619-4076-907C-B3F5CBCA847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2C97-AA50-4A05-A952-FA0EE014A3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2CE9-AF0D-437B-8509-CD1BCB634EEA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1991-F067-441D-BB6E-A4F8213F5B7F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F306-8DE2-414E-BA98-5E229347AE7D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CE4A-FF7D-4EF0-8545-E39C4FEAB889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8DD6-1684-4B37-8961-8C0BBA413E7F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B657-9266-47B8-834D-98FA58E28749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9940-41D3-4DBE-A74D-FC54D1FA2A2A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39CA-0BDB-4667-B9B9-865FB3979D90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3638-3AC8-4714-A513-CA78C0A07948}" type="datetime">
              <a:rPr b="0" lang="zh-CN" sz="10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A421-7A22-4E00-938C-01A7E7DE071B}" type="slidenum">
              <a:rPr b="0" lang="zh-CN" sz="10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C61F-CF8D-4DBF-85D6-34697355B8EA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1812-72B5-4541-9198-F2263E6BE627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E4D2-3890-462B-9D9D-89DE26F5BDD2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0846-BB11-433C-BB03-EFD1781B0F3E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4527-F24D-43EB-A339-048A861C3F81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92F4-746D-40AE-A7A0-F45FB3544B5A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4B4F-3B6C-4D36-92F0-24FDBB87F835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57C2-FB3C-475C-9660-79D8C65B805F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156C-D62C-4E3D-AB43-E46D8BEC437D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91D6-B112-4E55-906A-B4A9966F7A13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30DD-7866-455E-B516-B6C406478DF0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47BB-1163-4696-853C-1C41DE64771E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4ED5-14E5-42B6-BC71-ACE3105940BA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5BE5-CC07-4706-8D43-2F186C94CAE4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6"/>
          <p:cNvSpPr/>
          <p:nvPr/>
        </p:nvSpPr>
        <p:spPr>
          <a:xfrm>
            <a:off x="1373400" y="1273320"/>
            <a:ext cx="6773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Franklin Gothic Medium"/>
              </a:rPr>
              <a:t>201</a:t>
            </a:r>
            <a:r>
              <a:rPr b="1" lang="zh-CN" sz="16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5</a:t>
            </a:r>
            <a:r>
              <a:rPr b="1" lang="zh-CN" sz="16600" spc="-1" strike="noStrike">
                <a:solidFill>
                  <a:srgbClr val="000000"/>
                </a:solidFill>
                <a:latin typeface="Franklin Gothic Medium"/>
              </a:rPr>
              <a:t>年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9"/>
          <p:cNvSpPr/>
          <p:nvPr/>
        </p:nvSpPr>
        <p:spPr>
          <a:xfrm>
            <a:off x="3772800" y="3794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Medium"/>
              </a:rPr>
              <a:t>年终总结报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4419720" y="4529160"/>
            <a:ext cx="873000" cy="1160280"/>
          </a:xfrm>
          <a:prstGeom prst="rect">
            <a:avLst/>
          </a:prstGeom>
          <a:ln w="0">
            <a:noFill/>
          </a:ln>
        </p:spPr>
      </p:pic>
      <p:pic>
        <p:nvPicPr>
          <p:cNvPr id="536" name="media1.wma" descr=""/>
          <p:cNvPicPr/>
          <p:nvPr/>
        </p:nvPicPr>
        <p:blipFill>
          <a:blip r:embed="rId2"/>
          <a:stretch/>
        </p:blipFill>
        <p:spPr>
          <a:xfrm>
            <a:off x="4130640" y="-8110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37" name="矩形 1"/>
          <p:cNvSpPr/>
          <p:nvPr/>
        </p:nvSpPr>
        <p:spPr>
          <a:xfrm>
            <a:off x="2511000" y="4460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总结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7"/>
          <p:cNvSpPr/>
          <p:nvPr/>
        </p:nvSpPr>
        <p:spPr>
          <a:xfrm>
            <a:off x="314280" y="5376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1">
                                  <p:stCondLst>
                                    <p:cond delay="22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5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3.21865E-006 C 0.00937 -0.00805 0.04514 -0.09629 0.05677 -0.09629 C 0.1302 -0.09629 0.18715 -0.03469 0.18715 0.09017 C 0.18715 0.02719 0.23316 -0.1035 0.26892 -0.1035 C 0.30659 -0.1035 0.3493 -0.01055 0.3493 0.05161 C 0.3493 0.02053 0.43038 -0.15178 0.4493 -0.15178 C 0.46823 -0.15178 0.56284 0.0147 0.56284 0.04661 E">
                                      <p:cBhvr>
                                        <p:cTn id="40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7"/>
          <p:cNvGrpSpPr/>
          <p:nvPr/>
        </p:nvGrpSpPr>
        <p:grpSpPr>
          <a:xfrm>
            <a:off x="1994040" y="3132000"/>
            <a:ext cx="502920" cy="642600"/>
            <a:chOff x="1994040" y="3132000"/>
            <a:chExt cx="502920" cy="642600"/>
          </a:xfrm>
        </p:grpSpPr>
        <p:sp>
          <p:nvSpPr>
            <p:cNvPr id="688" name="椭圆 12"/>
            <p:cNvSpPr/>
            <p:nvPr/>
          </p:nvSpPr>
          <p:spPr>
            <a:xfrm>
              <a:off x="1994040" y="323784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13"/>
            <p:cNvSpPr/>
            <p:nvPr/>
          </p:nvSpPr>
          <p:spPr>
            <a:xfrm>
              <a:off x="20239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11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692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矩形 21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301680" y="3936960"/>
            <a:ext cx="1422360" cy="1911240"/>
          </a:xfrm>
          <a:prstGeom prst="rect">
            <a:avLst/>
          </a:prstGeom>
          <a:ln w="0">
            <a:noFill/>
          </a:ln>
        </p:spPr>
      </p:pic>
      <p:sp>
        <p:nvSpPr>
          <p:cNvPr id="696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7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698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矩形 27"/>
          <p:cNvSpPr/>
          <p:nvPr/>
        </p:nvSpPr>
        <p:spPr>
          <a:xfrm>
            <a:off x="4311000" y="391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展望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21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702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4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51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43199941">
                                      <p:cBhvr>
                                        <p:cTn id="253" dur="175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255" dur="15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75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矩形 2"/>
          <p:cNvSpPr/>
          <p:nvPr/>
        </p:nvSpPr>
        <p:spPr>
          <a:xfrm>
            <a:off x="4408200" y="2687760"/>
            <a:ext cx="28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xiazai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4"/>
          <p:cNvSpPr/>
          <p:nvPr/>
        </p:nvSpPr>
        <p:spPr>
          <a:xfrm>
            <a:off x="3276720" y="712800"/>
            <a:ext cx="5543280" cy="480852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" descr=""/>
          <p:cNvPicPr/>
          <p:nvPr/>
        </p:nvPicPr>
        <p:blipFill>
          <a:blip r:embed="rId1"/>
          <a:stretch/>
        </p:blipFill>
        <p:spPr>
          <a:xfrm>
            <a:off x="345960" y="1346040"/>
            <a:ext cx="2714760" cy="23767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-2697120" y="1308240"/>
            <a:ext cx="2706480" cy="3638520"/>
          </a:xfrm>
          <a:prstGeom prst="rect">
            <a:avLst/>
          </a:prstGeom>
          <a:ln w="0">
            <a:noFill/>
          </a:ln>
        </p:spPr>
      </p:pic>
      <p:sp>
        <p:nvSpPr>
          <p:cNvPr id="708" name="矩形 8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展望未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10"/>
          <p:cNvSpPr/>
          <p:nvPr/>
        </p:nvSpPr>
        <p:spPr>
          <a:xfrm>
            <a:off x="4230720" y="841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</a:rPr>
              <a:t>在新的一年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15"/>
          <p:cNvSpPr/>
          <p:nvPr/>
        </p:nvSpPr>
        <p:spPr>
          <a:xfrm>
            <a:off x="3564000" y="4441680"/>
            <a:ext cx="482436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接连接符 16"/>
          <p:cNvSpPr/>
          <p:nvPr/>
        </p:nvSpPr>
        <p:spPr>
          <a:xfrm>
            <a:off x="3564000" y="4865760"/>
            <a:ext cx="482436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17"/>
          <p:cNvSpPr/>
          <p:nvPr/>
        </p:nvSpPr>
        <p:spPr>
          <a:xfrm>
            <a:off x="3564000" y="5289480"/>
            <a:ext cx="482436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2" descr=""/>
          <p:cNvPicPr/>
          <p:nvPr/>
        </p:nvPicPr>
        <p:blipFill>
          <a:blip r:embed="rId3"/>
          <a:stretch/>
        </p:blipFill>
        <p:spPr>
          <a:xfrm>
            <a:off x="3564000" y="1488960"/>
            <a:ext cx="4824360" cy="270504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7" descr=""/>
          <p:cNvPicPr/>
          <p:nvPr/>
        </p:nvPicPr>
        <p:blipFill>
          <a:blip r:embed="rId4"/>
          <a:srcRect l="40465" t="12309" r="40465" b="47080"/>
          <a:stretch/>
        </p:blipFill>
        <p:spPr>
          <a:xfrm>
            <a:off x="755640" y="2098800"/>
            <a:ext cx="2709720" cy="3638520"/>
          </a:xfrm>
          <a:prstGeom prst="rect">
            <a:avLst/>
          </a:prstGeom>
          <a:ln w="0">
            <a:noFill/>
          </a:ln>
        </p:spPr>
      </p:pic>
      <p:sp>
        <p:nvSpPr>
          <p:cNvPr id="715" name="矩形 31"/>
          <p:cNvSpPr/>
          <p:nvPr/>
        </p:nvSpPr>
        <p:spPr>
          <a:xfrm>
            <a:off x="1364040" y="37940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333 L 0.37778 0.13861 E">
                                      <p:cBhvr>
                                        <p:cTn id="264" dur="1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1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32">
                                  <p:stCondLst>
                                    <p:cond delay="250"/>
                                  </p:stCondLst>
                                  <p:childTnLst>
                                    <p:animRot by="120000">
                                      <p:cBhvr>
                                        <p:cTn id="274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75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77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4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80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1750"/>
                                  </p:stCondLst>
                                  <p:childTnLst>
                                    <p:animRot by="21600000">
                                      <p:cBhvr>
                                        <p:cTn id="28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矩形 6"/>
          <p:cNvSpPr/>
          <p:nvPr/>
        </p:nvSpPr>
        <p:spPr>
          <a:xfrm>
            <a:off x="2916000" y="148896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Franklin Gothic Medium"/>
              </a:rPr>
              <a:t>谢谢大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3" descr=""/>
          <p:cNvPicPr/>
          <p:nvPr/>
        </p:nvPicPr>
        <p:blipFill>
          <a:blip r:embed="rId1"/>
          <a:stretch/>
        </p:blipFill>
        <p:spPr>
          <a:xfrm>
            <a:off x="3851280" y="3433680"/>
            <a:ext cx="1809720" cy="158436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4"/>
          <p:cNvSpPr/>
          <p:nvPr/>
        </p:nvSpPr>
        <p:spPr>
          <a:xfrm>
            <a:off x="1079640" y="516240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-1100160" y="378468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540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圆角矩形 7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8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9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8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546" name="椭圆 14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15"/>
            <p:cNvSpPr/>
            <p:nvPr/>
          </p:nvSpPr>
          <p:spPr>
            <a:xfrm>
              <a:off x="711288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1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549" name="椭圆 17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18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14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552" name="椭圆 20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21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矩形 12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18"/>
          <p:cNvGrpSpPr/>
          <p:nvPr/>
        </p:nvGrpSpPr>
        <p:grpSpPr>
          <a:xfrm>
            <a:off x="7093080" y="1606680"/>
            <a:ext cx="503280" cy="642600"/>
            <a:chOff x="7093080" y="1606680"/>
            <a:chExt cx="503280" cy="642600"/>
          </a:xfrm>
        </p:grpSpPr>
        <p:sp>
          <p:nvSpPr>
            <p:cNvPr id="556" name="椭圆 10"/>
            <p:cNvSpPr/>
            <p:nvPr/>
          </p:nvSpPr>
          <p:spPr>
            <a:xfrm>
              <a:off x="7093080" y="1712880"/>
              <a:ext cx="503280" cy="504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6"/>
            <p:cNvSpPr/>
            <p:nvPr/>
          </p:nvSpPr>
          <p:spPr>
            <a:xfrm>
              <a:off x="7123320" y="1606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8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324000" y="4433760"/>
            <a:ext cx="871560" cy="1160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3"/>
          <a:srcRect l="40465" t="12309" r="40465" b="47080"/>
          <a:stretch/>
        </p:blipFill>
        <p:spPr>
          <a:xfrm>
            <a:off x="4211640" y="833400"/>
            <a:ext cx="873000" cy="11606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596E-006 L 0.15573 0.11432 E">
                                      <p:cBhvr>
                                        <p:cTn id="46" dur="8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4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43199941">
                                      <p:cBhvr>
                                        <p:cTn id="67" dur="175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5">
                                  <p:stCondLst>
                                    <p:cond delay="2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69" dur="15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7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2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-0.00035 0.00083 L 0.42482 -0.62847 E">
                                      <p:cBhvr>
                                        <p:cTn id="74" dur="8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1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5"/>
          <p:cNvSpPr/>
          <p:nvPr/>
        </p:nvSpPr>
        <p:spPr>
          <a:xfrm>
            <a:off x="-320760" y="912960"/>
            <a:ext cx="10150560" cy="41050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6"/>
          <p:cNvSpPr/>
          <p:nvPr/>
        </p:nvSpPr>
        <p:spPr>
          <a:xfrm>
            <a:off x="539640" y="1128600"/>
            <a:ext cx="597708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6877080" y="3330720"/>
            <a:ext cx="1828800" cy="1368360"/>
          </a:xfrm>
          <a:prstGeom prst="rect">
            <a:avLst/>
          </a:prstGeom>
          <a:ln w="0">
            <a:noFill/>
          </a:ln>
        </p:spPr>
      </p:pic>
      <p:sp>
        <p:nvSpPr>
          <p:cNvPr id="564" name="矩形 8"/>
          <p:cNvSpPr/>
          <p:nvPr/>
        </p:nvSpPr>
        <p:spPr>
          <a:xfrm>
            <a:off x="906840" y="1254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</a:rPr>
              <a:t>上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1"/>
          <p:cNvSpPr/>
          <p:nvPr/>
        </p:nvSpPr>
        <p:spPr>
          <a:xfrm>
            <a:off x="755640" y="218448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直接连接符 15"/>
          <p:cNvSpPr/>
          <p:nvPr/>
        </p:nvSpPr>
        <p:spPr>
          <a:xfrm>
            <a:off x="755640" y="2608200"/>
            <a:ext cx="540072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直接连接符 16"/>
          <p:cNvSpPr/>
          <p:nvPr/>
        </p:nvSpPr>
        <p:spPr>
          <a:xfrm>
            <a:off x="755640" y="303228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直接连接符 17"/>
          <p:cNvSpPr/>
          <p:nvPr/>
        </p:nvSpPr>
        <p:spPr>
          <a:xfrm>
            <a:off x="755640" y="345744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18"/>
          <p:cNvSpPr/>
          <p:nvPr/>
        </p:nvSpPr>
        <p:spPr>
          <a:xfrm>
            <a:off x="755640" y="388152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直接连接符 19"/>
          <p:cNvSpPr/>
          <p:nvPr/>
        </p:nvSpPr>
        <p:spPr>
          <a:xfrm>
            <a:off x="755640" y="430524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直接连接符 20"/>
          <p:cNvSpPr/>
          <p:nvPr/>
        </p:nvSpPr>
        <p:spPr>
          <a:xfrm>
            <a:off x="755640" y="472932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4233960" y="4586400"/>
            <a:ext cx="873000" cy="116028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2"/>
          <p:cNvSpPr/>
          <p:nvPr/>
        </p:nvSpPr>
        <p:spPr>
          <a:xfrm>
            <a:off x="945000" y="178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945000" y="221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945000" y="263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945000" y="3060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25"/>
          <p:cNvSpPr/>
          <p:nvPr/>
        </p:nvSpPr>
        <p:spPr>
          <a:xfrm>
            <a:off x="945000" y="348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6"/>
          <p:cNvSpPr/>
          <p:nvPr/>
        </p:nvSpPr>
        <p:spPr>
          <a:xfrm>
            <a:off x="945000" y="390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27"/>
          <p:cNvSpPr/>
          <p:nvPr/>
        </p:nvSpPr>
        <p:spPr>
          <a:xfrm>
            <a:off x="991440" y="4334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88FE-0132-47D5-B43A-2B2E329A4D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655560" y="1490760"/>
            <a:ext cx="1886040" cy="2662200"/>
          </a:xfrm>
          <a:prstGeom prst="rect">
            <a:avLst/>
          </a:prstGeom>
          <a:ln w="0">
            <a:noFill/>
          </a:ln>
        </p:spPr>
      </p:pic>
      <p:sp>
        <p:nvSpPr>
          <p:cNvPr id="582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5"/>
          <p:cNvSpPr/>
          <p:nvPr/>
        </p:nvSpPr>
        <p:spPr>
          <a:xfrm>
            <a:off x="2843280" y="-595440"/>
            <a:ext cx="5761080" cy="734220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900000" y="458640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585" name="矩形 7"/>
          <p:cNvSpPr/>
          <p:nvPr/>
        </p:nvSpPr>
        <p:spPr>
          <a:xfrm>
            <a:off x="2987640" y="1128600"/>
            <a:ext cx="540072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8"/>
          <p:cNvSpPr/>
          <p:nvPr/>
        </p:nvSpPr>
        <p:spPr>
          <a:xfrm>
            <a:off x="3156120" y="12542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</a:rPr>
              <a:t>下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9"/>
          <p:cNvSpPr/>
          <p:nvPr/>
        </p:nvSpPr>
        <p:spPr>
          <a:xfrm>
            <a:off x="3203640" y="218448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10"/>
          <p:cNvSpPr/>
          <p:nvPr/>
        </p:nvSpPr>
        <p:spPr>
          <a:xfrm>
            <a:off x="3203640" y="2608200"/>
            <a:ext cx="487980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直接连接符 11"/>
          <p:cNvSpPr/>
          <p:nvPr/>
        </p:nvSpPr>
        <p:spPr>
          <a:xfrm>
            <a:off x="3203640" y="303228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直接连接符 12"/>
          <p:cNvSpPr/>
          <p:nvPr/>
        </p:nvSpPr>
        <p:spPr>
          <a:xfrm>
            <a:off x="3203640" y="345744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直接连接符 13"/>
          <p:cNvSpPr/>
          <p:nvPr/>
        </p:nvSpPr>
        <p:spPr>
          <a:xfrm>
            <a:off x="3203640" y="388152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直接连接符 14"/>
          <p:cNvSpPr/>
          <p:nvPr/>
        </p:nvSpPr>
        <p:spPr>
          <a:xfrm>
            <a:off x="3203640" y="430524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15"/>
          <p:cNvSpPr/>
          <p:nvPr/>
        </p:nvSpPr>
        <p:spPr>
          <a:xfrm>
            <a:off x="3203640" y="472932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6"/>
          <p:cNvSpPr/>
          <p:nvPr/>
        </p:nvSpPr>
        <p:spPr>
          <a:xfrm>
            <a:off x="3203640" y="178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7"/>
          <p:cNvSpPr/>
          <p:nvPr/>
        </p:nvSpPr>
        <p:spPr>
          <a:xfrm>
            <a:off x="3203640" y="2211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8"/>
          <p:cNvSpPr/>
          <p:nvPr/>
        </p:nvSpPr>
        <p:spPr>
          <a:xfrm>
            <a:off x="320364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19"/>
          <p:cNvSpPr/>
          <p:nvPr/>
        </p:nvSpPr>
        <p:spPr>
          <a:xfrm>
            <a:off x="3203640" y="306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20"/>
          <p:cNvSpPr/>
          <p:nvPr/>
        </p:nvSpPr>
        <p:spPr>
          <a:xfrm>
            <a:off x="3203640" y="3484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21"/>
          <p:cNvSpPr/>
          <p:nvPr/>
        </p:nvSpPr>
        <p:spPr>
          <a:xfrm>
            <a:off x="3203640" y="390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22"/>
          <p:cNvSpPr/>
          <p:nvPr/>
        </p:nvSpPr>
        <p:spPr>
          <a:xfrm>
            <a:off x="3203640" y="4334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3"/>
          <p:cNvSpPr/>
          <p:nvPr/>
        </p:nvSpPr>
        <p:spPr>
          <a:xfrm>
            <a:off x="144360" y="512604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1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1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圆角矩形 6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圆角矩形 7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圆角矩形 8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7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608" name="椭圆 10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11"/>
            <p:cNvSpPr/>
            <p:nvPr/>
          </p:nvSpPr>
          <p:spPr>
            <a:xfrm>
              <a:off x="711288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0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611" name="椭圆 13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4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13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614" name="椭圆 16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17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矩形 18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17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618" name="椭圆 25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矩形 26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矩形 27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3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3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3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199941">
                                      <p:cBhvr>
                                        <p:cTn id="141" dur="175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43" dur="15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75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矩形 35"/>
          <p:cNvSpPr/>
          <p:nvPr/>
        </p:nvSpPr>
        <p:spPr>
          <a:xfrm>
            <a:off x="6372360" y="1201680"/>
            <a:ext cx="1079280" cy="503280"/>
          </a:xfrm>
          <a:prstGeom prst="rect">
            <a:avLst/>
          </a:prstGeom>
          <a:solidFill>
            <a:srgbClr val="3f3f3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直接连接符 30"/>
          <p:cNvSpPr/>
          <p:nvPr/>
        </p:nvSpPr>
        <p:spPr>
          <a:xfrm>
            <a:off x="1332000" y="3936960"/>
            <a:ext cx="6191280" cy="180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直接连接符 29"/>
          <p:cNvSpPr/>
          <p:nvPr/>
        </p:nvSpPr>
        <p:spPr>
          <a:xfrm>
            <a:off x="1317600" y="3073320"/>
            <a:ext cx="619272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28"/>
          <p:cNvSpPr/>
          <p:nvPr/>
        </p:nvSpPr>
        <p:spPr>
          <a:xfrm>
            <a:off x="1260360" y="2235240"/>
            <a:ext cx="619128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16"/>
          <p:cNvSpPr/>
          <p:nvPr/>
        </p:nvSpPr>
        <p:spPr>
          <a:xfrm>
            <a:off x="2195640" y="3505320"/>
            <a:ext cx="360360" cy="1368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7"/>
          <p:cNvSpPr/>
          <p:nvPr/>
        </p:nvSpPr>
        <p:spPr>
          <a:xfrm>
            <a:off x="3587760" y="2496960"/>
            <a:ext cx="360360" cy="2376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8"/>
          <p:cNvSpPr/>
          <p:nvPr/>
        </p:nvSpPr>
        <p:spPr>
          <a:xfrm>
            <a:off x="4979880" y="3222720"/>
            <a:ext cx="360360" cy="16462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19"/>
          <p:cNvSpPr/>
          <p:nvPr/>
        </p:nvSpPr>
        <p:spPr>
          <a:xfrm>
            <a:off x="6372360" y="3686040"/>
            <a:ext cx="360360" cy="11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11"/>
          <p:cNvSpPr/>
          <p:nvPr/>
        </p:nvSpPr>
        <p:spPr>
          <a:xfrm>
            <a:off x="183528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12"/>
          <p:cNvSpPr/>
          <p:nvPr/>
        </p:nvSpPr>
        <p:spPr>
          <a:xfrm>
            <a:off x="3227400" y="2136600"/>
            <a:ext cx="360360" cy="27370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3"/>
          <p:cNvSpPr/>
          <p:nvPr/>
        </p:nvSpPr>
        <p:spPr>
          <a:xfrm>
            <a:off x="4619520" y="2786040"/>
            <a:ext cx="360360" cy="20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4"/>
          <p:cNvSpPr/>
          <p:nvPr/>
        </p:nvSpPr>
        <p:spPr>
          <a:xfrm>
            <a:off x="601200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5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5" name="直接箭头连接符 7"/>
          <p:cNvCxnSpPr/>
          <p:nvPr/>
        </p:nvCxnSpPr>
        <p:spPr>
          <a:xfrm>
            <a:off x="1116000" y="4873320"/>
            <a:ext cx="6790320" cy="108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</p:cxnSp>
      <p:cxnSp>
        <p:nvCxnSpPr>
          <p:cNvPr id="636" name="直接箭头连接符 8"/>
          <p:cNvCxnSpPr/>
          <p:nvPr/>
        </p:nvCxnSpPr>
        <p:spPr>
          <a:xfrm flipV="1">
            <a:off x="1267920" y="1416960"/>
            <a:ext cx="1080" cy="360900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</p:cxnSp>
      <p:pic>
        <p:nvPicPr>
          <p:cNvPr id="637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638" name="TextBox 20"/>
          <p:cNvSpPr/>
          <p:nvPr/>
        </p:nvSpPr>
        <p:spPr>
          <a:xfrm>
            <a:off x="1993680" y="4946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21"/>
          <p:cNvSpPr/>
          <p:nvPr/>
        </p:nvSpPr>
        <p:spPr>
          <a:xfrm>
            <a:off x="325008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22"/>
          <p:cNvSpPr/>
          <p:nvPr/>
        </p:nvSpPr>
        <p:spPr>
          <a:xfrm>
            <a:off x="466596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23"/>
          <p:cNvSpPr/>
          <p:nvPr/>
        </p:nvSpPr>
        <p:spPr>
          <a:xfrm>
            <a:off x="608220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24"/>
          <p:cNvSpPr/>
          <p:nvPr/>
        </p:nvSpPr>
        <p:spPr>
          <a:xfrm>
            <a:off x="417240" y="2924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</a:rPr>
              <a:t>10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5"/>
          <p:cNvSpPr/>
          <p:nvPr/>
        </p:nvSpPr>
        <p:spPr>
          <a:xfrm>
            <a:off x="481680" y="37846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</a:rPr>
              <a:t>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6"/>
          <p:cNvSpPr/>
          <p:nvPr/>
        </p:nvSpPr>
        <p:spPr>
          <a:xfrm>
            <a:off x="417240" y="206532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</a:rPr>
              <a:t>1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31"/>
          <p:cNvSpPr/>
          <p:nvPr/>
        </p:nvSpPr>
        <p:spPr>
          <a:xfrm flipV="1">
            <a:off x="6492960" y="1488960"/>
            <a:ext cx="162000" cy="1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32"/>
          <p:cNvSpPr/>
          <p:nvPr/>
        </p:nvSpPr>
        <p:spPr>
          <a:xfrm flipV="1">
            <a:off x="6492960" y="1272600"/>
            <a:ext cx="16200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33"/>
          <p:cNvSpPr/>
          <p:nvPr/>
        </p:nvSpPr>
        <p:spPr>
          <a:xfrm>
            <a:off x="6778440" y="1201680"/>
            <a:ext cx="5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34"/>
          <p:cNvSpPr/>
          <p:nvPr/>
        </p:nvSpPr>
        <p:spPr>
          <a:xfrm>
            <a:off x="6777720" y="141768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6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CA18-239D-4E02-8184-C717C5017A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7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656" name="椭圆 12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矩形 13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10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659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14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663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矩形 21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667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669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8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8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8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199941">
                                      <p:cBhvr>
                                        <p:cTn id="188" dur="175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90" dur="15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75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52360" y="156960"/>
            <a:ext cx="6839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52480" y="1058400"/>
            <a:ext cx="74390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6834240" y="277920"/>
            <a:ext cx="11574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 rot="20470800">
            <a:off x="860400" y="1272960"/>
            <a:ext cx="2987640" cy="2484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75" name="Picture 3" descr=""/>
          <p:cNvPicPr/>
          <p:nvPr/>
        </p:nvPicPr>
        <p:blipFill>
          <a:blip r:embed="rId2"/>
          <a:stretch/>
        </p:blipFill>
        <p:spPr>
          <a:xfrm rot="2253600">
            <a:off x="5073480" y="1125000"/>
            <a:ext cx="3121200" cy="1997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76" name="Picture 4" descr=""/>
          <p:cNvPicPr/>
          <p:nvPr/>
        </p:nvPicPr>
        <p:blipFill>
          <a:blip r:embed="rId3"/>
          <a:stretch/>
        </p:blipFill>
        <p:spPr>
          <a:xfrm rot="19870800">
            <a:off x="3790440" y="2730600"/>
            <a:ext cx="312120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77" name="Picture 7" descr=""/>
          <p:cNvPicPr/>
          <p:nvPr/>
        </p:nvPicPr>
        <p:blipFill>
          <a:blip r:embed="rId4"/>
          <a:srcRect l="40465" t="12309" r="40465" b="47080"/>
          <a:stretch/>
        </p:blipFill>
        <p:spPr>
          <a:xfrm>
            <a:off x="250920" y="3289320"/>
            <a:ext cx="1822320" cy="25988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5" descr=""/>
          <p:cNvPicPr/>
          <p:nvPr/>
        </p:nvPicPr>
        <p:blipFill>
          <a:blip r:embed="rId5"/>
          <a:stretch/>
        </p:blipFill>
        <p:spPr>
          <a:xfrm>
            <a:off x="3772080" y="1224000"/>
            <a:ext cx="1800000" cy="1800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79" name="TextBox 4"/>
          <p:cNvSpPr/>
          <p:nvPr/>
        </p:nvSpPr>
        <p:spPr>
          <a:xfrm>
            <a:off x="7084440" y="5234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此页可插入各种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团队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144360" y="512604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09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0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2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15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2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0:23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23:59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