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0B5-478D-40EA-953C-7AB54E3D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34D-9DC4-4318-8A38-F813A20F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19E-1374-41C0-ADE6-0A2CF067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258-6D30-48E9-9575-AED7710A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901-A5AF-4E64-B8B5-3717FF8F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B3A-891A-435D-A170-AFC8A871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23C-E57E-48AA-9047-85BEC4DB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7BB-ED76-4D8A-AE7F-190670B3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73D-F92A-466F-A32B-AC0A5711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506-35E4-45DA-AA6B-9C805F55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41A-3920-41F1-BAB8-3F559FBF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7D9-C3CE-4A63-AC04-96CE4D85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74760-63F4-4F17-9ABA-D01C18A01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Golden Metal5.jpg"/>
          <p:cNvPicPr/>
          <p:nvPr/>
        </p:nvPicPr>
        <p:blipFill>
          <a:blip r:embed="rId2"/>
          <a:stretch/>
        </p:blipFill>
        <p:spPr>
          <a:xfrm>
            <a:off x="2773440" y="1816200"/>
            <a:ext cx="3651120" cy="1328760"/>
          </a:xfrm>
          <a:prstGeom prst="rect">
            <a:avLst/>
          </a:prstGeom>
          <a:ln w="0">
            <a:noFill/>
          </a:ln>
        </p:spPr>
      </p:pic>
      <p:pic>
        <p:nvPicPr>
          <p:cNvPr id="42" name="矩形 3" descr=""/>
          <p:cNvPicPr/>
          <p:nvPr/>
        </p:nvPicPr>
        <p:blipFill>
          <a:blip r:embed="rId3"/>
          <a:stretch/>
        </p:blipFill>
        <p:spPr>
          <a:xfrm>
            <a:off x="2378160" y="1646280"/>
            <a:ext cx="4479840" cy="1365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47815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1.png"/>
          <p:cNvPicPr/>
          <p:nvPr/>
        </p:nvPicPr>
        <p:blipFill>
          <a:blip r:embed="rId2"/>
          <a:stretch/>
        </p:blipFill>
        <p:spPr>
          <a:xfrm>
            <a:off x="719280" y="371520"/>
            <a:ext cx="77230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0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AD3-9FC8-4DA3-97CB-7F16407ED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1.png"/>
          <p:cNvPicPr/>
          <p:nvPr/>
        </p:nvPicPr>
        <p:blipFill>
          <a:blip r:embed="rId2"/>
          <a:stretch/>
        </p:blipFill>
        <p:spPr>
          <a:xfrm>
            <a:off x="719280" y="371520"/>
            <a:ext cx="77230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6:38:56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