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6A7-81F4-405F-9CDF-1C08476C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8F8-1F48-4716-8F54-DFF8D1B4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C1E9-78C1-43E5-8D5B-A975130D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AA1-0A74-4949-8393-DD9E9EF8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4754-8BD4-4790-BB0D-2F06517B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3679-AA78-40A3-B7DF-55ACEC10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48AB-26DF-47D2-8F4A-BE27414B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3017-D01C-471A-81BD-ABE97A47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3F6A-36CD-4504-A401-6F9ECCE0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0401-ED4E-471D-AEA5-41C266E9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6D59-1DB3-4846-932F-8089DC8B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FB9-246D-48ED-9B81-B41684A8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8AED-0EE0-4D98-9703-C1630425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1F55-C325-425F-8250-245A7B1A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0B59-94BD-45A9-9893-724DC4A6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AEB4-45C2-4024-B19E-FB588BCD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9928-E90F-4DEE-A89F-BA233D59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B7C-6098-4B1E-B7DF-C92C583C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2F8-FCCF-4CDD-B830-72C98C22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8C1-438A-412F-A141-C21F234E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746-F68A-4C4F-8DFE-2B39A51D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62FA-B4CB-44AA-AC3D-C29CFE4D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9E1-457C-45F2-AA5F-7F54A791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AC2-B38F-49AF-B514-F3C1DA08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E1B5-CE97-4F04-A91A-A2D58E594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4254-94FB-4A46-97AC-5DA8765D0B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2.gif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14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21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900000" y="333360"/>
            <a:ext cx="575964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i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搭石</a:t>
            </a:r>
            <a:r>
              <a:rPr b="1" i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PPT</a:t>
            </a:r>
            <a:r>
              <a:rPr b="1" i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0" lang="zh-CN" sz="5400" spc="-1" strike="noStrike">
                <a:solidFill>
                  <a:srgbClr val="009999"/>
                </a:solidFill>
                <a:latin typeface="Arial"/>
              </a:rPr>
              <a:t>刘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155160" y="6465960"/>
            <a:ext cx="29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0060608234209130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0" y="5516640"/>
            <a:ext cx="47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99"/>
                </a:solidFill>
                <a:latin typeface="Arial"/>
              </a:rPr>
              <a:t>人　影　绰　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2_17005000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-67320" y="2133720"/>
            <a:ext cx="13993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清　波　漾　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838120" y="2536920"/>
            <a:ext cx="13993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人　影　绰　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50920" y="14842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协调有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影绰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611280" y="220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石，构成了家乡的一道风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4B31476528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64000" y="5734080"/>
            <a:ext cx="2665440" cy="565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50920" y="14842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协调有序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影绰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0060608234209993"/>
          <p:cNvPicPr/>
          <p:nvPr/>
        </p:nvPicPr>
        <p:blipFill>
          <a:blip r:embed="rId1"/>
          <a:stretch/>
        </p:blipFill>
        <p:spPr>
          <a:xfrm>
            <a:off x="2325600" y="0"/>
            <a:ext cx="48135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068480" y="836640"/>
            <a:ext cx="8506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66"/>
                </a:solidFill>
                <a:latin typeface="Arial"/>
              </a:rPr>
              <a:t>清　波　漾　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20060608234209130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0" y="5516640"/>
            <a:ext cx="47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99"/>
                </a:solidFill>
                <a:latin typeface="Arial"/>
              </a:rPr>
              <a:t>人　影　绰　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2_17005000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-67320" y="2133720"/>
            <a:ext cx="13993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清　波　漾　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838120" y="2536920"/>
            <a:ext cx="13993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人　影　绰　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50920" y="14842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协调有序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影绰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50920" y="14842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协调有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影绰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611280" y="134136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气变凉，家乡的人们会根据水的深浅，从河的两岸找来一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平整方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石头，按照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二尺左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间隔，在小溪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横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摆上一排，让人们从上面踏过，这就是搭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95280" y="476280"/>
            <a:ext cx="8352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　　家乡有一句“紧走搭石慢过桥”的俗语。搭石，原本就是天然石块，踩上去难免会活动，走得快才容易保持平衡。人们走搭石不能抢路，也不能突然止步。如果前面的人突然停住，后边的人没处落脚，就会掉进水里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当上工、下工，一行人走搭石的时候，动作是那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协调有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！前面的抬起脚来，后面的紧跟上去，踏踏的声音，像轻快的音乐；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清波漾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人影绰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给人画一般的美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50920" y="14842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协调有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影绰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611280" y="220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石，构成了家乡的一道风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468360" y="90792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由读课文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划出有关句子，体会看不见的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反复读句子，想想具体从哪些字词体会到 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6300720" y="6093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7885080" y="580536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3"/>
          <p:cNvGrpSpPr/>
          <p:nvPr/>
        </p:nvGrpSpPr>
        <p:grpSpPr>
          <a:xfrm>
            <a:off x="5651640" y="6165720"/>
            <a:ext cx="215640" cy="287280"/>
            <a:chOff x="5651640" y="6165720"/>
            <a:chExt cx="215640" cy="287280"/>
          </a:xfrm>
        </p:grpSpPr>
        <p:sp>
          <p:nvSpPr>
            <p:cNvPr id="157" name="Rectangle 22"/>
            <p:cNvSpPr/>
            <p:nvPr/>
          </p:nvSpPr>
          <p:spPr>
            <a:xfrm>
              <a:off x="5651640" y="6165720"/>
              <a:ext cx="215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6"/>
            <p:cNvSpPr/>
            <p:nvPr/>
          </p:nvSpPr>
          <p:spPr>
            <a:xfrm>
              <a:off x="5651640" y="6165720"/>
              <a:ext cx="21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27"/>
          <p:cNvSpPr/>
          <p:nvPr/>
        </p:nvSpPr>
        <p:spPr>
          <a:xfrm rot="10678800">
            <a:off x="6300360" y="6091200"/>
            <a:ext cx="28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8"/>
          <p:cNvSpPr/>
          <p:nvPr/>
        </p:nvSpPr>
        <p:spPr>
          <a:xfrm>
            <a:off x="6300720" y="6093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9"/>
          <p:cNvSpPr/>
          <p:nvPr/>
        </p:nvSpPr>
        <p:spPr>
          <a:xfrm rot="10678800">
            <a:off x="6300360" y="6091200"/>
            <a:ext cx="28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2"/>
          <p:cNvGrpSpPr/>
          <p:nvPr/>
        </p:nvGrpSpPr>
        <p:grpSpPr>
          <a:xfrm>
            <a:off x="6296760" y="6086160"/>
            <a:ext cx="294840" cy="294120"/>
            <a:chOff x="6296760" y="6086160"/>
            <a:chExt cx="294840" cy="294120"/>
          </a:xfrm>
        </p:grpSpPr>
        <p:sp>
          <p:nvSpPr>
            <p:cNvPr id="163" name="Rectangle 30"/>
            <p:cNvSpPr/>
            <p:nvPr/>
          </p:nvSpPr>
          <p:spPr>
            <a:xfrm>
              <a:off x="6300720" y="6093000"/>
              <a:ext cx="216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1"/>
            <p:cNvSpPr/>
            <p:nvPr/>
          </p:nvSpPr>
          <p:spPr>
            <a:xfrm rot="10678800">
              <a:off x="6300360" y="6091200"/>
              <a:ext cx="28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对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35"/>
          <p:cNvGrpSpPr/>
          <p:nvPr/>
        </p:nvGrpSpPr>
        <p:grpSpPr>
          <a:xfrm>
            <a:off x="7020000" y="5948280"/>
            <a:ext cx="358560" cy="289080"/>
            <a:chOff x="7020000" y="5948280"/>
            <a:chExt cx="358560" cy="289080"/>
          </a:xfrm>
        </p:grpSpPr>
        <p:sp>
          <p:nvSpPr>
            <p:cNvPr id="166" name="Rectangle 25"/>
            <p:cNvSpPr/>
            <p:nvPr/>
          </p:nvSpPr>
          <p:spPr>
            <a:xfrm>
              <a:off x="7092720" y="5950080"/>
              <a:ext cx="215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4"/>
            <p:cNvSpPr/>
            <p:nvPr/>
          </p:nvSpPr>
          <p:spPr>
            <a:xfrm rot="10800000">
              <a:off x="7020000" y="5948280"/>
              <a:ext cx="358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755640" y="1557360"/>
            <a:ext cx="79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上了点年岁的人，无论怎样急着赶路，只要发现哪块搭石不平稳，一定会放下带的东西，找来合适的石头搭上，再在上边踏上几个来回，直到满意了才肯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755640" y="1557360"/>
            <a:ext cx="7920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了点年岁的人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无论怎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急着赶路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只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现哪块搭石不平稳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会放下带的东西，找来合适的石头搭上，再在上边踏上几个来回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直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满意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肯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755640" y="1557360"/>
            <a:ext cx="7920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了点年岁的人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无论怎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急着赶路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只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现哪块搭石不平稳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会放下带的东西，找来合适的石头搭上，再在上边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踏上几个来回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直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满意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肯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755640" y="333360"/>
            <a:ext cx="79200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了点年岁的人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无论怎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急着赶路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现哪块搭石不平稳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放下带的东西，找来合适的石头搭上，再在上边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踏上几个来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直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满意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肯离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老人踩到了不稳的搭石，他想（                                   ），当他找到合适的石头搭上，还要在上面踏上几个来回，他（                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755640" y="1557360"/>
            <a:ext cx="7920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了点年岁的人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无论怎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急着赶路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只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现哪块搭石不平稳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会放下带的东西，找来合适的石头搭上，再在上边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踏上几个来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直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满意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肯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684360" y="404640"/>
            <a:ext cx="7920000" cy="30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　　搭石，构成了家乡的一道风景。秋凉以后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人们早早地将搭石摆放好。如果别处都有搭石，唯独这一处没有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人们会谴责这里的人懒惰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了点年岁的人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无论怎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急着赶路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现哪块搭石不平稳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放下带的东西，找来合适的石头搭上，再在上边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踏上几个来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直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满意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肯离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611280" y="220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石，构成了家乡的一道风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684360" y="404640"/>
            <a:ext cx="7920000" cy="36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　　搭石，构成了家乡的一道风景。秋凉以后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人们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早早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地将搭石摆放好。如果别处都有搭石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唯独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处没有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人们会谴责这里的人懒惰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了点年岁的人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无论怎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急着赶路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现哪块搭石不平稳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放下带的东西，找来合适的石头搭上，再在上边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踏上几个来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直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满意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肯离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7956720" y="6165720"/>
            <a:ext cx="28728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21_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2556000" y="16286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539640" y="242100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如果有两个人面对面同时走到溪边，总会在第一块搭石前止步，招手示意，让对方先走，等对方过了河，俩人再说上几句家常话，才相背而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21_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2556000" y="16286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539640" y="242100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有两个人面对面同时走到溪边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总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第一块搭石前止步，招手示意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让对方先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等对方过了河，俩人再说上几句家常话，才相背而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21_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2556000" y="16286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39640" y="242100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有两个人面对面同时走到溪边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总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第一块搭石前止步，招手示意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让对方先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等对方过了河，俩人再说上几句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家常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才相背而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716436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539640" y="177336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假如遇上老人来走搭石，年轻人总要伏下身子背老人过去，人们把这看成理所当然的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539640" y="177336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假如遇上老人来走搭石，年轻人总要伏下身子背老人过去，人们把这看成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理所当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7308720" y="5589720"/>
            <a:ext cx="466920" cy="395280"/>
          </a:xfrm>
          <a:custGeom>
            <a:avLst/>
            <a:gdLst>
              <a:gd name="textAreaLeft" fmla="*/ 25560 w 466920"/>
              <a:gd name="textAreaRight" fmla="*/ 441360 w 4669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5511" h="21600">
                <a:moveTo>
                  <a:pt x="0" y="0"/>
                </a:moveTo>
                <a:lnTo>
                  <a:pt x="25511" y="0"/>
                </a:lnTo>
                <a:lnTo>
                  <a:pt x="25511" y="21600"/>
                </a:lnTo>
                <a:lnTo>
                  <a:pt x="0" y="21600"/>
                </a:lnTo>
                <a:close/>
              </a:path>
              <a:path fill="lightenLess" w="25511" h="21600">
                <a:moveTo>
                  <a:pt x="0" y="0"/>
                </a:moveTo>
                <a:lnTo>
                  <a:pt x="25511" y="0"/>
                </a:lnTo>
                <a:lnTo>
                  <a:pt x="24111" y="1400"/>
                </a:lnTo>
                <a:lnTo>
                  <a:pt x="1400" y="1400"/>
                </a:lnTo>
                <a:close/>
              </a:path>
              <a:path fill="darken" w="25511" h="21600">
                <a:moveTo>
                  <a:pt x="25511" y="0"/>
                </a:moveTo>
                <a:lnTo>
                  <a:pt x="25511" y="21600"/>
                </a:lnTo>
                <a:lnTo>
                  <a:pt x="24111" y="20200"/>
                </a:lnTo>
                <a:lnTo>
                  <a:pt x="24111" y="1400"/>
                </a:lnTo>
                <a:close/>
              </a:path>
              <a:path fill="darkenLess" w="25511" h="21600">
                <a:moveTo>
                  <a:pt x="25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1" y="20200"/>
                </a:lnTo>
                <a:close/>
              </a:path>
              <a:path fill="lighten" w="25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2268360" y="1844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11280" y="220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石，构成了家乡的一道风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2268360" y="1844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684360" y="2205000"/>
            <a:ext cx="7632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排排搭石，任人走，任人踏，它们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联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故乡的小路，也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联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乡亲们美好的情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natur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4B257572911[1]"/>
          <p:cNvPicPr/>
          <p:nvPr/>
        </p:nvPicPr>
        <p:blipFill>
          <a:blip r:embed="rId2"/>
          <a:stretch/>
        </p:blipFill>
        <p:spPr>
          <a:xfrm>
            <a:off x="1447920" y="4876920"/>
            <a:ext cx="6172200" cy="761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4B398627253"/>
          <p:cNvPicPr/>
          <p:nvPr/>
        </p:nvPicPr>
        <p:blipFill>
          <a:blip r:embed="rId3"/>
          <a:stretch/>
        </p:blipFill>
        <p:spPr>
          <a:xfrm>
            <a:off x="6934320" y="43434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4B398630205"/>
          <p:cNvPicPr/>
          <p:nvPr/>
        </p:nvPicPr>
        <p:blipFill>
          <a:blip r:embed="rId4"/>
          <a:stretch/>
        </p:blipFill>
        <p:spPr>
          <a:xfrm>
            <a:off x="684360" y="83664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4B398627253"/>
          <p:cNvPicPr/>
          <p:nvPr/>
        </p:nvPicPr>
        <p:blipFill>
          <a:blip r:embed="rId5"/>
          <a:stretch/>
        </p:blipFill>
        <p:spPr>
          <a:xfrm>
            <a:off x="1600200" y="51814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布置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练笔：写写自己发现的平凡事物中的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natur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0"/>
          <p:cNvSpPr/>
          <p:nvPr/>
        </p:nvSpPr>
        <p:spPr>
          <a:xfrm>
            <a:off x="5366160" y="981000"/>
            <a:ext cx="2724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没有心的沙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没有爱的荒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死神也望而却步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幸福之花处处开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啊只要人人都献出一点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界将变成美好的人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啊只要人人都献出一点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界将变成美好的人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啊只要人人都献出一点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界将变成美好的人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啊只要人人都献出一点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界将变成美好的人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4B398627253"/>
          <p:cNvPicPr/>
          <p:nvPr/>
        </p:nvPicPr>
        <p:blipFill>
          <a:blip r:embed="rId2"/>
          <a:stretch/>
        </p:blipFill>
        <p:spPr>
          <a:xfrm>
            <a:off x="6934320" y="43434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4B398630205"/>
          <p:cNvPicPr/>
          <p:nvPr/>
        </p:nvPicPr>
        <p:blipFill>
          <a:blip r:embed="rId3"/>
          <a:stretch/>
        </p:blipFill>
        <p:spPr>
          <a:xfrm>
            <a:off x="2195640" y="26028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4B398627253"/>
          <p:cNvPicPr/>
          <p:nvPr/>
        </p:nvPicPr>
        <p:blipFill>
          <a:blip r:embed="rId4"/>
          <a:stretch/>
        </p:blipFill>
        <p:spPr>
          <a:xfrm>
            <a:off x="1600200" y="51814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62728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的奉献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250920" y="982800"/>
            <a:ext cx="4392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心的呼唤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爱的奉献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人间的春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生命的源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没有心的沙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没有爱的荒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死神也望而却步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幸福之花处处开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啊只要人人都献出一点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界将变成美好的人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啊只要人人都献出一点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界将变成美好的人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8472600" y="333360"/>
            <a:ext cx="6714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1" descr="4B398630205"/>
          <p:cNvPicPr/>
          <p:nvPr/>
        </p:nvPicPr>
        <p:blipFill>
          <a:blip r:embed="rId5"/>
          <a:stretch/>
        </p:blipFill>
        <p:spPr>
          <a:xfrm>
            <a:off x="5435640" y="26028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4B398630205"/>
          <p:cNvPicPr/>
          <p:nvPr/>
        </p:nvPicPr>
        <p:blipFill>
          <a:blip r:embed="rId6"/>
          <a:stretch/>
        </p:blipFill>
        <p:spPr>
          <a:xfrm>
            <a:off x="3708360" y="234936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4B398630205"/>
          <p:cNvPicPr/>
          <p:nvPr/>
        </p:nvPicPr>
        <p:blipFill>
          <a:blip r:embed="rId7"/>
          <a:stretch/>
        </p:blipFill>
        <p:spPr>
          <a:xfrm>
            <a:off x="8028000" y="112536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4B398627253"/>
          <p:cNvPicPr/>
          <p:nvPr/>
        </p:nvPicPr>
        <p:blipFill>
          <a:blip r:embed="rId8"/>
          <a:stretch/>
        </p:blipFill>
        <p:spPr>
          <a:xfrm>
            <a:off x="7524720" y="249228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5" descr="4B398627253"/>
          <p:cNvPicPr/>
          <p:nvPr/>
        </p:nvPicPr>
        <p:blipFill>
          <a:blip r:embed="rId9"/>
          <a:stretch/>
        </p:blipFill>
        <p:spPr>
          <a:xfrm>
            <a:off x="1332000" y="292428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4B398627253"/>
          <p:cNvPicPr/>
          <p:nvPr/>
        </p:nvPicPr>
        <p:blipFill>
          <a:blip r:embed="rId10"/>
          <a:stretch/>
        </p:blipFill>
        <p:spPr>
          <a:xfrm>
            <a:off x="3851280" y="33577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" descr="4B398627253"/>
          <p:cNvPicPr/>
          <p:nvPr/>
        </p:nvPicPr>
        <p:blipFill>
          <a:blip r:embed="rId11"/>
          <a:stretch/>
        </p:blipFill>
        <p:spPr>
          <a:xfrm>
            <a:off x="2843280" y="1125360"/>
            <a:ext cx="639720" cy="640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8" descr="4B398627253"/>
          <p:cNvPicPr/>
          <p:nvPr/>
        </p:nvPicPr>
        <p:blipFill>
          <a:blip r:embed="rId12"/>
          <a:stretch/>
        </p:blipFill>
        <p:spPr>
          <a:xfrm>
            <a:off x="468360" y="60930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" descr="4B398627253"/>
          <p:cNvPicPr/>
          <p:nvPr/>
        </p:nvPicPr>
        <p:blipFill>
          <a:blip r:embed="rId13"/>
          <a:stretch/>
        </p:blipFill>
        <p:spPr>
          <a:xfrm>
            <a:off x="2987640" y="60930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0" descr="4B398627253"/>
          <p:cNvPicPr/>
          <p:nvPr/>
        </p:nvPicPr>
        <p:blipFill>
          <a:blip r:embed="rId14"/>
          <a:stretch/>
        </p:blipFill>
        <p:spPr>
          <a:xfrm>
            <a:off x="4859280" y="602136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1" descr="4B398627253"/>
          <p:cNvPicPr/>
          <p:nvPr/>
        </p:nvPicPr>
        <p:blipFill>
          <a:blip r:embed="rId15"/>
          <a:stretch/>
        </p:blipFill>
        <p:spPr>
          <a:xfrm>
            <a:off x="7020000" y="595008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2" descr="4B398630205"/>
          <p:cNvPicPr/>
          <p:nvPr/>
        </p:nvPicPr>
        <p:blipFill>
          <a:blip r:embed="rId16"/>
          <a:stretch/>
        </p:blipFill>
        <p:spPr>
          <a:xfrm>
            <a:off x="4356000" y="5229360"/>
            <a:ext cx="487440" cy="487080"/>
          </a:xfrm>
          <a:prstGeom prst="rect">
            <a:avLst/>
          </a:prstGeom>
          <a:ln w="0">
            <a:noFill/>
          </a:ln>
        </p:spPr>
      </p:pic>
      <p:pic>
        <p:nvPicPr>
          <p:cNvPr id="232" name="爱的奉献7.mp3" descr=""/>
          <p:cNvPicPr/>
          <p:nvPr/>
        </p:nvPicPr>
        <p:blipFill>
          <a:blip r:embed="rId17"/>
          <a:stretch/>
        </p:blipFill>
        <p:spPr>
          <a:xfrm>
            <a:off x="781200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23"/>
          <p:cNvSpPr/>
          <p:nvPr/>
        </p:nvSpPr>
        <p:spPr>
          <a:xfrm>
            <a:off x="1044720" y="645336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076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95280" y="112536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协调有序！前面的抬起脚来，后面的紧跟上去，踏踏的声音，像轻快的音乐；清波漾漾，人影绰绰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826920" y="6021360"/>
            <a:ext cx="2665440" cy="565200"/>
            <a:chOff x="826920" y="6021360"/>
            <a:chExt cx="2665440" cy="565200"/>
          </a:xfrm>
        </p:grpSpPr>
        <p:pic>
          <p:nvPicPr>
            <p:cNvPr id="95" name="Picture 7" descr="4B314765285"/>
            <p:cNvPicPr/>
            <p:nvPr/>
          </p:nvPicPr>
          <p:blipFill>
            <a:blip r:embed="rId2"/>
            <a:stretch/>
          </p:blipFill>
          <p:spPr>
            <a:xfrm>
              <a:off x="826920" y="6021360"/>
              <a:ext cx="26654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8"/>
            <p:cNvSpPr/>
            <p:nvPr/>
          </p:nvSpPr>
          <p:spPr>
            <a:xfrm>
              <a:off x="2050920" y="60926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cc00"/>
                  </a:solidFill>
                  <a:latin typeface="Arial"/>
                </a:rPr>
                <a:t>动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435640" y="5950080"/>
            <a:ext cx="2665440" cy="565200"/>
            <a:chOff x="5435640" y="5950080"/>
            <a:chExt cx="2665440" cy="565200"/>
          </a:xfrm>
        </p:grpSpPr>
        <p:pic>
          <p:nvPicPr>
            <p:cNvPr id="98" name="Picture 10" descr="4B314765285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435640" y="5950080"/>
              <a:ext cx="26654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1"/>
            <p:cNvSpPr/>
            <p:nvPr/>
          </p:nvSpPr>
          <p:spPr>
            <a:xfrm>
              <a:off x="7164360" y="602136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cc00"/>
                  </a:solidFill>
                  <a:latin typeface="Arial"/>
                </a:rPr>
                <a:t>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24000" y="184464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协调有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前面的抬起脚来，后面的紧跟上去，踏踏的声音，像轻快的音乐；清波漾漾，人影绰绰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95280" y="476280"/>
            <a:ext cx="8352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　　家乡有一句“紧走搭石慢过桥”的俗语。搭石，原本就是天然石块，踩上去难免会活动，走得快才容易保持平衡。人们走搭石不能抢路，也不能突然止步。如果前面的人突然停住，后边的人没处落脚，就会掉进水里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当上工、下工，一行人走搭石的时候，动作是那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协调有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！前面的抬起脚来，后面的紧跟上去，踏踏的声音，像轻快的音乐；清波漾漾，人影绰绰，给人画一般的美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50920" y="14842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协调有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影绰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20060608234209993"/>
          <p:cNvPicPr/>
          <p:nvPr/>
        </p:nvPicPr>
        <p:blipFill>
          <a:blip r:embed="rId1"/>
          <a:stretch/>
        </p:blipFill>
        <p:spPr>
          <a:xfrm>
            <a:off x="2325600" y="0"/>
            <a:ext cx="48135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068480" y="836640"/>
            <a:ext cx="8506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66"/>
                </a:solidFill>
                <a:latin typeface="Arial"/>
              </a:rPr>
              <a:t>清　波　漾　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1:20:17Z</dcterms:created>
  <dc:creator/>
  <dc:description/>
  <cp:keywords>幻灯片之家 http:/www.eeppt.com</cp:keywords>
  <dc:language>en-US</dc:language>
  <cp:lastModifiedBy/>
  <dcterms:modified xsi:type="dcterms:W3CDTF">2015-07-20T01:48:0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