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32D-9956-41E4-826A-8EBE62FA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0BD-C5B0-4DF7-B184-3FE2DB5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B04-F008-44C7-979E-2447BBD7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79E-FC29-42BE-A6EE-0372D4AD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1E2-8AEE-4D06-AD62-7B42069E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978-B722-4B74-83F3-AA2288A1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C7D-0416-4B88-9402-253609DE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406-5DAE-450F-89A6-B4BBD214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D01-DF63-46FE-9937-CBAAED3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236-4757-4B7D-A48E-8E0BB1D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16B-860B-452B-B7B5-5B4A307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84A-0CA2-4AAB-8EF7-C95412B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457B-1DB6-48B7-B816-C2D8D777EFC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07CE-92FE-4143-9B43-7803C83855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793800"/>
            <a:ext cx="918684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5883120" y="6591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1"/>
          <p:cNvSpPr/>
          <p:nvPr/>
        </p:nvSpPr>
        <p:spPr>
          <a:xfrm>
            <a:off x="798480" y="-96840"/>
            <a:ext cx="82375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11320" y="2249640"/>
            <a:ext cx="6838920" cy="3364920"/>
            <a:chOff x="1111320" y="2249640"/>
            <a:chExt cx="6838920" cy="3364920"/>
          </a:xfrm>
        </p:grpSpPr>
        <p:sp>
          <p:nvSpPr>
            <p:cNvPr id="50" name="Freeform 4"/>
            <p:cNvSpPr/>
            <p:nvPr/>
          </p:nvSpPr>
          <p:spPr>
            <a:xfrm>
              <a:off x="1236600" y="2398680"/>
              <a:ext cx="2011320" cy="30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173240" y="2692080"/>
              <a:ext cx="540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1660680" y="2887560"/>
              <a:ext cx="6192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2901960" y="2976480"/>
              <a:ext cx="155520" cy="11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2149560" y="3585960"/>
              <a:ext cx="25092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2355840" y="3687480"/>
              <a:ext cx="15732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2522520" y="3728880"/>
              <a:ext cx="604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2611440" y="3733560"/>
              <a:ext cx="1908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2320920" y="2390400"/>
              <a:ext cx="28584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2448000" y="2325600"/>
              <a:ext cx="231840" cy="9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2773440" y="2436480"/>
              <a:ext cx="36972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2770200" y="2306520"/>
              <a:ext cx="6984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2637000" y="2417400"/>
              <a:ext cx="102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2745000" y="2430360"/>
              <a:ext cx="8568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2698920" y="2373120"/>
              <a:ext cx="101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2656080" y="2322360"/>
              <a:ext cx="69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2836800" y="2327040"/>
              <a:ext cx="18108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1111320" y="2715840"/>
              <a:ext cx="396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2313000" y="3527280"/>
              <a:ext cx="255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2317680" y="3566880"/>
              <a:ext cx="255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2641680" y="377640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2838600" y="3008160"/>
              <a:ext cx="601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2679840" y="2682720"/>
              <a:ext cx="601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2782800" y="2398680"/>
              <a:ext cx="619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2882880" y="2570040"/>
              <a:ext cx="604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2908440" y="2249640"/>
              <a:ext cx="1104840" cy="54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3246480" y="2541240"/>
              <a:ext cx="619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1"/>
            <p:cNvSpPr/>
            <p:nvPr/>
          </p:nvSpPr>
          <p:spPr>
            <a:xfrm>
              <a:off x="3695760" y="2646000"/>
              <a:ext cx="20304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2"/>
            <p:cNvSpPr/>
            <p:nvPr/>
          </p:nvSpPr>
          <p:spPr>
            <a:xfrm>
              <a:off x="3855960" y="2387520"/>
              <a:ext cx="6192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>
              <a:off x="4283280" y="2336760"/>
              <a:ext cx="245880" cy="9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4"/>
            <p:cNvSpPr/>
            <p:nvPr/>
          </p:nvSpPr>
          <p:spPr>
            <a:xfrm>
              <a:off x="4437000" y="238896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5"/>
            <p:cNvSpPr/>
            <p:nvPr/>
          </p:nvSpPr>
          <p:spPr>
            <a:xfrm>
              <a:off x="3973680" y="2820960"/>
              <a:ext cx="172800" cy="20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6"/>
            <p:cNvSpPr/>
            <p:nvPr/>
          </p:nvSpPr>
          <p:spPr>
            <a:xfrm>
              <a:off x="3888000" y="2896920"/>
              <a:ext cx="10944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7"/>
            <p:cNvSpPr/>
            <p:nvPr/>
          </p:nvSpPr>
          <p:spPr>
            <a:xfrm>
              <a:off x="6564240" y="4711320"/>
              <a:ext cx="752760" cy="78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8"/>
            <p:cNvSpPr/>
            <p:nvPr/>
          </p:nvSpPr>
          <p:spPr>
            <a:xfrm>
              <a:off x="6797880" y="4297320"/>
              <a:ext cx="506160" cy="33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>
              <a:off x="6811920" y="4300200"/>
              <a:ext cx="493920" cy="33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>
              <a:off x="7177320" y="5522760"/>
              <a:ext cx="7128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>
              <a:off x="7392960" y="5379840"/>
              <a:ext cx="260280" cy="13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>
              <a:off x="7662960" y="5300280"/>
              <a:ext cx="1652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7750080" y="5235480"/>
              <a:ext cx="5904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>
              <a:off x="5015160" y="4464000"/>
              <a:ext cx="195120" cy="31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5"/>
            <p:cNvSpPr/>
            <p:nvPr/>
          </p:nvSpPr>
          <p:spPr>
            <a:xfrm>
              <a:off x="5859360" y="3968640"/>
              <a:ext cx="7812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6"/>
            <p:cNvSpPr/>
            <p:nvPr/>
          </p:nvSpPr>
          <p:spPr>
            <a:xfrm>
              <a:off x="6388200" y="4073400"/>
              <a:ext cx="176040" cy="29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6238800" y="3982680"/>
              <a:ext cx="1144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6316560" y="4157280"/>
              <a:ext cx="6372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6388200" y="4375080"/>
              <a:ext cx="103320" cy="8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6553440" y="4224240"/>
              <a:ext cx="131760" cy="18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6508800" y="3560400"/>
              <a:ext cx="34920" cy="11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6531120" y="3749400"/>
              <a:ext cx="96840" cy="18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6599160" y="3997080"/>
              <a:ext cx="101880" cy="12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4"/>
            <p:cNvSpPr/>
            <p:nvPr/>
          </p:nvSpPr>
          <p:spPr>
            <a:xfrm>
              <a:off x="6720120" y="4221000"/>
              <a:ext cx="4572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6694560" y="4350960"/>
              <a:ext cx="284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6"/>
            <p:cNvSpPr/>
            <p:nvPr/>
          </p:nvSpPr>
          <p:spPr>
            <a:xfrm>
              <a:off x="6737400" y="4335120"/>
              <a:ext cx="71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7"/>
            <p:cNvSpPr/>
            <p:nvPr/>
          </p:nvSpPr>
          <p:spPr>
            <a:xfrm>
              <a:off x="6846840" y="4446360"/>
              <a:ext cx="38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8"/>
            <p:cNvSpPr/>
            <p:nvPr/>
          </p:nvSpPr>
          <p:spPr>
            <a:xfrm>
              <a:off x="7270920" y="4379760"/>
              <a:ext cx="73080" cy="7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9"/>
            <p:cNvSpPr/>
            <p:nvPr/>
          </p:nvSpPr>
          <p:spPr>
            <a:xfrm>
              <a:off x="6640560" y="4473360"/>
              <a:ext cx="730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0"/>
            <p:cNvSpPr/>
            <p:nvPr/>
          </p:nvSpPr>
          <p:spPr>
            <a:xfrm>
              <a:off x="6562800" y="4503600"/>
              <a:ext cx="507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1"/>
            <p:cNvSpPr/>
            <p:nvPr/>
          </p:nvSpPr>
          <p:spPr>
            <a:xfrm>
              <a:off x="6529320" y="4457520"/>
              <a:ext cx="38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2"/>
            <p:cNvSpPr/>
            <p:nvPr/>
          </p:nvSpPr>
          <p:spPr>
            <a:xfrm>
              <a:off x="6583320" y="4474800"/>
              <a:ext cx="540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3"/>
            <p:cNvSpPr/>
            <p:nvPr/>
          </p:nvSpPr>
          <p:spPr>
            <a:xfrm>
              <a:off x="6505560" y="3947760"/>
              <a:ext cx="42840" cy="8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4"/>
            <p:cNvSpPr/>
            <p:nvPr/>
          </p:nvSpPr>
          <p:spPr>
            <a:xfrm>
              <a:off x="6586560" y="3933720"/>
              <a:ext cx="30240" cy="8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5"/>
            <p:cNvSpPr/>
            <p:nvPr/>
          </p:nvSpPr>
          <p:spPr>
            <a:xfrm>
              <a:off x="6621480" y="3906720"/>
              <a:ext cx="1584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6"/>
            <p:cNvSpPr/>
            <p:nvPr/>
          </p:nvSpPr>
          <p:spPr>
            <a:xfrm>
              <a:off x="6637320" y="3925800"/>
              <a:ext cx="3348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7"/>
            <p:cNvSpPr/>
            <p:nvPr/>
          </p:nvSpPr>
          <p:spPr>
            <a:xfrm>
              <a:off x="6210360" y="4035240"/>
              <a:ext cx="190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8"/>
            <p:cNvSpPr/>
            <p:nvPr/>
          </p:nvSpPr>
          <p:spPr>
            <a:xfrm>
              <a:off x="6194520" y="39988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9"/>
            <p:cNvSpPr/>
            <p:nvPr/>
          </p:nvSpPr>
          <p:spPr>
            <a:xfrm>
              <a:off x="6188040" y="397008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0"/>
            <p:cNvSpPr/>
            <p:nvPr/>
          </p:nvSpPr>
          <p:spPr>
            <a:xfrm>
              <a:off x="6168960" y="3906720"/>
              <a:ext cx="176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1"/>
            <p:cNvSpPr/>
            <p:nvPr/>
          </p:nvSpPr>
          <p:spPr>
            <a:xfrm>
              <a:off x="6172200" y="3946320"/>
              <a:ext cx="255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2"/>
            <p:cNvSpPr/>
            <p:nvPr/>
          </p:nvSpPr>
          <p:spPr>
            <a:xfrm>
              <a:off x="7499520" y="4935240"/>
              <a:ext cx="712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3"/>
            <p:cNvSpPr/>
            <p:nvPr/>
          </p:nvSpPr>
          <p:spPr>
            <a:xfrm>
              <a:off x="7866000" y="4857480"/>
              <a:ext cx="8424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4"/>
            <p:cNvSpPr/>
            <p:nvPr/>
          </p:nvSpPr>
          <p:spPr>
            <a:xfrm>
              <a:off x="7612200" y="4817880"/>
              <a:ext cx="270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5"/>
            <p:cNvSpPr/>
            <p:nvPr/>
          </p:nvSpPr>
          <p:spPr>
            <a:xfrm>
              <a:off x="7599600" y="4782960"/>
              <a:ext cx="316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6"/>
            <p:cNvSpPr/>
            <p:nvPr/>
          </p:nvSpPr>
          <p:spPr>
            <a:xfrm>
              <a:off x="7356600" y="4474800"/>
              <a:ext cx="38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7"/>
            <p:cNvSpPr/>
            <p:nvPr/>
          </p:nvSpPr>
          <p:spPr>
            <a:xfrm>
              <a:off x="7410600" y="4543200"/>
              <a:ext cx="4104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8"/>
            <p:cNvSpPr/>
            <p:nvPr/>
          </p:nvSpPr>
          <p:spPr>
            <a:xfrm>
              <a:off x="7453440" y="4643280"/>
              <a:ext cx="442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9"/>
            <p:cNvSpPr/>
            <p:nvPr/>
          </p:nvSpPr>
          <p:spPr>
            <a:xfrm>
              <a:off x="7507440" y="4627440"/>
              <a:ext cx="442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0"/>
            <p:cNvSpPr/>
            <p:nvPr/>
          </p:nvSpPr>
          <p:spPr>
            <a:xfrm>
              <a:off x="7491600" y="4570200"/>
              <a:ext cx="410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1"/>
            <p:cNvSpPr/>
            <p:nvPr/>
          </p:nvSpPr>
          <p:spPr>
            <a:xfrm>
              <a:off x="7450200" y="4530600"/>
              <a:ext cx="41400" cy="5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2"/>
            <p:cNvSpPr/>
            <p:nvPr/>
          </p:nvSpPr>
          <p:spPr>
            <a:xfrm>
              <a:off x="7399440" y="450504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3"/>
            <p:cNvSpPr/>
            <p:nvPr/>
          </p:nvSpPr>
          <p:spPr>
            <a:xfrm>
              <a:off x="7462800" y="458928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4"/>
            <p:cNvSpPr/>
            <p:nvPr/>
          </p:nvSpPr>
          <p:spPr>
            <a:xfrm>
              <a:off x="4907160" y="2408040"/>
              <a:ext cx="2235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5"/>
            <p:cNvSpPr/>
            <p:nvPr/>
          </p:nvSpPr>
          <p:spPr>
            <a:xfrm>
              <a:off x="5040360" y="2573280"/>
              <a:ext cx="63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6"/>
            <p:cNvSpPr/>
            <p:nvPr/>
          </p:nvSpPr>
          <p:spPr>
            <a:xfrm>
              <a:off x="5365800" y="2325600"/>
              <a:ext cx="66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7"/>
            <p:cNvSpPr/>
            <p:nvPr/>
          </p:nvSpPr>
          <p:spPr>
            <a:xfrm>
              <a:off x="5413320" y="2346120"/>
              <a:ext cx="795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8"/>
            <p:cNvSpPr/>
            <p:nvPr/>
          </p:nvSpPr>
          <p:spPr>
            <a:xfrm>
              <a:off x="5499000" y="2350800"/>
              <a:ext cx="795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9"/>
            <p:cNvSpPr/>
            <p:nvPr/>
          </p:nvSpPr>
          <p:spPr>
            <a:xfrm>
              <a:off x="6053040" y="2393640"/>
              <a:ext cx="14004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0"/>
            <p:cNvSpPr/>
            <p:nvPr/>
          </p:nvSpPr>
          <p:spPr>
            <a:xfrm>
              <a:off x="6195960" y="2392200"/>
              <a:ext cx="730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1"/>
            <p:cNvSpPr/>
            <p:nvPr/>
          </p:nvSpPr>
          <p:spPr>
            <a:xfrm>
              <a:off x="6162840" y="2438280"/>
              <a:ext cx="586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2"/>
            <p:cNvSpPr/>
            <p:nvPr/>
          </p:nvSpPr>
          <p:spPr>
            <a:xfrm>
              <a:off x="6562800" y="2793960"/>
              <a:ext cx="120600" cy="18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3"/>
            <p:cNvSpPr/>
            <p:nvPr/>
          </p:nvSpPr>
          <p:spPr>
            <a:xfrm>
              <a:off x="6659640" y="2981160"/>
              <a:ext cx="87480" cy="12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4"/>
            <p:cNvSpPr/>
            <p:nvPr/>
          </p:nvSpPr>
          <p:spPr>
            <a:xfrm>
              <a:off x="6602400" y="3108240"/>
              <a:ext cx="17316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5"/>
            <p:cNvSpPr/>
            <p:nvPr/>
          </p:nvSpPr>
          <p:spPr>
            <a:xfrm>
              <a:off x="4918320" y="2307960"/>
              <a:ext cx="824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6"/>
            <p:cNvSpPr/>
            <p:nvPr/>
          </p:nvSpPr>
          <p:spPr>
            <a:xfrm>
              <a:off x="4748400" y="2322360"/>
              <a:ext cx="2988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7"/>
            <p:cNvSpPr/>
            <p:nvPr/>
          </p:nvSpPr>
          <p:spPr>
            <a:xfrm>
              <a:off x="4786560" y="2320560"/>
              <a:ext cx="586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8"/>
            <p:cNvSpPr/>
            <p:nvPr/>
          </p:nvSpPr>
          <p:spPr>
            <a:xfrm>
              <a:off x="4883400" y="2306520"/>
              <a:ext cx="3168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9"/>
            <p:cNvSpPr/>
            <p:nvPr/>
          </p:nvSpPr>
          <p:spPr>
            <a:xfrm>
              <a:off x="4854600" y="2334960"/>
              <a:ext cx="237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0"/>
            <p:cNvSpPr/>
            <p:nvPr/>
          </p:nvSpPr>
          <p:spPr>
            <a:xfrm>
              <a:off x="6664320" y="2360520"/>
              <a:ext cx="288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1"/>
            <p:cNvSpPr/>
            <p:nvPr/>
          </p:nvSpPr>
          <p:spPr>
            <a:xfrm>
              <a:off x="5261040" y="4665600"/>
              <a:ext cx="493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2"/>
            <p:cNvSpPr/>
            <p:nvPr/>
          </p:nvSpPr>
          <p:spPr>
            <a:xfrm>
              <a:off x="5324400" y="4654440"/>
              <a:ext cx="162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3"/>
            <p:cNvSpPr/>
            <p:nvPr/>
          </p:nvSpPr>
          <p:spPr>
            <a:xfrm>
              <a:off x="5218200" y="4410000"/>
              <a:ext cx="14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4"/>
            <p:cNvSpPr/>
            <p:nvPr/>
          </p:nvSpPr>
          <p:spPr>
            <a:xfrm>
              <a:off x="5313600" y="4294080"/>
              <a:ext cx="1728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5"/>
            <p:cNvSpPr/>
            <p:nvPr/>
          </p:nvSpPr>
          <p:spPr>
            <a:xfrm>
              <a:off x="5275440" y="4292280"/>
              <a:ext cx="1728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6"/>
            <p:cNvSpPr/>
            <p:nvPr/>
          </p:nvSpPr>
          <p:spPr>
            <a:xfrm>
              <a:off x="5257800" y="432720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7"/>
            <p:cNvSpPr/>
            <p:nvPr/>
          </p:nvSpPr>
          <p:spPr>
            <a:xfrm>
              <a:off x="5218200" y="4381200"/>
              <a:ext cx="14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8"/>
            <p:cNvSpPr/>
            <p:nvPr/>
          </p:nvSpPr>
          <p:spPr>
            <a:xfrm>
              <a:off x="5248440" y="4360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9"/>
            <p:cNvSpPr/>
            <p:nvPr/>
          </p:nvSpPr>
          <p:spPr>
            <a:xfrm>
              <a:off x="4084560" y="2792160"/>
              <a:ext cx="162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0"/>
            <p:cNvSpPr/>
            <p:nvPr/>
          </p:nvSpPr>
          <p:spPr>
            <a:xfrm>
              <a:off x="3987720" y="2738160"/>
              <a:ext cx="162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1"/>
            <p:cNvSpPr/>
            <p:nvPr/>
          </p:nvSpPr>
          <p:spPr>
            <a:xfrm>
              <a:off x="3610080" y="2393640"/>
              <a:ext cx="3270240" cy="260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Oval 112"/>
          <p:cNvSpPr/>
          <p:nvPr/>
        </p:nvSpPr>
        <p:spPr>
          <a:xfrm>
            <a:off x="1949400" y="2643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4444920" y="3944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6435720" y="3097080"/>
            <a:ext cx="260280" cy="2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4867200" y="2722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2556000" y="4906800"/>
            <a:ext cx="260280" cy="2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9"/>
          <p:cNvSpPr/>
          <p:nvPr/>
        </p:nvSpPr>
        <p:spPr>
          <a:xfrm>
            <a:off x="5315040" y="1833480"/>
            <a:ext cx="3146400" cy="4334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25960" y="6311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1480" y="3063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7DE-B5CD-4DA9-8C04-7B8B7FC035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4:08Z</dcterms:modified>
  <cp:revision>6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