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774-3789-4C7F-9B10-6DDBA21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B3E-0CA8-45F7-9565-79EE0394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F64-E7F8-4591-83A9-7B9F17DB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F36-ED03-48B9-91E9-A250DFE3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691-4632-4CD7-833A-D43C8B6E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0DE-5915-46DC-B92E-1AB9879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AA6-7C0D-499F-B141-F56EB290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15C-FD2F-4981-9514-63193EE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931-0D45-45CE-9535-973672E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31B-8DE2-4C95-91C8-04951F17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257-58CC-44D9-A5D1-12F4A3A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3AE-5853-4150-9017-0D281F3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1B7-5DE9-48C5-815E-B236AF0FE6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77A-E9D9-4A56-84C8-1A2F6BC395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4600">
            <a:off x="-3306240" y="3027240"/>
            <a:ext cx="156603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 rot="1764600">
            <a:off x="-10800" y="-2552760"/>
            <a:ext cx="15660720" cy="6789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44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8d8d8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44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27960" y="3370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06640" y="1717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040" y="2624040"/>
            <a:ext cx="1158840" cy="2097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9000" y="2624040"/>
            <a:ext cx="1157400" cy="1605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840" y="2624040"/>
            <a:ext cx="1157400" cy="282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6000" y="2624040"/>
            <a:ext cx="1157400" cy="209736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7160" y="2624040"/>
            <a:ext cx="1157400" cy="39481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040" y="2624040"/>
            <a:ext cx="5887800" cy="46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440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59820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d8d8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20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880" y="2584440"/>
            <a:ext cx="20160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404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6"/>
          <a:stretch/>
        </p:blipFill>
        <p:spPr>
          <a:xfrm>
            <a:off x="8791560" y="521028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7"/>
          <a:stretch/>
        </p:blipFill>
        <p:spPr>
          <a:xfrm>
            <a:off x="7883640" y="5210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A40-F140-412A-A0F3-C14C3AB71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"/>
          <p:cNvSpPr/>
          <p:nvPr/>
        </p:nvSpPr>
        <p:spPr>
          <a:xfrm>
            <a:off x="276228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281304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6"/>
          <p:cNvSpPr/>
          <p:nvPr/>
        </p:nvSpPr>
        <p:spPr>
          <a:xfrm>
            <a:off x="5229360" y="2266920"/>
            <a:ext cx="171108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5280120" y="4286160"/>
            <a:ext cx="160956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5280120" y="5043600"/>
            <a:ext cx="160956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9"/>
          <p:cNvSpPr/>
          <p:nvPr/>
        </p:nvSpPr>
        <p:spPr>
          <a:xfrm>
            <a:off x="768672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773748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等腰三角形 16"/>
          <p:cNvSpPr/>
          <p:nvPr/>
        </p:nvSpPr>
        <p:spPr>
          <a:xfrm flipV="1">
            <a:off x="59580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2470320" y="3279600"/>
            <a:ext cx="204768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5072040" y="3279600"/>
            <a:ext cx="20480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8"/>
          <p:cNvSpPr/>
          <p:nvPr/>
        </p:nvSpPr>
        <p:spPr>
          <a:xfrm>
            <a:off x="7707240" y="3279600"/>
            <a:ext cx="20462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4"/>
          <a:stretch/>
        </p:blipFill>
        <p:spPr>
          <a:xfrm>
            <a:off x="2597040" y="432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6"/>
          <a:stretch/>
        </p:blipFill>
        <p:spPr>
          <a:xfrm>
            <a:off x="5251320" y="3368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7"/>
          <a:stretch/>
        </p:blipFill>
        <p:spPr>
          <a:xfrm>
            <a:off x="5251320" y="4324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8"/>
          <a:stretch/>
        </p:blipFill>
        <p:spPr>
          <a:xfrm>
            <a:off x="525132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9"/>
          <a:stretch/>
        </p:blipFill>
        <p:spPr>
          <a:xfrm>
            <a:off x="5251320" y="4788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11"/>
          <a:stretch/>
        </p:blipFill>
        <p:spPr>
          <a:xfrm>
            <a:off x="7880400" y="4803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7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8:59:4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