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Malgun Gothic"/>
                <a:ea typeface="Malgun Gothic"/>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ea typeface="Malgun Gothic"/>
              </a:rPr>
              <a:t>&lt;date/time&gt;</a:t>
            </a:r>
            <a:endParaRPr b="0" lang="en-US" sz="1200" spc="-1" strike="noStrike">
              <a:solidFill>
                <a:srgbClr val="000000"/>
              </a:solidFill>
              <a:latin typeface="Times New Roman"/>
            </a:endParaRPr>
          </a:p>
        </p:txBody>
      </p:sp>
      <p:sp>
        <p:nvSpPr>
          <p:cNvPr id="18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move the slide</a:t>
            </a:r>
            <a:endParaRPr b="0" lang="en-US" sz="4400" spc="-1" strike="noStrike">
              <a:solidFill>
                <a:srgbClr val="000000"/>
              </a:solidFill>
              <a:latin typeface="Malgun Gothic"/>
            </a:endParaRPr>
          </a:p>
        </p:txBody>
      </p:sp>
      <p:sp>
        <p:nvSpPr>
          <p:cNvPr id="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Click to edit the notes format</a:t>
            </a:r>
            <a:endParaRPr b="0" lang="en-US" sz="1200" spc="-1" strike="noStrike">
              <a:solidFill>
                <a:srgbClr val="000000"/>
              </a:solidFill>
              <a:latin typeface="Malgun Gothic"/>
            </a:endParaRPr>
          </a:p>
        </p:txBody>
      </p:sp>
      <p:sp>
        <p:nvSpPr>
          <p:cNvPr id="18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Malgun Gothic"/>
                <a:ea typeface="Malgun Gothic"/>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5552-CE8C-4626-987C-55207034F2FB}"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79AB-3753-4719-AB9C-47032F0E24D0}"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85"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715C-4BCA-450E-B2B7-BC776BC3AB58}"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8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E0B3-9460-4D45-86CB-6D60A7B6B453}"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91"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1596-7AA4-481F-AE75-F579D9896854}"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9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DA1E-12E1-4B3E-B415-9D34969C0A1B}"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97"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F373-23E4-402E-95E4-A760379B1AA8}"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0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3599-495F-4466-BC90-6928489F5910}"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03"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E6EE-9A82-4758-8EC8-9F4D08128AE3}"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0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0E09-22FA-475F-9072-E896B95181CE}"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0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8193-71FC-4786-BE86-F38DD395DEFF}"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1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606D-4238-4979-A56C-B13CD1A532A6}"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15"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F1F8-0980-4BEB-B3DE-C72CD0F4DFDB}"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1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61EB-3235-48C6-B2F0-74F9B43BA90C}"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21"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0F44-AFEF-40E9-B77A-8A4B856F7A34}"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2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A795-BBE8-4BA0-AA9C-21D261DAC251}"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27"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A82A-12E6-4B75-BB60-5AC303EFC89F}"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3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B4BE-E524-40EE-BF28-F2289258D0E8}"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33"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499C-E758-4694-9441-00EA6FF75C25}"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53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61CB-8115-4A0C-B001-BE96DA9FC0D6}"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61"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E000-D0CB-41CC-AF43-43F4FFA47C10}"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6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D8C6-F34F-4638-AD67-9E35F8DBF337}"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67"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8BCC-9481-4FF8-8CF0-A2D2DAE43D8E}"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7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5C14-0CAF-47DD-BA8C-8AE44EF08993}"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73"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1CBD-4AF2-4B90-A806-C3EBB36844B0}"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7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F41D-CB46-458A-8FF0-6E3E7056B496}"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Images </a:t>
            </a:r>
            <a:r>
              <a:rPr b="0" lang="ko-KR" sz="1200" spc="-1" strike="noStrike">
                <a:solidFill>
                  <a:srgbClr val="000000"/>
                </a:solidFill>
                <a:latin typeface="Malgun Gothic"/>
              </a:rPr>
              <a:t>변경방법</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이미지를 선택</a:t>
            </a:r>
            <a:r>
              <a:rPr b="0" lang="en-US" sz="1200" spc="-1" strike="noStrike">
                <a:solidFill>
                  <a:srgbClr val="000000"/>
                </a:solidFill>
                <a:latin typeface="Malgun Gothic"/>
              </a:rPr>
              <a:t>(</a:t>
            </a:r>
            <a:r>
              <a:rPr b="0" lang="ko-KR" sz="1200" spc="-1" strike="noStrike">
                <a:solidFill>
                  <a:srgbClr val="000000"/>
                </a:solidFill>
                <a:latin typeface="Malgun Gothic"/>
              </a:rPr>
              <a:t>더블클릭</a:t>
            </a:r>
            <a:r>
              <a:rPr b="0" lang="en-US" sz="1200" spc="-1" strike="noStrike">
                <a:solidFill>
                  <a:srgbClr val="000000"/>
                </a:solidFill>
                <a:latin typeface="Malgun Gothic"/>
              </a:rPr>
              <a:t>)</a:t>
            </a:r>
            <a:r>
              <a:rPr b="0" lang="ko-KR" sz="1200" spc="-1" strike="noStrike">
                <a:solidFill>
                  <a:srgbClr val="000000"/>
                </a:solidFill>
                <a:latin typeface="Malgun Gothic"/>
              </a:rPr>
              <a:t>합니다</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메뉴 </a:t>
            </a:r>
            <a:r>
              <a:rPr b="0" lang="en-US" sz="1200" spc="-1" strike="noStrike">
                <a:solidFill>
                  <a:srgbClr val="000000"/>
                </a:solidFill>
                <a:latin typeface="Malgun Gothic"/>
              </a:rPr>
              <a:t>[</a:t>
            </a:r>
            <a:r>
              <a:rPr b="0" lang="ko-KR" sz="1200" spc="-1" strike="noStrike">
                <a:solidFill>
                  <a:srgbClr val="000000"/>
                </a:solidFill>
                <a:latin typeface="Malgun Gothic"/>
              </a:rPr>
              <a:t>그림도구</a:t>
            </a:r>
            <a:r>
              <a:rPr b="0" lang="en-US" sz="1200" spc="-1" strike="noStrike">
                <a:solidFill>
                  <a:srgbClr val="000000"/>
                </a:solidFill>
                <a:latin typeface="Malgun Gothic"/>
              </a:rPr>
              <a:t>] – [</a:t>
            </a:r>
            <a:r>
              <a:rPr b="0" lang="ko-KR" sz="1200" spc="-1" strike="noStrike">
                <a:solidFill>
                  <a:srgbClr val="000000"/>
                </a:solidFill>
                <a:latin typeface="Malgun Gothic"/>
              </a:rPr>
              <a:t>서식</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lgun Gothic"/>
              </a:rPr>
              <a:t>[</a:t>
            </a:r>
            <a:r>
              <a:rPr b="0" lang="ko-KR" sz="1200" spc="-1" strike="noStrike">
                <a:solidFill>
                  <a:srgbClr val="000000"/>
                </a:solidFill>
                <a:latin typeface="Malgun Gothic"/>
              </a:rPr>
              <a:t>그림바꾸기</a:t>
            </a:r>
            <a:r>
              <a:rPr b="0" lang="en-US" sz="1200" spc="-1" strike="noStrike">
                <a:solidFill>
                  <a:srgbClr val="000000"/>
                </a:solidFill>
                <a:latin typeface="Malgun Gothic"/>
              </a:rPr>
              <a:t>]</a:t>
            </a:r>
            <a:r>
              <a:rPr b="0" lang="ko-KR" sz="1200" spc="-1" strike="noStrike">
                <a:solidFill>
                  <a:srgbClr val="000000"/>
                </a:solidFill>
                <a:latin typeface="Malgun Gothic"/>
              </a:rPr>
              <a:t>를  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a:p>
            <a:pPr marL="228600" indent="-228600">
              <a:buClr>
                <a:srgbClr val="000000"/>
              </a:buClr>
              <a:buFont typeface="Malgun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Malgun Gothic"/>
              </a:rPr>
              <a:t>원하시는 이미지를 선택 </a:t>
            </a:r>
            <a:r>
              <a:rPr b="0" lang="en-US" sz="1200" spc="-1" strike="noStrike">
                <a:solidFill>
                  <a:srgbClr val="000000"/>
                </a:solidFill>
                <a:latin typeface="Malgun Gothic"/>
              </a:rPr>
              <a:t>[</a:t>
            </a:r>
            <a:r>
              <a:rPr b="0" lang="ko-KR" sz="1200" spc="-1" strike="noStrike">
                <a:solidFill>
                  <a:srgbClr val="000000"/>
                </a:solidFill>
                <a:latin typeface="Malgun Gothic"/>
              </a:rPr>
              <a:t>열기</a:t>
            </a:r>
            <a:r>
              <a:rPr b="0" lang="en-US" sz="1200" spc="-1" strike="noStrike">
                <a:solidFill>
                  <a:srgbClr val="000000"/>
                </a:solidFill>
                <a:latin typeface="Malgun Gothic"/>
              </a:rPr>
              <a:t>] </a:t>
            </a:r>
            <a:r>
              <a:rPr b="0" lang="ko-KR" sz="1200" spc="-1" strike="noStrike">
                <a:solidFill>
                  <a:srgbClr val="000000"/>
                </a:solidFill>
                <a:latin typeface="Malgun Gothic"/>
              </a:rPr>
              <a:t>클릭합니다</a:t>
            </a:r>
            <a:r>
              <a:rPr b="0" lang="en-US" sz="1200" spc="-1" strike="noStrike">
                <a:solidFill>
                  <a:srgbClr val="000000"/>
                </a:solidFill>
                <a:latin typeface="Malgun Gothic"/>
              </a:rPr>
              <a:t>.</a:t>
            </a:r>
            <a:endParaRPr b="0" lang="en-US" sz="1200" spc="-1" strike="noStrike">
              <a:solidFill>
                <a:srgbClr val="000000"/>
              </a:solidFill>
              <a:latin typeface="Malgun Gothic"/>
            </a:endParaRPr>
          </a:p>
        </p:txBody>
      </p:sp>
      <p:sp>
        <p:nvSpPr>
          <p:cNvPr id="147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5B88-7925-4038-BAF9-61165501AB40}" type="slidenum">
              <a:rPr b="0" lang="ko-KR" sz="1200" spc="-1" strike="noStrike">
                <a:solidFill>
                  <a:srgbClr val="000000"/>
                </a:solidFill>
                <a:latin typeface="Malgun Gothic"/>
                <a:ea typeface="Malgun Gothic"/>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83F7-5A9B-411D-8DFB-BC2CA5621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B76B-F1F0-4C98-A151-B5397B92E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EA8BD-10C3-4FA0-8AC9-302CDC32E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EFBA9-EC77-468A-A8C4-A3C8A55A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764C6-5824-47DA-8C45-F74FE207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7E8FC-F9DE-455F-8616-89A5A8915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C1A2B-B62D-4A5A-8B18-AA693FE90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61027-A178-4B63-A39C-82D205CD6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80E5C-5575-4FD4-AC72-970577F5E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7F470-6871-4E06-896C-AE7BB4AA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3F219-5F0F-4B8F-BA8F-A6CC3560E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5C30C-61AB-4287-94A9-E40F72F14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DE6D9-3E4A-490F-81DA-E2231FAF0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ACAFF-C905-44FA-ACD8-936677222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C0FBA-59BC-4FE1-A539-B84477ECC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261A9-475C-428C-8CA6-802C0DCEA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AF50F-74CA-4ABF-AF21-5C2DDD93E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AEFEE-08D5-4A0C-9422-DFC7D873B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24BAE-CFFF-47D6-845C-67CA1A7308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EFB3C-D9E1-4EF1-9B59-9F2522232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D4031-B932-4C59-BAD5-F557776F5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4D4D-1E45-4DE7-9575-32AC30B01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74F77-642D-44E0-8BD6-7A2F778DE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5B513-7221-4A97-94F4-BACBE43ED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B94C7-F8D6-4522-98E3-666564AB1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EAC7F-27BE-46FD-9684-671F2EA99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7F2A2-D501-418F-8F55-DF6D4CD16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7B234-A612-4997-AE6B-87927BFEC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1FDCE-8036-43FB-80D7-DA6651EF2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B2422-7470-4893-9B26-4E068BDE31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739AC3-922B-45ED-A060-F30F4E0DBF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5B77-BB00-4888-8F35-DD6A596A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0297-C7E6-4240-B45F-EA9C4554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7391-0E78-4512-AFA4-FDEF6B85B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9C91-24B4-4A5E-90C0-6B0BB89C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385F-8FB1-48C1-B222-C1B2C8CF1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8" descr="sub.png"/>
          <p:cNvPicPr/>
          <p:nvPr/>
        </p:nvPicPr>
        <p:blipFill>
          <a:blip r:embed="rId2"/>
          <a:stretch/>
        </p:blipFill>
        <p:spPr>
          <a:xfrm>
            <a:off x="0" y="0"/>
            <a:ext cx="9144000" cy="6858000"/>
          </a:xfrm>
          <a:prstGeom prst="rect">
            <a:avLst/>
          </a:prstGeom>
          <a:ln w="0">
            <a:noFill/>
          </a:ln>
        </p:spPr>
      </p:pic>
      <p:sp>
        <p:nvSpPr>
          <p:cNvPr id="1" name="직사각형 6"/>
          <p:cNvSpPr/>
          <p:nvPr/>
        </p:nvSpPr>
        <p:spPr>
          <a:xfrm>
            <a:off x="0" y="6480000"/>
            <a:ext cx="9144000" cy="378000"/>
          </a:xfrm>
          <a:prstGeom prst="rect">
            <a:avLst/>
          </a:prstGeom>
          <a:solidFill>
            <a:srgbClr val="0053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Malgun Gothic"/>
                <a:ea typeface="Malgun Gothic"/>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52D3-B76F-4026-B97D-F97A01501A4C}" type="slidenum">
              <a:rPr b="0" lang="ko-KR" sz="1200" spc="-1" strike="noStrike">
                <a:solidFill>
                  <a:srgbClr val="898989"/>
                </a:solidFill>
                <a:latin typeface="Malgun Gothic"/>
                <a:ea typeface="Malgun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모서리가 둥근 직사각형 6"/>
          <p:cNvSpPr/>
          <p:nvPr/>
        </p:nvSpPr>
        <p:spPr>
          <a:xfrm>
            <a:off x="214200" y="428760"/>
            <a:ext cx="8715600" cy="6215040"/>
          </a:xfrm>
          <a:prstGeom prst="roundRect">
            <a:avLst>
              <a:gd name="adj" fmla="val 5829"/>
            </a:avLst>
          </a:prstGeom>
          <a:solidFill>
            <a:srgbClr val="79d2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 name="Group 3"/>
          <p:cNvGrpSpPr/>
          <p:nvPr/>
        </p:nvGrpSpPr>
        <p:grpSpPr>
          <a:xfrm>
            <a:off x="642960" y="158760"/>
            <a:ext cx="2357280" cy="581400"/>
            <a:chOff x="642960" y="158760"/>
            <a:chExt cx="2357280" cy="581400"/>
          </a:xfrm>
        </p:grpSpPr>
        <p:grpSp>
          <p:nvGrpSpPr>
            <p:cNvPr id="45" name="Group 4"/>
            <p:cNvGrpSpPr/>
            <p:nvPr/>
          </p:nvGrpSpPr>
          <p:grpSpPr>
            <a:xfrm>
              <a:off x="642960" y="214200"/>
              <a:ext cx="2357280" cy="519120"/>
              <a:chOff x="642960" y="214200"/>
              <a:chExt cx="2357280" cy="519120"/>
            </a:xfrm>
          </p:grpSpPr>
          <p:pic>
            <p:nvPicPr>
              <p:cNvPr id="46" name="AutoShape 68" descr=""/>
              <p:cNvPicPr/>
              <p:nvPr/>
            </p:nvPicPr>
            <p:blipFill>
              <a:blip r:embed="rId2"/>
              <a:stretch/>
            </p:blipFill>
            <p:spPr>
              <a:xfrm>
                <a:off x="642960" y="214200"/>
                <a:ext cx="2357280" cy="519120"/>
              </a:xfrm>
              <a:prstGeom prst="rect">
                <a:avLst/>
              </a:prstGeom>
              <a:ln w="0">
                <a:noFill/>
              </a:ln>
            </p:spPr>
          </p:pic>
          <p:sp>
            <p:nvSpPr>
              <p:cNvPr id="47" name="Text Box 6"/>
              <p:cNvSpPr/>
              <p:nvPr/>
            </p:nvSpPr>
            <p:spPr>
              <a:xfrm>
                <a:off x="738720" y="304200"/>
                <a:ext cx="2175840" cy="34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 name="AutoShape 66"/>
            <p:cNvSpPr/>
            <p:nvPr/>
          </p:nvSpPr>
          <p:spPr>
            <a:xfrm>
              <a:off x="798480" y="247320"/>
              <a:ext cx="2034360" cy="222120"/>
            </a:xfrm>
            <a:prstGeom prst="roundRect">
              <a:avLst>
                <a:gd name="adj" fmla="val 50000"/>
              </a:avLst>
            </a:prstGeom>
            <a:gradFill rotWithShape="0">
              <a:gsLst>
                <a:gs pos="0">
                  <a:srgbClr val="ffffff">
                    <a:alpha val="60000"/>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TextBox 11"/>
            <p:cNvSpPr/>
            <p:nvPr/>
          </p:nvSpPr>
          <p:spPr>
            <a:xfrm>
              <a:off x="890640" y="158760"/>
              <a:ext cx="18871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6000">
                  <a:solidFill>
                    <a:srgbClr val="ffffff"/>
                  </a:solidFill>
                  <a:latin typeface="HY견고딕"/>
                  <a:ea typeface="HY견고딕"/>
                </a:rPr>
                <a:t>PNG FILE</a:t>
              </a:r>
              <a:endParaRPr b="0" lang="en-US" sz="3200" spc="-1" strike="noStrike">
                <a:solidFill>
                  <a:srgbClr val="000000"/>
                </a:solidFill>
                <a:latin typeface="Gulim"/>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lgun Gothic"/>
              </a:rPr>
              <a:t>Second Outline Level</a:t>
            </a:r>
            <a:endParaRPr b="0" lang="en-US" sz="2800" spc="-1" strike="noStrike">
              <a:solidFill>
                <a:srgbClr val="000000"/>
              </a:solidFill>
              <a:latin typeface="Malgun Gothic"/>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lgun Gothic"/>
              </a:rPr>
              <a:t>Third Outline Level</a:t>
            </a:r>
            <a:endParaRPr b="0" lang="en-US" sz="2400" spc="-1" strike="noStrike">
              <a:solidFill>
                <a:srgbClr val="000000"/>
              </a:solidFill>
              <a:latin typeface="Malgun Gothic"/>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lgun Gothic"/>
              </a:rPr>
              <a:t>Fourth Outline Level</a:t>
            </a:r>
            <a:endParaRPr b="0" lang="en-US" sz="2000" spc="-1" strike="noStrike">
              <a:solidFill>
                <a:srgbClr val="000000"/>
              </a:solidFill>
              <a:latin typeface="Malgun Gothic"/>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lgun Gothic"/>
              </a:rPr>
              <a:t>Fifth Outline Level</a:t>
            </a:r>
            <a:endParaRPr b="0" lang="en-US" sz="2000" spc="-1" strike="noStrike">
              <a:solidFill>
                <a:srgbClr val="000000"/>
              </a:solidFill>
              <a:latin typeface="Malgun Gothic"/>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lgun Gothic"/>
              </a:rPr>
              <a:t>Sixth Outline Level</a:t>
            </a:r>
            <a:endParaRPr b="0" lang="en-US" sz="2000" spc="-1" strike="noStrike">
              <a:solidFill>
                <a:srgbClr val="000000"/>
              </a:solidFill>
              <a:latin typeface="Malgun Gothic"/>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lgun Gothic"/>
              </a:rPr>
              <a:t>Seventh Outline Level</a:t>
            </a:r>
            <a:endParaRPr b="0" lang="en-US" sz="2000" spc="-1" strike="noStrike">
              <a:solidFill>
                <a:srgbClr val="000000"/>
              </a:solidFill>
              <a:latin typeface="Malgun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그림 8" descr="sub.png"/>
          <p:cNvPicPr/>
          <p:nvPr/>
        </p:nvPicPr>
        <p:blipFill>
          <a:blip r:embed="rId2"/>
          <a:stretch/>
        </p:blipFill>
        <p:spPr>
          <a:xfrm>
            <a:off x="0" y="0"/>
            <a:ext cx="9144000" cy="6858000"/>
          </a:xfrm>
          <a:prstGeom prst="rect">
            <a:avLst/>
          </a:prstGeom>
          <a:ln w="0">
            <a:noFill/>
          </a:ln>
        </p:spPr>
      </p:pic>
      <p:sp>
        <p:nvSpPr>
          <p:cNvPr id="89" name="직사각형 6"/>
          <p:cNvSpPr/>
          <p:nvPr/>
        </p:nvSpPr>
        <p:spPr>
          <a:xfrm>
            <a:off x="0" y="6480000"/>
            <a:ext cx="9144000" cy="378000"/>
          </a:xfrm>
          <a:prstGeom prst="rect">
            <a:avLst/>
          </a:prstGeom>
          <a:solidFill>
            <a:srgbClr val="0053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 name="그림 9" descr="main-1.png"/>
          <p:cNvPicPr/>
          <p:nvPr/>
        </p:nvPicPr>
        <p:blipFill>
          <a:blip r:embed="rId3"/>
          <a:stretch/>
        </p:blipFill>
        <p:spPr>
          <a:xfrm>
            <a:off x="0" y="0"/>
            <a:ext cx="9144000" cy="6858000"/>
          </a:xfrm>
          <a:prstGeom prst="rect">
            <a:avLst/>
          </a:prstGeom>
          <a:ln w="0">
            <a:noFill/>
          </a:ln>
        </p:spPr>
      </p:pic>
      <p:pic>
        <p:nvPicPr>
          <p:cNvPr id="91" name="그림 10" descr="main-2.png"/>
          <p:cNvPicPr/>
          <p:nvPr/>
        </p:nvPicPr>
        <p:blipFill>
          <a:blip r:embed="rId4"/>
          <a:stretch/>
        </p:blipFill>
        <p:spPr>
          <a:xfrm>
            <a:off x="3693960" y="2428920"/>
            <a:ext cx="5450040" cy="3886200"/>
          </a:xfrm>
          <a:prstGeom prst="rect">
            <a:avLst/>
          </a:prstGeom>
          <a:ln w="0">
            <a:noFill/>
          </a:ln>
        </p:spPr>
      </p:pic>
      <p:pic>
        <p:nvPicPr>
          <p:cNvPr id="92" name="그림 11" descr="main-3.png"/>
          <p:cNvPicPr/>
          <p:nvPr/>
        </p:nvPicPr>
        <p:blipFill>
          <a:blip r:embed="rId5"/>
          <a:stretch/>
        </p:blipFill>
        <p:spPr>
          <a:xfrm>
            <a:off x="0" y="3438360"/>
            <a:ext cx="9144000" cy="3419640"/>
          </a:xfrm>
          <a:prstGeom prst="rect">
            <a:avLst/>
          </a:prstGeom>
          <a:ln w="0">
            <a:noFill/>
          </a:ln>
        </p:spPr>
      </p:pic>
      <p:pic>
        <p:nvPicPr>
          <p:cNvPr id="93" name="그림 12" descr="main-4.png"/>
          <p:cNvPicPr/>
          <p:nvPr/>
        </p:nvPicPr>
        <p:blipFill>
          <a:blip r:embed="rId6"/>
          <a:stretch/>
        </p:blipFill>
        <p:spPr>
          <a:xfrm>
            <a:off x="7227720" y="2714760"/>
            <a:ext cx="1911600" cy="4005000"/>
          </a:xfrm>
          <a:prstGeom prst="rect">
            <a:avLst/>
          </a:prstGeom>
          <a:ln w="0">
            <a:noFill/>
          </a:ln>
        </p:spPr>
      </p:pic>
      <p:pic>
        <p:nvPicPr>
          <p:cNvPr id="94" name="그림 13" descr="main-5.png"/>
          <p:cNvPicPr/>
          <p:nvPr/>
        </p:nvPicPr>
        <p:blipFill>
          <a:blip r:embed="rId7"/>
          <a:stretch/>
        </p:blipFill>
        <p:spPr>
          <a:xfrm>
            <a:off x="307800" y="4470480"/>
            <a:ext cx="2835360" cy="2458800"/>
          </a:xfrm>
          <a:prstGeom prst="rect">
            <a:avLst/>
          </a:prstGeom>
          <a:ln w="0">
            <a:noFill/>
          </a:ln>
        </p:spPr>
      </p:pic>
      <p:pic>
        <p:nvPicPr>
          <p:cNvPr id="95" name="그림 14" descr="main-6.png"/>
          <p:cNvPicPr/>
          <p:nvPr/>
        </p:nvPicPr>
        <p:blipFill>
          <a:blip r:embed="rId8"/>
          <a:stretch/>
        </p:blipFill>
        <p:spPr>
          <a:xfrm>
            <a:off x="5429160" y="3071880"/>
            <a:ext cx="4005360" cy="41781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9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Malgun Gothic"/>
                <a:ea typeface="Malgun Gothic"/>
              </a:rPr>
              <a:t>&lt;date/time&gt;</a:t>
            </a:r>
            <a:endParaRPr b="0" lang="en-US" sz="1200" spc="-1" strike="noStrike">
              <a:solidFill>
                <a:srgbClr val="000000"/>
              </a:solidFill>
              <a:latin typeface="Times New Roman"/>
            </a:endParaRPr>
          </a:p>
        </p:txBody>
      </p:sp>
      <p:sp>
        <p:nvSpPr>
          <p:cNvPr id="9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5A43-7A5F-46DF-A2D3-C3308AE9232C}" type="slidenum">
              <a:rPr b="0" lang="ko-KR" sz="1200" spc="-1" strike="noStrike">
                <a:solidFill>
                  <a:srgbClr val="898989"/>
                </a:solidFill>
                <a:latin typeface="Malgun Gothic"/>
                <a:ea typeface="Malgun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그림 8" descr="sub.png"/>
          <p:cNvPicPr/>
          <p:nvPr/>
        </p:nvPicPr>
        <p:blipFill>
          <a:blip r:embed="rId2"/>
          <a:stretch/>
        </p:blipFill>
        <p:spPr>
          <a:xfrm>
            <a:off x="0" y="0"/>
            <a:ext cx="9144000" cy="6858000"/>
          </a:xfrm>
          <a:prstGeom prst="rect">
            <a:avLst/>
          </a:prstGeom>
          <a:ln w="0">
            <a:noFill/>
          </a:ln>
        </p:spPr>
      </p:pic>
      <p:sp>
        <p:nvSpPr>
          <p:cNvPr id="138" name="직사각형 6"/>
          <p:cNvSpPr/>
          <p:nvPr/>
        </p:nvSpPr>
        <p:spPr>
          <a:xfrm>
            <a:off x="0" y="6480000"/>
            <a:ext cx="9144000" cy="378000"/>
          </a:xfrm>
          <a:prstGeom prst="rect">
            <a:avLst/>
          </a:prstGeom>
          <a:solidFill>
            <a:srgbClr val="0053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39" name="그림 9" descr="sub.png"/>
          <p:cNvPicPr/>
          <p:nvPr/>
        </p:nvPicPr>
        <p:blipFill>
          <a:blip r:embed="rId3"/>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Malgun Gothic"/>
                <a:ea typeface="Malgun Gothic"/>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38AA-323A-46B9-80DA-F18794C68068}" type="slidenum">
              <a:rPr b="0" lang="ko-KR" sz="1200" spc="-1" strike="noStrike">
                <a:solidFill>
                  <a:srgbClr val="898989"/>
                </a:solidFill>
                <a:latin typeface="Malgun Gothic"/>
                <a:ea typeface="Malgun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3.jpeg"/><Relationship Id="rId5" Type="http://schemas.openxmlformats.org/officeDocument/2006/relationships/image" Target="../media/image17.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2"/>
          <p:cNvSpPr/>
          <p:nvPr/>
        </p:nvSpPr>
        <p:spPr>
          <a:xfrm>
            <a:off x="1476360" y="1157400"/>
            <a:ext cx="70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Y견고딕"/>
                <a:ea typeface="HY견고딕"/>
              </a:rPr>
              <a:t>动物</a:t>
            </a:r>
            <a:r>
              <a:rPr b="0" lang="en-US" sz="4000" spc="-1" strike="noStrike">
                <a:solidFill>
                  <a:srgbClr val="000000"/>
                </a:solidFill>
                <a:latin typeface="HY견고딕"/>
                <a:ea typeface="HY견고딕"/>
              </a:rPr>
              <a:t>PPT</a:t>
            </a:r>
            <a:r>
              <a:rPr b="0" lang="zh-CN" sz="4000" spc="-1" strike="noStrike">
                <a:solidFill>
                  <a:srgbClr val="000000"/>
                </a:solidFill>
                <a:latin typeface="HY견고딕"/>
                <a:ea typeface="HY견고딕"/>
              </a:rPr>
              <a:t>模板完整版免费下载</a:t>
            </a:r>
            <a:endParaRPr b="0" lang="en-US" sz="4000" spc="-1" strike="noStrike">
              <a:solidFill>
                <a:srgbClr val="000000"/>
              </a:solidFill>
              <a:latin typeface="Gulim"/>
            </a:endParaRPr>
          </a:p>
        </p:txBody>
      </p:sp>
      <p:sp>
        <p:nvSpPr>
          <p:cNvPr id="189" name="TextBox 13"/>
          <p:cNvSpPr/>
          <p:nvPr/>
        </p:nvSpPr>
        <p:spPr>
          <a:xfrm>
            <a:off x="387360" y="1511280"/>
            <a:ext cx="184320" cy="27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직사각형 73"/>
          <p:cNvSpPr/>
          <p:nvPr/>
        </p:nvSpPr>
        <p:spPr>
          <a:xfrm>
            <a:off x="630360" y="1643040"/>
            <a:ext cx="7858080" cy="4357800"/>
          </a:xfrm>
          <a:prstGeom prst="rect">
            <a:avLst/>
          </a:prstGeom>
          <a:solidFill>
            <a:srgbClr val="8eb4e3">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49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49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497" name="Group 6"/>
          <p:cNvGrpSpPr/>
          <p:nvPr/>
        </p:nvGrpSpPr>
        <p:grpSpPr>
          <a:xfrm>
            <a:off x="1079640" y="2106720"/>
            <a:ext cx="6967440" cy="3430440"/>
            <a:chOff x="1079640" y="2106720"/>
            <a:chExt cx="6967440" cy="3430440"/>
          </a:xfrm>
        </p:grpSpPr>
        <p:grpSp>
          <p:nvGrpSpPr>
            <p:cNvPr id="498" name="Group 7"/>
            <p:cNvGrpSpPr/>
            <p:nvPr/>
          </p:nvGrpSpPr>
          <p:grpSpPr>
            <a:xfrm>
              <a:off x="6179760" y="4130280"/>
              <a:ext cx="1867320" cy="1406880"/>
              <a:chOff x="6179760" y="4130280"/>
              <a:chExt cx="1867320" cy="1406880"/>
            </a:xfrm>
          </p:grpSpPr>
          <p:sp>
            <p:nvSpPr>
              <p:cNvPr id="499" name="직사각형 183"/>
              <p:cNvSpPr/>
              <p:nvPr/>
            </p:nvSpPr>
            <p:spPr>
              <a:xfrm>
                <a:off x="6179760" y="4130280"/>
                <a:ext cx="1867320" cy="1406880"/>
              </a:xfrm>
              <a:prstGeom prst="rect">
                <a:avLst/>
              </a:prstGeom>
              <a:solidFill>
                <a:srgbClr val="f2f2f2">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직사각형 185"/>
              <p:cNvSpPr/>
              <p:nvPr/>
            </p:nvSpPr>
            <p:spPr>
              <a:xfrm>
                <a:off x="6266880" y="4219200"/>
                <a:ext cx="1692720" cy="12290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직사각형 193"/>
              <p:cNvSpPr/>
              <p:nvPr/>
            </p:nvSpPr>
            <p:spPr>
              <a:xfrm>
                <a:off x="6266880" y="4219200"/>
                <a:ext cx="1692720" cy="1443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직사각형 194"/>
              <p:cNvSpPr/>
              <p:nvPr/>
            </p:nvSpPr>
            <p:spPr>
              <a:xfrm>
                <a:off x="6266880" y="5299200"/>
                <a:ext cx="1692720" cy="1429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3" name="Group 12"/>
            <p:cNvGrpSpPr/>
            <p:nvPr/>
          </p:nvGrpSpPr>
          <p:grpSpPr>
            <a:xfrm>
              <a:off x="6441120" y="4415760"/>
              <a:ext cx="1346760" cy="772200"/>
              <a:chOff x="6441120" y="4415760"/>
              <a:chExt cx="1346760" cy="772200"/>
            </a:xfrm>
          </p:grpSpPr>
          <p:sp>
            <p:nvSpPr>
              <p:cNvPr id="504" name="TextBox 210"/>
              <p:cNvSpPr/>
              <p:nvPr/>
            </p:nvSpPr>
            <p:spPr>
              <a:xfrm>
                <a:off x="6594120" y="441576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505" name="TextBox 211"/>
              <p:cNvSpPr/>
              <p:nvPr/>
            </p:nvSpPr>
            <p:spPr>
              <a:xfrm>
                <a:off x="6441120" y="494172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grpSp>
          <p:nvGrpSpPr>
            <p:cNvPr id="506" name="Group 15"/>
            <p:cNvGrpSpPr/>
            <p:nvPr/>
          </p:nvGrpSpPr>
          <p:grpSpPr>
            <a:xfrm>
              <a:off x="2350440" y="2530440"/>
              <a:ext cx="1235880" cy="559440"/>
              <a:chOff x="2350440" y="2530440"/>
              <a:chExt cx="1235880" cy="559440"/>
            </a:xfrm>
          </p:grpSpPr>
          <p:sp>
            <p:nvSpPr>
              <p:cNvPr id="507" name="오른쪽 화살표 59"/>
              <p:cNvSpPr/>
              <p:nvPr/>
            </p:nvSpPr>
            <p:spPr>
              <a:xfrm>
                <a:off x="2350440" y="2530440"/>
                <a:ext cx="1235880" cy="559440"/>
              </a:xfrm>
              <a:prstGeom prst="rightArrow">
                <a:avLst>
                  <a:gd name="adj1" fmla="val 50000"/>
                  <a:gd name="adj2" fmla="val 5848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오른쪽 화살표 58"/>
              <p:cNvSpPr/>
              <p:nvPr/>
            </p:nvSpPr>
            <p:spPr>
              <a:xfrm>
                <a:off x="2377440" y="2574720"/>
                <a:ext cx="1169280" cy="469080"/>
              </a:xfrm>
              <a:prstGeom prst="rightArrow">
                <a:avLst>
                  <a:gd name="adj1" fmla="val 50000"/>
                  <a:gd name="adj2" fmla="val 57032"/>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9" name="Group 18"/>
            <p:cNvGrpSpPr/>
            <p:nvPr/>
          </p:nvGrpSpPr>
          <p:grpSpPr>
            <a:xfrm>
              <a:off x="1079640" y="2106720"/>
              <a:ext cx="1867320" cy="1406880"/>
              <a:chOff x="1079640" y="2106720"/>
              <a:chExt cx="1867320" cy="1406880"/>
            </a:xfrm>
          </p:grpSpPr>
          <p:sp>
            <p:nvSpPr>
              <p:cNvPr id="510" name="직사각형 151"/>
              <p:cNvSpPr/>
              <p:nvPr/>
            </p:nvSpPr>
            <p:spPr>
              <a:xfrm>
                <a:off x="1079640" y="2106720"/>
                <a:ext cx="1867320" cy="1406880"/>
              </a:xfrm>
              <a:prstGeom prst="rect">
                <a:avLst/>
              </a:prstGeom>
              <a:solidFill>
                <a:srgbClr val="f2f2f2">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직사각형 131"/>
              <p:cNvSpPr/>
              <p:nvPr/>
            </p:nvSpPr>
            <p:spPr>
              <a:xfrm>
                <a:off x="1166760" y="2195640"/>
                <a:ext cx="1692720" cy="122904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직사각형 147"/>
              <p:cNvSpPr/>
              <p:nvPr/>
            </p:nvSpPr>
            <p:spPr>
              <a:xfrm>
                <a:off x="1166760" y="2195640"/>
                <a:ext cx="1692720" cy="1443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직사각형 148"/>
              <p:cNvSpPr/>
              <p:nvPr/>
            </p:nvSpPr>
            <p:spPr>
              <a:xfrm>
                <a:off x="1166760" y="3275640"/>
                <a:ext cx="1692720" cy="1429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Group 23"/>
            <p:cNvGrpSpPr/>
            <p:nvPr/>
          </p:nvGrpSpPr>
          <p:grpSpPr>
            <a:xfrm>
              <a:off x="1341000" y="2392560"/>
              <a:ext cx="1346760" cy="771840"/>
              <a:chOff x="1341000" y="2392560"/>
              <a:chExt cx="1346760" cy="771840"/>
            </a:xfrm>
          </p:grpSpPr>
          <p:sp>
            <p:nvSpPr>
              <p:cNvPr id="515" name="TextBox 200"/>
              <p:cNvSpPr/>
              <p:nvPr/>
            </p:nvSpPr>
            <p:spPr>
              <a:xfrm>
                <a:off x="1494000" y="239256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516" name="TextBox 201"/>
              <p:cNvSpPr/>
              <p:nvPr/>
            </p:nvSpPr>
            <p:spPr>
              <a:xfrm>
                <a:off x="1341000" y="29181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grpSp>
          <p:nvGrpSpPr>
            <p:cNvPr id="517" name="Group 26"/>
            <p:cNvGrpSpPr/>
            <p:nvPr/>
          </p:nvGrpSpPr>
          <p:grpSpPr>
            <a:xfrm>
              <a:off x="4872960" y="4554000"/>
              <a:ext cx="1235880" cy="559440"/>
              <a:chOff x="4872960" y="4554000"/>
              <a:chExt cx="1235880" cy="559440"/>
            </a:xfrm>
          </p:grpSpPr>
          <p:sp>
            <p:nvSpPr>
              <p:cNvPr id="518" name="오른쪽 화살표 62"/>
              <p:cNvSpPr/>
              <p:nvPr/>
            </p:nvSpPr>
            <p:spPr>
              <a:xfrm>
                <a:off x="4872960" y="4554000"/>
                <a:ext cx="1235880" cy="559440"/>
              </a:xfrm>
              <a:prstGeom prst="rightArrow">
                <a:avLst>
                  <a:gd name="adj1" fmla="val 50000"/>
                  <a:gd name="adj2" fmla="val 5848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오른쪽 화살표 63"/>
              <p:cNvSpPr/>
              <p:nvPr/>
            </p:nvSpPr>
            <p:spPr>
              <a:xfrm>
                <a:off x="4899960" y="4598280"/>
                <a:ext cx="1169280" cy="469080"/>
              </a:xfrm>
              <a:prstGeom prst="rightArrow">
                <a:avLst>
                  <a:gd name="adj1" fmla="val 50000"/>
                  <a:gd name="adj2" fmla="val 57032"/>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0" name="Group 29"/>
            <p:cNvGrpSpPr/>
            <p:nvPr/>
          </p:nvGrpSpPr>
          <p:grpSpPr>
            <a:xfrm>
              <a:off x="3629520" y="4130280"/>
              <a:ext cx="1867320" cy="1406880"/>
              <a:chOff x="3629520" y="4130280"/>
              <a:chExt cx="1867320" cy="1406880"/>
            </a:xfrm>
          </p:grpSpPr>
          <p:sp>
            <p:nvSpPr>
              <p:cNvPr id="521" name="직사각형 176"/>
              <p:cNvSpPr/>
              <p:nvPr/>
            </p:nvSpPr>
            <p:spPr>
              <a:xfrm>
                <a:off x="3629520" y="4130280"/>
                <a:ext cx="1867320" cy="1406880"/>
              </a:xfrm>
              <a:prstGeom prst="rect">
                <a:avLst/>
              </a:prstGeom>
              <a:solidFill>
                <a:srgbClr val="f2f2f2">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직사각형 178"/>
              <p:cNvSpPr/>
              <p:nvPr/>
            </p:nvSpPr>
            <p:spPr>
              <a:xfrm>
                <a:off x="3716640" y="4219200"/>
                <a:ext cx="1693080" cy="122904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직사각형 179"/>
              <p:cNvSpPr/>
              <p:nvPr/>
            </p:nvSpPr>
            <p:spPr>
              <a:xfrm>
                <a:off x="3716640" y="4219200"/>
                <a:ext cx="1693080" cy="1443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직사각형 182"/>
              <p:cNvSpPr/>
              <p:nvPr/>
            </p:nvSpPr>
            <p:spPr>
              <a:xfrm>
                <a:off x="3716640" y="5299200"/>
                <a:ext cx="1693080" cy="1429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5" name="Group 34"/>
            <p:cNvGrpSpPr/>
            <p:nvPr/>
          </p:nvGrpSpPr>
          <p:grpSpPr>
            <a:xfrm>
              <a:off x="3889440" y="4415760"/>
              <a:ext cx="1346760" cy="772200"/>
              <a:chOff x="3889440" y="4415760"/>
              <a:chExt cx="1346760" cy="772200"/>
            </a:xfrm>
          </p:grpSpPr>
          <p:sp>
            <p:nvSpPr>
              <p:cNvPr id="526" name="TextBox 217"/>
              <p:cNvSpPr/>
              <p:nvPr/>
            </p:nvSpPr>
            <p:spPr>
              <a:xfrm>
                <a:off x="4042080" y="441576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527" name="TextBox 218"/>
              <p:cNvSpPr/>
              <p:nvPr/>
            </p:nvSpPr>
            <p:spPr>
              <a:xfrm>
                <a:off x="3889440" y="494172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grpSp>
          <p:nvGrpSpPr>
            <p:cNvPr id="528" name="Group 37"/>
            <p:cNvGrpSpPr/>
            <p:nvPr/>
          </p:nvGrpSpPr>
          <p:grpSpPr>
            <a:xfrm>
              <a:off x="4283280" y="2833920"/>
              <a:ext cx="559080" cy="1236600"/>
              <a:chOff x="4283280" y="2833920"/>
              <a:chExt cx="559080" cy="1236600"/>
            </a:xfrm>
          </p:grpSpPr>
          <p:sp>
            <p:nvSpPr>
              <p:cNvPr id="529" name="오른쪽 화살표 65"/>
              <p:cNvSpPr/>
              <p:nvPr/>
            </p:nvSpPr>
            <p:spPr>
              <a:xfrm rot="5400000">
                <a:off x="3944520" y="3172680"/>
                <a:ext cx="1236600" cy="559080"/>
              </a:xfrm>
              <a:prstGeom prst="rightArrow">
                <a:avLst>
                  <a:gd name="adj1" fmla="val 50000"/>
                  <a:gd name="adj2" fmla="val 58696"/>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오른쪽 화살표 66"/>
              <p:cNvSpPr/>
              <p:nvPr/>
            </p:nvSpPr>
            <p:spPr>
              <a:xfrm rot="5400000">
                <a:off x="3979440" y="3211920"/>
                <a:ext cx="1170000" cy="467280"/>
              </a:xfrm>
              <a:prstGeom prst="rightArrow">
                <a:avLst>
                  <a:gd name="adj1" fmla="val 50000"/>
                  <a:gd name="adj2" fmla="val 57264"/>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1" name="Group 40"/>
            <p:cNvGrpSpPr/>
            <p:nvPr/>
          </p:nvGrpSpPr>
          <p:grpSpPr>
            <a:xfrm>
              <a:off x="3629520" y="2106720"/>
              <a:ext cx="1867320" cy="1406880"/>
              <a:chOff x="3629520" y="2106720"/>
              <a:chExt cx="1867320" cy="1406880"/>
            </a:xfrm>
          </p:grpSpPr>
          <p:sp>
            <p:nvSpPr>
              <p:cNvPr id="532" name="직사각형 155"/>
              <p:cNvSpPr/>
              <p:nvPr/>
            </p:nvSpPr>
            <p:spPr>
              <a:xfrm>
                <a:off x="3629520" y="2106720"/>
                <a:ext cx="1867320" cy="1406880"/>
              </a:xfrm>
              <a:prstGeom prst="rect">
                <a:avLst/>
              </a:prstGeom>
              <a:solidFill>
                <a:srgbClr val="f2f2f2">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직사각형 158"/>
              <p:cNvSpPr/>
              <p:nvPr/>
            </p:nvSpPr>
            <p:spPr>
              <a:xfrm>
                <a:off x="3716640" y="2195640"/>
                <a:ext cx="1693080" cy="122904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직사각형 159"/>
              <p:cNvSpPr/>
              <p:nvPr/>
            </p:nvSpPr>
            <p:spPr>
              <a:xfrm>
                <a:off x="3716640" y="2195640"/>
                <a:ext cx="1693080" cy="1443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직사각형 161"/>
              <p:cNvSpPr/>
              <p:nvPr/>
            </p:nvSpPr>
            <p:spPr>
              <a:xfrm>
                <a:off x="3716640" y="3275640"/>
                <a:ext cx="1693080" cy="1429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Group 45"/>
            <p:cNvGrpSpPr/>
            <p:nvPr/>
          </p:nvGrpSpPr>
          <p:grpSpPr>
            <a:xfrm>
              <a:off x="3889440" y="2392560"/>
              <a:ext cx="1346760" cy="771840"/>
              <a:chOff x="3889440" y="2392560"/>
              <a:chExt cx="1346760" cy="771840"/>
            </a:xfrm>
          </p:grpSpPr>
          <p:sp>
            <p:nvSpPr>
              <p:cNvPr id="537" name="TextBox 213"/>
              <p:cNvSpPr/>
              <p:nvPr/>
            </p:nvSpPr>
            <p:spPr>
              <a:xfrm>
                <a:off x="4042080" y="239256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538" name="TextBox 214"/>
              <p:cNvSpPr/>
              <p:nvPr/>
            </p:nvSpPr>
            <p:spPr>
              <a:xfrm>
                <a:off x="3889440" y="29181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grpSp>
      <p:sp>
        <p:nvSpPr>
          <p:cNvPr id="539" name="TextBox 75"/>
          <p:cNvSpPr/>
          <p:nvPr/>
        </p:nvSpPr>
        <p:spPr>
          <a:xfrm>
            <a:off x="5631120" y="2287440"/>
            <a:ext cx="2707560" cy="103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53a7"/>
                </a:solidFill>
                <a:latin typeface="Arial Black"/>
                <a:ea typeface="HY견고딕"/>
              </a:rPr>
              <a:t>ASADAL INTERNET, INC.</a:t>
            </a:r>
            <a:endParaRPr b="0" lang="en-US" sz="1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a:t>
            </a:r>
            <a:br>
              <a:rPr sz="1100"/>
            </a:br>
            <a:r>
              <a:rPr b="0" lang="en-US" sz="1100" spc="-1" strike="noStrike">
                <a:solidFill>
                  <a:srgbClr val="6f6f6f"/>
                </a:solidFill>
                <a:latin typeface="Arial"/>
                <a:ea typeface="HY견고딕"/>
              </a:rPr>
              <a:t>in February 1998 with the fundamental </a:t>
            </a:r>
            <a:br>
              <a:rPr sz="1100"/>
            </a:br>
            <a:r>
              <a:rPr b="0" lang="en-US" sz="1100" spc="-1" strike="noStrike">
                <a:solidFill>
                  <a:srgbClr val="6f6f6f"/>
                </a:solidFill>
                <a:latin typeface="Arial"/>
                <a:ea typeface="HY견고딕"/>
              </a:rPr>
              <a:t>goal of providing better internet services </a:t>
            </a:r>
            <a:br>
              <a:rPr sz="1100"/>
            </a:br>
            <a:r>
              <a:rPr b="0" lang="en-US" sz="1100" spc="-1" strike="noStrike">
                <a:solidFill>
                  <a:srgbClr val="6f6f6f"/>
                </a:solidFill>
                <a:latin typeface="Arial"/>
                <a:ea typeface="HY견고딕"/>
              </a:rPr>
              <a:t>to the world.</a:t>
            </a:r>
            <a:endParaRPr b="0" lang="en-US" sz="1100" spc="-1" strike="noStrike">
              <a:solidFill>
                <a:srgbClr val="000000"/>
              </a:solidFill>
              <a:latin typeface="Gulim"/>
            </a:endParaRPr>
          </a:p>
        </p:txBody>
      </p:sp>
      <p:sp>
        <p:nvSpPr>
          <p:cNvPr id="540" name="TextBox 76"/>
          <p:cNvSpPr/>
          <p:nvPr/>
        </p:nvSpPr>
        <p:spPr>
          <a:xfrm>
            <a:off x="812880" y="4309920"/>
            <a:ext cx="2707560" cy="1037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53a7"/>
                </a:solidFill>
                <a:latin typeface="Arial Black"/>
                <a:ea typeface="HY견고딕"/>
              </a:rPr>
              <a:t>ASADAL INTERNET, INC.</a:t>
            </a:r>
            <a:endParaRPr b="0" lang="en-US" sz="13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a:t>
            </a:r>
            <a:br>
              <a:rPr sz="1100"/>
            </a:br>
            <a:r>
              <a:rPr b="0" lang="en-US" sz="1100" spc="-1" strike="noStrike">
                <a:solidFill>
                  <a:srgbClr val="6f6f6f"/>
                </a:solidFill>
                <a:latin typeface="Arial"/>
                <a:ea typeface="HY견고딕"/>
              </a:rPr>
              <a:t>in February 1998 with the fundamental </a:t>
            </a:r>
            <a:br>
              <a:rPr sz="1100"/>
            </a:br>
            <a:r>
              <a:rPr b="0" lang="en-US" sz="1100" spc="-1" strike="noStrike">
                <a:solidFill>
                  <a:srgbClr val="6f6f6f"/>
                </a:solidFill>
                <a:latin typeface="Arial"/>
                <a:ea typeface="HY견고딕"/>
              </a:rPr>
              <a:t>goal of providing better internet services </a:t>
            </a:r>
            <a:br>
              <a:rPr sz="1100"/>
            </a:br>
            <a:r>
              <a:rPr b="0" lang="en-US" sz="1100" spc="-1" strike="noStrike">
                <a:solidFill>
                  <a:srgbClr val="6f6f6f"/>
                </a:solidFill>
                <a:latin typeface="Arial"/>
                <a:ea typeface="HY견고딕"/>
              </a:rPr>
              <a:t>to the world.</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1" name="Group 2"/>
          <p:cNvGrpSpPr/>
          <p:nvPr/>
        </p:nvGrpSpPr>
        <p:grpSpPr>
          <a:xfrm>
            <a:off x="747720" y="1695600"/>
            <a:ext cx="7635960" cy="1847880"/>
            <a:chOff x="747720" y="1695600"/>
            <a:chExt cx="7635960" cy="1847880"/>
          </a:xfrm>
        </p:grpSpPr>
        <p:sp>
          <p:nvSpPr>
            <p:cNvPr id="542" name="직사각형 24"/>
            <p:cNvSpPr/>
            <p:nvPr/>
          </p:nvSpPr>
          <p:spPr>
            <a:xfrm>
              <a:off x="747720" y="1695600"/>
              <a:ext cx="7635960" cy="1847880"/>
            </a:xfrm>
            <a:prstGeom prst="rect">
              <a:avLst/>
            </a:prstGeom>
            <a:solidFill>
              <a:srgbClr val="ffffff">
                <a:alpha val="75000"/>
              </a:srgbClr>
            </a:solidFill>
            <a:ln w="2556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직사각형 71"/>
            <p:cNvSpPr/>
            <p:nvPr/>
          </p:nvSpPr>
          <p:spPr>
            <a:xfrm>
              <a:off x="842760" y="1778040"/>
              <a:ext cx="7445520" cy="168444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54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54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547" name="Group 8"/>
          <p:cNvGrpSpPr/>
          <p:nvPr/>
        </p:nvGrpSpPr>
        <p:grpSpPr>
          <a:xfrm>
            <a:off x="1195560" y="1893960"/>
            <a:ext cx="1449360" cy="1450800"/>
            <a:chOff x="1195560" y="1893960"/>
            <a:chExt cx="1449360" cy="1450800"/>
          </a:xfrm>
        </p:grpSpPr>
        <p:sp>
          <p:nvSpPr>
            <p:cNvPr id="548" name="타원 60"/>
            <p:cNvSpPr/>
            <p:nvPr/>
          </p:nvSpPr>
          <p:spPr>
            <a:xfrm>
              <a:off x="1195560" y="1893960"/>
              <a:ext cx="1449360" cy="145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타원 61"/>
            <p:cNvSpPr/>
            <p:nvPr/>
          </p:nvSpPr>
          <p:spPr>
            <a:xfrm>
              <a:off x="1278000" y="1976400"/>
              <a:ext cx="1284480" cy="12859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도넛 62"/>
            <p:cNvSpPr/>
            <p:nvPr/>
          </p:nvSpPr>
          <p:spPr>
            <a:xfrm>
              <a:off x="1195560" y="1893960"/>
              <a:ext cx="1449360" cy="1450800"/>
            </a:xfrm>
            <a:custGeom>
              <a:avLst/>
              <a:gdLst>
                <a:gd name="textAreaLeft" fmla="*/ 212040 w 1449360"/>
                <a:gd name="textAreaRight" fmla="*/ 1237320 w 1449360"/>
                <a:gd name="textAreaTop" fmla="*/ 212400 h 1450800"/>
                <a:gd name="textAreaBottom" fmla="*/ 1238400 h 145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551" name="Group 12"/>
          <p:cNvGrpSpPr/>
          <p:nvPr/>
        </p:nvGrpSpPr>
        <p:grpSpPr>
          <a:xfrm>
            <a:off x="6481800" y="1893960"/>
            <a:ext cx="1449360" cy="1450800"/>
            <a:chOff x="6481800" y="1893960"/>
            <a:chExt cx="1449360" cy="1450800"/>
          </a:xfrm>
        </p:grpSpPr>
        <p:sp>
          <p:nvSpPr>
            <p:cNvPr id="552" name="타원 64"/>
            <p:cNvSpPr/>
            <p:nvPr/>
          </p:nvSpPr>
          <p:spPr>
            <a:xfrm>
              <a:off x="6481800" y="1893960"/>
              <a:ext cx="1449360" cy="145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타원 65"/>
            <p:cNvSpPr/>
            <p:nvPr/>
          </p:nvSpPr>
          <p:spPr>
            <a:xfrm>
              <a:off x="6564240" y="1976400"/>
              <a:ext cx="1284480" cy="128592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도넛 66"/>
            <p:cNvSpPr/>
            <p:nvPr/>
          </p:nvSpPr>
          <p:spPr>
            <a:xfrm>
              <a:off x="6481800" y="1893960"/>
              <a:ext cx="1449360" cy="1450800"/>
            </a:xfrm>
            <a:custGeom>
              <a:avLst/>
              <a:gdLst>
                <a:gd name="textAreaLeft" fmla="*/ 212040 w 1449360"/>
                <a:gd name="textAreaRight" fmla="*/ 1237320 w 1449360"/>
                <a:gd name="textAreaTop" fmla="*/ 212400 h 1450800"/>
                <a:gd name="textAreaBottom" fmla="*/ 1238400 h 145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555" name="Group 16"/>
          <p:cNvGrpSpPr/>
          <p:nvPr/>
        </p:nvGrpSpPr>
        <p:grpSpPr>
          <a:xfrm>
            <a:off x="3838680" y="1893960"/>
            <a:ext cx="1449360" cy="1450800"/>
            <a:chOff x="3838680" y="1893960"/>
            <a:chExt cx="1449360" cy="1450800"/>
          </a:xfrm>
        </p:grpSpPr>
        <p:sp>
          <p:nvSpPr>
            <p:cNvPr id="556" name="타원 68"/>
            <p:cNvSpPr/>
            <p:nvPr/>
          </p:nvSpPr>
          <p:spPr>
            <a:xfrm>
              <a:off x="3838680" y="1893960"/>
              <a:ext cx="1449360" cy="145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타원 69"/>
            <p:cNvSpPr/>
            <p:nvPr/>
          </p:nvSpPr>
          <p:spPr>
            <a:xfrm>
              <a:off x="3921120" y="1976400"/>
              <a:ext cx="1284480" cy="128592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도넛 70"/>
            <p:cNvSpPr/>
            <p:nvPr/>
          </p:nvSpPr>
          <p:spPr>
            <a:xfrm>
              <a:off x="3838680" y="1893960"/>
              <a:ext cx="1449360" cy="1450800"/>
            </a:xfrm>
            <a:custGeom>
              <a:avLst/>
              <a:gdLst>
                <a:gd name="textAreaLeft" fmla="*/ 212040 w 1449360"/>
                <a:gd name="textAreaRight" fmla="*/ 1237320 w 1449360"/>
                <a:gd name="textAreaTop" fmla="*/ 212400 h 1450800"/>
                <a:gd name="textAreaBottom" fmla="*/ 1238400 h 145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pic>
        <p:nvPicPr>
          <p:cNvPr id="559" name="그림 79" descr="001.png"/>
          <p:cNvPicPr/>
          <p:nvPr/>
        </p:nvPicPr>
        <p:blipFill>
          <a:blip r:embed="rId1"/>
          <a:stretch/>
        </p:blipFill>
        <p:spPr>
          <a:xfrm>
            <a:off x="2944800" y="2325600"/>
            <a:ext cx="593640" cy="588960"/>
          </a:xfrm>
          <a:prstGeom prst="rect">
            <a:avLst/>
          </a:prstGeom>
          <a:ln w="0">
            <a:noFill/>
          </a:ln>
        </p:spPr>
      </p:pic>
      <p:pic>
        <p:nvPicPr>
          <p:cNvPr id="560" name="그림 82" descr="001.png"/>
          <p:cNvPicPr/>
          <p:nvPr/>
        </p:nvPicPr>
        <p:blipFill>
          <a:blip r:embed="rId2"/>
          <a:stretch/>
        </p:blipFill>
        <p:spPr>
          <a:xfrm>
            <a:off x="5587920" y="2325600"/>
            <a:ext cx="593640" cy="588960"/>
          </a:xfrm>
          <a:prstGeom prst="rect">
            <a:avLst/>
          </a:prstGeom>
          <a:ln w="0">
            <a:noFill/>
          </a:ln>
        </p:spPr>
      </p:pic>
      <p:sp>
        <p:nvSpPr>
          <p:cNvPr id="561" name="TextBox 90"/>
          <p:cNvSpPr/>
          <p:nvPr/>
        </p:nvSpPr>
        <p:spPr>
          <a:xfrm>
            <a:off x="1486800" y="238140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562" name="TextBox 93"/>
          <p:cNvSpPr/>
          <p:nvPr/>
        </p:nvSpPr>
        <p:spPr>
          <a:xfrm>
            <a:off x="4129920" y="238140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563" name="TextBox 94"/>
          <p:cNvSpPr/>
          <p:nvPr/>
        </p:nvSpPr>
        <p:spPr>
          <a:xfrm>
            <a:off x="6773040" y="238140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grpSp>
        <p:nvGrpSpPr>
          <p:cNvPr id="564" name="Group 25"/>
          <p:cNvGrpSpPr/>
          <p:nvPr/>
        </p:nvGrpSpPr>
        <p:grpSpPr>
          <a:xfrm>
            <a:off x="743040" y="3857760"/>
            <a:ext cx="7648560" cy="696600"/>
            <a:chOff x="743040" y="3857760"/>
            <a:chExt cx="7648560" cy="696600"/>
          </a:xfrm>
        </p:grpSpPr>
        <p:grpSp>
          <p:nvGrpSpPr>
            <p:cNvPr id="565" name="Group 26"/>
            <p:cNvGrpSpPr/>
            <p:nvPr/>
          </p:nvGrpSpPr>
          <p:grpSpPr>
            <a:xfrm>
              <a:off x="743040" y="3857760"/>
              <a:ext cx="7648560" cy="637920"/>
              <a:chOff x="743040" y="3857760"/>
              <a:chExt cx="7648560" cy="637920"/>
            </a:xfrm>
          </p:grpSpPr>
          <p:grpSp>
            <p:nvGrpSpPr>
              <p:cNvPr id="566" name="Group 27"/>
              <p:cNvGrpSpPr/>
              <p:nvPr/>
            </p:nvGrpSpPr>
            <p:grpSpPr>
              <a:xfrm>
                <a:off x="743040" y="3857760"/>
                <a:ext cx="7648560" cy="637920"/>
                <a:chOff x="743040" y="3857760"/>
                <a:chExt cx="7648560" cy="637920"/>
              </a:xfrm>
            </p:grpSpPr>
            <p:sp>
              <p:nvSpPr>
                <p:cNvPr id="567" name="직사각형 99"/>
                <p:cNvSpPr/>
                <p:nvPr/>
              </p:nvSpPr>
              <p:spPr>
                <a:xfrm>
                  <a:off x="743040" y="3857760"/>
                  <a:ext cx="7648560" cy="6379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직사각형 100"/>
                <p:cNvSpPr/>
                <p:nvPr/>
              </p:nvSpPr>
              <p:spPr>
                <a:xfrm>
                  <a:off x="804600" y="3916440"/>
                  <a:ext cx="7529760" cy="52056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9" name="Group 30"/>
              <p:cNvGrpSpPr/>
              <p:nvPr/>
            </p:nvGrpSpPr>
            <p:grpSpPr>
              <a:xfrm>
                <a:off x="846720" y="3954960"/>
                <a:ext cx="1039320" cy="453600"/>
                <a:chOff x="846720" y="3954960"/>
                <a:chExt cx="1039320" cy="453600"/>
              </a:xfrm>
            </p:grpSpPr>
            <p:sp>
              <p:nvSpPr>
                <p:cNvPr id="570" name="직사각형 108"/>
                <p:cNvSpPr/>
                <p:nvPr/>
              </p:nvSpPr>
              <p:spPr>
                <a:xfrm>
                  <a:off x="846720" y="3954960"/>
                  <a:ext cx="1039320" cy="45360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직사각형 109"/>
                <p:cNvSpPr/>
                <p:nvPr/>
              </p:nvSpPr>
              <p:spPr>
                <a:xfrm>
                  <a:off x="873720" y="3986640"/>
                  <a:ext cx="985320" cy="39024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직사각형 110"/>
                <p:cNvSpPr/>
                <p:nvPr/>
              </p:nvSpPr>
              <p:spPr>
                <a:xfrm>
                  <a:off x="873720" y="3980160"/>
                  <a:ext cx="98532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3" name="TextBox 119"/>
            <p:cNvSpPr/>
            <p:nvPr/>
          </p:nvSpPr>
          <p:spPr>
            <a:xfrm>
              <a:off x="1074960" y="4019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574" name="TextBox 122"/>
            <p:cNvSpPr/>
            <p:nvPr/>
          </p:nvSpPr>
          <p:spPr>
            <a:xfrm>
              <a:off x="1975680" y="3958200"/>
              <a:ext cx="62348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a:t>
              </a:r>
              <a:br>
                <a:rPr sz="1100"/>
              </a:br>
              <a:r>
                <a:rPr b="0" lang="en-US" sz="1100" spc="-1" strike="noStrike">
                  <a:solidFill>
                    <a:srgbClr val="6f6f6f"/>
                  </a:solidFill>
                  <a:latin typeface="Arial"/>
                  <a:ea typeface="HY견고딕"/>
                </a:rPr>
                <a:t> internet services to the world.</a:t>
              </a:r>
              <a:endParaRPr b="0" lang="en-US" sz="1100" spc="-1" strike="noStrike">
                <a:solidFill>
                  <a:srgbClr val="000000"/>
                </a:solidFill>
                <a:latin typeface="Gulim"/>
              </a:endParaRPr>
            </a:p>
          </p:txBody>
        </p:sp>
      </p:grpSp>
      <p:grpSp>
        <p:nvGrpSpPr>
          <p:cNvPr id="575" name="Group 36"/>
          <p:cNvGrpSpPr/>
          <p:nvPr/>
        </p:nvGrpSpPr>
        <p:grpSpPr>
          <a:xfrm>
            <a:off x="743040" y="4645080"/>
            <a:ext cx="7648560" cy="693360"/>
            <a:chOff x="743040" y="4645080"/>
            <a:chExt cx="7648560" cy="693360"/>
          </a:xfrm>
        </p:grpSpPr>
        <p:grpSp>
          <p:nvGrpSpPr>
            <p:cNvPr id="576" name="Group 37"/>
            <p:cNvGrpSpPr/>
            <p:nvPr/>
          </p:nvGrpSpPr>
          <p:grpSpPr>
            <a:xfrm>
              <a:off x="743040" y="4645080"/>
              <a:ext cx="7648560" cy="639720"/>
              <a:chOff x="743040" y="4645080"/>
              <a:chExt cx="7648560" cy="639720"/>
            </a:xfrm>
          </p:grpSpPr>
          <p:grpSp>
            <p:nvGrpSpPr>
              <p:cNvPr id="577" name="Group 38"/>
              <p:cNvGrpSpPr/>
              <p:nvPr/>
            </p:nvGrpSpPr>
            <p:grpSpPr>
              <a:xfrm>
                <a:off x="743040" y="4645080"/>
                <a:ext cx="7648560" cy="639720"/>
                <a:chOff x="743040" y="4645080"/>
                <a:chExt cx="7648560" cy="639720"/>
              </a:xfrm>
            </p:grpSpPr>
            <p:sp>
              <p:nvSpPr>
                <p:cNvPr id="578" name="직사각형 102"/>
                <p:cNvSpPr/>
                <p:nvPr/>
              </p:nvSpPr>
              <p:spPr>
                <a:xfrm>
                  <a:off x="743040" y="4645080"/>
                  <a:ext cx="7648560" cy="6397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직사각형 103"/>
                <p:cNvSpPr/>
                <p:nvPr/>
              </p:nvSpPr>
              <p:spPr>
                <a:xfrm>
                  <a:off x="804600" y="4703760"/>
                  <a:ext cx="7529760" cy="52236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0" name="Group 41"/>
              <p:cNvGrpSpPr/>
              <p:nvPr/>
            </p:nvGrpSpPr>
            <p:grpSpPr>
              <a:xfrm>
                <a:off x="846720" y="4741560"/>
                <a:ext cx="1039320" cy="454680"/>
                <a:chOff x="846720" y="4741560"/>
                <a:chExt cx="1039320" cy="454680"/>
              </a:xfrm>
            </p:grpSpPr>
            <p:sp>
              <p:nvSpPr>
                <p:cNvPr id="581" name="직사각형 112"/>
                <p:cNvSpPr/>
                <p:nvPr/>
              </p:nvSpPr>
              <p:spPr>
                <a:xfrm>
                  <a:off x="846720" y="4741560"/>
                  <a:ext cx="1039320" cy="45468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직사각형 113"/>
                <p:cNvSpPr/>
                <p:nvPr/>
              </p:nvSpPr>
              <p:spPr>
                <a:xfrm>
                  <a:off x="873720" y="4773240"/>
                  <a:ext cx="985320" cy="39132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직사각형 114"/>
                <p:cNvSpPr/>
                <p:nvPr/>
              </p:nvSpPr>
              <p:spPr>
                <a:xfrm>
                  <a:off x="873720" y="4766760"/>
                  <a:ext cx="985320" cy="1954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4" name="TextBox 120"/>
            <p:cNvSpPr/>
            <p:nvPr/>
          </p:nvSpPr>
          <p:spPr>
            <a:xfrm>
              <a:off x="1074960" y="480708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585" name="TextBox 123"/>
            <p:cNvSpPr/>
            <p:nvPr/>
          </p:nvSpPr>
          <p:spPr>
            <a:xfrm>
              <a:off x="1975680" y="4742280"/>
              <a:ext cx="62348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a:t>
              </a:r>
              <a:br>
                <a:rPr sz="1100"/>
              </a:br>
              <a:r>
                <a:rPr b="0" lang="en-US" sz="1100" spc="-1" strike="noStrike">
                  <a:solidFill>
                    <a:srgbClr val="6f6f6f"/>
                  </a:solidFill>
                  <a:latin typeface="Arial"/>
                  <a:ea typeface="HY견고딕"/>
                </a:rPr>
                <a:t>internet services to the world.</a:t>
              </a:r>
              <a:endParaRPr b="0" lang="en-US" sz="1100" spc="-1" strike="noStrike">
                <a:solidFill>
                  <a:srgbClr val="000000"/>
                </a:solidFill>
                <a:latin typeface="Gulim"/>
              </a:endParaRPr>
            </a:p>
          </p:txBody>
        </p:sp>
      </p:grpSp>
      <p:grpSp>
        <p:nvGrpSpPr>
          <p:cNvPr id="586" name="Group 47"/>
          <p:cNvGrpSpPr/>
          <p:nvPr/>
        </p:nvGrpSpPr>
        <p:grpSpPr>
          <a:xfrm>
            <a:off x="743040" y="5433840"/>
            <a:ext cx="7648560" cy="699120"/>
            <a:chOff x="743040" y="5433840"/>
            <a:chExt cx="7648560" cy="699120"/>
          </a:xfrm>
        </p:grpSpPr>
        <p:grpSp>
          <p:nvGrpSpPr>
            <p:cNvPr id="587" name="Group 48"/>
            <p:cNvGrpSpPr/>
            <p:nvPr/>
          </p:nvGrpSpPr>
          <p:grpSpPr>
            <a:xfrm>
              <a:off x="743040" y="5433840"/>
              <a:ext cx="7648560" cy="638280"/>
              <a:chOff x="743040" y="5433840"/>
              <a:chExt cx="7648560" cy="638280"/>
            </a:xfrm>
          </p:grpSpPr>
          <p:grpSp>
            <p:nvGrpSpPr>
              <p:cNvPr id="588" name="Group 49"/>
              <p:cNvGrpSpPr/>
              <p:nvPr/>
            </p:nvGrpSpPr>
            <p:grpSpPr>
              <a:xfrm>
                <a:off x="743040" y="5433840"/>
                <a:ext cx="7648560" cy="638280"/>
                <a:chOff x="743040" y="5433840"/>
                <a:chExt cx="7648560" cy="638280"/>
              </a:xfrm>
            </p:grpSpPr>
            <p:sp>
              <p:nvSpPr>
                <p:cNvPr id="589" name="직사각형 105"/>
                <p:cNvSpPr/>
                <p:nvPr/>
              </p:nvSpPr>
              <p:spPr>
                <a:xfrm>
                  <a:off x="743040" y="5433840"/>
                  <a:ext cx="7648560" cy="6382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직사각형 106"/>
                <p:cNvSpPr/>
                <p:nvPr/>
              </p:nvSpPr>
              <p:spPr>
                <a:xfrm>
                  <a:off x="804600" y="5492520"/>
                  <a:ext cx="7529760" cy="5209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1" name="Group 52"/>
              <p:cNvGrpSpPr/>
              <p:nvPr/>
            </p:nvGrpSpPr>
            <p:grpSpPr>
              <a:xfrm>
                <a:off x="846720" y="5535720"/>
                <a:ext cx="1039320" cy="453600"/>
                <a:chOff x="846720" y="5535720"/>
                <a:chExt cx="1039320" cy="453600"/>
              </a:xfrm>
            </p:grpSpPr>
            <p:sp>
              <p:nvSpPr>
                <p:cNvPr id="592" name="직사각형 116"/>
                <p:cNvSpPr/>
                <p:nvPr/>
              </p:nvSpPr>
              <p:spPr>
                <a:xfrm>
                  <a:off x="846720" y="5535720"/>
                  <a:ext cx="1039320" cy="45360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직사각형 117"/>
                <p:cNvSpPr/>
                <p:nvPr/>
              </p:nvSpPr>
              <p:spPr>
                <a:xfrm>
                  <a:off x="873720" y="5567400"/>
                  <a:ext cx="985320" cy="3902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직사각형 118"/>
                <p:cNvSpPr/>
                <p:nvPr/>
              </p:nvSpPr>
              <p:spPr>
                <a:xfrm>
                  <a:off x="873720" y="5560920"/>
                  <a:ext cx="98532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95" name="TextBox 121"/>
            <p:cNvSpPr/>
            <p:nvPr/>
          </p:nvSpPr>
          <p:spPr>
            <a:xfrm>
              <a:off x="1074960" y="5607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596" name="TextBox 124"/>
            <p:cNvSpPr/>
            <p:nvPr/>
          </p:nvSpPr>
          <p:spPr>
            <a:xfrm>
              <a:off x="1975680" y="5536800"/>
              <a:ext cx="62348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a:t>
              </a:r>
              <a:br>
                <a:rPr sz="1100"/>
              </a:br>
              <a:r>
                <a:rPr b="0" lang="en-US" sz="1100" spc="-1" strike="noStrike">
                  <a:solidFill>
                    <a:srgbClr val="6f6f6f"/>
                  </a:solidFill>
                  <a:latin typeface="Arial"/>
                  <a:ea typeface="HY견고딕"/>
                </a:rPr>
                <a:t>internet services to the world.</a:t>
              </a:r>
              <a:endParaRPr b="0" lang="en-US" sz="11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598"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599"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600" name="Group 5"/>
          <p:cNvGrpSpPr/>
          <p:nvPr/>
        </p:nvGrpSpPr>
        <p:grpSpPr>
          <a:xfrm>
            <a:off x="498600" y="1638360"/>
            <a:ext cx="2573280" cy="4500360"/>
            <a:chOff x="498600" y="1638360"/>
            <a:chExt cx="2573280" cy="4500360"/>
          </a:xfrm>
        </p:grpSpPr>
        <p:sp>
          <p:nvSpPr>
            <p:cNvPr id="601" name="모서리가 둥근 직사각형 114"/>
            <p:cNvSpPr/>
            <p:nvPr/>
          </p:nvSpPr>
          <p:spPr>
            <a:xfrm>
              <a:off x="498600" y="1638360"/>
              <a:ext cx="2573280" cy="4500360"/>
            </a:xfrm>
            <a:custGeom>
              <a:avLst/>
              <a:gdLst>
                <a:gd name="textAreaLeft" fmla="*/ 0 w 2573280"/>
                <a:gd name="textAreaRight" fmla="*/ 2573640 w 2573280"/>
                <a:gd name="textAreaTop" fmla="*/ 0 h 4500360"/>
                <a:gd name="textAreaBottom" fmla="*/ 4500360 h 4500360"/>
              </a:gdLst>
              <a:ahLst/>
              <a:rect l="textAreaLeft" t="textAreaTop" r="textAreaRight" b="textAreaBottom"/>
              <a:pathLst>
                <a:path w="21600" h="37774">
                  <a:moveTo>
                    <a:pt x="0" y="0"/>
                  </a:moveTo>
                  <a:arcTo wR="0" hR="0" stAng="16200000" swAng="-5400000"/>
                  <a:lnTo>
                    <a:pt x="0" y="37774"/>
                  </a:lnTo>
                  <a:arcTo wR="0" hR="0" stAng="10800000" swAng="-5400000"/>
                  <a:lnTo>
                    <a:pt x="21600" y="37774"/>
                  </a:lnTo>
                  <a:arcTo wR="0" hR="0" stAng="16200000" swAng="-5400000"/>
                  <a:lnTo>
                    <a:pt x="21600" y="0"/>
                  </a:lnTo>
                  <a:arcTo wR="0" hR="0" stAng="10800000" swAng="-5400000"/>
                  <a:close/>
                </a:path>
              </a:pathLst>
            </a:custGeom>
            <a:solidFill>
              <a:srgbClr val="d9d9d9">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모서리가 둥근 직사각형 115"/>
            <p:cNvSpPr/>
            <p:nvPr/>
          </p:nvSpPr>
          <p:spPr>
            <a:xfrm>
              <a:off x="563400" y="1708200"/>
              <a:ext cx="2443320" cy="4360680"/>
            </a:xfrm>
            <a:custGeom>
              <a:avLst/>
              <a:gdLst>
                <a:gd name="textAreaLeft" fmla="*/ 0 w 2443320"/>
                <a:gd name="textAreaRight" fmla="*/ 2443680 w 2443320"/>
                <a:gd name="textAreaTop" fmla="*/ 0 h 4360680"/>
                <a:gd name="textAreaBottom" fmla="*/ 4360680 h 4360680"/>
              </a:gdLst>
              <a:ahLst/>
              <a:rect l="textAreaLeft" t="textAreaTop" r="textAreaRight" b="textAreaBottom"/>
              <a:pathLst>
                <a:path w="21600" h="38548">
                  <a:moveTo>
                    <a:pt x="0" y="0"/>
                  </a:moveTo>
                  <a:arcTo wR="0" hR="0" stAng="16200000" swAng="-5400000"/>
                  <a:lnTo>
                    <a:pt x="0" y="38548"/>
                  </a:lnTo>
                  <a:arcTo wR="0" hR="0" stAng="10800000" swAng="-5400000"/>
                  <a:lnTo>
                    <a:pt x="21600" y="38548"/>
                  </a:lnTo>
                  <a:arcTo wR="0" hR="0" stAng="16200000" swAng="-5400000"/>
                  <a:lnTo>
                    <a:pt x="21600" y="0"/>
                  </a:lnTo>
                  <a:arcTo wR="0" hR="0" stAng="10800000" swAng="-5400000"/>
                  <a:close/>
                </a:path>
              </a:pathLst>
            </a:cu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Group 8"/>
          <p:cNvGrpSpPr/>
          <p:nvPr/>
        </p:nvGrpSpPr>
        <p:grpSpPr>
          <a:xfrm>
            <a:off x="571680" y="1814400"/>
            <a:ext cx="2428560" cy="1067040"/>
            <a:chOff x="571680" y="1814400"/>
            <a:chExt cx="2428560" cy="1067040"/>
          </a:xfrm>
        </p:grpSpPr>
        <p:sp>
          <p:nvSpPr>
            <p:cNvPr id="604" name="직사각형 199"/>
            <p:cNvSpPr/>
            <p:nvPr/>
          </p:nvSpPr>
          <p:spPr>
            <a:xfrm>
              <a:off x="571680" y="2135160"/>
              <a:ext cx="2428560" cy="425520"/>
            </a:xfrm>
            <a:prstGeom prst="rect">
              <a:avLst/>
            </a:prstGeom>
            <a:solidFill>
              <a:srgbClr val="ffc0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직사각형 155"/>
            <p:cNvSpPr/>
            <p:nvPr/>
          </p:nvSpPr>
          <p:spPr>
            <a:xfrm>
              <a:off x="695160" y="1814400"/>
              <a:ext cx="2179440" cy="1067040"/>
            </a:xfrm>
            <a:prstGeom prst="rect">
              <a:avLst/>
            </a:prstGeom>
            <a:solidFill>
              <a:srgbClr val="ffc0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11"/>
            <p:cNvGrpSpPr/>
            <p:nvPr/>
          </p:nvGrpSpPr>
          <p:grpSpPr>
            <a:xfrm>
              <a:off x="763920" y="1883880"/>
              <a:ext cx="2041920" cy="945000"/>
              <a:chOff x="763920" y="1883880"/>
              <a:chExt cx="2041920" cy="945000"/>
            </a:xfrm>
          </p:grpSpPr>
          <p:sp>
            <p:nvSpPr>
              <p:cNvPr id="607" name="직사각형 151"/>
              <p:cNvSpPr/>
              <p:nvPr/>
            </p:nvSpPr>
            <p:spPr>
              <a:xfrm>
                <a:off x="763920" y="1883880"/>
                <a:ext cx="2041920" cy="94500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직사각형 152"/>
              <p:cNvSpPr/>
              <p:nvPr/>
            </p:nvSpPr>
            <p:spPr>
              <a:xfrm>
                <a:off x="763920" y="1886760"/>
                <a:ext cx="2041920" cy="4986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09" name="Group 14"/>
          <p:cNvGrpSpPr/>
          <p:nvPr/>
        </p:nvGrpSpPr>
        <p:grpSpPr>
          <a:xfrm>
            <a:off x="994680" y="1943280"/>
            <a:ext cx="1587240" cy="776160"/>
            <a:chOff x="994680" y="1943280"/>
            <a:chExt cx="1587240" cy="776160"/>
          </a:xfrm>
        </p:grpSpPr>
        <p:sp>
          <p:nvSpPr>
            <p:cNvPr id="610" name="TextBox 64"/>
            <p:cNvSpPr/>
            <p:nvPr/>
          </p:nvSpPr>
          <p:spPr>
            <a:xfrm>
              <a:off x="994680" y="244296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11" name="TextBox 70"/>
            <p:cNvSpPr/>
            <p:nvPr/>
          </p:nvSpPr>
          <p:spPr>
            <a:xfrm>
              <a:off x="1267920" y="194328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612" name="TextBox 158"/>
          <p:cNvSpPr/>
          <p:nvPr/>
        </p:nvSpPr>
        <p:spPr>
          <a:xfrm>
            <a:off x="641520" y="30463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Black"/>
                <a:ea typeface="HY견고딕"/>
              </a:rPr>
              <a:t>ASADAL</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Black"/>
                <a:ea typeface="HY견고딕"/>
              </a:rPr>
              <a:t>INTERNET, INC.</a:t>
            </a:r>
            <a:endParaRPr b="0" lang="en-US" sz="1400" spc="-1" strike="noStrike">
              <a:solidFill>
                <a:srgbClr val="000000"/>
              </a:solidFill>
              <a:latin typeface="Gulim"/>
            </a:endParaRPr>
          </a:p>
        </p:txBody>
      </p:sp>
      <p:sp>
        <p:nvSpPr>
          <p:cNvPr id="613" name="TextBox 159"/>
          <p:cNvSpPr/>
          <p:nvPr/>
        </p:nvSpPr>
        <p:spPr>
          <a:xfrm>
            <a:off x="598320" y="3571920"/>
            <a:ext cx="2378160" cy="29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grpSp>
        <p:nvGrpSpPr>
          <p:cNvPr id="614" name="Group 19"/>
          <p:cNvGrpSpPr/>
          <p:nvPr/>
        </p:nvGrpSpPr>
        <p:grpSpPr>
          <a:xfrm>
            <a:off x="3282840" y="1638360"/>
            <a:ext cx="2575080" cy="4500360"/>
            <a:chOff x="3282840" y="1638360"/>
            <a:chExt cx="2575080" cy="4500360"/>
          </a:xfrm>
        </p:grpSpPr>
        <p:sp>
          <p:nvSpPr>
            <p:cNvPr id="615" name="모서리가 둥근 직사각형 221"/>
            <p:cNvSpPr/>
            <p:nvPr/>
          </p:nvSpPr>
          <p:spPr>
            <a:xfrm>
              <a:off x="3282840" y="1638360"/>
              <a:ext cx="2575080" cy="4500360"/>
            </a:xfrm>
            <a:custGeom>
              <a:avLst/>
              <a:gdLst>
                <a:gd name="textAreaLeft" fmla="*/ 0 w 2575080"/>
                <a:gd name="textAreaRight" fmla="*/ 2575440 w 2575080"/>
                <a:gd name="textAreaTop" fmla="*/ 0 h 4500360"/>
                <a:gd name="textAreaBottom" fmla="*/ 4500720 h 4500360"/>
              </a:gdLst>
              <a:ahLst/>
              <a:rect l="textAreaLeft" t="textAreaTop" r="textAreaRight" b="textAreaBottom"/>
              <a:pathLst>
                <a:path w="21600" h="37747">
                  <a:moveTo>
                    <a:pt x="0" y="0"/>
                  </a:moveTo>
                  <a:arcTo wR="0" hR="0" stAng="16200000" swAng="-5400000"/>
                  <a:lnTo>
                    <a:pt x="0" y="37747"/>
                  </a:lnTo>
                  <a:arcTo wR="0" hR="0" stAng="10800000" swAng="-5400000"/>
                  <a:lnTo>
                    <a:pt x="21600" y="37747"/>
                  </a:lnTo>
                  <a:arcTo wR="0" hR="0" stAng="16200000" swAng="-5400000"/>
                  <a:lnTo>
                    <a:pt x="21600" y="0"/>
                  </a:lnTo>
                  <a:arcTo wR="0" hR="0" stAng="10800000" swAng="-5400000"/>
                  <a:close/>
                </a:path>
              </a:pathLst>
            </a:custGeom>
            <a:solidFill>
              <a:srgbClr val="d9d9d9">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모서리가 둥근 직사각형 222"/>
            <p:cNvSpPr/>
            <p:nvPr/>
          </p:nvSpPr>
          <p:spPr>
            <a:xfrm>
              <a:off x="3347640" y="1708200"/>
              <a:ext cx="2445120" cy="4360680"/>
            </a:xfrm>
            <a:custGeom>
              <a:avLst/>
              <a:gdLst>
                <a:gd name="textAreaLeft" fmla="*/ 0 w 2445120"/>
                <a:gd name="textAreaRight" fmla="*/ 2445480 w 2445120"/>
                <a:gd name="textAreaTop" fmla="*/ 0 h 4360680"/>
                <a:gd name="textAreaBottom" fmla="*/ 4360680 h 4360680"/>
              </a:gdLst>
              <a:ahLst/>
              <a:rect l="textAreaLeft" t="textAreaTop" r="textAreaRight" b="textAreaBottom"/>
              <a:pathLst>
                <a:path w="21600" h="38519">
                  <a:moveTo>
                    <a:pt x="0" y="0"/>
                  </a:moveTo>
                  <a:arcTo wR="0" hR="0" stAng="16200000" swAng="-5400000"/>
                  <a:lnTo>
                    <a:pt x="0" y="38519"/>
                  </a:lnTo>
                  <a:arcTo wR="0" hR="0" stAng="10800000" swAng="-5400000"/>
                  <a:lnTo>
                    <a:pt x="21600" y="38519"/>
                  </a:lnTo>
                  <a:arcTo wR="0" hR="0" stAng="16200000" swAng="-5400000"/>
                  <a:lnTo>
                    <a:pt x="21600" y="0"/>
                  </a:lnTo>
                  <a:arcTo wR="0" hR="0" stAng="10800000" swAng="-5400000"/>
                  <a:close/>
                </a:path>
              </a:pathLst>
            </a:cu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Group 22"/>
          <p:cNvGrpSpPr/>
          <p:nvPr/>
        </p:nvGrpSpPr>
        <p:grpSpPr>
          <a:xfrm>
            <a:off x="3357720" y="1814400"/>
            <a:ext cx="2428560" cy="1067040"/>
            <a:chOff x="3357720" y="1814400"/>
            <a:chExt cx="2428560" cy="1067040"/>
          </a:xfrm>
        </p:grpSpPr>
        <p:sp>
          <p:nvSpPr>
            <p:cNvPr id="618" name="직사각형 215"/>
            <p:cNvSpPr/>
            <p:nvPr/>
          </p:nvSpPr>
          <p:spPr>
            <a:xfrm>
              <a:off x="3357720" y="2135160"/>
              <a:ext cx="2428560" cy="425520"/>
            </a:xfrm>
            <a:prstGeom prst="rect">
              <a:avLst/>
            </a:prstGeom>
            <a:solidFill>
              <a:srgbClr val="00b4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직사각형 217"/>
            <p:cNvSpPr/>
            <p:nvPr/>
          </p:nvSpPr>
          <p:spPr>
            <a:xfrm>
              <a:off x="3481200" y="1814400"/>
              <a:ext cx="2179440" cy="1067040"/>
            </a:xfrm>
            <a:prstGeom prst="rect">
              <a:avLst/>
            </a:prstGeom>
            <a:solidFill>
              <a:srgbClr val="00b4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직사각형 219"/>
            <p:cNvSpPr/>
            <p:nvPr/>
          </p:nvSpPr>
          <p:spPr>
            <a:xfrm>
              <a:off x="3549600" y="1884240"/>
              <a:ext cx="2041560" cy="94500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직사각형 220"/>
            <p:cNvSpPr/>
            <p:nvPr/>
          </p:nvSpPr>
          <p:spPr>
            <a:xfrm>
              <a:off x="3551040" y="1887120"/>
              <a:ext cx="2041560" cy="4986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2" name="Group 27"/>
          <p:cNvGrpSpPr/>
          <p:nvPr/>
        </p:nvGrpSpPr>
        <p:grpSpPr>
          <a:xfrm>
            <a:off x="3778920" y="1943280"/>
            <a:ext cx="1587240" cy="776160"/>
            <a:chOff x="3778920" y="1943280"/>
            <a:chExt cx="1587240" cy="776160"/>
          </a:xfrm>
        </p:grpSpPr>
        <p:sp>
          <p:nvSpPr>
            <p:cNvPr id="623" name="TextBox 213"/>
            <p:cNvSpPr/>
            <p:nvPr/>
          </p:nvSpPr>
          <p:spPr>
            <a:xfrm>
              <a:off x="3778920" y="244296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24" name="TextBox 214"/>
            <p:cNvSpPr/>
            <p:nvPr/>
          </p:nvSpPr>
          <p:spPr>
            <a:xfrm>
              <a:off x="4052160" y="194328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625" name="TextBox 209"/>
          <p:cNvSpPr/>
          <p:nvPr/>
        </p:nvSpPr>
        <p:spPr>
          <a:xfrm>
            <a:off x="3425760" y="30463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400"/>
                </a:solidFill>
                <a:latin typeface="Arial Black"/>
                <a:ea typeface="HY견고딕"/>
              </a:rPr>
              <a:t>ASADAL</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400"/>
                </a:solidFill>
                <a:latin typeface="Arial Black"/>
                <a:ea typeface="HY견고딕"/>
              </a:rPr>
              <a:t>INTERNET, INC.</a:t>
            </a:r>
            <a:endParaRPr b="0" lang="en-US" sz="1400" spc="-1" strike="noStrike">
              <a:solidFill>
                <a:srgbClr val="000000"/>
              </a:solidFill>
              <a:latin typeface="Gulim"/>
            </a:endParaRPr>
          </a:p>
        </p:txBody>
      </p:sp>
      <p:sp>
        <p:nvSpPr>
          <p:cNvPr id="626" name="TextBox 210"/>
          <p:cNvSpPr/>
          <p:nvPr/>
        </p:nvSpPr>
        <p:spPr>
          <a:xfrm>
            <a:off x="3384720" y="3571920"/>
            <a:ext cx="2377800" cy="29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grpSp>
        <p:nvGrpSpPr>
          <p:cNvPr id="627" name="Group 32"/>
          <p:cNvGrpSpPr/>
          <p:nvPr/>
        </p:nvGrpSpPr>
        <p:grpSpPr>
          <a:xfrm>
            <a:off x="6068880" y="1638360"/>
            <a:ext cx="2575080" cy="4500360"/>
            <a:chOff x="6068880" y="1638360"/>
            <a:chExt cx="2575080" cy="4500360"/>
          </a:xfrm>
        </p:grpSpPr>
        <p:sp>
          <p:nvSpPr>
            <p:cNvPr id="628" name="모서리가 둥근 직사각형 239"/>
            <p:cNvSpPr/>
            <p:nvPr/>
          </p:nvSpPr>
          <p:spPr>
            <a:xfrm>
              <a:off x="6068880" y="1638360"/>
              <a:ext cx="2575080" cy="4500360"/>
            </a:xfrm>
            <a:custGeom>
              <a:avLst/>
              <a:gdLst>
                <a:gd name="textAreaLeft" fmla="*/ 0 w 2575080"/>
                <a:gd name="textAreaRight" fmla="*/ 2575440 w 2575080"/>
                <a:gd name="textAreaTop" fmla="*/ 0 h 4500360"/>
                <a:gd name="textAreaBottom" fmla="*/ 4500720 h 4500360"/>
              </a:gdLst>
              <a:ahLst/>
              <a:rect l="textAreaLeft" t="textAreaTop" r="textAreaRight" b="textAreaBottom"/>
              <a:pathLst>
                <a:path w="21600" h="37747">
                  <a:moveTo>
                    <a:pt x="0" y="0"/>
                  </a:moveTo>
                  <a:arcTo wR="0" hR="0" stAng="16200000" swAng="-5400000"/>
                  <a:lnTo>
                    <a:pt x="0" y="37747"/>
                  </a:lnTo>
                  <a:arcTo wR="0" hR="0" stAng="10800000" swAng="-5400000"/>
                  <a:lnTo>
                    <a:pt x="21600" y="37747"/>
                  </a:lnTo>
                  <a:arcTo wR="0" hR="0" stAng="16200000" swAng="-5400000"/>
                  <a:lnTo>
                    <a:pt x="21600" y="0"/>
                  </a:lnTo>
                  <a:arcTo wR="0" hR="0" stAng="10800000" swAng="-5400000"/>
                  <a:close/>
                </a:path>
              </a:pathLst>
            </a:custGeom>
            <a:solidFill>
              <a:srgbClr val="d9d9d9">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모서리가 둥근 직사각형 240"/>
            <p:cNvSpPr/>
            <p:nvPr/>
          </p:nvSpPr>
          <p:spPr>
            <a:xfrm>
              <a:off x="6133680" y="1708200"/>
              <a:ext cx="2445120" cy="4360680"/>
            </a:xfrm>
            <a:custGeom>
              <a:avLst/>
              <a:gdLst>
                <a:gd name="textAreaLeft" fmla="*/ 0 w 2445120"/>
                <a:gd name="textAreaRight" fmla="*/ 2445480 w 2445120"/>
                <a:gd name="textAreaTop" fmla="*/ 0 h 4360680"/>
                <a:gd name="textAreaBottom" fmla="*/ 4360680 h 4360680"/>
              </a:gdLst>
              <a:ahLst/>
              <a:rect l="textAreaLeft" t="textAreaTop" r="textAreaRight" b="textAreaBottom"/>
              <a:pathLst>
                <a:path w="21600" h="38519">
                  <a:moveTo>
                    <a:pt x="0" y="0"/>
                  </a:moveTo>
                  <a:arcTo wR="0" hR="0" stAng="16200000" swAng="-5400000"/>
                  <a:lnTo>
                    <a:pt x="0" y="38519"/>
                  </a:lnTo>
                  <a:arcTo wR="0" hR="0" stAng="10800000" swAng="-5400000"/>
                  <a:lnTo>
                    <a:pt x="21600" y="38519"/>
                  </a:lnTo>
                  <a:arcTo wR="0" hR="0" stAng="16200000" swAng="-5400000"/>
                  <a:lnTo>
                    <a:pt x="21600" y="0"/>
                  </a:lnTo>
                  <a:arcTo wR="0" hR="0" stAng="10800000" swAng="-5400000"/>
                  <a:close/>
                </a:path>
              </a:pathLst>
            </a:cu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0" name="Group 35"/>
          <p:cNvGrpSpPr/>
          <p:nvPr/>
        </p:nvGrpSpPr>
        <p:grpSpPr>
          <a:xfrm>
            <a:off x="6141960" y="1814400"/>
            <a:ext cx="2428920" cy="1067040"/>
            <a:chOff x="6141960" y="1814400"/>
            <a:chExt cx="2428920" cy="1067040"/>
          </a:xfrm>
        </p:grpSpPr>
        <p:sp>
          <p:nvSpPr>
            <p:cNvPr id="631" name="직사각형 233"/>
            <p:cNvSpPr/>
            <p:nvPr/>
          </p:nvSpPr>
          <p:spPr>
            <a:xfrm>
              <a:off x="6141960" y="2135160"/>
              <a:ext cx="2428920" cy="425520"/>
            </a:xfrm>
            <a:prstGeom prst="rect">
              <a:avLst/>
            </a:prstGeom>
            <a:solidFill>
              <a:srgbClr val="00acee">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직사각형 235"/>
            <p:cNvSpPr/>
            <p:nvPr/>
          </p:nvSpPr>
          <p:spPr>
            <a:xfrm>
              <a:off x="6265800" y="1814400"/>
              <a:ext cx="2179800" cy="1067040"/>
            </a:xfrm>
            <a:prstGeom prst="rect">
              <a:avLst/>
            </a:prstGeom>
            <a:solidFill>
              <a:srgbClr val="00acee">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3" name="Group 38"/>
            <p:cNvGrpSpPr/>
            <p:nvPr/>
          </p:nvGrpSpPr>
          <p:grpSpPr>
            <a:xfrm>
              <a:off x="6334200" y="1883880"/>
              <a:ext cx="2042280" cy="945000"/>
              <a:chOff x="6334200" y="1883880"/>
              <a:chExt cx="2042280" cy="945000"/>
            </a:xfrm>
          </p:grpSpPr>
          <p:sp>
            <p:nvSpPr>
              <p:cNvPr id="634" name="직사각형 237"/>
              <p:cNvSpPr/>
              <p:nvPr/>
            </p:nvSpPr>
            <p:spPr>
              <a:xfrm>
                <a:off x="6334200" y="1883880"/>
                <a:ext cx="2042280" cy="94500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직사각형 238"/>
              <p:cNvSpPr/>
              <p:nvPr/>
            </p:nvSpPr>
            <p:spPr>
              <a:xfrm>
                <a:off x="6334200" y="1886760"/>
                <a:ext cx="2042280" cy="4986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36" name="Group 41"/>
          <p:cNvGrpSpPr/>
          <p:nvPr/>
        </p:nvGrpSpPr>
        <p:grpSpPr>
          <a:xfrm>
            <a:off x="6565320" y="1943280"/>
            <a:ext cx="1587240" cy="776160"/>
            <a:chOff x="6565320" y="1943280"/>
            <a:chExt cx="1587240" cy="776160"/>
          </a:xfrm>
        </p:grpSpPr>
        <p:sp>
          <p:nvSpPr>
            <p:cNvPr id="637" name="TextBox 231"/>
            <p:cNvSpPr/>
            <p:nvPr/>
          </p:nvSpPr>
          <p:spPr>
            <a:xfrm>
              <a:off x="6565320" y="244296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38" name="TextBox 232"/>
            <p:cNvSpPr/>
            <p:nvPr/>
          </p:nvSpPr>
          <p:spPr>
            <a:xfrm>
              <a:off x="6838560" y="194328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639" name="TextBox 227"/>
          <p:cNvSpPr/>
          <p:nvPr/>
        </p:nvSpPr>
        <p:spPr>
          <a:xfrm>
            <a:off x="6211800" y="30463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ee"/>
                </a:solidFill>
                <a:latin typeface="Arial Black"/>
                <a:ea typeface="HY견고딕"/>
              </a:rPr>
              <a:t>ASADAL</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ee"/>
                </a:solidFill>
                <a:latin typeface="Arial Black"/>
                <a:ea typeface="HY견고딕"/>
              </a:rPr>
              <a:t>INTERNET, INC.</a:t>
            </a:r>
            <a:endParaRPr b="0" lang="en-US" sz="1400" spc="-1" strike="noStrike">
              <a:solidFill>
                <a:srgbClr val="000000"/>
              </a:solidFill>
              <a:latin typeface="Gulim"/>
            </a:endParaRPr>
          </a:p>
        </p:txBody>
      </p:sp>
      <p:sp>
        <p:nvSpPr>
          <p:cNvPr id="640" name="TextBox 228"/>
          <p:cNvSpPr/>
          <p:nvPr/>
        </p:nvSpPr>
        <p:spPr>
          <a:xfrm>
            <a:off x="6168960" y="3571920"/>
            <a:ext cx="2379600" cy="29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a:t>
            </a:r>
            <a:br>
              <a:rPr sz="1100"/>
            </a:br>
            <a:r>
              <a:rPr b="0" lang="en-US" sz="1100" spc="-1" strike="noStrike">
                <a:solidFill>
                  <a:srgbClr val="6f6f6f"/>
                </a:solidFill>
                <a:latin typeface="Arial"/>
                <a:ea typeface="HY견고딕"/>
              </a:rPr>
              <a:t>Korea in February 1998 with the fundamental goal of providing</a:t>
            </a:r>
            <a:br>
              <a:rPr sz="1100"/>
            </a:b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2"/>
          <p:cNvGrpSpPr/>
          <p:nvPr/>
        </p:nvGrpSpPr>
        <p:grpSpPr>
          <a:xfrm>
            <a:off x="214200" y="1684440"/>
            <a:ext cx="4159440" cy="4159080"/>
            <a:chOff x="214200" y="1684440"/>
            <a:chExt cx="4159440" cy="4159080"/>
          </a:xfrm>
        </p:grpSpPr>
        <p:sp>
          <p:nvSpPr>
            <p:cNvPr id="642" name="타원 25"/>
            <p:cNvSpPr/>
            <p:nvPr/>
          </p:nvSpPr>
          <p:spPr>
            <a:xfrm>
              <a:off x="214200" y="1684440"/>
              <a:ext cx="4159440" cy="415908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타원 22"/>
            <p:cNvSpPr/>
            <p:nvPr/>
          </p:nvSpPr>
          <p:spPr>
            <a:xfrm>
              <a:off x="391680" y="1861920"/>
              <a:ext cx="3804120" cy="3803760"/>
            </a:xfrm>
            <a:prstGeom prst="ellipse">
              <a:avLst/>
            </a:prstGeom>
            <a:solidFill>
              <a:srgbClr val="ffc000">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타원 23"/>
          <p:cNvSpPr/>
          <p:nvPr/>
        </p:nvSpPr>
        <p:spPr>
          <a:xfrm>
            <a:off x="716040" y="2217600"/>
            <a:ext cx="3154320" cy="3092760"/>
          </a:xfrm>
          <a:prstGeom prst="ellipse">
            <a:avLst/>
          </a:prstGeom>
          <a:solidFill>
            <a:srgbClr val="ffc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646"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47" name="자유형 36"/>
          <p:cNvSpPr/>
          <p:nvPr/>
        </p:nvSpPr>
        <p:spPr>
          <a:xfrm>
            <a:off x="3375000" y="3333600"/>
            <a:ext cx="5483160" cy="862200"/>
          </a:xfrm>
          <a:custGeom>
            <a:avLst/>
            <a:gdLst>
              <a:gd name="textAreaLeft" fmla="*/ 0 w 5483160"/>
              <a:gd name="textAreaRight" fmla="*/ 5483520 w 5483160"/>
              <a:gd name="textAreaTop" fmla="*/ 0 h 862200"/>
              <a:gd name="textAreaBottom" fmla="*/ 862560 h 862200"/>
            </a:gdLst>
            <a:ahLst/>
            <a:rect l="textAreaLeft" t="textAreaTop" r="textAreaRight" b="textAreaBottom"/>
            <a:pathLst>
              <a:path w="5557319" h="861848">
                <a:moveTo>
                  <a:pt x="0" y="0"/>
                </a:moveTo>
                <a:lnTo>
                  <a:pt x="5557319" y="0"/>
                </a:lnTo>
                <a:lnTo>
                  <a:pt x="5557319" y="861848"/>
                </a:lnTo>
                <a:lnTo>
                  <a:pt x="228574" y="861848"/>
                </a:lnTo>
              </a:path>
            </a:pathLst>
          </a:custGeom>
          <a:noFill/>
          <a:ln w="38160">
            <a:solidFill>
              <a:srgbClr val="4f6228"/>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48" name="Group 9"/>
          <p:cNvGrpSpPr/>
          <p:nvPr/>
        </p:nvGrpSpPr>
        <p:grpSpPr>
          <a:xfrm>
            <a:off x="1039680" y="2506680"/>
            <a:ext cx="2505240" cy="2504880"/>
            <a:chOff x="1039680" y="2506680"/>
            <a:chExt cx="2505240" cy="2504880"/>
          </a:xfrm>
        </p:grpSpPr>
        <p:sp>
          <p:nvSpPr>
            <p:cNvPr id="649" name="타원 24"/>
            <p:cNvSpPr/>
            <p:nvPr/>
          </p:nvSpPr>
          <p:spPr>
            <a:xfrm>
              <a:off x="1053720" y="2523960"/>
              <a:ext cx="2480040" cy="247968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도넛 34"/>
            <p:cNvSpPr/>
            <p:nvPr/>
          </p:nvSpPr>
          <p:spPr>
            <a:xfrm>
              <a:off x="1039680" y="2506680"/>
              <a:ext cx="2505240" cy="2504880"/>
            </a:xfrm>
            <a:custGeom>
              <a:avLst/>
              <a:gdLst>
                <a:gd name="textAreaLeft" fmla="*/ 366840 w 2505240"/>
                <a:gd name="textAreaRight" fmla="*/ 2138400 w 2505240"/>
                <a:gd name="textAreaTop" fmla="*/ 366840 h 2504880"/>
                <a:gd name="textAreaBottom" fmla="*/ 2138040 h 2504880"/>
              </a:gdLst>
              <a:ahLst/>
              <a:rect l="textAreaLeft" t="textAreaTop" r="textAreaRight" b="textAreaBottom"/>
              <a:pathLst>
                <a:path w="2504826" h="2504826">
                  <a:moveTo>
                    <a:pt x="0" y="1252413"/>
                  </a:moveTo>
                  <a:lnTo>
                    <a:pt x="0" y="1252413"/>
                  </a:lnTo>
                  <a:cubicBezTo>
                    <a:pt x="0" y="560724"/>
                    <a:pt x="560724" y="1"/>
                    <a:pt x="1252413" y="1"/>
                  </a:cubicBezTo>
                  <a:cubicBezTo>
                    <a:pt x="1252413" y="1"/>
                    <a:pt x="1252414" y="1"/>
                    <a:pt x="1252414" y="1"/>
                  </a:cubicBezTo>
                  <a:cubicBezTo>
                    <a:pt x="1944103" y="1"/>
                    <a:pt x="2504827" y="560725"/>
                    <a:pt x="2504827" y="1252414"/>
                  </a:cubicBezTo>
                  <a:cubicBezTo>
                    <a:pt x="2504827" y="1252414"/>
                    <a:pt x="2504826" y="1252415"/>
                    <a:pt x="2504826" y="1252416"/>
                  </a:cubicBezTo>
                  <a:lnTo>
                    <a:pt x="2504827" y="1252416"/>
                  </a:lnTo>
                  <a:cubicBezTo>
                    <a:pt x="2504827" y="1944104"/>
                    <a:pt x="1944102" y="2504829"/>
                    <a:pt x="1252414" y="2504829"/>
                  </a:cubicBezTo>
                  <a:cubicBezTo>
                    <a:pt x="1252413" y="2504829"/>
                    <a:pt x="1252413" y="2504828"/>
                    <a:pt x="1252413" y="2504828"/>
                  </a:cubicBezTo>
                  <a:cubicBezTo>
                    <a:pt x="560724" y="2504828"/>
                    <a:pt x="1" y="1944104"/>
                    <a:pt x="1" y="1252416"/>
                  </a:cubicBezTo>
                  <a:cubicBezTo>
                    <a:pt x="1" y="1252415"/>
                    <a:pt x="1" y="1252415"/>
                    <a:pt x="1" y="1252414"/>
                  </a:cubicBezTo>
                  <a:lnTo>
                    <a:pt x="0" y="1252413"/>
                  </a:lnTo>
                  <a:close/>
                  <a:moveTo>
                    <a:pt x="278161" y="1252413"/>
                  </a:moveTo>
                  <a:lnTo>
                    <a:pt x="278161" y="1252413"/>
                  </a:lnTo>
                  <a:cubicBezTo>
                    <a:pt x="278161" y="1252413"/>
                    <a:pt x="278161" y="1252413"/>
                    <a:pt x="278161" y="1252413"/>
                  </a:cubicBezTo>
                  <a:cubicBezTo>
                    <a:pt x="278161" y="1790478"/>
                    <a:pt x="714347" y="2226665"/>
                    <a:pt x="1252412" y="2226665"/>
                  </a:cubicBezTo>
                  <a:cubicBezTo>
                    <a:pt x="1252412" y="2226665"/>
                    <a:pt x="1252412" y="2226666"/>
                    <a:pt x="1252413" y="2226666"/>
                  </a:cubicBezTo>
                  <a:cubicBezTo>
                    <a:pt x="1790477" y="2226666"/>
                    <a:pt x="2226664" y="1790479"/>
                    <a:pt x="2226664" y="1252415"/>
                  </a:cubicBezTo>
                  <a:lnTo>
                    <a:pt x="2226665" y="1252415"/>
                  </a:lnTo>
                  <a:cubicBezTo>
                    <a:pt x="2226665" y="714350"/>
                    <a:pt x="1790477" y="278163"/>
                    <a:pt x="1252413" y="278163"/>
                  </a:cubicBezTo>
                  <a:cubicBezTo>
                    <a:pt x="1252412" y="278163"/>
                    <a:pt x="1252412" y="278163"/>
                    <a:pt x="1252412" y="278163"/>
                  </a:cubicBezTo>
                  <a:cubicBezTo>
                    <a:pt x="714347" y="278163"/>
                    <a:pt x="278160" y="714349"/>
                    <a:pt x="278160" y="1252414"/>
                  </a:cubicBezTo>
                  <a:lnTo>
                    <a:pt x="278161" y="1252413"/>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651" name="TextBox 41"/>
          <p:cNvSpPr/>
          <p:nvPr/>
        </p:nvSpPr>
        <p:spPr>
          <a:xfrm>
            <a:off x="3643200" y="5286240"/>
            <a:ext cx="5143680" cy="809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f6228"/>
                </a:solidFill>
                <a:latin typeface="Arial Black"/>
                <a:ea typeface="HY견고딕"/>
              </a:rPr>
              <a:t>ASADAL INTERNET, INC</a:t>
            </a:r>
            <a:r>
              <a:rPr b="0" lang="en-US" sz="1600" spc="-1" strike="noStrike">
                <a:solidFill>
                  <a:srgbClr val="4f6228"/>
                </a:solidFill>
                <a:latin typeface="Arial Black"/>
                <a:ea typeface="HY견고딕"/>
              </a:rPr>
              <a:t>.</a:t>
            </a:r>
            <a:endParaRPr b="0" lang="en-US" sz="16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grpSp>
        <p:nvGrpSpPr>
          <p:cNvPr id="652" name="Group 13"/>
          <p:cNvGrpSpPr/>
          <p:nvPr/>
        </p:nvGrpSpPr>
        <p:grpSpPr>
          <a:xfrm>
            <a:off x="4371840" y="3008160"/>
            <a:ext cx="1229040" cy="648000"/>
            <a:chOff x="4371840" y="3008160"/>
            <a:chExt cx="1229040" cy="648000"/>
          </a:xfrm>
        </p:grpSpPr>
        <p:grpSp>
          <p:nvGrpSpPr>
            <p:cNvPr id="653" name="Group 14"/>
            <p:cNvGrpSpPr/>
            <p:nvPr/>
          </p:nvGrpSpPr>
          <p:grpSpPr>
            <a:xfrm>
              <a:off x="4371840" y="3008160"/>
              <a:ext cx="1229040" cy="648000"/>
              <a:chOff x="4371840" y="3008160"/>
              <a:chExt cx="1229040" cy="648000"/>
            </a:xfrm>
          </p:grpSpPr>
          <p:sp>
            <p:nvSpPr>
              <p:cNvPr id="654" name="모서리가 둥근 직사각형 43"/>
              <p:cNvSpPr/>
              <p:nvPr/>
            </p:nvSpPr>
            <p:spPr>
              <a:xfrm>
                <a:off x="4371840" y="3008160"/>
                <a:ext cx="1229040" cy="64800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모서리가 둥근 직사각형 35"/>
              <p:cNvSpPr/>
              <p:nvPr/>
            </p:nvSpPr>
            <p:spPr>
              <a:xfrm>
                <a:off x="4416120" y="3045960"/>
                <a:ext cx="1140120" cy="57204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모서리가 둥근 직사각형 42"/>
              <p:cNvSpPr/>
              <p:nvPr/>
            </p:nvSpPr>
            <p:spPr>
              <a:xfrm flipV="1">
                <a:off x="4455720" y="3085920"/>
                <a:ext cx="1060920" cy="49248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7" name="TextBox 86"/>
            <p:cNvSpPr/>
            <p:nvPr/>
          </p:nvSpPr>
          <p:spPr>
            <a:xfrm>
              <a:off x="4608360" y="313200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58" name="Group 19"/>
          <p:cNvGrpSpPr/>
          <p:nvPr/>
        </p:nvGrpSpPr>
        <p:grpSpPr>
          <a:xfrm>
            <a:off x="5872320" y="3008160"/>
            <a:ext cx="1228680" cy="648000"/>
            <a:chOff x="5872320" y="3008160"/>
            <a:chExt cx="1228680" cy="648000"/>
          </a:xfrm>
        </p:grpSpPr>
        <p:grpSp>
          <p:nvGrpSpPr>
            <p:cNvPr id="659" name="Group 20"/>
            <p:cNvGrpSpPr/>
            <p:nvPr/>
          </p:nvGrpSpPr>
          <p:grpSpPr>
            <a:xfrm>
              <a:off x="5872320" y="3008160"/>
              <a:ext cx="1228680" cy="648000"/>
              <a:chOff x="5872320" y="3008160"/>
              <a:chExt cx="1228680" cy="648000"/>
            </a:xfrm>
          </p:grpSpPr>
          <p:sp>
            <p:nvSpPr>
              <p:cNvPr id="660" name="모서리가 둥근 직사각형 109"/>
              <p:cNvSpPr/>
              <p:nvPr/>
            </p:nvSpPr>
            <p:spPr>
              <a:xfrm>
                <a:off x="5872320" y="3008160"/>
                <a:ext cx="1228680" cy="64800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모서리가 둥근 직사각형 113"/>
              <p:cNvSpPr/>
              <p:nvPr/>
            </p:nvSpPr>
            <p:spPr>
              <a:xfrm>
                <a:off x="5916600" y="3045960"/>
                <a:ext cx="1139760" cy="57204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모서리가 둥근 직사각형 114"/>
              <p:cNvSpPr/>
              <p:nvPr/>
            </p:nvSpPr>
            <p:spPr>
              <a:xfrm flipV="1">
                <a:off x="5956200" y="3085920"/>
                <a:ext cx="1060560" cy="49248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3" name="TextBox 105"/>
            <p:cNvSpPr/>
            <p:nvPr/>
          </p:nvSpPr>
          <p:spPr>
            <a:xfrm>
              <a:off x="6108840" y="313200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64" name="Group 25"/>
          <p:cNvGrpSpPr/>
          <p:nvPr/>
        </p:nvGrpSpPr>
        <p:grpSpPr>
          <a:xfrm>
            <a:off x="7372440" y="3008160"/>
            <a:ext cx="1228680" cy="648000"/>
            <a:chOff x="7372440" y="3008160"/>
            <a:chExt cx="1228680" cy="648000"/>
          </a:xfrm>
        </p:grpSpPr>
        <p:grpSp>
          <p:nvGrpSpPr>
            <p:cNvPr id="665" name="Group 26"/>
            <p:cNvGrpSpPr/>
            <p:nvPr/>
          </p:nvGrpSpPr>
          <p:grpSpPr>
            <a:xfrm>
              <a:off x="7372440" y="3008160"/>
              <a:ext cx="1228680" cy="648000"/>
              <a:chOff x="7372440" y="3008160"/>
              <a:chExt cx="1228680" cy="648000"/>
            </a:xfrm>
          </p:grpSpPr>
          <p:sp>
            <p:nvSpPr>
              <p:cNvPr id="666" name="모서리가 둥근 직사각형 119"/>
              <p:cNvSpPr/>
              <p:nvPr/>
            </p:nvSpPr>
            <p:spPr>
              <a:xfrm>
                <a:off x="7372440" y="3008160"/>
                <a:ext cx="1228680" cy="64800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모서리가 둥근 직사각형 120"/>
              <p:cNvSpPr/>
              <p:nvPr/>
            </p:nvSpPr>
            <p:spPr>
              <a:xfrm>
                <a:off x="7416720" y="3045960"/>
                <a:ext cx="1139760" cy="57204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모서리가 둥근 직사각형 121"/>
              <p:cNvSpPr/>
              <p:nvPr/>
            </p:nvSpPr>
            <p:spPr>
              <a:xfrm flipV="1">
                <a:off x="7456320" y="3085920"/>
                <a:ext cx="1060560" cy="49248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9" name="TextBox 118"/>
            <p:cNvSpPr/>
            <p:nvPr/>
          </p:nvSpPr>
          <p:spPr>
            <a:xfrm>
              <a:off x="7608960" y="313200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70" name="Group 31"/>
          <p:cNvGrpSpPr/>
          <p:nvPr/>
        </p:nvGrpSpPr>
        <p:grpSpPr>
          <a:xfrm>
            <a:off x="4403880" y="3862440"/>
            <a:ext cx="1228680" cy="647640"/>
            <a:chOff x="4403880" y="3862440"/>
            <a:chExt cx="1228680" cy="647640"/>
          </a:xfrm>
        </p:grpSpPr>
        <p:grpSp>
          <p:nvGrpSpPr>
            <p:cNvPr id="671" name="Group 32"/>
            <p:cNvGrpSpPr/>
            <p:nvPr/>
          </p:nvGrpSpPr>
          <p:grpSpPr>
            <a:xfrm>
              <a:off x="4403880" y="3862440"/>
              <a:ext cx="1228680" cy="647640"/>
              <a:chOff x="4403880" y="3862440"/>
              <a:chExt cx="1228680" cy="647640"/>
            </a:xfrm>
          </p:grpSpPr>
          <p:sp>
            <p:nvSpPr>
              <p:cNvPr id="672" name="모서리가 둥근 직사각형 125"/>
              <p:cNvSpPr/>
              <p:nvPr/>
            </p:nvSpPr>
            <p:spPr>
              <a:xfrm>
                <a:off x="4403880" y="3862440"/>
                <a:ext cx="1228680" cy="64764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모서리가 둥근 직사각형 126"/>
              <p:cNvSpPr/>
              <p:nvPr/>
            </p:nvSpPr>
            <p:spPr>
              <a:xfrm>
                <a:off x="4448160" y="3900240"/>
                <a:ext cx="1139760" cy="57168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모서리가 둥근 직사각형 127"/>
              <p:cNvSpPr/>
              <p:nvPr/>
            </p:nvSpPr>
            <p:spPr>
              <a:xfrm flipV="1">
                <a:off x="4487760" y="3939480"/>
                <a:ext cx="1060560" cy="49212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5" name="TextBox 124"/>
            <p:cNvSpPr/>
            <p:nvPr/>
          </p:nvSpPr>
          <p:spPr>
            <a:xfrm>
              <a:off x="4640400" y="39862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76" name="Group 37"/>
          <p:cNvGrpSpPr/>
          <p:nvPr/>
        </p:nvGrpSpPr>
        <p:grpSpPr>
          <a:xfrm>
            <a:off x="5904000" y="3862440"/>
            <a:ext cx="1228680" cy="647640"/>
            <a:chOff x="5904000" y="3862440"/>
            <a:chExt cx="1228680" cy="647640"/>
          </a:xfrm>
        </p:grpSpPr>
        <p:grpSp>
          <p:nvGrpSpPr>
            <p:cNvPr id="677" name="Group 38"/>
            <p:cNvGrpSpPr/>
            <p:nvPr/>
          </p:nvGrpSpPr>
          <p:grpSpPr>
            <a:xfrm>
              <a:off x="5904000" y="3862440"/>
              <a:ext cx="1228680" cy="647640"/>
              <a:chOff x="5904000" y="3862440"/>
              <a:chExt cx="1228680" cy="647640"/>
            </a:xfrm>
          </p:grpSpPr>
          <p:sp>
            <p:nvSpPr>
              <p:cNvPr id="678" name="모서리가 둥근 직사각형 131"/>
              <p:cNvSpPr/>
              <p:nvPr/>
            </p:nvSpPr>
            <p:spPr>
              <a:xfrm>
                <a:off x="5904000" y="3862440"/>
                <a:ext cx="1228680" cy="64764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모서리가 둥근 직사각형 132"/>
              <p:cNvSpPr/>
              <p:nvPr/>
            </p:nvSpPr>
            <p:spPr>
              <a:xfrm>
                <a:off x="5948280" y="3900240"/>
                <a:ext cx="1139760" cy="57168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모서리가 둥근 직사각형 133"/>
              <p:cNvSpPr/>
              <p:nvPr/>
            </p:nvSpPr>
            <p:spPr>
              <a:xfrm flipV="1">
                <a:off x="5987880" y="3939480"/>
                <a:ext cx="1060560" cy="49212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1" name="TextBox 130"/>
            <p:cNvSpPr/>
            <p:nvPr/>
          </p:nvSpPr>
          <p:spPr>
            <a:xfrm>
              <a:off x="6140520" y="39862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82" name="Group 43"/>
          <p:cNvGrpSpPr/>
          <p:nvPr/>
        </p:nvGrpSpPr>
        <p:grpSpPr>
          <a:xfrm>
            <a:off x="7404120" y="3862440"/>
            <a:ext cx="1228680" cy="647640"/>
            <a:chOff x="7404120" y="3862440"/>
            <a:chExt cx="1228680" cy="647640"/>
          </a:xfrm>
        </p:grpSpPr>
        <p:grpSp>
          <p:nvGrpSpPr>
            <p:cNvPr id="683" name="Group 44"/>
            <p:cNvGrpSpPr/>
            <p:nvPr/>
          </p:nvGrpSpPr>
          <p:grpSpPr>
            <a:xfrm>
              <a:off x="7404120" y="3862440"/>
              <a:ext cx="1228680" cy="647640"/>
              <a:chOff x="7404120" y="3862440"/>
              <a:chExt cx="1228680" cy="647640"/>
            </a:xfrm>
          </p:grpSpPr>
          <p:sp>
            <p:nvSpPr>
              <p:cNvPr id="684" name="모서리가 둥근 직사각형 137"/>
              <p:cNvSpPr/>
              <p:nvPr/>
            </p:nvSpPr>
            <p:spPr>
              <a:xfrm>
                <a:off x="7404120" y="3862440"/>
                <a:ext cx="1228680" cy="647640"/>
              </a:xfrm>
              <a:prstGeom prst="roundRect">
                <a:avLst>
                  <a:gd name="adj" fmla="val 11764"/>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모서리가 둥근 직사각형 138"/>
              <p:cNvSpPr/>
              <p:nvPr/>
            </p:nvSpPr>
            <p:spPr>
              <a:xfrm>
                <a:off x="7448400" y="3900240"/>
                <a:ext cx="1139760" cy="571680"/>
              </a:xfrm>
              <a:prstGeom prst="roundRect">
                <a:avLst>
                  <a:gd name="adj" fmla="val 11764"/>
                </a:avLst>
              </a:prstGeom>
              <a:solidFill>
                <a:srgbClr val="9bd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모서리가 둥근 직사각형 139"/>
              <p:cNvSpPr/>
              <p:nvPr/>
            </p:nvSpPr>
            <p:spPr>
              <a:xfrm flipV="1">
                <a:off x="7488000" y="3939480"/>
                <a:ext cx="1060560" cy="492120"/>
              </a:xfrm>
              <a:prstGeom prst="roundRect">
                <a:avLst>
                  <a:gd name="adj" fmla="val 11764"/>
                </a:avLst>
              </a:prstGeom>
              <a:solidFill>
                <a:srgbClr val="009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7" name="TextBox 136"/>
            <p:cNvSpPr/>
            <p:nvPr/>
          </p:nvSpPr>
          <p:spPr>
            <a:xfrm>
              <a:off x="7640640" y="39862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grpSp>
        <p:nvGrpSpPr>
          <p:cNvPr id="688" name="Group 49"/>
          <p:cNvGrpSpPr/>
          <p:nvPr/>
        </p:nvGrpSpPr>
        <p:grpSpPr>
          <a:xfrm>
            <a:off x="1499400" y="3303720"/>
            <a:ext cx="1587240" cy="919800"/>
            <a:chOff x="1499400" y="3303720"/>
            <a:chExt cx="1587240" cy="919800"/>
          </a:xfrm>
        </p:grpSpPr>
        <p:sp>
          <p:nvSpPr>
            <p:cNvPr id="689" name="TextBox 28"/>
            <p:cNvSpPr/>
            <p:nvPr/>
          </p:nvSpPr>
          <p:spPr>
            <a:xfrm>
              <a:off x="1499400" y="394704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90" name="TextBox 31"/>
            <p:cNvSpPr/>
            <p:nvPr/>
          </p:nvSpPr>
          <p:spPr>
            <a:xfrm>
              <a:off x="1702080" y="3303720"/>
              <a:ext cx="118188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HY견고딕"/>
                  <a:ea typeface="HY견고딕"/>
                </a:rPr>
                <a:t>TEXT</a:t>
              </a:r>
              <a:endParaRPr b="0" lang="en-US" sz="3500" spc="-1" strike="noStrike">
                <a:solidFill>
                  <a:srgbClr val="000000"/>
                </a:solidFill>
                <a:latin typeface="Gulim"/>
              </a:endParaRPr>
            </a:p>
          </p:txBody>
        </p:sp>
      </p:grpSp>
      <p:sp>
        <p:nvSpPr>
          <p:cNvPr id="691" name="TextBox 53"/>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693"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694"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
        <p:nvSpPr>
          <p:cNvPr id="695" name="직사각형 79"/>
          <p:cNvSpPr/>
          <p:nvPr/>
        </p:nvSpPr>
        <p:spPr>
          <a:xfrm>
            <a:off x="3290760" y="2735280"/>
            <a:ext cx="2563920" cy="1947960"/>
          </a:xfrm>
          <a:prstGeom prst="rect">
            <a:avLst/>
          </a:prstGeom>
          <a:noFill/>
          <a:ln w="5076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6" name="Group 6"/>
          <p:cNvGrpSpPr/>
          <p:nvPr/>
        </p:nvGrpSpPr>
        <p:grpSpPr>
          <a:xfrm>
            <a:off x="4805280" y="3908520"/>
            <a:ext cx="1638360" cy="1235160"/>
            <a:chOff x="4805280" y="3908520"/>
            <a:chExt cx="1638360" cy="1235160"/>
          </a:xfrm>
        </p:grpSpPr>
        <p:sp>
          <p:nvSpPr>
            <p:cNvPr id="697" name="직사각형 49"/>
            <p:cNvSpPr/>
            <p:nvPr/>
          </p:nvSpPr>
          <p:spPr>
            <a:xfrm>
              <a:off x="4805280" y="3908520"/>
              <a:ext cx="1638360" cy="123516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직사각형 50"/>
            <p:cNvSpPr/>
            <p:nvPr/>
          </p:nvSpPr>
          <p:spPr>
            <a:xfrm>
              <a:off x="4881240" y="3987720"/>
              <a:ext cx="1486080" cy="107640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직사각형 51"/>
            <p:cNvSpPr/>
            <p:nvPr/>
          </p:nvSpPr>
          <p:spPr>
            <a:xfrm>
              <a:off x="4881240" y="3987720"/>
              <a:ext cx="14860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직사각형 52"/>
            <p:cNvSpPr/>
            <p:nvPr/>
          </p:nvSpPr>
          <p:spPr>
            <a:xfrm>
              <a:off x="4881240" y="4934160"/>
              <a:ext cx="14860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1" name="Group 11"/>
          <p:cNvGrpSpPr/>
          <p:nvPr/>
        </p:nvGrpSpPr>
        <p:grpSpPr>
          <a:xfrm>
            <a:off x="2701800" y="2287440"/>
            <a:ext cx="1640160" cy="1235160"/>
            <a:chOff x="2701800" y="2287440"/>
            <a:chExt cx="1640160" cy="1235160"/>
          </a:xfrm>
        </p:grpSpPr>
        <p:sp>
          <p:nvSpPr>
            <p:cNvPr id="702" name="직사각형 55"/>
            <p:cNvSpPr/>
            <p:nvPr/>
          </p:nvSpPr>
          <p:spPr>
            <a:xfrm>
              <a:off x="2701800" y="2287440"/>
              <a:ext cx="1640160" cy="123516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직사각형 56"/>
            <p:cNvSpPr/>
            <p:nvPr/>
          </p:nvSpPr>
          <p:spPr>
            <a:xfrm>
              <a:off x="2777760" y="2366640"/>
              <a:ext cx="1487880" cy="107640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직사각형 57"/>
            <p:cNvSpPr/>
            <p:nvPr/>
          </p:nvSpPr>
          <p:spPr>
            <a:xfrm>
              <a:off x="2777760" y="2366640"/>
              <a:ext cx="14878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직사각형 58"/>
            <p:cNvSpPr/>
            <p:nvPr/>
          </p:nvSpPr>
          <p:spPr>
            <a:xfrm>
              <a:off x="2777760" y="3313080"/>
              <a:ext cx="14878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6" name="Group 16"/>
          <p:cNvGrpSpPr/>
          <p:nvPr/>
        </p:nvGrpSpPr>
        <p:grpSpPr>
          <a:xfrm>
            <a:off x="2701800" y="3908520"/>
            <a:ext cx="1640160" cy="1235160"/>
            <a:chOff x="2701800" y="3908520"/>
            <a:chExt cx="1640160" cy="1235160"/>
          </a:xfrm>
        </p:grpSpPr>
        <p:sp>
          <p:nvSpPr>
            <p:cNvPr id="707" name="직사각형 60"/>
            <p:cNvSpPr/>
            <p:nvPr/>
          </p:nvSpPr>
          <p:spPr>
            <a:xfrm>
              <a:off x="2701800" y="3908520"/>
              <a:ext cx="1640160" cy="123516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직사각형 61"/>
            <p:cNvSpPr/>
            <p:nvPr/>
          </p:nvSpPr>
          <p:spPr>
            <a:xfrm>
              <a:off x="2777760" y="3987720"/>
              <a:ext cx="1487880" cy="107640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직사각형 62"/>
            <p:cNvSpPr/>
            <p:nvPr/>
          </p:nvSpPr>
          <p:spPr>
            <a:xfrm>
              <a:off x="2777760" y="3987720"/>
              <a:ext cx="14878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직사각형 63"/>
            <p:cNvSpPr/>
            <p:nvPr/>
          </p:nvSpPr>
          <p:spPr>
            <a:xfrm>
              <a:off x="2777760" y="4934160"/>
              <a:ext cx="14878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1" name="Group 21"/>
          <p:cNvGrpSpPr/>
          <p:nvPr/>
        </p:nvGrpSpPr>
        <p:grpSpPr>
          <a:xfrm>
            <a:off x="4805280" y="2287440"/>
            <a:ext cx="1638360" cy="1235160"/>
            <a:chOff x="4805280" y="2287440"/>
            <a:chExt cx="1638360" cy="1235160"/>
          </a:xfrm>
        </p:grpSpPr>
        <p:sp>
          <p:nvSpPr>
            <p:cNvPr id="712" name="직사각형 65"/>
            <p:cNvSpPr/>
            <p:nvPr/>
          </p:nvSpPr>
          <p:spPr>
            <a:xfrm>
              <a:off x="4805280" y="2287440"/>
              <a:ext cx="1638360" cy="123516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직사각형 66"/>
            <p:cNvSpPr/>
            <p:nvPr/>
          </p:nvSpPr>
          <p:spPr>
            <a:xfrm>
              <a:off x="4881240" y="2366640"/>
              <a:ext cx="1486080" cy="107640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직사각형 67"/>
            <p:cNvSpPr/>
            <p:nvPr/>
          </p:nvSpPr>
          <p:spPr>
            <a:xfrm>
              <a:off x="4881240" y="2366640"/>
              <a:ext cx="14860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직사각형 68"/>
            <p:cNvSpPr/>
            <p:nvPr/>
          </p:nvSpPr>
          <p:spPr>
            <a:xfrm>
              <a:off x="4881240" y="3313080"/>
              <a:ext cx="148608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Group 26"/>
          <p:cNvGrpSpPr/>
          <p:nvPr/>
        </p:nvGrpSpPr>
        <p:grpSpPr>
          <a:xfrm>
            <a:off x="3738600" y="3089160"/>
            <a:ext cx="1639800" cy="1235160"/>
            <a:chOff x="3738600" y="3089160"/>
            <a:chExt cx="1639800" cy="1235160"/>
          </a:xfrm>
        </p:grpSpPr>
        <p:sp>
          <p:nvSpPr>
            <p:cNvPr id="717" name="직사각형 73"/>
            <p:cNvSpPr/>
            <p:nvPr/>
          </p:nvSpPr>
          <p:spPr>
            <a:xfrm>
              <a:off x="3738600" y="3089160"/>
              <a:ext cx="1639800" cy="12351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직사각형 74"/>
            <p:cNvSpPr/>
            <p:nvPr/>
          </p:nvSpPr>
          <p:spPr>
            <a:xfrm>
              <a:off x="3814560" y="3168360"/>
              <a:ext cx="1487520" cy="10764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직사각형 75"/>
            <p:cNvSpPr/>
            <p:nvPr/>
          </p:nvSpPr>
          <p:spPr>
            <a:xfrm>
              <a:off x="3814560" y="3168360"/>
              <a:ext cx="148752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직사각형 76"/>
            <p:cNvSpPr/>
            <p:nvPr/>
          </p:nvSpPr>
          <p:spPr>
            <a:xfrm>
              <a:off x="3814560" y="4114800"/>
              <a:ext cx="1487520" cy="1252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1" name="TextBox 82"/>
          <p:cNvSpPr/>
          <p:nvPr/>
        </p:nvSpPr>
        <p:spPr>
          <a:xfrm>
            <a:off x="3091680" y="259236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722" name="TextBox 83"/>
          <p:cNvSpPr/>
          <p:nvPr/>
        </p:nvSpPr>
        <p:spPr>
          <a:xfrm>
            <a:off x="3091680" y="434484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723" name="TextBox 84"/>
          <p:cNvSpPr/>
          <p:nvPr/>
        </p:nvSpPr>
        <p:spPr>
          <a:xfrm>
            <a:off x="5195880" y="434484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724" name="TextBox 85"/>
          <p:cNvSpPr/>
          <p:nvPr/>
        </p:nvSpPr>
        <p:spPr>
          <a:xfrm>
            <a:off x="5195880" y="259236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grpSp>
        <p:nvGrpSpPr>
          <p:cNvPr id="725" name="Group 35"/>
          <p:cNvGrpSpPr/>
          <p:nvPr/>
        </p:nvGrpSpPr>
        <p:grpSpPr>
          <a:xfrm>
            <a:off x="3939120" y="3355920"/>
            <a:ext cx="1236960" cy="703800"/>
            <a:chOff x="3939120" y="3355920"/>
            <a:chExt cx="1236960" cy="703800"/>
          </a:xfrm>
        </p:grpSpPr>
        <p:sp>
          <p:nvSpPr>
            <p:cNvPr id="726" name="TextBox 88"/>
            <p:cNvSpPr/>
            <p:nvPr/>
          </p:nvSpPr>
          <p:spPr>
            <a:xfrm>
              <a:off x="4093920" y="3355920"/>
              <a:ext cx="9273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견고딕"/>
                  <a:ea typeface="HY견고딕"/>
                </a:rPr>
                <a:t>TEXT</a:t>
              </a:r>
              <a:endParaRPr b="0" lang="en-US" sz="2600" spc="-1" strike="noStrike">
                <a:solidFill>
                  <a:srgbClr val="000000"/>
                </a:solidFill>
                <a:latin typeface="Gulim"/>
              </a:endParaRPr>
            </a:p>
          </p:txBody>
        </p:sp>
        <p:sp>
          <p:nvSpPr>
            <p:cNvPr id="727" name="TextBox 89"/>
            <p:cNvSpPr/>
            <p:nvPr/>
          </p:nvSpPr>
          <p:spPr>
            <a:xfrm>
              <a:off x="3939120" y="382860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Y견고딕"/>
                  <a:ea typeface="HY견고딕"/>
                </a:rPr>
                <a:t>CLICK TO ADD TEXT</a:t>
              </a:r>
              <a:endParaRPr b="0" lang="en-US" sz="900" spc="-1" strike="noStrike">
                <a:solidFill>
                  <a:srgbClr val="000000"/>
                </a:solidFill>
                <a:latin typeface="Gulim"/>
              </a:endParaRPr>
            </a:p>
          </p:txBody>
        </p:sp>
      </p:grpSp>
      <p:sp>
        <p:nvSpPr>
          <p:cNvPr id="728" name="TextBox 91"/>
          <p:cNvSpPr/>
          <p:nvPr/>
        </p:nvSpPr>
        <p:spPr>
          <a:xfrm>
            <a:off x="214200" y="2413080"/>
            <a:ext cx="24289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ea00"/>
                </a:solidFill>
                <a:latin typeface="Arial Black"/>
                <a:ea typeface="HY견고딕"/>
              </a:rPr>
              <a:t>ASADAL INTERNET, INC.</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729" name="TextBox 92"/>
          <p:cNvSpPr/>
          <p:nvPr/>
        </p:nvSpPr>
        <p:spPr>
          <a:xfrm>
            <a:off x="214200" y="4056120"/>
            <a:ext cx="24289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400"/>
                </a:solidFill>
                <a:latin typeface="Arial Black"/>
                <a:ea typeface="HY견고딕"/>
              </a:rPr>
              <a:t>ASADAL INTERNET, INC.</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730" name="TextBox 93"/>
          <p:cNvSpPr/>
          <p:nvPr/>
        </p:nvSpPr>
        <p:spPr>
          <a:xfrm>
            <a:off x="6512040" y="2424240"/>
            <a:ext cx="2428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731" name="TextBox 94"/>
          <p:cNvSpPr/>
          <p:nvPr/>
        </p:nvSpPr>
        <p:spPr>
          <a:xfrm>
            <a:off x="6512040" y="4067280"/>
            <a:ext cx="2428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직사각형 91"/>
          <p:cNvSpPr/>
          <p:nvPr/>
        </p:nvSpPr>
        <p:spPr>
          <a:xfrm>
            <a:off x="5572080" y="2617920"/>
            <a:ext cx="3571920" cy="214308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직사각형 89"/>
          <p:cNvSpPr/>
          <p:nvPr/>
        </p:nvSpPr>
        <p:spPr>
          <a:xfrm>
            <a:off x="19080" y="2617920"/>
            <a:ext cx="3571920" cy="214308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73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73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737" name="Group 7"/>
          <p:cNvGrpSpPr/>
          <p:nvPr/>
        </p:nvGrpSpPr>
        <p:grpSpPr>
          <a:xfrm>
            <a:off x="2965320" y="2092320"/>
            <a:ext cx="3192480" cy="3193920"/>
            <a:chOff x="2965320" y="2092320"/>
            <a:chExt cx="3192480" cy="3193920"/>
          </a:xfrm>
        </p:grpSpPr>
        <p:sp>
          <p:nvSpPr>
            <p:cNvPr id="738" name="도넛 50"/>
            <p:cNvSpPr/>
            <p:nvPr/>
          </p:nvSpPr>
          <p:spPr>
            <a:xfrm rot="5400000">
              <a:off x="3444120" y="2570400"/>
              <a:ext cx="2225520" cy="2224080"/>
            </a:xfrm>
            <a:custGeom>
              <a:avLst/>
              <a:gdLst>
                <a:gd name="textAreaLeft" fmla="*/ 325800 w 2225520"/>
                <a:gd name="textAreaRight" fmla="*/ 1899720 w 2225520"/>
                <a:gd name="textAreaTop" fmla="*/ 325440 h 2224080"/>
                <a:gd name="textAreaBottom" fmla="*/ 1898640 h 2224080"/>
              </a:gdLst>
              <a:ahLst/>
              <a:rect l="textAreaLeft" t="textAreaTop" r="textAreaRight" b="textAreaBottom"/>
              <a:pathLst>
                <a:path w="2520992" h="2520447">
                  <a:moveTo>
                    <a:pt x="0" y="1260224"/>
                  </a:moveTo>
                  <a:lnTo>
                    <a:pt x="0" y="1260224"/>
                  </a:lnTo>
                  <a:cubicBezTo>
                    <a:pt x="0" y="564221"/>
                    <a:pt x="564343" y="1"/>
                    <a:pt x="1260496" y="1"/>
                  </a:cubicBezTo>
                  <a:cubicBezTo>
                    <a:pt x="1260496" y="1"/>
                    <a:pt x="1260497" y="1"/>
                    <a:pt x="1260497" y="1"/>
                  </a:cubicBezTo>
                  <a:cubicBezTo>
                    <a:pt x="1956650" y="1"/>
                    <a:pt x="2520993" y="564222"/>
                    <a:pt x="2520993" y="1260225"/>
                  </a:cubicBezTo>
                  <a:cubicBezTo>
                    <a:pt x="2520993" y="1260225"/>
                    <a:pt x="2520992" y="1260226"/>
                    <a:pt x="2520992" y="1260227"/>
                  </a:cubicBezTo>
                  <a:lnTo>
                    <a:pt x="2520993" y="1260227"/>
                  </a:lnTo>
                  <a:cubicBezTo>
                    <a:pt x="2520993" y="1956229"/>
                    <a:pt x="1956649" y="2520451"/>
                    <a:pt x="1260497" y="2520451"/>
                  </a:cubicBezTo>
                  <a:cubicBezTo>
                    <a:pt x="1260496" y="2520451"/>
                    <a:pt x="1260496" y="2520450"/>
                    <a:pt x="1260496" y="2520450"/>
                  </a:cubicBezTo>
                  <a:cubicBezTo>
                    <a:pt x="564343" y="2520450"/>
                    <a:pt x="1" y="1956229"/>
                    <a:pt x="1" y="1260227"/>
                  </a:cubicBezTo>
                  <a:cubicBezTo>
                    <a:pt x="1" y="1260226"/>
                    <a:pt x="1" y="1260226"/>
                    <a:pt x="1" y="1260225"/>
                  </a:cubicBezTo>
                  <a:lnTo>
                    <a:pt x="0" y="1260224"/>
                  </a:lnTo>
                  <a:close/>
                  <a:moveTo>
                    <a:pt x="342604" y="1260224"/>
                  </a:moveTo>
                  <a:lnTo>
                    <a:pt x="342604" y="1260224"/>
                  </a:lnTo>
                  <a:cubicBezTo>
                    <a:pt x="342604" y="1260224"/>
                    <a:pt x="342604" y="1260224"/>
                    <a:pt x="342604" y="1260225"/>
                  </a:cubicBezTo>
                  <a:cubicBezTo>
                    <a:pt x="342604" y="1767011"/>
                    <a:pt x="753557" y="2177843"/>
                    <a:pt x="1260495" y="2177843"/>
                  </a:cubicBezTo>
                  <a:cubicBezTo>
                    <a:pt x="1260495" y="2177843"/>
                    <a:pt x="1260495" y="2177844"/>
                    <a:pt x="1260496" y="2177844"/>
                  </a:cubicBezTo>
                  <a:cubicBezTo>
                    <a:pt x="1767433" y="2177844"/>
                    <a:pt x="2178387" y="1767012"/>
                    <a:pt x="2178387" y="1260226"/>
                  </a:cubicBezTo>
                  <a:lnTo>
                    <a:pt x="2178388" y="1260226"/>
                  </a:lnTo>
                  <a:cubicBezTo>
                    <a:pt x="2178388" y="753439"/>
                    <a:pt x="1767433" y="342607"/>
                    <a:pt x="1260496" y="342607"/>
                  </a:cubicBezTo>
                  <a:cubicBezTo>
                    <a:pt x="1260495" y="342607"/>
                    <a:pt x="1260495" y="342607"/>
                    <a:pt x="1260495" y="342607"/>
                  </a:cubicBezTo>
                  <a:cubicBezTo>
                    <a:pt x="753557" y="342607"/>
                    <a:pt x="342603" y="753438"/>
                    <a:pt x="342603" y="1260225"/>
                  </a:cubicBezTo>
                  <a:lnTo>
                    <a:pt x="342604" y="1260224"/>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9" name="도넛 51"/>
            <p:cNvSpPr/>
            <p:nvPr/>
          </p:nvSpPr>
          <p:spPr>
            <a:xfrm rot="5400000">
              <a:off x="3443040" y="2572920"/>
              <a:ext cx="2227320" cy="2224080"/>
            </a:xfrm>
            <a:custGeom>
              <a:avLst/>
              <a:gdLst>
                <a:gd name="textAreaLeft" fmla="*/ 326160 w 2227320"/>
                <a:gd name="textAreaRight" fmla="*/ 1901160 w 2227320"/>
                <a:gd name="textAreaTop" fmla="*/ 325440 h 2224080"/>
                <a:gd name="textAreaBottom" fmla="*/ 1898640 h 2224080"/>
              </a:gdLst>
              <a:ahLst/>
              <a:rect l="textAreaLeft" t="textAreaTop" r="textAreaRight" b="textAreaBottom"/>
              <a:pathLst>
                <a:path w="2522791" h="2520447">
                  <a:moveTo>
                    <a:pt x="0" y="1260224"/>
                  </a:moveTo>
                  <a:lnTo>
                    <a:pt x="0" y="1260224"/>
                  </a:lnTo>
                  <a:cubicBezTo>
                    <a:pt x="0" y="564221"/>
                    <a:pt x="564746" y="1"/>
                    <a:pt x="1261396" y="1"/>
                  </a:cubicBezTo>
                  <a:cubicBezTo>
                    <a:pt x="1261396" y="1"/>
                    <a:pt x="1261397" y="1"/>
                    <a:pt x="1261397" y="1"/>
                  </a:cubicBezTo>
                  <a:cubicBezTo>
                    <a:pt x="1958047" y="1"/>
                    <a:pt x="2522793" y="564222"/>
                    <a:pt x="2522793" y="1260225"/>
                  </a:cubicBezTo>
                  <a:cubicBezTo>
                    <a:pt x="2522793" y="1260225"/>
                    <a:pt x="2522792" y="1260226"/>
                    <a:pt x="2522792" y="1260227"/>
                  </a:cubicBezTo>
                  <a:lnTo>
                    <a:pt x="2522793" y="1260227"/>
                  </a:lnTo>
                  <a:cubicBezTo>
                    <a:pt x="2522793" y="1956229"/>
                    <a:pt x="1958046" y="2520451"/>
                    <a:pt x="1261397" y="2520451"/>
                  </a:cubicBezTo>
                  <a:cubicBezTo>
                    <a:pt x="1261396" y="2520451"/>
                    <a:pt x="1261396" y="2520450"/>
                    <a:pt x="1261396" y="2520450"/>
                  </a:cubicBezTo>
                  <a:cubicBezTo>
                    <a:pt x="564746" y="2520450"/>
                    <a:pt x="1" y="1956229"/>
                    <a:pt x="1" y="1260227"/>
                  </a:cubicBezTo>
                  <a:cubicBezTo>
                    <a:pt x="1" y="1260226"/>
                    <a:pt x="1" y="1260226"/>
                    <a:pt x="1" y="1260225"/>
                  </a:cubicBezTo>
                  <a:lnTo>
                    <a:pt x="0" y="1260224"/>
                  </a:lnTo>
                  <a:close/>
                  <a:moveTo>
                    <a:pt x="218775" y="1260224"/>
                  </a:moveTo>
                  <a:lnTo>
                    <a:pt x="218775" y="1260224"/>
                  </a:lnTo>
                  <a:cubicBezTo>
                    <a:pt x="218775" y="1260224"/>
                    <a:pt x="218775" y="1260224"/>
                    <a:pt x="218775" y="1260224"/>
                  </a:cubicBezTo>
                  <a:cubicBezTo>
                    <a:pt x="218775" y="1835401"/>
                    <a:pt x="685571" y="2301673"/>
                    <a:pt x="1261395" y="2301673"/>
                  </a:cubicBezTo>
                  <a:cubicBezTo>
                    <a:pt x="1261395" y="2301673"/>
                    <a:pt x="1261395" y="2301674"/>
                    <a:pt x="1261396" y="2301674"/>
                  </a:cubicBezTo>
                  <a:cubicBezTo>
                    <a:pt x="1837219" y="2301674"/>
                    <a:pt x="2304016" y="1835402"/>
                    <a:pt x="2304016" y="1260226"/>
                  </a:cubicBezTo>
                  <a:lnTo>
                    <a:pt x="2304017" y="1260226"/>
                  </a:lnTo>
                  <a:cubicBezTo>
                    <a:pt x="2304017" y="685049"/>
                    <a:pt x="1837219" y="218777"/>
                    <a:pt x="1261396" y="218777"/>
                  </a:cubicBezTo>
                  <a:cubicBezTo>
                    <a:pt x="1261395" y="218777"/>
                    <a:pt x="1261395" y="218777"/>
                    <a:pt x="1261395" y="218777"/>
                  </a:cubicBezTo>
                  <a:cubicBezTo>
                    <a:pt x="685571" y="218777"/>
                    <a:pt x="218774" y="685048"/>
                    <a:pt x="218774" y="1260225"/>
                  </a:cubicBezTo>
                  <a:lnTo>
                    <a:pt x="218775" y="1260224"/>
                  </a:lnTo>
                  <a:close/>
                </a:path>
              </a:pathLst>
            </a:custGeom>
            <a:solidFill>
              <a:srgbClr val="a6a6a6">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0" name="도넛 52"/>
            <p:cNvSpPr/>
            <p:nvPr/>
          </p:nvSpPr>
          <p:spPr>
            <a:xfrm rot="5400000">
              <a:off x="2964600" y="2092680"/>
              <a:ext cx="3193920" cy="3192480"/>
            </a:xfrm>
            <a:custGeom>
              <a:avLst/>
              <a:gdLst>
                <a:gd name="textAreaLeft" fmla="*/ 467640 w 3193920"/>
                <a:gd name="textAreaRight" fmla="*/ 2726280 w 3193920"/>
                <a:gd name="textAreaTop" fmla="*/ 467280 h 3192480"/>
                <a:gd name="textAreaBottom" fmla="*/ 2725200 h 3192480"/>
              </a:gdLst>
              <a:ahLst/>
              <a:rect l="textAreaLeft" t="textAreaTop" r="textAreaRight" b="textAreaBottom"/>
              <a:pathLst>
                <a:path w="3617857" h="3617857">
                  <a:moveTo>
                    <a:pt x="0" y="1808929"/>
                  </a:moveTo>
                  <a:lnTo>
                    <a:pt x="0" y="1808929"/>
                  </a:lnTo>
                  <a:cubicBezTo>
                    <a:pt x="1" y="809885"/>
                    <a:pt x="809885" y="2"/>
                    <a:pt x="1808929" y="2"/>
                  </a:cubicBezTo>
                  <a:cubicBezTo>
                    <a:pt x="1808930" y="2"/>
                    <a:pt x="1808931" y="2"/>
                    <a:pt x="1808932" y="2"/>
                  </a:cubicBezTo>
                  <a:lnTo>
                    <a:pt x="1808931" y="2"/>
                  </a:lnTo>
                  <a:cubicBezTo>
                    <a:pt x="2807975" y="3"/>
                    <a:pt x="3617859" y="809887"/>
                    <a:pt x="3617859" y="1808931"/>
                  </a:cubicBezTo>
                  <a:cubicBezTo>
                    <a:pt x="3617859" y="1808932"/>
                    <a:pt x="3617858" y="1808933"/>
                    <a:pt x="3617858" y="1808933"/>
                  </a:cubicBezTo>
                  <a:lnTo>
                    <a:pt x="3617859" y="1808934"/>
                  </a:lnTo>
                  <a:cubicBezTo>
                    <a:pt x="3617859" y="2807977"/>
                    <a:pt x="2807973" y="3617863"/>
                    <a:pt x="1808930" y="3617863"/>
                  </a:cubicBezTo>
                  <a:cubicBezTo>
                    <a:pt x="1808929" y="3617863"/>
                    <a:pt x="1808929" y="3617862"/>
                    <a:pt x="1808929" y="3617862"/>
                  </a:cubicBezTo>
                  <a:cubicBezTo>
                    <a:pt x="809885" y="3617862"/>
                    <a:pt x="1" y="2807977"/>
                    <a:pt x="1" y="1808934"/>
                  </a:cubicBezTo>
                  <a:cubicBezTo>
                    <a:pt x="1" y="1808933"/>
                    <a:pt x="1" y="1808932"/>
                    <a:pt x="1" y="1808932"/>
                  </a:cubicBezTo>
                  <a:lnTo>
                    <a:pt x="0" y="1808929"/>
                  </a:lnTo>
                  <a:close/>
                  <a:moveTo>
                    <a:pt x="401763" y="1808929"/>
                  </a:moveTo>
                  <a:lnTo>
                    <a:pt x="401763" y="1808929"/>
                  </a:lnTo>
                  <a:cubicBezTo>
                    <a:pt x="401763" y="1808929"/>
                    <a:pt x="401763" y="1808930"/>
                    <a:pt x="401763" y="1808930"/>
                  </a:cubicBezTo>
                  <a:cubicBezTo>
                    <a:pt x="401763" y="2586085"/>
                    <a:pt x="1031771" y="3216094"/>
                    <a:pt x="1808926" y="3216095"/>
                  </a:cubicBezTo>
                  <a:cubicBezTo>
                    <a:pt x="1808926" y="3216095"/>
                    <a:pt x="1808926" y="3216096"/>
                    <a:pt x="1808927" y="3216096"/>
                  </a:cubicBezTo>
                  <a:cubicBezTo>
                    <a:pt x="2586082" y="3216096"/>
                    <a:pt x="3216091" y="2586087"/>
                    <a:pt x="3216091" y="1808932"/>
                  </a:cubicBezTo>
                  <a:lnTo>
                    <a:pt x="3216092" y="1808932"/>
                  </a:lnTo>
                  <a:cubicBezTo>
                    <a:pt x="3216092" y="1031776"/>
                    <a:pt x="2586082" y="401767"/>
                    <a:pt x="1808927" y="401767"/>
                  </a:cubicBezTo>
                  <a:lnTo>
                    <a:pt x="1808926" y="401767"/>
                  </a:lnTo>
                  <a:cubicBezTo>
                    <a:pt x="1808926" y="401767"/>
                    <a:pt x="1808925" y="401767"/>
                    <a:pt x="1808925" y="401767"/>
                  </a:cubicBezTo>
                  <a:cubicBezTo>
                    <a:pt x="1031770" y="401767"/>
                    <a:pt x="401761" y="1031775"/>
                    <a:pt x="401760" y="1808930"/>
                  </a:cubicBezTo>
                  <a:lnTo>
                    <a:pt x="401763" y="1808929"/>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1" name="막힌 원호 56"/>
            <p:cNvSpPr/>
            <p:nvPr/>
          </p:nvSpPr>
          <p:spPr>
            <a:xfrm rot="5400000">
              <a:off x="3075840" y="2198880"/>
              <a:ext cx="2965320" cy="2963880"/>
            </a:xfrm>
            <a:custGeom>
              <a:avLst/>
              <a:gdLst>
                <a:gd name="textAreaLeft" fmla="*/ 0 w 2965320"/>
                <a:gd name="textAreaRight" fmla="*/ 2965680 w 2965320"/>
                <a:gd name="textAreaTop" fmla="*/ 0 h 2963880"/>
                <a:gd name="textAreaBottom" fmla="*/ 1526400 h 2963880"/>
              </a:gdLst>
              <a:ahLst/>
              <a:rect l="textAreaLeft" t="textAreaTop" r="textAreaRight" b="textAreaBottom"/>
              <a:pathLst>
                <a:path w="3358925" h="3358796">
                  <a:moveTo>
                    <a:pt x="0" y="1679396"/>
                  </a:moveTo>
                  <a:lnTo>
                    <a:pt x="0" y="1679396"/>
                  </a:lnTo>
                  <a:cubicBezTo>
                    <a:pt x="1" y="751890"/>
                    <a:pt x="751921" y="0"/>
                    <a:pt x="1679463" y="0"/>
                  </a:cubicBezTo>
                  <a:cubicBezTo>
                    <a:pt x="2607004" y="0"/>
                    <a:pt x="3358926" y="751892"/>
                    <a:pt x="3358926" y="1679398"/>
                  </a:cubicBezTo>
                  <a:cubicBezTo>
                    <a:pt x="3358926" y="1696234"/>
                    <a:pt x="3358672" y="1713069"/>
                    <a:pt x="3358166" y="1729897"/>
                  </a:cubicBezTo>
                  <a:lnTo>
                    <a:pt x="2763222" y="1711998"/>
                  </a:lnTo>
                  <a:lnTo>
                    <a:pt x="2763221" y="1711997"/>
                  </a:lnTo>
                  <a:cubicBezTo>
                    <a:pt x="2763548" y="1701134"/>
                    <a:pt x="2763712" y="1690266"/>
                    <a:pt x="2763712" y="1679398"/>
                  </a:cubicBezTo>
                  <a:cubicBezTo>
                    <a:pt x="2763712" y="1080618"/>
                    <a:pt x="2278276" y="595212"/>
                    <a:pt x="1679462" y="595212"/>
                  </a:cubicBezTo>
                  <a:cubicBezTo>
                    <a:pt x="1080647" y="595212"/>
                    <a:pt x="595212" y="1080618"/>
                    <a:pt x="595212" y="1679398"/>
                  </a:cubicBezTo>
                  <a:cubicBezTo>
                    <a:pt x="595212" y="1679398"/>
                    <a:pt x="595212" y="1679399"/>
                    <a:pt x="595212" y="1679400"/>
                  </a:cubicBezTo>
                  <a:lnTo>
                    <a:pt x="0" y="1679396"/>
                  </a:lnTo>
                  <a:close/>
                </a:path>
              </a:pathLst>
            </a:custGeom>
            <a:solidFill>
              <a:srgbClr val="00ace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2" name="막힌 원호 58"/>
            <p:cNvSpPr/>
            <p:nvPr/>
          </p:nvSpPr>
          <p:spPr>
            <a:xfrm flipV="1" rot="5400000">
              <a:off x="3077280" y="2196000"/>
              <a:ext cx="2967120" cy="2965680"/>
            </a:xfrm>
            <a:custGeom>
              <a:avLst/>
              <a:gdLst>
                <a:gd name="textAreaLeft" fmla="*/ 0 w 2967120"/>
                <a:gd name="textAreaRight" fmla="*/ 2967480 w 2967120"/>
                <a:gd name="textAreaTop" fmla="*/ 360 h 2965680"/>
                <a:gd name="textAreaBottom" fmla="*/ 1487520 h 2965680"/>
              </a:gdLst>
              <a:ahLst/>
              <a:rect l="textAreaLeft" t="textAreaTop" r="textAreaRight" b="textAreaBottom"/>
              <a:pathLst>
                <a:path w="3360722" h="3360595">
                  <a:moveTo>
                    <a:pt x="7" y="1685058"/>
                  </a:moveTo>
                  <a:lnTo>
                    <a:pt x="6" y="1685058"/>
                  </a:lnTo>
                  <a:cubicBezTo>
                    <a:pt x="2" y="1683471"/>
                    <a:pt x="0" y="1681884"/>
                    <a:pt x="0" y="1680297"/>
                  </a:cubicBezTo>
                  <a:cubicBezTo>
                    <a:pt x="0" y="752294"/>
                    <a:pt x="752323" y="-1"/>
                    <a:pt x="1680361" y="-1"/>
                  </a:cubicBezTo>
                  <a:cubicBezTo>
                    <a:pt x="2608398" y="-1"/>
                    <a:pt x="3360722" y="752294"/>
                    <a:pt x="3360722" y="1680297"/>
                  </a:cubicBezTo>
                  <a:cubicBezTo>
                    <a:pt x="3360722" y="1681052"/>
                    <a:pt x="3360721" y="1681807"/>
                    <a:pt x="3360720" y="1682562"/>
                  </a:cubicBezTo>
                  <a:lnTo>
                    <a:pt x="2765963" y="1681759"/>
                  </a:lnTo>
                  <a:cubicBezTo>
                    <a:pt x="2765963" y="1681272"/>
                    <a:pt x="2765964" y="1680785"/>
                    <a:pt x="2765964" y="1680298"/>
                  </a:cubicBezTo>
                  <a:cubicBezTo>
                    <a:pt x="2765964" y="1080771"/>
                    <a:pt x="2279922" y="594759"/>
                    <a:pt x="1680361" y="594759"/>
                  </a:cubicBezTo>
                  <a:cubicBezTo>
                    <a:pt x="1080799" y="594759"/>
                    <a:pt x="594758" y="1080771"/>
                    <a:pt x="594758" y="1680298"/>
                  </a:cubicBezTo>
                  <a:cubicBezTo>
                    <a:pt x="594758" y="1681324"/>
                    <a:pt x="594759" y="1682350"/>
                    <a:pt x="594762" y="1683375"/>
                  </a:cubicBezTo>
                  <a:lnTo>
                    <a:pt x="7" y="1685058"/>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3" name="도넛 59"/>
            <p:cNvSpPr/>
            <p:nvPr/>
          </p:nvSpPr>
          <p:spPr>
            <a:xfrm rot="5400000">
              <a:off x="3328200" y="2449800"/>
              <a:ext cx="2465280" cy="2463840"/>
            </a:xfrm>
            <a:custGeom>
              <a:avLst/>
              <a:gdLst>
                <a:gd name="textAreaLeft" fmla="*/ 361080 w 2465280"/>
                <a:gd name="textAreaRight" fmla="*/ 2104200 w 2465280"/>
                <a:gd name="textAreaTop" fmla="*/ 360720 h 2463840"/>
                <a:gd name="textAreaBottom" fmla="*/ 2103120 h 2463840"/>
              </a:gdLst>
              <a:ahLst/>
              <a:rect l="textAreaLeft" t="textAreaTop" r="textAreaRight" b="textAreaBottom"/>
              <a:pathLst>
                <a:path w="2792510" h="2792100">
                  <a:moveTo>
                    <a:pt x="0" y="1396050"/>
                  </a:moveTo>
                  <a:lnTo>
                    <a:pt x="0" y="1396050"/>
                  </a:lnTo>
                  <a:cubicBezTo>
                    <a:pt x="1" y="625033"/>
                    <a:pt x="625125" y="2"/>
                    <a:pt x="1396255" y="2"/>
                  </a:cubicBezTo>
                  <a:cubicBezTo>
                    <a:pt x="1396255" y="2"/>
                    <a:pt x="1396256" y="2"/>
                    <a:pt x="1396257" y="2"/>
                  </a:cubicBezTo>
                  <a:cubicBezTo>
                    <a:pt x="2167386" y="3"/>
                    <a:pt x="2792510" y="625035"/>
                    <a:pt x="2792510" y="1396052"/>
                  </a:cubicBezTo>
                  <a:cubicBezTo>
                    <a:pt x="2792510" y="1396052"/>
                    <a:pt x="2792509" y="1396053"/>
                    <a:pt x="2792509" y="1396053"/>
                  </a:cubicBezTo>
                  <a:lnTo>
                    <a:pt x="2792510" y="1396054"/>
                  </a:lnTo>
                  <a:cubicBezTo>
                    <a:pt x="2792510" y="2167071"/>
                    <a:pt x="2167385" y="2792104"/>
                    <a:pt x="1396255" y="2792104"/>
                  </a:cubicBezTo>
                  <a:cubicBezTo>
                    <a:pt x="1396254" y="2792104"/>
                    <a:pt x="1396254" y="2792103"/>
                    <a:pt x="1396254" y="2792103"/>
                  </a:cubicBezTo>
                  <a:cubicBezTo>
                    <a:pt x="625124" y="2792103"/>
                    <a:pt x="0" y="2167070"/>
                    <a:pt x="0" y="1396054"/>
                  </a:cubicBezTo>
                  <a:cubicBezTo>
                    <a:pt x="0" y="1396053"/>
                    <a:pt x="0" y="1396052"/>
                    <a:pt x="0" y="1396052"/>
                  </a:cubicBezTo>
                  <a:lnTo>
                    <a:pt x="0" y="1396050"/>
                  </a:lnTo>
                  <a:close/>
                  <a:moveTo>
                    <a:pt x="310063" y="1396050"/>
                  </a:moveTo>
                  <a:lnTo>
                    <a:pt x="310063" y="1396050"/>
                  </a:lnTo>
                  <a:cubicBezTo>
                    <a:pt x="310063" y="1396050"/>
                    <a:pt x="310063" y="1396050"/>
                    <a:pt x="310063" y="1396050"/>
                  </a:cubicBezTo>
                  <a:cubicBezTo>
                    <a:pt x="310063" y="1995824"/>
                    <a:pt x="796367" y="2482037"/>
                    <a:pt x="1396253" y="2482037"/>
                  </a:cubicBezTo>
                  <a:lnTo>
                    <a:pt x="1396254" y="2482037"/>
                  </a:lnTo>
                  <a:cubicBezTo>
                    <a:pt x="1396254" y="2482037"/>
                    <a:pt x="1396254" y="2482038"/>
                    <a:pt x="1396255" y="2482038"/>
                  </a:cubicBezTo>
                  <a:cubicBezTo>
                    <a:pt x="1996141" y="2482038"/>
                    <a:pt x="2482446" y="1995825"/>
                    <a:pt x="2482446" y="1396052"/>
                  </a:cubicBezTo>
                  <a:lnTo>
                    <a:pt x="2482447" y="1396052"/>
                  </a:lnTo>
                  <a:cubicBezTo>
                    <a:pt x="2482447" y="796277"/>
                    <a:pt x="1996142" y="310065"/>
                    <a:pt x="1396255" y="310065"/>
                  </a:cubicBezTo>
                  <a:lnTo>
                    <a:pt x="1396254" y="310065"/>
                  </a:lnTo>
                  <a:cubicBezTo>
                    <a:pt x="1396254" y="310065"/>
                    <a:pt x="1396254" y="310065"/>
                    <a:pt x="1396254" y="310065"/>
                  </a:cubicBezTo>
                  <a:cubicBezTo>
                    <a:pt x="796367" y="310065"/>
                    <a:pt x="310062" y="796277"/>
                    <a:pt x="310062" y="1396051"/>
                  </a:cubicBezTo>
                  <a:lnTo>
                    <a:pt x="310063" y="1396050"/>
                  </a:ln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44" name="Group 14"/>
          <p:cNvGrpSpPr/>
          <p:nvPr/>
        </p:nvGrpSpPr>
        <p:grpSpPr>
          <a:xfrm>
            <a:off x="2654280" y="3600360"/>
            <a:ext cx="517680" cy="177840"/>
            <a:chOff x="2654280" y="3600360"/>
            <a:chExt cx="517680" cy="177840"/>
          </a:xfrm>
        </p:grpSpPr>
        <p:sp>
          <p:nvSpPr>
            <p:cNvPr id="745" name="직선 연결선 77"/>
            <p:cNvSpPr/>
            <p:nvPr/>
          </p:nvSpPr>
          <p:spPr>
            <a:xfrm flipH="1">
              <a:off x="2654280" y="3689280"/>
              <a:ext cx="360720" cy="0"/>
            </a:xfrm>
            <a:prstGeom prst="line">
              <a:avLst/>
            </a:prstGeom>
            <a:ln w="38160">
              <a:solidFill>
                <a:srgbClr val="ffc000"/>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타원 78"/>
            <p:cNvSpPr/>
            <p:nvPr/>
          </p:nvSpPr>
          <p:spPr>
            <a:xfrm flipH="1">
              <a:off x="2994120" y="3600360"/>
              <a:ext cx="177840" cy="177840"/>
            </a:xfrm>
            <a:prstGeom prst="ellipse">
              <a:avLst/>
            </a:prstGeom>
            <a:solidFill>
              <a:srgbClr val="ffc000"/>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Group 17"/>
          <p:cNvGrpSpPr/>
          <p:nvPr/>
        </p:nvGrpSpPr>
        <p:grpSpPr>
          <a:xfrm>
            <a:off x="3887280" y="3282840"/>
            <a:ext cx="1346760" cy="814320"/>
            <a:chOff x="3887280" y="3282840"/>
            <a:chExt cx="1346760" cy="814320"/>
          </a:xfrm>
        </p:grpSpPr>
        <p:sp>
          <p:nvSpPr>
            <p:cNvPr id="748" name="TextBox 80"/>
            <p:cNvSpPr/>
            <p:nvPr/>
          </p:nvSpPr>
          <p:spPr>
            <a:xfrm>
              <a:off x="3887280" y="385092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견고딕"/>
                  <a:ea typeface="HY견고딕"/>
                </a:rPr>
                <a:t>CLICK TO ADD TEXT</a:t>
              </a:r>
              <a:endParaRPr b="0" lang="en-US" sz="1000" spc="-1" strike="noStrike">
                <a:solidFill>
                  <a:srgbClr val="000000"/>
                </a:solidFill>
                <a:latin typeface="Gulim"/>
              </a:endParaRPr>
            </a:p>
          </p:txBody>
        </p:sp>
        <p:sp>
          <p:nvSpPr>
            <p:cNvPr id="749" name="TextBox 81"/>
            <p:cNvSpPr/>
            <p:nvPr/>
          </p:nvSpPr>
          <p:spPr>
            <a:xfrm>
              <a:off x="4012920" y="3282840"/>
              <a:ext cx="109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견고딕"/>
                  <a:ea typeface="HY견고딕"/>
                </a:rPr>
                <a:t>TEXT</a:t>
              </a:r>
              <a:endParaRPr b="0" lang="en-US" sz="3200" spc="-1" strike="noStrike">
                <a:solidFill>
                  <a:srgbClr val="000000"/>
                </a:solidFill>
                <a:latin typeface="Gulim"/>
              </a:endParaRPr>
            </a:p>
          </p:txBody>
        </p:sp>
      </p:grpSp>
      <p:sp>
        <p:nvSpPr>
          <p:cNvPr id="750" name="TextBox 83"/>
          <p:cNvSpPr/>
          <p:nvPr/>
        </p:nvSpPr>
        <p:spPr>
          <a:xfrm>
            <a:off x="214200" y="2981160"/>
            <a:ext cx="2428920" cy="140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Black"/>
                <a:ea typeface="HY견고딕"/>
              </a:rPr>
              <a:t>ASADAL INTERNET, INC.</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a:t>
            </a:r>
            <a:br>
              <a:rPr sz="1000"/>
            </a:br>
            <a:r>
              <a:rPr b="0" lang="en-US" sz="1000" spc="-1" strike="noStrike">
                <a:solidFill>
                  <a:srgbClr val="6f6f6f"/>
                </a:solidFill>
                <a:latin typeface="Arial"/>
                <a:ea typeface="HY견고딕"/>
              </a:rPr>
              <a:t>in 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 started its business in Seoul Korea in February 1998 with the fundamental goal of providing better internet services to the world.</a:t>
            </a:r>
            <a:endParaRPr b="0" lang="en-US" sz="1000" spc="-1" strike="noStrike">
              <a:solidFill>
                <a:srgbClr val="000000"/>
              </a:solidFill>
              <a:latin typeface="Gulim"/>
            </a:endParaRPr>
          </a:p>
        </p:txBody>
      </p:sp>
      <p:grpSp>
        <p:nvGrpSpPr>
          <p:cNvPr id="751" name="Group 21"/>
          <p:cNvGrpSpPr/>
          <p:nvPr/>
        </p:nvGrpSpPr>
        <p:grpSpPr>
          <a:xfrm>
            <a:off x="5954400" y="3600360"/>
            <a:ext cx="516240" cy="177840"/>
            <a:chOff x="5954400" y="3600360"/>
            <a:chExt cx="516240" cy="177840"/>
          </a:xfrm>
        </p:grpSpPr>
        <p:sp>
          <p:nvSpPr>
            <p:cNvPr id="752" name="직선 연결선 86"/>
            <p:cNvSpPr/>
            <p:nvPr/>
          </p:nvSpPr>
          <p:spPr>
            <a:xfrm>
              <a:off x="6111720" y="3689280"/>
              <a:ext cx="358920" cy="0"/>
            </a:xfrm>
            <a:prstGeom prst="line">
              <a:avLst/>
            </a:prstGeom>
            <a:ln w="38160">
              <a:solidFill>
                <a:srgbClr val="00acee"/>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타원 87"/>
            <p:cNvSpPr/>
            <p:nvPr/>
          </p:nvSpPr>
          <p:spPr>
            <a:xfrm>
              <a:off x="5954400" y="3600360"/>
              <a:ext cx="177840" cy="177840"/>
            </a:xfrm>
            <a:prstGeom prst="ellipse">
              <a:avLst/>
            </a:prstGeom>
            <a:solidFill>
              <a:srgbClr val="00acee"/>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4" name="TextBox 88"/>
          <p:cNvSpPr/>
          <p:nvPr/>
        </p:nvSpPr>
        <p:spPr>
          <a:xfrm>
            <a:off x="6504120" y="2987640"/>
            <a:ext cx="242892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a:t>
            </a:r>
            <a:br>
              <a:rPr sz="1000"/>
            </a:br>
            <a:r>
              <a:rPr b="0" lang="en-US" sz="1000" spc="-1" strike="noStrike">
                <a:solidFill>
                  <a:srgbClr val="6f6f6f"/>
                </a:solidFill>
                <a:latin typeface="Arial"/>
                <a:ea typeface="HY견고딕"/>
              </a:rPr>
              <a:t>in 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 started its business in Seoul Korea in February 1998 with the fundamental goal of providing better internet services to the world.</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Group 2"/>
          <p:cNvGrpSpPr/>
          <p:nvPr/>
        </p:nvGrpSpPr>
        <p:grpSpPr>
          <a:xfrm>
            <a:off x="938160" y="1682640"/>
            <a:ext cx="1236600" cy="559080"/>
            <a:chOff x="938160" y="1682640"/>
            <a:chExt cx="1236600" cy="559080"/>
          </a:xfrm>
        </p:grpSpPr>
        <p:sp>
          <p:nvSpPr>
            <p:cNvPr id="756" name="오른쪽 화살표 85"/>
            <p:cNvSpPr/>
            <p:nvPr/>
          </p:nvSpPr>
          <p:spPr>
            <a:xfrm>
              <a:off x="938160" y="1682640"/>
              <a:ext cx="1236600" cy="559080"/>
            </a:xfrm>
            <a:prstGeom prst="rightArrow">
              <a:avLst>
                <a:gd name="adj1" fmla="val 50000"/>
                <a:gd name="adj2" fmla="val 58573"/>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오른쪽 화살표 86"/>
            <p:cNvSpPr/>
            <p:nvPr/>
          </p:nvSpPr>
          <p:spPr>
            <a:xfrm>
              <a:off x="964800" y="1726920"/>
              <a:ext cx="1170000" cy="468720"/>
            </a:xfrm>
            <a:prstGeom prst="rightArrow">
              <a:avLst>
                <a:gd name="adj1" fmla="val 50000"/>
                <a:gd name="adj2" fmla="val 57123"/>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Group 5"/>
          <p:cNvGrpSpPr/>
          <p:nvPr/>
        </p:nvGrpSpPr>
        <p:grpSpPr>
          <a:xfrm>
            <a:off x="2611440" y="1682640"/>
            <a:ext cx="1236600" cy="559080"/>
            <a:chOff x="2611440" y="1682640"/>
            <a:chExt cx="1236600" cy="559080"/>
          </a:xfrm>
        </p:grpSpPr>
        <p:sp>
          <p:nvSpPr>
            <p:cNvPr id="759" name="오른쪽 화살표 101"/>
            <p:cNvSpPr/>
            <p:nvPr/>
          </p:nvSpPr>
          <p:spPr>
            <a:xfrm>
              <a:off x="2611440" y="1682640"/>
              <a:ext cx="1236600" cy="559080"/>
            </a:xfrm>
            <a:prstGeom prst="rightArrow">
              <a:avLst>
                <a:gd name="adj1" fmla="val 50000"/>
                <a:gd name="adj2" fmla="val 58573"/>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오른쪽 화살표 102"/>
            <p:cNvSpPr/>
            <p:nvPr/>
          </p:nvSpPr>
          <p:spPr>
            <a:xfrm>
              <a:off x="2638080" y="1726920"/>
              <a:ext cx="1170000" cy="468720"/>
            </a:xfrm>
            <a:prstGeom prst="rightArrow">
              <a:avLst>
                <a:gd name="adj1" fmla="val 50000"/>
                <a:gd name="adj2" fmla="val 57123"/>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8"/>
          <p:cNvGrpSpPr/>
          <p:nvPr/>
        </p:nvGrpSpPr>
        <p:grpSpPr>
          <a:xfrm>
            <a:off x="4255920" y="1682640"/>
            <a:ext cx="1235160" cy="559080"/>
            <a:chOff x="4255920" y="1682640"/>
            <a:chExt cx="1235160" cy="559080"/>
          </a:xfrm>
        </p:grpSpPr>
        <p:sp>
          <p:nvSpPr>
            <p:cNvPr id="762" name="오른쪽 화살표 104"/>
            <p:cNvSpPr/>
            <p:nvPr/>
          </p:nvSpPr>
          <p:spPr>
            <a:xfrm>
              <a:off x="4255920" y="1682640"/>
              <a:ext cx="1235160" cy="559080"/>
            </a:xfrm>
            <a:prstGeom prst="rightArrow">
              <a:avLst>
                <a:gd name="adj1" fmla="val 50000"/>
                <a:gd name="adj2" fmla="val 58505"/>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오른쪽 화살표 105"/>
            <p:cNvSpPr/>
            <p:nvPr/>
          </p:nvSpPr>
          <p:spPr>
            <a:xfrm>
              <a:off x="4282560" y="1726920"/>
              <a:ext cx="1168560" cy="468720"/>
            </a:xfrm>
            <a:prstGeom prst="rightArrow">
              <a:avLst>
                <a:gd name="adj1" fmla="val 50000"/>
                <a:gd name="adj2" fmla="val 57064"/>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4" name="Group 11"/>
          <p:cNvGrpSpPr/>
          <p:nvPr/>
        </p:nvGrpSpPr>
        <p:grpSpPr>
          <a:xfrm>
            <a:off x="5899320" y="1682640"/>
            <a:ext cx="1236600" cy="559080"/>
            <a:chOff x="5899320" y="1682640"/>
            <a:chExt cx="1236600" cy="559080"/>
          </a:xfrm>
        </p:grpSpPr>
        <p:sp>
          <p:nvSpPr>
            <p:cNvPr id="765" name="오른쪽 화살표 107"/>
            <p:cNvSpPr/>
            <p:nvPr/>
          </p:nvSpPr>
          <p:spPr>
            <a:xfrm>
              <a:off x="5899320" y="1682640"/>
              <a:ext cx="1236600" cy="559080"/>
            </a:xfrm>
            <a:prstGeom prst="rightArrow">
              <a:avLst>
                <a:gd name="adj1" fmla="val 50000"/>
                <a:gd name="adj2" fmla="val 58573"/>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오른쪽 화살표 108"/>
            <p:cNvSpPr/>
            <p:nvPr/>
          </p:nvSpPr>
          <p:spPr>
            <a:xfrm>
              <a:off x="5925960" y="1726920"/>
              <a:ext cx="1170000" cy="468720"/>
            </a:xfrm>
            <a:prstGeom prst="rightArrow">
              <a:avLst>
                <a:gd name="adj1" fmla="val 50000"/>
                <a:gd name="adj2" fmla="val 57123"/>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7" name="Group 14"/>
          <p:cNvGrpSpPr/>
          <p:nvPr/>
        </p:nvGrpSpPr>
        <p:grpSpPr>
          <a:xfrm>
            <a:off x="528480" y="2505240"/>
            <a:ext cx="8079120" cy="637920"/>
            <a:chOff x="528480" y="2505240"/>
            <a:chExt cx="8079120" cy="637920"/>
          </a:xfrm>
        </p:grpSpPr>
        <p:sp>
          <p:nvSpPr>
            <p:cNvPr id="768" name="직사각형 10"/>
            <p:cNvSpPr/>
            <p:nvPr/>
          </p:nvSpPr>
          <p:spPr>
            <a:xfrm>
              <a:off x="528480" y="2505240"/>
              <a:ext cx="8079120" cy="6379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직사각형 64"/>
            <p:cNvSpPr/>
            <p:nvPr/>
          </p:nvSpPr>
          <p:spPr>
            <a:xfrm>
              <a:off x="590040" y="2563920"/>
              <a:ext cx="7955640" cy="52056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0" name="Group 17"/>
          <p:cNvGrpSpPr/>
          <p:nvPr/>
        </p:nvGrpSpPr>
        <p:grpSpPr>
          <a:xfrm>
            <a:off x="528480" y="3236760"/>
            <a:ext cx="8079120" cy="638280"/>
            <a:chOff x="528480" y="3236760"/>
            <a:chExt cx="8079120" cy="638280"/>
          </a:xfrm>
        </p:grpSpPr>
        <p:sp>
          <p:nvSpPr>
            <p:cNvPr id="771" name="직사각형 67"/>
            <p:cNvSpPr/>
            <p:nvPr/>
          </p:nvSpPr>
          <p:spPr>
            <a:xfrm>
              <a:off x="528480" y="3236760"/>
              <a:ext cx="8079120" cy="6382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직사각형 68"/>
            <p:cNvSpPr/>
            <p:nvPr/>
          </p:nvSpPr>
          <p:spPr>
            <a:xfrm>
              <a:off x="590040" y="3295440"/>
              <a:ext cx="7955640" cy="5209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3" name="Group 20"/>
          <p:cNvGrpSpPr/>
          <p:nvPr/>
        </p:nvGrpSpPr>
        <p:grpSpPr>
          <a:xfrm>
            <a:off x="528480" y="3968640"/>
            <a:ext cx="8079120" cy="638280"/>
            <a:chOff x="528480" y="3968640"/>
            <a:chExt cx="8079120" cy="638280"/>
          </a:xfrm>
        </p:grpSpPr>
        <p:sp>
          <p:nvSpPr>
            <p:cNvPr id="774" name="직사각형 70"/>
            <p:cNvSpPr/>
            <p:nvPr/>
          </p:nvSpPr>
          <p:spPr>
            <a:xfrm>
              <a:off x="528480" y="3968640"/>
              <a:ext cx="8079120" cy="6382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직사각형 71"/>
            <p:cNvSpPr/>
            <p:nvPr/>
          </p:nvSpPr>
          <p:spPr>
            <a:xfrm>
              <a:off x="590040" y="4027320"/>
              <a:ext cx="7955640" cy="5209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6" name="Group 23"/>
          <p:cNvGrpSpPr/>
          <p:nvPr/>
        </p:nvGrpSpPr>
        <p:grpSpPr>
          <a:xfrm>
            <a:off x="528480" y="4700520"/>
            <a:ext cx="8079120" cy="639720"/>
            <a:chOff x="528480" y="4700520"/>
            <a:chExt cx="8079120" cy="639720"/>
          </a:xfrm>
        </p:grpSpPr>
        <p:sp>
          <p:nvSpPr>
            <p:cNvPr id="777" name="직사각형 73"/>
            <p:cNvSpPr/>
            <p:nvPr/>
          </p:nvSpPr>
          <p:spPr>
            <a:xfrm>
              <a:off x="528480" y="4700520"/>
              <a:ext cx="8079120" cy="6397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직사각형 74"/>
            <p:cNvSpPr/>
            <p:nvPr/>
          </p:nvSpPr>
          <p:spPr>
            <a:xfrm>
              <a:off x="590040" y="4759200"/>
              <a:ext cx="7955640" cy="52236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Group 26"/>
          <p:cNvGrpSpPr/>
          <p:nvPr/>
        </p:nvGrpSpPr>
        <p:grpSpPr>
          <a:xfrm>
            <a:off x="528480" y="5433840"/>
            <a:ext cx="8079120" cy="638280"/>
            <a:chOff x="528480" y="5433840"/>
            <a:chExt cx="8079120" cy="638280"/>
          </a:xfrm>
        </p:grpSpPr>
        <p:sp>
          <p:nvSpPr>
            <p:cNvPr id="780" name="직사각형 76"/>
            <p:cNvSpPr/>
            <p:nvPr/>
          </p:nvSpPr>
          <p:spPr>
            <a:xfrm>
              <a:off x="528480" y="5433840"/>
              <a:ext cx="8079120" cy="6382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직사각형 77"/>
            <p:cNvSpPr/>
            <p:nvPr/>
          </p:nvSpPr>
          <p:spPr>
            <a:xfrm>
              <a:off x="590040" y="5492520"/>
              <a:ext cx="7955640" cy="5209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2"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783"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784" name="Group 31"/>
          <p:cNvGrpSpPr/>
          <p:nvPr/>
        </p:nvGrpSpPr>
        <p:grpSpPr>
          <a:xfrm>
            <a:off x="523800" y="1590840"/>
            <a:ext cx="1455840" cy="742680"/>
            <a:chOff x="523800" y="1590840"/>
            <a:chExt cx="1455840" cy="742680"/>
          </a:xfrm>
        </p:grpSpPr>
        <p:grpSp>
          <p:nvGrpSpPr>
            <p:cNvPr id="785" name="Group 32"/>
            <p:cNvGrpSpPr/>
            <p:nvPr/>
          </p:nvGrpSpPr>
          <p:grpSpPr>
            <a:xfrm>
              <a:off x="523800" y="1590840"/>
              <a:ext cx="1455840" cy="742680"/>
              <a:chOff x="523800" y="1590840"/>
              <a:chExt cx="1455840" cy="742680"/>
            </a:xfrm>
          </p:grpSpPr>
          <p:sp>
            <p:nvSpPr>
              <p:cNvPr id="786" name="직사각형 23"/>
              <p:cNvSpPr/>
              <p:nvPr/>
            </p:nvSpPr>
            <p:spPr>
              <a:xfrm>
                <a:off x="523800" y="1590840"/>
                <a:ext cx="1455840" cy="742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직사각형 34"/>
              <p:cNvSpPr/>
              <p:nvPr/>
            </p:nvSpPr>
            <p:spPr>
              <a:xfrm>
                <a:off x="561600" y="1643040"/>
                <a:ext cx="1379880" cy="63792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8" name="직사각형 17"/>
            <p:cNvSpPr/>
            <p:nvPr/>
          </p:nvSpPr>
          <p:spPr>
            <a:xfrm>
              <a:off x="558720" y="1633680"/>
              <a:ext cx="1379880" cy="318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9" name="Group 36"/>
          <p:cNvGrpSpPr/>
          <p:nvPr/>
        </p:nvGrpSpPr>
        <p:grpSpPr>
          <a:xfrm>
            <a:off x="2176560" y="1590840"/>
            <a:ext cx="1457280" cy="742680"/>
            <a:chOff x="2176560" y="1590840"/>
            <a:chExt cx="1457280" cy="742680"/>
          </a:xfrm>
        </p:grpSpPr>
        <p:sp>
          <p:nvSpPr>
            <p:cNvPr id="790" name="직사각형 24"/>
            <p:cNvSpPr/>
            <p:nvPr/>
          </p:nvSpPr>
          <p:spPr>
            <a:xfrm>
              <a:off x="2176560" y="1590840"/>
              <a:ext cx="1457280" cy="742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직사각형 35"/>
            <p:cNvSpPr/>
            <p:nvPr/>
          </p:nvSpPr>
          <p:spPr>
            <a:xfrm>
              <a:off x="2214360" y="1643040"/>
              <a:ext cx="1381320" cy="63792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직사각형 18"/>
            <p:cNvSpPr/>
            <p:nvPr/>
          </p:nvSpPr>
          <p:spPr>
            <a:xfrm>
              <a:off x="2214360" y="1633680"/>
              <a:ext cx="1381320" cy="318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3" name="Group 40"/>
          <p:cNvGrpSpPr/>
          <p:nvPr/>
        </p:nvGrpSpPr>
        <p:grpSpPr>
          <a:xfrm>
            <a:off x="3828960" y="1590840"/>
            <a:ext cx="1457280" cy="742680"/>
            <a:chOff x="3828960" y="1590840"/>
            <a:chExt cx="1457280" cy="742680"/>
          </a:xfrm>
        </p:grpSpPr>
        <p:sp>
          <p:nvSpPr>
            <p:cNvPr id="794" name="직사각형 25"/>
            <p:cNvSpPr/>
            <p:nvPr/>
          </p:nvSpPr>
          <p:spPr>
            <a:xfrm>
              <a:off x="3828960" y="1590840"/>
              <a:ext cx="1457280" cy="742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직사각형 36"/>
            <p:cNvSpPr/>
            <p:nvPr/>
          </p:nvSpPr>
          <p:spPr>
            <a:xfrm>
              <a:off x="3866760" y="1643040"/>
              <a:ext cx="1381320" cy="63792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직사각형 19"/>
            <p:cNvSpPr/>
            <p:nvPr/>
          </p:nvSpPr>
          <p:spPr>
            <a:xfrm>
              <a:off x="3866760" y="1633680"/>
              <a:ext cx="1381320" cy="318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7" name="Group 44"/>
          <p:cNvGrpSpPr/>
          <p:nvPr/>
        </p:nvGrpSpPr>
        <p:grpSpPr>
          <a:xfrm>
            <a:off x="5483160" y="1590840"/>
            <a:ext cx="1455840" cy="742680"/>
            <a:chOff x="5483160" y="1590840"/>
            <a:chExt cx="1455840" cy="742680"/>
          </a:xfrm>
        </p:grpSpPr>
        <p:sp>
          <p:nvSpPr>
            <p:cNvPr id="798" name="직사각형 26"/>
            <p:cNvSpPr/>
            <p:nvPr/>
          </p:nvSpPr>
          <p:spPr>
            <a:xfrm>
              <a:off x="5483160" y="1590840"/>
              <a:ext cx="1455840" cy="742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직사각형 38"/>
            <p:cNvSpPr/>
            <p:nvPr/>
          </p:nvSpPr>
          <p:spPr>
            <a:xfrm>
              <a:off x="5520960" y="1643040"/>
              <a:ext cx="1379880" cy="63792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직사각형 20"/>
            <p:cNvSpPr/>
            <p:nvPr/>
          </p:nvSpPr>
          <p:spPr>
            <a:xfrm>
              <a:off x="5520960" y="1633680"/>
              <a:ext cx="1379880" cy="318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01" name="Group 48"/>
          <p:cNvGrpSpPr/>
          <p:nvPr/>
        </p:nvGrpSpPr>
        <p:grpSpPr>
          <a:xfrm>
            <a:off x="7135920" y="1590840"/>
            <a:ext cx="1455480" cy="742680"/>
            <a:chOff x="7135920" y="1590840"/>
            <a:chExt cx="1455480" cy="742680"/>
          </a:xfrm>
        </p:grpSpPr>
        <p:sp>
          <p:nvSpPr>
            <p:cNvPr id="802" name="직사각형 27"/>
            <p:cNvSpPr/>
            <p:nvPr/>
          </p:nvSpPr>
          <p:spPr>
            <a:xfrm>
              <a:off x="7135920" y="1590840"/>
              <a:ext cx="1455480" cy="742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직사각형 39"/>
            <p:cNvSpPr/>
            <p:nvPr/>
          </p:nvSpPr>
          <p:spPr>
            <a:xfrm>
              <a:off x="7173720" y="1643040"/>
              <a:ext cx="1379520" cy="63792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직사각형 22"/>
            <p:cNvSpPr/>
            <p:nvPr/>
          </p:nvSpPr>
          <p:spPr>
            <a:xfrm>
              <a:off x="7173720" y="1633680"/>
              <a:ext cx="1379520" cy="318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05" name="Group 52"/>
          <p:cNvGrpSpPr/>
          <p:nvPr/>
        </p:nvGrpSpPr>
        <p:grpSpPr>
          <a:xfrm>
            <a:off x="633240" y="2598840"/>
            <a:ext cx="951120" cy="453960"/>
            <a:chOff x="633240" y="2598840"/>
            <a:chExt cx="951120" cy="453960"/>
          </a:xfrm>
        </p:grpSpPr>
        <p:grpSp>
          <p:nvGrpSpPr>
            <p:cNvPr id="806" name="Group 53"/>
            <p:cNvGrpSpPr/>
            <p:nvPr/>
          </p:nvGrpSpPr>
          <p:grpSpPr>
            <a:xfrm>
              <a:off x="633240" y="2598840"/>
              <a:ext cx="951120" cy="453960"/>
              <a:chOff x="633240" y="2598840"/>
              <a:chExt cx="951120" cy="453960"/>
            </a:xfrm>
          </p:grpSpPr>
          <p:sp>
            <p:nvSpPr>
              <p:cNvPr id="807" name="직사각형 44"/>
              <p:cNvSpPr/>
              <p:nvPr/>
            </p:nvSpPr>
            <p:spPr>
              <a:xfrm>
                <a:off x="633240" y="2598840"/>
                <a:ext cx="951120" cy="4539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직사각형 45"/>
              <p:cNvSpPr/>
              <p:nvPr/>
            </p:nvSpPr>
            <p:spPr>
              <a:xfrm>
                <a:off x="658440" y="2630520"/>
                <a:ext cx="900360" cy="39060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직사각형 43"/>
            <p:cNvSpPr/>
            <p:nvPr/>
          </p:nvSpPr>
          <p:spPr>
            <a:xfrm>
              <a:off x="657000" y="2624040"/>
              <a:ext cx="90036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0" name="Group 57"/>
          <p:cNvGrpSpPr/>
          <p:nvPr/>
        </p:nvGrpSpPr>
        <p:grpSpPr>
          <a:xfrm>
            <a:off x="633240" y="3332160"/>
            <a:ext cx="951120" cy="453960"/>
            <a:chOff x="633240" y="3332160"/>
            <a:chExt cx="951120" cy="453960"/>
          </a:xfrm>
        </p:grpSpPr>
        <p:sp>
          <p:nvSpPr>
            <p:cNvPr id="811" name="직사각형 47"/>
            <p:cNvSpPr/>
            <p:nvPr/>
          </p:nvSpPr>
          <p:spPr>
            <a:xfrm>
              <a:off x="633240" y="3332160"/>
              <a:ext cx="951120" cy="4539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직사각형 48"/>
            <p:cNvSpPr/>
            <p:nvPr/>
          </p:nvSpPr>
          <p:spPr>
            <a:xfrm>
              <a:off x="658440" y="3363840"/>
              <a:ext cx="900360" cy="39060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직사각형 49"/>
            <p:cNvSpPr/>
            <p:nvPr/>
          </p:nvSpPr>
          <p:spPr>
            <a:xfrm>
              <a:off x="658440" y="3357360"/>
              <a:ext cx="90036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4" name="Group 61"/>
          <p:cNvGrpSpPr/>
          <p:nvPr/>
        </p:nvGrpSpPr>
        <p:grpSpPr>
          <a:xfrm>
            <a:off x="633240" y="4065480"/>
            <a:ext cx="951120" cy="453960"/>
            <a:chOff x="633240" y="4065480"/>
            <a:chExt cx="951120" cy="453960"/>
          </a:xfrm>
        </p:grpSpPr>
        <p:sp>
          <p:nvSpPr>
            <p:cNvPr id="815" name="직사각형 51"/>
            <p:cNvSpPr/>
            <p:nvPr/>
          </p:nvSpPr>
          <p:spPr>
            <a:xfrm>
              <a:off x="633240" y="4065480"/>
              <a:ext cx="951120" cy="4539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직사각형 52"/>
            <p:cNvSpPr/>
            <p:nvPr/>
          </p:nvSpPr>
          <p:spPr>
            <a:xfrm>
              <a:off x="658440" y="4097160"/>
              <a:ext cx="900360" cy="39060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직사각형 53"/>
            <p:cNvSpPr/>
            <p:nvPr/>
          </p:nvSpPr>
          <p:spPr>
            <a:xfrm>
              <a:off x="658440" y="4090680"/>
              <a:ext cx="90036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8" name="Group 65"/>
          <p:cNvGrpSpPr/>
          <p:nvPr/>
        </p:nvGrpSpPr>
        <p:grpSpPr>
          <a:xfrm>
            <a:off x="633240" y="4797360"/>
            <a:ext cx="951120" cy="453960"/>
            <a:chOff x="633240" y="4797360"/>
            <a:chExt cx="951120" cy="453960"/>
          </a:xfrm>
        </p:grpSpPr>
        <p:sp>
          <p:nvSpPr>
            <p:cNvPr id="819" name="직사각형 55"/>
            <p:cNvSpPr/>
            <p:nvPr/>
          </p:nvSpPr>
          <p:spPr>
            <a:xfrm>
              <a:off x="633240" y="4797360"/>
              <a:ext cx="951120" cy="4539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직사각형 56"/>
            <p:cNvSpPr/>
            <p:nvPr/>
          </p:nvSpPr>
          <p:spPr>
            <a:xfrm>
              <a:off x="658440" y="4829040"/>
              <a:ext cx="900360" cy="39060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직사각형 57"/>
            <p:cNvSpPr/>
            <p:nvPr/>
          </p:nvSpPr>
          <p:spPr>
            <a:xfrm>
              <a:off x="658440" y="4822560"/>
              <a:ext cx="90036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Group 69"/>
          <p:cNvGrpSpPr/>
          <p:nvPr/>
        </p:nvGrpSpPr>
        <p:grpSpPr>
          <a:xfrm>
            <a:off x="633240" y="5535720"/>
            <a:ext cx="951120" cy="453960"/>
            <a:chOff x="633240" y="5535720"/>
            <a:chExt cx="951120" cy="453960"/>
          </a:xfrm>
        </p:grpSpPr>
        <p:sp>
          <p:nvSpPr>
            <p:cNvPr id="823" name="직사각형 59"/>
            <p:cNvSpPr/>
            <p:nvPr/>
          </p:nvSpPr>
          <p:spPr>
            <a:xfrm>
              <a:off x="633240" y="5535720"/>
              <a:ext cx="951120" cy="45396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직사각형 60"/>
            <p:cNvSpPr/>
            <p:nvPr/>
          </p:nvSpPr>
          <p:spPr>
            <a:xfrm>
              <a:off x="658440" y="5567400"/>
              <a:ext cx="900360" cy="39060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직사각형 61"/>
            <p:cNvSpPr/>
            <p:nvPr/>
          </p:nvSpPr>
          <p:spPr>
            <a:xfrm>
              <a:off x="658440" y="5560920"/>
              <a:ext cx="900360" cy="195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6" name="TextBox 62"/>
          <p:cNvSpPr/>
          <p:nvPr/>
        </p:nvSpPr>
        <p:spPr>
          <a:xfrm>
            <a:off x="756000" y="2664000"/>
            <a:ext cx="73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STEP 1</a:t>
            </a:r>
            <a:endParaRPr b="0" lang="en-US" sz="1400" spc="-1" strike="noStrike">
              <a:solidFill>
                <a:srgbClr val="000000"/>
              </a:solidFill>
              <a:latin typeface="Gulim"/>
            </a:endParaRPr>
          </a:p>
        </p:txBody>
      </p:sp>
      <p:sp>
        <p:nvSpPr>
          <p:cNvPr id="827" name="TextBox 78"/>
          <p:cNvSpPr/>
          <p:nvPr/>
        </p:nvSpPr>
        <p:spPr>
          <a:xfrm>
            <a:off x="756000" y="3397320"/>
            <a:ext cx="73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STEP 2</a:t>
            </a:r>
            <a:endParaRPr b="0" lang="en-US" sz="1400" spc="-1" strike="noStrike">
              <a:solidFill>
                <a:srgbClr val="000000"/>
              </a:solidFill>
              <a:latin typeface="Gulim"/>
            </a:endParaRPr>
          </a:p>
        </p:txBody>
      </p:sp>
      <p:sp>
        <p:nvSpPr>
          <p:cNvPr id="828" name="TextBox 79"/>
          <p:cNvSpPr/>
          <p:nvPr/>
        </p:nvSpPr>
        <p:spPr>
          <a:xfrm>
            <a:off x="756000" y="4130640"/>
            <a:ext cx="73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STEP 3</a:t>
            </a:r>
            <a:endParaRPr b="0" lang="en-US" sz="1400" spc="-1" strike="noStrike">
              <a:solidFill>
                <a:srgbClr val="000000"/>
              </a:solidFill>
              <a:latin typeface="Gulim"/>
            </a:endParaRPr>
          </a:p>
        </p:txBody>
      </p:sp>
      <p:sp>
        <p:nvSpPr>
          <p:cNvPr id="829" name="TextBox 80"/>
          <p:cNvSpPr/>
          <p:nvPr/>
        </p:nvSpPr>
        <p:spPr>
          <a:xfrm>
            <a:off x="756000" y="4862520"/>
            <a:ext cx="73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STEP 4</a:t>
            </a:r>
            <a:endParaRPr b="0" lang="en-US" sz="1400" spc="-1" strike="noStrike">
              <a:solidFill>
                <a:srgbClr val="000000"/>
              </a:solidFill>
              <a:latin typeface="Gulim"/>
            </a:endParaRPr>
          </a:p>
        </p:txBody>
      </p:sp>
      <p:sp>
        <p:nvSpPr>
          <p:cNvPr id="830" name="TextBox 81"/>
          <p:cNvSpPr/>
          <p:nvPr/>
        </p:nvSpPr>
        <p:spPr>
          <a:xfrm>
            <a:off x="756000" y="5605560"/>
            <a:ext cx="73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STEP 5</a:t>
            </a:r>
            <a:endParaRPr b="0" lang="en-US" sz="1400" spc="-1" strike="noStrike">
              <a:solidFill>
                <a:srgbClr val="000000"/>
              </a:solidFill>
              <a:latin typeface="Gulim"/>
            </a:endParaRPr>
          </a:p>
        </p:txBody>
      </p:sp>
      <p:grpSp>
        <p:nvGrpSpPr>
          <p:cNvPr id="831" name="Group 78"/>
          <p:cNvGrpSpPr/>
          <p:nvPr/>
        </p:nvGrpSpPr>
        <p:grpSpPr>
          <a:xfrm>
            <a:off x="874080" y="1652760"/>
            <a:ext cx="755280" cy="584640"/>
            <a:chOff x="874080" y="1652760"/>
            <a:chExt cx="755280" cy="584640"/>
          </a:xfrm>
        </p:grpSpPr>
        <p:sp>
          <p:nvSpPr>
            <p:cNvPr id="832" name="TextBox 109"/>
            <p:cNvSpPr/>
            <p:nvPr/>
          </p:nvSpPr>
          <p:spPr>
            <a:xfrm>
              <a:off x="874080" y="183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833" name="TextBox 110"/>
            <p:cNvSpPr/>
            <p:nvPr/>
          </p:nvSpPr>
          <p:spPr>
            <a:xfrm>
              <a:off x="943200" y="1652760"/>
              <a:ext cx="616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STEP 1</a:t>
              </a:r>
              <a:endParaRPr b="0" lang="en-US" sz="1100" spc="-1" strike="noStrike">
                <a:solidFill>
                  <a:srgbClr val="000000"/>
                </a:solidFill>
                <a:latin typeface="Gulim"/>
              </a:endParaRPr>
            </a:p>
          </p:txBody>
        </p:sp>
      </p:grpSp>
      <p:grpSp>
        <p:nvGrpSpPr>
          <p:cNvPr id="834" name="Group 81"/>
          <p:cNvGrpSpPr/>
          <p:nvPr/>
        </p:nvGrpSpPr>
        <p:grpSpPr>
          <a:xfrm>
            <a:off x="2527560" y="1652760"/>
            <a:ext cx="755280" cy="584640"/>
            <a:chOff x="2527560" y="1652760"/>
            <a:chExt cx="755280" cy="584640"/>
          </a:xfrm>
        </p:grpSpPr>
        <p:sp>
          <p:nvSpPr>
            <p:cNvPr id="835" name="TextBox 115"/>
            <p:cNvSpPr/>
            <p:nvPr/>
          </p:nvSpPr>
          <p:spPr>
            <a:xfrm>
              <a:off x="2527560" y="183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836" name="TextBox 116"/>
            <p:cNvSpPr/>
            <p:nvPr/>
          </p:nvSpPr>
          <p:spPr>
            <a:xfrm>
              <a:off x="2597040" y="1652760"/>
              <a:ext cx="616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STEP 2</a:t>
              </a:r>
              <a:endParaRPr b="0" lang="en-US" sz="1100" spc="-1" strike="noStrike">
                <a:solidFill>
                  <a:srgbClr val="000000"/>
                </a:solidFill>
                <a:latin typeface="Gulim"/>
              </a:endParaRPr>
            </a:p>
          </p:txBody>
        </p:sp>
      </p:grpSp>
      <p:grpSp>
        <p:nvGrpSpPr>
          <p:cNvPr id="837" name="Group 84"/>
          <p:cNvGrpSpPr/>
          <p:nvPr/>
        </p:nvGrpSpPr>
        <p:grpSpPr>
          <a:xfrm>
            <a:off x="4180680" y="1652760"/>
            <a:ext cx="755280" cy="584640"/>
            <a:chOff x="4180680" y="1652760"/>
            <a:chExt cx="755280" cy="584640"/>
          </a:xfrm>
        </p:grpSpPr>
        <p:sp>
          <p:nvSpPr>
            <p:cNvPr id="838" name="TextBox 118"/>
            <p:cNvSpPr/>
            <p:nvPr/>
          </p:nvSpPr>
          <p:spPr>
            <a:xfrm>
              <a:off x="4180680" y="183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839" name="TextBox 119"/>
            <p:cNvSpPr/>
            <p:nvPr/>
          </p:nvSpPr>
          <p:spPr>
            <a:xfrm>
              <a:off x="4250160" y="1652760"/>
              <a:ext cx="616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STEP 3</a:t>
              </a:r>
              <a:endParaRPr b="0" lang="en-US" sz="1100" spc="-1" strike="noStrike">
                <a:solidFill>
                  <a:srgbClr val="000000"/>
                </a:solidFill>
                <a:latin typeface="Gulim"/>
              </a:endParaRPr>
            </a:p>
          </p:txBody>
        </p:sp>
      </p:grpSp>
      <p:grpSp>
        <p:nvGrpSpPr>
          <p:cNvPr id="840" name="Group 87"/>
          <p:cNvGrpSpPr/>
          <p:nvPr/>
        </p:nvGrpSpPr>
        <p:grpSpPr>
          <a:xfrm>
            <a:off x="5833440" y="1652760"/>
            <a:ext cx="755280" cy="584640"/>
            <a:chOff x="5833440" y="1652760"/>
            <a:chExt cx="755280" cy="584640"/>
          </a:xfrm>
        </p:grpSpPr>
        <p:sp>
          <p:nvSpPr>
            <p:cNvPr id="841" name="TextBox 121"/>
            <p:cNvSpPr/>
            <p:nvPr/>
          </p:nvSpPr>
          <p:spPr>
            <a:xfrm>
              <a:off x="5833440" y="183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842" name="TextBox 122"/>
            <p:cNvSpPr/>
            <p:nvPr/>
          </p:nvSpPr>
          <p:spPr>
            <a:xfrm>
              <a:off x="5902560" y="1652760"/>
              <a:ext cx="616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STEP 4</a:t>
              </a:r>
              <a:endParaRPr b="0" lang="en-US" sz="1100" spc="-1" strike="noStrike">
                <a:solidFill>
                  <a:srgbClr val="000000"/>
                </a:solidFill>
                <a:latin typeface="Gulim"/>
              </a:endParaRPr>
            </a:p>
          </p:txBody>
        </p:sp>
      </p:grpSp>
      <p:grpSp>
        <p:nvGrpSpPr>
          <p:cNvPr id="843" name="Group 90"/>
          <p:cNvGrpSpPr/>
          <p:nvPr/>
        </p:nvGrpSpPr>
        <p:grpSpPr>
          <a:xfrm>
            <a:off x="7485840" y="1652760"/>
            <a:ext cx="755280" cy="584640"/>
            <a:chOff x="7485840" y="1652760"/>
            <a:chExt cx="755280" cy="584640"/>
          </a:xfrm>
        </p:grpSpPr>
        <p:sp>
          <p:nvSpPr>
            <p:cNvPr id="844" name="TextBox 124"/>
            <p:cNvSpPr/>
            <p:nvPr/>
          </p:nvSpPr>
          <p:spPr>
            <a:xfrm>
              <a:off x="7485840" y="183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845" name="TextBox 125"/>
            <p:cNvSpPr/>
            <p:nvPr/>
          </p:nvSpPr>
          <p:spPr>
            <a:xfrm>
              <a:off x="7555320" y="1652760"/>
              <a:ext cx="616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STEP 5</a:t>
              </a:r>
              <a:endParaRPr b="0" lang="en-US" sz="1100" spc="-1" strike="noStrike">
                <a:solidFill>
                  <a:srgbClr val="000000"/>
                </a:solidFill>
                <a:latin typeface="Gulim"/>
              </a:endParaRPr>
            </a:p>
          </p:txBody>
        </p:sp>
      </p:grpSp>
      <p:sp>
        <p:nvSpPr>
          <p:cNvPr id="846" name="TextBox 130"/>
          <p:cNvSpPr/>
          <p:nvPr/>
        </p:nvSpPr>
        <p:spPr>
          <a:xfrm>
            <a:off x="1695600" y="2600280"/>
            <a:ext cx="671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
        <p:nvSpPr>
          <p:cNvPr id="847" name="TextBox 131"/>
          <p:cNvSpPr/>
          <p:nvPr/>
        </p:nvSpPr>
        <p:spPr>
          <a:xfrm>
            <a:off x="1695600" y="3341520"/>
            <a:ext cx="671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
        <p:nvSpPr>
          <p:cNvPr id="848" name="TextBox 132"/>
          <p:cNvSpPr/>
          <p:nvPr/>
        </p:nvSpPr>
        <p:spPr>
          <a:xfrm>
            <a:off x="1695600" y="4070520"/>
            <a:ext cx="671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
        <p:nvSpPr>
          <p:cNvPr id="849" name="TextBox 133"/>
          <p:cNvSpPr/>
          <p:nvPr/>
        </p:nvSpPr>
        <p:spPr>
          <a:xfrm>
            <a:off x="1695600" y="4799160"/>
            <a:ext cx="671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
        <p:nvSpPr>
          <p:cNvPr id="850" name="TextBox 134"/>
          <p:cNvSpPr/>
          <p:nvPr/>
        </p:nvSpPr>
        <p:spPr>
          <a:xfrm>
            <a:off x="1695600" y="5537160"/>
            <a:ext cx="671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
        <p:nvSpPr>
          <p:cNvPr id="851" name="TextBox 97"/>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853"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854"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855" name="Group 5"/>
          <p:cNvGrpSpPr/>
          <p:nvPr/>
        </p:nvGrpSpPr>
        <p:grpSpPr>
          <a:xfrm>
            <a:off x="2654280" y="1969920"/>
            <a:ext cx="3816360" cy="3816360"/>
            <a:chOff x="2654280" y="1969920"/>
            <a:chExt cx="3816360" cy="3816360"/>
          </a:xfrm>
        </p:grpSpPr>
        <p:sp>
          <p:nvSpPr>
            <p:cNvPr id="856" name="Oval 27"/>
            <p:cNvSpPr/>
            <p:nvPr/>
          </p:nvSpPr>
          <p:spPr>
            <a:xfrm>
              <a:off x="2654280" y="1969920"/>
              <a:ext cx="3816360" cy="3816360"/>
            </a:xfrm>
            <a:prstGeom prst="ellipse">
              <a:avLst/>
            </a:prstGeom>
            <a:solidFill>
              <a:srgbClr val="d9d9d9">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rc 29"/>
            <p:cNvSpPr/>
            <p:nvPr/>
          </p:nvSpPr>
          <p:spPr>
            <a:xfrm flipV="1">
              <a:off x="4543920" y="2044440"/>
              <a:ext cx="1851480" cy="1836360"/>
            </a:xfrm>
            <a:custGeom>
              <a:avLst/>
              <a:gdLst>
                <a:gd name="textAreaLeft" fmla="*/ 0 w 1851480"/>
                <a:gd name="textAreaRight" fmla="*/ 1851840 w 1851480"/>
                <a:gd name="textAreaTop" fmla="*/ -360 h 1836360"/>
                <a:gd name="textAreaBottom" fmla="*/ 1836360 h 1836360"/>
              </a:gdLst>
              <a:ahLst/>
              <a:rect l="textAreaLeft" t="textAreaTop" r="textAreaRight" b="textAreaBottom"/>
              <a:pathLst>
                <a:path fill="none" w="21772" h="21600">
                  <a:moveTo>
                    <a:pt x="21771" y="97"/>
                  </a:moveTo>
                  <a:cubicBezTo>
                    <a:pt x="21717" y="11988"/>
                    <a:pt x="12063" y="21599"/>
                    <a:pt x="172" y="21600"/>
                  </a:cubicBezTo>
                  <a:cubicBezTo>
                    <a:pt x="114" y="21600"/>
                    <a:pt x="57" y="21599"/>
                    <a:pt x="-1" y="21599"/>
                  </a:cubicBezTo>
                </a:path>
                <a:path stroke="0" w="21772" h="21600">
                  <a:moveTo>
                    <a:pt x="21771" y="97"/>
                  </a:moveTo>
                  <a:cubicBezTo>
                    <a:pt x="21717" y="11988"/>
                    <a:pt x="12063" y="21599"/>
                    <a:pt x="172" y="21600"/>
                  </a:cubicBezTo>
                  <a:cubicBezTo>
                    <a:pt x="114" y="21600"/>
                    <a:pt x="57" y="21599"/>
                    <a:pt x="-1" y="21599"/>
                  </a:cubicBezTo>
                  <a:lnTo>
                    <a:pt x="172" y="0"/>
                  </a:lnTo>
                  <a:lnTo>
                    <a:pt x="21771" y="97"/>
                  </a:lnTo>
                  <a:close/>
                </a:path>
              </a:pathLst>
            </a:custGeom>
            <a:solidFill>
              <a:srgbClr val="ffc000"/>
            </a:solidFill>
            <a:ln w="12600">
              <a:solidFill>
                <a:srgbClr val="ffff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58" name="Arc 30"/>
            <p:cNvSpPr/>
            <p:nvPr/>
          </p:nvSpPr>
          <p:spPr>
            <a:xfrm flipV="1">
              <a:off x="2724480" y="2044440"/>
              <a:ext cx="1837800" cy="1836360"/>
            </a:xfrm>
            <a:custGeom>
              <a:avLst/>
              <a:gdLst>
                <a:gd name="textAreaLeft" fmla="*/ 0 w 1837800"/>
                <a:gd name="textAreaRight" fmla="*/ 1838160 w 1837800"/>
                <a:gd name="textAreaTop" fmla="*/ -360 h 1836360"/>
                <a:gd name="textAreaBottom" fmla="*/ 1836360 h 1836360"/>
              </a:gdLst>
              <a:ahLst/>
              <a:rect l="textAreaLeft" t="textAreaTop" r="textAreaRight" b="textAreaBottom"/>
              <a:pathLst>
                <a:path fill="none" w="21599" h="21600">
                  <a:moveTo>
                    <a:pt x="21558" y="21599"/>
                  </a:moveTo>
                  <a:cubicBezTo>
                    <a:pt x="9705" y="21577"/>
                    <a:pt x="85" y="12008"/>
                    <a:pt x="-1" y="156"/>
                  </a:cubicBezTo>
                </a:path>
                <a:path stroke="0" w="21599" h="21600">
                  <a:moveTo>
                    <a:pt x="21558" y="21599"/>
                  </a:moveTo>
                  <a:cubicBezTo>
                    <a:pt x="9705" y="21577"/>
                    <a:pt x="85" y="12008"/>
                    <a:pt x="-1" y="156"/>
                  </a:cubicBezTo>
                  <a:lnTo>
                    <a:pt x="21599" y="0"/>
                  </a:lnTo>
                  <a:lnTo>
                    <a:pt x="21558" y="21599"/>
                  </a:lnTo>
                  <a:close/>
                </a:path>
              </a:pathLst>
            </a:custGeom>
            <a:solidFill>
              <a:srgbClr val="f6ea00"/>
            </a:solidFill>
            <a:ln w="12600">
              <a:solidFill>
                <a:srgbClr val="ffff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59" name="Arc 31"/>
            <p:cNvSpPr/>
            <p:nvPr/>
          </p:nvSpPr>
          <p:spPr>
            <a:xfrm flipV="1">
              <a:off x="2724480" y="3866400"/>
              <a:ext cx="1837800" cy="1849680"/>
            </a:xfrm>
            <a:custGeom>
              <a:avLst/>
              <a:gdLst>
                <a:gd name="textAreaLeft" fmla="*/ 0 w 1837800"/>
                <a:gd name="textAreaRight" fmla="*/ 1838160 w 1837800"/>
                <a:gd name="textAreaTop" fmla="*/ 360 h 1849680"/>
                <a:gd name="textAreaBottom" fmla="*/ 1850400 h 1849680"/>
              </a:gdLst>
              <a:ahLst/>
              <a:rect l="textAreaLeft" t="textAreaTop" r="textAreaRight" b="textAreaBottom"/>
              <a:pathLst>
                <a:path fill="none" w="21600" h="21767">
                  <a:moveTo>
                    <a:pt x="0" y="21767"/>
                  </a:moveTo>
                  <a:cubicBezTo>
                    <a:pt x="0" y="21711"/>
                    <a:pt x="0" y="21655"/>
                    <a:pt x="0" y="21600"/>
                  </a:cubicBezTo>
                  <a:cubicBezTo>
                    <a:pt x="-1" y="9691"/>
                    <a:pt x="9638" y="29"/>
                    <a:pt x="21547" y="0"/>
                  </a:cubicBezTo>
                </a:path>
                <a:path stroke="0" w="21600" h="21767">
                  <a:moveTo>
                    <a:pt x="0" y="21767"/>
                  </a:moveTo>
                  <a:cubicBezTo>
                    <a:pt x="0" y="21711"/>
                    <a:pt x="0" y="21655"/>
                    <a:pt x="0" y="21600"/>
                  </a:cubicBezTo>
                  <a:cubicBezTo>
                    <a:pt x="-1" y="9691"/>
                    <a:pt x="9638" y="29"/>
                    <a:pt x="21547" y="0"/>
                  </a:cubicBezTo>
                  <a:lnTo>
                    <a:pt x="21600" y="21600"/>
                  </a:lnTo>
                  <a:lnTo>
                    <a:pt x="0" y="21767"/>
                  </a:lnTo>
                  <a:close/>
                </a:path>
              </a:pathLst>
            </a:custGeom>
            <a:solidFill>
              <a:srgbClr val="00b400"/>
            </a:solidFill>
            <a:ln w="12600">
              <a:solidFill>
                <a:srgbClr val="ffff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0" name="Arc 32"/>
            <p:cNvSpPr/>
            <p:nvPr/>
          </p:nvSpPr>
          <p:spPr>
            <a:xfrm flipV="1">
              <a:off x="4557600" y="3865680"/>
              <a:ext cx="1837800" cy="1851480"/>
            </a:xfrm>
            <a:custGeom>
              <a:avLst/>
              <a:gdLst>
                <a:gd name="textAreaLeft" fmla="*/ 0 w 1837800"/>
                <a:gd name="textAreaRight" fmla="*/ 1838160 w 1837800"/>
                <a:gd name="textAreaTop" fmla="*/ -360 h 1851480"/>
                <a:gd name="textAreaBottom" fmla="*/ 1851480 h 1851480"/>
              </a:gdLst>
              <a:ahLst/>
              <a:rect l="textAreaLeft" t="textAreaTop" r="textAreaRight" b="textAreaBottom"/>
              <a:pathLst>
                <a:path fill="none" w="21619" h="21784">
                  <a:moveTo>
                    <a:pt x="0" y="0"/>
                  </a:moveTo>
                  <a:cubicBezTo>
                    <a:pt x="6" y="0"/>
                    <a:pt x="12" y="-1"/>
                    <a:pt x="19" y="0"/>
                  </a:cubicBezTo>
                  <a:cubicBezTo>
                    <a:pt x="11948" y="0"/>
                    <a:pt x="21619" y="9670"/>
                    <a:pt x="21619" y="21600"/>
                  </a:cubicBezTo>
                  <a:cubicBezTo>
                    <a:pt x="21619" y="21661"/>
                    <a:pt x="21618" y="21722"/>
                    <a:pt x="21618" y="21784"/>
                  </a:cubicBezTo>
                </a:path>
                <a:path stroke="0" w="21619" h="21784">
                  <a:moveTo>
                    <a:pt x="0" y="0"/>
                  </a:moveTo>
                  <a:cubicBezTo>
                    <a:pt x="6" y="0"/>
                    <a:pt x="12" y="-1"/>
                    <a:pt x="19" y="0"/>
                  </a:cubicBezTo>
                  <a:cubicBezTo>
                    <a:pt x="11948" y="0"/>
                    <a:pt x="21619" y="9670"/>
                    <a:pt x="21619" y="21600"/>
                  </a:cubicBezTo>
                  <a:cubicBezTo>
                    <a:pt x="21619" y="21661"/>
                    <a:pt x="21618" y="21722"/>
                    <a:pt x="21618" y="21784"/>
                  </a:cubicBezTo>
                  <a:lnTo>
                    <a:pt x="19" y="21600"/>
                  </a:lnTo>
                  <a:lnTo>
                    <a:pt x="0" y="0"/>
                  </a:lnTo>
                  <a:close/>
                </a:path>
              </a:pathLst>
            </a:custGeom>
            <a:solidFill>
              <a:srgbClr val="00acee"/>
            </a:solidFill>
            <a:ln w="12600">
              <a:solidFill>
                <a:srgbClr val="ffff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1" name="Arc 34"/>
            <p:cNvSpPr/>
            <p:nvPr/>
          </p:nvSpPr>
          <p:spPr>
            <a:xfrm flipV="1">
              <a:off x="3482640" y="2792880"/>
              <a:ext cx="1084680" cy="1084680"/>
            </a:xfrm>
            <a:custGeom>
              <a:avLst/>
              <a:gdLst>
                <a:gd name="textAreaLeft" fmla="*/ 0 w 1084680"/>
                <a:gd name="textAreaRight" fmla="*/ 1085040 w 1084680"/>
                <a:gd name="textAreaTop" fmla="*/ -360 h 1084680"/>
                <a:gd name="textAreaBottom" fmla="*/ 1084680 h 1084680"/>
              </a:gdLst>
              <a:ahLst/>
              <a:rect l="textAreaLeft" t="textAreaTop" r="textAreaRight" b="textAreaBottom"/>
              <a:pathLst>
                <a:path fill="none" w="21600" h="21632">
                  <a:moveTo>
                    <a:pt x="21598" y="21631"/>
                  </a:moveTo>
                  <a:cubicBezTo>
                    <a:pt x="9669" y="21630"/>
                    <a:pt x="0" y="11960"/>
                    <a:pt x="0" y="32"/>
                  </a:cubicBezTo>
                  <a:cubicBezTo>
                    <a:pt x="-1" y="21"/>
                    <a:pt x="0" y="10"/>
                    <a:pt x="0" y="0"/>
                  </a:cubicBezTo>
                </a:path>
                <a:path stroke="0" w="21600" h="21632">
                  <a:moveTo>
                    <a:pt x="21598" y="21631"/>
                  </a:moveTo>
                  <a:cubicBezTo>
                    <a:pt x="9669" y="21630"/>
                    <a:pt x="0" y="11960"/>
                    <a:pt x="0" y="32"/>
                  </a:cubicBezTo>
                  <a:cubicBezTo>
                    <a:pt x="-1" y="21"/>
                    <a:pt x="0" y="10"/>
                    <a:pt x="0" y="0"/>
                  </a:cubicBezTo>
                  <a:lnTo>
                    <a:pt x="21600" y="32"/>
                  </a:lnTo>
                  <a:lnTo>
                    <a:pt x="21598" y="21631"/>
                  </a:lnTo>
                  <a:close/>
                </a:path>
              </a:pathLst>
            </a:custGeom>
            <a:solidFill>
              <a:srgbClr val="ffffff">
                <a:alpha val="7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2" name="Arc 35"/>
            <p:cNvSpPr/>
            <p:nvPr/>
          </p:nvSpPr>
          <p:spPr>
            <a:xfrm flipV="1">
              <a:off x="3480840" y="3873240"/>
              <a:ext cx="1082880" cy="1082880"/>
            </a:xfrm>
            <a:custGeom>
              <a:avLst/>
              <a:gdLst/>
              <a:ahLst/>
              <a:rect l="l" t="t" r="r" b="b"/>
              <a:pathLst>
                <a:path fill="none" w="21600" h="21600">
                  <a:moveTo>
                    <a:pt x="0" y="21521"/>
                  </a:moveTo>
                  <a:cubicBezTo>
                    <a:pt x="43" y="9643"/>
                    <a:pt x="9669" y="29"/>
                    <a:pt x="21547" y="0"/>
                  </a:cubicBezTo>
                </a:path>
                <a:path stroke="0" w="21600" h="21600">
                  <a:moveTo>
                    <a:pt x="0" y="21521"/>
                  </a:moveTo>
                  <a:cubicBezTo>
                    <a:pt x="43" y="9643"/>
                    <a:pt x="9669" y="29"/>
                    <a:pt x="21547" y="0"/>
                  </a:cubicBezTo>
                  <a:lnTo>
                    <a:pt x="21600" y="21600"/>
                  </a:lnTo>
                  <a:lnTo>
                    <a:pt x="0" y="21521"/>
                  </a:lnTo>
                  <a:close/>
                </a:path>
              </a:pathLst>
            </a:custGeom>
            <a:solidFill>
              <a:srgbClr val="ffffff">
                <a:alpha val="7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3" name="Arc 36"/>
            <p:cNvSpPr/>
            <p:nvPr/>
          </p:nvSpPr>
          <p:spPr>
            <a:xfrm flipV="1">
              <a:off x="4559040" y="2791080"/>
              <a:ext cx="1086480" cy="1084680"/>
            </a:xfrm>
            <a:custGeom>
              <a:avLst/>
              <a:gdLst>
                <a:gd name="textAreaLeft" fmla="*/ 0 w 1086480"/>
                <a:gd name="textAreaRight" fmla="*/ 1086840 w 1086480"/>
                <a:gd name="textAreaTop" fmla="*/ -360 h 1084680"/>
                <a:gd name="textAreaBottom" fmla="*/ 1084680 h 1084680"/>
              </a:gdLst>
              <a:ahLst/>
              <a:rect l="textAreaLeft" t="textAreaTop" r="textAreaRight" b="textAreaBottom"/>
              <a:pathLst>
                <a:path fill="none" w="21681" h="21632">
                  <a:moveTo>
                    <a:pt x="21680" y="0"/>
                  </a:moveTo>
                  <a:cubicBezTo>
                    <a:pt x="21680" y="10"/>
                    <a:pt x="21681" y="21"/>
                    <a:pt x="21681" y="32"/>
                  </a:cubicBezTo>
                  <a:cubicBezTo>
                    <a:pt x="21681" y="11961"/>
                    <a:pt x="12010" y="21632"/>
                    <a:pt x="81" y="21632"/>
                  </a:cubicBezTo>
                  <a:cubicBezTo>
                    <a:pt x="54" y="21632"/>
                    <a:pt x="27" y="21631"/>
                    <a:pt x="0" y="21631"/>
                  </a:cubicBezTo>
                </a:path>
                <a:path stroke="0" w="21681" h="21632">
                  <a:moveTo>
                    <a:pt x="21680" y="0"/>
                  </a:moveTo>
                  <a:cubicBezTo>
                    <a:pt x="21680" y="10"/>
                    <a:pt x="21681" y="21"/>
                    <a:pt x="21681" y="32"/>
                  </a:cubicBezTo>
                  <a:cubicBezTo>
                    <a:pt x="21681" y="11961"/>
                    <a:pt x="12010" y="21632"/>
                    <a:pt x="81" y="21632"/>
                  </a:cubicBezTo>
                  <a:cubicBezTo>
                    <a:pt x="54" y="21632"/>
                    <a:pt x="27" y="21631"/>
                    <a:pt x="0" y="21631"/>
                  </a:cubicBezTo>
                  <a:lnTo>
                    <a:pt x="81" y="32"/>
                  </a:lnTo>
                  <a:lnTo>
                    <a:pt x="21680" y="0"/>
                  </a:lnTo>
                  <a:close/>
                </a:path>
              </a:pathLst>
            </a:custGeom>
            <a:solidFill>
              <a:srgbClr val="ffffff">
                <a:alpha val="7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4" name="Arc 37"/>
            <p:cNvSpPr/>
            <p:nvPr/>
          </p:nvSpPr>
          <p:spPr>
            <a:xfrm flipV="1">
              <a:off x="4560840" y="3873240"/>
              <a:ext cx="1084680" cy="1082880"/>
            </a:xfrm>
            <a:custGeom>
              <a:avLst/>
              <a:gdLst>
                <a:gd name="textAreaLeft" fmla="*/ 0 w 1084680"/>
                <a:gd name="textAreaRight" fmla="*/ 1085040 w 1084680"/>
                <a:gd name="textAreaTop" fmla="*/ 0 h 1082880"/>
                <a:gd name="textAreaBottom" fmla="*/ 1082880 h 1082880"/>
              </a:gdLst>
              <a:ahLst/>
              <a:rect l="textAreaLeft" t="textAreaTop" r="textAreaRight" b="textAreaBottom"/>
              <a:pathLst>
                <a:path fill="none" w="21619" h="21600">
                  <a:moveTo>
                    <a:pt x="0" y="0"/>
                  </a:moveTo>
                  <a:cubicBezTo>
                    <a:pt x="6" y="0"/>
                    <a:pt x="12" y="-1"/>
                    <a:pt x="19" y="0"/>
                  </a:cubicBezTo>
                  <a:cubicBezTo>
                    <a:pt x="11924" y="0"/>
                    <a:pt x="21584" y="9632"/>
                    <a:pt x="21618" y="21538"/>
                  </a:cubicBezTo>
                </a:path>
                <a:path stroke="0" w="21619" h="21600">
                  <a:moveTo>
                    <a:pt x="0" y="0"/>
                  </a:moveTo>
                  <a:cubicBezTo>
                    <a:pt x="6" y="0"/>
                    <a:pt x="12" y="-1"/>
                    <a:pt x="19" y="0"/>
                  </a:cubicBezTo>
                  <a:cubicBezTo>
                    <a:pt x="11924" y="0"/>
                    <a:pt x="21584" y="9632"/>
                    <a:pt x="21618" y="21538"/>
                  </a:cubicBezTo>
                  <a:lnTo>
                    <a:pt x="19" y="21600"/>
                  </a:lnTo>
                  <a:lnTo>
                    <a:pt x="0" y="0"/>
                  </a:lnTo>
                  <a:close/>
                </a:path>
              </a:pathLst>
            </a:custGeom>
            <a:solidFill>
              <a:srgbClr val="ffffff">
                <a:alpha val="7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865" name="WordArt 39"/>
            <p:cNvSpPr txBox="1"/>
            <p:nvPr/>
          </p:nvSpPr>
          <p:spPr>
            <a:xfrm rot="18556200">
              <a:off x="3674880" y="3310920"/>
              <a:ext cx="655920" cy="1108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ea00"/>
                  </a:solidFill>
                  <a:latin typeface="Arial"/>
                </a:rPr>
                <a:t>STEP 1</a:t>
              </a:r>
              <a:endParaRPr b="0" lang="en-US" sz="1800" spc="1" strike="noStrike">
                <a:ln w="0">
                  <a:noFill/>
                </a:ln>
                <a:solidFill>
                  <a:srgbClr val="f6ea00"/>
                </a:solidFill>
                <a:latin typeface="Arial"/>
                <a:ea typeface="Arial"/>
              </a:endParaRPr>
            </a:p>
          </p:txBody>
        </p:sp>
        <p:sp>
          <p:nvSpPr>
            <p:cNvPr id="866" name="WordArt 40"/>
            <p:cNvSpPr txBox="1"/>
            <p:nvPr/>
          </p:nvSpPr>
          <p:spPr>
            <a:xfrm rot="13885200">
              <a:off x="5141160" y="3922560"/>
              <a:ext cx="655920" cy="1108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000"/>
                  </a:solidFill>
                  <a:latin typeface="Arial"/>
                </a:rPr>
                <a:t>STEP 2</a:t>
              </a:r>
              <a:endParaRPr b="0" lang="en-US" sz="1800" spc="1" strike="noStrike">
                <a:ln w="0">
                  <a:noFill/>
                </a:ln>
                <a:solidFill>
                  <a:srgbClr val="ffc000"/>
                </a:solidFill>
                <a:latin typeface="Arial"/>
                <a:ea typeface="Arial"/>
              </a:endParaRPr>
            </a:p>
          </p:txBody>
        </p:sp>
        <p:sp>
          <p:nvSpPr>
            <p:cNvPr id="867" name="WordArt 41"/>
            <p:cNvSpPr txBox="1"/>
            <p:nvPr/>
          </p:nvSpPr>
          <p:spPr>
            <a:xfrm rot="2760000">
              <a:off x="3631680" y="4408920"/>
              <a:ext cx="655920" cy="112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b400"/>
                  </a:solidFill>
                  <a:latin typeface="Arial"/>
                </a:rPr>
                <a:t>STEP 3</a:t>
              </a:r>
              <a:endParaRPr b="0" lang="en-US" sz="1800" spc="1" strike="noStrike">
                <a:ln w="0">
                  <a:noFill/>
                </a:ln>
                <a:solidFill>
                  <a:srgbClr val="00b400"/>
                </a:solidFill>
                <a:latin typeface="Arial"/>
                <a:ea typeface="Arial"/>
              </a:endParaRPr>
            </a:p>
          </p:txBody>
        </p:sp>
        <p:sp>
          <p:nvSpPr>
            <p:cNvPr id="868" name="WordArt 42"/>
            <p:cNvSpPr txBox="1"/>
            <p:nvPr/>
          </p:nvSpPr>
          <p:spPr>
            <a:xfrm rot="18763200">
              <a:off x="4824000" y="4410000"/>
              <a:ext cx="655920" cy="1108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acee"/>
                  </a:solidFill>
                  <a:latin typeface="Arial"/>
                </a:rPr>
                <a:t>STEP 4</a:t>
              </a:r>
              <a:endParaRPr b="0" lang="en-US" sz="1800" spc="1" strike="noStrike">
                <a:ln w="0">
                  <a:noFill/>
                </a:ln>
                <a:solidFill>
                  <a:srgbClr val="00acee"/>
                </a:solidFill>
                <a:latin typeface="Arial"/>
                <a:ea typeface="Arial"/>
              </a:endParaRPr>
            </a:p>
          </p:txBody>
        </p:sp>
        <p:sp>
          <p:nvSpPr>
            <p:cNvPr id="869" name="타원 29"/>
            <p:cNvSpPr/>
            <p:nvPr/>
          </p:nvSpPr>
          <p:spPr>
            <a:xfrm>
              <a:off x="3919320" y="3234960"/>
              <a:ext cx="1285920" cy="1285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0" name="TextBox 31"/>
          <p:cNvSpPr/>
          <p:nvPr/>
        </p:nvSpPr>
        <p:spPr>
          <a:xfrm>
            <a:off x="4122000" y="366084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HY견고딕"/>
                <a:ea typeface="HY견고딕"/>
              </a:rPr>
              <a:t>TEXT</a:t>
            </a:r>
            <a:endParaRPr b="0" lang="en-US" sz="2400" spc="-1" strike="noStrike">
              <a:solidFill>
                <a:srgbClr val="000000"/>
              </a:solidFill>
              <a:latin typeface="Gulim"/>
            </a:endParaRPr>
          </a:p>
        </p:txBody>
      </p:sp>
      <p:sp>
        <p:nvSpPr>
          <p:cNvPr id="871" name="TextBox 34"/>
          <p:cNvSpPr/>
          <p:nvPr/>
        </p:nvSpPr>
        <p:spPr>
          <a:xfrm>
            <a:off x="3119760" y="277488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872" name="TextBox 35"/>
          <p:cNvSpPr/>
          <p:nvPr/>
        </p:nvSpPr>
        <p:spPr>
          <a:xfrm>
            <a:off x="5323320" y="277488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873" name="TextBox 36"/>
          <p:cNvSpPr/>
          <p:nvPr/>
        </p:nvSpPr>
        <p:spPr>
          <a:xfrm>
            <a:off x="3048480" y="458136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874" name="TextBox 38"/>
          <p:cNvSpPr/>
          <p:nvPr/>
        </p:nvSpPr>
        <p:spPr>
          <a:xfrm>
            <a:off x="5375520" y="458136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875" name="TextBox 39"/>
          <p:cNvSpPr/>
          <p:nvPr/>
        </p:nvSpPr>
        <p:spPr>
          <a:xfrm>
            <a:off x="285840" y="1963800"/>
            <a:ext cx="2428920" cy="96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ea00"/>
                </a:solidFill>
                <a:latin typeface="Arial Black"/>
                <a:ea typeface="HY견고딕"/>
              </a:rPr>
              <a:t>ASADAL INTERNET, INC.</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876" name="TextBox 40"/>
          <p:cNvSpPr/>
          <p:nvPr/>
        </p:nvSpPr>
        <p:spPr>
          <a:xfrm>
            <a:off x="285840" y="4678200"/>
            <a:ext cx="2428920" cy="96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400"/>
                </a:solidFill>
                <a:latin typeface="Arial Black"/>
                <a:ea typeface="HY견고딕"/>
              </a:rPr>
              <a:t>ASADAL INTERNET, INC.</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877" name="TextBox 41"/>
          <p:cNvSpPr/>
          <p:nvPr/>
        </p:nvSpPr>
        <p:spPr>
          <a:xfrm>
            <a:off x="6429240" y="1974960"/>
            <a:ext cx="2428920" cy="9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000"/>
                </a:solidFill>
                <a:latin typeface="Arial Black"/>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878" name="TextBox 42"/>
          <p:cNvSpPr/>
          <p:nvPr/>
        </p:nvSpPr>
        <p:spPr>
          <a:xfrm>
            <a:off x="6429240" y="4689360"/>
            <a:ext cx="2428920" cy="9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cee"/>
                </a:solidFill>
                <a:latin typeface="Arial Black"/>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직사각형 173"/>
          <p:cNvSpPr/>
          <p:nvPr/>
        </p:nvSpPr>
        <p:spPr>
          <a:xfrm>
            <a:off x="19080" y="2727360"/>
            <a:ext cx="6553080" cy="221436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881"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882"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883" name="Group 6"/>
          <p:cNvGrpSpPr/>
          <p:nvPr/>
        </p:nvGrpSpPr>
        <p:grpSpPr>
          <a:xfrm>
            <a:off x="3924000" y="1375920"/>
            <a:ext cx="5027760" cy="5019840"/>
            <a:chOff x="3924000" y="1375920"/>
            <a:chExt cx="5027760" cy="5019840"/>
          </a:xfrm>
        </p:grpSpPr>
        <p:sp>
          <p:nvSpPr>
            <p:cNvPr id="884" name="Freeform 13"/>
            <p:cNvSpPr/>
            <p:nvPr/>
          </p:nvSpPr>
          <p:spPr>
            <a:xfrm rot="13500000">
              <a:off x="5324040" y="4878720"/>
              <a:ext cx="1054440" cy="1340280"/>
            </a:xfrm>
            <a:custGeom>
              <a:avLst/>
              <a:gdLst>
                <a:gd name="textAreaLeft" fmla="*/ 0 w 1054440"/>
                <a:gd name="textAreaRight" fmla="*/ 1054800 w 1054440"/>
                <a:gd name="textAreaTop" fmla="*/ 0 h 1340280"/>
                <a:gd name="textAreaBottom" fmla="*/ 1340640 h 134028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Freeform 7"/>
            <p:cNvSpPr/>
            <p:nvPr/>
          </p:nvSpPr>
          <p:spPr>
            <a:xfrm>
              <a:off x="5003280" y="1763280"/>
              <a:ext cx="1340280" cy="1054440"/>
            </a:xfrm>
            <a:custGeom>
              <a:avLst/>
              <a:gdLst>
                <a:gd name="textAreaLeft" fmla="*/ 0 w 1340280"/>
                <a:gd name="textAreaRight" fmla="*/ 1340640 w 1340280"/>
                <a:gd name="textAreaTop" fmla="*/ 0 h 1054440"/>
                <a:gd name="textAreaBottom" fmla="*/ 1054800 h 105444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8"/>
            <p:cNvSpPr/>
            <p:nvPr/>
          </p:nvSpPr>
          <p:spPr>
            <a:xfrm rot="2700000">
              <a:off x="6350040" y="1694880"/>
              <a:ext cx="1339920" cy="1054800"/>
            </a:xfrm>
            <a:custGeom>
              <a:avLst/>
              <a:gdLst>
                <a:gd name="textAreaLeft" fmla="*/ 0 w 1339920"/>
                <a:gd name="textAreaRight" fmla="*/ 1340280 w 1339920"/>
                <a:gd name="textAreaTop" fmla="*/ 0 h 1054800"/>
                <a:gd name="textAreaBottom" fmla="*/ 1055160 h 105480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7" name="Freeform 9"/>
            <p:cNvSpPr/>
            <p:nvPr/>
          </p:nvSpPr>
          <p:spPr>
            <a:xfrm rot="5400000">
              <a:off x="7362720" y="2599200"/>
              <a:ext cx="1339920" cy="1054800"/>
            </a:xfrm>
            <a:custGeom>
              <a:avLst/>
              <a:gdLst>
                <a:gd name="textAreaLeft" fmla="*/ 0 w 1339920"/>
                <a:gd name="textAreaRight" fmla="*/ 1340280 w 1339920"/>
                <a:gd name="textAreaTop" fmla="*/ 0 h 1054800"/>
                <a:gd name="textAreaBottom" fmla="*/ 1055160 h 105480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0"/>
            <p:cNvSpPr/>
            <p:nvPr/>
          </p:nvSpPr>
          <p:spPr>
            <a:xfrm rot="8100000">
              <a:off x="7434720" y="3953160"/>
              <a:ext cx="1340280" cy="1054440"/>
            </a:xfrm>
            <a:custGeom>
              <a:avLst/>
              <a:gdLst>
                <a:gd name="textAreaLeft" fmla="*/ 0 w 1340280"/>
                <a:gd name="textAreaRight" fmla="*/ 1340640 w 1340280"/>
                <a:gd name="textAreaTop" fmla="*/ 0 h 1054440"/>
                <a:gd name="textAreaBottom" fmla="*/ 1054800 h 105444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Freeform 11"/>
            <p:cNvSpPr/>
            <p:nvPr/>
          </p:nvSpPr>
          <p:spPr>
            <a:xfrm rot="18900000">
              <a:off x="4242960" y="2624400"/>
              <a:ext cx="1054800" cy="1339920"/>
            </a:xfrm>
            <a:custGeom>
              <a:avLst/>
              <a:gdLst>
                <a:gd name="textAreaLeft" fmla="*/ 0 w 1054800"/>
                <a:gd name="textAreaRight" fmla="*/ 1055160 w 1054800"/>
                <a:gd name="textAreaTop" fmla="*/ 0 h 1339920"/>
                <a:gd name="textAreaBottom" fmla="*/ 1339920 h 133992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0" name="Freeform 12"/>
            <p:cNvSpPr/>
            <p:nvPr/>
          </p:nvSpPr>
          <p:spPr>
            <a:xfrm rot="16200000">
              <a:off x="4178160" y="4125600"/>
              <a:ext cx="1339920" cy="1054800"/>
            </a:xfrm>
            <a:custGeom>
              <a:avLst/>
              <a:gdLst>
                <a:gd name="textAreaLeft" fmla="*/ 0 w 1339920"/>
                <a:gd name="textAreaRight" fmla="*/ 1340280 w 1339920"/>
                <a:gd name="textAreaTop" fmla="*/ 0 h 1054800"/>
                <a:gd name="textAreaBottom" fmla="*/ 1055160 h 105480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4"/>
            <p:cNvSpPr/>
            <p:nvPr/>
          </p:nvSpPr>
          <p:spPr>
            <a:xfrm rot="10800000">
              <a:off x="6526080" y="4947480"/>
              <a:ext cx="1340280" cy="1054440"/>
            </a:xfrm>
            <a:custGeom>
              <a:avLst/>
              <a:gdLst>
                <a:gd name="textAreaLeft" fmla="*/ 0 w 1340280"/>
                <a:gd name="textAreaRight" fmla="*/ 1340640 w 1340280"/>
                <a:gd name="textAreaTop" fmla="*/ 0 h 1054440"/>
                <a:gd name="textAreaBottom" fmla="*/ 1054800 h 1054440"/>
              </a:gdLst>
              <a:ahLst/>
              <a:rect l="textAreaLeft" t="textAreaTop" r="textAreaRight" b="textAreaBottom"/>
              <a:pathLst>
                <a:path w="864" h="680">
                  <a:moveTo>
                    <a:pt x="0" y="360"/>
                  </a:moveTo>
                  <a:lnTo>
                    <a:pt x="0" y="360"/>
                  </a:lnTo>
                  <a:lnTo>
                    <a:pt x="14" y="346"/>
                  </a:lnTo>
                  <a:lnTo>
                    <a:pt x="32" y="328"/>
                  </a:lnTo>
                  <a:lnTo>
                    <a:pt x="56" y="304"/>
                  </a:lnTo>
                  <a:lnTo>
                    <a:pt x="88" y="278"/>
                  </a:lnTo>
                  <a:lnTo>
                    <a:pt x="126" y="246"/>
                  </a:lnTo>
                  <a:lnTo>
                    <a:pt x="170" y="214"/>
                  </a:lnTo>
                  <a:lnTo>
                    <a:pt x="222" y="180"/>
                  </a:lnTo>
                  <a:lnTo>
                    <a:pt x="280" y="148"/>
                  </a:lnTo>
                  <a:lnTo>
                    <a:pt x="344" y="114"/>
                  </a:lnTo>
                  <a:lnTo>
                    <a:pt x="378" y="100"/>
                  </a:lnTo>
                  <a:lnTo>
                    <a:pt x="414" y="84"/>
                  </a:lnTo>
                  <a:lnTo>
                    <a:pt x="452" y="70"/>
                  </a:lnTo>
                  <a:lnTo>
                    <a:pt x="492" y="58"/>
                  </a:lnTo>
                  <a:lnTo>
                    <a:pt x="534" y="46"/>
                  </a:lnTo>
                  <a:lnTo>
                    <a:pt x="576" y="34"/>
                  </a:lnTo>
                  <a:lnTo>
                    <a:pt x="620" y="24"/>
                  </a:lnTo>
                  <a:lnTo>
                    <a:pt x="666" y="16"/>
                  </a:lnTo>
                  <a:lnTo>
                    <a:pt x="714" y="10"/>
                  </a:lnTo>
                  <a:lnTo>
                    <a:pt x="762" y="4"/>
                  </a:lnTo>
                  <a:lnTo>
                    <a:pt x="812" y="2"/>
                  </a:lnTo>
                  <a:lnTo>
                    <a:pt x="864" y="0"/>
                  </a:lnTo>
                  <a:lnTo>
                    <a:pt x="864" y="452"/>
                  </a:lnTo>
                  <a:lnTo>
                    <a:pt x="854" y="452"/>
                  </a:lnTo>
                  <a:lnTo>
                    <a:pt x="820" y="456"/>
                  </a:lnTo>
                  <a:lnTo>
                    <a:pt x="770" y="466"/>
                  </a:lnTo>
                  <a:lnTo>
                    <a:pt x="738" y="472"/>
                  </a:lnTo>
                  <a:lnTo>
                    <a:pt x="702" y="482"/>
                  </a:lnTo>
                  <a:lnTo>
                    <a:pt x="662" y="494"/>
                  </a:lnTo>
                  <a:lnTo>
                    <a:pt x="620" y="510"/>
                  </a:lnTo>
                  <a:lnTo>
                    <a:pt x="576" y="528"/>
                  </a:lnTo>
                  <a:lnTo>
                    <a:pt x="528" y="550"/>
                  </a:lnTo>
                  <a:lnTo>
                    <a:pt x="478" y="576"/>
                  </a:lnTo>
                  <a:lnTo>
                    <a:pt x="428" y="606"/>
                  </a:lnTo>
                  <a:lnTo>
                    <a:pt x="374" y="642"/>
                  </a:lnTo>
                  <a:lnTo>
                    <a:pt x="320" y="680"/>
                  </a:lnTo>
                  <a:lnTo>
                    <a:pt x="0" y="360"/>
                  </a:lnTo>
                  <a:close/>
                </a:path>
              </a:pathLst>
            </a:custGeom>
            <a:solidFill>
              <a:srgbClr val="00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2" name="Group 15"/>
            <p:cNvGrpSpPr/>
            <p:nvPr/>
          </p:nvGrpSpPr>
          <p:grpSpPr>
            <a:xfrm>
              <a:off x="5248800" y="2705760"/>
              <a:ext cx="2373120" cy="2372760"/>
              <a:chOff x="5248800" y="2705760"/>
              <a:chExt cx="2373120" cy="2372760"/>
            </a:xfrm>
          </p:grpSpPr>
          <p:sp>
            <p:nvSpPr>
              <p:cNvPr id="893" name="타원 156"/>
              <p:cNvSpPr/>
              <p:nvPr/>
            </p:nvSpPr>
            <p:spPr>
              <a:xfrm>
                <a:off x="5248800" y="2705760"/>
                <a:ext cx="2373120" cy="237276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도넛 157"/>
              <p:cNvSpPr/>
              <p:nvPr/>
            </p:nvSpPr>
            <p:spPr>
              <a:xfrm>
                <a:off x="5335560" y="2792520"/>
                <a:ext cx="2199600" cy="2199240"/>
              </a:xfrm>
              <a:custGeom>
                <a:avLst/>
                <a:gdLst>
                  <a:gd name="textAreaLeft" fmla="*/ 321840 w 2199600"/>
                  <a:gd name="textAreaRight" fmla="*/ 1877760 w 2199600"/>
                  <a:gd name="textAreaTop" fmla="*/ 321840 h 2199240"/>
                  <a:gd name="textAreaBottom" fmla="*/ 1877400 h 2199240"/>
                </a:gdLst>
                <a:ahLst/>
                <a:rect l="textAreaLeft" t="textAreaTop" r="textAreaRight" b="textAreaBottom"/>
                <a:pathLst>
                  <a:path w="2132012" h="2132209">
                    <a:moveTo>
                      <a:pt x="0" y="1066105"/>
                    </a:moveTo>
                    <a:lnTo>
                      <a:pt x="0" y="1066105"/>
                    </a:lnTo>
                    <a:cubicBezTo>
                      <a:pt x="0" y="477311"/>
                      <a:pt x="477267" y="1"/>
                      <a:pt x="1066006" y="1"/>
                    </a:cubicBezTo>
                    <a:cubicBezTo>
                      <a:pt x="1066006" y="1"/>
                      <a:pt x="1066007" y="1"/>
                      <a:pt x="1066008" y="1"/>
                    </a:cubicBezTo>
                    <a:lnTo>
                      <a:pt x="1066007" y="1"/>
                    </a:lnTo>
                    <a:cubicBezTo>
                      <a:pt x="1654746" y="1"/>
                      <a:pt x="2132013" y="477312"/>
                      <a:pt x="2132013" y="1066106"/>
                    </a:cubicBezTo>
                    <a:cubicBezTo>
                      <a:pt x="2132013" y="1066106"/>
                      <a:pt x="2132012" y="1066107"/>
                      <a:pt x="2132012" y="1066108"/>
                    </a:cubicBezTo>
                    <a:lnTo>
                      <a:pt x="2132013" y="1066108"/>
                    </a:lnTo>
                    <a:cubicBezTo>
                      <a:pt x="2132013" y="1654901"/>
                      <a:pt x="1654745" y="2132213"/>
                      <a:pt x="1066007" y="2132213"/>
                    </a:cubicBezTo>
                    <a:cubicBezTo>
                      <a:pt x="1066006" y="2132213"/>
                      <a:pt x="1066006" y="2132212"/>
                      <a:pt x="1066006" y="2132212"/>
                    </a:cubicBezTo>
                    <a:cubicBezTo>
                      <a:pt x="477267" y="2132212"/>
                      <a:pt x="1" y="1654901"/>
                      <a:pt x="1" y="1066108"/>
                    </a:cubicBezTo>
                    <a:cubicBezTo>
                      <a:pt x="1" y="1066107"/>
                      <a:pt x="1" y="1066107"/>
                      <a:pt x="1" y="1066107"/>
                    </a:cubicBezTo>
                    <a:lnTo>
                      <a:pt x="0" y="1066105"/>
                    </a:lnTo>
                    <a:close/>
                    <a:moveTo>
                      <a:pt x="387365" y="1066105"/>
                    </a:moveTo>
                    <a:lnTo>
                      <a:pt x="387365" y="1066105"/>
                    </a:lnTo>
                    <a:cubicBezTo>
                      <a:pt x="387365" y="1066105"/>
                      <a:pt x="387365" y="1066105"/>
                      <a:pt x="387365" y="1066106"/>
                    </a:cubicBezTo>
                    <a:cubicBezTo>
                      <a:pt x="387365" y="1440962"/>
                      <a:pt x="691202" y="1744844"/>
                      <a:pt x="1066004" y="1744844"/>
                    </a:cubicBezTo>
                    <a:lnTo>
                      <a:pt x="1066005" y="1744845"/>
                    </a:lnTo>
                    <a:cubicBezTo>
                      <a:pt x="1440808" y="1744845"/>
                      <a:pt x="1744646" y="1440963"/>
                      <a:pt x="1744646" y="1066106"/>
                    </a:cubicBezTo>
                    <a:cubicBezTo>
                      <a:pt x="1744646" y="691248"/>
                      <a:pt x="1440808" y="387367"/>
                      <a:pt x="1066005" y="387367"/>
                    </a:cubicBezTo>
                    <a:cubicBezTo>
                      <a:pt x="1066004" y="387367"/>
                      <a:pt x="1066004" y="387367"/>
                      <a:pt x="1066004" y="387367"/>
                    </a:cubicBezTo>
                    <a:cubicBezTo>
                      <a:pt x="691201" y="387367"/>
                      <a:pt x="387363" y="691248"/>
                      <a:pt x="387363" y="1066105"/>
                    </a:cubicBezTo>
                    <a:lnTo>
                      <a:pt x="387365" y="1066105"/>
                    </a:lnTo>
                    <a:close/>
                  </a:path>
                </a:pathLst>
              </a:custGeom>
              <a:solidFill>
                <a:srgbClr val="00b4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95" name="도넛 158"/>
              <p:cNvSpPr/>
              <p:nvPr/>
            </p:nvSpPr>
            <p:spPr>
              <a:xfrm>
                <a:off x="5564880" y="3021840"/>
                <a:ext cx="1740960" cy="1740600"/>
              </a:xfrm>
              <a:custGeom>
                <a:avLst/>
                <a:gdLst>
                  <a:gd name="textAreaLeft" fmla="*/ 254880 w 1740960"/>
                  <a:gd name="textAreaRight" fmla="*/ 1486080 w 1740960"/>
                  <a:gd name="textAreaTop" fmla="*/ 254880 h 1740600"/>
                  <a:gd name="textAreaBottom" fmla="*/ 1485720 h 1740600"/>
                </a:gdLst>
                <a:ahLst/>
                <a:rect l="textAreaLeft" t="textAreaTop" r="textAreaRight" b="textAreaBottom"/>
                <a:pathLst>
                  <a:path w="1687512" h="1687668">
                    <a:moveTo>
                      <a:pt x="0" y="843834"/>
                    </a:moveTo>
                    <a:lnTo>
                      <a:pt x="0" y="843834"/>
                    </a:lnTo>
                    <a:cubicBezTo>
                      <a:pt x="0" y="377797"/>
                      <a:pt x="377762" y="1"/>
                      <a:pt x="843756" y="1"/>
                    </a:cubicBezTo>
                    <a:cubicBezTo>
                      <a:pt x="843756" y="1"/>
                      <a:pt x="843756" y="1"/>
                      <a:pt x="843757" y="1"/>
                    </a:cubicBezTo>
                    <a:cubicBezTo>
                      <a:pt x="1309750" y="1"/>
                      <a:pt x="1687512" y="377798"/>
                      <a:pt x="1687512" y="843835"/>
                    </a:cubicBezTo>
                    <a:cubicBezTo>
                      <a:pt x="1687512" y="843835"/>
                      <a:pt x="1687511" y="843835"/>
                      <a:pt x="1687511" y="843836"/>
                    </a:cubicBezTo>
                    <a:lnTo>
                      <a:pt x="1687512" y="843836"/>
                    </a:lnTo>
                    <a:cubicBezTo>
                      <a:pt x="1687512" y="1309872"/>
                      <a:pt x="1309749" y="1687670"/>
                      <a:pt x="843756" y="1687670"/>
                    </a:cubicBezTo>
                    <a:cubicBezTo>
                      <a:pt x="377762" y="1687670"/>
                      <a:pt x="0" y="1309872"/>
                      <a:pt x="0" y="843836"/>
                    </a:cubicBezTo>
                    <a:cubicBezTo>
                      <a:pt x="0" y="843835"/>
                      <a:pt x="0" y="843835"/>
                      <a:pt x="0" y="843835"/>
                    </a:cubicBezTo>
                    <a:lnTo>
                      <a:pt x="0" y="843834"/>
                    </a:lnTo>
                    <a:close/>
                    <a:moveTo>
                      <a:pt x="236539" y="843834"/>
                    </a:moveTo>
                    <a:lnTo>
                      <a:pt x="236539" y="843834"/>
                    </a:lnTo>
                    <a:cubicBezTo>
                      <a:pt x="236539" y="843834"/>
                      <a:pt x="236539" y="843834"/>
                      <a:pt x="236539" y="843834"/>
                    </a:cubicBezTo>
                    <a:cubicBezTo>
                      <a:pt x="236539" y="1179234"/>
                      <a:pt x="508398" y="1451129"/>
                      <a:pt x="843754" y="1451129"/>
                    </a:cubicBezTo>
                    <a:lnTo>
                      <a:pt x="843755" y="1451130"/>
                    </a:lnTo>
                    <a:cubicBezTo>
                      <a:pt x="1179111" y="1451130"/>
                      <a:pt x="1450972" y="1179234"/>
                      <a:pt x="1450972" y="843835"/>
                    </a:cubicBezTo>
                    <a:cubicBezTo>
                      <a:pt x="1450972" y="508435"/>
                      <a:pt x="1179111" y="236540"/>
                      <a:pt x="843755" y="236540"/>
                    </a:cubicBezTo>
                    <a:lnTo>
                      <a:pt x="843754" y="236540"/>
                    </a:lnTo>
                    <a:cubicBezTo>
                      <a:pt x="843754" y="236540"/>
                      <a:pt x="843754" y="236540"/>
                      <a:pt x="843754" y="236540"/>
                    </a:cubicBezTo>
                    <a:cubicBezTo>
                      <a:pt x="508397" y="236540"/>
                      <a:pt x="236537" y="508434"/>
                      <a:pt x="236537" y="843834"/>
                    </a:cubicBezTo>
                    <a:lnTo>
                      <a:pt x="236539" y="843834"/>
                    </a:lnTo>
                    <a:close/>
                  </a:path>
                </a:pathLst>
              </a:custGeom>
              <a:solidFill>
                <a:srgbClr val="00b400">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96" name="도넛 159"/>
              <p:cNvSpPr/>
              <p:nvPr/>
            </p:nvSpPr>
            <p:spPr>
              <a:xfrm>
                <a:off x="5564880" y="3021840"/>
                <a:ext cx="1740960" cy="1740600"/>
              </a:xfrm>
              <a:custGeom>
                <a:avLst/>
                <a:gdLst>
                  <a:gd name="textAreaLeft" fmla="*/ 254880 w 1740960"/>
                  <a:gd name="textAreaRight" fmla="*/ 1486080 w 1740960"/>
                  <a:gd name="textAreaTop" fmla="*/ 254880 h 1740600"/>
                  <a:gd name="textAreaBottom" fmla="*/ 1485720 h 1740600"/>
                </a:gdLst>
                <a:ahLst/>
                <a:rect l="textAreaLeft" t="textAreaTop" r="textAreaRight" b="textAreaBottom"/>
                <a:pathLst>
                  <a:path w="1687512" h="1687668">
                    <a:moveTo>
                      <a:pt x="0" y="843834"/>
                    </a:moveTo>
                    <a:lnTo>
                      <a:pt x="0" y="843834"/>
                    </a:lnTo>
                    <a:cubicBezTo>
                      <a:pt x="0" y="377797"/>
                      <a:pt x="377762" y="1"/>
                      <a:pt x="843756" y="1"/>
                    </a:cubicBezTo>
                    <a:cubicBezTo>
                      <a:pt x="843756" y="1"/>
                      <a:pt x="843756" y="1"/>
                      <a:pt x="843757" y="1"/>
                    </a:cubicBezTo>
                    <a:cubicBezTo>
                      <a:pt x="1309750" y="1"/>
                      <a:pt x="1687512" y="377798"/>
                      <a:pt x="1687512" y="843835"/>
                    </a:cubicBezTo>
                    <a:cubicBezTo>
                      <a:pt x="1687512" y="843835"/>
                      <a:pt x="1687511" y="843835"/>
                      <a:pt x="1687511" y="843836"/>
                    </a:cubicBezTo>
                    <a:lnTo>
                      <a:pt x="1687512" y="843836"/>
                    </a:lnTo>
                    <a:cubicBezTo>
                      <a:pt x="1687512" y="1309872"/>
                      <a:pt x="1309749" y="1687670"/>
                      <a:pt x="843756" y="1687670"/>
                    </a:cubicBezTo>
                    <a:cubicBezTo>
                      <a:pt x="377762" y="1687670"/>
                      <a:pt x="0" y="1309872"/>
                      <a:pt x="0" y="843836"/>
                    </a:cubicBezTo>
                    <a:cubicBezTo>
                      <a:pt x="0" y="843835"/>
                      <a:pt x="0" y="843835"/>
                      <a:pt x="0" y="843835"/>
                    </a:cubicBezTo>
                    <a:lnTo>
                      <a:pt x="0" y="843834"/>
                    </a:lnTo>
                    <a:close/>
                    <a:moveTo>
                      <a:pt x="207277" y="843834"/>
                    </a:moveTo>
                    <a:lnTo>
                      <a:pt x="207277" y="843834"/>
                    </a:lnTo>
                    <a:cubicBezTo>
                      <a:pt x="207277" y="843834"/>
                      <a:pt x="207277" y="843834"/>
                      <a:pt x="207277" y="843834"/>
                    </a:cubicBezTo>
                    <a:cubicBezTo>
                      <a:pt x="207277" y="1195395"/>
                      <a:pt x="492237" y="1480391"/>
                      <a:pt x="843755" y="1480391"/>
                    </a:cubicBezTo>
                    <a:lnTo>
                      <a:pt x="843755" y="1480392"/>
                    </a:lnTo>
                    <a:cubicBezTo>
                      <a:pt x="1195272" y="1480392"/>
                      <a:pt x="1480234" y="1195395"/>
                      <a:pt x="1480234" y="843835"/>
                    </a:cubicBezTo>
                    <a:cubicBezTo>
                      <a:pt x="1480234" y="492274"/>
                      <a:pt x="1195272" y="207278"/>
                      <a:pt x="843755" y="207278"/>
                    </a:cubicBezTo>
                    <a:lnTo>
                      <a:pt x="843754" y="207278"/>
                    </a:lnTo>
                    <a:cubicBezTo>
                      <a:pt x="843754" y="207278"/>
                      <a:pt x="843754" y="207278"/>
                      <a:pt x="843754" y="207278"/>
                    </a:cubicBezTo>
                    <a:cubicBezTo>
                      <a:pt x="492236" y="207278"/>
                      <a:pt x="207275" y="492273"/>
                      <a:pt x="207275" y="843834"/>
                    </a:cubicBezTo>
                    <a:lnTo>
                      <a:pt x="207277" y="843834"/>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sp>
        <p:nvSpPr>
          <p:cNvPr id="897" name="TextBox 155"/>
          <p:cNvSpPr/>
          <p:nvPr/>
        </p:nvSpPr>
        <p:spPr>
          <a:xfrm>
            <a:off x="6057720" y="357516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HY견고딕"/>
                <a:ea typeface="HY견고딕"/>
              </a:rPr>
              <a:t>TEXT</a:t>
            </a:r>
            <a:endParaRPr b="0" lang="en-US" sz="2500" spc="-1" strike="noStrike">
              <a:solidFill>
                <a:srgbClr val="000000"/>
              </a:solidFill>
              <a:latin typeface="Gulim"/>
            </a:endParaRPr>
          </a:p>
        </p:txBody>
      </p:sp>
      <p:sp>
        <p:nvSpPr>
          <p:cNvPr id="898" name="TextBox 160"/>
          <p:cNvSpPr/>
          <p:nvPr/>
        </p:nvSpPr>
        <p:spPr>
          <a:xfrm>
            <a:off x="4563000" y="297180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HY견고딕"/>
                <a:ea typeface="HY견고딕"/>
              </a:rPr>
              <a:t>TEXT</a:t>
            </a:r>
            <a:endParaRPr b="0" lang="en-US" sz="1800" spc="-1" strike="noStrike">
              <a:solidFill>
                <a:srgbClr val="000000"/>
              </a:solidFill>
              <a:latin typeface="Gulim"/>
            </a:endParaRPr>
          </a:p>
        </p:txBody>
      </p:sp>
      <p:sp>
        <p:nvSpPr>
          <p:cNvPr id="899" name="TextBox 161"/>
          <p:cNvSpPr/>
          <p:nvPr/>
        </p:nvSpPr>
        <p:spPr>
          <a:xfrm>
            <a:off x="5477400" y="520704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HY견고딕"/>
                <a:ea typeface="HY견고딕"/>
              </a:rPr>
              <a:t>TEXT</a:t>
            </a:r>
            <a:endParaRPr b="0" lang="en-US" sz="1800" spc="-1" strike="noStrike">
              <a:solidFill>
                <a:srgbClr val="000000"/>
              </a:solidFill>
              <a:latin typeface="Gulim"/>
            </a:endParaRPr>
          </a:p>
        </p:txBody>
      </p:sp>
      <p:sp>
        <p:nvSpPr>
          <p:cNvPr id="900" name="TextBox 162"/>
          <p:cNvSpPr/>
          <p:nvPr/>
        </p:nvSpPr>
        <p:spPr>
          <a:xfrm>
            <a:off x="7777440" y="424800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HY견고딕"/>
                <a:ea typeface="HY견고딕"/>
              </a:rPr>
              <a:t>TEXT</a:t>
            </a:r>
            <a:endParaRPr b="0" lang="en-US" sz="1800" spc="-1" strike="noStrike">
              <a:solidFill>
                <a:srgbClr val="000000"/>
              </a:solidFill>
              <a:latin typeface="Gulim"/>
            </a:endParaRPr>
          </a:p>
        </p:txBody>
      </p:sp>
      <p:sp>
        <p:nvSpPr>
          <p:cNvPr id="901" name="TextBox 164"/>
          <p:cNvSpPr/>
          <p:nvPr/>
        </p:nvSpPr>
        <p:spPr>
          <a:xfrm>
            <a:off x="6763320" y="205272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HY견고딕"/>
                <a:ea typeface="HY견고딕"/>
              </a:rPr>
              <a:t>TEXT</a:t>
            </a:r>
            <a:endParaRPr b="0" lang="en-US" sz="1800" spc="-1" strike="noStrike">
              <a:solidFill>
                <a:srgbClr val="000000"/>
              </a:solidFill>
              <a:latin typeface="Gulim"/>
            </a:endParaRPr>
          </a:p>
        </p:txBody>
      </p:sp>
      <p:sp>
        <p:nvSpPr>
          <p:cNvPr id="902" name="TextBox 168"/>
          <p:cNvSpPr/>
          <p:nvPr/>
        </p:nvSpPr>
        <p:spPr>
          <a:xfrm>
            <a:off x="5486760" y="206388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903" name="TextBox 169"/>
          <p:cNvSpPr/>
          <p:nvPr/>
        </p:nvSpPr>
        <p:spPr>
          <a:xfrm>
            <a:off x="4539240" y="424800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904" name="TextBox 170"/>
          <p:cNvSpPr/>
          <p:nvPr/>
        </p:nvSpPr>
        <p:spPr>
          <a:xfrm>
            <a:off x="6843960" y="519588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905" name="TextBox 171"/>
          <p:cNvSpPr/>
          <p:nvPr/>
        </p:nvSpPr>
        <p:spPr>
          <a:xfrm>
            <a:off x="7744320" y="298116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TEXT</a:t>
            </a:r>
            <a:endParaRPr b="0" lang="en-US" sz="1800" spc="-1" strike="noStrike">
              <a:solidFill>
                <a:srgbClr val="000000"/>
              </a:solidFill>
              <a:latin typeface="Gulim"/>
            </a:endParaRPr>
          </a:p>
        </p:txBody>
      </p:sp>
      <p:sp>
        <p:nvSpPr>
          <p:cNvPr id="906" name="TextBox 176"/>
          <p:cNvSpPr/>
          <p:nvPr/>
        </p:nvSpPr>
        <p:spPr>
          <a:xfrm>
            <a:off x="428760" y="3054240"/>
            <a:ext cx="3786120" cy="15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400"/>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f6f6f"/>
                </a:solidFill>
                <a:latin typeface="Arial"/>
                <a:ea typeface="HY견고딕"/>
              </a:rPr>
              <a:t>started its business in Seoul Korea in February 1998 with the fundamental goal of providing better internet services to the worl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f6f6f"/>
                </a:solidFill>
                <a:latin typeface="Arial"/>
                <a:ea typeface="HY견고딕"/>
              </a:rPr>
              <a:t>started its business in Seoul Korea in February 1998 with the fundamental goal of providing better internet services to the world.</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908"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909"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910" name="Group 5"/>
          <p:cNvGrpSpPr/>
          <p:nvPr/>
        </p:nvGrpSpPr>
        <p:grpSpPr>
          <a:xfrm>
            <a:off x="585720" y="1671480"/>
            <a:ext cx="7972560" cy="914400"/>
            <a:chOff x="585720" y="1671480"/>
            <a:chExt cx="7972560" cy="914400"/>
          </a:xfrm>
        </p:grpSpPr>
        <p:grpSp>
          <p:nvGrpSpPr>
            <p:cNvPr id="911" name="Group 6"/>
            <p:cNvGrpSpPr/>
            <p:nvPr/>
          </p:nvGrpSpPr>
          <p:grpSpPr>
            <a:xfrm>
              <a:off x="585720" y="1671480"/>
              <a:ext cx="7972560" cy="914400"/>
              <a:chOff x="585720" y="1671480"/>
              <a:chExt cx="7972560" cy="914400"/>
            </a:xfrm>
          </p:grpSpPr>
          <p:sp>
            <p:nvSpPr>
              <p:cNvPr id="912" name="직사각형 49"/>
              <p:cNvSpPr/>
              <p:nvPr/>
            </p:nvSpPr>
            <p:spPr>
              <a:xfrm>
                <a:off x="585720" y="1671480"/>
                <a:ext cx="7972560" cy="914400"/>
              </a:xfrm>
              <a:prstGeom prst="rect">
                <a:avLst/>
              </a:prstGeom>
              <a:solidFill>
                <a:srgbClr val="f6ea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직사각형 53"/>
              <p:cNvSpPr/>
              <p:nvPr/>
            </p:nvSpPr>
            <p:spPr>
              <a:xfrm>
                <a:off x="642600" y="1726920"/>
                <a:ext cx="7858440" cy="8035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4" name="Group 9"/>
            <p:cNvGrpSpPr/>
            <p:nvPr/>
          </p:nvGrpSpPr>
          <p:grpSpPr>
            <a:xfrm>
              <a:off x="3767400" y="1738080"/>
              <a:ext cx="1608840" cy="781920"/>
              <a:chOff x="3767400" y="1738080"/>
              <a:chExt cx="1608840" cy="781920"/>
            </a:xfrm>
          </p:grpSpPr>
          <p:sp>
            <p:nvSpPr>
              <p:cNvPr id="915" name="직사각형 103"/>
              <p:cNvSpPr/>
              <p:nvPr/>
            </p:nvSpPr>
            <p:spPr>
              <a:xfrm>
                <a:off x="3767400" y="1738080"/>
                <a:ext cx="1608840" cy="781920"/>
              </a:xfrm>
              <a:prstGeom prst="rect">
                <a:avLst/>
              </a:prstGeom>
              <a:solidFill>
                <a:srgbClr val="f6ea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직사각형 84"/>
              <p:cNvSpPr/>
              <p:nvPr/>
            </p:nvSpPr>
            <p:spPr>
              <a:xfrm>
                <a:off x="3834000" y="1738080"/>
                <a:ext cx="1475640" cy="77904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7" name="직사각형 85"/>
              <p:cNvSpPr/>
              <p:nvPr/>
            </p:nvSpPr>
            <p:spPr>
              <a:xfrm>
                <a:off x="3834000" y="1739520"/>
                <a:ext cx="1475640" cy="41004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18" name="Group 13"/>
          <p:cNvGrpSpPr/>
          <p:nvPr/>
        </p:nvGrpSpPr>
        <p:grpSpPr>
          <a:xfrm>
            <a:off x="585720" y="2814480"/>
            <a:ext cx="7972560" cy="914400"/>
            <a:chOff x="585720" y="2814480"/>
            <a:chExt cx="7972560" cy="914400"/>
          </a:xfrm>
        </p:grpSpPr>
        <p:grpSp>
          <p:nvGrpSpPr>
            <p:cNvPr id="919" name="Group 14"/>
            <p:cNvGrpSpPr/>
            <p:nvPr/>
          </p:nvGrpSpPr>
          <p:grpSpPr>
            <a:xfrm>
              <a:off x="585720" y="2814480"/>
              <a:ext cx="7972560" cy="914400"/>
              <a:chOff x="585720" y="2814480"/>
              <a:chExt cx="7972560" cy="914400"/>
            </a:xfrm>
          </p:grpSpPr>
          <p:sp>
            <p:nvSpPr>
              <p:cNvPr id="920" name="직사각형 28"/>
              <p:cNvSpPr/>
              <p:nvPr/>
            </p:nvSpPr>
            <p:spPr>
              <a:xfrm>
                <a:off x="585720" y="2814480"/>
                <a:ext cx="7972560" cy="914400"/>
              </a:xfrm>
              <a:prstGeom prst="rect">
                <a:avLst/>
              </a:prstGeom>
              <a:solidFill>
                <a:srgbClr val="ffc0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직사각형 29"/>
              <p:cNvSpPr/>
              <p:nvPr/>
            </p:nvSpPr>
            <p:spPr>
              <a:xfrm>
                <a:off x="642600" y="2869920"/>
                <a:ext cx="7858440" cy="8035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2" name="Group 17"/>
            <p:cNvGrpSpPr/>
            <p:nvPr/>
          </p:nvGrpSpPr>
          <p:grpSpPr>
            <a:xfrm>
              <a:off x="3767400" y="2881080"/>
              <a:ext cx="1608840" cy="781920"/>
              <a:chOff x="3767400" y="2881080"/>
              <a:chExt cx="1608840" cy="781920"/>
            </a:xfrm>
          </p:grpSpPr>
          <p:sp>
            <p:nvSpPr>
              <p:cNvPr id="923" name="직사각형 25"/>
              <p:cNvSpPr/>
              <p:nvPr/>
            </p:nvSpPr>
            <p:spPr>
              <a:xfrm>
                <a:off x="3767400" y="2881080"/>
                <a:ext cx="1608840" cy="781920"/>
              </a:xfrm>
              <a:prstGeom prst="rect">
                <a:avLst/>
              </a:prstGeom>
              <a:solidFill>
                <a:srgbClr val="ffc0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직사각형 26"/>
              <p:cNvSpPr/>
              <p:nvPr/>
            </p:nvSpPr>
            <p:spPr>
              <a:xfrm>
                <a:off x="3834000" y="2881080"/>
                <a:ext cx="1475640" cy="77904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직사각형 27"/>
              <p:cNvSpPr/>
              <p:nvPr/>
            </p:nvSpPr>
            <p:spPr>
              <a:xfrm>
                <a:off x="3834000" y="2882520"/>
                <a:ext cx="1475640" cy="41004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26" name="Group 21"/>
          <p:cNvGrpSpPr/>
          <p:nvPr/>
        </p:nvGrpSpPr>
        <p:grpSpPr>
          <a:xfrm>
            <a:off x="585720" y="3957480"/>
            <a:ext cx="7972560" cy="914400"/>
            <a:chOff x="585720" y="3957480"/>
            <a:chExt cx="7972560" cy="914400"/>
          </a:xfrm>
        </p:grpSpPr>
        <p:grpSp>
          <p:nvGrpSpPr>
            <p:cNvPr id="927" name="Group 22"/>
            <p:cNvGrpSpPr/>
            <p:nvPr/>
          </p:nvGrpSpPr>
          <p:grpSpPr>
            <a:xfrm>
              <a:off x="585720" y="3957480"/>
              <a:ext cx="7972560" cy="914400"/>
              <a:chOff x="585720" y="3957480"/>
              <a:chExt cx="7972560" cy="914400"/>
            </a:xfrm>
          </p:grpSpPr>
          <p:sp>
            <p:nvSpPr>
              <p:cNvPr id="928" name="직사각형 38"/>
              <p:cNvSpPr/>
              <p:nvPr/>
            </p:nvSpPr>
            <p:spPr>
              <a:xfrm>
                <a:off x="585720" y="3957480"/>
                <a:ext cx="7972560" cy="914400"/>
              </a:xfrm>
              <a:prstGeom prst="rect">
                <a:avLst/>
              </a:prstGeom>
              <a:solidFill>
                <a:srgbClr val="00b4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직사각형 39"/>
              <p:cNvSpPr/>
              <p:nvPr/>
            </p:nvSpPr>
            <p:spPr>
              <a:xfrm>
                <a:off x="642600" y="4012920"/>
                <a:ext cx="7858440" cy="8035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30" name="Group 25"/>
            <p:cNvGrpSpPr/>
            <p:nvPr/>
          </p:nvGrpSpPr>
          <p:grpSpPr>
            <a:xfrm>
              <a:off x="3767400" y="4024080"/>
              <a:ext cx="1608840" cy="781920"/>
              <a:chOff x="3767400" y="4024080"/>
              <a:chExt cx="1608840" cy="781920"/>
            </a:xfrm>
          </p:grpSpPr>
          <p:sp>
            <p:nvSpPr>
              <p:cNvPr id="931" name="직사각형 34"/>
              <p:cNvSpPr/>
              <p:nvPr/>
            </p:nvSpPr>
            <p:spPr>
              <a:xfrm>
                <a:off x="3767400" y="4024080"/>
                <a:ext cx="1608840" cy="781920"/>
              </a:xfrm>
              <a:prstGeom prst="rect">
                <a:avLst/>
              </a:prstGeom>
              <a:solidFill>
                <a:srgbClr val="00b400">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직사각형 35"/>
              <p:cNvSpPr/>
              <p:nvPr/>
            </p:nvSpPr>
            <p:spPr>
              <a:xfrm>
                <a:off x="3834000" y="4024080"/>
                <a:ext cx="1475640" cy="77904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직사각형 36"/>
              <p:cNvSpPr/>
              <p:nvPr/>
            </p:nvSpPr>
            <p:spPr>
              <a:xfrm>
                <a:off x="3834000" y="4025520"/>
                <a:ext cx="1475640" cy="41004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34" name="Group 29"/>
          <p:cNvGrpSpPr/>
          <p:nvPr/>
        </p:nvGrpSpPr>
        <p:grpSpPr>
          <a:xfrm>
            <a:off x="585720" y="5100480"/>
            <a:ext cx="7972560" cy="914400"/>
            <a:chOff x="585720" y="5100480"/>
            <a:chExt cx="7972560" cy="914400"/>
          </a:xfrm>
        </p:grpSpPr>
        <p:grpSp>
          <p:nvGrpSpPr>
            <p:cNvPr id="935" name="Group 30"/>
            <p:cNvGrpSpPr/>
            <p:nvPr/>
          </p:nvGrpSpPr>
          <p:grpSpPr>
            <a:xfrm>
              <a:off x="585720" y="5100480"/>
              <a:ext cx="7972560" cy="914400"/>
              <a:chOff x="585720" y="5100480"/>
              <a:chExt cx="7972560" cy="914400"/>
            </a:xfrm>
          </p:grpSpPr>
          <p:sp>
            <p:nvSpPr>
              <p:cNvPr id="936" name="직사각형 46"/>
              <p:cNvSpPr/>
              <p:nvPr/>
            </p:nvSpPr>
            <p:spPr>
              <a:xfrm>
                <a:off x="585720" y="5100480"/>
                <a:ext cx="7972560" cy="914400"/>
              </a:xfrm>
              <a:prstGeom prst="rect">
                <a:avLst/>
              </a:prstGeom>
              <a:solidFill>
                <a:srgbClr val="00acee">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직사각형 47"/>
              <p:cNvSpPr/>
              <p:nvPr/>
            </p:nvSpPr>
            <p:spPr>
              <a:xfrm>
                <a:off x="642600" y="5155920"/>
                <a:ext cx="7858440" cy="803520"/>
              </a:xfrm>
              <a:prstGeom prst="rect">
                <a:avLst/>
              </a:prstGeom>
              <a:solidFill>
                <a:srgbClr val="ffffff"/>
              </a:solidFill>
              <a:ln w="1908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38" name="Group 33"/>
            <p:cNvGrpSpPr/>
            <p:nvPr/>
          </p:nvGrpSpPr>
          <p:grpSpPr>
            <a:xfrm>
              <a:off x="3767400" y="5167080"/>
              <a:ext cx="1608840" cy="781920"/>
              <a:chOff x="3767400" y="5167080"/>
              <a:chExt cx="1608840" cy="781920"/>
            </a:xfrm>
          </p:grpSpPr>
          <p:sp>
            <p:nvSpPr>
              <p:cNvPr id="939" name="직사각형 43"/>
              <p:cNvSpPr/>
              <p:nvPr/>
            </p:nvSpPr>
            <p:spPr>
              <a:xfrm>
                <a:off x="3767400" y="5167080"/>
                <a:ext cx="1608840" cy="781920"/>
              </a:xfrm>
              <a:prstGeom prst="rect">
                <a:avLst/>
              </a:prstGeom>
              <a:solidFill>
                <a:srgbClr val="00acee">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직사각형 44"/>
              <p:cNvSpPr/>
              <p:nvPr/>
            </p:nvSpPr>
            <p:spPr>
              <a:xfrm>
                <a:off x="3834000" y="5167080"/>
                <a:ext cx="1475640" cy="7790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직사각형 45"/>
              <p:cNvSpPr/>
              <p:nvPr/>
            </p:nvSpPr>
            <p:spPr>
              <a:xfrm>
                <a:off x="3834000" y="5168520"/>
                <a:ext cx="1475640" cy="41004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42" name="Group 37"/>
          <p:cNvGrpSpPr/>
          <p:nvPr/>
        </p:nvGrpSpPr>
        <p:grpSpPr>
          <a:xfrm>
            <a:off x="3956400" y="1770120"/>
            <a:ext cx="1236960" cy="662400"/>
            <a:chOff x="3956400" y="1770120"/>
            <a:chExt cx="1236960" cy="662400"/>
          </a:xfrm>
        </p:grpSpPr>
        <p:sp>
          <p:nvSpPr>
            <p:cNvPr id="943" name="TextBox 94"/>
            <p:cNvSpPr/>
            <p:nvPr/>
          </p:nvSpPr>
          <p:spPr>
            <a:xfrm>
              <a:off x="4141800" y="177012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944" name="TextBox 95"/>
            <p:cNvSpPr/>
            <p:nvPr/>
          </p:nvSpPr>
          <p:spPr>
            <a:xfrm>
              <a:off x="3956400" y="220140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Y견고딕"/>
                  <a:ea typeface="HY견고딕"/>
                </a:rPr>
                <a:t>CLICK TO ADD TEXT</a:t>
              </a:r>
              <a:endParaRPr b="0" lang="en-US" sz="900" spc="-1" strike="noStrike">
                <a:solidFill>
                  <a:srgbClr val="000000"/>
                </a:solidFill>
                <a:latin typeface="Gulim"/>
              </a:endParaRPr>
            </a:p>
          </p:txBody>
        </p:sp>
      </p:grpSp>
      <p:grpSp>
        <p:nvGrpSpPr>
          <p:cNvPr id="945" name="Group 40"/>
          <p:cNvGrpSpPr/>
          <p:nvPr/>
        </p:nvGrpSpPr>
        <p:grpSpPr>
          <a:xfrm>
            <a:off x="3961440" y="2909880"/>
            <a:ext cx="1236960" cy="662400"/>
            <a:chOff x="3961440" y="2909880"/>
            <a:chExt cx="1236960" cy="662400"/>
          </a:xfrm>
        </p:grpSpPr>
        <p:sp>
          <p:nvSpPr>
            <p:cNvPr id="946" name="TextBox 102"/>
            <p:cNvSpPr/>
            <p:nvPr/>
          </p:nvSpPr>
          <p:spPr>
            <a:xfrm>
              <a:off x="4146480" y="290988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947" name="TextBox 104"/>
            <p:cNvSpPr/>
            <p:nvPr/>
          </p:nvSpPr>
          <p:spPr>
            <a:xfrm>
              <a:off x="3961440" y="334116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Y견고딕"/>
                  <a:ea typeface="HY견고딕"/>
                </a:rPr>
                <a:t>CLICK TO ADD TEXT</a:t>
              </a:r>
              <a:endParaRPr b="0" lang="en-US" sz="900" spc="-1" strike="noStrike">
                <a:solidFill>
                  <a:srgbClr val="000000"/>
                </a:solidFill>
                <a:latin typeface="Gulim"/>
              </a:endParaRPr>
            </a:p>
          </p:txBody>
        </p:sp>
      </p:grpSp>
      <p:grpSp>
        <p:nvGrpSpPr>
          <p:cNvPr id="948" name="Group 43"/>
          <p:cNvGrpSpPr/>
          <p:nvPr/>
        </p:nvGrpSpPr>
        <p:grpSpPr>
          <a:xfrm>
            <a:off x="3966120" y="4049640"/>
            <a:ext cx="1236960" cy="662400"/>
            <a:chOff x="3966120" y="4049640"/>
            <a:chExt cx="1236960" cy="662400"/>
          </a:xfrm>
        </p:grpSpPr>
        <p:sp>
          <p:nvSpPr>
            <p:cNvPr id="949" name="TextBox 106"/>
            <p:cNvSpPr/>
            <p:nvPr/>
          </p:nvSpPr>
          <p:spPr>
            <a:xfrm>
              <a:off x="4151520" y="404964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950" name="TextBox 107"/>
            <p:cNvSpPr/>
            <p:nvPr/>
          </p:nvSpPr>
          <p:spPr>
            <a:xfrm>
              <a:off x="3966120" y="448092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Y견고딕"/>
                  <a:ea typeface="HY견고딕"/>
                </a:rPr>
                <a:t>CLICK TO ADD TEXT</a:t>
              </a:r>
              <a:endParaRPr b="0" lang="en-US" sz="900" spc="-1" strike="noStrike">
                <a:solidFill>
                  <a:srgbClr val="000000"/>
                </a:solidFill>
                <a:latin typeface="Gulim"/>
              </a:endParaRPr>
            </a:p>
          </p:txBody>
        </p:sp>
      </p:grpSp>
      <p:grpSp>
        <p:nvGrpSpPr>
          <p:cNvPr id="951" name="Group 46"/>
          <p:cNvGrpSpPr/>
          <p:nvPr/>
        </p:nvGrpSpPr>
        <p:grpSpPr>
          <a:xfrm>
            <a:off x="3970800" y="5187960"/>
            <a:ext cx="1236960" cy="662400"/>
            <a:chOff x="3970800" y="5187960"/>
            <a:chExt cx="1236960" cy="662400"/>
          </a:xfrm>
        </p:grpSpPr>
        <p:sp>
          <p:nvSpPr>
            <p:cNvPr id="952" name="TextBox 109"/>
            <p:cNvSpPr/>
            <p:nvPr/>
          </p:nvSpPr>
          <p:spPr>
            <a:xfrm>
              <a:off x="4156200" y="518796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TEXT</a:t>
              </a:r>
              <a:endParaRPr b="0" lang="en-US" sz="2400" spc="-1" strike="noStrike">
                <a:solidFill>
                  <a:srgbClr val="000000"/>
                </a:solidFill>
                <a:latin typeface="Gulim"/>
              </a:endParaRPr>
            </a:p>
          </p:txBody>
        </p:sp>
        <p:sp>
          <p:nvSpPr>
            <p:cNvPr id="953" name="TextBox 110"/>
            <p:cNvSpPr/>
            <p:nvPr/>
          </p:nvSpPr>
          <p:spPr>
            <a:xfrm>
              <a:off x="3970800" y="561924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Y견고딕"/>
                  <a:ea typeface="HY견고딕"/>
                </a:rPr>
                <a:t>CLICK TO ADD TEXT</a:t>
              </a:r>
              <a:endParaRPr b="0" lang="en-US" sz="900" spc="-1" strike="noStrike">
                <a:solidFill>
                  <a:srgbClr val="000000"/>
                </a:solidFill>
                <a:latin typeface="Gulim"/>
              </a:endParaRPr>
            </a:p>
          </p:txBody>
        </p:sp>
      </p:grpSp>
      <p:sp>
        <p:nvSpPr>
          <p:cNvPr id="954" name="TextBox 111"/>
          <p:cNvSpPr/>
          <p:nvPr/>
        </p:nvSpPr>
        <p:spPr>
          <a:xfrm>
            <a:off x="5505480" y="1789200"/>
            <a:ext cx="28573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6ea00"/>
                </a:solidFill>
                <a:latin typeface="Arial Black"/>
                <a:ea typeface="HY견고딕"/>
              </a:rPr>
              <a:t>ASADAL INTERNET, INC.</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55" name="TextBox 112"/>
          <p:cNvSpPr/>
          <p:nvPr/>
        </p:nvSpPr>
        <p:spPr>
          <a:xfrm>
            <a:off x="5505480" y="2938320"/>
            <a:ext cx="28573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Arial Black"/>
                <a:ea typeface="HY견고딕"/>
              </a:rPr>
              <a:t>ASADAL INTERNET, INC.</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56" name="TextBox 113"/>
          <p:cNvSpPr/>
          <p:nvPr/>
        </p:nvSpPr>
        <p:spPr>
          <a:xfrm>
            <a:off x="5505480" y="4075200"/>
            <a:ext cx="28573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400"/>
                </a:solidFill>
                <a:latin typeface="Arial Black"/>
                <a:ea typeface="HY견고딕"/>
              </a:rPr>
              <a:t>ASADAL INTERNET, INC.</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57" name="TextBox 114"/>
          <p:cNvSpPr/>
          <p:nvPr/>
        </p:nvSpPr>
        <p:spPr>
          <a:xfrm>
            <a:off x="5505480" y="5218200"/>
            <a:ext cx="28573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cee"/>
                </a:solidFill>
                <a:latin typeface="Arial Black"/>
                <a:ea typeface="HY견고딕"/>
              </a:rPr>
              <a:t>ASADAL INTERNET, INC.</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58" name="TextBox 115"/>
          <p:cNvSpPr/>
          <p:nvPr/>
        </p:nvSpPr>
        <p:spPr>
          <a:xfrm>
            <a:off x="776160" y="1785960"/>
            <a:ext cx="2857680" cy="68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6ea00"/>
                </a:solidFill>
                <a:latin typeface="Arial Black"/>
                <a:ea typeface="HY견고딕"/>
              </a:rPr>
              <a:t>ASADAL INTERNET, INC.</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59" name="TextBox 116"/>
          <p:cNvSpPr/>
          <p:nvPr/>
        </p:nvSpPr>
        <p:spPr>
          <a:xfrm>
            <a:off x="776160" y="2935440"/>
            <a:ext cx="2857680" cy="68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Arial Black"/>
                <a:ea typeface="HY견고딕"/>
              </a:rPr>
              <a:t>ASADAL INTERNET, INC.</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60" name="TextBox 117"/>
          <p:cNvSpPr/>
          <p:nvPr/>
        </p:nvSpPr>
        <p:spPr>
          <a:xfrm>
            <a:off x="776160" y="4071960"/>
            <a:ext cx="2857680" cy="68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400"/>
                </a:solidFill>
                <a:latin typeface="Arial Black"/>
                <a:ea typeface="HY견고딕"/>
              </a:rPr>
              <a:t>ASADAL INTERNET, INC.</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
        <p:nvSpPr>
          <p:cNvPr id="961" name="TextBox 118"/>
          <p:cNvSpPr/>
          <p:nvPr/>
        </p:nvSpPr>
        <p:spPr>
          <a:xfrm>
            <a:off x="776160" y="5214960"/>
            <a:ext cx="2857680" cy="68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cee"/>
                </a:solidFill>
                <a:latin typeface="Arial Black"/>
                <a:ea typeface="HY견고딕"/>
              </a:rPr>
              <a:t>ASADAL INTERNET, INC.</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f6f6f"/>
                </a:solidFill>
                <a:latin typeface="Arial"/>
                <a:ea typeface="HY견고딕"/>
              </a:rPr>
              <a:t>started its business in Seoul Korea in February 1998 with the fundamental goal of providing better internet services to the world.</a:t>
            </a:r>
            <a:endParaRPr b="0" lang="en-US" sz="9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그림 42" descr="sub-1.png"/>
          <p:cNvPicPr/>
          <p:nvPr/>
        </p:nvPicPr>
        <p:blipFill>
          <a:blip r:embed="rId1"/>
          <a:srcRect l="0" t="0" r="0" b="10086"/>
          <a:stretch/>
        </p:blipFill>
        <p:spPr>
          <a:xfrm>
            <a:off x="0" y="6143760"/>
            <a:ext cx="9144000" cy="714240"/>
          </a:xfrm>
          <a:prstGeom prst="rect">
            <a:avLst/>
          </a:prstGeom>
          <a:ln w="0">
            <a:noFill/>
          </a:ln>
        </p:spPr>
      </p:pic>
      <p:sp>
        <p:nvSpPr>
          <p:cNvPr id="192" name="TextBox 58"/>
          <p:cNvSpPr/>
          <p:nvPr/>
        </p:nvSpPr>
        <p:spPr>
          <a:xfrm>
            <a:off x="2357280" y="285840"/>
            <a:ext cx="44294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HY견고딕"/>
                <a:ea typeface="HY견고딕"/>
              </a:rPr>
              <a:t>CONTENTS</a:t>
            </a:r>
            <a:endParaRPr b="0" lang="en-US" sz="4500" spc="-1" strike="noStrike">
              <a:solidFill>
                <a:srgbClr val="000000"/>
              </a:solidFill>
              <a:latin typeface="Gulim"/>
            </a:endParaRPr>
          </a:p>
        </p:txBody>
      </p:sp>
      <p:grpSp>
        <p:nvGrpSpPr>
          <p:cNvPr id="193" name="Group 4"/>
          <p:cNvGrpSpPr/>
          <p:nvPr/>
        </p:nvGrpSpPr>
        <p:grpSpPr>
          <a:xfrm>
            <a:off x="1214280" y="1260360"/>
            <a:ext cx="6715440" cy="812880"/>
            <a:chOff x="1214280" y="1260360"/>
            <a:chExt cx="6715440" cy="812880"/>
          </a:xfrm>
        </p:grpSpPr>
        <p:sp>
          <p:nvSpPr>
            <p:cNvPr id="194" name="타원 189"/>
            <p:cNvSpPr/>
            <p:nvPr/>
          </p:nvSpPr>
          <p:spPr>
            <a:xfrm>
              <a:off x="1214280" y="1260360"/>
              <a:ext cx="812880" cy="81288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5" name="직사각형 191"/>
            <p:cNvSpPr/>
            <p:nvPr/>
          </p:nvSpPr>
          <p:spPr>
            <a:xfrm>
              <a:off x="1618920" y="1260360"/>
              <a:ext cx="6310800" cy="81144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6" name="직사각형 192"/>
            <p:cNvSpPr/>
            <p:nvPr/>
          </p:nvSpPr>
          <p:spPr>
            <a:xfrm>
              <a:off x="1630080" y="1320480"/>
              <a:ext cx="6244200" cy="690840"/>
            </a:xfrm>
            <a:prstGeom prst="rect">
              <a:avLst/>
            </a:prstGeom>
            <a:solidFill>
              <a:srgbClr val="fffff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7" name="타원 194"/>
            <p:cNvSpPr/>
            <p:nvPr/>
          </p:nvSpPr>
          <p:spPr>
            <a:xfrm>
              <a:off x="1260000" y="1307880"/>
              <a:ext cx="720720" cy="719280"/>
            </a:xfrm>
            <a:prstGeom prst="ellipse">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8" name="Group 9"/>
          <p:cNvGrpSpPr/>
          <p:nvPr/>
        </p:nvGrpSpPr>
        <p:grpSpPr>
          <a:xfrm>
            <a:off x="1214280" y="2235240"/>
            <a:ext cx="6715440" cy="812880"/>
            <a:chOff x="1214280" y="2235240"/>
            <a:chExt cx="6715440" cy="812880"/>
          </a:xfrm>
        </p:grpSpPr>
        <p:sp>
          <p:nvSpPr>
            <p:cNvPr id="199" name="직사각형 197"/>
            <p:cNvSpPr/>
            <p:nvPr/>
          </p:nvSpPr>
          <p:spPr>
            <a:xfrm>
              <a:off x="1618920" y="2235240"/>
              <a:ext cx="6310800" cy="81144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직사각형 198"/>
            <p:cNvSpPr/>
            <p:nvPr/>
          </p:nvSpPr>
          <p:spPr>
            <a:xfrm>
              <a:off x="1630080" y="2295360"/>
              <a:ext cx="6242400" cy="690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01" name="Group 12"/>
            <p:cNvGrpSpPr/>
            <p:nvPr/>
          </p:nvGrpSpPr>
          <p:grpSpPr>
            <a:xfrm>
              <a:off x="1214280" y="2235240"/>
              <a:ext cx="812880" cy="812880"/>
              <a:chOff x="1214280" y="2235240"/>
              <a:chExt cx="812880" cy="812880"/>
            </a:xfrm>
          </p:grpSpPr>
          <p:sp>
            <p:nvSpPr>
              <p:cNvPr id="202" name="타원 200"/>
              <p:cNvSpPr/>
              <p:nvPr/>
            </p:nvSpPr>
            <p:spPr>
              <a:xfrm>
                <a:off x="1214280" y="2235240"/>
                <a:ext cx="812880" cy="81288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3" name="타원 201"/>
              <p:cNvSpPr/>
              <p:nvPr/>
            </p:nvSpPr>
            <p:spPr>
              <a:xfrm>
                <a:off x="1260000" y="2280960"/>
                <a:ext cx="721080" cy="72108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04" name="Group 15"/>
          <p:cNvGrpSpPr/>
          <p:nvPr/>
        </p:nvGrpSpPr>
        <p:grpSpPr>
          <a:xfrm>
            <a:off x="1214280" y="3197160"/>
            <a:ext cx="6715440" cy="812880"/>
            <a:chOff x="1214280" y="3197160"/>
            <a:chExt cx="6715440" cy="812880"/>
          </a:xfrm>
        </p:grpSpPr>
        <p:sp>
          <p:nvSpPr>
            <p:cNvPr id="205" name="타원 204"/>
            <p:cNvSpPr/>
            <p:nvPr/>
          </p:nvSpPr>
          <p:spPr>
            <a:xfrm>
              <a:off x="1214280" y="3197160"/>
              <a:ext cx="812880" cy="81288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직사각형 206"/>
            <p:cNvSpPr/>
            <p:nvPr/>
          </p:nvSpPr>
          <p:spPr>
            <a:xfrm>
              <a:off x="1618920" y="3197160"/>
              <a:ext cx="6310800" cy="81144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7" name="직사각형 207"/>
            <p:cNvSpPr/>
            <p:nvPr/>
          </p:nvSpPr>
          <p:spPr>
            <a:xfrm>
              <a:off x="1630080" y="3257280"/>
              <a:ext cx="6242400" cy="690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8" name="타원 209"/>
            <p:cNvSpPr/>
            <p:nvPr/>
          </p:nvSpPr>
          <p:spPr>
            <a:xfrm>
              <a:off x="1260000" y="3242880"/>
              <a:ext cx="720720" cy="72108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09" name="Group 20"/>
          <p:cNvGrpSpPr/>
          <p:nvPr/>
        </p:nvGrpSpPr>
        <p:grpSpPr>
          <a:xfrm>
            <a:off x="1214280" y="4172040"/>
            <a:ext cx="6715440" cy="812880"/>
            <a:chOff x="1214280" y="4172040"/>
            <a:chExt cx="6715440" cy="812880"/>
          </a:xfrm>
        </p:grpSpPr>
        <p:sp>
          <p:nvSpPr>
            <p:cNvPr id="210" name="타원 212"/>
            <p:cNvSpPr/>
            <p:nvPr/>
          </p:nvSpPr>
          <p:spPr>
            <a:xfrm>
              <a:off x="1214280" y="4172040"/>
              <a:ext cx="812880" cy="81288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1" name="직사각형 214"/>
            <p:cNvSpPr/>
            <p:nvPr/>
          </p:nvSpPr>
          <p:spPr>
            <a:xfrm>
              <a:off x="1618920" y="4172040"/>
              <a:ext cx="6310800" cy="81144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직사각형 215"/>
            <p:cNvSpPr/>
            <p:nvPr/>
          </p:nvSpPr>
          <p:spPr>
            <a:xfrm>
              <a:off x="1630080" y="4232160"/>
              <a:ext cx="6242400" cy="690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타원 217"/>
            <p:cNvSpPr/>
            <p:nvPr/>
          </p:nvSpPr>
          <p:spPr>
            <a:xfrm>
              <a:off x="1260000" y="4217760"/>
              <a:ext cx="720720" cy="72108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4" name="Group 25"/>
          <p:cNvGrpSpPr/>
          <p:nvPr/>
        </p:nvGrpSpPr>
        <p:grpSpPr>
          <a:xfrm>
            <a:off x="1214280" y="5178600"/>
            <a:ext cx="6715440" cy="812520"/>
            <a:chOff x="1214280" y="5178600"/>
            <a:chExt cx="6715440" cy="812520"/>
          </a:xfrm>
        </p:grpSpPr>
        <p:sp>
          <p:nvSpPr>
            <p:cNvPr id="215" name="타원 220"/>
            <p:cNvSpPr/>
            <p:nvPr/>
          </p:nvSpPr>
          <p:spPr>
            <a:xfrm>
              <a:off x="1214280" y="5178600"/>
              <a:ext cx="812880" cy="81252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6" name="직사각형 222"/>
            <p:cNvSpPr/>
            <p:nvPr/>
          </p:nvSpPr>
          <p:spPr>
            <a:xfrm>
              <a:off x="1618920" y="5178600"/>
              <a:ext cx="6310800" cy="81108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7" name="직사각형 223"/>
            <p:cNvSpPr/>
            <p:nvPr/>
          </p:nvSpPr>
          <p:spPr>
            <a:xfrm>
              <a:off x="1630080" y="5238720"/>
              <a:ext cx="6242400" cy="6904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8" name="타원 225"/>
            <p:cNvSpPr/>
            <p:nvPr/>
          </p:nvSpPr>
          <p:spPr>
            <a:xfrm>
              <a:off x="1260000" y="5224320"/>
              <a:ext cx="720720" cy="72072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19" name="TextBox 232"/>
          <p:cNvSpPr/>
          <p:nvPr/>
        </p:nvSpPr>
        <p:spPr>
          <a:xfrm>
            <a:off x="2117880" y="1390680"/>
            <a:ext cx="57150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ea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220" name="TextBox 233"/>
          <p:cNvSpPr/>
          <p:nvPr/>
        </p:nvSpPr>
        <p:spPr>
          <a:xfrm>
            <a:off x="2117880" y="2344680"/>
            <a:ext cx="57150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221" name="TextBox 234"/>
          <p:cNvSpPr/>
          <p:nvPr/>
        </p:nvSpPr>
        <p:spPr>
          <a:xfrm>
            <a:off x="2117880" y="3309840"/>
            <a:ext cx="57150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4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222" name="TextBox 235"/>
          <p:cNvSpPr/>
          <p:nvPr/>
        </p:nvSpPr>
        <p:spPr>
          <a:xfrm>
            <a:off x="2117880" y="4287960"/>
            <a:ext cx="57150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223" name="TextBox 236"/>
          <p:cNvSpPr/>
          <p:nvPr/>
        </p:nvSpPr>
        <p:spPr>
          <a:xfrm>
            <a:off x="2117880" y="5299200"/>
            <a:ext cx="57150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3a7"/>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224" name="TextBox 237"/>
          <p:cNvSpPr/>
          <p:nvPr/>
        </p:nvSpPr>
        <p:spPr>
          <a:xfrm>
            <a:off x="1460880" y="1346040"/>
            <a:ext cx="30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견고딕"/>
                <a:ea typeface="HY견고딕"/>
              </a:rPr>
              <a:t>Ⅰ</a:t>
            </a:r>
            <a:endParaRPr b="0" lang="en-US" sz="3200" spc="-1" strike="noStrike">
              <a:solidFill>
                <a:srgbClr val="000000"/>
              </a:solidFill>
              <a:latin typeface="Gulim"/>
            </a:endParaRPr>
          </a:p>
        </p:txBody>
      </p:sp>
      <p:sp>
        <p:nvSpPr>
          <p:cNvPr id="225" name="TextBox 238"/>
          <p:cNvSpPr/>
          <p:nvPr/>
        </p:nvSpPr>
        <p:spPr>
          <a:xfrm>
            <a:off x="1420920" y="2333520"/>
            <a:ext cx="380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견고딕"/>
                <a:ea typeface="HY견고딕"/>
              </a:rPr>
              <a:t>Ⅱ</a:t>
            </a:r>
            <a:endParaRPr b="0" lang="en-US" sz="3200" spc="-1" strike="noStrike">
              <a:solidFill>
                <a:srgbClr val="000000"/>
              </a:solidFill>
              <a:latin typeface="Gulim"/>
            </a:endParaRPr>
          </a:p>
        </p:txBody>
      </p:sp>
      <p:sp>
        <p:nvSpPr>
          <p:cNvPr id="226" name="TextBox 239"/>
          <p:cNvSpPr/>
          <p:nvPr/>
        </p:nvSpPr>
        <p:spPr>
          <a:xfrm>
            <a:off x="1380600" y="3295800"/>
            <a:ext cx="46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견고딕"/>
                <a:ea typeface="HY견고딕"/>
              </a:rPr>
              <a:t>Ⅲ</a:t>
            </a:r>
            <a:endParaRPr b="0" lang="en-US" sz="3200" spc="-1" strike="noStrike">
              <a:solidFill>
                <a:srgbClr val="000000"/>
              </a:solidFill>
              <a:latin typeface="Gulim"/>
            </a:endParaRPr>
          </a:p>
        </p:txBody>
      </p:sp>
      <p:sp>
        <p:nvSpPr>
          <p:cNvPr id="227" name="TextBox 240"/>
          <p:cNvSpPr/>
          <p:nvPr/>
        </p:nvSpPr>
        <p:spPr>
          <a:xfrm>
            <a:off x="1333440" y="42688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견고딕"/>
                <a:ea typeface="HY견고딕"/>
              </a:rPr>
              <a:t>Ⅳ</a:t>
            </a:r>
            <a:endParaRPr b="0" lang="en-US" sz="3200" spc="-1" strike="noStrike">
              <a:solidFill>
                <a:srgbClr val="000000"/>
              </a:solidFill>
              <a:latin typeface="Gulim"/>
            </a:endParaRPr>
          </a:p>
        </p:txBody>
      </p:sp>
      <p:sp>
        <p:nvSpPr>
          <p:cNvPr id="228" name="TextBox 241"/>
          <p:cNvSpPr/>
          <p:nvPr/>
        </p:nvSpPr>
        <p:spPr>
          <a:xfrm>
            <a:off x="1381320" y="52880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견고딕"/>
                <a:ea typeface="HY견고딕"/>
              </a:rPr>
              <a:t>Ⅴ</a:t>
            </a:r>
            <a:endParaRPr b="0" lang="en-US" sz="3200" spc="-1" strike="noStrike">
              <a:solidFill>
                <a:srgbClr val="000000"/>
              </a:solidFill>
              <a:latin typeface="Gulim"/>
            </a:endParaRPr>
          </a:p>
        </p:txBody>
      </p:sp>
      <p:grpSp>
        <p:nvGrpSpPr>
          <p:cNvPr id="229" name="Group 40"/>
          <p:cNvGrpSpPr/>
          <p:nvPr/>
        </p:nvGrpSpPr>
        <p:grpSpPr>
          <a:xfrm>
            <a:off x="7072200" y="4686480"/>
            <a:ext cx="2106720" cy="2385720"/>
            <a:chOff x="7072200" y="4686480"/>
            <a:chExt cx="2106720" cy="2385720"/>
          </a:xfrm>
        </p:grpSpPr>
        <p:pic>
          <p:nvPicPr>
            <p:cNvPr id="230" name="그림 43" descr="main-4.png"/>
            <p:cNvPicPr/>
            <p:nvPr/>
          </p:nvPicPr>
          <p:blipFill>
            <a:blip r:embed="rId2"/>
            <a:stretch/>
          </p:blipFill>
          <p:spPr>
            <a:xfrm>
              <a:off x="8018280" y="4686480"/>
              <a:ext cx="1005120" cy="2106720"/>
            </a:xfrm>
            <a:prstGeom prst="rect">
              <a:avLst/>
            </a:prstGeom>
            <a:ln w="0">
              <a:noFill/>
            </a:ln>
          </p:spPr>
        </p:pic>
        <p:pic>
          <p:nvPicPr>
            <p:cNvPr id="231" name="그림 44" descr="main-6.png"/>
            <p:cNvPicPr/>
            <p:nvPr/>
          </p:nvPicPr>
          <p:blipFill>
            <a:blip r:embed="rId3"/>
            <a:stretch/>
          </p:blipFill>
          <p:spPr>
            <a:xfrm>
              <a:off x="7072200" y="4874040"/>
              <a:ext cx="2106720" cy="2198160"/>
            </a:xfrm>
            <a:prstGeom prst="rect">
              <a:avLst/>
            </a:prstGeom>
            <a:ln w="0">
              <a:noFill/>
            </a:ln>
          </p:spPr>
        </p:pic>
      </p:grpSp>
      <p:pic>
        <p:nvPicPr>
          <p:cNvPr id="232" name="그림 46" descr="main-5.png"/>
          <p:cNvPicPr/>
          <p:nvPr/>
        </p:nvPicPr>
        <p:blipFill>
          <a:blip r:embed="rId4"/>
          <a:stretch/>
        </p:blipFill>
        <p:spPr>
          <a:xfrm>
            <a:off x="100080" y="5546880"/>
            <a:ext cx="1757160" cy="152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자유형 42"/>
          <p:cNvSpPr/>
          <p:nvPr/>
        </p:nvSpPr>
        <p:spPr>
          <a:xfrm>
            <a:off x="2975040" y="2406600"/>
            <a:ext cx="5129280" cy="1062000"/>
          </a:xfrm>
          <a:custGeom>
            <a:avLst/>
            <a:gdLst>
              <a:gd name="textAreaLeft" fmla="*/ 0 w 5129280"/>
              <a:gd name="textAreaRight" fmla="*/ 5129640 w 5129280"/>
              <a:gd name="textAreaTop" fmla="*/ 0 h 1062000"/>
              <a:gd name="textAreaBottom" fmla="*/ 1062360 h 1062000"/>
            </a:gdLst>
            <a:ahLst/>
            <a:rect l="textAreaLeft" t="textAreaTop" r="textAreaRight" b="textAreaBottom"/>
            <a:pathLst>
              <a:path w="5129048" h="1061545">
                <a:moveTo>
                  <a:pt x="0" y="1061545"/>
                </a:moveTo>
                <a:lnTo>
                  <a:pt x="1723696" y="0"/>
                </a:lnTo>
                <a:lnTo>
                  <a:pt x="3426372" y="966952"/>
                </a:lnTo>
                <a:lnTo>
                  <a:pt x="5129048" y="0"/>
                </a:lnTo>
              </a:path>
            </a:pathLst>
          </a:custGeom>
          <a:noFill/>
          <a:ln w="633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963" name="Group 3"/>
          <p:cNvGrpSpPr/>
          <p:nvPr/>
        </p:nvGrpSpPr>
        <p:grpSpPr>
          <a:xfrm>
            <a:off x="466560" y="2714760"/>
            <a:ext cx="3319560" cy="3319200"/>
            <a:chOff x="466560" y="2714760"/>
            <a:chExt cx="3319560" cy="3319200"/>
          </a:xfrm>
        </p:grpSpPr>
        <p:sp>
          <p:nvSpPr>
            <p:cNvPr id="964" name="타원 52"/>
            <p:cNvSpPr/>
            <p:nvPr/>
          </p:nvSpPr>
          <p:spPr>
            <a:xfrm>
              <a:off x="466560" y="2714760"/>
              <a:ext cx="3319560" cy="331920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5" name="도넛 53"/>
            <p:cNvSpPr/>
            <p:nvPr/>
          </p:nvSpPr>
          <p:spPr>
            <a:xfrm>
              <a:off x="587160" y="2835360"/>
              <a:ext cx="3078360" cy="3078000"/>
            </a:xfrm>
            <a:custGeom>
              <a:avLst/>
              <a:gdLst>
                <a:gd name="textAreaLeft" fmla="*/ 450720 w 3078360"/>
                <a:gd name="textAreaRight" fmla="*/ 2627640 w 3078360"/>
                <a:gd name="textAreaTop" fmla="*/ 450720 h 3078000"/>
                <a:gd name="textAreaBottom" fmla="*/ 2627280 h 3078000"/>
              </a:gdLst>
              <a:ahLst/>
              <a:rect l="textAreaLeft" t="textAreaTop" r="textAreaRight" b="textAreaBottom"/>
              <a:pathLst>
                <a:path w="2133245" h="2133245">
                  <a:moveTo>
                    <a:pt x="0" y="1066623"/>
                  </a:moveTo>
                  <a:lnTo>
                    <a:pt x="0" y="1066623"/>
                  </a:lnTo>
                  <a:cubicBezTo>
                    <a:pt x="0" y="477543"/>
                    <a:pt x="477543" y="1"/>
                    <a:pt x="1066623" y="1"/>
                  </a:cubicBezTo>
                  <a:cubicBezTo>
                    <a:pt x="1066623" y="1"/>
                    <a:pt x="1066624" y="1"/>
                    <a:pt x="1066624" y="1"/>
                  </a:cubicBezTo>
                  <a:cubicBezTo>
                    <a:pt x="1655704" y="1"/>
                    <a:pt x="2133247" y="477544"/>
                    <a:pt x="2133247" y="1066624"/>
                  </a:cubicBezTo>
                  <a:cubicBezTo>
                    <a:pt x="2133247" y="1066624"/>
                    <a:pt x="2133246" y="1066625"/>
                    <a:pt x="2133246" y="1066626"/>
                  </a:cubicBezTo>
                  <a:lnTo>
                    <a:pt x="2133247" y="1066626"/>
                  </a:lnTo>
                  <a:cubicBezTo>
                    <a:pt x="2133247" y="1655705"/>
                    <a:pt x="1655703" y="2133249"/>
                    <a:pt x="1066624" y="2133249"/>
                  </a:cubicBezTo>
                  <a:cubicBezTo>
                    <a:pt x="1066623" y="2133249"/>
                    <a:pt x="1066623" y="2133248"/>
                    <a:pt x="1066623" y="2133248"/>
                  </a:cubicBezTo>
                  <a:cubicBezTo>
                    <a:pt x="477543" y="2133248"/>
                    <a:pt x="1" y="1655705"/>
                    <a:pt x="1" y="1066626"/>
                  </a:cubicBezTo>
                  <a:cubicBezTo>
                    <a:pt x="1" y="1066625"/>
                    <a:pt x="1" y="1066625"/>
                    <a:pt x="1" y="1066625"/>
                  </a:cubicBezTo>
                  <a:lnTo>
                    <a:pt x="0" y="1066623"/>
                  </a:lnTo>
                  <a:close/>
                  <a:moveTo>
                    <a:pt x="387589" y="1066623"/>
                  </a:moveTo>
                  <a:lnTo>
                    <a:pt x="387589" y="1066623"/>
                  </a:lnTo>
                  <a:cubicBezTo>
                    <a:pt x="387589" y="1066623"/>
                    <a:pt x="387589" y="1066623"/>
                    <a:pt x="387589" y="1066624"/>
                  </a:cubicBezTo>
                  <a:cubicBezTo>
                    <a:pt x="387589" y="1441643"/>
                    <a:pt x="691601" y="1745656"/>
                    <a:pt x="1066621" y="1745656"/>
                  </a:cubicBezTo>
                  <a:lnTo>
                    <a:pt x="1066621" y="1745657"/>
                  </a:lnTo>
                  <a:cubicBezTo>
                    <a:pt x="1441640" y="1745657"/>
                    <a:pt x="1745654" y="1441643"/>
                    <a:pt x="1745654" y="1066624"/>
                  </a:cubicBezTo>
                  <a:cubicBezTo>
                    <a:pt x="1745654" y="691604"/>
                    <a:pt x="1441640" y="387591"/>
                    <a:pt x="1066621" y="387591"/>
                  </a:cubicBezTo>
                  <a:cubicBezTo>
                    <a:pt x="1066620" y="387591"/>
                    <a:pt x="1066620" y="387591"/>
                    <a:pt x="1066620" y="387591"/>
                  </a:cubicBezTo>
                  <a:cubicBezTo>
                    <a:pt x="691600" y="387591"/>
                    <a:pt x="387587" y="691603"/>
                    <a:pt x="387587" y="1066623"/>
                  </a:cubicBezTo>
                  <a:lnTo>
                    <a:pt x="387589" y="1066623"/>
                  </a:lnTo>
                  <a:close/>
                </a:path>
              </a:pathLst>
            </a:custGeom>
            <a:solidFill>
              <a:srgbClr val="00ace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66" name="도넛 54"/>
            <p:cNvSpPr/>
            <p:nvPr/>
          </p:nvSpPr>
          <p:spPr>
            <a:xfrm>
              <a:off x="907920" y="3155760"/>
              <a:ext cx="2436840" cy="2436840"/>
            </a:xfrm>
            <a:custGeom>
              <a:avLst/>
              <a:gdLst>
                <a:gd name="textAreaLeft" fmla="*/ 356760 w 2436840"/>
                <a:gd name="textAreaRight" fmla="*/ 2080080 w 2436840"/>
                <a:gd name="textAreaTop" fmla="*/ 356760 h 2436840"/>
                <a:gd name="textAreaBottom" fmla="*/ 2080080 h 2436840"/>
              </a:gdLst>
              <a:ahLst/>
              <a:rect l="textAreaLeft" t="textAreaTop" r="textAreaRight" b="textAreaBottom"/>
              <a:pathLst>
                <a:path w="1688773" h="1688773">
                  <a:moveTo>
                    <a:pt x="0" y="844387"/>
                  </a:moveTo>
                  <a:lnTo>
                    <a:pt x="0" y="844387"/>
                  </a:lnTo>
                  <a:cubicBezTo>
                    <a:pt x="0" y="378045"/>
                    <a:pt x="378045" y="1"/>
                    <a:pt x="844387" y="1"/>
                  </a:cubicBezTo>
                  <a:cubicBezTo>
                    <a:pt x="844387" y="1"/>
                    <a:pt x="844387" y="1"/>
                    <a:pt x="844388" y="1"/>
                  </a:cubicBezTo>
                  <a:cubicBezTo>
                    <a:pt x="1310729" y="1"/>
                    <a:pt x="1688774" y="378046"/>
                    <a:pt x="1688774" y="844388"/>
                  </a:cubicBezTo>
                  <a:cubicBezTo>
                    <a:pt x="1688774" y="844388"/>
                    <a:pt x="1688773" y="844388"/>
                    <a:pt x="1688773" y="844388"/>
                  </a:cubicBezTo>
                  <a:lnTo>
                    <a:pt x="1688774" y="844389"/>
                  </a:lnTo>
                  <a:cubicBezTo>
                    <a:pt x="1688774" y="1310731"/>
                    <a:pt x="1310729" y="1688776"/>
                    <a:pt x="844387" y="1688776"/>
                  </a:cubicBezTo>
                  <a:cubicBezTo>
                    <a:pt x="378044" y="1688776"/>
                    <a:pt x="0" y="1310731"/>
                    <a:pt x="0" y="844389"/>
                  </a:cubicBezTo>
                  <a:cubicBezTo>
                    <a:pt x="0" y="844388"/>
                    <a:pt x="0" y="844388"/>
                    <a:pt x="0" y="844388"/>
                  </a:cubicBezTo>
                  <a:lnTo>
                    <a:pt x="0" y="844387"/>
                  </a:lnTo>
                  <a:close/>
                  <a:moveTo>
                    <a:pt x="236715" y="844387"/>
                  </a:moveTo>
                  <a:lnTo>
                    <a:pt x="236715" y="844387"/>
                  </a:lnTo>
                  <a:cubicBezTo>
                    <a:pt x="236715" y="844387"/>
                    <a:pt x="236715" y="844387"/>
                    <a:pt x="236715" y="844387"/>
                  </a:cubicBezTo>
                  <a:cubicBezTo>
                    <a:pt x="236715" y="1179995"/>
                    <a:pt x="508777" y="1452058"/>
                    <a:pt x="844384" y="1452058"/>
                  </a:cubicBezTo>
                  <a:lnTo>
                    <a:pt x="844385" y="1452059"/>
                  </a:lnTo>
                  <a:cubicBezTo>
                    <a:pt x="1179992" y="1452059"/>
                    <a:pt x="1452056" y="1179995"/>
                    <a:pt x="1452056" y="844388"/>
                  </a:cubicBezTo>
                  <a:cubicBezTo>
                    <a:pt x="1452056" y="508780"/>
                    <a:pt x="1179992" y="236717"/>
                    <a:pt x="844385" y="236717"/>
                  </a:cubicBezTo>
                  <a:lnTo>
                    <a:pt x="844384" y="236717"/>
                  </a:lnTo>
                  <a:cubicBezTo>
                    <a:pt x="844384" y="236717"/>
                    <a:pt x="844384" y="236717"/>
                    <a:pt x="844384" y="236717"/>
                  </a:cubicBezTo>
                  <a:cubicBezTo>
                    <a:pt x="508776" y="236717"/>
                    <a:pt x="236713" y="508779"/>
                    <a:pt x="236713" y="844387"/>
                  </a:cubicBezTo>
                  <a:lnTo>
                    <a:pt x="236715" y="844387"/>
                  </a:lnTo>
                  <a:close/>
                </a:path>
              </a:pathLst>
            </a:custGeom>
            <a:solidFill>
              <a:srgbClr val="00acee">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67" name="도넛 55"/>
            <p:cNvSpPr/>
            <p:nvPr/>
          </p:nvSpPr>
          <p:spPr>
            <a:xfrm>
              <a:off x="907920" y="3155760"/>
              <a:ext cx="2436840" cy="2436840"/>
            </a:xfrm>
            <a:custGeom>
              <a:avLst/>
              <a:gdLst>
                <a:gd name="textAreaLeft" fmla="*/ 356760 w 2436840"/>
                <a:gd name="textAreaRight" fmla="*/ 2080080 w 2436840"/>
                <a:gd name="textAreaTop" fmla="*/ 356760 h 2436840"/>
                <a:gd name="textAreaBottom" fmla="*/ 2080080 h 2436840"/>
              </a:gdLst>
              <a:ahLst/>
              <a:rect l="textAreaLeft" t="textAreaTop" r="textAreaRight" b="textAreaBottom"/>
              <a:pathLst>
                <a:path w="1688773" h="1688773">
                  <a:moveTo>
                    <a:pt x="0" y="844387"/>
                  </a:moveTo>
                  <a:lnTo>
                    <a:pt x="0" y="844387"/>
                  </a:lnTo>
                  <a:cubicBezTo>
                    <a:pt x="0" y="378045"/>
                    <a:pt x="378045" y="1"/>
                    <a:pt x="844387" y="1"/>
                  </a:cubicBezTo>
                  <a:cubicBezTo>
                    <a:pt x="844387" y="1"/>
                    <a:pt x="844387" y="1"/>
                    <a:pt x="844388" y="1"/>
                  </a:cubicBezTo>
                  <a:cubicBezTo>
                    <a:pt x="1310729" y="1"/>
                    <a:pt x="1688774" y="378046"/>
                    <a:pt x="1688774" y="844388"/>
                  </a:cubicBezTo>
                  <a:cubicBezTo>
                    <a:pt x="1688774" y="844388"/>
                    <a:pt x="1688773" y="844388"/>
                    <a:pt x="1688773" y="844388"/>
                  </a:cubicBezTo>
                  <a:lnTo>
                    <a:pt x="1688774" y="844389"/>
                  </a:lnTo>
                  <a:cubicBezTo>
                    <a:pt x="1688774" y="1310731"/>
                    <a:pt x="1310729" y="1688776"/>
                    <a:pt x="844387" y="1688776"/>
                  </a:cubicBezTo>
                  <a:cubicBezTo>
                    <a:pt x="378044" y="1688776"/>
                    <a:pt x="0" y="1310731"/>
                    <a:pt x="0" y="844389"/>
                  </a:cubicBezTo>
                  <a:cubicBezTo>
                    <a:pt x="0" y="844388"/>
                    <a:pt x="0" y="844388"/>
                    <a:pt x="0" y="844388"/>
                  </a:cubicBezTo>
                  <a:lnTo>
                    <a:pt x="0" y="844387"/>
                  </a:lnTo>
                  <a:close/>
                  <a:moveTo>
                    <a:pt x="207432" y="844387"/>
                  </a:moveTo>
                  <a:lnTo>
                    <a:pt x="207432" y="844387"/>
                  </a:lnTo>
                  <a:cubicBezTo>
                    <a:pt x="207432" y="844387"/>
                    <a:pt x="207432" y="844387"/>
                    <a:pt x="207432" y="844387"/>
                  </a:cubicBezTo>
                  <a:cubicBezTo>
                    <a:pt x="207432" y="1196168"/>
                    <a:pt x="492605" y="1481342"/>
                    <a:pt x="844386" y="1481342"/>
                  </a:cubicBezTo>
                  <a:lnTo>
                    <a:pt x="844386" y="1481343"/>
                  </a:lnTo>
                  <a:cubicBezTo>
                    <a:pt x="1196166" y="1481343"/>
                    <a:pt x="1481341" y="1196168"/>
                    <a:pt x="1481341" y="844388"/>
                  </a:cubicBezTo>
                  <a:cubicBezTo>
                    <a:pt x="1481341" y="492607"/>
                    <a:pt x="1196166" y="207433"/>
                    <a:pt x="844386" y="207433"/>
                  </a:cubicBezTo>
                  <a:cubicBezTo>
                    <a:pt x="844385" y="207433"/>
                    <a:pt x="844385" y="207433"/>
                    <a:pt x="844385" y="207433"/>
                  </a:cubicBezTo>
                  <a:cubicBezTo>
                    <a:pt x="492604" y="207433"/>
                    <a:pt x="207430" y="492606"/>
                    <a:pt x="207430" y="844387"/>
                  </a:cubicBezTo>
                  <a:lnTo>
                    <a:pt x="207432" y="844387"/>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968"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969"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970"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971" name="Group 11"/>
          <p:cNvGrpSpPr/>
          <p:nvPr/>
        </p:nvGrpSpPr>
        <p:grpSpPr>
          <a:xfrm>
            <a:off x="4071960" y="1785960"/>
            <a:ext cx="1233360" cy="1233360"/>
            <a:chOff x="4071960" y="1785960"/>
            <a:chExt cx="1233360" cy="1233360"/>
          </a:xfrm>
        </p:grpSpPr>
        <p:sp>
          <p:nvSpPr>
            <p:cNvPr id="972" name="타원 93"/>
            <p:cNvSpPr/>
            <p:nvPr/>
          </p:nvSpPr>
          <p:spPr>
            <a:xfrm>
              <a:off x="4071960" y="1785960"/>
              <a:ext cx="1233360" cy="1233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타원 94"/>
            <p:cNvSpPr/>
            <p:nvPr/>
          </p:nvSpPr>
          <p:spPr>
            <a:xfrm>
              <a:off x="4141800" y="1855800"/>
              <a:ext cx="1093680" cy="1093680"/>
            </a:xfrm>
            <a:prstGeom prst="ellipse">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도넛 95"/>
            <p:cNvSpPr/>
            <p:nvPr/>
          </p:nvSpPr>
          <p:spPr>
            <a:xfrm>
              <a:off x="4071960" y="1785960"/>
              <a:ext cx="1233360" cy="1233360"/>
            </a:xfrm>
            <a:custGeom>
              <a:avLst/>
              <a:gdLst>
                <a:gd name="textAreaLeft" fmla="*/ 180360 w 1233360"/>
                <a:gd name="textAreaRight" fmla="*/ 1053000 w 1233360"/>
                <a:gd name="textAreaTop" fmla="*/ 180360 h 1233360"/>
                <a:gd name="textAreaBottom" fmla="*/ 1053000 h 123336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975" name="TextBox 96"/>
          <p:cNvSpPr/>
          <p:nvPr/>
        </p:nvSpPr>
        <p:spPr>
          <a:xfrm>
            <a:off x="4283640" y="2195640"/>
            <a:ext cx="810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Y견고딕"/>
                <a:ea typeface="HY견고딕"/>
              </a:rPr>
              <a:t>TEXT</a:t>
            </a:r>
            <a:endParaRPr b="0" lang="en-US" sz="2200" spc="-1" strike="noStrike">
              <a:solidFill>
                <a:srgbClr val="000000"/>
              </a:solidFill>
              <a:latin typeface="Gulim"/>
            </a:endParaRPr>
          </a:p>
        </p:txBody>
      </p:sp>
      <p:grpSp>
        <p:nvGrpSpPr>
          <p:cNvPr id="976" name="Group 16"/>
          <p:cNvGrpSpPr/>
          <p:nvPr/>
        </p:nvGrpSpPr>
        <p:grpSpPr>
          <a:xfrm>
            <a:off x="5776920" y="2763720"/>
            <a:ext cx="1233360" cy="1233720"/>
            <a:chOff x="5776920" y="2763720"/>
            <a:chExt cx="1233360" cy="1233720"/>
          </a:xfrm>
        </p:grpSpPr>
        <p:sp>
          <p:nvSpPr>
            <p:cNvPr id="977" name="타원 85"/>
            <p:cNvSpPr/>
            <p:nvPr/>
          </p:nvSpPr>
          <p:spPr>
            <a:xfrm>
              <a:off x="5776920" y="2763720"/>
              <a:ext cx="1233360" cy="1233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타원 86"/>
            <p:cNvSpPr/>
            <p:nvPr/>
          </p:nvSpPr>
          <p:spPr>
            <a:xfrm>
              <a:off x="5846760" y="2833560"/>
              <a:ext cx="1093680" cy="109404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도넛 87"/>
            <p:cNvSpPr/>
            <p:nvPr/>
          </p:nvSpPr>
          <p:spPr>
            <a:xfrm>
              <a:off x="5776920" y="2763720"/>
              <a:ext cx="1233360" cy="1233720"/>
            </a:xfrm>
            <a:custGeom>
              <a:avLst/>
              <a:gdLst>
                <a:gd name="textAreaLeft" fmla="*/ 180360 w 1233360"/>
                <a:gd name="textAreaRight" fmla="*/ 1053000 w 1233360"/>
                <a:gd name="textAreaTop" fmla="*/ 180720 h 1233720"/>
                <a:gd name="textAreaBottom" fmla="*/ 1053000 h 123372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980" name="TextBox 97"/>
          <p:cNvSpPr/>
          <p:nvPr/>
        </p:nvSpPr>
        <p:spPr>
          <a:xfrm>
            <a:off x="5988600" y="3173400"/>
            <a:ext cx="810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Y견고딕"/>
                <a:ea typeface="HY견고딕"/>
              </a:rPr>
              <a:t>TEXT</a:t>
            </a:r>
            <a:endParaRPr b="0" lang="en-US" sz="2200" spc="-1" strike="noStrike">
              <a:solidFill>
                <a:srgbClr val="000000"/>
              </a:solidFill>
              <a:latin typeface="Gulim"/>
            </a:endParaRPr>
          </a:p>
        </p:txBody>
      </p:sp>
      <p:grpSp>
        <p:nvGrpSpPr>
          <p:cNvPr id="981" name="Group 21"/>
          <p:cNvGrpSpPr/>
          <p:nvPr/>
        </p:nvGrpSpPr>
        <p:grpSpPr>
          <a:xfrm>
            <a:off x="7481880" y="1785960"/>
            <a:ext cx="1233360" cy="1233360"/>
            <a:chOff x="7481880" y="1785960"/>
            <a:chExt cx="1233360" cy="1233360"/>
          </a:xfrm>
        </p:grpSpPr>
        <p:sp>
          <p:nvSpPr>
            <p:cNvPr id="982" name="타원 89"/>
            <p:cNvSpPr/>
            <p:nvPr/>
          </p:nvSpPr>
          <p:spPr>
            <a:xfrm>
              <a:off x="7481880" y="1785960"/>
              <a:ext cx="1233360" cy="1233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타원 90"/>
            <p:cNvSpPr/>
            <p:nvPr/>
          </p:nvSpPr>
          <p:spPr>
            <a:xfrm>
              <a:off x="7551720" y="1855800"/>
              <a:ext cx="1093680" cy="109368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도넛 91"/>
            <p:cNvSpPr/>
            <p:nvPr/>
          </p:nvSpPr>
          <p:spPr>
            <a:xfrm>
              <a:off x="7481880" y="1785960"/>
              <a:ext cx="1233360" cy="1233360"/>
            </a:xfrm>
            <a:custGeom>
              <a:avLst/>
              <a:gdLst>
                <a:gd name="textAreaLeft" fmla="*/ 180360 w 1233360"/>
                <a:gd name="textAreaRight" fmla="*/ 1053000 w 1233360"/>
                <a:gd name="textAreaTop" fmla="*/ 180360 h 1233360"/>
                <a:gd name="textAreaBottom" fmla="*/ 1053000 h 123336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985" name="TextBox 98"/>
          <p:cNvSpPr/>
          <p:nvPr/>
        </p:nvSpPr>
        <p:spPr>
          <a:xfrm>
            <a:off x="7693560" y="2195640"/>
            <a:ext cx="810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Y견고딕"/>
                <a:ea typeface="HY견고딕"/>
              </a:rPr>
              <a:t>TEXT</a:t>
            </a:r>
            <a:endParaRPr b="0" lang="en-US" sz="2200" spc="-1" strike="noStrike">
              <a:solidFill>
                <a:srgbClr val="000000"/>
              </a:solidFill>
              <a:latin typeface="Gulim"/>
            </a:endParaRPr>
          </a:p>
        </p:txBody>
      </p:sp>
      <p:grpSp>
        <p:nvGrpSpPr>
          <p:cNvPr id="986" name="Group 26"/>
          <p:cNvGrpSpPr/>
          <p:nvPr/>
        </p:nvGrpSpPr>
        <p:grpSpPr>
          <a:xfrm>
            <a:off x="1390320" y="3943440"/>
            <a:ext cx="1471680" cy="861840"/>
            <a:chOff x="1390320" y="3943440"/>
            <a:chExt cx="1471680" cy="861840"/>
          </a:xfrm>
        </p:grpSpPr>
        <p:sp>
          <p:nvSpPr>
            <p:cNvPr id="987" name="TextBox 105"/>
            <p:cNvSpPr/>
            <p:nvPr/>
          </p:nvSpPr>
          <p:spPr>
            <a:xfrm>
              <a:off x="1390320" y="4543920"/>
              <a:ext cx="1471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Y견고딕"/>
                  <a:ea typeface="HY견고딕"/>
                </a:rPr>
                <a:t>CLICK TO ADD TEXT</a:t>
              </a:r>
              <a:endParaRPr b="0" lang="en-US" sz="1100" spc="-1" strike="noStrike">
                <a:solidFill>
                  <a:srgbClr val="000000"/>
                </a:solidFill>
                <a:latin typeface="Gulim"/>
              </a:endParaRPr>
            </a:p>
          </p:txBody>
        </p:sp>
        <p:sp>
          <p:nvSpPr>
            <p:cNvPr id="988" name="TextBox 106"/>
            <p:cNvSpPr/>
            <p:nvPr/>
          </p:nvSpPr>
          <p:spPr>
            <a:xfrm>
              <a:off x="1550160" y="3943440"/>
              <a:ext cx="11516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Y견고딕"/>
                  <a:ea typeface="HY견고딕"/>
                </a:rPr>
                <a:t>TEXT</a:t>
              </a:r>
              <a:endParaRPr b="0" lang="en-US" sz="3400" spc="-1" strike="noStrike">
                <a:solidFill>
                  <a:srgbClr val="000000"/>
                </a:solidFill>
                <a:latin typeface="Gulim"/>
              </a:endParaRPr>
            </a:p>
          </p:txBody>
        </p:sp>
      </p:grpSp>
      <p:grpSp>
        <p:nvGrpSpPr>
          <p:cNvPr id="989" name="Group 29"/>
          <p:cNvGrpSpPr/>
          <p:nvPr/>
        </p:nvGrpSpPr>
        <p:grpSpPr>
          <a:xfrm>
            <a:off x="4129200" y="4572000"/>
            <a:ext cx="4728960" cy="1457280"/>
            <a:chOff x="4129200" y="4572000"/>
            <a:chExt cx="4728960" cy="1457280"/>
          </a:xfrm>
        </p:grpSpPr>
        <p:sp>
          <p:nvSpPr>
            <p:cNvPr id="990" name="직사각형 34"/>
            <p:cNvSpPr/>
            <p:nvPr/>
          </p:nvSpPr>
          <p:spPr>
            <a:xfrm>
              <a:off x="4129200" y="4572000"/>
              <a:ext cx="4728960" cy="1457280"/>
            </a:xfrm>
            <a:prstGeom prst="rect">
              <a:avLst/>
            </a:prstGeom>
            <a:solidFill>
              <a:srgbClr val="c6d9f1">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1" name="직사각형 35"/>
            <p:cNvSpPr/>
            <p:nvPr/>
          </p:nvSpPr>
          <p:spPr>
            <a:xfrm>
              <a:off x="4236840" y="4674960"/>
              <a:ext cx="4513320" cy="125100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2" name="TextBox 36"/>
          <p:cNvSpPr/>
          <p:nvPr/>
        </p:nvSpPr>
        <p:spPr>
          <a:xfrm>
            <a:off x="4356000" y="4773600"/>
            <a:ext cx="4357800" cy="147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cee"/>
                </a:solidFill>
                <a:latin typeface="Arial Black"/>
                <a:ea typeface="HY견고딕"/>
              </a:rPr>
              <a:t>ASADAL INTERNET, INC.</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ea typeface="HY견고딕"/>
              </a:rPr>
              <a:t>started its business in Seoul Korea in February 1998 </a:t>
            </a:r>
            <a:br>
              <a:rPr sz="1400"/>
            </a:br>
            <a:r>
              <a:rPr b="0" lang="en-US" sz="1400" spc="-1" strike="noStrike">
                <a:solidFill>
                  <a:srgbClr val="7f7f7f"/>
                </a:solidFill>
                <a:latin typeface="Arial"/>
                <a:ea typeface="HY견고딕"/>
              </a:rPr>
              <a:t>with the fundamental goal of providing better internet </a:t>
            </a:r>
            <a:br>
              <a:rPr sz="1400"/>
            </a:br>
            <a:r>
              <a:rPr b="0" lang="en-US" sz="1400" spc="-1" strike="noStrike">
                <a:solidFill>
                  <a:srgbClr val="7f7f7f"/>
                </a:solidFill>
                <a:latin typeface="Arial"/>
                <a:ea typeface="HY견고딕"/>
              </a:rPr>
              <a:t>services to the world. </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직사각형 115"/>
          <p:cNvSpPr/>
          <p:nvPr/>
        </p:nvSpPr>
        <p:spPr>
          <a:xfrm>
            <a:off x="0" y="2239920"/>
            <a:ext cx="9144000" cy="214308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99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99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997" name="Group 6"/>
          <p:cNvGrpSpPr/>
          <p:nvPr/>
        </p:nvGrpSpPr>
        <p:grpSpPr>
          <a:xfrm>
            <a:off x="5337000" y="1765440"/>
            <a:ext cx="3092760" cy="3092400"/>
            <a:chOff x="5337000" y="1765440"/>
            <a:chExt cx="3092760" cy="3092400"/>
          </a:xfrm>
        </p:grpSpPr>
        <p:grpSp>
          <p:nvGrpSpPr>
            <p:cNvPr id="998" name="Group 7"/>
            <p:cNvGrpSpPr/>
            <p:nvPr/>
          </p:nvGrpSpPr>
          <p:grpSpPr>
            <a:xfrm>
              <a:off x="5337000" y="1765440"/>
              <a:ext cx="3092760" cy="3092400"/>
              <a:chOff x="5337000" y="1765440"/>
              <a:chExt cx="3092760" cy="3092400"/>
            </a:xfrm>
          </p:grpSpPr>
          <p:sp>
            <p:nvSpPr>
              <p:cNvPr id="999" name="타원 66"/>
              <p:cNvSpPr/>
              <p:nvPr/>
            </p:nvSpPr>
            <p:spPr>
              <a:xfrm>
                <a:off x="5337000" y="1765440"/>
                <a:ext cx="3092760" cy="3092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타원 67"/>
              <p:cNvSpPr/>
              <p:nvPr/>
            </p:nvSpPr>
            <p:spPr>
              <a:xfrm>
                <a:off x="5468760" y="1897200"/>
                <a:ext cx="2829240" cy="2828880"/>
              </a:xfrm>
              <a:prstGeom prst="ellipse">
                <a:avLst/>
              </a:prstGeom>
              <a:solidFill>
                <a:srgbClr val="ffc000">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1" name="타원 68"/>
            <p:cNvSpPr/>
            <p:nvPr/>
          </p:nvSpPr>
          <p:spPr>
            <a:xfrm>
              <a:off x="5709960" y="2162160"/>
              <a:ext cx="2346480" cy="2298600"/>
            </a:xfrm>
            <a:prstGeom prst="ellipse">
              <a:avLst/>
            </a:prstGeom>
            <a:solidFill>
              <a:srgbClr val="ffc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1"/>
            <p:cNvGrpSpPr/>
            <p:nvPr/>
          </p:nvGrpSpPr>
          <p:grpSpPr>
            <a:xfrm>
              <a:off x="5950800" y="2376720"/>
              <a:ext cx="1862640" cy="1862640"/>
              <a:chOff x="5950800" y="2376720"/>
              <a:chExt cx="1862640" cy="1862640"/>
            </a:xfrm>
          </p:grpSpPr>
          <p:sp>
            <p:nvSpPr>
              <p:cNvPr id="1003" name="타원 70"/>
              <p:cNvSpPr/>
              <p:nvPr/>
            </p:nvSpPr>
            <p:spPr>
              <a:xfrm>
                <a:off x="5961600" y="2389320"/>
                <a:ext cx="1842120" cy="18439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4" name="도넛 71"/>
              <p:cNvSpPr/>
              <p:nvPr/>
            </p:nvSpPr>
            <p:spPr>
              <a:xfrm>
                <a:off x="5950800" y="2376720"/>
                <a:ext cx="1862640" cy="1862640"/>
              </a:xfrm>
              <a:custGeom>
                <a:avLst/>
                <a:gdLst>
                  <a:gd name="textAreaLeft" fmla="*/ 272520 w 1862640"/>
                  <a:gd name="textAreaRight" fmla="*/ 1590120 w 1862640"/>
                  <a:gd name="textAreaTop" fmla="*/ 272520 h 1862640"/>
                  <a:gd name="textAreaBottom" fmla="*/ 1590120 h 1862640"/>
                </a:gdLst>
                <a:ahLst/>
                <a:rect l="textAreaLeft" t="textAreaTop" r="textAreaRight" b="textAreaBottom"/>
                <a:pathLst>
                  <a:path w="2504263" h="2504263">
                    <a:moveTo>
                      <a:pt x="0" y="1252132"/>
                    </a:moveTo>
                    <a:lnTo>
                      <a:pt x="0" y="1252132"/>
                    </a:lnTo>
                    <a:cubicBezTo>
                      <a:pt x="0" y="560598"/>
                      <a:pt x="560598" y="1"/>
                      <a:pt x="1252132" y="1"/>
                    </a:cubicBezTo>
                    <a:cubicBezTo>
                      <a:pt x="1252132" y="1"/>
                      <a:pt x="1252133" y="1"/>
                      <a:pt x="1252133" y="1"/>
                    </a:cubicBezTo>
                    <a:lnTo>
                      <a:pt x="1252134" y="1"/>
                    </a:lnTo>
                    <a:cubicBezTo>
                      <a:pt x="1943667" y="1"/>
                      <a:pt x="2504265" y="560599"/>
                      <a:pt x="2504265" y="1252133"/>
                    </a:cubicBezTo>
                    <a:cubicBezTo>
                      <a:pt x="2504265" y="1252133"/>
                      <a:pt x="2504264" y="1252134"/>
                      <a:pt x="2504264" y="1252135"/>
                    </a:cubicBezTo>
                    <a:lnTo>
                      <a:pt x="2504265" y="1252135"/>
                    </a:lnTo>
                    <a:cubicBezTo>
                      <a:pt x="2504265" y="1943668"/>
                      <a:pt x="1943666" y="2504267"/>
                      <a:pt x="1252133" y="2504267"/>
                    </a:cubicBezTo>
                    <a:cubicBezTo>
                      <a:pt x="1252132" y="2504267"/>
                      <a:pt x="1252132" y="2504266"/>
                      <a:pt x="1252132" y="2504266"/>
                    </a:cubicBezTo>
                    <a:cubicBezTo>
                      <a:pt x="560598" y="2504266"/>
                      <a:pt x="1" y="1943668"/>
                      <a:pt x="1" y="1252135"/>
                    </a:cubicBezTo>
                    <a:cubicBezTo>
                      <a:pt x="1" y="1252134"/>
                      <a:pt x="1" y="1252134"/>
                      <a:pt x="1" y="1252134"/>
                    </a:cubicBezTo>
                    <a:lnTo>
                      <a:pt x="0" y="1252132"/>
                    </a:lnTo>
                    <a:close/>
                    <a:moveTo>
                      <a:pt x="278098" y="1252132"/>
                    </a:moveTo>
                    <a:lnTo>
                      <a:pt x="278098" y="1252132"/>
                    </a:lnTo>
                    <a:cubicBezTo>
                      <a:pt x="278098" y="1252132"/>
                      <a:pt x="278098" y="1252132"/>
                      <a:pt x="278098" y="1252132"/>
                    </a:cubicBezTo>
                    <a:cubicBezTo>
                      <a:pt x="278098" y="1790076"/>
                      <a:pt x="714186" y="2226165"/>
                      <a:pt x="1252130" y="2226165"/>
                    </a:cubicBezTo>
                    <a:cubicBezTo>
                      <a:pt x="1252130" y="2226165"/>
                      <a:pt x="1252130" y="2226166"/>
                      <a:pt x="1252131" y="2226166"/>
                    </a:cubicBezTo>
                    <a:cubicBezTo>
                      <a:pt x="1790074" y="2226166"/>
                      <a:pt x="2226163" y="1790077"/>
                      <a:pt x="2226163" y="1252134"/>
                    </a:cubicBezTo>
                    <a:lnTo>
                      <a:pt x="2226164" y="1252134"/>
                    </a:lnTo>
                    <a:cubicBezTo>
                      <a:pt x="2226164" y="714190"/>
                      <a:pt x="1790074" y="278101"/>
                      <a:pt x="1252131" y="278101"/>
                    </a:cubicBezTo>
                    <a:cubicBezTo>
                      <a:pt x="1252130" y="278101"/>
                      <a:pt x="1252130" y="278101"/>
                      <a:pt x="1252130" y="278101"/>
                    </a:cubicBezTo>
                    <a:cubicBezTo>
                      <a:pt x="714186" y="278101"/>
                      <a:pt x="278097" y="714189"/>
                      <a:pt x="278097" y="1252133"/>
                    </a:cubicBezTo>
                    <a:lnTo>
                      <a:pt x="278098" y="1252132"/>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grpSp>
        <p:nvGrpSpPr>
          <p:cNvPr id="1005" name="Group 14"/>
          <p:cNvGrpSpPr/>
          <p:nvPr/>
        </p:nvGrpSpPr>
        <p:grpSpPr>
          <a:xfrm>
            <a:off x="1763640" y="3032280"/>
            <a:ext cx="1236600" cy="558720"/>
            <a:chOff x="1763640" y="3032280"/>
            <a:chExt cx="1236600" cy="558720"/>
          </a:xfrm>
        </p:grpSpPr>
        <p:sp>
          <p:nvSpPr>
            <p:cNvPr id="1006" name="오른쪽 화살표 110"/>
            <p:cNvSpPr/>
            <p:nvPr/>
          </p:nvSpPr>
          <p:spPr>
            <a:xfrm>
              <a:off x="1763640" y="3032280"/>
              <a:ext cx="1236600" cy="558720"/>
            </a:xfrm>
            <a:prstGeom prst="rightArrow">
              <a:avLst>
                <a:gd name="adj1" fmla="val 50000"/>
                <a:gd name="adj2" fmla="val 5861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오른쪽 화살표 111"/>
            <p:cNvSpPr/>
            <p:nvPr/>
          </p:nvSpPr>
          <p:spPr>
            <a:xfrm>
              <a:off x="1790280" y="3076560"/>
              <a:ext cx="1170000" cy="468360"/>
            </a:xfrm>
            <a:prstGeom prst="rightArrow">
              <a:avLst>
                <a:gd name="adj1" fmla="val 50000"/>
                <a:gd name="adj2" fmla="val 57166"/>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8" name="Group 17"/>
          <p:cNvGrpSpPr/>
          <p:nvPr/>
        </p:nvGrpSpPr>
        <p:grpSpPr>
          <a:xfrm>
            <a:off x="785880" y="2513160"/>
            <a:ext cx="1595520" cy="1596960"/>
            <a:chOff x="785880" y="2513160"/>
            <a:chExt cx="1595520" cy="1596960"/>
          </a:xfrm>
        </p:grpSpPr>
        <p:sp>
          <p:nvSpPr>
            <p:cNvPr id="1009" name="타원 102"/>
            <p:cNvSpPr/>
            <p:nvPr/>
          </p:nvSpPr>
          <p:spPr>
            <a:xfrm>
              <a:off x="785880" y="2513160"/>
              <a:ext cx="1595520" cy="1596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0" name="타원 103"/>
            <p:cNvSpPr/>
            <p:nvPr/>
          </p:nvSpPr>
          <p:spPr>
            <a:xfrm>
              <a:off x="877680" y="2604960"/>
              <a:ext cx="1411560" cy="141300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도넛 104"/>
            <p:cNvSpPr/>
            <p:nvPr/>
          </p:nvSpPr>
          <p:spPr>
            <a:xfrm>
              <a:off x="785880" y="2513160"/>
              <a:ext cx="1595520" cy="1596960"/>
            </a:xfrm>
            <a:custGeom>
              <a:avLst/>
              <a:gdLst>
                <a:gd name="textAreaLeft" fmla="*/ 233640 w 1595520"/>
                <a:gd name="textAreaRight" fmla="*/ 1361880 w 1595520"/>
                <a:gd name="textAreaTop" fmla="*/ 233640 h 1596960"/>
                <a:gd name="textAreaBottom" fmla="*/ 1363320 h 159696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12" name="Group 21"/>
          <p:cNvGrpSpPr/>
          <p:nvPr/>
        </p:nvGrpSpPr>
        <p:grpSpPr>
          <a:xfrm>
            <a:off x="4049640" y="3032280"/>
            <a:ext cx="1236600" cy="558720"/>
            <a:chOff x="4049640" y="3032280"/>
            <a:chExt cx="1236600" cy="558720"/>
          </a:xfrm>
        </p:grpSpPr>
        <p:sp>
          <p:nvSpPr>
            <p:cNvPr id="1013" name="오른쪽 화살표 113"/>
            <p:cNvSpPr/>
            <p:nvPr/>
          </p:nvSpPr>
          <p:spPr>
            <a:xfrm>
              <a:off x="4049640" y="3032280"/>
              <a:ext cx="1236600" cy="558720"/>
            </a:xfrm>
            <a:prstGeom prst="rightArrow">
              <a:avLst>
                <a:gd name="adj1" fmla="val 50000"/>
                <a:gd name="adj2" fmla="val 5861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오른쪽 화살표 114"/>
            <p:cNvSpPr/>
            <p:nvPr/>
          </p:nvSpPr>
          <p:spPr>
            <a:xfrm>
              <a:off x="4076280" y="3076560"/>
              <a:ext cx="1170000" cy="468360"/>
            </a:xfrm>
            <a:prstGeom prst="rightArrow">
              <a:avLst>
                <a:gd name="adj1" fmla="val 50000"/>
                <a:gd name="adj2" fmla="val 57166"/>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5" name="Group 24"/>
          <p:cNvGrpSpPr/>
          <p:nvPr/>
        </p:nvGrpSpPr>
        <p:grpSpPr>
          <a:xfrm>
            <a:off x="3060720" y="2513160"/>
            <a:ext cx="1596960" cy="1596960"/>
            <a:chOff x="3060720" y="2513160"/>
            <a:chExt cx="1596960" cy="1596960"/>
          </a:xfrm>
        </p:grpSpPr>
        <p:sp>
          <p:nvSpPr>
            <p:cNvPr id="1016" name="타원 93"/>
            <p:cNvSpPr/>
            <p:nvPr/>
          </p:nvSpPr>
          <p:spPr>
            <a:xfrm>
              <a:off x="3060720" y="2513160"/>
              <a:ext cx="1596960" cy="1596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타원 94"/>
            <p:cNvSpPr/>
            <p:nvPr/>
          </p:nvSpPr>
          <p:spPr>
            <a:xfrm>
              <a:off x="3152520" y="2604960"/>
              <a:ext cx="1413000" cy="141300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8" name="도넛 95"/>
            <p:cNvSpPr/>
            <p:nvPr/>
          </p:nvSpPr>
          <p:spPr>
            <a:xfrm>
              <a:off x="3060720" y="2513160"/>
              <a:ext cx="1596960" cy="1596960"/>
            </a:xfrm>
            <a:custGeom>
              <a:avLst/>
              <a:gdLst>
                <a:gd name="textAreaLeft" fmla="*/ 233640 w 1596960"/>
                <a:gd name="textAreaRight" fmla="*/ 1363320 w 1596960"/>
                <a:gd name="textAreaTop" fmla="*/ 233640 h 1596960"/>
                <a:gd name="textAreaBottom" fmla="*/ 1363320 h 159696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19" name="Group 28"/>
          <p:cNvGrpSpPr/>
          <p:nvPr/>
        </p:nvGrpSpPr>
        <p:grpSpPr>
          <a:xfrm>
            <a:off x="6210000" y="2938320"/>
            <a:ext cx="1346760" cy="746280"/>
            <a:chOff x="6210000" y="2938320"/>
            <a:chExt cx="1346760" cy="746280"/>
          </a:xfrm>
        </p:grpSpPr>
        <p:sp>
          <p:nvSpPr>
            <p:cNvPr id="1020" name="TextBox 117"/>
            <p:cNvSpPr/>
            <p:nvPr/>
          </p:nvSpPr>
          <p:spPr>
            <a:xfrm>
              <a:off x="6210000" y="34383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sp>
          <p:nvSpPr>
            <p:cNvPr id="1021" name="TextBox 118"/>
            <p:cNvSpPr/>
            <p:nvPr/>
          </p:nvSpPr>
          <p:spPr>
            <a:xfrm>
              <a:off x="6363000" y="293832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1022" name="TextBox 119"/>
          <p:cNvSpPr/>
          <p:nvPr/>
        </p:nvSpPr>
        <p:spPr>
          <a:xfrm>
            <a:off x="1135080" y="307332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HY견고딕"/>
                <a:ea typeface="HY견고딕"/>
              </a:rPr>
              <a:t>TEXT</a:t>
            </a:r>
            <a:endParaRPr b="0" lang="en-US" sz="2500" spc="-1" strike="noStrike">
              <a:solidFill>
                <a:srgbClr val="000000"/>
              </a:solidFill>
              <a:latin typeface="Gulim"/>
            </a:endParaRPr>
          </a:p>
        </p:txBody>
      </p:sp>
      <p:sp>
        <p:nvSpPr>
          <p:cNvPr id="1023" name="TextBox 120"/>
          <p:cNvSpPr/>
          <p:nvPr/>
        </p:nvSpPr>
        <p:spPr>
          <a:xfrm>
            <a:off x="3410640" y="307332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HY견고딕"/>
                <a:ea typeface="HY견고딕"/>
              </a:rPr>
              <a:t>TEXT</a:t>
            </a:r>
            <a:endParaRPr b="0" lang="en-US" sz="2500" spc="-1" strike="noStrike">
              <a:solidFill>
                <a:srgbClr val="000000"/>
              </a:solidFill>
              <a:latin typeface="Gulim"/>
            </a:endParaRPr>
          </a:p>
        </p:txBody>
      </p:sp>
      <p:sp>
        <p:nvSpPr>
          <p:cNvPr id="1024" name="TextBox 121"/>
          <p:cNvSpPr/>
          <p:nvPr/>
        </p:nvSpPr>
        <p:spPr>
          <a:xfrm>
            <a:off x="1000080" y="5148360"/>
            <a:ext cx="7429680" cy="9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026"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027"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1028" name="Group 5"/>
          <p:cNvGrpSpPr/>
          <p:nvPr/>
        </p:nvGrpSpPr>
        <p:grpSpPr>
          <a:xfrm>
            <a:off x="747720" y="1695600"/>
            <a:ext cx="7635960" cy="1847880"/>
            <a:chOff x="747720" y="1695600"/>
            <a:chExt cx="7635960" cy="1847880"/>
          </a:xfrm>
        </p:grpSpPr>
        <p:sp>
          <p:nvSpPr>
            <p:cNvPr id="1029" name="직사각형 60"/>
            <p:cNvSpPr/>
            <p:nvPr/>
          </p:nvSpPr>
          <p:spPr>
            <a:xfrm>
              <a:off x="747720" y="1695600"/>
              <a:ext cx="7635960" cy="1847880"/>
            </a:xfrm>
            <a:prstGeom prst="rect">
              <a:avLst/>
            </a:prstGeom>
            <a:solidFill>
              <a:srgbClr val="ffffff">
                <a:alpha val="75000"/>
              </a:srgbClr>
            </a:solidFill>
            <a:ln w="25560">
              <a:solidFill>
                <a:srgbClr val="d9d9d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직사각형 61"/>
            <p:cNvSpPr/>
            <p:nvPr/>
          </p:nvSpPr>
          <p:spPr>
            <a:xfrm>
              <a:off x="842760" y="1778040"/>
              <a:ext cx="7445520" cy="1684440"/>
            </a:xfrm>
            <a:prstGeom prst="rect">
              <a:avLst/>
            </a:prstGeom>
            <a:solidFill>
              <a:srgbClr val="f2f2f2">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1" name="Group 8"/>
          <p:cNvGrpSpPr/>
          <p:nvPr/>
        </p:nvGrpSpPr>
        <p:grpSpPr>
          <a:xfrm>
            <a:off x="3632040" y="1916280"/>
            <a:ext cx="1866960" cy="1406520"/>
            <a:chOff x="3632040" y="1916280"/>
            <a:chExt cx="1866960" cy="1406520"/>
          </a:xfrm>
        </p:grpSpPr>
        <p:sp>
          <p:nvSpPr>
            <p:cNvPr id="1032" name="직사각형 143"/>
            <p:cNvSpPr/>
            <p:nvPr/>
          </p:nvSpPr>
          <p:spPr>
            <a:xfrm>
              <a:off x="3632040" y="1916280"/>
              <a:ext cx="1866960" cy="1406520"/>
            </a:xfrm>
            <a:prstGeom prst="rect">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직사각형 144"/>
            <p:cNvSpPr/>
            <p:nvPr/>
          </p:nvSpPr>
          <p:spPr>
            <a:xfrm>
              <a:off x="3719160" y="2005200"/>
              <a:ext cx="1692360" cy="122868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직사각형 145"/>
            <p:cNvSpPr/>
            <p:nvPr/>
          </p:nvSpPr>
          <p:spPr>
            <a:xfrm>
              <a:off x="3719160" y="2005200"/>
              <a:ext cx="1692360" cy="1443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직사각형 146"/>
            <p:cNvSpPr/>
            <p:nvPr/>
          </p:nvSpPr>
          <p:spPr>
            <a:xfrm>
              <a:off x="3719160" y="3084840"/>
              <a:ext cx="1692360" cy="1425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Group 13"/>
          <p:cNvGrpSpPr/>
          <p:nvPr/>
        </p:nvGrpSpPr>
        <p:grpSpPr>
          <a:xfrm>
            <a:off x="2286000" y="2340000"/>
            <a:ext cx="1236600" cy="558720"/>
            <a:chOff x="2286000" y="2340000"/>
            <a:chExt cx="1236600" cy="558720"/>
          </a:xfrm>
        </p:grpSpPr>
        <p:sp>
          <p:nvSpPr>
            <p:cNvPr id="1037" name="오른쪽 화살표 152"/>
            <p:cNvSpPr/>
            <p:nvPr/>
          </p:nvSpPr>
          <p:spPr>
            <a:xfrm>
              <a:off x="2286000" y="2340000"/>
              <a:ext cx="1236600" cy="558720"/>
            </a:xfrm>
            <a:prstGeom prst="rightArrow">
              <a:avLst>
                <a:gd name="adj1" fmla="val 50000"/>
                <a:gd name="adj2" fmla="val 5861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오른쪽 화살표 153"/>
            <p:cNvSpPr/>
            <p:nvPr/>
          </p:nvSpPr>
          <p:spPr>
            <a:xfrm>
              <a:off x="2312640" y="2384280"/>
              <a:ext cx="1170000" cy="468360"/>
            </a:xfrm>
            <a:prstGeom prst="rightArrow">
              <a:avLst>
                <a:gd name="adj1" fmla="val 50000"/>
                <a:gd name="adj2" fmla="val 57166"/>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Group 16"/>
          <p:cNvGrpSpPr/>
          <p:nvPr/>
        </p:nvGrpSpPr>
        <p:grpSpPr>
          <a:xfrm>
            <a:off x="1195560" y="1893960"/>
            <a:ext cx="1449360" cy="1450800"/>
            <a:chOff x="1195560" y="1893960"/>
            <a:chExt cx="1449360" cy="1450800"/>
          </a:xfrm>
        </p:grpSpPr>
        <p:sp>
          <p:nvSpPr>
            <p:cNvPr id="1040" name="타원 121"/>
            <p:cNvSpPr/>
            <p:nvPr/>
          </p:nvSpPr>
          <p:spPr>
            <a:xfrm>
              <a:off x="1195560" y="1893960"/>
              <a:ext cx="1449360" cy="145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타원 122"/>
            <p:cNvSpPr/>
            <p:nvPr/>
          </p:nvSpPr>
          <p:spPr>
            <a:xfrm>
              <a:off x="1278000" y="1976400"/>
              <a:ext cx="1284480" cy="128592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도넛 123"/>
            <p:cNvSpPr/>
            <p:nvPr/>
          </p:nvSpPr>
          <p:spPr>
            <a:xfrm>
              <a:off x="1195560" y="1893960"/>
              <a:ext cx="1449360" cy="1450800"/>
            </a:xfrm>
            <a:custGeom>
              <a:avLst/>
              <a:gdLst>
                <a:gd name="textAreaLeft" fmla="*/ 212040 w 1449360"/>
                <a:gd name="textAreaRight" fmla="*/ 1237320 w 1449360"/>
                <a:gd name="textAreaTop" fmla="*/ 212400 h 1450800"/>
                <a:gd name="textAreaBottom" fmla="*/ 1238400 h 145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43" name="Group 20"/>
          <p:cNvGrpSpPr/>
          <p:nvPr/>
        </p:nvGrpSpPr>
        <p:grpSpPr>
          <a:xfrm>
            <a:off x="5595480" y="2340000"/>
            <a:ext cx="1236600" cy="558720"/>
            <a:chOff x="5595480" y="2340000"/>
            <a:chExt cx="1236600" cy="558720"/>
          </a:xfrm>
        </p:grpSpPr>
        <p:sp>
          <p:nvSpPr>
            <p:cNvPr id="1044" name="오른쪽 화살표 155"/>
            <p:cNvSpPr/>
            <p:nvPr/>
          </p:nvSpPr>
          <p:spPr>
            <a:xfrm flipH="1">
              <a:off x="5595120" y="2340000"/>
              <a:ext cx="1236600" cy="558720"/>
            </a:xfrm>
            <a:prstGeom prst="rightArrow">
              <a:avLst>
                <a:gd name="adj1" fmla="val 50000"/>
                <a:gd name="adj2" fmla="val 58611"/>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5" name="오른쪽 화살표 156"/>
            <p:cNvSpPr/>
            <p:nvPr/>
          </p:nvSpPr>
          <p:spPr>
            <a:xfrm flipH="1">
              <a:off x="5635440" y="2384280"/>
              <a:ext cx="1170000" cy="468360"/>
            </a:xfrm>
            <a:prstGeom prst="rightArrow">
              <a:avLst>
                <a:gd name="adj1" fmla="val 50000"/>
                <a:gd name="adj2" fmla="val 57166"/>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6" name="Group 23"/>
          <p:cNvGrpSpPr/>
          <p:nvPr/>
        </p:nvGrpSpPr>
        <p:grpSpPr>
          <a:xfrm>
            <a:off x="6481800" y="1893960"/>
            <a:ext cx="1449360" cy="1450800"/>
            <a:chOff x="6481800" y="1893960"/>
            <a:chExt cx="1449360" cy="1450800"/>
          </a:xfrm>
        </p:grpSpPr>
        <p:sp>
          <p:nvSpPr>
            <p:cNvPr id="1047" name="타원 113"/>
            <p:cNvSpPr/>
            <p:nvPr/>
          </p:nvSpPr>
          <p:spPr>
            <a:xfrm>
              <a:off x="6481800" y="1893960"/>
              <a:ext cx="1449360" cy="145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타원 114"/>
            <p:cNvSpPr/>
            <p:nvPr/>
          </p:nvSpPr>
          <p:spPr>
            <a:xfrm>
              <a:off x="6564240" y="1976400"/>
              <a:ext cx="1284480" cy="128592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9" name="도넛 115"/>
            <p:cNvSpPr/>
            <p:nvPr/>
          </p:nvSpPr>
          <p:spPr>
            <a:xfrm>
              <a:off x="6481800" y="1893960"/>
              <a:ext cx="1449360" cy="1450800"/>
            </a:xfrm>
            <a:custGeom>
              <a:avLst/>
              <a:gdLst>
                <a:gd name="textAreaLeft" fmla="*/ 212040 w 1449360"/>
                <a:gd name="textAreaRight" fmla="*/ 1237320 w 1449360"/>
                <a:gd name="textAreaTop" fmla="*/ 212400 h 1450800"/>
                <a:gd name="textAreaBottom" fmla="*/ 1238400 h 145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050" name="TextBox 157"/>
          <p:cNvSpPr/>
          <p:nvPr/>
        </p:nvSpPr>
        <p:spPr>
          <a:xfrm>
            <a:off x="1471680" y="238140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HY견고딕"/>
                <a:ea typeface="HY견고딕"/>
              </a:rPr>
              <a:t>TEXT</a:t>
            </a:r>
            <a:endParaRPr b="0" lang="en-US" sz="2500" spc="-1" strike="noStrike">
              <a:solidFill>
                <a:srgbClr val="000000"/>
              </a:solidFill>
              <a:latin typeface="Gulim"/>
            </a:endParaRPr>
          </a:p>
        </p:txBody>
      </p:sp>
      <p:sp>
        <p:nvSpPr>
          <p:cNvPr id="1051" name="TextBox 158"/>
          <p:cNvSpPr/>
          <p:nvPr/>
        </p:nvSpPr>
        <p:spPr>
          <a:xfrm>
            <a:off x="6757920" y="238140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HY견고딕"/>
                <a:ea typeface="HY견고딕"/>
              </a:rPr>
              <a:t>TEXT</a:t>
            </a:r>
            <a:endParaRPr b="0" lang="en-US" sz="2500" spc="-1" strike="noStrike">
              <a:solidFill>
                <a:srgbClr val="000000"/>
              </a:solidFill>
              <a:latin typeface="Gulim"/>
            </a:endParaRPr>
          </a:p>
        </p:txBody>
      </p:sp>
      <p:grpSp>
        <p:nvGrpSpPr>
          <p:cNvPr id="1052" name="Group 29"/>
          <p:cNvGrpSpPr/>
          <p:nvPr/>
        </p:nvGrpSpPr>
        <p:grpSpPr>
          <a:xfrm>
            <a:off x="3892320" y="2233440"/>
            <a:ext cx="1346760" cy="771840"/>
            <a:chOff x="3892320" y="2233440"/>
            <a:chExt cx="1346760" cy="771840"/>
          </a:xfrm>
        </p:grpSpPr>
        <p:sp>
          <p:nvSpPr>
            <p:cNvPr id="1053" name="TextBox 160"/>
            <p:cNvSpPr/>
            <p:nvPr/>
          </p:nvSpPr>
          <p:spPr>
            <a:xfrm>
              <a:off x="4045320" y="223344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1054" name="TextBox 161"/>
            <p:cNvSpPr/>
            <p:nvPr/>
          </p:nvSpPr>
          <p:spPr>
            <a:xfrm>
              <a:off x="3892320" y="275904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sp>
        <p:nvSpPr>
          <p:cNvPr id="1055" name="직사각형 163"/>
          <p:cNvSpPr/>
          <p:nvPr/>
        </p:nvSpPr>
        <p:spPr>
          <a:xfrm>
            <a:off x="743040" y="3921120"/>
            <a:ext cx="7648560" cy="2017800"/>
          </a:xfrm>
          <a:prstGeom prst="rect">
            <a:avLst/>
          </a:prstGeom>
          <a:solidFill>
            <a:srgbClr val="d9d9d9">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6" name="Group 33"/>
          <p:cNvGrpSpPr/>
          <p:nvPr/>
        </p:nvGrpSpPr>
        <p:grpSpPr>
          <a:xfrm>
            <a:off x="806400" y="3979800"/>
            <a:ext cx="7529400" cy="1903320"/>
            <a:chOff x="806400" y="3979800"/>
            <a:chExt cx="7529400" cy="1903320"/>
          </a:xfrm>
        </p:grpSpPr>
        <p:grpSp>
          <p:nvGrpSpPr>
            <p:cNvPr id="1057" name="Group 34"/>
            <p:cNvGrpSpPr/>
            <p:nvPr/>
          </p:nvGrpSpPr>
          <p:grpSpPr>
            <a:xfrm>
              <a:off x="806400" y="3979800"/>
              <a:ext cx="2289600" cy="1903320"/>
              <a:chOff x="806400" y="3979800"/>
              <a:chExt cx="2289600" cy="1903320"/>
            </a:xfrm>
          </p:grpSpPr>
          <p:sp>
            <p:nvSpPr>
              <p:cNvPr id="1058" name="직사각형 165"/>
              <p:cNvSpPr/>
              <p:nvPr/>
            </p:nvSpPr>
            <p:spPr>
              <a:xfrm>
                <a:off x="809280" y="3979800"/>
                <a:ext cx="228672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직사각형 166"/>
              <p:cNvSpPr/>
              <p:nvPr/>
            </p:nvSpPr>
            <p:spPr>
              <a:xfrm>
                <a:off x="806400" y="5537160"/>
                <a:ext cx="2286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직사각형 170"/>
              <p:cNvSpPr/>
              <p:nvPr/>
            </p:nvSpPr>
            <p:spPr>
              <a:xfrm>
                <a:off x="806400" y="4814640"/>
                <a:ext cx="2286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1" name="Group 38"/>
              <p:cNvGrpSpPr/>
              <p:nvPr/>
            </p:nvGrpSpPr>
            <p:grpSpPr>
              <a:xfrm>
                <a:off x="806400" y="3980880"/>
                <a:ext cx="2287800" cy="456840"/>
                <a:chOff x="806400" y="3980880"/>
                <a:chExt cx="2287800" cy="456840"/>
              </a:xfrm>
            </p:grpSpPr>
            <p:sp>
              <p:nvSpPr>
                <p:cNvPr id="1062" name="직사각형 172"/>
                <p:cNvSpPr/>
                <p:nvPr/>
              </p:nvSpPr>
              <p:spPr>
                <a:xfrm>
                  <a:off x="806400" y="3980880"/>
                  <a:ext cx="228780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직사각형 173"/>
                <p:cNvSpPr/>
                <p:nvPr/>
              </p:nvSpPr>
              <p:spPr>
                <a:xfrm>
                  <a:off x="806400" y="3982320"/>
                  <a:ext cx="228780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4" name="Group 41"/>
            <p:cNvGrpSpPr/>
            <p:nvPr/>
          </p:nvGrpSpPr>
          <p:grpSpPr>
            <a:xfrm>
              <a:off x="3132720" y="3979800"/>
              <a:ext cx="1010520" cy="1903320"/>
              <a:chOff x="3132720" y="3979800"/>
              <a:chExt cx="1010520" cy="1903320"/>
            </a:xfrm>
          </p:grpSpPr>
          <p:sp>
            <p:nvSpPr>
              <p:cNvPr id="1065" name="직사각형 175"/>
              <p:cNvSpPr/>
              <p:nvPr/>
            </p:nvSpPr>
            <p:spPr>
              <a:xfrm>
                <a:off x="3134160" y="3979800"/>
                <a:ext cx="100908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직사각형 176"/>
              <p:cNvSpPr/>
              <p:nvPr/>
            </p:nvSpPr>
            <p:spPr>
              <a:xfrm>
                <a:off x="3132720" y="553716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7" name="직사각형 180"/>
              <p:cNvSpPr/>
              <p:nvPr/>
            </p:nvSpPr>
            <p:spPr>
              <a:xfrm>
                <a:off x="3132720" y="481464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8" name="Group 45"/>
              <p:cNvGrpSpPr/>
              <p:nvPr/>
            </p:nvGrpSpPr>
            <p:grpSpPr>
              <a:xfrm>
                <a:off x="3133440" y="3980880"/>
                <a:ext cx="1009080" cy="456840"/>
                <a:chOff x="3133440" y="3980880"/>
                <a:chExt cx="1009080" cy="456840"/>
              </a:xfrm>
            </p:grpSpPr>
            <p:sp>
              <p:nvSpPr>
                <p:cNvPr id="1069" name="직사각형 182"/>
                <p:cNvSpPr/>
                <p:nvPr/>
              </p:nvSpPr>
              <p:spPr>
                <a:xfrm>
                  <a:off x="3133440" y="3980880"/>
                  <a:ext cx="100908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직사각형 183"/>
                <p:cNvSpPr/>
                <p:nvPr/>
              </p:nvSpPr>
              <p:spPr>
                <a:xfrm>
                  <a:off x="3133440" y="3982320"/>
                  <a:ext cx="100908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71" name="Group 48"/>
            <p:cNvGrpSpPr/>
            <p:nvPr/>
          </p:nvGrpSpPr>
          <p:grpSpPr>
            <a:xfrm>
              <a:off x="4180680" y="3979800"/>
              <a:ext cx="1010520" cy="1903320"/>
              <a:chOff x="4180680" y="3979800"/>
              <a:chExt cx="1010520" cy="1903320"/>
            </a:xfrm>
          </p:grpSpPr>
          <p:sp>
            <p:nvSpPr>
              <p:cNvPr id="1072" name="직사각형 185"/>
              <p:cNvSpPr/>
              <p:nvPr/>
            </p:nvSpPr>
            <p:spPr>
              <a:xfrm>
                <a:off x="4182480" y="3979800"/>
                <a:ext cx="100872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3" name="직사각형 186"/>
              <p:cNvSpPr/>
              <p:nvPr/>
            </p:nvSpPr>
            <p:spPr>
              <a:xfrm>
                <a:off x="4181040" y="5537160"/>
                <a:ext cx="1008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직사각형 190"/>
              <p:cNvSpPr/>
              <p:nvPr/>
            </p:nvSpPr>
            <p:spPr>
              <a:xfrm>
                <a:off x="4181040" y="4814640"/>
                <a:ext cx="1008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75" name="Group 52"/>
              <p:cNvGrpSpPr/>
              <p:nvPr/>
            </p:nvGrpSpPr>
            <p:grpSpPr>
              <a:xfrm>
                <a:off x="4180680" y="3980880"/>
                <a:ext cx="1010160" cy="456840"/>
                <a:chOff x="4180680" y="3980880"/>
                <a:chExt cx="1010160" cy="456840"/>
              </a:xfrm>
            </p:grpSpPr>
            <p:sp>
              <p:nvSpPr>
                <p:cNvPr id="1076" name="직사각형 192"/>
                <p:cNvSpPr/>
                <p:nvPr/>
              </p:nvSpPr>
              <p:spPr>
                <a:xfrm>
                  <a:off x="4180680" y="3980880"/>
                  <a:ext cx="101016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7" name="직사각형 193"/>
                <p:cNvSpPr/>
                <p:nvPr/>
              </p:nvSpPr>
              <p:spPr>
                <a:xfrm>
                  <a:off x="4180680" y="3982320"/>
                  <a:ext cx="101016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78" name="Group 55"/>
            <p:cNvGrpSpPr/>
            <p:nvPr/>
          </p:nvGrpSpPr>
          <p:grpSpPr>
            <a:xfrm>
              <a:off x="5229000" y="3979800"/>
              <a:ext cx="1010520" cy="1903320"/>
              <a:chOff x="5229000" y="3979800"/>
              <a:chExt cx="1010520" cy="1903320"/>
            </a:xfrm>
          </p:grpSpPr>
          <p:sp>
            <p:nvSpPr>
              <p:cNvPr id="1079" name="직사각형 198"/>
              <p:cNvSpPr/>
              <p:nvPr/>
            </p:nvSpPr>
            <p:spPr>
              <a:xfrm>
                <a:off x="5230800" y="3979800"/>
                <a:ext cx="100872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0" name="직사각형 199"/>
              <p:cNvSpPr/>
              <p:nvPr/>
            </p:nvSpPr>
            <p:spPr>
              <a:xfrm>
                <a:off x="5229000" y="5537160"/>
                <a:ext cx="1008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1" name="직사각형 200"/>
              <p:cNvSpPr/>
              <p:nvPr/>
            </p:nvSpPr>
            <p:spPr>
              <a:xfrm>
                <a:off x="5229000" y="4814640"/>
                <a:ext cx="100872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2" name="Group 59"/>
              <p:cNvGrpSpPr/>
              <p:nvPr/>
            </p:nvGrpSpPr>
            <p:grpSpPr>
              <a:xfrm>
                <a:off x="5229000" y="3980880"/>
                <a:ext cx="1009080" cy="456840"/>
                <a:chOff x="5229000" y="3980880"/>
                <a:chExt cx="1009080" cy="456840"/>
              </a:xfrm>
            </p:grpSpPr>
            <p:sp>
              <p:nvSpPr>
                <p:cNvPr id="1083" name="직사각형 202"/>
                <p:cNvSpPr/>
                <p:nvPr/>
              </p:nvSpPr>
              <p:spPr>
                <a:xfrm>
                  <a:off x="5229000" y="3980880"/>
                  <a:ext cx="100908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4" name="직사각형 203"/>
                <p:cNvSpPr/>
                <p:nvPr/>
              </p:nvSpPr>
              <p:spPr>
                <a:xfrm>
                  <a:off x="5229000" y="3982320"/>
                  <a:ext cx="100908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85" name="Group 62"/>
            <p:cNvGrpSpPr/>
            <p:nvPr/>
          </p:nvGrpSpPr>
          <p:grpSpPr>
            <a:xfrm>
              <a:off x="6276960" y="3979800"/>
              <a:ext cx="1010520" cy="1903320"/>
              <a:chOff x="6276960" y="3979800"/>
              <a:chExt cx="1010520" cy="1903320"/>
            </a:xfrm>
          </p:grpSpPr>
          <p:sp>
            <p:nvSpPr>
              <p:cNvPr id="1086" name="직사각형 205"/>
              <p:cNvSpPr/>
              <p:nvPr/>
            </p:nvSpPr>
            <p:spPr>
              <a:xfrm>
                <a:off x="6278400" y="3979800"/>
                <a:ext cx="100908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7" name="직사각형 206"/>
              <p:cNvSpPr/>
              <p:nvPr/>
            </p:nvSpPr>
            <p:spPr>
              <a:xfrm>
                <a:off x="6276960" y="553716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8" name="직사각형 207"/>
              <p:cNvSpPr/>
              <p:nvPr/>
            </p:nvSpPr>
            <p:spPr>
              <a:xfrm>
                <a:off x="6276960" y="481464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66"/>
              <p:cNvGrpSpPr/>
              <p:nvPr/>
            </p:nvGrpSpPr>
            <p:grpSpPr>
              <a:xfrm>
                <a:off x="6276960" y="3980880"/>
                <a:ext cx="1009080" cy="456840"/>
                <a:chOff x="6276960" y="3980880"/>
                <a:chExt cx="1009080" cy="456840"/>
              </a:xfrm>
            </p:grpSpPr>
            <p:sp>
              <p:nvSpPr>
                <p:cNvPr id="1090" name="직사각형 209"/>
                <p:cNvSpPr/>
                <p:nvPr/>
              </p:nvSpPr>
              <p:spPr>
                <a:xfrm>
                  <a:off x="6276960" y="3980880"/>
                  <a:ext cx="100908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직사각형 210"/>
                <p:cNvSpPr/>
                <p:nvPr/>
              </p:nvSpPr>
              <p:spPr>
                <a:xfrm>
                  <a:off x="6276960" y="3982320"/>
                  <a:ext cx="100908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2" name="Group 69"/>
            <p:cNvGrpSpPr/>
            <p:nvPr/>
          </p:nvGrpSpPr>
          <p:grpSpPr>
            <a:xfrm>
              <a:off x="7325280" y="3979800"/>
              <a:ext cx="1010520" cy="1903320"/>
              <a:chOff x="7325280" y="3979800"/>
              <a:chExt cx="1010520" cy="1903320"/>
            </a:xfrm>
          </p:grpSpPr>
          <p:sp>
            <p:nvSpPr>
              <p:cNvPr id="1093" name="직사각형 212"/>
              <p:cNvSpPr/>
              <p:nvPr/>
            </p:nvSpPr>
            <p:spPr>
              <a:xfrm>
                <a:off x="7326720" y="3979800"/>
                <a:ext cx="1009080" cy="1874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4" name="직사각형 213"/>
              <p:cNvSpPr/>
              <p:nvPr/>
            </p:nvSpPr>
            <p:spPr>
              <a:xfrm>
                <a:off x="7325280" y="553716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5" name="직사각형 214"/>
              <p:cNvSpPr/>
              <p:nvPr/>
            </p:nvSpPr>
            <p:spPr>
              <a:xfrm>
                <a:off x="7325280" y="4814640"/>
                <a:ext cx="1009080" cy="345960"/>
              </a:xfrm>
              <a:prstGeom prst="rect">
                <a:avLst/>
              </a:prstGeom>
              <a:solidFill>
                <a:srgbClr val="66cc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6" name="Group 73"/>
              <p:cNvGrpSpPr/>
              <p:nvPr/>
            </p:nvGrpSpPr>
            <p:grpSpPr>
              <a:xfrm>
                <a:off x="7325640" y="3980880"/>
                <a:ext cx="1009080" cy="456840"/>
                <a:chOff x="7325640" y="3980880"/>
                <a:chExt cx="1009080" cy="456840"/>
              </a:xfrm>
            </p:grpSpPr>
            <p:sp>
              <p:nvSpPr>
                <p:cNvPr id="1097" name="직사각형 216"/>
                <p:cNvSpPr/>
                <p:nvPr/>
              </p:nvSpPr>
              <p:spPr>
                <a:xfrm>
                  <a:off x="7325640" y="3980880"/>
                  <a:ext cx="100908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8" name="직사각형 217"/>
                <p:cNvSpPr/>
                <p:nvPr/>
              </p:nvSpPr>
              <p:spPr>
                <a:xfrm>
                  <a:off x="7325640" y="3982320"/>
                  <a:ext cx="100908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099" name="TextBox 226"/>
          <p:cNvSpPr/>
          <p:nvPr/>
        </p:nvSpPr>
        <p:spPr>
          <a:xfrm>
            <a:off x="3341160" y="4481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0" name="TextBox 227"/>
          <p:cNvSpPr/>
          <p:nvPr/>
        </p:nvSpPr>
        <p:spPr>
          <a:xfrm>
            <a:off x="3341160" y="483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1" name="TextBox 228"/>
          <p:cNvSpPr/>
          <p:nvPr/>
        </p:nvSpPr>
        <p:spPr>
          <a:xfrm>
            <a:off x="3341160" y="520056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2" name="TextBox 229"/>
          <p:cNvSpPr/>
          <p:nvPr/>
        </p:nvSpPr>
        <p:spPr>
          <a:xfrm>
            <a:off x="3341160" y="556092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3" name="TextBox 232"/>
          <p:cNvSpPr/>
          <p:nvPr/>
        </p:nvSpPr>
        <p:spPr>
          <a:xfrm>
            <a:off x="4393080" y="4481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4" name="TextBox 233"/>
          <p:cNvSpPr/>
          <p:nvPr/>
        </p:nvSpPr>
        <p:spPr>
          <a:xfrm>
            <a:off x="4393080" y="483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5" name="TextBox 234"/>
          <p:cNvSpPr/>
          <p:nvPr/>
        </p:nvSpPr>
        <p:spPr>
          <a:xfrm>
            <a:off x="4393080" y="520056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6" name="TextBox 235"/>
          <p:cNvSpPr/>
          <p:nvPr/>
        </p:nvSpPr>
        <p:spPr>
          <a:xfrm>
            <a:off x="4393080" y="556092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7" name="TextBox 237"/>
          <p:cNvSpPr/>
          <p:nvPr/>
        </p:nvSpPr>
        <p:spPr>
          <a:xfrm>
            <a:off x="5455080" y="4481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8" name="TextBox 238"/>
          <p:cNvSpPr/>
          <p:nvPr/>
        </p:nvSpPr>
        <p:spPr>
          <a:xfrm>
            <a:off x="5455080" y="483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09" name="TextBox 239"/>
          <p:cNvSpPr/>
          <p:nvPr/>
        </p:nvSpPr>
        <p:spPr>
          <a:xfrm>
            <a:off x="5455080" y="520056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0" name="TextBox 240"/>
          <p:cNvSpPr/>
          <p:nvPr/>
        </p:nvSpPr>
        <p:spPr>
          <a:xfrm>
            <a:off x="5455080" y="556092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1" name="TextBox 242"/>
          <p:cNvSpPr/>
          <p:nvPr/>
        </p:nvSpPr>
        <p:spPr>
          <a:xfrm>
            <a:off x="6496560" y="4481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2" name="TextBox 243"/>
          <p:cNvSpPr/>
          <p:nvPr/>
        </p:nvSpPr>
        <p:spPr>
          <a:xfrm>
            <a:off x="6496560" y="483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3" name="TextBox 244"/>
          <p:cNvSpPr/>
          <p:nvPr/>
        </p:nvSpPr>
        <p:spPr>
          <a:xfrm>
            <a:off x="6496560" y="520056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4" name="TextBox 245"/>
          <p:cNvSpPr/>
          <p:nvPr/>
        </p:nvSpPr>
        <p:spPr>
          <a:xfrm>
            <a:off x="6496560" y="556092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5" name="TextBox 247"/>
          <p:cNvSpPr/>
          <p:nvPr/>
        </p:nvSpPr>
        <p:spPr>
          <a:xfrm>
            <a:off x="7548120" y="4481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6" name="TextBox 248"/>
          <p:cNvSpPr/>
          <p:nvPr/>
        </p:nvSpPr>
        <p:spPr>
          <a:xfrm>
            <a:off x="7548120" y="483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7" name="TextBox 249"/>
          <p:cNvSpPr/>
          <p:nvPr/>
        </p:nvSpPr>
        <p:spPr>
          <a:xfrm>
            <a:off x="7548120" y="520056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8" name="TextBox 250"/>
          <p:cNvSpPr/>
          <p:nvPr/>
        </p:nvSpPr>
        <p:spPr>
          <a:xfrm>
            <a:off x="7548120" y="556092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119" name="TextBox 251"/>
          <p:cNvSpPr/>
          <p:nvPr/>
        </p:nvSpPr>
        <p:spPr>
          <a:xfrm>
            <a:off x="3339720" y="4049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1120" name="TextBox 252"/>
          <p:cNvSpPr/>
          <p:nvPr/>
        </p:nvSpPr>
        <p:spPr>
          <a:xfrm>
            <a:off x="4391640" y="4049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1121" name="TextBox 253"/>
          <p:cNvSpPr/>
          <p:nvPr/>
        </p:nvSpPr>
        <p:spPr>
          <a:xfrm>
            <a:off x="5452560" y="4049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1122" name="TextBox 254"/>
          <p:cNvSpPr/>
          <p:nvPr/>
        </p:nvSpPr>
        <p:spPr>
          <a:xfrm>
            <a:off x="6494760" y="4049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1123" name="TextBox 255"/>
          <p:cNvSpPr/>
          <p:nvPr/>
        </p:nvSpPr>
        <p:spPr>
          <a:xfrm>
            <a:off x="7546680" y="4049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TEXT</a:t>
            </a:r>
            <a:endParaRPr b="0" lang="en-US" sz="1400" spc="-1" strike="noStrike">
              <a:solidFill>
                <a:srgbClr val="000000"/>
              </a:solidFill>
              <a:latin typeface="Gulim"/>
            </a:endParaRPr>
          </a:p>
        </p:txBody>
      </p:sp>
      <p:sp>
        <p:nvSpPr>
          <p:cNvPr id="1124" name="TextBox 256"/>
          <p:cNvSpPr/>
          <p:nvPr/>
        </p:nvSpPr>
        <p:spPr>
          <a:xfrm>
            <a:off x="1038240" y="403056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Y견고딕"/>
                <a:ea typeface="HY견고딕"/>
              </a:rPr>
              <a:t>CLICK TO ADD TEXT</a:t>
            </a:r>
            <a:endParaRPr b="0" lang="en-US" sz="1400" spc="-1" strike="noStrike">
              <a:solidFill>
                <a:srgbClr val="000000"/>
              </a:solidFill>
              <a:latin typeface="Gulim"/>
            </a:endParaRPr>
          </a:p>
        </p:txBody>
      </p:sp>
      <p:sp>
        <p:nvSpPr>
          <p:cNvPr id="1125" name="TextBox 257"/>
          <p:cNvSpPr/>
          <p:nvPr/>
        </p:nvSpPr>
        <p:spPr>
          <a:xfrm>
            <a:off x="1038240" y="446868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CLICK TO ADD TEXT</a:t>
            </a:r>
            <a:endParaRPr b="0" lang="en-US" sz="1400" spc="-1" strike="noStrike">
              <a:solidFill>
                <a:srgbClr val="000000"/>
              </a:solidFill>
              <a:latin typeface="Gulim"/>
            </a:endParaRPr>
          </a:p>
        </p:txBody>
      </p:sp>
      <p:sp>
        <p:nvSpPr>
          <p:cNvPr id="1126" name="TextBox 258"/>
          <p:cNvSpPr/>
          <p:nvPr/>
        </p:nvSpPr>
        <p:spPr>
          <a:xfrm>
            <a:off x="1038240" y="482616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CLICK TO ADD TEXT</a:t>
            </a:r>
            <a:endParaRPr b="0" lang="en-US" sz="1400" spc="-1" strike="noStrike">
              <a:solidFill>
                <a:srgbClr val="000000"/>
              </a:solidFill>
              <a:latin typeface="Gulim"/>
            </a:endParaRPr>
          </a:p>
        </p:txBody>
      </p:sp>
      <p:sp>
        <p:nvSpPr>
          <p:cNvPr id="1127" name="TextBox 259"/>
          <p:cNvSpPr/>
          <p:nvPr/>
        </p:nvSpPr>
        <p:spPr>
          <a:xfrm>
            <a:off x="1038240" y="518328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CLICK TO ADD TEXT</a:t>
            </a:r>
            <a:endParaRPr b="0" lang="en-US" sz="1400" spc="-1" strike="noStrike">
              <a:solidFill>
                <a:srgbClr val="000000"/>
              </a:solidFill>
              <a:latin typeface="Gulim"/>
            </a:endParaRPr>
          </a:p>
        </p:txBody>
      </p:sp>
      <p:sp>
        <p:nvSpPr>
          <p:cNvPr id="1128" name="TextBox 260"/>
          <p:cNvSpPr/>
          <p:nvPr/>
        </p:nvSpPr>
        <p:spPr>
          <a:xfrm>
            <a:off x="1038240" y="555948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CLICK TO ADD TEXT</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130"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131"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1132" name="Group 5"/>
          <p:cNvGrpSpPr/>
          <p:nvPr/>
        </p:nvGrpSpPr>
        <p:grpSpPr>
          <a:xfrm>
            <a:off x="461880" y="1558800"/>
            <a:ext cx="5381640" cy="4523040"/>
            <a:chOff x="461880" y="1558800"/>
            <a:chExt cx="5381640" cy="4523040"/>
          </a:xfrm>
        </p:grpSpPr>
        <p:sp>
          <p:nvSpPr>
            <p:cNvPr id="1133" name="직사각형 34"/>
            <p:cNvSpPr/>
            <p:nvPr/>
          </p:nvSpPr>
          <p:spPr>
            <a:xfrm>
              <a:off x="461880" y="1558800"/>
              <a:ext cx="5381640" cy="452304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직사각형 26"/>
            <p:cNvSpPr/>
            <p:nvPr/>
          </p:nvSpPr>
          <p:spPr>
            <a:xfrm>
              <a:off x="533160" y="1628640"/>
              <a:ext cx="5234040" cy="437868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5" name="TextBox 50"/>
          <p:cNvSpPr/>
          <p:nvPr/>
        </p:nvSpPr>
        <p:spPr>
          <a:xfrm>
            <a:off x="657360" y="1774800"/>
            <a:ext cx="28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HY견고딕"/>
              </a:rPr>
              <a:t>ASADAL INTERNET, INC.</a:t>
            </a:r>
            <a:endParaRPr b="0" lang="en-US" sz="1600" spc="-1" strike="noStrike">
              <a:solidFill>
                <a:srgbClr val="000000"/>
              </a:solidFill>
              <a:latin typeface="Gulim"/>
            </a:endParaRPr>
          </a:p>
        </p:txBody>
      </p:sp>
      <p:grpSp>
        <p:nvGrpSpPr>
          <p:cNvPr id="1136" name="Group 9"/>
          <p:cNvGrpSpPr/>
          <p:nvPr/>
        </p:nvGrpSpPr>
        <p:grpSpPr>
          <a:xfrm>
            <a:off x="623880" y="2214720"/>
            <a:ext cx="5052960" cy="3711240"/>
            <a:chOff x="623880" y="2214720"/>
            <a:chExt cx="5052960" cy="3711240"/>
          </a:xfrm>
        </p:grpSpPr>
        <p:sp>
          <p:nvSpPr>
            <p:cNvPr id="1137" name="직사각형 29"/>
            <p:cNvSpPr/>
            <p:nvPr/>
          </p:nvSpPr>
          <p:spPr>
            <a:xfrm>
              <a:off x="623880" y="2214720"/>
              <a:ext cx="5052960" cy="3711240"/>
            </a:xfrm>
            <a:prstGeom prst="rect">
              <a:avLst/>
            </a:prstGeom>
            <a:solidFill>
              <a:srgbClr val="fffff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8" name="직사각형 57"/>
            <p:cNvSpPr/>
            <p:nvPr/>
          </p:nvSpPr>
          <p:spPr>
            <a:xfrm>
              <a:off x="693720" y="2284560"/>
              <a:ext cx="4913280" cy="357156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9" name="TextBox 60"/>
          <p:cNvSpPr/>
          <p:nvPr/>
        </p:nvSpPr>
        <p:spPr>
          <a:xfrm>
            <a:off x="747720" y="2341440"/>
            <a:ext cx="484812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started its business in Seoul Korea in February 1998 with the fundamental</a:t>
            </a:r>
            <a:br>
              <a:rPr sz="1100"/>
            </a:br>
            <a:r>
              <a:rPr b="0" lang="en-US" sz="1100" spc="-1" strike="noStrike">
                <a:solidFill>
                  <a:srgbClr val="7f7f7f"/>
                </a:solidFill>
                <a:latin typeface="Arial"/>
                <a:ea typeface="HY견고딕"/>
              </a:rPr>
              <a:t>goal of providing better internet services to the world. started its business </a:t>
            </a:r>
            <a:br>
              <a:rPr sz="1100"/>
            </a:br>
            <a:r>
              <a:rPr b="0" lang="en-US" sz="1100" spc="-1" strike="noStrike">
                <a:solidFill>
                  <a:srgbClr val="7f7f7f"/>
                </a:solidFill>
                <a:latin typeface="Arial"/>
                <a:ea typeface="HY견고딕"/>
              </a:rPr>
              <a:t>in Seoul Korea in February 1998 with the fundamental goal of providing </a:t>
            </a:r>
            <a:br>
              <a:rPr sz="1100"/>
            </a:br>
            <a:r>
              <a:rPr b="0" lang="en-US" sz="1100" spc="-1" strike="noStrike">
                <a:solidFill>
                  <a:srgbClr val="7f7f7f"/>
                </a:solidFill>
                <a:latin typeface="Arial"/>
                <a:ea typeface="HY견고딕"/>
              </a:rPr>
              <a:t>better internet services to the world.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started its business in Seoul Korea in February 1998 with the fundamental</a:t>
            </a:r>
            <a:br>
              <a:rPr sz="1100"/>
            </a:br>
            <a:r>
              <a:rPr b="0" lang="en-US" sz="1100" spc="-1" strike="noStrike">
                <a:solidFill>
                  <a:srgbClr val="7f7f7f"/>
                </a:solidFill>
                <a:latin typeface="Arial"/>
                <a:ea typeface="HY견고딕"/>
              </a:rPr>
              <a:t>goal of providing better internet services to the world. started its business </a:t>
            </a:r>
            <a:br>
              <a:rPr sz="1100"/>
            </a:br>
            <a:r>
              <a:rPr b="0" lang="en-US" sz="1100" spc="-1" strike="noStrike">
                <a:solidFill>
                  <a:srgbClr val="7f7f7f"/>
                </a:solidFill>
                <a:latin typeface="Arial"/>
                <a:ea typeface="HY견고딕"/>
              </a:rPr>
              <a:t>in Seoul Korea in February 1998 with the fundamental goal of providing </a:t>
            </a:r>
            <a:br>
              <a:rPr sz="1100"/>
            </a:br>
            <a:r>
              <a:rPr b="0" lang="en-US" sz="1100" spc="-1" strike="noStrike">
                <a:solidFill>
                  <a:srgbClr val="7f7f7f"/>
                </a:solidFill>
                <a:latin typeface="Arial"/>
                <a:ea typeface="HY견고딕"/>
              </a:rPr>
              <a:t>better internet services to the world.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started its business in Seoul Korea in February 1998 with the fundamental</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goal of providing better internet services to the world. started its business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in Seoul Korea in February 1998 with the fundamental goal of providing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better internet services to the world.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started its business in Seoul Korea in</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February 1998 with the Fundamental</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goal of providing better internet services</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to the world.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started its business in Seoul Korea in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February 1998 with the fundamental</a:t>
            </a:r>
            <a:br>
              <a:rPr sz="1100"/>
            </a:br>
            <a:r>
              <a:rPr b="0" lang="en-US" sz="1100" spc="-1" strike="noStrike">
                <a:solidFill>
                  <a:srgbClr val="7f7f7f"/>
                </a:solidFill>
                <a:latin typeface="Arial"/>
                <a:ea typeface="HY견고딕"/>
              </a:rPr>
              <a:t>goal of providing better internet services</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HY견고딕"/>
              </a:rPr>
              <a:t>to the world. </a:t>
            </a:r>
            <a:endParaRPr b="0" lang="en-US" sz="1100" spc="-1" strike="noStrike">
              <a:solidFill>
                <a:srgbClr val="000000"/>
              </a:solidFill>
              <a:latin typeface="Gulim"/>
            </a:endParaRPr>
          </a:p>
        </p:txBody>
      </p:sp>
      <p:grpSp>
        <p:nvGrpSpPr>
          <p:cNvPr id="1140" name="Group 13"/>
          <p:cNvGrpSpPr/>
          <p:nvPr/>
        </p:nvGrpSpPr>
        <p:grpSpPr>
          <a:xfrm>
            <a:off x="6024600" y="1581120"/>
            <a:ext cx="2643120" cy="2209680"/>
            <a:chOff x="6024600" y="1581120"/>
            <a:chExt cx="2643120" cy="2209680"/>
          </a:xfrm>
        </p:grpSpPr>
        <p:sp>
          <p:nvSpPr>
            <p:cNvPr id="1141" name="직사각형 40"/>
            <p:cNvSpPr/>
            <p:nvPr/>
          </p:nvSpPr>
          <p:spPr>
            <a:xfrm>
              <a:off x="6024600" y="1581120"/>
              <a:ext cx="2643120" cy="2209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2" name="직사각형 42"/>
            <p:cNvSpPr/>
            <p:nvPr/>
          </p:nvSpPr>
          <p:spPr>
            <a:xfrm>
              <a:off x="6095880" y="1650960"/>
              <a:ext cx="2500560" cy="207648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143" name="그림 48" descr="w_j.jpg"/>
          <p:cNvPicPr/>
          <p:nvPr/>
        </p:nvPicPr>
        <p:blipFill>
          <a:blip r:embed="rId1"/>
          <a:stretch/>
        </p:blipFill>
        <p:spPr>
          <a:xfrm>
            <a:off x="6170760" y="1727280"/>
            <a:ext cx="2330280" cy="1716120"/>
          </a:xfrm>
          <a:prstGeom prst="rect">
            <a:avLst/>
          </a:prstGeom>
          <a:ln w="0">
            <a:noFill/>
          </a:ln>
        </p:spPr>
      </p:pic>
      <p:grpSp>
        <p:nvGrpSpPr>
          <p:cNvPr id="1144" name="Group 17"/>
          <p:cNvGrpSpPr/>
          <p:nvPr/>
        </p:nvGrpSpPr>
        <p:grpSpPr>
          <a:xfrm>
            <a:off x="6024600" y="3867120"/>
            <a:ext cx="2643120" cy="2209680"/>
            <a:chOff x="6024600" y="3867120"/>
            <a:chExt cx="2643120" cy="2209680"/>
          </a:xfrm>
        </p:grpSpPr>
        <p:sp>
          <p:nvSpPr>
            <p:cNvPr id="1145" name="직사각형 55"/>
            <p:cNvSpPr/>
            <p:nvPr/>
          </p:nvSpPr>
          <p:spPr>
            <a:xfrm>
              <a:off x="6024600" y="3867120"/>
              <a:ext cx="2643120" cy="22096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직사각형 58"/>
            <p:cNvSpPr/>
            <p:nvPr/>
          </p:nvSpPr>
          <p:spPr>
            <a:xfrm>
              <a:off x="6095880" y="3936960"/>
              <a:ext cx="2500560" cy="207648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7" name="TextBox 59"/>
          <p:cNvSpPr/>
          <p:nvPr/>
        </p:nvSpPr>
        <p:spPr>
          <a:xfrm>
            <a:off x="6672600" y="345924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pic>
        <p:nvPicPr>
          <p:cNvPr id="1148" name="그림 68" descr="ah_20080731_15400.jpg"/>
          <p:cNvPicPr/>
          <p:nvPr/>
        </p:nvPicPr>
        <p:blipFill>
          <a:blip r:embed="rId2"/>
          <a:stretch/>
        </p:blipFill>
        <p:spPr>
          <a:xfrm>
            <a:off x="6176880" y="4030560"/>
            <a:ext cx="2338560" cy="1693800"/>
          </a:xfrm>
          <a:prstGeom prst="rect">
            <a:avLst/>
          </a:prstGeom>
          <a:ln w="0">
            <a:noFill/>
          </a:ln>
        </p:spPr>
      </p:pic>
      <p:sp>
        <p:nvSpPr>
          <p:cNvPr id="1149" name="TextBox 70"/>
          <p:cNvSpPr/>
          <p:nvPr/>
        </p:nvSpPr>
        <p:spPr>
          <a:xfrm>
            <a:off x="6675120" y="574524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grpSp>
        <p:nvGrpSpPr>
          <p:cNvPr id="1150" name="Group 23"/>
          <p:cNvGrpSpPr/>
          <p:nvPr/>
        </p:nvGrpSpPr>
        <p:grpSpPr>
          <a:xfrm>
            <a:off x="3394080" y="4324320"/>
            <a:ext cx="2077920" cy="1419120"/>
            <a:chOff x="3394080" y="4324320"/>
            <a:chExt cx="2077920" cy="1419120"/>
          </a:xfrm>
        </p:grpSpPr>
        <p:sp>
          <p:nvSpPr>
            <p:cNvPr id="1151" name="직사각형 41"/>
            <p:cNvSpPr/>
            <p:nvPr/>
          </p:nvSpPr>
          <p:spPr>
            <a:xfrm>
              <a:off x="3394080" y="4324320"/>
              <a:ext cx="2077920" cy="141912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152" name="그림 28" descr="wy1.jpg"/>
            <p:cNvPicPr/>
            <p:nvPr/>
          </p:nvPicPr>
          <p:blipFill>
            <a:blip r:embed="rId3"/>
            <a:stretch/>
          </p:blipFill>
          <p:spPr>
            <a:xfrm>
              <a:off x="3465000" y="4398120"/>
              <a:ext cx="1936080" cy="12711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154"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155"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1156" name="Group 5"/>
          <p:cNvGrpSpPr/>
          <p:nvPr/>
        </p:nvGrpSpPr>
        <p:grpSpPr>
          <a:xfrm>
            <a:off x="782640" y="1590840"/>
            <a:ext cx="3611520" cy="4495680"/>
            <a:chOff x="782640" y="1590840"/>
            <a:chExt cx="3611520" cy="4495680"/>
          </a:xfrm>
        </p:grpSpPr>
        <p:sp>
          <p:nvSpPr>
            <p:cNvPr id="1157" name="타원 26"/>
            <p:cNvSpPr/>
            <p:nvPr/>
          </p:nvSpPr>
          <p:spPr>
            <a:xfrm>
              <a:off x="1774800" y="1590840"/>
              <a:ext cx="1627200" cy="1625400"/>
            </a:xfrm>
            <a:prstGeom prst="ellipse">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직사각형 30"/>
            <p:cNvSpPr/>
            <p:nvPr/>
          </p:nvSpPr>
          <p:spPr>
            <a:xfrm>
              <a:off x="782640" y="2305080"/>
              <a:ext cx="3611520" cy="3781440"/>
            </a:xfrm>
            <a:prstGeom prst="rect">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9" name="직사각형 31"/>
            <p:cNvSpPr/>
            <p:nvPr/>
          </p:nvSpPr>
          <p:spPr>
            <a:xfrm>
              <a:off x="879480" y="2390760"/>
              <a:ext cx="3417840" cy="3614760"/>
            </a:xfrm>
            <a:prstGeom prst="rect">
              <a:avLst/>
            </a:prstGeom>
            <a:solidFill>
              <a:srgbClr val="00acee"/>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0" name="타원 27"/>
            <p:cNvSpPr/>
            <p:nvPr/>
          </p:nvSpPr>
          <p:spPr>
            <a:xfrm>
              <a:off x="1868400" y="1684440"/>
              <a:ext cx="1439640" cy="143964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1" name="타원 25"/>
            <p:cNvSpPr/>
            <p:nvPr/>
          </p:nvSpPr>
          <p:spPr>
            <a:xfrm>
              <a:off x="2068560" y="1884240"/>
              <a:ext cx="1039680" cy="1039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직사각형 54"/>
            <p:cNvSpPr/>
            <p:nvPr/>
          </p:nvSpPr>
          <p:spPr>
            <a:xfrm>
              <a:off x="984240" y="2500200"/>
              <a:ext cx="3208320" cy="33955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3" name="도넛 55"/>
            <p:cNvSpPr/>
            <p:nvPr/>
          </p:nvSpPr>
          <p:spPr>
            <a:xfrm>
              <a:off x="1844640" y="1660680"/>
              <a:ext cx="1487520" cy="1487520"/>
            </a:xfrm>
            <a:custGeom>
              <a:avLst/>
              <a:gdLst>
                <a:gd name="textAreaLeft" fmla="*/ 217800 w 1487520"/>
                <a:gd name="textAreaRight" fmla="*/ 1269720 w 1487520"/>
                <a:gd name="textAreaTop" fmla="*/ 217800 h 1487520"/>
                <a:gd name="textAreaBottom" fmla="*/ 1269720 h 1487520"/>
              </a:gdLst>
              <a:ahLst/>
              <a:rect l="textAreaLeft" t="textAreaTop" r="textAreaRight" b="textAreaBottom"/>
              <a:pathLst>
                <a:path w="1487605" h="1487590">
                  <a:moveTo>
                    <a:pt x="0" y="743795"/>
                  </a:moveTo>
                  <a:lnTo>
                    <a:pt x="0" y="743795"/>
                  </a:lnTo>
                  <a:cubicBezTo>
                    <a:pt x="0" y="333008"/>
                    <a:pt x="333012" y="1"/>
                    <a:pt x="743803" y="1"/>
                  </a:cubicBezTo>
                  <a:cubicBezTo>
                    <a:pt x="743803" y="1"/>
                    <a:pt x="743803" y="1"/>
                    <a:pt x="743803" y="1"/>
                  </a:cubicBezTo>
                  <a:cubicBezTo>
                    <a:pt x="1154594" y="1"/>
                    <a:pt x="1487606" y="333009"/>
                    <a:pt x="1487606" y="743796"/>
                  </a:cubicBezTo>
                  <a:cubicBezTo>
                    <a:pt x="1487606" y="743796"/>
                    <a:pt x="1487605" y="743796"/>
                    <a:pt x="1487605" y="743797"/>
                  </a:cubicBezTo>
                  <a:lnTo>
                    <a:pt x="1487606" y="743797"/>
                  </a:lnTo>
                  <a:cubicBezTo>
                    <a:pt x="1487606" y="1154583"/>
                    <a:pt x="1154594" y="1487592"/>
                    <a:pt x="743803" y="1487592"/>
                  </a:cubicBezTo>
                  <a:cubicBezTo>
                    <a:pt x="333011" y="1487592"/>
                    <a:pt x="0" y="1154583"/>
                    <a:pt x="0" y="743797"/>
                  </a:cubicBezTo>
                  <a:cubicBezTo>
                    <a:pt x="0" y="743796"/>
                    <a:pt x="0" y="743796"/>
                    <a:pt x="0" y="743796"/>
                  </a:cubicBezTo>
                  <a:lnTo>
                    <a:pt x="0" y="743795"/>
                  </a:lnTo>
                  <a:close/>
                  <a:moveTo>
                    <a:pt x="151764" y="743795"/>
                  </a:moveTo>
                  <a:lnTo>
                    <a:pt x="151764" y="743795"/>
                  </a:lnTo>
                  <a:cubicBezTo>
                    <a:pt x="151764" y="743795"/>
                    <a:pt x="151764" y="743795"/>
                    <a:pt x="151764" y="743795"/>
                  </a:cubicBezTo>
                  <a:cubicBezTo>
                    <a:pt x="151764" y="1070765"/>
                    <a:pt x="416828" y="1335826"/>
                    <a:pt x="743801" y="1335826"/>
                  </a:cubicBezTo>
                  <a:lnTo>
                    <a:pt x="743802" y="1335827"/>
                  </a:lnTo>
                  <a:cubicBezTo>
                    <a:pt x="1070776" y="1335827"/>
                    <a:pt x="1335841" y="1070765"/>
                    <a:pt x="1335841" y="743796"/>
                  </a:cubicBezTo>
                  <a:cubicBezTo>
                    <a:pt x="1335841" y="416826"/>
                    <a:pt x="1070776" y="151765"/>
                    <a:pt x="743802" y="151765"/>
                  </a:cubicBezTo>
                  <a:lnTo>
                    <a:pt x="743801" y="151765"/>
                  </a:lnTo>
                  <a:cubicBezTo>
                    <a:pt x="743801" y="151765"/>
                    <a:pt x="743801" y="151765"/>
                    <a:pt x="743801" y="151765"/>
                  </a:cubicBezTo>
                  <a:cubicBezTo>
                    <a:pt x="416827" y="151765"/>
                    <a:pt x="151762" y="416825"/>
                    <a:pt x="151762" y="743795"/>
                  </a:cubicBezTo>
                  <a:lnTo>
                    <a:pt x="151764" y="743795"/>
                  </a:ln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164" name="TextBox 42"/>
          <p:cNvSpPr/>
          <p:nvPr/>
        </p:nvSpPr>
        <p:spPr>
          <a:xfrm>
            <a:off x="2211480" y="22096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cee"/>
                </a:solidFill>
                <a:latin typeface="HY견고딕"/>
                <a:ea typeface="HY견고딕"/>
              </a:rPr>
              <a:t>TEXT</a:t>
            </a:r>
            <a:endParaRPr b="0" lang="en-US" sz="2000" spc="-1" strike="noStrike">
              <a:solidFill>
                <a:srgbClr val="000000"/>
              </a:solidFill>
              <a:latin typeface="Gulim"/>
            </a:endParaRPr>
          </a:p>
        </p:txBody>
      </p:sp>
      <p:sp>
        <p:nvSpPr>
          <p:cNvPr id="1165" name="TextBox 39"/>
          <p:cNvSpPr/>
          <p:nvPr/>
        </p:nvSpPr>
        <p:spPr>
          <a:xfrm>
            <a:off x="1025640" y="3300480"/>
            <a:ext cx="3214440" cy="25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ea typeface="HY견고딕"/>
              </a:rPr>
              <a:t>ASADAL INTERNET, INC.</a:t>
            </a:r>
            <a:endParaRPr b="0" lang="en-US" sz="1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1166" name="Group 15"/>
          <p:cNvGrpSpPr/>
          <p:nvPr/>
        </p:nvGrpSpPr>
        <p:grpSpPr>
          <a:xfrm>
            <a:off x="4746600" y="1590840"/>
            <a:ext cx="3611520" cy="4495680"/>
            <a:chOff x="4746600" y="1590840"/>
            <a:chExt cx="3611520" cy="4495680"/>
          </a:xfrm>
        </p:grpSpPr>
        <p:sp>
          <p:nvSpPr>
            <p:cNvPr id="1167" name="타원 62"/>
            <p:cNvSpPr/>
            <p:nvPr/>
          </p:nvSpPr>
          <p:spPr>
            <a:xfrm>
              <a:off x="5738760" y="1590840"/>
              <a:ext cx="1627200" cy="1625400"/>
            </a:xfrm>
            <a:prstGeom prst="ellipse">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8" name="직사각형 63"/>
            <p:cNvSpPr/>
            <p:nvPr/>
          </p:nvSpPr>
          <p:spPr>
            <a:xfrm>
              <a:off x="4746600" y="2305080"/>
              <a:ext cx="3611520" cy="3781440"/>
            </a:xfrm>
            <a:prstGeom prst="rect">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직사각형 64"/>
            <p:cNvSpPr/>
            <p:nvPr/>
          </p:nvSpPr>
          <p:spPr>
            <a:xfrm>
              <a:off x="4843440" y="2390760"/>
              <a:ext cx="3417840" cy="3614760"/>
            </a:xfrm>
            <a:prstGeom prst="rect">
              <a:avLst/>
            </a:prstGeom>
            <a:solidFill>
              <a:srgbClr val="0053a7"/>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타원 65"/>
            <p:cNvSpPr/>
            <p:nvPr/>
          </p:nvSpPr>
          <p:spPr>
            <a:xfrm>
              <a:off x="5832360" y="1684440"/>
              <a:ext cx="1439640" cy="143964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1" name="타원 66"/>
            <p:cNvSpPr/>
            <p:nvPr/>
          </p:nvSpPr>
          <p:spPr>
            <a:xfrm>
              <a:off x="6032520" y="1884240"/>
              <a:ext cx="1039680" cy="10396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2" name="직사각형 67"/>
            <p:cNvSpPr/>
            <p:nvPr/>
          </p:nvSpPr>
          <p:spPr>
            <a:xfrm>
              <a:off x="4948200" y="2500200"/>
              <a:ext cx="3208320" cy="33955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3" name="도넛 68"/>
            <p:cNvSpPr/>
            <p:nvPr/>
          </p:nvSpPr>
          <p:spPr>
            <a:xfrm>
              <a:off x="5808600" y="1660680"/>
              <a:ext cx="1487520" cy="1487520"/>
            </a:xfrm>
            <a:custGeom>
              <a:avLst/>
              <a:gdLst>
                <a:gd name="textAreaLeft" fmla="*/ 217800 w 1487520"/>
                <a:gd name="textAreaRight" fmla="*/ 1269720 w 1487520"/>
                <a:gd name="textAreaTop" fmla="*/ 217800 h 1487520"/>
                <a:gd name="textAreaBottom" fmla="*/ 1269720 h 1487520"/>
              </a:gdLst>
              <a:ahLst/>
              <a:rect l="textAreaLeft" t="textAreaTop" r="textAreaRight" b="textAreaBottom"/>
              <a:pathLst>
                <a:path w="1487604" h="1487590">
                  <a:moveTo>
                    <a:pt x="0" y="743795"/>
                  </a:moveTo>
                  <a:lnTo>
                    <a:pt x="0" y="743795"/>
                  </a:lnTo>
                  <a:cubicBezTo>
                    <a:pt x="0" y="333008"/>
                    <a:pt x="333011" y="1"/>
                    <a:pt x="743802" y="1"/>
                  </a:cubicBezTo>
                  <a:cubicBezTo>
                    <a:pt x="743802" y="1"/>
                    <a:pt x="743802" y="1"/>
                    <a:pt x="743803" y="1"/>
                  </a:cubicBezTo>
                  <a:cubicBezTo>
                    <a:pt x="1154593" y="1"/>
                    <a:pt x="1487604" y="333009"/>
                    <a:pt x="1487604" y="743796"/>
                  </a:cubicBezTo>
                  <a:cubicBezTo>
                    <a:pt x="1487604" y="743796"/>
                    <a:pt x="1487603" y="743796"/>
                    <a:pt x="1487603" y="743797"/>
                  </a:cubicBezTo>
                  <a:lnTo>
                    <a:pt x="1487604" y="743797"/>
                  </a:lnTo>
                  <a:cubicBezTo>
                    <a:pt x="1487604" y="1154583"/>
                    <a:pt x="1154592" y="1487592"/>
                    <a:pt x="743802" y="1487592"/>
                  </a:cubicBezTo>
                  <a:cubicBezTo>
                    <a:pt x="333011" y="1487592"/>
                    <a:pt x="0" y="1154583"/>
                    <a:pt x="0" y="743797"/>
                  </a:cubicBezTo>
                  <a:cubicBezTo>
                    <a:pt x="0" y="743796"/>
                    <a:pt x="0" y="743796"/>
                    <a:pt x="0" y="743796"/>
                  </a:cubicBezTo>
                  <a:lnTo>
                    <a:pt x="0" y="743795"/>
                  </a:lnTo>
                  <a:close/>
                  <a:moveTo>
                    <a:pt x="151764" y="743795"/>
                  </a:moveTo>
                  <a:lnTo>
                    <a:pt x="151764" y="743795"/>
                  </a:lnTo>
                  <a:cubicBezTo>
                    <a:pt x="151764" y="743795"/>
                    <a:pt x="151764" y="743795"/>
                    <a:pt x="151764" y="743795"/>
                  </a:cubicBezTo>
                  <a:cubicBezTo>
                    <a:pt x="151764" y="1070765"/>
                    <a:pt x="416827" y="1335826"/>
                    <a:pt x="743800" y="1335826"/>
                  </a:cubicBezTo>
                  <a:lnTo>
                    <a:pt x="743801" y="1335827"/>
                  </a:lnTo>
                  <a:cubicBezTo>
                    <a:pt x="1070774" y="1335827"/>
                    <a:pt x="1335839" y="1070765"/>
                    <a:pt x="1335839" y="743796"/>
                  </a:cubicBezTo>
                  <a:cubicBezTo>
                    <a:pt x="1335839" y="416826"/>
                    <a:pt x="1070774" y="151765"/>
                    <a:pt x="743801" y="151765"/>
                  </a:cubicBezTo>
                  <a:cubicBezTo>
                    <a:pt x="743800" y="151765"/>
                    <a:pt x="743800" y="151765"/>
                    <a:pt x="743800" y="151765"/>
                  </a:cubicBezTo>
                  <a:cubicBezTo>
                    <a:pt x="416826" y="151765"/>
                    <a:pt x="151762" y="416825"/>
                    <a:pt x="151762" y="743795"/>
                  </a:cubicBezTo>
                  <a:lnTo>
                    <a:pt x="151764" y="743795"/>
                  </a:ln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174" name="TextBox 60"/>
          <p:cNvSpPr/>
          <p:nvPr/>
        </p:nvSpPr>
        <p:spPr>
          <a:xfrm>
            <a:off x="6174720" y="22096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a7"/>
                </a:solidFill>
                <a:latin typeface="HY견고딕"/>
                <a:ea typeface="HY견고딕"/>
              </a:rPr>
              <a:t>TEXT</a:t>
            </a:r>
            <a:endParaRPr b="0" lang="en-US" sz="2000" spc="-1" strike="noStrike">
              <a:solidFill>
                <a:srgbClr val="000000"/>
              </a:solidFill>
              <a:latin typeface="Gulim"/>
            </a:endParaRPr>
          </a:p>
        </p:txBody>
      </p:sp>
      <p:sp>
        <p:nvSpPr>
          <p:cNvPr id="1175" name="TextBox 61"/>
          <p:cNvSpPr/>
          <p:nvPr/>
        </p:nvSpPr>
        <p:spPr>
          <a:xfrm>
            <a:off x="4989600" y="3300480"/>
            <a:ext cx="3214440" cy="25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ea typeface="HY견고딕"/>
              </a:rPr>
              <a:t>ASADAL INTERNET, INC.</a:t>
            </a:r>
            <a:endParaRPr b="0" lang="en-US" sz="1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177"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178"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1179" name="Group 5"/>
          <p:cNvGrpSpPr/>
          <p:nvPr/>
        </p:nvGrpSpPr>
        <p:grpSpPr>
          <a:xfrm>
            <a:off x="5311800" y="1714680"/>
            <a:ext cx="3424320" cy="1844640"/>
            <a:chOff x="5311800" y="1714680"/>
            <a:chExt cx="3424320" cy="1844640"/>
          </a:xfrm>
        </p:grpSpPr>
        <p:sp>
          <p:nvSpPr>
            <p:cNvPr id="1180" name="직사각형 19"/>
            <p:cNvSpPr/>
            <p:nvPr/>
          </p:nvSpPr>
          <p:spPr>
            <a:xfrm>
              <a:off x="5311800" y="1714680"/>
              <a:ext cx="3424320" cy="184464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직사각형 20"/>
            <p:cNvSpPr/>
            <p:nvPr/>
          </p:nvSpPr>
          <p:spPr>
            <a:xfrm>
              <a:off x="5416560" y="1805040"/>
              <a:ext cx="3214800" cy="1663920"/>
            </a:xfrm>
            <a:prstGeom prst="rect">
              <a:avLst/>
            </a:prstGeom>
            <a:solidFill>
              <a:srgbClr val="ffffff"/>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2" name="Group 8"/>
          <p:cNvGrpSpPr/>
          <p:nvPr/>
        </p:nvGrpSpPr>
        <p:grpSpPr>
          <a:xfrm>
            <a:off x="5311800" y="4071960"/>
            <a:ext cx="3424320" cy="1844640"/>
            <a:chOff x="5311800" y="4071960"/>
            <a:chExt cx="3424320" cy="1844640"/>
          </a:xfrm>
        </p:grpSpPr>
        <p:sp>
          <p:nvSpPr>
            <p:cNvPr id="1183" name="직사각형 85"/>
            <p:cNvSpPr/>
            <p:nvPr/>
          </p:nvSpPr>
          <p:spPr>
            <a:xfrm>
              <a:off x="5311800" y="4071960"/>
              <a:ext cx="3424320" cy="184464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직사각형 88"/>
            <p:cNvSpPr/>
            <p:nvPr/>
          </p:nvSpPr>
          <p:spPr>
            <a:xfrm>
              <a:off x="5416560" y="4162320"/>
              <a:ext cx="3214800" cy="1663920"/>
            </a:xfrm>
            <a:prstGeom prst="rect">
              <a:avLst/>
            </a:prstGeom>
            <a:solidFill>
              <a:srgbClr val="ffffff"/>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5" name="Group 11"/>
          <p:cNvGrpSpPr/>
          <p:nvPr/>
        </p:nvGrpSpPr>
        <p:grpSpPr>
          <a:xfrm>
            <a:off x="390600" y="2892600"/>
            <a:ext cx="3424320" cy="1846080"/>
            <a:chOff x="390600" y="2892600"/>
            <a:chExt cx="3424320" cy="1846080"/>
          </a:xfrm>
        </p:grpSpPr>
        <p:sp>
          <p:nvSpPr>
            <p:cNvPr id="1186" name="직사각형 96"/>
            <p:cNvSpPr/>
            <p:nvPr/>
          </p:nvSpPr>
          <p:spPr>
            <a:xfrm flipH="1">
              <a:off x="390600" y="2892600"/>
              <a:ext cx="3424320" cy="184608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직사각형 97"/>
            <p:cNvSpPr/>
            <p:nvPr/>
          </p:nvSpPr>
          <p:spPr>
            <a:xfrm flipH="1">
              <a:off x="495360" y="2982960"/>
              <a:ext cx="3214800" cy="1665360"/>
            </a:xfrm>
            <a:prstGeom prst="rect">
              <a:avLst/>
            </a:prstGeom>
            <a:solidFill>
              <a:srgbClr val="ffffff"/>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8" name="Group 14"/>
          <p:cNvGrpSpPr/>
          <p:nvPr/>
        </p:nvGrpSpPr>
        <p:grpSpPr>
          <a:xfrm>
            <a:off x="3081240" y="3081240"/>
            <a:ext cx="1467000" cy="1468440"/>
            <a:chOff x="3081240" y="3081240"/>
            <a:chExt cx="1467000" cy="1468440"/>
          </a:xfrm>
        </p:grpSpPr>
        <p:grpSp>
          <p:nvGrpSpPr>
            <p:cNvPr id="1189" name="Group 15"/>
            <p:cNvGrpSpPr/>
            <p:nvPr/>
          </p:nvGrpSpPr>
          <p:grpSpPr>
            <a:xfrm>
              <a:off x="3081240" y="3081240"/>
              <a:ext cx="1467000" cy="1468440"/>
              <a:chOff x="3081240" y="3081240"/>
              <a:chExt cx="1467000" cy="1468440"/>
            </a:xfrm>
          </p:grpSpPr>
          <p:sp>
            <p:nvSpPr>
              <p:cNvPr id="1190" name="타원 39"/>
              <p:cNvSpPr/>
              <p:nvPr/>
            </p:nvSpPr>
            <p:spPr>
              <a:xfrm>
                <a:off x="3081240" y="3081240"/>
                <a:ext cx="1467000" cy="1468440"/>
              </a:xfrm>
              <a:prstGeom prst="ellipse">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1" name="타원 40"/>
              <p:cNvSpPr/>
              <p:nvPr/>
            </p:nvSpPr>
            <p:spPr>
              <a:xfrm>
                <a:off x="3165120" y="3165120"/>
                <a:ext cx="1298880" cy="1300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타원 98"/>
            <p:cNvSpPr/>
            <p:nvPr/>
          </p:nvSpPr>
          <p:spPr>
            <a:xfrm>
              <a:off x="3346200" y="3346200"/>
              <a:ext cx="936720" cy="9381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3" name="Group 19"/>
          <p:cNvGrpSpPr/>
          <p:nvPr/>
        </p:nvGrpSpPr>
        <p:grpSpPr>
          <a:xfrm>
            <a:off x="4578480" y="1903320"/>
            <a:ext cx="1466640" cy="1467000"/>
            <a:chOff x="4578480" y="1903320"/>
            <a:chExt cx="1466640" cy="1467000"/>
          </a:xfrm>
        </p:grpSpPr>
        <p:grpSp>
          <p:nvGrpSpPr>
            <p:cNvPr id="1194" name="Group 20"/>
            <p:cNvGrpSpPr/>
            <p:nvPr/>
          </p:nvGrpSpPr>
          <p:grpSpPr>
            <a:xfrm>
              <a:off x="4578480" y="1903320"/>
              <a:ext cx="1466640" cy="1467000"/>
              <a:chOff x="4578480" y="1903320"/>
              <a:chExt cx="1466640" cy="1467000"/>
            </a:xfrm>
          </p:grpSpPr>
          <p:sp>
            <p:nvSpPr>
              <p:cNvPr id="1195" name="타원 43"/>
              <p:cNvSpPr/>
              <p:nvPr/>
            </p:nvSpPr>
            <p:spPr>
              <a:xfrm>
                <a:off x="4578480" y="1903320"/>
                <a:ext cx="1466640" cy="1467000"/>
              </a:xfrm>
              <a:prstGeom prst="ellipse">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6" name="타원 48"/>
              <p:cNvSpPr/>
              <p:nvPr/>
            </p:nvSpPr>
            <p:spPr>
              <a:xfrm>
                <a:off x="4662360" y="1987200"/>
                <a:ext cx="1298520" cy="129888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7" name="타원 107"/>
            <p:cNvSpPr/>
            <p:nvPr/>
          </p:nvSpPr>
          <p:spPr>
            <a:xfrm>
              <a:off x="4843440" y="2168280"/>
              <a:ext cx="936720" cy="936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8" name="Group 24"/>
          <p:cNvGrpSpPr/>
          <p:nvPr/>
        </p:nvGrpSpPr>
        <p:grpSpPr>
          <a:xfrm>
            <a:off x="4578480" y="4260960"/>
            <a:ext cx="1466640" cy="1466640"/>
            <a:chOff x="4578480" y="4260960"/>
            <a:chExt cx="1466640" cy="1466640"/>
          </a:xfrm>
        </p:grpSpPr>
        <p:grpSp>
          <p:nvGrpSpPr>
            <p:cNvPr id="1199" name="Group 25"/>
            <p:cNvGrpSpPr/>
            <p:nvPr/>
          </p:nvGrpSpPr>
          <p:grpSpPr>
            <a:xfrm>
              <a:off x="4578480" y="4260960"/>
              <a:ext cx="1466640" cy="1466640"/>
              <a:chOff x="4578480" y="4260960"/>
              <a:chExt cx="1466640" cy="1466640"/>
            </a:xfrm>
          </p:grpSpPr>
          <p:sp>
            <p:nvSpPr>
              <p:cNvPr id="1200" name="타원 82"/>
              <p:cNvSpPr/>
              <p:nvPr/>
            </p:nvSpPr>
            <p:spPr>
              <a:xfrm>
                <a:off x="4578480" y="4260960"/>
                <a:ext cx="1466640" cy="1466640"/>
              </a:xfrm>
              <a:prstGeom prst="ellipse">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타원 83"/>
              <p:cNvSpPr/>
              <p:nvPr/>
            </p:nvSpPr>
            <p:spPr>
              <a:xfrm>
                <a:off x="4662360" y="4344840"/>
                <a:ext cx="1298520" cy="129852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02" name="타원 109"/>
            <p:cNvSpPr/>
            <p:nvPr/>
          </p:nvSpPr>
          <p:spPr>
            <a:xfrm>
              <a:off x="4843440" y="4525920"/>
              <a:ext cx="936720" cy="936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03" name="자유형 112"/>
          <p:cNvSpPr/>
          <p:nvPr/>
        </p:nvSpPr>
        <p:spPr>
          <a:xfrm>
            <a:off x="3805200" y="2635200"/>
            <a:ext cx="695520" cy="520920"/>
          </a:xfrm>
          <a:custGeom>
            <a:avLst/>
            <a:gdLst>
              <a:gd name="textAreaLeft" fmla="*/ 0 w 695520"/>
              <a:gd name="textAreaRight" fmla="*/ 695880 w 695520"/>
              <a:gd name="textAreaTop" fmla="*/ 0 h 520920"/>
              <a:gd name="textAreaBottom" fmla="*/ 521280 h 520920"/>
            </a:gdLst>
            <a:ahLst/>
            <a:rect l="textAreaLeft" t="textAreaTop" r="textAreaRight" b="textAreaBottom"/>
            <a:pathLst>
              <a:path w="678426" h="521110">
                <a:moveTo>
                  <a:pt x="0" y="521110"/>
                </a:moveTo>
                <a:lnTo>
                  <a:pt x="0" y="0"/>
                </a:lnTo>
                <a:lnTo>
                  <a:pt x="678426" y="0"/>
                </a:lnTo>
              </a:path>
            </a:pathLst>
          </a:custGeom>
          <a:noFill/>
          <a:ln w="38160">
            <a:solidFill>
              <a:srgbClr val="ffc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04" name="자유형 113"/>
          <p:cNvSpPr/>
          <p:nvPr/>
        </p:nvSpPr>
        <p:spPr>
          <a:xfrm flipV="1">
            <a:off x="3805200" y="4481640"/>
            <a:ext cx="695520" cy="522000"/>
          </a:xfrm>
          <a:custGeom>
            <a:avLst/>
            <a:gdLst>
              <a:gd name="textAreaLeft" fmla="*/ 0 w 695520"/>
              <a:gd name="textAreaRight" fmla="*/ 695880 w 695520"/>
              <a:gd name="textAreaTop" fmla="*/ 360 h 522000"/>
              <a:gd name="textAreaBottom" fmla="*/ 522720 h 522000"/>
            </a:gdLst>
            <a:ahLst/>
            <a:rect l="textAreaLeft" t="textAreaTop" r="textAreaRight" b="textAreaBottom"/>
            <a:pathLst>
              <a:path w="678426" h="521110">
                <a:moveTo>
                  <a:pt x="0" y="521110"/>
                </a:moveTo>
                <a:lnTo>
                  <a:pt x="0" y="0"/>
                </a:lnTo>
                <a:lnTo>
                  <a:pt x="678426" y="0"/>
                </a:lnTo>
              </a:path>
            </a:pathLst>
          </a:custGeom>
          <a:noFill/>
          <a:ln w="38160">
            <a:solidFill>
              <a:srgbClr val="ffc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05" name="TextBox 114"/>
          <p:cNvSpPr/>
          <p:nvPr/>
        </p:nvSpPr>
        <p:spPr>
          <a:xfrm>
            <a:off x="4938840" y="24382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a7"/>
                </a:solidFill>
                <a:latin typeface="HY견고딕"/>
                <a:ea typeface="HY견고딕"/>
              </a:rPr>
              <a:t>TEXT</a:t>
            </a:r>
            <a:endParaRPr b="0" lang="en-US" sz="2000" spc="-1" strike="noStrike">
              <a:solidFill>
                <a:srgbClr val="000000"/>
              </a:solidFill>
              <a:latin typeface="Gulim"/>
            </a:endParaRPr>
          </a:p>
        </p:txBody>
      </p:sp>
      <p:sp>
        <p:nvSpPr>
          <p:cNvPr id="1206" name="TextBox 115"/>
          <p:cNvSpPr/>
          <p:nvPr/>
        </p:nvSpPr>
        <p:spPr>
          <a:xfrm>
            <a:off x="4938840" y="480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a7"/>
                </a:solidFill>
                <a:latin typeface="HY견고딕"/>
                <a:ea typeface="HY견고딕"/>
              </a:rPr>
              <a:t>TEXT</a:t>
            </a:r>
            <a:endParaRPr b="0" lang="en-US" sz="2000" spc="-1" strike="noStrike">
              <a:solidFill>
                <a:srgbClr val="000000"/>
              </a:solidFill>
              <a:latin typeface="Gulim"/>
            </a:endParaRPr>
          </a:p>
        </p:txBody>
      </p:sp>
      <p:sp>
        <p:nvSpPr>
          <p:cNvPr id="1207" name="TextBox 116"/>
          <p:cNvSpPr/>
          <p:nvPr/>
        </p:nvSpPr>
        <p:spPr>
          <a:xfrm>
            <a:off x="3440160" y="36338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HY견고딕"/>
                <a:ea typeface="HY견고딕"/>
              </a:rPr>
              <a:t>TEXT</a:t>
            </a:r>
            <a:endParaRPr b="0" lang="en-US" sz="2000" spc="-1" strike="noStrike">
              <a:solidFill>
                <a:srgbClr val="000000"/>
              </a:solidFill>
              <a:latin typeface="Gulim"/>
            </a:endParaRPr>
          </a:p>
        </p:txBody>
      </p:sp>
      <p:sp>
        <p:nvSpPr>
          <p:cNvPr id="1208" name="TextBox 117"/>
          <p:cNvSpPr/>
          <p:nvPr/>
        </p:nvSpPr>
        <p:spPr>
          <a:xfrm>
            <a:off x="541440" y="3052800"/>
            <a:ext cx="242892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1209" name="TextBox 118"/>
          <p:cNvSpPr/>
          <p:nvPr/>
        </p:nvSpPr>
        <p:spPr>
          <a:xfrm>
            <a:off x="6173640" y="1866960"/>
            <a:ext cx="242892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3a7"/>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
        <p:nvSpPr>
          <p:cNvPr id="1210" name="TextBox 119"/>
          <p:cNvSpPr/>
          <p:nvPr/>
        </p:nvSpPr>
        <p:spPr>
          <a:xfrm>
            <a:off x="6173640" y="4216320"/>
            <a:ext cx="242892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3a7"/>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a:t>
            </a:r>
            <a:br>
              <a:rPr sz="1000"/>
            </a:br>
            <a:r>
              <a:rPr b="0" lang="en-US" sz="1000" spc="-1" strike="noStrike">
                <a:solidFill>
                  <a:srgbClr val="6f6f6f"/>
                </a:solidFill>
                <a:latin typeface="Arial"/>
                <a:ea typeface="HY견고딕"/>
              </a:rPr>
              <a:t>February 1998 with the fundamental </a:t>
            </a:r>
            <a:br>
              <a:rPr sz="1000"/>
            </a:br>
            <a:r>
              <a:rPr b="0" lang="en-US" sz="1000" spc="-1" strike="noStrike">
                <a:solidFill>
                  <a:srgbClr val="6f6f6f"/>
                </a:solidFill>
                <a:latin typeface="Arial"/>
                <a:ea typeface="HY견고딕"/>
              </a:rPr>
              <a:t>goal of providing better internet services</a:t>
            </a:r>
            <a:br>
              <a:rPr sz="1000"/>
            </a:br>
            <a:r>
              <a:rPr b="0" lang="en-US" sz="1000" spc="-1" strike="noStrike">
                <a:solidFill>
                  <a:srgbClr val="6f6f6f"/>
                </a:solidFill>
                <a:latin typeface="Arial"/>
                <a:ea typeface="HY견고딕"/>
              </a:rPr>
              <a:t>to the world.</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212"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213" name="TextBox 23"/>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
        <p:nvSpPr>
          <p:cNvPr id="1214" name="직사각형 6"/>
          <p:cNvSpPr/>
          <p:nvPr/>
        </p:nvSpPr>
        <p:spPr>
          <a:xfrm>
            <a:off x="436680" y="1573200"/>
            <a:ext cx="4000320" cy="4562640"/>
          </a:xfrm>
          <a:prstGeom prst="rect">
            <a:avLst/>
          </a:prstGeom>
          <a:solidFill>
            <a:srgbClr val="d9d9d9">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15" name="Group 6"/>
          <p:cNvGrpSpPr/>
          <p:nvPr/>
        </p:nvGrpSpPr>
        <p:grpSpPr>
          <a:xfrm>
            <a:off x="500040" y="1627200"/>
            <a:ext cx="1789200" cy="4449600"/>
            <a:chOff x="500040" y="1627200"/>
            <a:chExt cx="1789200" cy="4449600"/>
          </a:xfrm>
        </p:grpSpPr>
        <p:sp>
          <p:nvSpPr>
            <p:cNvPr id="1216" name="직사각형 10"/>
            <p:cNvSpPr/>
            <p:nvPr/>
          </p:nvSpPr>
          <p:spPr>
            <a:xfrm>
              <a:off x="501480" y="1627200"/>
              <a:ext cx="178776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7" name="직사각형 14"/>
            <p:cNvSpPr/>
            <p:nvPr/>
          </p:nvSpPr>
          <p:spPr>
            <a:xfrm>
              <a:off x="500040" y="3182760"/>
              <a:ext cx="17877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8" name="직사각형 16"/>
            <p:cNvSpPr/>
            <p:nvPr/>
          </p:nvSpPr>
          <p:spPr>
            <a:xfrm>
              <a:off x="500040" y="3905280"/>
              <a:ext cx="17877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9" name="직사각형 18"/>
            <p:cNvSpPr/>
            <p:nvPr/>
          </p:nvSpPr>
          <p:spPr>
            <a:xfrm>
              <a:off x="500040" y="4626000"/>
              <a:ext cx="178776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0" name="직사각형 22"/>
            <p:cNvSpPr/>
            <p:nvPr/>
          </p:nvSpPr>
          <p:spPr>
            <a:xfrm>
              <a:off x="500040" y="5348160"/>
              <a:ext cx="17877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1" name="직사각형 34"/>
            <p:cNvSpPr/>
            <p:nvPr/>
          </p:nvSpPr>
          <p:spPr>
            <a:xfrm>
              <a:off x="500040" y="2460600"/>
              <a:ext cx="178776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22" name="Group 13"/>
            <p:cNvGrpSpPr/>
            <p:nvPr/>
          </p:nvGrpSpPr>
          <p:grpSpPr>
            <a:xfrm>
              <a:off x="500040" y="1628280"/>
              <a:ext cx="1787400" cy="456840"/>
              <a:chOff x="500040" y="1628280"/>
              <a:chExt cx="1787400" cy="456840"/>
            </a:xfrm>
          </p:grpSpPr>
          <p:sp>
            <p:nvSpPr>
              <p:cNvPr id="1223" name="직사각형 12"/>
              <p:cNvSpPr/>
              <p:nvPr/>
            </p:nvSpPr>
            <p:spPr>
              <a:xfrm>
                <a:off x="500040" y="1628280"/>
                <a:ext cx="178740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4" name="직사각형 71"/>
              <p:cNvSpPr/>
              <p:nvPr/>
            </p:nvSpPr>
            <p:spPr>
              <a:xfrm>
                <a:off x="500040" y="1629720"/>
                <a:ext cx="178740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25" name="Group 16"/>
          <p:cNvGrpSpPr/>
          <p:nvPr/>
        </p:nvGrpSpPr>
        <p:grpSpPr>
          <a:xfrm>
            <a:off x="2320920" y="1627200"/>
            <a:ext cx="1009800" cy="4449600"/>
            <a:chOff x="2320920" y="1627200"/>
            <a:chExt cx="1009800" cy="4449600"/>
          </a:xfrm>
        </p:grpSpPr>
        <p:sp>
          <p:nvSpPr>
            <p:cNvPr id="1226" name="직사각형 39"/>
            <p:cNvSpPr/>
            <p:nvPr/>
          </p:nvSpPr>
          <p:spPr>
            <a:xfrm>
              <a:off x="2322360" y="1627200"/>
              <a:ext cx="100836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7" name="직사각형 41"/>
            <p:cNvSpPr/>
            <p:nvPr/>
          </p:nvSpPr>
          <p:spPr>
            <a:xfrm>
              <a:off x="2320920" y="3182760"/>
              <a:ext cx="10083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8" name="직사각형 42"/>
            <p:cNvSpPr/>
            <p:nvPr/>
          </p:nvSpPr>
          <p:spPr>
            <a:xfrm>
              <a:off x="2320920" y="3905280"/>
              <a:ext cx="10083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9" name="직사각형 43"/>
            <p:cNvSpPr/>
            <p:nvPr/>
          </p:nvSpPr>
          <p:spPr>
            <a:xfrm>
              <a:off x="2320920" y="4626000"/>
              <a:ext cx="100836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0" name="직사각형 44"/>
            <p:cNvSpPr/>
            <p:nvPr/>
          </p:nvSpPr>
          <p:spPr>
            <a:xfrm>
              <a:off x="2320920" y="5348160"/>
              <a:ext cx="100836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1" name="직사각형 45"/>
            <p:cNvSpPr/>
            <p:nvPr/>
          </p:nvSpPr>
          <p:spPr>
            <a:xfrm>
              <a:off x="2320920" y="2460600"/>
              <a:ext cx="100836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32" name="Group 23"/>
            <p:cNvGrpSpPr/>
            <p:nvPr/>
          </p:nvGrpSpPr>
          <p:grpSpPr>
            <a:xfrm>
              <a:off x="2320920" y="1628280"/>
              <a:ext cx="1008720" cy="456840"/>
              <a:chOff x="2320920" y="1628280"/>
              <a:chExt cx="1008720" cy="456840"/>
            </a:xfrm>
          </p:grpSpPr>
          <p:sp>
            <p:nvSpPr>
              <p:cNvPr id="1233" name="직사각형 40"/>
              <p:cNvSpPr/>
              <p:nvPr/>
            </p:nvSpPr>
            <p:spPr>
              <a:xfrm>
                <a:off x="2320920" y="1628280"/>
                <a:ext cx="100872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4" name="직사각형 72"/>
              <p:cNvSpPr/>
              <p:nvPr/>
            </p:nvSpPr>
            <p:spPr>
              <a:xfrm>
                <a:off x="2320920" y="1629720"/>
                <a:ext cx="100872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35" name="Group 26"/>
          <p:cNvGrpSpPr/>
          <p:nvPr/>
        </p:nvGrpSpPr>
        <p:grpSpPr>
          <a:xfrm>
            <a:off x="3362400" y="1627200"/>
            <a:ext cx="1011240" cy="4449600"/>
            <a:chOff x="3362400" y="1627200"/>
            <a:chExt cx="1011240" cy="4449600"/>
          </a:xfrm>
        </p:grpSpPr>
        <p:sp>
          <p:nvSpPr>
            <p:cNvPr id="1236" name="직사각형 47"/>
            <p:cNvSpPr/>
            <p:nvPr/>
          </p:nvSpPr>
          <p:spPr>
            <a:xfrm>
              <a:off x="3363840" y="1627200"/>
              <a:ext cx="100980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7" name="직사각형 49"/>
            <p:cNvSpPr/>
            <p:nvPr/>
          </p:nvSpPr>
          <p:spPr>
            <a:xfrm>
              <a:off x="3362400" y="3182760"/>
              <a:ext cx="100980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8" name="직사각형 50"/>
            <p:cNvSpPr/>
            <p:nvPr/>
          </p:nvSpPr>
          <p:spPr>
            <a:xfrm>
              <a:off x="3362400" y="3905280"/>
              <a:ext cx="100980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9" name="직사각형 51"/>
            <p:cNvSpPr/>
            <p:nvPr/>
          </p:nvSpPr>
          <p:spPr>
            <a:xfrm>
              <a:off x="3362400" y="4626000"/>
              <a:ext cx="100980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직사각형 52"/>
            <p:cNvSpPr/>
            <p:nvPr/>
          </p:nvSpPr>
          <p:spPr>
            <a:xfrm>
              <a:off x="3362400" y="5348160"/>
              <a:ext cx="1009800" cy="34596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1" name="직사각형 53"/>
            <p:cNvSpPr/>
            <p:nvPr/>
          </p:nvSpPr>
          <p:spPr>
            <a:xfrm>
              <a:off x="3362400" y="2460600"/>
              <a:ext cx="1009800" cy="347400"/>
            </a:xfrm>
            <a:prstGeom prst="rect">
              <a:avLst/>
            </a:prstGeom>
            <a:solidFill>
              <a:srgbClr val="66cc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42" name="Group 33"/>
            <p:cNvGrpSpPr/>
            <p:nvPr/>
          </p:nvGrpSpPr>
          <p:grpSpPr>
            <a:xfrm>
              <a:off x="3362400" y="1628280"/>
              <a:ext cx="1010160" cy="456840"/>
              <a:chOff x="3362400" y="1628280"/>
              <a:chExt cx="1010160" cy="456840"/>
            </a:xfrm>
          </p:grpSpPr>
          <p:sp>
            <p:nvSpPr>
              <p:cNvPr id="1243" name="직사각형 48"/>
              <p:cNvSpPr/>
              <p:nvPr/>
            </p:nvSpPr>
            <p:spPr>
              <a:xfrm>
                <a:off x="3362400" y="1628280"/>
                <a:ext cx="1010160" cy="45684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4" name="직사각형 73"/>
              <p:cNvSpPr/>
              <p:nvPr/>
            </p:nvSpPr>
            <p:spPr>
              <a:xfrm>
                <a:off x="3362400" y="1629720"/>
                <a:ext cx="101016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245" name="TextBox 84"/>
          <p:cNvSpPr/>
          <p:nvPr/>
        </p:nvSpPr>
        <p:spPr>
          <a:xfrm>
            <a:off x="107568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246" name="TextBox 86"/>
          <p:cNvSpPr/>
          <p:nvPr/>
        </p:nvSpPr>
        <p:spPr>
          <a:xfrm>
            <a:off x="250740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247" name="TextBox 87"/>
          <p:cNvSpPr/>
          <p:nvPr/>
        </p:nvSpPr>
        <p:spPr>
          <a:xfrm>
            <a:off x="354888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248" name="TextBox 88"/>
          <p:cNvSpPr/>
          <p:nvPr/>
        </p:nvSpPr>
        <p:spPr>
          <a:xfrm>
            <a:off x="110304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49" name="TextBox 89"/>
          <p:cNvSpPr/>
          <p:nvPr/>
        </p:nvSpPr>
        <p:spPr>
          <a:xfrm>
            <a:off x="253404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0" name="TextBox 90"/>
          <p:cNvSpPr/>
          <p:nvPr/>
        </p:nvSpPr>
        <p:spPr>
          <a:xfrm>
            <a:off x="357624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1" name="TextBox 93"/>
          <p:cNvSpPr/>
          <p:nvPr/>
        </p:nvSpPr>
        <p:spPr>
          <a:xfrm>
            <a:off x="110304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2" name="TextBox 94"/>
          <p:cNvSpPr/>
          <p:nvPr/>
        </p:nvSpPr>
        <p:spPr>
          <a:xfrm>
            <a:off x="253404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3" name="TextBox 95"/>
          <p:cNvSpPr/>
          <p:nvPr/>
        </p:nvSpPr>
        <p:spPr>
          <a:xfrm>
            <a:off x="357624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4" name="TextBox 97"/>
          <p:cNvSpPr/>
          <p:nvPr/>
        </p:nvSpPr>
        <p:spPr>
          <a:xfrm>
            <a:off x="110304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5" name="TextBox 98"/>
          <p:cNvSpPr/>
          <p:nvPr/>
        </p:nvSpPr>
        <p:spPr>
          <a:xfrm>
            <a:off x="253404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6" name="TextBox 99"/>
          <p:cNvSpPr/>
          <p:nvPr/>
        </p:nvSpPr>
        <p:spPr>
          <a:xfrm>
            <a:off x="357624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7" name="TextBox 101"/>
          <p:cNvSpPr/>
          <p:nvPr/>
        </p:nvSpPr>
        <p:spPr>
          <a:xfrm>
            <a:off x="110304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8" name="TextBox 102"/>
          <p:cNvSpPr/>
          <p:nvPr/>
        </p:nvSpPr>
        <p:spPr>
          <a:xfrm>
            <a:off x="253404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59" name="TextBox 103"/>
          <p:cNvSpPr/>
          <p:nvPr/>
        </p:nvSpPr>
        <p:spPr>
          <a:xfrm>
            <a:off x="357624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0" name="TextBox 105"/>
          <p:cNvSpPr/>
          <p:nvPr/>
        </p:nvSpPr>
        <p:spPr>
          <a:xfrm>
            <a:off x="110304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1" name="TextBox 106"/>
          <p:cNvSpPr/>
          <p:nvPr/>
        </p:nvSpPr>
        <p:spPr>
          <a:xfrm>
            <a:off x="253404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2" name="TextBox 107"/>
          <p:cNvSpPr/>
          <p:nvPr/>
        </p:nvSpPr>
        <p:spPr>
          <a:xfrm>
            <a:off x="357624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3" name="TextBox 109"/>
          <p:cNvSpPr/>
          <p:nvPr/>
        </p:nvSpPr>
        <p:spPr>
          <a:xfrm>
            <a:off x="110304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4" name="TextBox 110"/>
          <p:cNvSpPr/>
          <p:nvPr/>
        </p:nvSpPr>
        <p:spPr>
          <a:xfrm>
            <a:off x="253404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5" name="TextBox 111"/>
          <p:cNvSpPr/>
          <p:nvPr/>
        </p:nvSpPr>
        <p:spPr>
          <a:xfrm>
            <a:off x="357624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6" name="TextBox 113"/>
          <p:cNvSpPr/>
          <p:nvPr/>
        </p:nvSpPr>
        <p:spPr>
          <a:xfrm>
            <a:off x="110304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7" name="TextBox 114"/>
          <p:cNvSpPr/>
          <p:nvPr/>
        </p:nvSpPr>
        <p:spPr>
          <a:xfrm>
            <a:off x="253404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8" name="TextBox 115"/>
          <p:cNvSpPr/>
          <p:nvPr/>
        </p:nvSpPr>
        <p:spPr>
          <a:xfrm>
            <a:off x="357624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69" name="TextBox 117"/>
          <p:cNvSpPr/>
          <p:nvPr/>
        </p:nvSpPr>
        <p:spPr>
          <a:xfrm>
            <a:off x="110304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0" name="TextBox 118"/>
          <p:cNvSpPr/>
          <p:nvPr/>
        </p:nvSpPr>
        <p:spPr>
          <a:xfrm>
            <a:off x="253404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1" name="TextBox 119"/>
          <p:cNvSpPr/>
          <p:nvPr/>
        </p:nvSpPr>
        <p:spPr>
          <a:xfrm>
            <a:off x="357624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2" name="TextBox 121"/>
          <p:cNvSpPr/>
          <p:nvPr/>
        </p:nvSpPr>
        <p:spPr>
          <a:xfrm>
            <a:off x="110304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3" name="TextBox 122"/>
          <p:cNvSpPr/>
          <p:nvPr/>
        </p:nvSpPr>
        <p:spPr>
          <a:xfrm>
            <a:off x="253404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4" name="TextBox 123"/>
          <p:cNvSpPr/>
          <p:nvPr/>
        </p:nvSpPr>
        <p:spPr>
          <a:xfrm>
            <a:off x="357624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5" name="TextBox 125"/>
          <p:cNvSpPr/>
          <p:nvPr/>
        </p:nvSpPr>
        <p:spPr>
          <a:xfrm>
            <a:off x="110304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6" name="TextBox 126"/>
          <p:cNvSpPr/>
          <p:nvPr/>
        </p:nvSpPr>
        <p:spPr>
          <a:xfrm>
            <a:off x="253404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7" name="TextBox 127"/>
          <p:cNvSpPr/>
          <p:nvPr/>
        </p:nvSpPr>
        <p:spPr>
          <a:xfrm>
            <a:off x="357624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8" name="TextBox 129"/>
          <p:cNvSpPr/>
          <p:nvPr/>
        </p:nvSpPr>
        <p:spPr>
          <a:xfrm>
            <a:off x="110304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79" name="TextBox 130"/>
          <p:cNvSpPr/>
          <p:nvPr/>
        </p:nvSpPr>
        <p:spPr>
          <a:xfrm>
            <a:off x="253404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80" name="TextBox 131"/>
          <p:cNvSpPr/>
          <p:nvPr/>
        </p:nvSpPr>
        <p:spPr>
          <a:xfrm>
            <a:off x="357624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281" name="직사각형 134"/>
          <p:cNvSpPr/>
          <p:nvPr/>
        </p:nvSpPr>
        <p:spPr>
          <a:xfrm>
            <a:off x="4702320" y="1573200"/>
            <a:ext cx="4000320" cy="4562640"/>
          </a:xfrm>
          <a:prstGeom prst="rect">
            <a:avLst/>
          </a:prstGeom>
          <a:solidFill>
            <a:srgbClr val="d9d9d9">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82" name="Group 73"/>
          <p:cNvGrpSpPr/>
          <p:nvPr/>
        </p:nvGrpSpPr>
        <p:grpSpPr>
          <a:xfrm>
            <a:off x="4765680" y="1627200"/>
            <a:ext cx="1789200" cy="4449600"/>
            <a:chOff x="4765680" y="1627200"/>
            <a:chExt cx="1789200" cy="4449600"/>
          </a:xfrm>
        </p:grpSpPr>
        <p:sp>
          <p:nvSpPr>
            <p:cNvPr id="1283" name="직사각형 203"/>
            <p:cNvSpPr/>
            <p:nvPr/>
          </p:nvSpPr>
          <p:spPr>
            <a:xfrm>
              <a:off x="4767120" y="1627200"/>
              <a:ext cx="178776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4" name="직사각형 204"/>
            <p:cNvSpPr/>
            <p:nvPr/>
          </p:nvSpPr>
          <p:spPr>
            <a:xfrm>
              <a:off x="4765680" y="3182760"/>
              <a:ext cx="17877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5" name="직사각형 205"/>
            <p:cNvSpPr/>
            <p:nvPr/>
          </p:nvSpPr>
          <p:spPr>
            <a:xfrm>
              <a:off x="4765680" y="3905280"/>
              <a:ext cx="17877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6" name="직사각형 206"/>
            <p:cNvSpPr/>
            <p:nvPr/>
          </p:nvSpPr>
          <p:spPr>
            <a:xfrm>
              <a:off x="4765680" y="4626000"/>
              <a:ext cx="178776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7" name="직사각형 207"/>
            <p:cNvSpPr/>
            <p:nvPr/>
          </p:nvSpPr>
          <p:spPr>
            <a:xfrm>
              <a:off x="4765680" y="5348160"/>
              <a:ext cx="17877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8" name="직사각형 208"/>
            <p:cNvSpPr/>
            <p:nvPr/>
          </p:nvSpPr>
          <p:spPr>
            <a:xfrm>
              <a:off x="4765680" y="2460600"/>
              <a:ext cx="178776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89" name="Group 80"/>
            <p:cNvGrpSpPr/>
            <p:nvPr/>
          </p:nvGrpSpPr>
          <p:grpSpPr>
            <a:xfrm>
              <a:off x="4765680" y="1628280"/>
              <a:ext cx="1787400" cy="456840"/>
              <a:chOff x="4765680" y="1628280"/>
              <a:chExt cx="1787400" cy="456840"/>
            </a:xfrm>
          </p:grpSpPr>
          <p:sp>
            <p:nvSpPr>
              <p:cNvPr id="1290" name="직사각형 210"/>
              <p:cNvSpPr/>
              <p:nvPr/>
            </p:nvSpPr>
            <p:spPr>
              <a:xfrm>
                <a:off x="4765680" y="1628280"/>
                <a:ext cx="1787400" cy="45684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1" name="직사각형 211"/>
              <p:cNvSpPr/>
              <p:nvPr/>
            </p:nvSpPr>
            <p:spPr>
              <a:xfrm>
                <a:off x="4765680" y="1629720"/>
                <a:ext cx="178740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92" name="Group 83"/>
          <p:cNvGrpSpPr/>
          <p:nvPr/>
        </p:nvGrpSpPr>
        <p:grpSpPr>
          <a:xfrm>
            <a:off x="6586560" y="1627200"/>
            <a:ext cx="1009800" cy="4449600"/>
            <a:chOff x="6586560" y="1627200"/>
            <a:chExt cx="1009800" cy="4449600"/>
          </a:xfrm>
        </p:grpSpPr>
        <p:sp>
          <p:nvSpPr>
            <p:cNvPr id="1293" name="직사각형 194"/>
            <p:cNvSpPr/>
            <p:nvPr/>
          </p:nvSpPr>
          <p:spPr>
            <a:xfrm>
              <a:off x="6588000" y="1627200"/>
              <a:ext cx="100836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4" name="직사각형 195"/>
            <p:cNvSpPr/>
            <p:nvPr/>
          </p:nvSpPr>
          <p:spPr>
            <a:xfrm>
              <a:off x="6586560" y="3182760"/>
              <a:ext cx="10083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5" name="직사각형 196"/>
            <p:cNvSpPr/>
            <p:nvPr/>
          </p:nvSpPr>
          <p:spPr>
            <a:xfrm>
              <a:off x="6586560" y="3905280"/>
              <a:ext cx="10083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6" name="직사각형 197"/>
            <p:cNvSpPr/>
            <p:nvPr/>
          </p:nvSpPr>
          <p:spPr>
            <a:xfrm>
              <a:off x="6586560" y="4626000"/>
              <a:ext cx="100836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7" name="직사각형 198"/>
            <p:cNvSpPr/>
            <p:nvPr/>
          </p:nvSpPr>
          <p:spPr>
            <a:xfrm>
              <a:off x="6586560" y="5348160"/>
              <a:ext cx="100836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8" name="직사각형 199"/>
            <p:cNvSpPr/>
            <p:nvPr/>
          </p:nvSpPr>
          <p:spPr>
            <a:xfrm>
              <a:off x="6586560" y="2460600"/>
              <a:ext cx="100836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99" name="Group 90"/>
            <p:cNvGrpSpPr/>
            <p:nvPr/>
          </p:nvGrpSpPr>
          <p:grpSpPr>
            <a:xfrm>
              <a:off x="6586560" y="1628280"/>
              <a:ext cx="1008720" cy="456840"/>
              <a:chOff x="6586560" y="1628280"/>
              <a:chExt cx="1008720" cy="456840"/>
            </a:xfrm>
          </p:grpSpPr>
          <p:sp>
            <p:nvSpPr>
              <p:cNvPr id="1300" name="직사각형 201"/>
              <p:cNvSpPr/>
              <p:nvPr/>
            </p:nvSpPr>
            <p:spPr>
              <a:xfrm>
                <a:off x="6586560" y="1628280"/>
                <a:ext cx="1008720" cy="45684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1" name="직사각형 202"/>
              <p:cNvSpPr/>
              <p:nvPr/>
            </p:nvSpPr>
            <p:spPr>
              <a:xfrm>
                <a:off x="6586560" y="1629720"/>
                <a:ext cx="100872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302" name="Group 93"/>
          <p:cNvGrpSpPr/>
          <p:nvPr/>
        </p:nvGrpSpPr>
        <p:grpSpPr>
          <a:xfrm>
            <a:off x="7628040" y="1627200"/>
            <a:ext cx="1011240" cy="4449600"/>
            <a:chOff x="7628040" y="1627200"/>
            <a:chExt cx="1011240" cy="4449600"/>
          </a:xfrm>
        </p:grpSpPr>
        <p:sp>
          <p:nvSpPr>
            <p:cNvPr id="1303" name="직사각형 185"/>
            <p:cNvSpPr/>
            <p:nvPr/>
          </p:nvSpPr>
          <p:spPr>
            <a:xfrm>
              <a:off x="7629480" y="1627200"/>
              <a:ext cx="1009800" cy="4449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4" name="직사각형 186"/>
            <p:cNvSpPr/>
            <p:nvPr/>
          </p:nvSpPr>
          <p:spPr>
            <a:xfrm>
              <a:off x="7628040" y="3182760"/>
              <a:ext cx="100980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5" name="직사각형 187"/>
            <p:cNvSpPr/>
            <p:nvPr/>
          </p:nvSpPr>
          <p:spPr>
            <a:xfrm>
              <a:off x="7628040" y="3905280"/>
              <a:ext cx="100980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6" name="직사각형 188"/>
            <p:cNvSpPr/>
            <p:nvPr/>
          </p:nvSpPr>
          <p:spPr>
            <a:xfrm>
              <a:off x="7628040" y="4626000"/>
              <a:ext cx="100980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7" name="직사각형 189"/>
            <p:cNvSpPr/>
            <p:nvPr/>
          </p:nvSpPr>
          <p:spPr>
            <a:xfrm>
              <a:off x="7628040" y="5348160"/>
              <a:ext cx="1009800" cy="34596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8" name="직사각형 190"/>
            <p:cNvSpPr/>
            <p:nvPr/>
          </p:nvSpPr>
          <p:spPr>
            <a:xfrm>
              <a:off x="7628040" y="2460600"/>
              <a:ext cx="1009800" cy="347400"/>
            </a:xfrm>
            <a:prstGeom prst="rect">
              <a:avLst/>
            </a:prstGeom>
            <a:solidFill>
              <a:srgbClr val="c6d9f1">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309" name="Group 100"/>
            <p:cNvGrpSpPr/>
            <p:nvPr/>
          </p:nvGrpSpPr>
          <p:grpSpPr>
            <a:xfrm>
              <a:off x="7628040" y="1628280"/>
              <a:ext cx="1010160" cy="456840"/>
              <a:chOff x="7628040" y="1628280"/>
              <a:chExt cx="1010160" cy="456840"/>
            </a:xfrm>
          </p:grpSpPr>
          <p:sp>
            <p:nvSpPr>
              <p:cNvPr id="1310" name="직사각형 192"/>
              <p:cNvSpPr/>
              <p:nvPr/>
            </p:nvSpPr>
            <p:spPr>
              <a:xfrm>
                <a:off x="7628040" y="1628280"/>
                <a:ext cx="1010160" cy="45684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1" name="직사각형 193"/>
              <p:cNvSpPr/>
              <p:nvPr/>
            </p:nvSpPr>
            <p:spPr>
              <a:xfrm>
                <a:off x="7628040" y="1629720"/>
                <a:ext cx="1010160" cy="25380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312" name="TextBox 138"/>
          <p:cNvSpPr/>
          <p:nvPr/>
        </p:nvSpPr>
        <p:spPr>
          <a:xfrm>
            <a:off x="534132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313" name="TextBox 139"/>
          <p:cNvSpPr/>
          <p:nvPr/>
        </p:nvSpPr>
        <p:spPr>
          <a:xfrm>
            <a:off x="677304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314" name="TextBox 140"/>
          <p:cNvSpPr/>
          <p:nvPr/>
        </p:nvSpPr>
        <p:spPr>
          <a:xfrm>
            <a:off x="7814520" y="16812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견고딕"/>
                <a:ea typeface="HY견고딕"/>
              </a:rPr>
              <a:t>TEXT</a:t>
            </a:r>
            <a:endParaRPr b="0" lang="en-US" sz="1600" spc="-1" strike="noStrike">
              <a:solidFill>
                <a:srgbClr val="000000"/>
              </a:solidFill>
              <a:latin typeface="Gulim"/>
            </a:endParaRPr>
          </a:p>
        </p:txBody>
      </p:sp>
      <p:sp>
        <p:nvSpPr>
          <p:cNvPr id="1315" name="TextBox 182"/>
          <p:cNvSpPr/>
          <p:nvPr/>
        </p:nvSpPr>
        <p:spPr>
          <a:xfrm>
            <a:off x="536832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16" name="TextBox 183"/>
          <p:cNvSpPr/>
          <p:nvPr/>
        </p:nvSpPr>
        <p:spPr>
          <a:xfrm>
            <a:off x="679968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17" name="TextBox 184"/>
          <p:cNvSpPr/>
          <p:nvPr/>
        </p:nvSpPr>
        <p:spPr>
          <a:xfrm>
            <a:off x="7841880" y="2114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18" name="TextBox 179"/>
          <p:cNvSpPr/>
          <p:nvPr/>
        </p:nvSpPr>
        <p:spPr>
          <a:xfrm>
            <a:off x="536832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19" name="TextBox 180"/>
          <p:cNvSpPr/>
          <p:nvPr/>
        </p:nvSpPr>
        <p:spPr>
          <a:xfrm>
            <a:off x="679968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0" name="TextBox 181"/>
          <p:cNvSpPr/>
          <p:nvPr/>
        </p:nvSpPr>
        <p:spPr>
          <a:xfrm>
            <a:off x="7841880" y="24782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1" name="TextBox 176"/>
          <p:cNvSpPr/>
          <p:nvPr/>
        </p:nvSpPr>
        <p:spPr>
          <a:xfrm>
            <a:off x="536832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2" name="TextBox 177"/>
          <p:cNvSpPr/>
          <p:nvPr/>
        </p:nvSpPr>
        <p:spPr>
          <a:xfrm>
            <a:off x="679968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3" name="TextBox 178"/>
          <p:cNvSpPr/>
          <p:nvPr/>
        </p:nvSpPr>
        <p:spPr>
          <a:xfrm>
            <a:off x="7841880" y="28400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4" name="TextBox 173"/>
          <p:cNvSpPr/>
          <p:nvPr/>
        </p:nvSpPr>
        <p:spPr>
          <a:xfrm>
            <a:off x="536832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5" name="TextBox 174"/>
          <p:cNvSpPr/>
          <p:nvPr/>
        </p:nvSpPr>
        <p:spPr>
          <a:xfrm>
            <a:off x="679968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6" name="TextBox 175"/>
          <p:cNvSpPr/>
          <p:nvPr/>
        </p:nvSpPr>
        <p:spPr>
          <a:xfrm>
            <a:off x="7841880" y="32036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7" name="TextBox 170"/>
          <p:cNvSpPr/>
          <p:nvPr/>
        </p:nvSpPr>
        <p:spPr>
          <a:xfrm>
            <a:off x="536832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8" name="TextBox 171"/>
          <p:cNvSpPr/>
          <p:nvPr/>
        </p:nvSpPr>
        <p:spPr>
          <a:xfrm>
            <a:off x="679968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29" name="TextBox 172"/>
          <p:cNvSpPr/>
          <p:nvPr/>
        </p:nvSpPr>
        <p:spPr>
          <a:xfrm>
            <a:off x="7841880" y="35654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0" name="TextBox 167"/>
          <p:cNvSpPr/>
          <p:nvPr/>
        </p:nvSpPr>
        <p:spPr>
          <a:xfrm>
            <a:off x="536832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1" name="TextBox 168"/>
          <p:cNvSpPr/>
          <p:nvPr/>
        </p:nvSpPr>
        <p:spPr>
          <a:xfrm>
            <a:off x="679968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2" name="TextBox 169"/>
          <p:cNvSpPr/>
          <p:nvPr/>
        </p:nvSpPr>
        <p:spPr>
          <a:xfrm>
            <a:off x="7841880" y="392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3" name="TextBox 164"/>
          <p:cNvSpPr/>
          <p:nvPr/>
        </p:nvSpPr>
        <p:spPr>
          <a:xfrm>
            <a:off x="536832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4" name="TextBox 165"/>
          <p:cNvSpPr/>
          <p:nvPr/>
        </p:nvSpPr>
        <p:spPr>
          <a:xfrm>
            <a:off x="679968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5" name="TextBox 166"/>
          <p:cNvSpPr/>
          <p:nvPr/>
        </p:nvSpPr>
        <p:spPr>
          <a:xfrm>
            <a:off x="7841880" y="429084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6" name="TextBox 161"/>
          <p:cNvSpPr/>
          <p:nvPr/>
        </p:nvSpPr>
        <p:spPr>
          <a:xfrm>
            <a:off x="536832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7" name="TextBox 162"/>
          <p:cNvSpPr/>
          <p:nvPr/>
        </p:nvSpPr>
        <p:spPr>
          <a:xfrm>
            <a:off x="679968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8" name="TextBox 163"/>
          <p:cNvSpPr/>
          <p:nvPr/>
        </p:nvSpPr>
        <p:spPr>
          <a:xfrm>
            <a:off x="7841880" y="4653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39" name="TextBox 158"/>
          <p:cNvSpPr/>
          <p:nvPr/>
        </p:nvSpPr>
        <p:spPr>
          <a:xfrm>
            <a:off x="536832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0" name="TextBox 159"/>
          <p:cNvSpPr/>
          <p:nvPr/>
        </p:nvSpPr>
        <p:spPr>
          <a:xfrm>
            <a:off x="679968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1" name="TextBox 160"/>
          <p:cNvSpPr/>
          <p:nvPr/>
        </p:nvSpPr>
        <p:spPr>
          <a:xfrm>
            <a:off x="7841880" y="5016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2" name="TextBox 155"/>
          <p:cNvSpPr/>
          <p:nvPr/>
        </p:nvSpPr>
        <p:spPr>
          <a:xfrm>
            <a:off x="536832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3" name="TextBox 156"/>
          <p:cNvSpPr/>
          <p:nvPr/>
        </p:nvSpPr>
        <p:spPr>
          <a:xfrm>
            <a:off x="679968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4" name="TextBox 157"/>
          <p:cNvSpPr/>
          <p:nvPr/>
        </p:nvSpPr>
        <p:spPr>
          <a:xfrm>
            <a:off x="7841880" y="53784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5" name="TextBox 152"/>
          <p:cNvSpPr/>
          <p:nvPr/>
        </p:nvSpPr>
        <p:spPr>
          <a:xfrm>
            <a:off x="536832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6" name="TextBox 153"/>
          <p:cNvSpPr/>
          <p:nvPr/>
        </p:nvSpPr>
        <p:spPr>
          <a:xfrm>
            <a:off x="679968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
        <p:nvSpPr>
          <p:cNvPr id="1347" name="TextBox 154"/>
          <p:cNvSpPr/>
          <p:nvPr/>
        </p:nvSpPr>
        <p:spPr>
          <a:xfrm>
            <a:off x="7841880" y="57420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Y견고딕"/>
                <a:ea typeface="HY견고딕"/>
              </a:rPr>
              <a:t>TEXT</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349"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350"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1351" name="Group 5"/>
          <p:cNvGrpSpPr/>
          <p:nvPr/>
        </p:nvGrpSpPr>
        <p:grpSpPr>
          <a:xfrm>
            <a:off x="1517760" y="1695600"/>
            <a:ext cx="6840360" cy="3008160"/>
            <a:chOff x="1517760" y="1695600"/>
            <a:chExt cx="6840360" cy="3008160"/>
          </a:xfrm>
        </p:grpSpPr>
        <p:sp>
          <p:nvSpPr>
            <p:cNvPr id="1352" name="직사각형 41"/>
            <p:cNvSpPr/>
            <p:nvPr/>
          </p:nvSpPr>
          <p:spPr>
            <a:xfrm>
              <a:off x="1525680" y="1697040"/>
              <a:ext cx="6832440" cy="2998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353" name="Group 7"/>
            <p:cNvGrpSpPr/>
            <p:nvPr/>
          </p:nvGrpSpPr>
          <p:grpSpPr>
            <a:xfrm>
              <a:off x="2652120" y="1695600"/>
              <a:ext cx="14760" cy="3008160"/>
              <a:chOff x="2652120" y="1695600"/>
              <a:chExt cx="14760" cy="3008160"/>
            </a:xfrm>
          </p:grpSpPr>
          <p:sp>
            <p:nvSpPr>
              <p:cNvPr id="1354" name="직선 연결선 43"/>
              <p:cNvSpPr/>
              <p:nvPr/>
            </p:nvSpPr>
            <p:spPr>
              <a:xfrm flipH="1">
                <a:off x="2652120" y="1695600"/>
                <a:ext cx="1440" cy="300816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55" name="직선 연결선 44"/>
              <p:cNvSpPr/>
              <p:nvPr/>
            </p:nvSpPr>
            <p:spPr>
              <a:xfrm flipH="1">
                <a:off x="2665440" y="1695600"/>
                <a:ext cx="1440" cy="3008160"/>
              </a:xfrm>
              <a:prstGeom prst="line">
                <a:avLst/>
              </a:prstGeom>
              <a:ln w="1260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356" name="Group 10"/>
            <p:cNvGrpSpPr/>
            <p:nvPr/>
          </p:nvGrpSpPr>
          <p:grpSpPr>
            <a:xfrm>
              <a:off x="3794040" y="1695600"/>
              <a:ext cx="14760" cy="3008160"/>
              <a:chOff x="3794040" y="1695600"/>
              <a:chExt cx="14760" cy="3008160"/>
            </a:xfrm>
          </p:grpSpPr>
          <p:sp>
            <p:nvSpPr>
              <p:cNvPr id="1357" name="직선 연결선 49"/>
              <p:cNvSpPr/>
              <p:nvPr/>
            </p:nvSpPr>
            <p:spPr>
              <a:xfrm flipH="1">
                <a:off x="3794040" y="1695600"/>
                <a:ext cx="1440" cy="300816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58" name="직선 연결선 50"/>
              <p:cNvSpPr/>
              <p:nvPr/>
            </p:nvSpPr>
            <p:spPr>
              <a:xfrm flipH="1">
                <a:off x="3807360" y="1695600"/>
                <a:ext cx="1440" cy="3008160"/>
              </a:xfrm>
              <a:prstGeom prst="line">
                <a:avLst/>
              </a:prstGeom>
              <a:ln w="1260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359" name="Group 13"/>
            <p:cNvGrpSpPr/>
            <p:nvPr/>
          </p:nvGrpSpPr>
          <p:grpSpPr>
            <a:xfrm>
              <a:off x="4936320" y="1695600"/>
              <a:ext cx="14760" cy="3008160"/>
              <a:chOff x="4936320" y="1695600"/>
              <a:chExt cx="14760" cy="3008160"/>
            </a:xfrm>
          </p:grpSpPr>
          <p:sp>
            <p:nvSpPr>
              <p:cNvPr id="1360" name="직선 연결선 52"/>
              <p:cNvSpPr/>
              <p:nvPr/>
            </p:nvSpPr>
            <p:spPr>
              <a:xfrm flipH="1">
                <a:off x="4936320" y="1695600"/>
                <a:ext cx="1440" cy="300816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1" name="직선 연결선 53"/>
              <p:cNvSpPr/>
              <p:nvPr/>
            </p:nvSpPr>
            <p:spPr>
              <a:xfrm flipH="1">
                <a:off x="4949640" y="1695600"/>
                <a:ext cx="1440" cy="3008160"/>
              </a:xfrm>
              <a:prstGeom prst="line">
                <a:avLst/>
              </a:prstGeom>
              <a:ln w="1260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362" name="Group 16"/>
            <p:cNvGrpSpPr/>
            <p:nvPr/>
          </p:nvGrpSpPr>
          <p:grpSpPr>
            <a:xfrm>
              <a:off x="6078240" y="1695600"/>
              <a:ext cx="14760" cy="3008160"/>
              <a:chOff x="6078240" y="1695600"/>
              <a:chExt cx="14760" cy="3008160"/>
            </a:xfrm>
          </p:grpSpPr>
          <p:sp>
            <p:nvSpPr>
              <p:cNvPr id="1363" name="직선 연결선 55"/>
              <p:cNvSpPr/>
              <p:nvPr/>
            </p:nvSpPr>
            <p:spPr>
              <a:xfrm flipH="1">
                <a:off x="6078240" y="1695600"/>
                <a:ext cx="1440" cy="300816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4" name="직선 연결선 56"/>
              <p:cNvSpPr/>
              <p:nvPr/>
            </p:nvSpPr>
            <p:spPr>
              <a:xfrm flipH="1">
                <a:off x="6091560" y="1695600"/>
                <a:ext cx="1440" cy="3008160"/>
              </a:xfrm>
              <a:prstGeom prst="line">
                <a:avLst/>
              </a:prstGeom>
              <a:ln w="1260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365" name="Group 19"/>
            <p:cNvGrpSpPr/>
            <p:nvPr/>
          </p:nvGrpSpPr>
          <p:grpSpPr>
            <a:xfrm>
              <a:off x="7220160" y="1695600"/>
              <a:ext cx="14760" cy="3008160"/>
              <a:chOff x="7220160" y="1695600"/>
              <a:chExt cx="14760" cy="3008160"/>
            </a:xfrm>
          </p:grpSpPr>
          <p:sp>
            <p:nvSpPr>
              <p:cNvPr id="1366" name="직선 연결선 58"/>
              <p:cNvSpPr/>
              <p:nvPr/>
            </p:nvSpPr>
            <p:spPr>
              <a:xfrm flipH="1">
                <a:off x="7220160" y="1695600"/>
                <a:ext cx="1440" cy="300816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7" name="직선 연결선 59"/>
              <p:cNvSpPr/>
              <p:nvPr/>
            </p:nvSpPr>
            <p:spPr>
              <a:xfrm flipH="1">
                <a:off x="7233480" y="1695600"/>
                <a:ext cx="1440" cy="3008160"/>
              </a:xfrm>
              <a:prstGeom prst="line">
                <a:avLst/>
              </a:prstGeom>
              <a:ln w="1260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368" name="Group 22"/>
            <p:cNvGrpSpPr/>
            <p:nvPr/>
          </p:nvGrpSpPr>
          <p:grpSpPr>
            <a:xfrm>
              <a:off x="1517760" y="1697040"/>
              <a:ext cx="6840360" cy="3006360"/>
              <a:chOff x="1517760" y="1697040"/>
              <a:chExt cx="6840360" cy="3006360"/>
            </a:xfrm>
          </p:grpSpPr>
          <p:sp>
            <p:nvSpPr>
              <p:cNvPr id="1369" name="직선 연결선 34"/>
              <p:cNvSpPr/>
              <p:nvPr/>
            </p:nvSpPr>
            <p:spPr>
              <a:xfrm flipH="1">
                <a:off x="1519200" y="1697040"/>
                <a:ext cx="1440" cy="300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0" name="직선 연결선 36"/>
              <p:cNvSpPr/>
              <p:nvPr/>
            </p:nvSpPr>
            <p:spPr>
              <a:xfrm>
                <a:off x="1517760" y="4695480"/>
                <a:ext cx="684036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grpSp>
      </p:grpSp>
      <p:sp>
        <p:nvSpPr>
          <p:cNvPr id="1371" name="TextBox 64"/>
          <p:cNvSpPr/>
          <p:nvPr/>
        </p:nvSpPr>
        <p:spPr>
          <a:xfrm>
            <a:off x="2455920" y="4743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20</a:t>
            </a:r>
            <a:endParaRPr b="0" lang="en-US" sz="1600" spc="-1" strike="noStrike">
              <a:solidFill>
                <a:srgbClr val="000000"/>
              </a:solidFill>
              <a:latin typeface="Gulim"/>
            </a:endParaRPr>
          </a:p>
        </p:txBody>
      </p:sp>
      <p:sp>
        <p:nvSpPr>
          <p:cNvPr id="1372" name="TextBox 65"/>
          <p:cNvSpPr/>
          <p:nvPr/>
        </p:nvSpPr>
        <p:spPr>
          <a:xfrm>
            <a:off x="3598920" y="4743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40</a:t>
            </a:r>
            <a:endParaRPr b="0" lang="en-US" sz="1600" spc="-1" strike="noStrike">
              <a:solidFill>
                <a:srgbClr val="000000"/>
              </a:solidFill>
              <a:latin typeface="Gulim"/>
            </a:endParaRPr>
          </a:p>
        </p:txBody>
      </p:sp>
      <p:sp>
        <p:nvSpPr>
          <p:cNvPr id="1373" name="TextBox 66"/>
          <p:cNvSpPr/>
          <p:nvPr/>
        </p:nvSpPr>
        <p:spPr>
          <a:xfrm>
            <a:off x="4741920" y="4743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60</a:t>
            </a:r>
            <a:endParaRPr b="0" lang="en-US" sz="1600" spc="-1" strike="noStrike">
              <a:solidFill>
                <a:srgbClr val="000000"/>
              </a:solidFill>
              <a:latin typeface="Gulim"/>
            </a:endParaRPr>
          </a:p>
        </p:txBody>
      </p:sp>
      <p:sp>
        <p:nvSpPr>
          <p:cNvPr id="1374" name="TextBox 67"/>
          <p:cNvSpPr/>
          <p:nvPr/>
        </p:nvSpPr>
        <p:spPr>
          <a:xfrm>
            <a:off x="5884920" y="4743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80</a:t>
            </a:r>
            <a:endParaRPr b="0" lang="en-US" sz="1600" spc="-1" strike="noStrike">
              <a:solidFill>
                <a:srgbClr val="000000"/>
              </a:solidFill>
              <a:latin typeface="Gulim"/>
            </a:endParaRPr>
          </a:p>
        </p:txBody>
      </p:sp>
      <p:sp>
        <p:nvSpPr>
          <p:cNvPr id="1375" name="TextBox 68"/>
          <p:cNvSpPr/>
          <p:nvPr/>
        </p:nvSpPr>
        <p:spPr>
          <a:xfrm>
            <a:off x="6973200" y="4743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100</a:t>
            </a:r>
            <a:endParaRPr b="0" lang="en-US" sz="1600" spc="-1" strike="noStrike">
              <a:solidFill>
                <a:srgbClr val="000000"/>
              </a:solidFill>
              <a:latin typeface="Gulim"/>
            </a:endParaRPr>
          </a:p>
        </p:txBody>
      </p:sp>
      <p:sp>
        <p:nvSpPr>
          <p:cNvPr id="1376" name="TextBox 69"/>
          <p:cNvSpPr/>
          <p:nvPr/>
        </p:nvSpPr>
        <p:spPr>
          <a:xfrm>
            <a:off x="1441440" y="5319720"/>
            <a:ext cx="70722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53a7"/>
                </a:solidFill>
                <a:latin typeface="Arial Black"/>
                <a:ea typeface="HY견고딕"/>
              </a:rPr>
              <a:t>ASADAL INTERNET, INC.</a:t>
            </a:r>
            <a:endParaRPr b="0" lang="en-US" sz="1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200" spc="-1" strike="noStrike">
              <a:solidFill>
                <a:srgbClr val="000000"/>
              </a:solidFill>
              <a:latin typeface="Gulim"/>
            </a:endParaRPr>
          </a:p>
        </p:txBody>
      </p:sp>
      <p:grpSp>
        <p:nvGrpSpPr>
          <p:cNvPr id="1377" name="Group 31"/>
          <p:cNvGrpSpPr/>
          <p:nvPr/>
        </p:nvGrpSpPr>
        <p:grpSpPr>
          <a:xfrm>
            <a:off x="1530360" y="1879560"/>
            <a:ext cx="5429160" cy="388800"/>
            <a:chOff x="1530360" y="1879560"/>
            <a:chExt cx="5429160" cy="388800"/>
          </a:xfrm>
        </p:grpSpPr>
        <p:sp>
          <p:nvSpPr>
            <p:cNvPr id="1378" name="직사각형 71"/>
            <p:cNvSpPr/>
            <p:nvPr/>
          </p:nvSpPr>
          <p:spPr>
            <a:xfrm>
              <a:off x="1530360" y="1879560"/>
              <a:ext cx="5429160" cy="388800"/>
            </a:xfrm>
            <a:prstGeom prst="rect">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9" name="직사각형 85"/>
            <p:cNvSpPr/>
            <p:nvPr/>
          </p:nvSpPr>
          <p:spPr>
            <a:xfrm>
              <a:off x="1530360" y="1879560"/>
              <a:ext cx="5429160" cy="210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0" name="Group 34"/>
          <p:cNvGrpSpPr/>
          <p:nvPr/>
        </p:nvGrpSpPr>
        <p:grpSpPr>
          <a:xfrm>
            <a:off x="1530360" y="2438280"/>
            <a:ext cx="4552920" cy="389160"/>
            <a:chOff x="1530360" y="2438280"/>
            <a:chExt cx="4552920" cy="389160"/>
          </a:xfrm>
        </p:grpSpPr>
        <p:sp>
          <p:nvSpPr>
            <p:cNvPr id="1381" name="직사각형 88"/>
            <p:cNvSpPr/>
            <p:nvPr/>
          </p:nvSpPr>
          <p:spPr>
            <a:xfrm>
              <a:off x="1530360" y="2438280"/>
              <a:ext cx="4552920" cy="38916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직사각형 89"/>
            <p:cNvSpPr/>
            <p:nvPr/>
          </p:nvSpPr>
          <p:spPr>
            <a:xfrm>
              <a:off x="1530360" y="2438280"/>
              <a:ext cx="4552920" cy="2113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3" name="Group 37"/>
          <p:cNvGrpSpPr/>
          <p:nvPr/>
        </p:nvGrpSpPr>
        <p:grpSpPr>
          <a:xfrm>
            <a:off x="1530360" y="2997360"/>
            <a:ext cx="3755880" cy="388800"/>
            <a:chOff x="1530360" y="2997360"/>
            <a:chExt cx="3755880" cy="388800"/>
          </a:xfrm>
        </p:grpSpPr>
        <p:sp>
          <p:nvSpPr>
            <p:cNvPr id="1384" name="직사각형 91"/>
            <p:cNvSpPr/>
            <p:nvPr/>
          </p:nvSpPr>
          <p:spPr>
            <a:xfrm>
              <a:off x="1530360" y="2997360"/>
              <a:ext cx="3755880" cy="38880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5" name="직사각형 92"/>
            <p:cNvSpPr/>
            <p:nvPr/>
          </p:nvSpPr>
          <p:spPr>
            <a:xfrm>
              <a:off x="1530360" y="2997360"/>
              <a:ext cx="3755880" cy="210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6" name="Group 40"/>
          <p:cNvGrpSpPr/>
          <p:nvPr/>
        </p:nvGrpSpPr>
        <p:grpSpPr>
          <a:xfrm>
            <a:off x="1530360" y="3556080"/>
            <a:ext cx="3112920" cy="388800"/>
            <a:chOff x="1530360" y="3556080"/>
            <a:chExt cx="3112920" cy="388800"/>
          </a:xfrm>
        </p:grpSpPr>
        <p:sp>
          <p:nvSpPr>
            <p:cNvPr id="1387" name="직사각형 94"/>
            <p:cNvSpPr/>
            <p:nvPr/>
          </p:nvSpPr>
          <p:spPr>
            <a:xfrm>
              <a:off x="1530360" y="3556080"/>
              <a:ext cx="3112920" cy="38880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8" name="직사각형 95"/>
            <p:cNvSpPr/>
            <p:nvPr/>
          </p:nvSpPr>
          <p:spPr>
            <a:xfrm>
              <a:off x="1530360" y="3556080"/>
              <a:ext cx="3112920" cy="210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9" name="Group 43"/>
          <p:cNvGrpSpPr/>
          <p:nvPr/>
        </p:nvGrpSpPr>
        <p:grpSpPr>
          <a:xfrm>
            <a:off x="1530360" y="4114800"/>
            <a:ext cx="2255760" cy="388800"/>
            <a:chOff x="1530360" y="4114800"/>
            <a:chExt cx="2255760" cy="388800"/>
          </a:xfrm>
        </p:grpSpPr>
        <p:sp>
          <p:nvSpPr>
            <p:cNvPr id="1390" name="직사각형 97"/>
            <p:cNvSpPr/>
            <p:nvPr/>
          </p:nvSpPr>
          <p:spPr>
            <a:xfrm>
              <a:off x="1530360" y="4114800"/>
              <a:ext cx="2255760" cy="38880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1" name="직사각형 98"/>
            <p:cNvSpPr/>
            <p:nvPr/>
          </p:nvSpPr>
          <p:spPr>
            <a:xfrm>
              <a:off x="1530360" y="4114800"/>
              <a:ext cx="2255760" cy="21096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2" name="TextBox 99"/>
          <p:cNvSpPr/>
          <p:nvPr/>
        </p:nvSpPr>
        <p:spPr>
          <a:xfrm>
            <a:off x="775440" y="188748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TEXT</a:t>
            </a:r>
            <a:endParaRPr b="0" lang="en-US" sz="1600" spc="-1" strike="noStrike">
              <a:solidFill>
                <a:srgbClr val="000000"/>
              </a:solidFill>
              <a:latin typeface="Gulim"/>
            </a:endParaRPr>
          </a:p>
        </p:txBody>
      </p:sp>
      <p:sp>
        <p:nvSpPr>
          <p:cNvPr id="1393" name="TextBox 100"/>
          <p:cNvSpPr/>
          <p:nvPr/>
        </p:nvSpPr>
        <p:spPr>
          <a:xfrm>
            <a:off x="775440" y="244944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TEXT</a:t>
            </a:r>
            <a:endParaRPr b="0" lang="en-US" sz="1600" spc="-1" strike="noStrike">
              <a:solidFill>
                <a:srgbClr val="000000"/>
              </a:solidFill>
              <a:latin typeface="Gulim"/>
            </a:endParaRPr>
          </a:p>
        </p:txBody>
      </p:sp>
      <p:sp>
        <p:nvSpPr>
          <p:cNvPr id="1394" name="TextBox 101"/>
          <p:cNvSpPr/>
          <p:nvPr/>
        </p:nvSpPr>
        <p:spPr>
          <a:xfrm>
            <a:off x="775440" y="30114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TEXT</a:t>
            </a:r>
            <a:endParaRPr b="0" lang="en-US" sz="1600" spc="-1" strike="noStrike">
              <a:solidFill>
                <a:srgbClr val="000000"/>
              </a:solidFill>
              <a:latin typeface="Gulim"/>
            </a:endParaRPr>
          </a:p>
        </p:txBody>
      </p:sp>
      <p:sp>
        <p:nvSpPr>
          <p:cNvPr id="1395" name="TextBox 102"/>
          <p:cNvSpPr/>
          <p:nvPr/>
        </p:nvSpPr>
        <p:spPr>
          <a:xfrm>
            <a:off x="775440" y="357336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TEXT</a:t>
            </a:r>
            <a:endParaRPr b="0" lang="en-US" sz="1600" spc="-1" strike="noStrike">
              <a:solidFill>
                <a:srgbClr val="000000"/>
              </a:solidFill>
              <a:latin typeface="Gulim"/>
            </a:endParaRPr>
          </a:p>
        </p:txBody>
      </p:sp>
      <p:sp>
        <p:nvSpPr>
          <p:cNvPr id="1396" name="TextBox 103"/>
          <p:cNvSpPr/>
          <p:nvPr/>
        </p:nvSpPr>
        <p:spPr>
          <a:xfrm>
            <a:off x="775440" y="413532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HY견고딕"/>
                <a:ea typeface="HY견고딕"/>
              </a:rPr>
              <a:t>TEXT</a:t>
            </a:r>
            <a:endParaRPr b="0" lang="en-US" sz="1600" spc="-1" strike="noStrike">
              <a:solidFill>
                <a:srgbClr val="000000"/>
              </a:solidFill>
              <a:latin typeface="Gulim"/>
            </a:endParaRPr>
          </a:p>
        </p:txBody>
      </p:sp>
      <p:sp>
        <p:nvSpPr>
          <p:cNvPr id="1397" name="TextBox 104"/>
          <p:cNvSpPr/>
          <p:nvPr/>
        </p:nvSpPr>
        <p:spPr>
          <a:xfrm>
            <a:off x="7036560" y="19098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84807"/>
                </a:solidFill>
                <a:latin typeface="HY견고딕"/>
                <a:ea typeface="HY견고딕"/>
              </a:rPr>
              <a:t>TEXT</a:t>
            </a:r>
            <a:endParaRPr b="0" lang="en-US" sz="1600" spc="-1" strike="noStrike">
              <a:solidFill>
                <a:srgbClr val="000000"/>
              </a:solidFill>
              <a:latin typeface="Gulim"/>
            </a:endParaRPr>
          </a:p>
        </p:txBody>
      </p:sp>
      <p:sp>
        <p:nvSpPr>
          <p:cNvPr id="1398" name="TextBox 105"/>
          <p:cNvSpPr/>
          <p:nvPr/>
        </p:nvSpPr>
        <p:spPr>
          <a:xfrm>
            <a:off x="6153840" y="246852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a7"/>
                </a:solidFill>
                <a:latin typeface="HY견고딕"/>
                <a:ea typeface="HY견고딕"/>
              </a:rPr>
              <a:t>TEXT</a:t>
            </a:r>
            <a:endParaRPr b="0" lang="en-US" sz="1600" spc="-1" strike="noStrike">
              <a:solidFill>
                <a:srgbClr val="000000"/>
              </a:solidFill>
              <a:latin typeface="Gulim"/>
            </a:endParaRPr>
          </a:p>
        </p:txBody>
      </p:sp>
      <p:sp>
        <p:nvSpPr>
          <p:cNvPr id="1399" name="TextBox 106"/>
          <p:cNvSpPr/>
          <p:nvPr/>
        </p:nvSpPr>
        <p:spPr>
          <a:xfrm>
            <a:off x="5339520" y="302580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a7"/>
                </a:solidFill>
                <a:latin typeface="HY견고딕"/>
                <a:ea typeface="HY견고딕"/>
              </a:rPr>
              <a:t>TEXT</a:t>
            </a:r>
            <a:endParaRPr b="0" lang="en-US" sz="1600" spc="-1" strike="noStrike">
              <a:solidFill>
                <a:srgbClr val="000000"/>
              </a:solidFill>
              <a:latin typeface="Gulim"/>
            </a:endParaRPr>
          </a:p>
        </p:txBody>
      </p:sp>
      <p:sp>
        <p:nvSpPr>
          <p:cNvPr id="1400" name="TextBox 107"/>
          <p:cNvSpPr/>
          <p:nvPr/>
        </p:nvSpPr>
        <p:spPr>
          <a:xfrm>
            <a:off x="4725360" y="358128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a7"/>
                </a:solidFill>
                <a:latin typeface="HY견고딕"/>
                <a:ea typeface="HY견고딕"/>
              </a:rPr>
              <a:t>TEXT</a:t>
            </a:r>
            <a:endParaRPr b="0" lang="en-US" sz="1600" spc="-1" strike="noStrike">
              <a:solidFill>
                <a:srgbClr val="000000"/>
              </a:solidFill>
              <a:latin typeface="Gulim"/>
            </a:endParaRPr>
          </a:p>
        </p:txBody>
      </p:sp>
      <p:sp>
        <p:nvSpPr>
          <p:cNvPr id="1401" name="TextBox 108"/>
          <p:cNvSpPr/>
          <p:nvPr/>
        </p:nvSpPr>
        <p:spPr>
          <a:xfrm>
            <a:off x="3867840" y="4138560"/>
            <a:ext cx="63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a7"/>
                </a:solidFill>
                <a:latin typeface="HY견고딕"/>
                <a:ea typeface="HY견고딕"/>
              </a:rPr>
              <a:t>TEXT</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그림 186" descr="1.png"/>
          <p:cNvPicPr/>
          <p:nvPr/>
        </p:nvPicPr>
        <p:blipFill>
          <a:blip r:embed="rId1">
            <a:lum contrast="40000"/>
          </a:blip>
          <a:stretch/>
        </p:blipFill>
        <p:spPr>
          <a:xfrm>
            <a:off x="685800" y="1692360"/>
            <a:ext cx="2743200" cy="4379760"/>
          </a:xfrm>
          <a:prstGeom prst="rect">
            <a:avLst/>
          </a:prstGeom>
          <a:ln w="0">
            <a:noFill/>
          </a:ln>
        </p:spPr>
      </p:pic>
      <p:grpSp>
        <p:nvGrpSpPr>
          <p:cNvPr id="1403" name="Group 3"/>
          <p:cNvGrpSpPr/>
          <p:nvPr/>
        </p:nvGrpSpPr>
        <p:grpSpPr>
          <a:xfrm>
            <a:off x="2540160" y="3535200"/>
            <a:ext cx="1863720" cy="327240"/>
            <a:chOff x="2540160" y="3535200"/>
            <a:chExt cx="1863720" cy="327240"/>
          </a:xfrm>
        </p:grpSpPr>
        <p:sp>
          <p:nvSpPr>
            <p:cNvPr id="1404" name="자유형 229"/>
            <p:cNvSpPr/>
            <p:nvPr/>
          </p:nvSpPr>
          <p:spPr>
            <a:xfrm>
              <a:off x="2540160" y="3557160"/>
              <a:ext cx="1859040" cy="305280"/>
            </a:xfrm>
            <a:custGeom>
              <a:avLst/>
              <a:gdLst>
                <a:gd name="textAreaLeft" fmla="*/ 0 w 1859040"/>
                <a:gd name="textAreaRight" fmla="*/ 1859400 w 1859040"/>
                <a:gd name="textAreaTop" fmla="*/ 0 h 305280"/>
                <a:gd name="textAreaBottom" fmla="*/ 305640 h 305280"/>
              </a:gdLst>
              <a:ahLst/>
              <a:rect l="textAreaLeft" t="textAreaTop" r="textAreaRight" b="textAreaBottom"/>
              <a:pathLst>
                <a:path w="1859280" h="304800">
                  <a:moveTo>
                    <a:pt x="0" y="0"/>
                  </a:moveTo>
                  <a:lnTo>
                    <a:pt x="342900" y="304800"/>
                  </a:lnTo>
                  <a:lnTo>
                    <a:pt x="1859280" y="304800"/>
                  </a:lnTo>
                </a:path>
              </a:pathLst>
            </a:custGeom>
            <a:no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405" name="자유형 228"/>
            <p:cNvSpPr/>
            <p:nvPr/>
          </p:nvSpPr>
          <p:spPr>
            <a:xfrm>
              <a:off x="2544840" y="3535200"/>
              <a:ext cx="1859040" cy="305280"/>
            </a:xfrm>
            <a:custGeom>
              <a:avLst/>
              <a:gdLst>
                <a:gd name="textAreaLeft" fmla="*/ 0 w 1859040"/>
                <a:gd name="textAreaRight" fmla="*/ 1859400 w 1859040"/>
                <a:gd name="textAreaTop" fmla="*/ 0 h 305280"/>
                <a:gd name="textAreaBottom" fmla="*/ 305640 h 305280"/>
              </a:gdLst>
              <a:ahLst/>
              <a:rect l="textAreaLeft" t="textAreaTop" r="textAreaRight" b="textAreaBottom"/>
              <a:pathLst>
                <a:path w="1859280" h="304800">
                  <a:moveTo>
                    <a:pt x="0" y="0"/>
                  </a:moveTo>
                  <a:lnTo>
                    <a:pt x="342900" y="304800"/>
                  </a:lnTo>
                  <a:lnTo>
                    <a:pt x="1859280" y="304800"/>
                  </a:lnTo>
                </a:path>
              </a:pathLst>
            </a:custGeom>
            <a:noFill/>
            <a:ln w="19080">
              <a:solidFill>
                <a:srgbClr val="00b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406" name="Group 6"/>
          <p:cNvGrpSpPr/>
          <p:nvPr/>
        </p:nvGrpSpPr>
        <p:grpSpPr>
          <a:xfrm>
            <a:off x="2357280" y="3357720"/>
            <a:ext cx="347760" cy="347400"/>
            <a:chOff x="2357280" y="3357720"/>
            <a:chExt cx="347760" cy="347400"/>
          </a:xfrm>
        </p:grpSpPr>
        <p:sp>
          <p:nvSpPr>
            <p:cNvPr id="1407" name="타원 212"/>
            <p:cNvSpPr/>
            <p:nvPr/>
          </p:nvSpPr>
          <p:spPr>
            <a:xfrm>
              <a:off x="2357280" y="3357720"/>
              <a:ext cx="347760" cy="347400"/>
            </a:xfrm>
            <a:prstGeom prst="ellipse">
              <a:avLst/>
            </a:prstGeom>
            <a:solidFill>
              <a:srgbClr val="eaf8d8">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8" name="타원 206"/>
            <p:cNvSpPr/>
            <p:nvPr/>
          </p:nvSpPr>
          <p:spPr>
            <a:xfrm>
              <a:off x="2425320" y="3425760"/>
              <a:ext cx="211320" cy="210960"/>
            </a:xfrm>
            <a:prstGeom prst="ellipse">
              <a:avLst/>
            </a:prstGeom>
            <a:solidFill>
              <a:srgbClr val="00b400"/>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9"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1410"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1411"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
        <p:nvSpPr>
          <p:cNvPr id="1412" name="타원 165"/>
          <p:cNvSpPr/>
          <p:nvPr/>
        </p:nvSpPr>
        <p:spPr>
          <a:xfrm>
            <a:off x="4214880" y="3286080"/>
            <a:ext cx="1127160" cy="112716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413" name="Group 13"/>
          <p:cNvGrpSpPr/>
          <p:nvPr/>
        </p:nvGrpSpPr>
        <p:grpSpPr>
          <a:xfrm>
            <a:off x="4280040" y="3286080"/>
            <a:ext cx="4262400" cy="1125720"/>
            <a:chOff x="4280040" y="3286080"/>
            <a:chExt cx="4262400" cy="1125720"/>
          </a:xfrm>
        </p:grpSpPr>
        <p:sp>
          <p:nvSpPr>
            <p:cNvPr id="1414" name="직사각형 163"/>
            <p:cNvSpPr/>
            <p:nvPr/>
          </p:nvSpPr>
          <p:spPr>
            <a:xfrm>
              <a:off x="4776840" y="3286080"/>
              <a:ext cx="3765600" cy="11257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5" name="타원 166"/>
            <p:cNvSpPr/>
            <p:nvPr/>
          </p:nvSpPr>
          <p:spPr>
            <a:xfrm>
              <a:off x="4280040" y="3350880"/>
              <a:ext cx="998280" cy="99720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16" name="TextBox 160"/>
          <p:cNvSpPr/>
          <p:nvPr/>
        </p:nvSpPr>
        <p:spPr>
          <a:xfrm>
            <a:off x="4400640" y="364968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1417" name="TextBox 162"/>
          <p:cNvSpPr/>
          <p:nvPr/>
        </p:nvSpPr>
        <p:spPr>
          <a:xfrm>
            <a:off x="5373720" y="3429000"/>
            <a:ext cx="321480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400"/>
                </a:solidFill>
                <a:latin typeface="Arial Black"/>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grpSp>
        <p:nvGrpSpPr>
          <p:cNvPr id="1418" name="Group 18"/>
          <p:cNvGrpSpPr/>
          <p:nvPr/>
        </p:nvGrpSpPr>
        <p:grpSpPr>
          <a:xfrm>
            <a:off x="1608120" y="2411280"/>
            <a:ext cx="2879640" cy="14760"/>
            <a:chOff x="1608120" y="2411280"/>
            <a:chExt cx="2879640" cy="14760"/>
          </a:xfrm>
        </p:grpSpPr>
        <p:sp>
          <p:nvSpPr>
            <p:cNvPr id="1419" name="자유형 226"/>
            <p:cNvSpPr/>
            <p:nvPr/>
          </p:nvSpPr>
          <p:spPr>
            <a:xfrm>
              <a:off x="1608120" y="2425680"/>
              <a:ext cx="2879640" cy="360"/>
            </a:xfrm>
            <a:custGeom>
              <a:avLst/>
              <a:gdLst/>
              <a:ahLst/>
              <a:rect l="l" t="t" r="r" b="b"/>
              <a:pathLst>
                <a:path w="2879834" h="0">
                  <a:moveTo>
                    <a:pt x="0" y="0"/>
                  </a:moveTo>
                  <a:lnTo>
                    <a:pt x="2879834" y="0"/>
                  </a:lnTo>
                </a:path>
              </a:pathLst>
            </a:custGeom>
            <a:noFill/>
            <a:ln w="19080">
              <a:solidFill>
                <a:srgbClr val="ffffff"/>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Gulim"/>
              </a:endParaRPr>
            </a:p>
          </p:txBody>
        </p:sp>
        <p:sp>
          <p:nvSpPr>
            <p:cNvPr id="1420" name="자유형 225"/>
            <p:cNvSpPr/>
            <p:nvPr/>
          </p:nvSpPr>
          <p:spPr>
            <a:xfrm>
              <a:off x="1608120" y="2411280"/>
              <a:ext cx="2879640" cy="360"/>
            </a:xfrm>
            <a:custGeom>
              <a:avLst/>
              <a:gdLst/>
              <a:ahLst/>
              <a:rect l="l" t="t" r="r" b="b"/>
              <a:pathLst>
                <a:path w="2879834" h="0">
                  <a:moveTo>
                    <a:pt x="0" y="0"/>
                  </a:moveTo>
                  <a:lnTo>
                    <a:pt x="2879834" y="0"/>
                  </a:lnTo>
                </a:path>
              </a:pathLst>
            </a:custGeom>
            <a:noFill/>
            <a:ln w="19080">
              <a:solidFill>
                <a:srgbClr val="ffc000"/>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Gulim"/>
              </a:endParaRPr>
            </a:p>
          </p:txBody>
        </p:sp>
      </p:grpSp>
      <p:grpSp>
        <p:nvGrpSpPr>
          <p:cNvPr id="1421" name="Group 21"/>
          <p:cNvGrpSpPr/>
          <p:nvPr/>
        </p:nvGrpSpPr>
        <p:grpSpPr>
          <a:xfrm>
            <a:off x="4214880" y="1857240"/>
            <a:ext cx="4327560" cy="1127160"/>
            <a:chOff x="4214880" y="1857240"/>
            <a:chExt cx="4327560" cy="1127160"/>
          </a:xfrm>
        </p:grpSpPr>
        <p:sp>
          <p:nvSpPr>
            <p:cNvPr id="1422" name="직사각형 139"/>
            <p:cNvSpPr/>
            <p:nvPr/>
          </p:nvSpPr>
          <p:spPr>
            <a:xfrm>
              <a:off x="4776840" y="1857240"/>
              <a:ext cx="3765600" cy="11257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423" name="Group 23"/>
            <p:cNvGrpSpPr/>
            <p:nvPr/>
          </p:nvGrpSpPr>
          <p:grpSpPr>
            <a:xfrm>
              <a:off x="4214880" y="1857240"/>
              <a:ext cx="1127160" cy="1127160"/>
              <a:chOff x="4214880" y="1857240"/>
              <a:chExt cx="1127160" cy="1127160"/>
            </a:xfrm>
          </p:grpSpPr>
          <p:sp>
            <p:nvSpPr>
              <p:cNvPr id="1424" name="타원 135"/>
              <p:cNvSpPr/>
              <p:nvPr/>
            </p:nvSpPr>
            <p:spPr>
              <a:xfrm>
                <a:off x="4214880" y="1857240"/>
                <a:ext cx="1127160" cy="112716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5" name="타원 136"/>
              <p:cNvSpPr/>
              <p:nvPr/>
            </p:nvSpPr>
            <p:spPr>
              <a:xfrm>
                <a:off x="4279680" y="1922040"/>
                <a:ext cx="997200" cy="99720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426" name="TextBox 138"/>
          <p:cNvSpPr/>
          <p:nvPr/>
        </p:nvSpPr>
        <p:spPr>
          <a:xfrm>
            <a:off x="4400640" y="22208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1427" name="TextBox 152"/>
          <p:cNvSpPr/>
          <p:nvPr/>
        </p:nvSpPr>
        <p:spPr>
          <a:xfrm>
            <a:off x="5373720" y="2000160"/>
            <a:ext cx="321480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000"/>
                </a:solidFill>
                <a:latin typeface="Arial Black"/>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grpSp>
        <p:nvGrpSpPr>
          <p:cNvPr id="1428" name="Group 28"/>
          <p:cNvGrpSpPr/>
          <p:nvPr/>
        </p:nvGrpSpPr>
        <p:grpSpPr>
          <a:xfrm>
            <a:off x="1428840" y="2246400"/>
            <a:ext cx="347400" cy="347400"/>
            <a:chOff x="1428840" y="2246400"/>
            <a:chExt cx="347400" cy="347400"/>
          </a:xfrm>
        </p:grpSpPr>
        <p:sp>
          <p:nvSpPr>
            <p:cNvPr id="1429" name="타원 215"/>
            <p:cNvSpPr/>
            <p:nvPr/>
          </p:nvSpPr>
          <p:spPr>
            <a:xfrm>
              <a:off x="1428840" y="2246400"/>
              <a:ext cx="347400" cy="347400"/>
            </a:xfrm>
            <a:prstGeom prst="ellipse">
              <a:avLst/>
            </a:prstGeom>
            <a:solidFill>
              <a:srgbClr val="eaf8d8">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0" name="타원 54"/>
            <p:cNvSpPr/>
            <p:nvPr/>
          </p:nvSpPr>
          <p:spPr>
            <a:xfrm>
              <a:off x="1496880" y="2314440"/>
              <a:ext cx="210960" cy="210960"/>
            </a:xfrm>
            <a:prstGeom prst="ellipse">
              <a:avLst/>
            </a:prstGeom>
            <a:solidFill>
              <a:srgbClr val="ffc000"/>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31" name="Group 31"/>
          <p:cNvGrpSpPr/>
          <p:nvPr/>
        </p:nvGrpSpPr>
        <p:grpSpPr>
          <a:xfrm>
            <a:off x="1655640" y="4183200"/>
            <a:ext cx="2791080" cy="1174680"/>
            <a:chOff x="1655640" y="4183200"/>
            <a:chExt cx="2791080" cy="1174680"/>
          </a:xfrm>
        </p:grpSpPr>
        <p:sp>
          <p:nvSpPr>
            <p:cNvPr id="1432" name="자유형 235"/>
            <p:cNvSpPr/>
            <p:nvPr/>
          </p:nvSpPr>
          <p:spPr>
            <a:xfrm>
              <a:off x="1655640" y="4201920"/>
              <a:ext cx="2784960" cy="1155960"/>
            </a:xfrm>
            <a:custGeom>
              <a:avLst/>
              <a:gdLst>
                <a:gd name="textAreaLeft" fmla="*/ 0 w 2784960"/>
                <a:gd name="textAreaRight" fmla="*/ 2785320 w 2784960"/>
                <a:gd name="textAreaTop" fmla="*/ 0 h 1155960"/>
                <a:gd name="textAreaBottom" fmla="*/ 1156320 h 1155960"/>
              </a:gdLst>
              <a:ahLst/>
              <a:rect l="textAreaLeft" t="textAreaTop" r="textAreaRight" b="textAreaBottom"/>
              <a:pathLst>
                <a:path w="2785241" h="1156138">
                  <a:moveTo>
                    <a:pt x="0" y="0"/>
                  </a:moveTo>
                  <a:lnTo>
                    <a:pt x="945931" y="1156138"/>
                  </a:lnTo>
                  <a:lnTo>
                    <a:pt x="2785241" y="1156138"/>
                  </a:ln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433" name="자유형 234"/>
            <p:cNvSpPr/>
            <p:nvPr/>
          </p:nvSpPr>
          <p:spPr>
            <a:xfrm>
              <a:off x="1661760" y="4183200"/>
              <a:ext cx="2784960" cy="1155960"/>
            </a:xfrm>
            <a:custGeom>
              <a:avLst/>
              <a:gdLst>
                <a:gd name="textAreaLeft" fmla="*/ 0 w 2784960"/>
                <a:gd name="textAreaRight" fmla="*/ 2785320 w 2784960"/>
                <a:gd name="textAreaTop" fmla="*/ 0 h 1155960"/>
                <a:gd name="textAreaBottom" fmla="*/ 1156320 h 1155960"/>
              </a:gdLst>
              <a:ahLst/>
              <a:rect l="textAreaLeft" t="textAreaTop" r="textAreaRight" b="textAreaBottom"/>
              <a:pathLst>
                <a:path w="2785241" h="1156138">
                  <a:moveTo>
                    <a:pt x="0" y="0"/>
                  </a:moveTo>
                  <a:lnTo>
                    <a:pt x="945931" y="1156138"/>
                  </a:lnTo>
                  <a:lnTo>
                    <a:pt x="2785241" y="1156138"/>
                  </a:lnTo>
                </a:path>
              </a:pathLst>
            </a:custGeom>
            <a:noFill/>
            <a:ln w="25560">
              <a:solidFill>
                <a:srgbClr val="00ace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434" name="Group 34"/>
          <p:cNvGrpSpPr/>
          <p:nvPr/>
        </p:nvGrpSpPr>
        <p:grpSpPr>
          <a:xfrm>
            <a:off x="1500120" y="4000680"/>
            <a:ext cx="347760" cy="347400"/>
            <a:chOff x="1500120" y="4000680"/>
            <a:chExt cx="347760" cy="347400"/>
          </a:xfrm>
        </p:grpSpPr>
        <p:sp>
          <p:nvSpPr>
            <p:cNvPr id="1435" name="타원 208"/>
            <p:cNvSpPr/>
            <p:nvPr/>
          </p:nvSpPr>
          <p:spPr>
            <a:xfrm>
              <a:off x="1500120" y="4000680"/>
              <a:ext cx="347760" cy="347400"/>
            </a:xfrm>
            <a:prstGeom prst="ellipse">
              <a:avLst/>
            </a:prstGeom>
            <a:solidFill>
              <a:srgbClr val="eaf8d8">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6" name="타원 207"/>
            <p:cNvSpPr/>
            <p:nvPr/>
          </p:nvSpPr>
          <p:spPr>
            <a:xfrm>
              <a:off x="1568160" y="4068720"/>
              <a:ext cx="211320" cy="210960"/>
            </a:xfrm>
            <a:prstGeom prst="ellipse">
              <a:avLst/>
            </a:prstGeom>
            <a:solidFill>
              <a:srgbClr val="00acee"/>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37" name="Group 37"/>
          <p:cNvGrpSpPr/>
          <p:nvPr/>
        </p:nvGrpSpPr>
        <p:grpSpPr>
          <a:xfrm>
            <a:off x="4214880" y="4714920"/>
            <a:ext cx="4327560" cy="1127160"/>
            <a:chOff x="4214880" y="4714920"/>
            <a:chExt cx="4327560" cy="1127160"/>
          </a:xfrm>
        </p:grpSpPr>
        <p:sp>
          <p:nvSpPr>
            <p:cNvPr id="1438" name="직사각형 172"/>
            <p:cNvSpPr/>
            <p:nvPr/>
          </p:nvSpPr>
          <p:spPr>
            <a:xfrm>
              <a:off x="4776840" y="4714920"/>
              <a:ext cx="3765600" cy="11257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439" name="Group 39"/>
            <p:cNvGrpSpPr/>
            <p:nvPr/>
          </p:nvGrpSpPr>
          <p:grpSpPr>
            <a:xfrm>
              <a:off x="4214880" y="4714920"/>
              <a:ext cx="1127160" cy="1127160"/>
              <a:chOff x="4214880" y="4714920"/>
              <a:chExt cx="1127160" cy="1127160"/>
            </a:xfrm>
          </p:grpSpPr>
          <p:sp>
            <p:nvSpPr>
              <p:cNvPr id="1440" name="타원 174"/>
              <p:cNvSpPr/>
              <p:nvPr/>
            </p:nvSpPr>
            <p:spPr>
              <a:xfrm>
                <a:off x="4214880" y="4714920"/>
                <a:ext cx="1127160" cy="1127160"/>
              </a:xfrm>
              <a:prstGeom prst="ellips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1" name="타원 175"/>
              <p:cNvSpPr/>
              <p:nvPr/>
            </p:nvSpPr>
            <p:spPr>
              <a:xfrm>
                <a:off x="4279680" y="4779720"/>
                <a:ext cx="997200" cy="99720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442" name="TextBox 171"/>
          <p:cNvSpPr/>
          <p:nvPr/>
        </p:nvSpPr>
        <p:spPr>
          <a:xfrm>
            <a:off x="5373720" y="4857840"/>
            <a:ext cx="321480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cee"/>
                </a:solidFill>
                <a:latin typeface="Arial Black"/>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started its business in Seoul Korea in February 1998 with the fundamental goal of providing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f6f6f"/>
                </a:solidFill>
                <a:latin typeface="Arial"/>
                <a:ea typeface="HY견고딕"/>
              </a:rPr>
              <a:t>better internet services to the world.</a:t>
            </a:r>
            <a:endParaRPr b="0" lang="en-US" sz="1100" spc="-1" strike="noStrike">
              <a:solidFill>
                <a:srgbClr val="000000"/>
              </a:solidFill>
              <a:latin typeface="Gulim"/>
            </a:endParaRPr>
          </a:p>
        </p:txBody>
      </p:sp>
      <p:sp>
        <p:nvSpPr>
          <p:cNvPr id="1443" name="TextBox 170"/>
          <p:cNvSpPr/>
          <p:nvPr/>
        </p:nvSpPr>
        <p:spPr>
          <a:xfrm>
            <a:off x="4400640" y="5078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TextBox 12"/>
          <p:cNvSpPr/>
          <p:nvPr/>
        </p:nvSpPr>
        <p:spPr>
          <a:xfrm>
            <a:off x="366840" y="642960"/>
            <a:ext cx="607212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HY견고딕"/>
                <a:ea typeface="HY견고딕"/>
              </a:rPr>
              <a:t>Thank You</a:t>
            </a:r>
            <a:endParaRPr b="0" lang="en-US" sz="5500" spc="-1" strike="noStrike">
              <a:solidFill>
                <a:srgbClr val="000000"/>
              </a:solidFill>
              <a:latin typeface="Gulim"/>
            </a:endParaRPr>
          </a:p>
        </p:txBody>
      </p:sp>
      <p:sp>
        <p:nvSpPr>
          <p:cNvPr id="1445" name="TextBox 13"/>
          <p:cNvSpPr/>
          <p:nvPr/>
        </p:nvSpPr>
        <p:spPr>
          <a:xfrm>
            <a:off x="392040" y="1511280"/>
            <a:ext cx="5851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algun Gothic"/>
              </a:rPr>
              <a:t>Asadal has been running one of the biggest domain and web hosting sites in Korea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algun Gothic"/>
              </a:rPr>
              <a:t>since March 1998. More than 3,000,000 people have visited our websit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algun Gothic"/>
              </a:rPr>
              <a:t>www.asadal.com for domain registration and web hosting.</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234"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235"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236" name="Group 5"/>
          <p:cNvGrpSpPr/>
          <p:nvPr/>
        </p:nvGrpSpPr>
        <p:grpSpPr>
          <a:xfrm>
            <a:off x="471600" y="2214720"/>
            <a:ext cx="1714320" cy="1571400"/>
            <a:chOff x="471600" y="2214720"/>
            <a:chExt cx="1714320" cy="1571400"/>
          </a:xfrm>
        </p:grpSpPr>
        <p:sp>
          <p:nvSpPr>
            <p:cNvPr id="237" name="직사각형 91"/>
            <p:cNvSpPr/>
            <p:nvPr/>
          </p:nvSpPr>
          <p:spPr>
            <a:xfrm>
              <a:off x="471600" y="2214720"/>
              <a:ext cx="1714320" cy="157140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직사각형 97"/>
            <p:cNvSpPr/>
            <p:nvPr/>
          </p:nvSpPr>
          <p:spPr>
            <a:xfrm>
              <a:off x="561960" y="2297160"/>
              <a:ext cx="1533600" cy="1406520"/>
            </a:xfrm>
            <a:prstGeom prst="rect">
              <a:avLst/>
            </a:prstGeom>
            <a:solidFill>
              <a:srgbClr val="ffffff">
                <a:alpha val="75000"/>
              </a:srgbClr>
            </a:solidFill>
            <a:ln w="1908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9" name="Group 8"/>
          <p:cNvGrpSpPr/>
          <p:nvPr/>
        </p:nvGrpSpPr>
        <p:grpSpPr>
          <a:xfrm>
            <a:off x="2629080" y="2214720"/>
            <a:ext cx="1714320" cy="1571400"/>
            <a:chOff x="2629080" y="2214720"/>
            <a:chExt cx="1714320" cy="1571400"/>
          </a:xfrm>
        </p:grpSpPr>
        <p:sp>
          <p:nvSpPr>
            <p:cNvPr id="240" name="직사각형 100"/>
            <p:cNvSpPr/>
            <p:nvPr/>
          </p:nvSpPr>
          <p:spPr>
            <a:xfrm>
              <a:off x="2629080" y="2214720"/>
              <a:ext cx="1714320" cy="157140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1" name="직사각형 101"/>
            <p:cNvSpPr/>
            <p:nvPr/>
          </p:nvSpPr>
          <p:spPr>
            <a:xfrm>
              <a:off x="2719440" y="2297160"/>
              <a:ext cx="1533600" cy="1406520"/>
            </a:xfrm>
            <a:prstGeom prst="rect">
              <a:avLst/>
            </a:prstGeom>
            <a:solidFill>
              <a:srgbClr val="ffffff">
                <a:alpha val="75000"/>
              </a:srgbClr>
            </a:solidFill>
            <a:ln w="1908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11"/>
          <p:cNvGrpSpPr/>
          <p:nvPr/>
        </p:nvGrpSpPr>
        <p:grpSpPr>
          <a:xfrm>
            <a:off x="4786200" y="2214720"/>
            <a:ext cx="1714680" cy="1571400"/>
            <a:chOff x="4786200" y="2214720"/>
            <a:chExt cx="1714680" cy="1571400"/>
          </a:xfrm>
        </p:grpSpPr>
        <p:sp>
          <p:nvSpPr>
            <p:cNvPr id="243" name="직사각형 103"/>
            <p:cNvSpPr/>
            <p:nvPr/>
          </p:nvSpPr>
          <p:spPr>
            <a:xfrm>
              <a:off x="4786200" y="2214720"/>
              <a:ext cx="1714680" cy="157140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직사각형 104"/>
            <p:cNvSpPr/>
            <p:nvPr/>
          </p:nvSpPr>
          <p:spPr>
            <a:xfrm>
              <a:off x="4876560" y="2297160"/>
              <a:ext cx="1533960" cy="1406520"/>
            </a:xfrm>
            <a:prstGeom prst="rect">
              <a:avLst/>
            </a:prstGeom>
            <a:solidFill>
              <a:srgbClr val="ffffff">
                <a:alpha val="75000"/>
              </a:srgbClr>
            </a:solidFill>
            <a:ln w="1908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5" name="Group 14"/>
          <p:cNvGrpSpPr/>
          <p:nvPr/>
        </p:nvGrpSpPr>
        <p:grpSpPr>
          <a:xfrm>
            <a:off x="6943680" y="2214720"/>
            <a:ext cx="1714680" cy="1571400"/>
            <a:chOff x="6943680" y="2214720"/>
            <a:chExt cx="1714680" cy="1571400"/>
          </a:xfrm>
        </p:grpSpPr>
        <p:sp>
          <p:nvSpPr>
            <p:cNvPr id="246" name="직사각형 106"/>
            <p:cNvSpPr/>
            <p:nvPr/>
          </p:nvSpPr>
          <p:spPr>
            <a:xfrm>
              <a:off x="6943680" y="2214720"/>
              <a:ext cx="1714680" cy="157140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직사각형 107"/>
            <p:cNvSpPr/>
            <p:nvPr/>
          </p:nvSpPr>
          <p:spPr>
            <a:xfrm>
              <a:off x="7034040" y="2297160"/>
              <a:ext cx="1533960" cy="1406520"/>
            </a:xfrm>
            <a:prstGeom prst="rect">
              <a:avLst/>
            </a:prstGeom>
            <a:solidFill>
              <a:srgbClr val="00acee"/>
            </a:solidFill>
            <a:ln w="1908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8" name="자유형 111"/>
          <p:cNvSpPr/>
          <p:nvPr/>
        </p:nvSpPr>
        <p:spPr>
          <a:xfrm>
            <a:off x="1284120" y="3056040"/>
            <a:ext cx="6591600" cy="360"/>
          </a:xfrm>
          <a:custGeom>
            <a:avLst/>
            <a:gdLst/>
            <a:ahLst/>
            <a:rect l="l" t="t" r="r" b="b"/>
            <a:pathLst>
              <a:path w="6591300" h="0">
                <a:moveTo>
                  <a:pt x="0" y="0"/>
                </a:moveTo>
                <a:lnTo>
                  <a:pt x="6591300" y="0"/>
                </a:lnTo>
              </a:path>
            </a:pathLst>
          </a:custGeom>
          <a:noFill/>
          <a:ln w="38160">
            <a:solidFill>
              <a:srgbClr val="bfbfbf"/>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Gulim"/>
            </a:endParaRPr>
          </a:p>
        </p:txBody>
      </p:sp>
      <p:sp>
        <p:nvSpPr>
          <p:cNvPr id="249" name="타원 110"/>
          <p:cNvSpPr/>
          <p:nvPr/>
        </p:nvSpPr>
        <p:spPr>
          <a:xfrm>
            <a:off x="1212840" y="2940120"/>
            <a:ext cx="231840" cy="231840"/>
          </a:xfrm>
          <a:prstGeom prst="ellipse">
            <a:avLst/>
          </a:prstGeom>
          <a:solidFill>
            <a:srgbClr val="0053a7"/>
          </a:solidFill>
          <a:ln w="381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타원 112"/>
          <p:cNvSpPr/>
          <p:nvPr/>
        </p:nvSpPr>
        <p:spPr>
          <a:xfrm>
            <a:off x="3370320" y="2940120"/>
            <a:ext cx="231840" cy="231840"/>
          </a:xfrm>
          <a:prstGeom prst="ellipse">
            <a:avLst/>
          </a:prstGeom>
          <a:solidFill>
            <a:srgbClr val="0053a7"/>
          </a:solidFill>
          <a:ln w="381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타원 113"/>
          <p:cNvSpPr/>
          <p:nvPr/>
        </p:nvSpPr>
        <p:spPr>
          <a:xfrm>
            <a:off x="5527800" y="2940120"/>
            <a:ext cx="231480" cy="231840"/>
          </a:xfrm>
          <a:prstGeom prst="ellipse">
            <a:avLst/>
          </a:prstGeom>
          <a:solidFill>
            <a:srgbClr val="0053a7"/>
          </a:solidFill>
          <a:ln w="381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타원 114"/>
          <p:cNvSpPr/>
          <p:nvPr/>
        </p:nvSpPr>
        <p:spPr>
          <a:xfrm>
            <a:off x="7684920" y="2940120"/>
            <a:ext cx="231840" cy="231840"/>
          </a:xfrm>
          <a:prstGeom prst="ellipse">
            <a:avLst/>
          </a:prstGeom>
          <a:solidFill>
            <a:srgbClr val="faee00"/>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3" name="TextBox 121"/>
          <p:cNvSpPr/>
          <p:nvPr/>
        </p:nvSpPr>
        <p:spPr>
          <a:xfrm>
            <a:off x="7363080" y="23572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Y견고딕"/>
                <a:ea typeface="HY견고딕"/>
              </a:rPr>
              <a:t>2010</a:t>
            </a:r>
            <a:endParaRPr b="0" lang="en-US" sz="2400" spc="-1" strike="noStrike">
              <a:solidFill>
                <a:srgbClr val="000000"/>
              </a:solidFill>
              <a:latin typeface="Gulim"/>
            </a:endParaRPr>
          </a:p>
        </p:txBody>
      </p:sp>
      <p:sp>
        <p:nvSpPr>
          <p:cNvPr id="254" name="TextBox 122"/>
          <p:cNvSpPr/>
          <p:nvPr/>
        </p:nvSpPr>
        <p:spPr>
          <a:xfrm>
            <a:off x="5205600" y="23572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HY견고딕"/>
                <a:ea typeface="HY견고딕"/>
              </a:rPr>
              <a:t>2009</a:t>
            </a:r>
            <a:endParaRPr b="0" lang="en-US" sz="2400" spc="-1" strike="noStrike">
              <a:solidFill>
                <a:srgbClr val="000000"/>
              </a:solidFill>
              <a:latin typeface="Gulim"/>
            </a:endParaRPr>
          </a:p>
        </p:txBody>
      </p:sp>
      <p:sp>
        <p:nvSpPr>
          <p:cNvPr id="255" name="TextBox 123"/>
          <p:cNvSpPr/>
          <p:nvPr/>
        </p:nvSpPr>
        <p:spPr>
          <a:xfrm>
            <a:off x="3048480" y="23572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HY견고딕"/>
                <a:ea typeface="HY견고딕"/>
              </a:rPr>
              <a:t>2008</a:t>
            </a:r>
            <a:endParaRPr b="0" lang="en-US" sz="2400" spc="-1" strike="noStrike">
              <a:solidFill>
                <a:srgbClr val="000000"/>
              </a:solidFill>
              <a:latin typeface="Gulim"/>
            </a:endParaRPr>
          </a:p>
        </p:txBody>
      </p:sp>
      <p:sp>
        <p:nvSpPr>
          <p:cNvPr id="256" name="TextBox 124"/>
          <p:cNvSpPr/>
          <p:nvPr/>
        </p:nvSpPr>
        <p:spPr>
          <a:xfrm>
            <a:off x="889920" y="23572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HY견고딕"/>
                <a:ea typeface="HY견고딕"/>
              </a:rPr>
              <a:t>2007</a:t>
            </a:r>
            <a:endParaRPr b="0" lang="en-US" sz="2400" spc="-1" strike="noStrike">
              <a:solidFill>
                <a:srgbClr val="000000"/>
              </a:solidFill>
              <a:latin typeface="Gulim"/>
            </a:endParaRPr>
          </a:p>
        </p:txBody>
      </p:sp>
      <p:sp>
        <p:nvSpPr>
          <p:cNvPr id="257" name="TextBox 125"/>
          <p:cNvSpPr/>
          <p:nvPr/>
        </p:nvSpPr>
        <p:spPr>
          <a:xfrm>
            <a:off x="705240" y="334332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HY견고딕"/>
                <a:ea typeface="HY견고딕"/>
              </a:rPr>
              <a:t>CLICK TO ADD TEXT</a:t>
            </a:r>
            <a:endParaRPr b="0" lang="en-US" sz="900" spc="-1" strike="noStrike">
              <a:solidFill>
                <a:srgbClr val="000000"/>
              </a:solidFill>
              <a:latin typeface="Gulim"/>
            </a:endParaRPr>
          </a:p>
        </p:txBody>
      </p:sp>
      <p:sp>
        <p:nvSpPr>
          <p:cNvPr id="258" name="TextBox 126"/>
          <p:cNvSpPr/>
          <p:nvPr/>
        </p:nvSpPr>
        <p:spPr>
          <a:xfrm>
            <a:off x="2875320" y="334332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HY견고딕"/>
                <a:ea typeface="HY견고딕"/>
              </a:rPr>
              <a:t>CLICK TO ADD TEXT</a:t>
            </a:r>
            <a:endParaRPr b="0" lang="en-US" sz="900" spc="-1" strike="noStrike">
              <a:solidFill>
                <a:srgbClr val="000000"/>
              </a:solidFill>
              <a:latin typeface="Gulim"/>
            </a:endParaRPr>
          </a:p>
        </p:txBody>
      </p:sp>
      <p:sp>
        <p:nvSpPr>
          <p:cNvPr id="259" name="TextBox 127"/>
          <p:cNvSpPr/>
          <p:nvPr/>
        </p:nvSpPr>
        <p:spPr>
          <a:xfrm>
            <a:off x="5016960" y="334332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HY견고딕"/>
                <a:ea typeface="HY견고딕"/>
              </a:rPr>
              <a:t>CLICK TO ADD TEXT</a:t>
            </a:r>
            <a:endParaRPr b="0" lang="en-US" sz="900" spc="-1" strike="noStrike">
              <a:solidFill>
                <a:srgbClr val="000000"/>
              </a:solidFill>
              <a:latin typeface="Gulim"/>
            </a:endParaRPr>
          </a:p>
        </p:txBody>
      </p:sp>
      <p:sp>
        <p:nvSpPr>
          <p:cNvPr id="260" name="TextBox 128"/>
          <p:cNvSpPr/>
          <p:nvPr/>
        </p:nvSpPr>
        <p:spPr>
          <a:xfrm>
            <a:off x="7175160" y="3343320"/>
            <a:ext cx="12369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Y견고딕"/>
                <a:ea typeface="HY견고딕"/>
              </a:rPr>
              <a:t>CLICK TO ADD TEXT</a:t>
            </a:r>
            <a:endParaRPr b="0" lang="en-US" sz="900" spc="-1" strike="noStrike">
              <a:solidFill>
                <a:srgbClr val="000000"/>
              </a:solidFill>
              <a:latin typeface="Gulim"/>
            </a:endParaRPr>
          </a:p>
        </p:txBody>
      </p:sp>
      <p:sp>
        <p:nvSpPr>
          <p:cNvPr id="261" name="TextBox 129"/>
          <p:cNvSpPr/>
          <p:nvPr/>
        </p:nvSpPr>
        <p:spPr>
          <a:xfrm>
            <a:off x="447840" y="4000680"/>
            <a:ext cx="178560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ASADAL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a:t>
            </a:r>
            <a:br>
              <a:rPr sz="1000"/>
            </a:br>
            <a:r>
              <a:rPr b="0" lang="en-US" sz="1000" spc="-1" strike="noStrike">
                <a:solidFill>
                  <a:srgbClr val="6f6f6f"/>
                </a:solidFill>
                <a:latin typeface="Arial"/>
                <a:ea typeface="HY견고딕"/>
              </a:rPr>
              <a:t>Korea in February 1998 </a:t>
            </a:r>
            <a:br>
              <a:rPr sz="1000"/>
            </a:br>
            <a:r>
              <a:rPr b="0" lang="en-US" sz="1000" spc="-1" strike="noStrike">
                <a:solidFill>
                  <a:srgbClr val="6f6f6f"/>
                </a:solidFill>
                <a:latin typeface="Arial"/>
                <a:ea typeface="HY견고딕"/>
              </a:rPr>
              <a:t>with he fundamental goal of </a:t>
            </a:r>
            <a:br>
              <a:rPr sz="1000"/>
            </a:br>
            <a:r>
              <a:rPr b="0" lang="en-US" sz="1000" spc="-1" strike="noStrike">
                <a:solidFill>
                  <a:srgbClr val="6f6f6f"/>
                </a:solidFill>
                <a:latin typeface="Arial"/>
                <a:ea typeface="HY견고딕"/>
              </a:rPr>
              <a:t>providing better internet</a:t>
            </a:r>
            <a:br>
              <a:rPr sz="1000"/>
            </a:br>
            <a:r>
              <a:rPr b="0" lang="en-US" sz="1000" spc="-1" strike="noStrike">
                <a:solidFill>
                  <a:srgbClr val="6f6f6f"/>
                </a:solidFill>
                <a:latin typeface="Arial"/>
                <a:ea typeface="HY견고딕"/>
              </a:rPr>
              <a:t>services to the world.</a:t>
            </a:r>
            <a:endParaRPr b="0" lang="en-US" sz="1000" spc="-1" strike="noStrike">
              <a:solidFill>
                <a:srgbClr val="000000"/>
              </a:solidFill>
              <a:latin typeface="Gulim"/>
            </a:endParaRPr>
          </a:p>
        </p:txBody>
      </p:sp>
      <p:sp>
        <p:nvSpPr>
          <p:cNvPr id="262" name="TextBox 130"/>
          <p:cNvSpPr/>
          <p:nvPr/>
        </p:nvSpPr>
        <p:spPr>
          <a:xfrm>
            <a:off x="2622600" y="4000680"/>
            <a:ext cx="178596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ASADAL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a:t>
            </a:r>
            <a:br>
              <a:rPr sz="1000"/>
            </a:br>
            <a:r>
              <a:rPr b="0" lang="en-US" sz="1000" spc="-1" strike="noStrike">
                <a:solidFill>
                  <a:srgbClr val="6f6f6f"/>
                </a:solidFill>
                <a:latin typeface="Arial"/>
                <a:ea typeface="HY견고딕"/>
              </a:rPr>
              <a:t>Korea in February 1998 </a:t>
            </a:r>
            <a:br>
              <a:rPr sz="1000"/>
            </a:br>
            <a:r>
              <a:rPr b="0" lang="en-US" sz="1000" spc="-1" strike="noStrike">
                <a:solidFill>
                  <a:srgbClr val="6f6f6f"/>
                </a:solidFill>
                <a:latin typeface="Arial"/>
                <a:ea typeface="HY견고딕"/>
              </a:rPr>
              <a:t>with he fundamental goal of </a:t>
            </a:r>
            <a:br>
              <a:rPr sz="1000"/>
            </a:br>
            <a:r>
              <a:rPr b="0" lang="en-US" sz="1000" spc="-1" strike="noStrike">
                <a:solidFill>
                  <a:srgbClr val="6f6f6f"/>
                </a:solidFill>
                <a:latin typeface="Arial"/>
                <a:ea typeface="HY견고딕"/>
              </a:rPr>
              <a:t>providing better internet</a:t>
            </a:r>
            <a:br>
              <a:rPr sz="1000"/>
            </a:br>
            <a:r>
              <a:rPr b="0" lang="en-US" sz="1000" spc="-1" strike="noStrike">
                <a:solidFill>
                  <a:srgbClr val="6f6f6f"/>
                </a:solidFill>
                <a:latin typeface="Arial"/>
                <a:ea typeface="HY견고딕"/>
              </a:rPr>
              <a:t>services to the world.</a:t>
            </a:r>
            <a:endParaRPr b="0" lang="en-US" sz="1000" spc="-1" strike="noStrike">
              <a:solidFill>
                <a:srgbClr val="000000"/>
              </a:solidFill>
              <a:latin typeface="Gulim"/>
            </a:endParaRPr>
          </a:p>
        </p:txBody>
      </p:sp>
      <p:sp>
        <p:nvSpPr>
          <p:cNvPr id="263" name="TextBox 131"/>
          <p:cNvSpPr/>
          <p:nvPr/>
        </p:nvSpPr>
        <p:spPr>
          <a:xfrm>
            <a:off x="4797360" y="4000680"/>
            <a:ext cx="178596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ASADAL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Black"/>
                <a:ea typeface="HY견고딕"/>
              </a:rPr>
              <a:t>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a:t>
            </a:r>
            <a:br>
              <a:rPr sz="1000"/>
            </a:br>
            <a:r>
              <a:rPr b="0" lang="en-US" sz="1000" spc="-1" strike="noStrike">
                <a:solidFill>
                  <a:srgbClr val="6f6f6f"/>
                </a:solidFill>
                <a:latin typeface="Arial"/>
                <a:ea typeface="HY견고딕"/>
              </a:rPr>
              <a:t>Korea in February 1998 </a:t>
            </a:r>
            <a:br>
              <a:rPr sz="1000"/>
            </a:br>
            <a:r>
              <a:rPr b="0" lang="en-US" sz="1000" spc="-1" strike="noStrike">
                <a:solidFill>
                  <a:srgbClr val="6f6f6f"/>
                </a:solidFill>
                <a:latin typeface="Arial"/>
                <a:ea typeface="HY견고딕"/>
              </a:rPr>
              <a:t>with he fundamental goal of </a:t>
            </a:r>
            <a:br>
              <a:rPr sz="1000"/>
            </a:br>
            <a:r>
              <a:rPr b="0" lang="en-US" sz="1000" spc="-1" strike="noStrike">
                <a:solidFill>
                  <a:srgbClr val="6f6f6f"/>
                </a:solidFill>
                <a:latin typeface="Arial"/>
                <a:ea typeface="HY견고딕"/>
              </a:rPr>
              <a:t>providing better internet</a:t>
            </a:r>
            <a:br>
              <a:rPr sz="1000"/>
            </a:br>
            <a:r>
              <a:rPr b="0" lang="en-US" sz="1000" spc="-1" strike="noStrike">
                <a:solidFill>
                  <a:srgbClr val="6f6f6f"/>
                </a:solidFill>
                <a:latin typeface="Arial"/>
                <a:ea typeface="HY견고딕"/>
              </a:rPr>
              <a:t>services to the world.</a:t>
            </a:r>
            <a:endParaRPr b="0" lang="en-US" sz="1000" spc="-1" strike="noStrike">
              <a:solidFill>
                <a:srgbClr val="000000"/>
              </a:solidFill>
              <a:latin typeface="Gulim"/>
            </a:endParaRPr>
          </a:p>
        </p:txBody>
      </p:sp>
      <p:sp>
        <p:nvSpPr>
          <p:cNvPr id="264" name="TextBox 132"/>
          <p:cNvSpPr/>
          <p:nvPr/>
        </p:nvSpPr>
        <p:spPr>
          <a:xfrm>
            <a:off x="6972480" y="4000680"/>
            <a:ext cx="178560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ASADAL </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a:t>
            </a:r>
            <a:br>
              <a:rPr sz="1000"/>
            </a:br>
            <a:r>
              <a:rPr b="0" lang="en-US" sz="1000" spc="-1" strike="noStrike">
                <a:solidFill>
                  <a:srgbClr val="6f6f6f"/>
                </a:solidFill>
                <a:latin typeface="Arial"/>
                <a:ea typeface="HY견고딕"/>
              </a:rPr>
              <a:t>Korea in February 1998 </a:t>
            </a:r>
            <a:br>
              <a:rPr sz="1000"/>
            </a:br>
            <a:r>
              <a:rPr b="0" lang="en-US" sz="1000" spc="-1" strike="noStrike">
                <a:solidFill>
                  <a:srgbClr val="6f6f6f"/>
                </a:solidFill>
                <a:latin typeface="Arial"/>
                <a:ea typeface="HY견고딕"/>
              </a:rPr>
              <a:t>with he fundamental goal of </a:t>
            </a:r>
            <a:br>
              <a:rPr sz="1000"/>
            </a:br>
            <a:r>
              <a:rPr b="0" lang="en-US" sz="1000" spc="-1" strike="noStrike">
                <a:solidFill>
                  <a:srgbClr val="6f6f6f"/>
                </a:solidFill>
                <a:latin typeface="Arial"/>
                <a:ea typeface="HY견고딕"/>
              </a:rPr>
              <a:t>providing better internet</a:t>
            </a:r>
            <a:br>
              <a:rPr sz="1000"/>
            </a:br>
            <a:r>
              <a:rPr b="0" lang="en-US" sz="1000" spc="-1" strike="noStrike">
                <a:solidFill>
                  <a:srgbClr val="6f6f6f"/>
                </a:solidFill>
                <a:latin typeface="Arial"/>
                <a:ea typeface="HY견고딕"/>
              </a:rPr>
              <a:t>services to the world.</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6" name="그림 29" descr="1.png"/>
          <p:cNvPicPr/>
          <p:nvPr/>
        </p:nvPicPr>
        <p:blipFill>
          <a:blip r:embed="rId1">
            <a:lum contrast="40000"/>
          </a:blip>
          <a:stretch/>
        </p:blipFill>
        <p:spPr>
          <a:xfrm>
            <a:off x="6613560" y="2928960"/>
            <a:ext cx="2130480" cy="3402000"/>
          </a:xfrm>
          <a:prstGeom prst="rect">
            <a:avLst/>
          </a:prstGeom>
          <a:ln w="0">
            <a:noFill/>
          </a:ln>
        </p:spPr>
      </p:pic>
      <p:pic>
        <p:nvPicPr>
          <p:cNvPr id="1447" name="그림 30" descr="w_j.jpg"/>
          <p:cNvPicPr/>
          <p:nvPr/>
        </p:nvPicPr>
        <p:blipFill>
          <a:blip r:embed="rId2"/>
          <a:stretch/>
        </p:blipFill>
        <p:spPr>
          <a:xfrm>
            <a:off x="4643280" y="1066680"/>
            <a:ext cx="1872000" cy="1379520"/>
          </a:xfrm>
          <a:prstGeom prst="rect">
            <a:avLst/>
          </a:prstGeom>
          <a:ln w="0">
            <a:noFill/>
          </a:ln>
        </p:spPr>
      </p:pic>
      <p:pic>
        <p:nvPicPr>
          <p:cNvPr id="1448" name="그림 31" descr="ah_20080731_15400.jpg"/>
          <p:cNvPicPr/>
          <p:nvPr/>
        </p:nvPicPr>
        <p:blipFill>
          <a:blip r:embed="rId3"/>
          <a:stretch/>
        </p:blipFill>
        <p:spPr>
          <a:xfrm>
            <a:off x="6715080" y="1066680"/>
            <a:ext cx="1879560" cy="1362240"/>
          </a:xfrm>
          <a:prstGeom prst="rect">
            <a:avLst/>
          </a:prstGeom>
          <a:ln w="0">
            <a:noFill/>
          </a:ln>
        </p:spPr>
      </p:pic>
      <p:pic>
        <p:nvPicPr>
          <p:cNvPr id="1449" name="그림 34" descr="wy1.jpg"/>
          <p:cNvPicPr/>
          <p:nvPr/>
        </p:nvPicPr>
        <p:blipFill>
          <a:blip r:embed="rId4"/>
          <a:stretch/>
        </p:blipFill>
        <p:spPr>
          <a:xfrm>
            <a:off x="4643280" y="2657520"/>
            <a:ext cx="1935360" cy="1271520"/>
          </a:xfrm>
          <a:prstGeom prst="rect">
            <a:avLst/>
          </a:prstGeom>
          <a:ln w="0">
            <a:noFill/>
          </a:ln>
        </p:spPr>
      </p:pic>
      <p:pic>
        <p:nvPicPr>
          <p:cNvPr id="1450" name="그림 14" descr="main-1.png"/>
          <p:cNvPicPr/>
          <p:nvPr/>
        </p:nvPicPr>
        <p:blipFill>
          <a:blip r:embed="rId5"/>
          <a:stretch/>
        </p:blipFill>
        <p:spPr>
          <a:xfrm>
            <a:off x="500040" y="1000080"/>
            <a:ext cx="3884760" cy="2913120"/>
          </a:xfrm>
          <a:prstGeom prst="rect">
            <a:avLst/>
          </a:prstGeom>
          <a:ln w="0">
            <a:noFill/>
          </a:ln>
        </p:spPr>
      </p:pic>
      <p:pic>
        <p:nvPicPr>
          <p:cNvPr id="1451" name="그림 15" descr="main-2.png"/>
          <p:cNvPicPr/>
          <p:nvPr/>
        </p:nvPicPr>
        <p:blipFill>
          <a:blip r:embed="rId6"/>
          <a:stretch/>
        </p:blipFill>
        <p:spPr>
          <a:xfrm>
            <a:off x="0" y="1071720"/>
            <a:ext cx="4437000" cy="3163680"/>
          </a:xfrm>
          <a:prstGeom prst="rect">
            <a:avLst/>
          </a:prstGeom>
          <a:ln w="0">
            <a:noFill/>
          </a:ln>
        </p:spPr>
      </p:pic>
      <p:pic>
        <p:nvPicPr>
          <p:cNvPr id="1452" name="그림 16" descr="main-3.png"/>
          <p:cNvPicPr/>
          <p:nvPr/>
        </p:nvPicPr>
        <p:blipFill>
          <a:blip r:embed="rId7"/>
          <a:stretch/>
        </p:blipFill>
        <p:spPr>
          <a:xfrm>
            <a:off x="571680" y="4286160"/>
            <a:ext cx="5792760" cy="2167200"/>
          </a:xfrm>
          <a:prstGeom prst="rect">
            <a:avLst/>
          </a:prstGeom>
          <a:ln w="0">
            <a:noFill/>
          </a:ln>
        </p:spPr>
      </p:pic>
      <p:pic>
        <p:nvPicPr>
          <p:cNvPr id="1453" name="그림 17" descr="main-4.png"/>
          <p:cNvPicPr/>
          <p:nvPr/>
        </p:nvPicPr>
        <p:blipFill>
          <a:blip r:embed="rId8"/>
          <a:stretch/>
        </p:blipFill>
        <p:spPr>
          <a:xfrm>
            <a:off x="214200" y="1285920"/>
            <a:ext cx="1911600" cy="4005360"/>
          </a:xfrm>
          <a:prstGeom prst="rect">
            <a:avLst/>
          </a:prstGeom>
          <a:ln w="0">
            <a:noFill/>
          </a:ln>
        </p:spPr>
      </p:pic>
      <p:pic>
        <p:nvPicPr>
          <p:cNvPr id="1454" name="그림 18" descr="main-5.png"/>
          <p:cNvPicPr/>
          <p:nvPr/>
        </p:nvPicPr>
        <p:blipFill>
          <a:blip r:embed="rId9"/>
          <a:stretch/>
        </p:blipFill>
        <p:spPr>
          <a:xfrm>
            <a:off x="808200" y="3184560"/>
            <a:ext cx="2835000" cy="2459160"/>
          </a:xfrm>
          <a:prstGeom prst="rect">
            <a:avLst/>
          </a:prstGeom>
          <a:ln w="0">
            <a:noFill/>
          </a:ln>
        </p:spPr>
      </p:pic>
      <p:pic>
        <p:nvPicPr>
          <p:cNvPr id="1455" name="그림 19" descr="main-6.png"/>
          <p:cNvPicPr/>
          <p:nvPr/>
        </p:nvPicPr>
        <p:blipFill>
          <a:blip r:embed="rId10"/>
          <a:stretch/>
        </p:blipFill>
        <p:spPr>
          <a:xfrm>
            <a:off x="2066760" y="1465200"/>
            <a:ext cx="4005360" cy="4178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Malgun Gothic"/>
              </a:rPr>
              <a:t>使用规范说明</a:t>
            </a:r>
            <a:endParaRPr b="0" lang="en-US" sz="4400" spc="-1" strike="noStrike">
              <a:solidFill>
                <a:srgbClr val="000000"/>
              </a:solidFill>
              <a:latin typeface="Malgun Gothic"/>
            </a:endParaRPr>
          </a:p>
        </p:txBody>
      </p:sp>
      <p:sp>
        <p:nvSpPr>
          <p:cNvPr id="14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站点介绍：</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PPT</a:t>
            </a:r>
            <a:r>
              <a:rPr b="1" lang="zh-CN" sz="1400" spc="-1" strike="noStrike">
                <a:solidFill>
                  <a:srgbClr val="ededed"/>
                </a:solidFill>
                <a:latin typeface="Malgun Gothic"/>
              </a:rPr>
              <a:t>模板下载网站</a:t>
            </a:r>
            <a:r>
              <a:rPr b="1" lang="zh-CN" sz="1400" spc="-1" strike="noStrike">
                <a:solidFill>
                  <a:srgbClr val="e8eff7"/>
                </a:solidFill>
                <a:latin typeface="Malgun Gothic"/>
              </a:rPr>
              <a:t>www.eeppt.com</a:t>
            </a:r>
            <a:r>
              <a:rPr b="1" lang="zh-CN" sz="1400" spc="-1" strike="noStrike">
                <a:solidFill>
                  <a:srgbClr val="ededed"/>
                </a:solidFill>
                <a:latin typeface="Malgun Gothic"/>
              </a:rPr>
              <a:t>为您提供免费</a:t>
            </a:r>
            <a:r>
              <a:rPr b="1" lang="zh-CN" sz="1400" spc="-1" strike="noStrike">
                <a:solidFill>
                  <a:srgbClr val="ededed"/>
                </a:solidFill>
                <a:latin typeface="Malgun Gothic"/>
              </a:rPr>
              <a:t>ppt</a:t>
            </a:r>
            <a:r>
              <a:rPr b="1" lang="zh-CN" sz="1400" spc="-1" strike="noStrike">
                <a:solidFill>
                  <a:srgbClr val="ededed"/>
                </a:solidFill>
                <a:latin typeface="Malgun Gothic"/>
              </a:rPr>
              <a:t>模板下载，有好看的</a:t>
            </a:r>
            <a:r>
              <a:rPr b="1" lang="zh-CN" sz="1400" spc="-1" strike="noStrike">
                <a:solidFill>
                  <a:srgbClr val="ededed"/>
                </a:solidFill>
                <a:latin typeface="Malgun Gothic"/>
              </a:rPr>
              <a:t>ppt</a:t>
            </a:r>
            <a:r>
              <a:rPr b="1" lang="zh-CN" sz="1400" spc="-1" strike="noStrike">
                <a:solidFill>
                  <a:srgbClr val="ededed"/>
                </a:solidFill>
                <a:latin typeface="Malgun Gothic"/>
              </a:rPr>
              <a:t>模板，</a:t>
            </a:r>
            <a:r>
              <a:rPr b="1" lang="zh-CN" sz="1400" spc="-1" strike="noStrike">
                <a:solidFill>
                  <a:srgbClr val="ededed"/>
                </a:solidFill>
                <a:latin typeface="Malgun Gothic"/>
              </a:rPr>
              <a:t>ppt</a:t>
            </a:r>
            <a:r>
              <a:rPr b="1" lang="zh-CN" sz="1400" spc="-1" strike="noStrike">
                <a:solidFill>
                  <a:srgbClr val="ededed"/>
                </a:solidFill>
                <a:latin typeface="Malgun Gothic"/>
              </a:rPr>
              <a:t>背景图片，</a:t>
            </a:r>
            <a:r>
              <a:rPr b="1" lang="zh-CN" sz="1400" spc="-1" strike="noStrike">
                <a:solidFill>
                  <a:srgbClr val="ededed"/>
                </a:solidFill>
                <a:latin typeface="Malgun Gothic"/>
              </a:rPr>
              <a:t>ppt</a:t>
            </a:r>
            <a:r>
              <a:rPr b="1" lang="zh-CN" sz="1400" spc="-1" strike="noStrike">
                <a:solidFill>
                  <a:srgbClr val="ededed"/>
                </a:solidFill>
                <a:latin typeface="Malgun Gothic"/>
              </a:rPr>
              <a:t>素材，</a:t>
            </a:r>
            <a:r>
              <a:rPr b="1" lang="zh-CN" sz="1400" spc="-1" strike="noStrike">
                <a:solidFill>
                  <a:srgbClr val="ededed"/>
                </a:solidFill>
                <a:latin typeface="Malgun Gothic"/>
              </a:rPr>
              <a:t>ppt</a:t>
            </a:r>
            <a:r>
              <a:rPr b="1" lang="zh-CN" sz="1400" spc="-1" strike="noStrike">
                <a:solidFill>
                  <a:srgbClr val="ededed"/>
                </a:solidFill>
                <a:latin typeface="Malgun Gothic"/>
              </a:rPr>
              <a:t>图表，动态</a:t>
            </a:r>
            <a:r>
              <a:rPr b="1" lang="zh-CN" sz="1400" spc="-1" strike="noStrike">
                <a:solidFill>
                  <a:srgbClr val="ededed"/>
                </a:solidFill>
                <a:latin typeface="Malgun Gothic"/>
              </a:rPr>
              <a:t>ppt</a:t>
            </a:r>
            <a:r>
              <a:rPr b="1" lang="zh-CN" sz="1400" spc="-1" strike="noStrike">
                <a:solidFill>
                  <a:srgbClr val="ededed"/>
                </a:solidFill>
                <a:latin typeface="Malgun Gothic"/>
              </a:rPr>
              <a:t>模板大全，幻灯片模板，</a:t>
            </a:r>
            <a:r>
              <a:rPr b="1" lang="zh-CN" sz="1400" spc="-1" strike="noStrike">
                <a:solidFill>
                  <a:srgbClr val="ededed"/>
                </a:solidFill>
                <a:latin typeface="Malgun Gothic"/>
              </a:rPr>
              <a:t>Powe</a:t>
            </a:r>
            <a:r>
              <a:rPr b="1" lang="zh-CN" sz="1400" spc="-1" strike="noStrike">
                <a:solidFill>
                  <a:srgbClr val="e8eff7"/>
                </a:solidFill>
                <a:latin typeface="Malgun Gothic"/>
              </a:rPr>
              <a:t>rPoint</a:t>
            </a:r>
            <a:r>
              <a:rPr b="1" lang="zh-CN" sz="1400" spc="-1" strike="noStrike">
                <a:solidFill>
                  <a:srgbClr val="e8eff7"/>
                </a:solidFill>
                <a:latin typeface="Malgun Gothic"/>
              </a:rPr>
              <a:t>模板等各类</a:t>
            </a:r>
            <a:r>
              <a:rPr b="1" lang="zh-CN" sz="1400" spc="-1" strike="noStrike">
                <a:solidFill>
                  <a:srgbClr val="e8eff7"/>
                </a:solidFill>
                <a:latin typeface="Malgun Gothic"/>
              </a:rPr>
              <a:t>ppt</a:t>
            </a:r>
            <a:r>
              <a:rPr b="1" lang="zh-CN" sz="1400" spc="-1" strike="noStrike">
                <a:solidFill>
                  <a:srgbClr val="e8eff7"/>
                </a:solidFill>
                <a:latin typeface="Malgun Gothic"/>
              </a:rPr>
              <a:t>模板免费下载。助您轻松制作出精美</a:t>
            </a:r>
            <a:r>
              <a:rPr b="1" lang="zh-CN" sz="1400" spc="-1" strike="noStrike">
                <a:solidFill>
                  <a:srgbClr val="e8eff7"/>
                </a:solidFill>
                <a:latin typeface="Malgun Gothic"/>
              </a:rPr>
              <a:t>PPT</a:t>
            </a:r>
            <a:r>
              <a:rPr b="1" lang="zh-CN" sz="1400" spc="-1" strike="noStrike">
                <a:solidFill>
                  <a:srgbClr val="e8eff7"/>
                </a:solidFill>
                <a:latin typeface="Malgun Gothic"/>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特别说明：</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该</a:t>
            </a:r>
            <a:r>
              <a:rPr b="1" lang="zh-CN" sz="1400" spc="-1" strike="noStrike">
                <a:solidFill>
                  <a:srgbClr val="ededed"/>
                </a:solidFill>
                <a:latin typeface="Malgun Gothic"/>
              </a:rPr>
              <a:t>PPT</a:t>
            </a:r>
            <a:r>
              <a:rPr b="1" lang="zh-CN" sz="1400" spc="-1" strike="noStrike">
                <a:solidFill>
                  <a:srgbClr val="ededed"/>
                </a:solidFill>
                <a:latin typeface="Malgun Gothic"/>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栏目推荐：</a:t>
            </a:r>
            <a:endParaRPr b="0" lang="en-US" sz="14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ppt</a:t>
            </a:r>
            <a:r>
              <a:rPr b="0" lang="zh-CN" sz="1200" spc="-1" strike="noStrike">
                <a:solidFill>
                  <a:srgbClr val="ededed"/>
                </a:solidFill>
                <a:latin typeface="Calibri"/>
                <a:ea typeface="宋体"/>
              </a:rPr>
              <a:t>素材图片  </a:t>
            </a:r>
            <a:r>
              <a:rPr b="0" lang="zh-CN" sz="1200" spc="-1" strike="noStrike">
                <a:solidFill>
                  <a:srgbClr val="ededed"/>
                </a:solidFill>
                <a:latin typeface="Calibri"/>
                <a:ea typeface="宋体"/>
              </a:rPr>
              <a:t>http://www.eeppt.com/suca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图表下载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p:txBody>
      </p:sp>
      <p:sp>
        <p:nvSpPr>
          <p:cNvPr id="14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001960"/>
            <a:ext cx="9144000" cy="3617640"/>
            <a:chOff x="0" y="2001960"/>
            <a:chExt cx="9144000" cy="3617640"/>
          </a:xfrm>
        </p:grpSpPr>
        <p:sp>
          <p:nvSpPr>
            <p:cNvPr id="266" name="도넛 97"/>
            <p:cNvSpPr/>
            <p:nvPr/>
          </p:nvSpPr>
          <p:spPr>
            <a:xfrm>
              <a:off x="3298680" y="2556000"/>
              <a:ext cx="2522520" cy="2520720"/>
            </a:xfrm>
            <a:custGeom>
              <a:avLst/>
              <a:gdLst>
                <a:gd name="textAreaLeft" fmla="*/ 369360 w 2522520"/>
                <a:gd name="textAreaRight" fmla="*/ 2153160 w 2522520"/>
                <a:gd name="textAreaTop" fmla="*/ 369000 h 2520720"/>
                <a:gd name="textAreaBottom" fmla="*/ 2151720 h 2520720"/>
              </a:gdLst>
              <a:ahLst/>
              <a:rect l="textAreaLeft" t="textAreaTop" r="textAreaRight" b="textAreaBottom"/>
              <a:pathLst>
                <a:path w="2522538" h="2520912">
                  <a:moveTo>
                    <a:pt x="0" y="1260456"/>
                  </a:moveTo>
                  <a:lnTo>
                    <a:pt x="0" y="1260456"/>
                  </a:lnTo>
                  <a:cubicBezTo>
                    <a:pt x="0" y="564325"/>
                    <a:pt x="564689" y="1"/>
                    <a:pt x="1261269" y="1"/>
                  </a:cubicBezTo>
                  <a:cubicBezTo>
                    <a:pt x="1261269" y="1"/>
                    <a:pt x="1261270" y="1"/>
                    <a:pt x="1261270" y="1"/>
                  </a:cubicBezTo>
                  <a:lnTo>
                    <a:pt x="1261271" y="1"/>
                  </a:lnTo>
                  <a:cubicBezTo>
                    <a:pt x="1957850" y="1"/>
                    <a:pt x="2522539" y="564326"/>
                    <a:pt x="2522539" y="1260457"/>
                  </a:cubicBezTo>
                  <a:cubicBezTo>
                    <a:pt x="2522539" y="1260457"/>
                    <a:pt x="2522538" y="1260458"/>
                    <a:pt x="2522538" y="1260459"/>
                  </a:cubicBezTo>
                  <a:lnTo>
                    <a:pt x="2522539" y="1260459"/>
                  </a:lnTo>
                  <a:cubicBezTo>
                    <a:pt x="2522539" y="1956589"/>
                    <a:pt x="1957849" y="2520915"/>
                    <a:pt x="1261270" y="2520915"/>
                  </a:cubicBezTo>
                  <a:cubicBezTo>
                    <a:pt x="1261269" y="2520915"/>
                    <a:pt x="1261269" y="2520914"/>
                    <a:pt x="1261269" y="2520914"/>
                  </a:cubicBezTo>
                  <a:cubicBezTo>
                    <a:pt x="564689" y="2520914"/>
                    <a:pt x="1" y="1956589"/>
                    <a:pt x="1" y="1260459"/>
                  </a:cubicBezTo>
                  <a:cubicBezTo>
                    <a:pt x="1" y="1260458"/>
                    <a:pt x="1" y="1260458"/>
                    <a:pt x="1" y="1260458"/>
                  </a:cubicBezTo>
                  <a:lnTo>
                    <a:pt x="0" y="1260456"/>
                  </a:lnTo>
                  <a:close/>
                  <a:moveTo>
                    <a:pt x="342668" y="1260456"/>
                  </a:moveTo>
                  <a:lnTo>
                    <a:pt x="342668" y="1260456"/>
                  </a:lnTo>
                  <a:cubicBezTo>
                    <a:pt x="342668" y="1260456"/>
                    <a:pt x="342668" y="1260456"/>
                    <a:pt x="342668" y="1260457"/>
                  </a:cubicBezTo>
                  <a:cubicBezTo>
                    <a:pt x="342668" y="1767336"/>
                    <a:pt x="753939" y="2178244"/>
                    <a:pt x="1261268" y="2178244"/>
                  </a:cubicBezTo>
                  <a:cubicBezTo>
                    <a:pt x="1261268" y="2178244"/>
                    <a:pt x="1261268" y="2178245"/>
                    <a:pt x="1261269" y="2178245"/>
                  </a:cubicBezTo>
                  <a:cubicBezTo>
                    <a:pt x="1768597" y="2178245"/>
                    <a:pt x="2179869" y="1767337"/>
                    <a:pt x="2179869" y="1260458"/>
                  </a:cubicBezTo>
                  <a:lnTo>
                    <a:pt x="2179870" y="1260458"/>
                  </a:lnTo>
                  <a:cubicBezTo>
                    <a:pt x="2179870" y="753577"/>
                    <a:pt x="1768598" y="342670"/>
                    <a:pt x="1261269" y="342670"/>
                  </a:cubicBezTo>
                  <a:cubicBezTo>
                    <a:pt x="1261268" y="342670"/>
                    <a:pt x="1261268" y="342670"/>
                    <a:pt x="1261268" y="342670"/>
                  </a:cubicBezTo>
                  <a:cubicBezTo>
                    <a:pt x="753939" y="342670"/>
                    <a:pt x="342667" y="753577"/>
                    <a:pt x="342667" y="1260457"/>
                  </a:cubicBezTo>
                  <a:lnTo>
                    <a:pt x="342668" y="1260456"/>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67" name="도넛 116"/>
            <p:cNvSpPr/>
            <p:nvPr/>
          </p:nvSpPr>
          <p:spPr>
            <a:xfrm>
              <a:off x="3301920" y="2556000"/>
              <a:ext cx="2520720" cy="2520720"/>
            </a:xfrm>
            <a:custGeom>
              <a:avLst/>
              <a:gdLst>
                <a:gd name="textAreaLeft" fmla="*/ 369000 w 2520720"/>
                <a:gd name="textAreaRight" fmla="*/ 2151720 w 2520720"/>
                <a:gd name="textAreaTop" fmla="*/ 369000 h 2520720"/>
                <a:gd name="textAreaBottom" fmla="*/ 2151720 h 2520720"/>
              </a:gdLst>
              <a:ahLst/>
              <a:rect l="textAreaLeft" t="textAreaTop" r="textAreaRight" b="textAreaBottom"/>
              <a:pathLst>
                <a:path w="2520950" h="2520912">
                  <a:moveTo>
                    <a:pt x="0" y="1260456"/>
                  </a:moveTo>
                  <a:lnTo>
                    <a:pt x="0" y="1260456"/>
                  </a:lnTo>
                  <a:cubicBezTo>
                    <a:pt x="0" y="564325"/>
                    <a:pt x="564334" y="1"/>
                    <a:pt x="1260475" y="1"/>
                  </a:cubicBezTo>
                  <a:cubicBezTo>
                    <a:pt x="1260475" y="1"/>
                    <a:pt x="1260476" y="1"/>
                    <a:pt x="1260476" y="1"/>
                  </a:cubicBezTo>
                  <a:lnTo>
                    <a:pt x="1260477" y="1"/>
                  </a:lnTo>
                  <a:cubicBezTo>
                    <a:pt x="1956617" y="1"/>
                    <a:pt x="2520951" y="564326"/>
                    <a:pt x="2520951" y="1260457"/>
                  </a:cubicBezTo>
                  <a:cubicBezTo>
                    <a:pt x="2520951" y="1260457"/>
                    <a:pt x="2520950" y="1260458"/>
                    <a:pt x="2520950" y="1260459"/>
                  </a:cubicBezTo>
                  <a:lnTo>
                    <a:pt x="2520951" y="1260459"/>
                  </a:lnTo>
                  <a:cubicBezTo>
                    <a:pt x="2520951" y="1956589"/>
                    <a:pt x="1956617" y="2520915"/>
                    <a:pt x="1260476" y="2520915"/>
                  </a:cubicBezTo>
                  <a:cubicBezTo>
                    <a:pt x="1260475" y="2520915"/>
                    <a:pt x="1260475" y="2520914"/>
                    <a:pt x="1260475" y="2520914"/>
                  </a:cubicBezTo>
                  <a:cubicBezTo>
                    <a:pt x="564334" y="2520914"/>
                    <a:pt x="1" y="1956589"/>
                    <a:pt x="1" y="1260459"/>
                  </a:cubicBezTo>
                  <a:cubicBezTo>
                    <a:pt x="1" y="1260458"/>
                    <a:pt x="1" y="1260458"/>
                    <a:pt x="1" y="1260458"/>
                  </a:cubicBezTo>
                  <a:lnTo>
                    <a:pt x="0" y="1260456"/>
                  </a:lnTo>
                  <a:close/>
                  <a:moveTo>
                    <a:pt x="218815" y="1260456"/>
                  </a:moveTo>
                  <a:lnTo>
                    <a:pt x="218815" y="1260456"/>
                  </a:lnTo>
                  <a:cubicBezTo>
                    <a:pt x="218815" y="1260456"/>
                    <a:pt x="218815" y="1260456"/>
                    <a:pt x="218815" y="1260456"/>
                  </a:cubicBezTo>
                  <a:cubicBezTo>
                    <a:pt x="218815" y="1835739"/>
                    <a:pt x="685181" y="2302097"/>
                    <a:pt x="1260474" y="2302097"/>
                  </a:cubicBezTo>
                  <a:cubicBezTo>
                    <a:pt x="1260474" y="2302097"/>
                    <a:pt x="1260474" y="2302098"/>
                    <a:pt x="1260475" y="2302098"/>
                  </a:cubicBezTo>
                  <a:cubicBezTo>
                    <a:pt x="1835767" y="2302098"/>
                    <a:pt x="2302134" y="1835740"/>
                    <a:pt x="2302134" y="1260458"/>
                  </a:cubicBezTo>
                  <a:lnTo>
                    <a:pt x="2302135" y="1260458"/>
                  </a:lnTo>
                  <a:cubicBezTo>
                    <a:pt x="2302135" y="685175"/>
                    <a:pt x="1835767" y="218817"/>
                    <a:pt x="1260475" y="218817"/>
                  </a:cubicBezTo>
                  <a:cubicBezTo>
                    <a:pt x="1260474" y="218817"/>
                    <a:pt x="1260474" y="218817"/>
                    <a:pt x="1260474" y="218817"/>
                  </a:cubicBezTo>
                  <a:cubicBezTo>
                    <a:pt x="685181" y="218817"/>
                    <a:pt x="218814" y="685174"/>
                    <a:pt x="218814" y="1260457"/>
                  </a:cubicBezTo>
                  <a:lnTo>
                    <a:pt x="218815" y="1260456"/>
                  </a:lnTo>
                  <a:close/>
                </a:path>
              </a:pathLst>
            </a:custGeom>
            <a:solidFill>
              <a:srgbClr val="bfbfb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68" name="도넛 112"/>
            <p:cNvSpPr/>
            <p:nvPr/>
          </p:nvSpPr>
          <p:spPr>
            <a:xfrm>
              <a:off x="2757240" y="2001960"/>
              <a:ext cx="3618000" cy="3617640"/>
            </a:xfrm>
            <a:custGeom>
              <a:avLst/>
              <a:gdLst>
                <a:gd name="textAreaLeft" fmla="*/ 529560 w 3618000"/>
                <a:gd name="textAreaRight" fmla="*/ 3088440 w 3618000"/>
                <a:gd name="textAreaTop" fmla="*/ 529560 h 3617640"/>
                <a:gd name="textAreaBottom" fmla="*/ 3088080 h 3617640"/>
              </a:gdLst>
              <a:ahLst/>
              <a:rect l="textAreaLeft" t="textAreaTop" r="textAreaRight" b="textAreaBottom"/>
              <a:pathLst>
                <a:path w="3617912" h="3617857">
                  <a:moveTo>
                    <a:pt x="0" y="1808929"/>
                  </a:moveTo>
                  <a:lnTo>
                    <a:pt x="0" y="1808929"/>
                  </a:lnTo>
                  <a:cubicBezTo>
                    <a:pt x="1" y="809885"/>
                    <a:pt x="809897" y="2"/>
                    <a:pt x="1808956" y="2"/>
                  </a:cubicBezTo>
                  <a:cubicBezTo>
                    <a:pt x="1808957" y="2"/>
                    <a:pt x="1808958" y="2"/>
                    <a:pt x="1808958" y="2"/>
                  </a:cubicBezTo>
                  <a:lnTo>
                    <a:pt x="1808959" y="2"/>
                  </a:lnTo>
                  <a:cubicBezTo>
                    <a:pt x="2808017" y="3"/>
                    <a:pt x="3617913" y="809887"/>
                    <a:pt x="3617913" y="1808931"/>
                  </a:cubicBezTo>
                  <a:cubicBezTo>
                    <a:pt x="3617913" y="1808932"/>
                    <a:pt x="3617912" y="1808933"/>
                    <a:pt x="3617912" y="1808933"/>
                  </a:cubicBezTo>
                  <a:lnTo>
                    <a:pt x="3617913" y="1808934"/>
                  </a:lnTo>
                  <a:cubicBezTo>
                    <a:pt x="3617913" y="2807977"/>
                    <a:pt x="2808015" y="3617863"/>
                    <a:pt x="1808957" y="3617863"/>
                  </a:cubicBezTo>
                  <a:cubicBezTo>
                    <a:pt x="1808956" y="3617863"/>
                    <a:pt x="1808956" y="3617862"/>
                    <a:pt x="1808956" y="3617862"/>
                  </a:cubicBezTo>
                  <a:cubicBezTo>
                    <a:pt x="809897" y="3617862"/>
                    <a:pt x="1" y="2807977"/>
                    <a:pt x="1" y="1808934"/>
                  </a:cubicBezTo>
                  <a:cubicBezTo>
                    <a:pt x="1" y="1808933"/>
                    <a:pt x="1" y="1808932"/>
                    <a:pt x="1" y="1808932"/>
                  </a:cubicBezTo>
                  <a:lnTo>
                    <a:pt x="0" y="1808929"/>
                  </a:lnTo>
                  <a:close/>
                  <a:moveTo>
                    <a:pt x="401763" y="1808929"/>
                  </a:moveTo>
                  <a:lnTo>
                    <a:pt x="401763" y="1808929"/>
                  </a:lnTo>
                  <a:cubicBezTo>
                    <a:pt x="401763" y="1808929"/>
                    <a:pt x="401763" y="1808930"/>
                    <a:pt x="401763" y="1808930"/>
                  </a:cubicBezTo>
                  <a:cubicBezTo>
                    <a:pt x="401763" y="2586085"/>
                    <a:pt x="1031783" y="3216094"/>
                    <a:pt x="1808954" y="3216095"/>
                  </a:cubicBezTo>
                  <a:cubicBezTo>
                    <a:pt x="1808954" y="3216095"/>
                    <a:pt x="1808954" y="3216096"/>
                    <a:pt x="1808955" y="3216096"/>
                  </a:cubicBezTo>
                  <a:cubicBezTo>
                    <a:pt x="2586125" y="3216096"/>
                    <a:pt x="3216147" y="2586087"/>
                    <a:pt x="3216147" y="1808932"/>
                  </a:cubicBezTo>
                  <a:lnTo>
                    <a:pt x="3216148" y="1808932"/>
                  </a:lnTo>
                  <a:cubicBezTo>
                    <a:pt x="3216148" y="1031776"/>
                    <a:pt x="2586126" y="401767"/>
                    <a:pt x="1808955" y="401767"/>
                  </a:cubicBezTo>
                  <a:cubicBezTo>
                    <a:pt x="1808954" y="401767"/>
                    <a:pt x="1808953" y="401767"/>
                    <a:pt x="1808953" y="401767"/>
                  </a:cubicBezTo>
                  <a:cubicBezTo>
                    <a:pt x="1031782" y="401767"/>
                    <a:pt x="401761" y="1031775"/>
                    <a:pt x="401760" y="1808930"/>
                  </a:cubicBezTo>
                  <a:lnTo>
                    <a:pt x="401763" y="1808929"/>
                  </a:lnTo>
                  <a:close/>
                </a:path>
              </a:pathLst>
            </a:custGeom>
            <a:solidFill>
              <a:srgbClr val="d9d9d9">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69" name="직사각형 111"/>
            <p:cNvSpPr/>
            <p:nvPr/>
          </p:nvSpPr>
          <p:spPr>
            <a:xfrm>
              <a:off x="5891400" y="3714840"/>
              <a:ext cx="3252600" cy="76644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직사각형 110"/>
            <p:cNvSpPr/>
            <p:nvPr/>
          </p:nvSpPr>
          <p:spPr>
            <a:xfrm>
              <a:off x="0" y="3159000"/>
              <a:ext cx="3252600" cy="765000"/>
            </a:xfrm>
            <a:prstGeom prst="rect">
              <a:avLst/>
            </a:prstGeom>
            <a:solidFill>
              <a:srgbClr val="d9d9d9">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직사각형 99"/>
            <p:cNvSpPr/>
            <p:nvPr/>
          </p:nvSpPr>
          <p:spPr>
            <a:xfrm>
              <a:off x="0" y="3252600"/>
              <a:ext cx="3252600" cy="56340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막힌 원호 92"/>
            <p:cNvSpPr/>
            <p:nvPr/>
          </p:nvSpPr>
          <p:spPr>
            <a:xfrm>
              <a:off x="2878200" y="2133720"/>
              <a:ext cx="3359160" cy="3359160"/>
            </a:xfrm>
            <a:custGeom>
              <a:avLst/>
              <a:gdLst>
                <a:gd name="textAreaLeft" fmla="*/ 0 w 3359160"/>
                <a:gd name="textAreaRight" fmla="*/ 3359520 w 3359160"/>
                <a:gd name="textAreaTop" fmla="*/ 0 h 3359160"/>
                <a:gd name="textAreaBottom" fmla="*/ 1730160 h 3359160"/>
              </a:gdLst>
              <a:ahLst/>
              <a:rect l="textAreaLeft" t="textAreaTop" r="textAreaRight" b="textAreaBottom"/>
              <a:pathLst>
                <a:path w="3359150" h="3359099">
                  <a:moveTo>
                    <a:pt x="0" y="1679548"/>
                  </a:moveTo>
                  <a:lnTo>
                    <a:pt x="0" y="1679548"/>
                  </a:lnTo>
                  <a:cubicBezTo>
                    <a:pt x="1" y="751958"/>
                    <a:pt x="751972" y="0"/>
                    <a:pt x="1679575" y="0"/>
                  </a:cubicBezTo>
                  <a:cubicBezTo>
                    <a:pt x="2607178" y="0"/>
                    <a:pt x="3359150" y="751960"/>
                    <a:pt x="3359150" y="1679550"/>
                  </a:cubicBezTo>
                  <a:cubicBezTo>
                    <a:pt x="3359150" y="1696387"/>
                    <a:pt x="3358896" y="1713223"/>
                    <a:pt x="3358390" y="1730052"/>
                  </a:cubicBezTo>
                  <a:lnTo>
                    <a:pt x="2763394" y="1712151"/>
                  </a:lnTo>
                  <a:lnTo>
                    <a:pt x="2763393" y="1712150"/>
                  </a:lnTo>
                  <a:cubicBezTo>
                    <a:pt x="2763720" y="1701286"/>
                    <a:pt x="2763884" y="1690418"/>
                    <a:pt x="2763884" y="1679549"/>
                  </a:cubicBezTo>
                  <a:cubicBezTo>
                    <a:pt x="2763884" y="1080716"/>
                    <a:pt x="2278422" y="595266"/>
                    <a:pt x="1679575" y="595266"/>
                  </a:cubicBezTo>
                  <a:cubicBezTo>
                    <a:pt x="1080727" y="595266"/>
                    <a:pt x="595266" y="1080716"/>
                    <a:pt x="595266" y="1679549"/>
                  </a:cubicBezTo>
                  <a:cubicBezTo>
                    <a:pt x="595266" y="1679549"/>
                    <a:pt x="595266" y="1679550"/>
                    <a:pt x="595266" y="1679551"/>
                  </a:cubicBezTo>
                  <a:lnTo>
                    <a:pt x="0" y="1679548"/>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73" name="직사각형 98"/>
            <p:cNvSpPr/>
            <p:nvPr/>
          </p:nvSpPr>
          <p:spPr>
            <a:xfrm>
              <a:off x="5884920" y="3817800"/>
              <a:ext cx="3259080" cy="56340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막힌 원호 93"/>
            <p:cNvSpPr/>
            <p:nvPr/>
          </p:nvSpPr>
          <p:spPr>
            <a:xfrm flipV="1">
              <a:off x="2874960" y="2132640"/>
              <a:ext cx="3359160" cy="3359160"/>
            </a:xfrm>
            <a:custGeom>
              <a:avLst/>
              <a:gdLst>
                <a:gd name="textAreaLeft" fmla="*/ 0 w 3359160"/>
                <a:gd name="textAreaRight" fmla="*/ 3359520 w 3359160"/>
                <a:gd name="textAreaTop" fmla="*/ 0 h 3359160"/>
                <a:gd name="textAreaBottom" fmla="*/ 1684440 h 3359160"/>
              </a:gdLst>
              <a:ahLst/>
              <a:rect l="textAreaLeft" t="textAreaTop" r="textAreaRight" b="textAreaBottom"/>
              <a:pathLst>
                <a:path w="3359150" h="3359099">
                  <a:moveTo>
                    <a:pt x="7" y="1684308"/>
                  </a:moveTo>
                  <a:lnTo>
                    <a:pt x="6" y="1684308"/>
                  </a:lnTo>
                  <a:cubicBezTo>
                    <a:pt x="2" y="1682721"/>
                    <a:pt x="0" y="1681135"/>
                    <a:pt x="0" y="1679549"/>
                  </a:cubicBezTo>
                  <a:cubicBezTo>
                    <a:pt x="0" y="751959"/>
                    <a:pt x="751971" y="-1"/>
                    <a:pt x="1679575" y="-1"/>
                  </a:cubicBezTo>
                  <a:cubicBezTo>
                    <a:pt x="2607178" y="-1"/>
                    <a:pt x="3359150" y="751959"/>
                    <a:pt x="3359150" y="1679549"/>
                  </a:cubicBezTo>
                  <a:cubicBezTo>
                    <a:pt x="3359150" y="1680304"/>
                    <a:pt x="3359149" y="1681058"/>
                    <a:pt x="3359148" y="1681813"/>
                  </a:cubicBezTo>
                  <a:lnTo>
                    <a:pt x="2764656" y="1681010"/>
                  </a:lnTo>
                  <a:cubicBezTo>
                    <a:pt x="2764656" y="1680523"/>
                    <a:pt x="2764657" y="1680036"/>
                    <a:pt x="2764657" y="1679550"/>
                  </a:cubicBezTo>
                  <a:cubicBezTo>
                    <a:pt x="2764657" y="1080290"/>
                    <a:pt x="2278849" y="594494"/>
                    <a:pt x="1679575" y="594494"/>
                  </a:cubicBezTo>
                  <a:cubicBezTo>
                    <a:pt x="1080300" y="594494"/>
                    <a:pt x="594493" y="1080290"/>
                    <a:pt x="594493" y="1679550"/>
                  </a:cubicBezTo>
                  <a:cubicBezTo>
                    <a:pt x="594493" y="1680575"/>
                    <a:pt x="594494" y="1681600"/>
                    <a:pt x="594497" y="1682625"/>
                  </a:cubicBezTo>
                  <a:lnTo>
                    <a:pt x="7" y="1684308"/>
                  </a:lnTo>
                  <a:close/>
                </a:path>
              </a:pathLst>
            </a:custGeom>
            <a:solidFill>
              <a:srgbClr val="00ace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75" name="도넛 95"/>
            <p:cNvSpPr/>
            <p:nvPr/>
          </p:nvSpPr>
          <p:spPr>
            <a:xfrm>
              <a:off x="3162240" y="2417760"/>
              <a:ext cx="2790720" cy="2792160"/>
            </a:xfrm>
            <a:custGeom>
              <a:avLst/>
              <a:gdLst>
                <a:gd name="textAreaLeft" fmla="*/ 408600 w 2790720"/>
                <a:gd name="textAreaRight" fmla="*/ 2382120 w 2790720"/>
                <a:gd name="textAreaTop" fmla="*/ 408600 h 2792160"/>
                <a:gd name="textAreaBottom" fmla="*/ 2383560 h 2792160"/>
              </a:gdLst>
              <a:ahLst/>
              <a:rect l="textAreaLeft" t="textAreaTop" r="textAreaRight" b="textAreaBottom"/>
              <a:pathLst>
                <a:path w="2790825" h="2792370">
                  <a:moveTo>
                    <a:pt x="0" y="1396185"/>
                  </a:moveTo>
                  <a:lnTo>
                    <a:pt x="0" y="1396185"/>
                  </a:lnTo>
                  <a:cubicBezTo>
                    <a:pt x="1" y="625094"/>
                    <a:pt x="624748" y="2"/>
                    <a:pt x="1395413" y="2"/>
                  </a:cubicBezTo>
                  <a:cubicBezTo>
                    <a:pt x="1395413" y="2"/>
                    <a:pt x="1395414" y="2"/>
                    <a:pt x="1395414" y="2"/>
                  </a:cubicBezTo>
                  <a:cubicBezTo>
                    <a:pt x="2166079" y="3"/>
                    <a:pt x="2790826" y="625096"/>
                    <a:pt x="2790826" y="1396187"/>
                  </a:cubicBezTo>
                  <a:cubicBezTo>
                    <a:pt x="2790826" y="1396187"/>
                    <a:pt x="2790825" y="1396188"/>
                    <a:pt x="2790825" y="1396189"/>
                  </a:cubicBezTo>
                  <a:lnTo>
                    <a:pt x="2790826" y="1396189"/>
                  </a:lnTo>
                  <a:cubicBezTo>
                    <a:pt x="2790826" y="2167280"/>
                    <a:pt x="2166078" y="2792374"/>
                    <a:pt x="1395413" y="2792374"/>
                  </a:cubicBezTo>
                  <a:cubicBezTo>
                    <a:pt x="1395412" y="2792374"/>
                    <a:pt x="1395412" y="2792373"/>
                    <a:pt x="1395412" y="2792373"/>
                  </a:cubicBezTo>
                  <a:cubicBezTo>
                    <a:pt x="624747" y="2792373"/>
                    <a:pt x="0" y="2167280"/>
                    <a:pt x="0" y="1396189"/>
                  </a:cubicBezTo>
                  <a:cubicBezTo>
                    <a:pt x="0" y="1396188"/>
                    <a:pt x="0" y="1396187"/>
                    <a:pt x="0" y="1396187"/>
                  </a:cubicBezTo>
                  <a:lnTo>
                    <a:pt x="0" y="1396185"/>
                  </a:lnTo>
                  <a:close/>
                  <a:moveTo>
                    <a:pt x="309921" y="1396185"/>
                  </a:moveTo>
                  <a:lnTo>
                    <a:pt x="309921" y="1396185"/>
                  </a:lnTo>
                  <a:cubicBezTo>
                    <a:pt x="309921" y="1396185"/>
                    <a:pt x="309921" y="1396185"/>
                    <a:pt x="309921" y="1396185"/>
                  </a:cubicBezTo>
                  <a:cubicBezTo>
                    <a:pt x="309921" y="1996112"/>
                    <a:pt x="795911" y="2482449"/>
                    <a:pt x="1395410" y="2482449"/>
                  </a:cubicBezTo>
                  <a:lnTo>
                    <a:pt x="1395411" y="2482449"/>
                  </a:lnTo>
                  <a:cubicBezTo>
                    <a:pt x="1395411" y="2482449"/>
                    <a:pt x="1395411" y="2482450"/>
                    <a:pt x="1395412" y="2482450"/>
                  </a:cubicBezTo>
                  <a:cubicBezTo>
                    <a:pt x="1994911" y="2482450"/>
                    <a:pt x="2480902" y="1996113"/>
                    <a:pt x="2480902" y="1396187"/>
                  </a:cubicBezTo>
                  <a:lnTo>
                    <a:pt x="2480903" y="1396187"/>
                  </a:lnTo>
                  <a:cubicBezTo>
                    <a:pt x="2480903" y="796259"/>
                    <a:pt x="1994912" y="309923"/>
                    <a:pt x="1395412" y="309923"/>
                  </a:cubicBezTo>
                  <a:cubicBezTo>
                    <a:pt x="1395411" y="309923"/>
                    <a:pt x="1395411" y="309923"/>
                    <a:pt x="1395411" y="309923"/>
                  </a:cubicBezTo>
                  <a:cubicBezTo>
                    <a:pt x="795911" y="309923"/>
                    <a:pt x="309920" y="796259"/>
                    <a:pt x="309920" y="1396186"/>
                  </a:cubicBezTo>
                  <a:lnTo>
                    <a:pt x="309921" y="1396185"/>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276"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277" name="TextBox 100"/>
          <p:cNvSpPr/>
          <p:nvPr/>
        </p:nvSpPr>
        <p:spPr>
          <a:xfrm>
            <a:off x="285840" y="1643040"/>
            <a:ext cx="3071880" cy="12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Black"/>
                <a:ea typeface="HY견고딕"/>
              </a:rPr>
              <a:t>ASADAL INTERNET, INC.</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sp>
        <p:nvSpPr>
          <p:cNvPr id="278" name="TextBox 101"/>
          <p:cNvSpPr/>
          <p:nvPr/>
        </p:nvSpPr>
        <p:spPr>
          <a:xfrm>
            <a:off x="5929200" y="4856040"/>
            <a:ext cx="3071880" cy="1205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cee"/>
                </a:solidFill>
                <a:latin typeface="Arial Black"/>
                <a:ea typeface="HY견고딕"/>
              </a:rPr>
              <a:t>ASADAL INTERNET, INC.</a:t>
            </a:r>
            <a:endParaRPr b="0" lang="en-US" sz="16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sp>
        <p:nvSpPr>
          <p:cNvPr id="279" name="TextBox 104"/>
          <p:cNvSpPr/>
          <p:nvPr/>
        </p:nvSpPr>
        <p:spPr>
          <a:xfrm>
            <a:off x="222840" y="3328920"/>
            <a:ext cx="252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CLICK TO ADD TEXT</a:t>
            </a:r>
            <a:endParaRPr b="0" lang="en-US" sz="2000" spc="-1" strike="noStrike">
              <a:solidFill>
                <a:srgbClr val="000000"/>
              </a:solidFill>
              <a:latin typeface="Gulim"/>
            </a:endParaRPr>
          </a:p>
        </p:txBody>
      </p:sp>
      <p:grpSp>
        <p:nvGrpSpPr>
          <p:cNvPr id="280" name="Group 17"/>
          <p:cNvGrpSpPr/>
          <p:nvPr/>
        </p:nvGrpSpPr>
        <p:grpSpPr>
          <a:xfrm>
            <a:off x="3884400" y="3402000"/>
            <a:ext cx="1346760" cy="814320"/>
            <a:chOff x="3884400" y="3402000"/>
            <a:chExt cx="1346760" cy="814320"/>
          </a:xfrm>
        </p:grpSpPr>
        <p:sp>
          <p:nvSpPr>
            <p:cNvPr id="281" name="TextBox 107"/>
            <p:cNvSpPr/>
            <p:nvPr/>
          </p:nvSpPr>
          <p:spPr>
            <a:xfrm>
              <a:off x="3884400" y="397008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견고딕"/>
                  <a:ea typeface="HY견고딕"/>
                </a:rPr>
                <a:t>CLICK TO ADD TEXT</a:t>
              </a:r>
              <a:endParaRPr b="0" lang="en-US" sz="1000" spc="-1" strike="noStrike">
                <a:solidFill>
                  <a:srgbClr val="000000"/>
                </a:solidFill>
                <a:latin typeface="Gulim"/>
              </a:endParaRPr>
            </a:p>
          </p:txBody>
        </p:sp>
        <p:sp>
          <p:nvSpPr>
            <p:cNvPr id="282" name="TextBox 108"/>
            <p:cNvSpPr/>
            <p:nvPr/>
          </p:nvSpPr>
          <p:spPr>
            <a:xfrm>
              <a:off x="3966840" y="3402000"/>
              <a:ext cx="118188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Y견고딕"/>
                  <a:ea typeface="HY견고딕"/>
                </a:rPr>
                <a:t>TEXT</a:t>
              </a:r>
              <a:endParaRPr b="0" lang="en-US" sz="3500" spc="-1" strike="noStrike">
                <a:solidFill>
                  <a:srgbClr val="000000"/>
                </a:solidFill>
                <a:latin typeface="Gulim"/>
              </a:endParaRPr>
            </a:p>
          </p:txBody>
        </p:sp>
      </p:grpSp>
      <p:sp>
        <p:nvSpPr>
          <p:cNvPr id="283" name="TextBox 106"/>
          <p:cNvSpPr/>
          <p:nvPr/>
        </p:nvSpPr>
        <p:spPr>
          <a:xfrm>
            <a:off x="6393600" y="3900600"/>
            <a:ext cx="252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CLICK TO ADD TEXT</a:t>
            </a:r>
            <a:endParaRPr b="0" lang="en-US" sz="2000" spc="-1" strike="noStrike">
              <a:solidFill>
                <a:srgbClr val="000000"/>
              </a:solidFill>
              <a:latin typeface="Gulim"/>
            </a:endParaRPr>
          </a:p>
        </p:txBody>
      </p:sp>
      <p:sp>
        <p:nvSpPr>
          <p:cNvPr id="284"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285" name="TextBox 23"/>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48"/>
          <p:cNvSpPr/>
          <p:nvPr/>
        </p:nvSpPr>
        <p:spPr>
          <a:xfrm>
            <a:off x="357120" y="4376880"/>
            <a:ext cx="292896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f6f6f"/>
                </a:solidFill>
                <a:latin typeface="Arial"/>
                <a:ea typeface="HY견고딕"/>
              </a:rPr>
              <a:t>started its business in Seoul Korea in</a:t>
            </a:r>
            <a:br>
              <a:rPr sz="1200"/>
            </a:br>
            <a:r>
              <a:rPr b="0" lang="en-US" sz="1200" spc="-1" strike="noStrike">
                <a:solidFill>
                  <a:srgbClr val="6f6f6f"/>
                </a:solidFill>
                <a:latin typeface="Arial"/>
                <a:ea typeface="HY견고딕"/>
              </a:rPr>
              <a:t>February 1998 with the fundamental</a:t>
            </a:r>
            <a:br>
              <a:rPr sz="1200"/>
            </a:br>
            <a:r>
              <a:rPr b="0" lang="en-US" sz="1200" spc="-1" strike="noStrike">
                <a:solidFill>
                  <a:srgbClr val="6f6f6f"/>
                </a:solidFill>
                <a:latin typeface="Arial"/>
                <a:ea typeface="HY견고딕"/>
              </a:rPr>
              <a:t>goal of providing better internet services</a:t>
            </a:r>
            <a:br>
              <a:rPr sz="1200"/>
            </a:br>
            <a:r>
              <a:rPr b="0" lang="en-US" sz="1200" spc="-1" strike="noStrike">
                <a:solidFill>
                  <a:srgbClr val="6f6f6f"/>
                </a:solidFill>
                <a:latin typeface="Arial"/>
                <a:ea typeface="HY견고딕"/>
              </a:rPr>
              <a:t>to the world.</a:t>
            </a:r>
            <a:endParaRPr b="0" lang="en-US" sz="1200" spc="-1" strike="noStrike">
              <a:solidFill>
                <a:srgbClr val="000000"/>
              </a:solidFill>
              <a:latin typeface="Gulim"/>
            </a:endParaRPr>
          </a:p>
        </p:txBody>
      </p:sp>
      <p:sp>
        <p:nvSpPr>
          <p:cNvPr id="287" name="TextBox 51"/>
          <p:cNvSpPr/>
          <p:nvPr/>
        </p:nvSpPr>
        <p:spPr>
          <a:xfrm>
            <a:off x="3143160" y="2168640"/>
            <a:ext cx="292896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400"/>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f6f6f"/>
                </a:solidFill>
                <a:latin typeface="Arial"/>
                <a:ea typeface="HY견고딕"/>
              </a:rPr>
              <a:t>started its business in Seoul Korea in</a:t>
            </a:r>
            <a:br>
              <a:rPr sz="1200"/>
            </a:br>
            <a:r>
              <a:rPr b="0" lang="en-US" sz="1200" spc="-1" strike="noStrike">
                <a:solidFill>
                  <a:srgbClr val="6f6f6f"/>
                </a:solidFill>
                <a:latin typeface="Arial"/>
                <a:ea typeface="HY견고딕"/>
              </a:rPr>
              <a:t>February 1998 with the fundamental </a:t>
            </a:r>
            <a:br>
              <a:rPr sz="1200"/>
            </a:br>
            <a:r>
              <a:rPr b="0" lang="en-US" sz="1200" spc="-1" strike="noStrike">
                <a:solidFill>
                  <a:srgbClr val="6f6f6f"/>
                </a:solidFill>
                <a:latin typeface="Arial"/>
                <a:ea typeface="HY견고딕"/>
              </a:rPr>
              <a:t>goal of providing better internet services</a:t>
            </a:r>
            <a:br>
              <a:rPr sz="1200"/>
            </a:br>
            <a:r>
              <a:rPr b="0" lang="en-US" sz="1200" spc="-1" strike="noStrike">
                <a:solidFill>
                  <a:srgbClr val="6f6f6f"/>
                </a:solidFill>
                <a:latin typeface="Arial"/>
                <a:ea typeface="HY견고딕"/>
              </a:rPr>
              <a:t> to the world.</a:t>
            </a:r>
            <a:endParaRPr b="0" lang="en-US" sz="1200" spc="-1" strike="noStrike">
              <a:solidFill>
                <a:srgbClr val="000000"/>
              </a:solidFill>
              <a:latin typeface="Gulim"/>
            </a:endParaRPr>
          </a:p>
        </p:txBody>
      </p:sp>
      <p:sp>
        <p:nvSpPr>
          <p:cNvPr id="288"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289"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290" name="TextBox 23"/>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
        <p:nvSpPr>
          <p:cNvPr id="291" name="TextBox 49"/>
          <p:cNvSpPr/>
          <p:nvPr/>
        </p:nvSpPr>
        <p:spPr>
          <a:xfrm>
            <a:off x="5929200" y="4376880"/>
            <a:ext cx="2928960" cy="12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ee"/>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f6f6f"/>
                </a:solidFill>
                <a:latin typeface="Arial"/>
                <a:ea typeface="HY견고딕"/>
              </a:rPr>
              <a:t>started its business in Seoul Korea in</a:t>
            </a:r>
            <a:br>
              <a:rPr sz="1200"/>
            </a:br>
            <a:r>
              <a:rPr b="0" lang="en-US" sz="1200" spc="-1" strike="noStrike">
                <a:solidFill>
                  <a:srgbClr val="6f6f6f"/>
                </a:solidFill>
                <a:latin typeface="Arial"/>
                <a:ea typeface="HY견고딕"/>
              </a:rPr>
              <a:t>February 1998 with the fundamental </a:t>
            </a:r>
            <a:br>
              <a:rPr sz="1200"/>
            </a:br>
            <a:r>
              <a:rPr b="0" lang="en-US" sz="1200" spc="-1" strike="noStrike">
                <a:solidFill>
                  <a:srgbClr val="6f6f6f"/>
                </a:solidFill>
                <a:latin typeface="Arial"/>
                <a:ea typeface="HY견고딕"/>
              </a:rPr>
              <a:t>goal of providing better internet services </a:t>
            </a:r>
            <a:br>
              <a:rPr sz="1200"/>
            </a:br>
            <a:r>
              <a:rPr b="0" lang="en-US" sz="1200" spc="-1" strike="noStrike">
                <a:solidFill>
                  <a:srgbClr val="6f6f6f"/>
                </a:solidFill>
                <a:latin typeface="Arial"/>
                <a:ea typeface="HY견고딕"/>
              </a:rPr>
              <a:t>to the world.</a:t>
            </a:r>
            <a:endParaRPr b="0" lang="en-US" sz="1200" spc="-1" strike="noStrike">
              <a:solidFill>
                <a:srgbClr val="000000"/>
              </a:solidFill>
              <a:latin typeface="Gulim"/>
            </a:endParaRPr>
          </a:p>
        </p:txBody>
      </p:sp>
      <p:sp>
        <p:nvSpPr>
          <p:cNvPr id="292" name="직선 연결선 53"/>
          <p:cNvSpPr/>
          <p:nvPr/>
        </p:nvSpPr>
        <p:spPr>
          <a:xfrm flipH="1" flipV="1">
            <a:off x="2454120" y="3362400"/>
            <a:ext cx="1441440" cy="1009440"/>
          </a:xfrm>
          <a:prstGeom prst="line">
            <a:avLst/>
          </a:prstGeom>
          <a:ln w="63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3" name="직선 연결선 65"/>
          <p:cNvSpPr/>
          <p:nvPr/>
        </p:nvSpPr>
        <p:spPr>
          <a:xfrm flipH="1">
            <a:off x="5345280" y="3362400"/>
            <a:ext cx="1441440" cy="1009440"/>
          </a:xfrm>
          <a:prstGeom prst="line">
            <a:avLst/>
          </a:prstGeom>
          <a:ln w="63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94" name="Group 10"/>
          <p:cNvGrpSpPr/>
          <p:nvPr/>
        </p:nvGrpSpPr>
        <p:grpSpPr>
          <a:xfrm>
            <a:off x="6226200" y="1795320"/>
            <a:ext cx="2300400" cy="2300400"/>
            <a:chOff x="6226200" y="1795320"/>
            <a:chExt cx="2300400" cy="2300400"/>
          </a:xfrm>
        </p:grpSpPr>
        <p:grpSp>
          <p:nvGrpSpPr>
            <p:cNvPr id="295" name="Group 11"/>
            <p:cNvGrpSpPr/>
            <p:nvPr/>
          </p:nvGrpSpPr>
          <p:grpSpPr>
            <a:xfrm>
              <a:off x="6226200" y="1795320"/>
              <a:ext cx="2300400" cy="2300400"/>
              <a:chOff x="6226200" y="1795320"/>
              <a:chExt cx="2300400" cy="2300400"/>
            </a:xfrm>
          </p:grpSpPr>
          <p:sp>
            <p:nvSpPr>
              <p:cNvPr id="296" name="타원 36"/>
              <p:cNvSpPr/>
              <p:nvPr/>
            </p:nvSpPr>
            <p:spPr>
              <a:xfrm>
                <a:off x="6226200" y="1795320"/>
                <a:ext cx="2300400" cy="230040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도넛 37"/>
              <p:cNvSpPr/>
              <p:nvPr/>
            </p:nvSpPr>
            <p:spPr>
              <a:xfrm>
                <a:off x="6310080" y="1879200"/>
                <a:ext cx="2132280" cy="2132280"/>
              </a:xfrm>
              <a:custGeom>
                <a:avLst/>
                <a:gdLst>
                  <a:gd name="textAreaLeft" fmla="*/ 312120 w 2132280"/>
                  <a:gd name="textAreaRight" fmla="*/ 1820160 w 2132280"/>
                  <a:gd name="textAreaTop" fmla="*/ 312120 h 2132280"/>
                  <a:gd name="textAreaBottom" fmla="*/ 1820160 h 2132280"/>
                </a:gdLst>
                <a:ahLst/>
                <a:rect l="textAreaLeft" t="textAreaTop" r="textAreaRight" b="textAreaBottom"/>
                <a:pathLst>
                  <a:path w="2132183" h="2132184">
                    <a:moveTo>
                      <a:pt x="0" y="1066092"/>
                    </a:moveTo>
                    <a:lnTo>
                      <a:pt x="0" y="1066092"/>
                    </a:lnTo>
                    <a:cubicBezTo>
                      <a:pt x="0" y="477306"/>
                      <a:pt x="477306" y="1"/>
                      <a:pt x="1066092" y="1"/>
                    </a:cubicBezTo>
                    <a:cubicBezTo>
                      <a:pt x="1066092" y="1"/>
                      <a:pt x="1066093" y="1"/>
                      <a:pt x="1066093" y="1"/>
                    </a:cubicBezTo>
                    <a:lnTo>
                      <a:pt x="1066094" y="1"/>
                    </a:lnTo>
                    <a:cubicBezTo>
                      <a:pt x="1654879" y="1"/>
                      <a:pt x="2132185" y="477307"/>
                      <a:pt x="2132185" y="1066093"/>
                    </a:cubicBezTo>
                    <a:cubicBezTo>
                      <a:pt x="2132185" y="1066093"/>
                      <a:pt x="2132184" y="1066094"/>
                      <a:pt x="2132184" y="1066095"/>
                    </a:cubicBezTo>
                    <a:lnTo>
                      <a:pt x="2132185" y="1066095"/>
                    </a:lnTo>
                    <a:cubicBezTo>
                      <a:pt x="2132185" y="1654881"/>
                      <a:pt x="1654879" y="2132187"/>
                      <a:pt x="1066093" y="2132187"/>
                    </a:cubicBezTo>
                    <a:cubicBezTo>
                      <a:pt x="1066092" y="2132187"/>
                      <a:pt x="1066092" y="2132186"/>
                      <a:pt x="1066092" y="2132186"/>
                    </a:cubicBezTo>
                    <a:cubicBezTo>
                      <a:pt x="477306" y="2132186"/>
                      <a:pt x="1" y="1654880"/>
                      <a:pt x="1" y="1066095"/>
                    </a:cubicBezTo>
                    <a:cubicBezTo>
                      <a:pt x="1" y="1066094"/>
                      <a:pt x="1" y="1066094"/>
                      <a:pt x="1" y="1066094"/>
                    </a:cubicBezTo>
                    <a:lnTo>
                      <a:pt x="0" y="1066092"/>
                    </a:lnTo>
                    <a:close/>
                    <a:moveTo>
                      <a:pt x="387396" y="1066092"/>
                    </a:moveTo>
                    <a:lnTo>
                      <a:pt x="387396" y="1066092"/>
                    </a:lnTo>
                    <a:cubicBezTo>
                      <a:pt x="387396" y="1066092"/>
                      <a:pt x="387396" y="1066092"/>
                      <a:pt x="387396" y="1066093"/>
                    </a:cubicBezTo>
                    <a:cubicBezTo>
                      <a:pt x="387396" y="1440926"/>
                      <a:pt x="691257" y="1744788"/>
                      <a:pt x="1066090" y="1744788"/>
                    </a:cubicBezTo>
                    <a:lnTo>
                      <a:pt x="1066090" y="1744789"/>
                    </a:lnTo>
                    <a:cubicBezTo>
                      <a:pt x="1440922" y="1744789"/>
                      <a:pt x="1744785" y="1440926"/>
                      <a:pt x="1744785" y="1066093"/>
                    </a:cubicBezTo>
                    <a:cubicBezTo>
                      <a:pt x="1744785" y="691259"/>
                      <a:pt x="1440922" y="387397"/>
                      <a:pt x="1066090" y="387397"/>
                    </a:cubicBezTo>
                    <a:cubicBezTo>
                      <a:pt x="1066089" y="387397"/>
                      <a:pt x="1066089" y="387397"/>
                      <a:pt x="1066089" y="387397"/>
                    </a:cubicBezTo>
                    <a:cubicBezTo>
                      <a:pt x="691256" y="387397"/>
                      <a:pt x="387394" y="691258"/>
                      <a:pt x="387394" y="1066092"/>
                    </a:cubicBezTo>
                    <a:lnTo>
                      <a:pt x="387396" y="1066092"/>
                    </a:lnTo>
                    <a:close/>
                  </a:path>
                </a:pathLst>
              </a:custGeom>
              <a:solidFill>
                <a:srgbClr val="00ace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98" name="도넛 38"/>
              <p:cNvSpPr/>
              <p:nvPr/>
            </p:nvSpPr>
            <p:spPr>
              <a:xfrm>
                <a:off x="6532560" y="2101680"/>
                <a:ext cx="1687680" cy="1687680"/>
              </a:xfrm>
              <a:custGeom>
                <a:avLst/>
                <a:gdLst>
                  <a:gd name="textAreaLeft" fmla="*/ 246960 w 1687680"/>
                  <a:gd name="textAreaRight" fmla="*/ 1440720 w 1687680"/>
                  <a:gd name="textAreaTop" fmla="*/ 246960 h 1687680"/>
                  <a:gd name="textAreaBottom" fmla="*/ 1440720 h 1687680"/>
                </a:gdLst>
                <a:ahLst/>
                <a:rect l="textAreaLeft" t="textAreaTop" r="textAreaRight" b="textAreaBottom"/>
                <a:pathLst>
                  <a:path w="1687647" h="1687649">
                    <a:moveTo>
                      <a:pt x="0" y="843825"/>
                    </a:moveTo>
                    <a:lnTo>
                      <a:pt x="0" y="843825"/>
                    </a:lnTo>
                    <a:cubicBezTo>
                      <a:pt x="0" y="377793"/>
                      <a:pt x="377793" y="1"/>
                      <a:pt x="843824" y="1"/>
                    </a:cubicBezTo>
                    <a:cubicBezTo>
                      <a:pt x="843824" y="1"/>
                      <a:pt x="843824" y="1"/>
                      <a:pt x="843824" y="1"/>
                    </a:cubicBezTo>
                    <a:cubicBezTo>
                      <a:pt x="1309855" y="1"/>
                      <a:pt x="1687648" y="377794"/>
                      <a:pt x="1687648" y="843826"/>
                    </a:cubicBezTo>
                    <a:cubicBezTo>
                      <a:pt x="1687648" y="843826"/>
                      <a:pt x="1687647" y="843826"/>
                      <a:pt x="1687647" y="843827"/>
                    </a:cubicBezTo>
                    <a:lnTo>
                      <a:pt x="1687648" y="843827"/>
                    </a:lnTo>
                    <a:cubicBezTo>
                      <a:pt x="1687648" y="1309858"/>
                      <a:pt x="1309855" y="1687652"/>
                      <a:pt x="843824" y="1687652"/>
                    </a:cubicBezTo>
                    <a:cubicBezTo>
                      <a:pt x="377792" y="1687652"/>
                      <a:pt x="0" y="1309858"/>
                      <a:pt x="0" y="843827"/>
                    </a:cubicBezTo>
                    <a:cubicBezTo>
                      <a:pt x="0" y="843826"/>
                      <a:pt x="0" y="843826"/>
                      <a:pt x="0" y="843826"/>
                    </a:cubicBezTo>
                    <a:lnTo>
                      <a:pt x="0" y="843825"/>
                    </a:lnTo>
                    <a:close/>
                    <a:moveTo>
                      <a:pt x="236557" y="843825"/>
                    </a:moveTo>
                    <a:lnTo>
                      <a:pt x="236557" y="843825"/>
                    </a:lnTo>
                    <a:cubicBezTo>
                      <a:pt x="236557" y="843825"/>
                      <a:pt x="236557" y="843825"/>
                      <a:pt x="236557" y="843825"/>
                    </a:cubicBezTo>
                    <a:cubicBezTo>
                      <a:pt x="236557" y="1179209"/>
                      <a:pt x="508438" y="1451092"/>
                      <a:pt x="843821" y="1451092"/>
                    </a:cubicBezTo>
                    <a:lnTo>
                      <a:pt x="843822" y="1451093"/>
                    </a:lnTo>
                    <a:cubicBezTo>
                      <a:pt x="1179205" y="1451093"/>
                      <a:pt x="1451088" y="1179210"/>
                      <a:pt x="1451088" y="843826"/>
                    </a:cubicBezTo>
                    <a:cubicBezTo>
                      <a:pt x="1451088" y="508441"/>
                      <a:pt x="1179205" y="236559"/>
                      <a:pt x="843822" y="236559"/>
                    </a:cubicBezTo>
                    <a:lnTo>
                      <a:pt x="843821" y="236559"/>
                    </a:lnTo>
                    <a:cubicBezTo>
                      <a:pt x="843821" y="236559"/>
                      <a:pt x="843821" y="236559"/>
                      <a:pt x="843821" y="236559"/>
                    </a:cubicBezTo>
                    <a:cubicBezTo>
                      <a:pt x="508437" y="236559"/>
                      <a:pt x="236555" y="508441"/>
                      <a:pt x="236555" y="843825"/>
                    </a:cubicBezTo>
                    <a:lnTo>
                      <a:pt x="236557" y="843825"/>
                    </a:lnTo>
                    <a:close/>
                  </a:path>
                </a:pathLst>
              </a:custGeom>
              <a:solidFill>
                <a:srgbClr val="00acee">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99" name="도넛 39"/>
              <p:cNvSpPr/>
              <p:nvPr/>
            </p:nvSpPr>
            <p:spPr>
              <a:xfrm>
                <a:off x="6532560" y="2101680"/>
                <a:ext cx="1687680" cy="1687680"/>
              </a:xfrm>
              <a:custGeom>
                <a:avLst/>
                <a:gdLst>
                  <a:gd name="textAreaLeft" fmla="*/ 246960 w 1687680"/>
                  <a:gd name="textAreaRight" fmla="*/ 1440720 w 1687680"/>
                  <a:gd name="textAreaTop" fmla="*/ 246960 h 1687680"/>
                  <a:gd name="textAreaBottom" fmla="*/ 1440720 h 1687680"/>
                </a:gdLst>
                <a:ahLst/>
                <a:rect l="textAreaLeft" t="textAreaTop" r="textAreaRight" b="textAreaBottom"/>
                <a:pathLst>
                  <a:path w="1687647" h="1687649">
                    <a:moveTo>
                      <a:pt x="0" y="843825"/>
                    </a:moveTo>
                    <a:lnTo>
                      <a:pt x="0" y="843825"/>
                    </a:lnTo>
                    <a:cubicBezTo>
                      <a:pt x="0" y="377793"/>
                      <a:pt x="377793" y="1"/>
                      <a:pt x="843824" y="1"/>
                    </a:cubicBezTo>
                    <a:cubicBezTo>
                      <a:pt x="843824" y="1"/>
                      <a:pt x="843824" y="1"/>
                      <a:pt x="843824" y="1"/>
                    </a:cubicBezTo>
                    <a:cubicBezTo>
                      <a:pt x="1309855" y="1"/>
                      <a:pt x="1687648" y="377794"/>
                      <a:pt x="1687648" y="843826"/>
                    </a:cubicBezTo>
                    <a:cubicBezTo>
                      <a:pt x="1687648" y="843826"/>
                      <a:pt x="1687647" y="843826"/>
                      <a:pt x="1687647" y="843827"/>
                    </a:cubicBezTo>
                    <a:lnTo>
                      <a:pt x="1687648" y="843827"/>
                    </a:lnTo>
                    <a:cubicBezTo>
                      <a:pt x="1687648" y="1309858"/>
                      <a:pt x="1309855" y="1687652"/>
                      <a:pt x="843824" y="1687652"/>
                    </a:cubicBezTo>
                    <a:cubicBezTo>
                      <a:pt x="377792" y="1687652"/>
                      <a:pt x="0" y="1309858"/>
                      <a:pt x="0" y="843827"/>
                    </a:cubicBezTo>
                    <a:cubicBezTo>
                      <a:pt x="0" y="843826"/>
                      <a:pt x="0" y="843826"/>
                      <a:pt x="0" y="843826"/>
                    </a:cubicBezTo>
                    <a:lnTo>
                      <a:pt x="0" y="843825"/>
                    </a:lnTo>
                    <a:close/>
                    <a:moveTo>
                      <a:pt x="207294" y="843825"/>
                    </a:moveTo>
                    <a:lnTo>
                      <a:pt x="207294" y="843825"/>
                    </a:lnTo>
                    <a:cubicBezTo>
                      <a:pt x="207294" y="843825"/>
                      <a:pt x="207294" y="843825"/>
                      <a:pt x="207294" y="843825"/>
                    </a:cubicBezTo>
                    <a:cubicBezTo>
                      <a:pt x="207294" y="1195371"/>
                      <a:pt x="492277" y="1480356"/>
                      <a:pt x="843822" y="1480356"/>
                    </a:cubicBezTo>
                    <a:lnTo>
                      <a:pt x="843823" y="1480357"/>
                    </a:lnTo>
                    <a:cubicBezTo>
                      <a:pt x="1195368" y="1480357"/>
                      <a:pt x="1480353" y="1195372"/>
                      <a:pt x="1480353" y="843826"/>
                    </a:cubicBezTo>
                    <a:cubicBezTo>
                      <a:pt x="1480353" y="492279"/>
                      <a:pt x="1195368" y="207295"/>
                      <a:pt x="843823" y="207295"/>
                    </a:cubicBezTo>
                    <a:lnTo>
                      <a:pt x="843822" y="207295"/>
                    </a:lnTo>
                    <a:cubicBezTo>
                      <a:pt x="843822" y="207295"/>
                      <a:pt x="843822" y="207295"/>
                      <a:pt x="843822" y="207295"/>
                    </a:cubicBezTo>
                    <a:cubicBezTo>
                      <a:pt x="492276" y="207295"/>
                      <a:pt x="207292" y="492279"/>
                      <a:pt x="207292" y="843825"/>
                    </a:cubicBezTo>
                    <a:lnTo>
                      <a:pt x="207294" y="843825"/>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300" name="TextBox 43"/>
            <p:cNvSpPr/>
            <p:nvPr/>
          </p:nvSpPr>
          <p:spPr>
            <a:xfrm>
              <a:off x="6927480" y="269928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acee"/>
                  </a:solidFill>
                  <a:latin typeface="HY견고딕"/>
                  <a:ea typeface="HY견고딕"/>
                </a:rPr>
                <a:t>TEXT</a:t>
              </a:r>
              <a:endParaRPr b="0" lang="en-US" sz="2500" spc="-1" strike="noStrike">
                <a:solidFill>
                  <a:srgbClr val="000000"/>
                </a:solidFill>
                <a:latin typeface="Gulim"/>
              </a:endParaRPr>
            </a:p>
          </p:txBody>
        </p:sp>
      </p:grpSp>
      <p:grpSp>
        <p:nvGrpSpPr>
          <p:cNvPr id="301" name="Group 17"/>
          <p:cNvGrpSpPr/>
          <p:nvPr/>
        </p:nvGrpSpPr>
        <p:grpSpPr>
          <a:xfrm>
            <a:off x="3411360" y="3681360"/>
            <a:ext cx="2300400" cy="2300400"/>
            <a:chOff x="3411360" y="3681360"/>
            <a:chExt cx="2300400" cy="2300400"/>
          </a:xfrm>
        </p:grpSpPr>
        <p:grpSp>
          <p:nvGrpSpPr>
            <p:cNvPr id="302" name="Group 18"/>
            <p:cNvGrpSpPr/>
            <p:nvPr/>
          </p:nvGrpSpPr>
          <p:grpSpPr>
            <a:xfrm>
              <a:off x="3411360" y="3681360"/>
              <a:ext cx="2300400" cy="2300400"/>
              <a:chOff x="3411360" y="3681360"/>
              <a:chExt cx="2300400" cy="2300400"/>
            </a:xfrm>
          </p:grpSpPr>
          <p:sp>
            <p:nvSpPr>
              <p:cNvPr id="303" name="타원 5"/>
              <p:cNvSpPr/>
              <p:nvPr/>
            </p:nvSpPr>
            <p:spPr>
              <a:xfrm>
                <a:off x="3411360" y="3681360"/>
                <a:ext cx="2300400" cy="230040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도넛 7"/>
              <p:cNvSpPr/>
              <p:nvPr/>
            </p:nvSpPr>
            <p:spPr>
              <a:xfrm>
                <a:off x="3495240" y="3765240"/>
                <a:ext cx="2132280" cy="2132280"/>
              </a:xfrm>
              <a:custGeom>
                <a:avLst/>
                <a:gdLst>
                  <a:gd name="textAreaLeft" fmla="*/ 312120 w 2132280"/>
                  <a:gd name="textAreaRight" fmla="*/ 1820160 w 2132280"/>
                  <a:gd name="textAreaTop" fmla="*/ 312120 h 2132280"/>
                  <a:gd name="textAreaBottom" fmla="*/ 1820160 h 2132280"/>
                </a:gdLst>
                <a:ahLst/>
                <a:rect l="textAreaLeft" t="textAreaTop" r="textAreaRight" b="textAreaBottom"/>
                <a:pathLst>
                  <a:path w="2132184" h="2132184">
                    <a:moveTo>
                      <a:pt x="0" y="1066092"/>
                    </a:moveTo>
                    <a:lnTo>
                      <a:pt x="0" y="1066092"/>
                    </a:lnTo>
                    <a:cubicBezTo>
                      <a:pt x="0" y="477306"/>
                      <a:pt x="477306" y="1"/>
                      <a:pt x="1066092" y="1"/>
                    </a:cubicBezTo>
                    <a:cubicBezTo>
                      <a:pt x="1066092" y="1"/>
                      <a:pt x="1066093" y="1"/>
                      <a:pt x="1066093" y="1"/>
                    </a:cubicBezTo>
                    <a:lnTo>
                      <a:pt x="1066094" y="1"/>
                    </a:lnTo>
                    <a:cubicBezTo>
                      <a:pt x="1654879" y="1"/>
                      <a:pt x="2132185" y="477307"/>
                      <a:pt x="2132185" y="1066093"/>
                    </a:cubicBezTo>
                    <a:cubicBezTo>
                      <a:pt x="2132185" y="1066093"/>
                      <a:pt x="2132184" y="1066094"/>
                      <a:pt x="2132184" y="1066095"/>
                    </a:cubicBezTo>
                    <a:lnTo>
                      <a:pt x="2132185" y="1066095"/>
                    </a:lnTo>
                    <a:cubicBezTo>
                      <a:pt x="2132185" y="1654881"/>
                      <a:pt x="1654879" y="2132187"/>
                      <a:pt x="1066093" y="2132187"/>
                    </a:cubicBezTo>
                    <a:cubicBezTo>
                      <a:pt x="1066092" y="2132187"/>
                      <a:pt x="1066092" y="2132186"/>
                      <a:pt x="1066092" y="2132186"/>
                    </a:cubicBezTo>
                    <a:cubicBezTo>
                      <a:pt x="477306" y="2132186"/>
                      <a:pt x="1" y="1654880"/>
                      <a:pt x="1" y="1066095"/>
                    </a:cubicBezTo>
                    <a:cubicBezTo>
                      <a:pt x="1" y="1066094"/>
                      <a:pt x="1" y="1066094"/>
                      <a:pt x="1" y="1066094"/>
                    </a:cubicBezTo>
                    <a:lnTo>
                      <a:pt x="0" y="1066092"/>
                    </a:lnTo>
                    <a:close/>
                    <a:moveTo>
                      <a:pt x="387397" y="1066092"/>
                    </a:moveTo>
                    <a:lnTo>
                      <a:pt x="387397" y="1066092"/>
                    </a:lnTo>
                    <a:cubicBezTo>
                      <a:pt x="387397" y="1066092"/>
                      <a:pt x="387397" y="1066092"/>
                      <a:pt x="387397" y="1066093"/>
                    </a:cubicBezTo>
                    <a:cubicBezTo>
                      <a:pt x="387397" y="1440925"/>
                      <a:pt x="691258" y="1744787"/>
                      <a:pt x="1066091" y="1744787"/>
                    </a:cubicBezTo>
                    <a:lnTo>
                      <a:pt x="1066091" y="1744788"/>
                    </a:lnTo>
                    <a:cubicBezTo>
                      <a:pt x="1440923" y="1744788"/>
                      <a:pt x="1744786" y="1440925"/>
                      <a:pt x="1744786" y="1066093"/>
                    </a:cubicBezTo>
                    <a:cubicBezTo>
                      <a:pt x="1744786" y="691260"/>
                      <a:pt x="1440923" y="387398"/>
                      <a:pt x="1066091" y="387398"/>
                    </a:cubicBezTo>
                    <a:cubicBezTo>
                      <a:pt x="1066090" y="387398"/>
                      <a:pt x="1066090" y="387398"/>
                      <a:pt x="1066090" y="387398"/>
                    </a:cubicBezTo>
                    <a:cubicBezTo>
                      <a:pt x="691257" y="387398"/>
                      <a:pt x="387395" y="691259"/>
                      <a:pt x="387395" y="1066092"/>
                    </a:cubicBezTo>
                    <a:lnTo>
                      <a:pt x="387397" y="1066092"/>
                    </a:lnTo>
                    <a:close/>
                  </a:path>
                </a:pathLst>
              </a:custGeom>
              <a:solidFill>
                <a:srgbClr val="00b4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05" name="도넛 19"/>
              <p:cNvSpPr/>
              <p:nvPr/>
            </p:nvSpPr>
            <p:spPr>
              <a:xfrm>
                <a:off x="3717720" y="3987720"/>
                <a:ext cx="1687680" cy="1687680"/>
              </a:xfrm>
              <a:custGeom>
                <a:avLst/>
                <a:gdLst>
                  <a:gd name="textAreaLeft" fmla="*/ 246960 w 1687680"/>
                  <a:gd name="textAreaRight" fmla="*/ 1440720 w 1687680"/>
                  <a:gd name="textAreaTop" fmla="*/ 246960 h 1687680"/>
                  <a:gd name="textAreaBottom" fmla="*/ 1440720 h 1687680"/>
                </a:gdLst>
                <a:ahLst/>
                <a:rect l="textAreaLeft" t="textAreaTop" r="textAreaRight" b="textAreaBottom"/>
                <a:pathLst>
                  <a:path w="1687649" h="1687649">
                    <a:moveTo>
                      <a:pt x="0" y="843825"/>
                    </a:moveTo>
                    <a:lnTo>
                      <a:pt x="0" y="843825"/>
                    </a:lnTo>
                    <a:cubicBezTo>
                      <a:pt x="0" y="377793"/>
                      <a:pt x="377793" y="1"/>
                      <a:pt x="843825" y="1"/>
                    </a:cubicBezTo>
                    <a:cubicBezTo>
                      <a:pt x="843825" y="1"/>
                      <a:pt x="843825" y="1"/>
                      <a:pt x="843825" y="1"/>
                    </a:cubicBezTo>
                    <a:cubicBezTo>
                      <a:pt x="1309857" y="1"/>
                      <a:pt x="1687650" y="377794"/>
                      <a:pt x="1687650" y="843826"/>
                    </a:cubicBezTo>
                    <a:cubicBezTo>
                      <a:pt x="1687650" y="843826"/>
                      <a:pt x="1687649" y="843826"/>
                      <a:pt x="1687649" y="843827"/>
                    </a:cubicBezTo>
                    <a:lnTo>
                      <a:pt x="1687650" y="843827"/>
                    </a:lnTo>
                    <a:cubicBezTo>
                      <a:pt x="1687650" y="1309858"/>
                      <a:pt x="1309856" y="1687652"/>
                      <a:pt x="843825" y="1687652"/>
                    </a:cubicBezTo>
                    <a:cubicBezTo>
                      <a:pt x="377793" y="1687652"/>
                      <a:pt x="0" y="1309858"/>
                      <a:pt x="0" y="843827"/>
                    </a:cubicBezTo>
                    <a:cubicBezTo>
                      <a:pt x="0" y="843826"/>
                      <a:pt x="0" y="843826"/>
                      <a:pt x="0" y="843826"/>
                    </a:cubicBezTo>
                    <a:lnTo>
                      <a:pt x="0" y="843825"/>
                    </a:lnTo>
                    <a:close/>
                    <a:moveTo>
                      <a:pt x="236558" y="843825"/>
                    </a:moveTo>
                    <a:lnTo>
                      <a:pt x="236558" y="843825"/>
                    </a:lnTo>
                    <a:cubicBezTo>
                      <a:pt x="236558" y="843825"/>
                      <a:pt x="236558" y="843825"/>
                      <a:pt x="236558" y="843825"/>
                    </a:cubicBezTo>
                    <a:cubicBezTo>
                      <a:pt x="236558" y="1179209"/>
                      <a:pt x="508440" y="1451092"/>
                      <a:pt x="843824" y="1451092"/>
                    </a:cubicBezTo>
                    <a:lnTo>
                      <a:pt x="843824" y="1451093"/>
                    </a:lnTo>
                    <a:cubicBezTo>
                      <a:pt x="1179208" y="1451093"/>
                      <a:pt x="1451091" y="1179210"/>
                      <a:pt x="1451091" y="843826"/>
                    </a:cubicBezTo>
                    <a:cubicBezTo>
                      <a:pt x="1451091" y="508441"/>
                      <a:pt x="1179208" y="236559"/>
                      <a:pt x="843824" y="236559"/>
                    </a:cubicBezTo>
                    <a:lnTo>
                      <a:pt x="843823" y="236559"/>
                    </a:lnTo>
                    <a:cubicBezTo>
                      <a:pt x="843823" y="236559"/>
                      <a:pt x="843823" y="236559"/>
                      <a:pt x="843823" y="236559"/>
                    </a:cubicBezTo>
                    <a:cubicBezTo>
                      <a:pt x="508439" y="236559"/>
                      <a:pt x="236556" y="508441"/>
                      <a:pt x="236556" y="843825"/>
                    </a:cubicBezTo>
                    <a:lnTo>
                      <a:pt x="236558" y="843825"/>
                    </a:lnTo>
                    <a:close/>
                  </a:path>
                </a:pathLst>
              </a:custGeom>
              <a:solidFill>
                <a:srgbClr val="00b400">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06" name="도넛 14"/>
              <p:cNvSpPr/>
              <p:nvPr/>
            </p:nvSpPr>
            <p:spPr>
              <a:xfrm>
                <a:off x="3717720" y="4025880"/>
                <a:ext cx="1687680" cy="1689120"/>
              </a:xfrm>
              <a:custGeom>
                <a:avLst/>
                <a:gdLst>
                  <a:gd name="textAreaLeft" fmla="*/ 246960 w 1687680"/>
                  <a:gd name="textAreaRight" fmla="*/ 1440720 w 1687680"/>
                  <a:gd name="textAreaTop" fmla="*/ 247320 h 1689120"/>
                  <a:gd name="textAreaBottom" fmla="*/ 1441800 h 1689120"/>
                </a:gdLst>
                <a:ahLst/>
                <a:rect l="textAreaLeft" t="textAreaTop" r="textAreaRight" b="textAreaBottom"/>
                <a:pathLst>
                  <a:path w="1687649" h="1689236">
                    <a:moveTo>
                      <a:pt x="0" y="844618"/>
                    </a:moveTo>
                    <a:lnTo>
                      <a:pt x="0" y="844618"/>
                    </a:lnTo>
                    <a:cubicBezTo>
                      <a:pt x="0" y="378148"/>
                      <a:pt x="377793" y="1"/>
                      <a:pt x="843825" y="1"/>
                    </a:cubicBezTo>
                    <a:cubicBezTo>
                      <a:pt x="843825" y="1"/>
                      <a:pt x="843825" y="1"/>
                      <a:pt x="843825" y="1"/>
                    </a:cubicBezTo>
                    <a:cubicBezTo>
                      <a:pt x="1309857" y="1"/>
                      <a:pt x="1687650" y="378149"/>
                      <a:pt x="1687650" y="844619"/>
                    </a:cubicBezTo>
                    <a:cubicBezTo>
                      <a:pt x="1687650" y="844619"/>
                      <a:pt x="1687649" y="844619"/>
                      <a:pt x="1687649" y="844620"/>
                    </a:cubicBezTo>
                    <a:lnTo>
                      <a:pt x="1687650" y="844620"/>
                    </a:lnTo>
                    <a:cubicBezTo>
                      <a:pt x="1687650" y="1311089"/>
                      <a:pt x="1309856" y="1689238"/>
                      <a:pt x="843825" y="1689238"/>
                    </a:cubicBezTo>
                    <a:cubicBezTo>
                      <a:pt x="377793" y="1689238"/>
                      <a:pt x="0" y="1311089"/>
                      <a:pt x="0" y="844620"/>
                    </a:cubicBezTo>
                    <a:cubicBezTo>
                      <a:pt x="0" y="844619"/>
                      <a:pt x="0" y="844619"/>
                      <a:pt x="0" y="844619"/>
                    </a:cubicBezTo>
                    <a:lnTo>
                      <a:pt x="0" y="844618"/>
                    </a:lnTo>
                    <a:close/>
                    <a:moveTo>
                      <a:pt x="232794" y="844618"/>
                    </a:moveTo>
                    <a:lnTo>
                      <a:pt x="232794" y="844618"/>
                    </a:lnTo>
                    <a:cubicBezTo>
                      <a:pt x="232794" y="844618"/>
                      <a:pt x="232794" y="844618"/>
                      <a:pt x="232794" y="844618"/>
                    </a:cubicBezTo>
                    <a:cubicBezTo>
                      <a:pt x="232794" y="1182519"/>
                      <a:pt x="506360" y="1456442"/>
                      <a:pt x="843823" y="1456442"/>
                    </a:cubicBezTo>
                    <a:lnTo>
                      <a:pt x="843823" y="1456443"/>
                    </a:lnTo>
                    <a:cubicBezTo>
                      <a:pt x="1181285" y="1456443"/>
                      <a:pt x="1454853" y="1182520"/>
                      <a:pt x="1454853" y="844619"/>
                    </a:cubicBezTo>
                    <a:cubicBezTo>
                      <a:pt x="1454853" y="506717"/>
                      <a:pt x="1181285" y="232795"/>
                      <a:pt x="843823" y="232795"/>
                    </a:cubicBezTo>
                    <a:lnTo>
                      <a:pt x="843822" y="232795"/>
                    </a:lnTo>
                    <a:cubicBezTo>
                      <a:pt x="843822" y="232795"/>
                      <a:pt x="843822" y="232795"/>
                      <a:pt x="843822" y="232795"/>
                    </a:cubicBezTo>
                    <a:cubicBezTo>
                      <a:pt x="506359" y="232795"/>
                      <a:pt x="232792" y="506717"/>
                      <a:pt x="232792" y="844618"/>
                    </a:cubicBezTo>
                    <a:lnTo>
                      <a:pt x="232794" y="844618"/>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307" name="TextBox 27"/>
            <p:cNvSpPr/>
            <p:nvPr/>
          </p:nvSpPr>
          <p:spPr>
            <a:xfrm>
              <a:off x="4112640" y="458532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b400"/>
                  </a:solidFill>
                  <a:latin typeface="HY견고딕"/>
                  <a:ea typeface="HY견고딕"/>
                </a:rPr>
                <a:t>TEXT</a:t>
              </a:r>
              <a:endParaRPr b="0" lang="en-US" sz="2500" spc="-1" strike="noStrike">
                <a:solidFill>
                  <a:srgbClr val="000000"/>
                </a:solidFill>
                <a:latin typeface="Gulim"/>
              </a:endParaRPr>
            </a:p>
          </p:txBody>
        </p:sp>
      </p:grpSp>
      <p:grpSp>
        <p:nvGrpSpPr>
          <p:cNvPr id="308" name="Group 24"/>
          <p:cNvGrpSpPr/>
          <p:nvPr/>
        </p:nvGrpSpPr>
        <p:grpSpPr>
          <a:xfrm>
            <a:off x="596880" y="1724040"/>
            <a:ext cx="2300400" cy="2300400"/>
            <a:chOff x="596880" y="1724040"/>
            <a:chExt cx="2300400" cy="2300400"/>
          </a:xfrm>
        </p:grpSpPr>
        <p:grpSp>
          <p:nvGrpSpPr>
            <p:cNvPr id="309" name="Group 25"/>
            <p:cNvGrpSpPr/>
            <p:nvPr/>
          </p:nvGrpSpPr>
          <p:grpSpPr>
            <a:xfrm>
              <a:off x="596880" y="1724040"/>
              <a:ext cx="2300400" cy="2300400"/>
              <a:chOff x="596880" y="1724040"/>
              <a:chExt cx="2300400" cy="2300400"/>
            </a:xfrm>
          </p:grpSpPr>
          <p:sp>
            <p:nvSpPr>
              <p:cNvPr id="310" name="타원 44"/>
              <p:cNvSpPr/>
              <p:nvPr/>
            </p:nvSpPr>
            <p:spPr>
              <a:xfrm>
                <a:off x="596880" y="1724040"/>
                <a:ext cx="2300400" cy="230040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도넛 45"/>
              <p:cNvSpPr/>
              <p:nvPr/>
            </p:nvSpPr>
            <p:spPr>
              <a:xfrm>
                <a:off x="680760" y="1807920"/>
                <a:ext cx="2132280" cy="2132280"/>
              </a:xfrm>
              <a:custGeom>
                <a:avLst/>
                <a:gdLst>
                  <a:gd name="textAreaLeft" fmla="*/ 312120 w 2132280"/>
                  <a:gd name="textAreaRight" fmla="*/ 1820160 w 2132280"/>
                  <a:gd name="textAreaTop" fmla="*/ 312120 h 2132280"/>
                  <a:gd name="textAreaBottom" fmla="*/ 1820160 h 2132280"/>
                </a:gdLst>
                <a:ahLst/>
                <a:rect l="textAreaLeft" t="textAreaTop" r="textAreaRight" b="textAreaBottom"/>
                <a:pathLst>
                  <a:path w="2132183" h="2132183">
                    <a:moveTo>
                      <a:pt x="0" y="1066092"/>
                    </a:moveTo>
                    <a:lnTo>
                      <a:pt x="0" y="1066092"/>
                    </a:lnTo>
                    <a:cubicBezTo>
                      <a:pt x="0" y="477306"/>
                      <a:pt x="477306" y="1"/>
                      <a:pt x="1066092" y="1"/>
                    </a:cubicBezTo>
                    <a:cubicBezTo>
                      <a:pt x="1066092" y="1"/>
                      <a:pt x="1066093" y="1"/>
                      <a:pt x="1066093" y="1"/>
                    </a:cubicBezTo>
                    <a:lnTo>
                      <a:pt x="1066094" y="1"/>
                    </a:lnTo>
                    <a:cubicBezTo>
                      <a:pt x="1654879" y="1"/>
                      <a:pt x="2132185" y="477307"/>
                      <a:pt x="2132185" y="1066093"/>
                    </a:cubicBezTo>
                    <a:cubicBezTo>
                      <a:pt x="2132185" y="1066093"/>
                      <a:pt x="2132184" y="1066094"/>
                      <a:pt x="2132184" y="1066095"/>
                    </a:cubicBezTo>
                    <a:lnTo>
                      <a:pt x="2132185" y="1066095"/>
                    </a:lnTo>
                    <a:cubicBezTo>
                      <a:pt x="2132185" y="1654881"/>
                      <a:pt x="1654879" y="2132187"/>
                      <a:pt x="1066093" y="2132187"/>
                    </a:cubicBezTo>
                    <a:cubicBezTo>
                      <a:pt x="1066092" y="2132187"/>
                      <a:pt x="1066092" y="2132186"/>
                      <a:pt x="1066092" y="2132186"/>
                    </a:cubicBezTo>
                    <a:cubicBezTo>
                      <a:pt x="477306" y="2132186"/>
                      <a:pt x="1" y="1654880"/>
                      <a:pt x="1" y="1066095"/>
                    </a:cubicBezTo>
                    <a:cubicBezTo>
                      <a:pt x="1" y="1066094"/>
                      <a:pt x="1" y="1066094"/>
                      <a:pt x="1" y="1066094"/>
                    </a:cubicBezTo>
                    <a:lnTo>
                      <a:pt x="0" y="1066092"/>
                    </a:lnTo>
                    <a:close/>
                    <a:moveTo>
                      <a:pt x="387396" y="1066092"/>
                    </a:moveTo>
                    <a:lnTo>
                      <a:pt x="387396" y="1066092"/>
                    </a:lnTo>
                    <a:cubicBezTo>
                      <a:pt x="387396" y="1066092"/>
                      <a:pt x="387396" y="1066092"/>
                      <a:pt x="387396" y="1066093"/>
                    </a:cubicBezTo>
                    <a:cubicBezTo>
                      <a:pt x="387396" y="1440925"/>
                      <a:pt x="691257" y="1744787"/>
                      <a:pt x="1066090" y="1744787"/>
                    </a:cubicBezTo>
                    <a:lnTo>
                      <a:pt x="1066090" y="1744788"/>
                    </a:lnTo>
                    <a:cubicBezTo>
                      <a:pt x="1440922" y="1744788"/>
                      <a:pt x="1744785" y="1440925"/>
                      <a:pt x="1744785" y="1066093"/>
                    </a:cubicBezTo>
                    <a:cubicBezTo>
                      <a:pt x="1744785" y="691260"/>
                      <a:pt x="1440922" y="387398"/>
                      <a:pt x="1066090" y="387398"/>
                    </a:cubicBezTo>
                    <a:cubicBezTo>
                      <a:pt x="1066089" y="387398"/>
                      <a:pt x="1066089" y="387398"/>
                      <a:pt x="1066089" y="387398"/>
                    </a:cubicBezTo>
                    <a:cubicBezTo>
                      <a:pt x="691256" y="387398"/>
                      <a:pt x="387394" y="691259"/>
                      <a:pt x="387394" y="1066092"/>
                    </a:cubicBezTo>
                    <a:lnTo>
                      <a:pt x="387396" y="1066092"/>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12" name="도넛 46"/>
              <p:cNvSpPr/>
              <p:nvPr/>
            </p:nvSpPr>
            <p:spPr>
              <a:xfrm>
                <a:off x="903240" y="2030400"/>
                <a:ext cx="1687680" cy="1687680"/>
              </a:xfrm>
              <a:custGeom>
                <a:avLst/>
                <a:gdLst>
                  <a:gd name="textAreaLeft" fmla="*/ 246960 w 1687680"/>
                  <a:gd name="textAreaRight" fmla="*/ 1440720 w 1687680"/>
                  <a:gd name="textAreaTop" fmla="*/ 246960 h 1687680"/>
                  <a:gd name="textAreaBottom" fmla="*/ 1440720 h 1687680"/>
                </a:gdLst>
                <a:ahLst/>
                <a:rect l="textAreaLeft" t="textAreaTop" r="textAreaRight" b="textAreaBottom"/>
                <a:pathLst>
                  <a:path w="1687647" h="1687647">
                    <a:moveTo>
                      <a:pt x="0" y="843824"/>
                    </a:moveTo>
                    <a:lnTo>
                      <a:pt x="0" y="843824"/>
                    </a:lnTo>
                    <a:cubicBezTo>
                      <a:pt x="0" y="377793"/>
                      <a:pt x="377793" y="1"/>
                      <a:pt x="843824" y="1"/>
                    </a:cubicBezTo>
                    <a:cubicBezTo>
                      <a:pt x="843824" y="1"/>
                      <a:pt x="843824" y="1"/>
                      <a:pt x="843824" y="1"/>
                    </a:cubicBezTo>
                    <a:cubicBezTo>
                      <a:pt x="1309855" y="1"/>
                      <a:pt x="1687648" y="377794"/>
                      <a:pt x="1687648" y="843825"/>
                    </a:cubicBezTo>
                    <a:cubicBezTo>
                      <a:pt x="1687648" y="843825"/>
                      <a:pt x="1687647" y="843825"/>
                      <a:pt x="1687647" y="843826"/>
                    </a:cubicBezTo>
                    <a:lnTo>
                      <a:pt x="1687648" y="843826"/>
                    </a:lnTo>
                    <a:cubicBezTo>
                      <a:pt x="1687648" y="1309857"/>
                      <a:pt x="1309855" y="1687650"/>
                      <a:pt x="843824" y="1687650"/>
                    </a:cubicBezTo>
                    <a:cubicBezTo>
                      <a:pt x="377792" y="1687650"/>
                      <a:pt x="0" y="1309857"/>
                      <a:pt x="0" y="843826"/>
                    </a:cubicBezTo>
                    <a:cubicBezTo>
                      <a:pt x="0" y="843825"/>
                      <a:pt x="0" y="843825"/>
                      <a:pt x="0" y="843825"/>
                    </a:cubicBezTo>
                    <a:lnTo>
                      <a:pt x="0" y="843824"/>
                    </a:lnTo>
                    <a:close/>
                    <a:moveTo>
                      <a:pt x="236557" y="843824"/>
                    </a:moveTo>
                    <a:lnTo>
                      <a:pt x="236557" y="843824"/>
                    </a:lnTo>
                    <a:cubicBezTo>
                      <a:pt x="236557" y="843824"/>
                      <a:pt x="236557" y="843824"/>
                      <a:pt x="236557" y="843824"/>
                    </a:cubicBezTo>
                    <a:cubicBezTo>
                      <a:pt x="236557" y="1179208"/>
                      <a:pt x="508438" y="1451090"/>
                      <a:pt x="843822" y="1451090"/>
                    </a:cubicBezTo>
                    <a:lnTo>
                      <a:pt x="843822" y="1451091"/>
                    </a:lnTo>
                    <a:cubicBezTo>
                      <a:pt x="1179205" y="1451091"/>
                      <a:pt x="1451088" y="1179208"/>
                      <a:pt x="1451088" y="843825"/>
                    </a:cubicBezTo>
                    <a:cubicBezTo>
                      <a:pt x="1451088" y="508441"/>
                      <a:pt x="1179205" y="236559"/>
                      <a:pt x="843822" y="236559"/>
                    </a:cubicBezTo>
                    <a:lnTo>
                      <a:pt x="843821" y="236559"/>
                    </a:lnTo>
                    <a:cubicBezTo>
                      <a:pt x="843821" y="236559"/>
                      <a:pt x="843821" y="236559"/>
                      <a:pt x="843821" y="236559"/>
                    </a:cubicBezTo>
                    <a:cubicBezTo>
                      <a:pt x="508437" y="236559"/>
                      <a:pt x="236555" y="508440"/>
                      <a:pt x="236555" y="843824"/>
                    </a:cubicBezTo>
                    <a:lnTo>
                      <a:pt x="236557" y="843824"/>
                    </a:lnTo>
                    <a:close/>
                  </a:path>
                </a:pathLst>
              </a:custGeom>
              <a:solidFill>
                <a:srgbClr val="ffc000">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13" name="도넛 50"/>
              <p:cNvSpPr/>
              <p:nvPr/>
            </p:nvSpPr>
            <p:spPr>
              <a:xfrm>
                <a:off x="903240" y="2030400"/>
                <a:ext cx="1687680" cy="1687680"/>
              </a:xfrm>
              <a:custGeom>
                <a:avLst/>
                <a:gdLst>
                  <a:gd name="textAreaLeft" fmla="*/ 246960 w 1687680"/>
                  <a:gd name="textAreaRight" fmla="*/ 1440720 w 1687680"/>
                  <a:gd name="textAreaTop" fmla="*/ 246960 h 1687680"/>
                  <a:gd name="textAreaBottom" fmla="*/ 1440720 h 1687680"/>
                </a:gdLst>
                <a:ahLst/>
                <a:rect l="textAreaLeft" t="textAreaTop" r="textAreaRight" b="textAreaBottom"/>
                <a:pathLst>
                  <a:path w="1687647" h="1687647">
                    <a:moveTo>
                      <a:pt x="0" y="843824"/>
                    </a:moveTo>
                    <a:lnTo>
                      <a:pt x="0" y="843824"/>
                    </a:lnTo>
                    <a:cubicBezTo>
                      <a:pt x="0" y="377793"/>
                      <a:pt x="377793" y="1"/>
                      <a:pt x="843824" y="1"/>
                    </a:cubicBezTo>
                    <a:cubicBezTo>
                      <a:pt x="843824" y="1"/>
                      <a:pt x="843824" y="1"/>
                      <a:pt x="843824" y="1"/>
                    </a:cubicBezTo>
                    <a:cubicBezTo>
                      <a:pt x="1309855" y="1"/>
                      <a:pt x="1687648" y="377794"/>
                      <a:pt x="1687648" y="843825"/>
                    </a:cubicBezTo>
                    <a:cubicBezTo>
                      <a:pt x="1687648" y="843825"/>
                      <a:pt x="1687647" y="843825"/>
                      <a:pt x="1687647" y="843826"/>
                    </a:cubicBezTo>
                    <a:lnTo>
                      <a:pt x="1687648" y="843826"/>
                    </a:lnTo>
                    <a:cubicBezTo>
                      <a:pt x="1687648" y="1309857"/>
                      <a:pt x="1309855" y="1687650"/>
                      <a:pt x="843824" y="1687650"/>
                    </a:cubicBezTo>
                    <a:cubicBezTo>
                      <a:pt x="377792" y="1687650"/>
                      <a:pt x="0" y="1309857"/>
                      <a:pt x="0" y="843826"/>
                    </a:cubicBezTo>
                    <a:cubicBezTo>
                      <a:pt x="0" y="843825"/>
                      <a:pt x="0" y="843825"/>
                      <a:pt x="0" y="843825"/>
                    </a:cubicBezTo>
                    <a:lnTo>
                      <a:pt x="0" y="843824"/>
                    </a:lnTo>
                    <a:close/>
                    <a:moveTo>
                      <a:pt x="156192" y="843824"/>
                    </a:moveTo>
                    <a:lnTo>
                      <a:pt x="156192" y="843824"/>
                    </a:lnTo>
                    <a:cubicBezTo>
                      <a:pt x="156192" y="843824"/>
                      <a:pt x="156192" y="843824"/>
                      <a:pt x="156192" y="843824"/>
                    </a:cubicBezTo>
                    <a:cubicBezTo>
                      <a:pt x="156192" y="1223593"/>
                      <a:pt x="464054" y="1531456"/>
                      <a:pt x="843823" y="1531456"/>
                    </a:cubicBezTo>
                    <a:lnTo>
                      <a:pt x="843823" y="1531457"/>
                    </a:lnTo>
                    <a:cubicBezTo>
                      <a:pt x="1223591" y="1531457"/>
                      <a:pt x="1531455" y="1223593"/>
                      <a:pt x="1531455" y="843825"/>
                    </a:cubicBezTo>
                    <a:cubicBezTo>
                      <a:pt x="1531455" y="464056"/>
                      <a:pt x="1223591" y="156193"/>
                      <a:pt x="843823" y="156193"/>
                    </a:cubicBezTo>
                    <a:lnTo>
                      <a:pt x="843822" y="156193"/>
                    </a:lnTo>
                    <a:cubicBezTo>
                      <a:pt x="843822" y="156193"/>
                      <a:pt x="843822" y="156193"/>
                      <a:pt x="843822" y="156193"/>
                    </a:cubicBezTo>
                    <a:cubicBezTo>
                      <a:pt x="464053" y="156193"/>
                      <a:pt x="156190" y="464055"/>
                      <a:pt x="156190" y="843824"/>
                    </a:cubicBezTo>
                    <a:lnTo>
                      <a:pt x="156192" y="843824"/>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314" name="TextBox 41"/>
            <p:cNvSpPr/>
            <p:nvPr/>
          </p:nvSpPr>
          <p:spPr>
            <a:xfrm>
              <a:off x="1298160" y="2628000"/>
              <a:ext cx="8971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000"/>
                  </a:solidFill>
                  <a:latin typeface="HY견고딕"/>
                  <a:ea typeface="HY견고딕"/>
                </a:rPr>
                <a:t>TEXT</a:t>
              </a:r>
              <a:endParaRPr b="0" lang="en-US" sz="25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
          <p:cNvGrpSpPr/>
          <p:nvPr/>
        </p:nvGrpSpPr>
        <p:grpSpPr>
          <a:xfrm>
            <a:off x="642960" y="1585800"/>
            <a:ext cx="7858080" cy="1357560"/>
            <a:chOff x="642960" y="1585800"/>
            <a:chExt cx="7858080" cy="1357560"/>
          </a:xfrm>
        </p:grpSpPr>
        <p:sp>
          <p:nvSpPr>
            <p:cNvPr id="316" name="모서리가 둥근 직사각형 75"/>
            <p:cNvSpPr/>
            <p:nvPr/>
          </p:nvSpPr>
          <p:spPr>
            <a:xfrm>
              <a:off x="642960" y="1585800"/>
              <a:ext cx="7858080" cy="1357560"/>
            </a:xfrm>
            <a:prstGeom prst="roundRect">
              <a:avLst>
                <a:gd name="adj" fmla="val 0"/>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7" name="모서리가 둥근 직사각형 76"/>
            <p:cNvSpPr/>
            <p:nvPr/>
          </p:nvSpPr>
          <p:spPr>
            <a:xfrm>
              <a:off x="714240" y="1657080"/>
              <a:ext cx="7715520" cy="1214640"/>
            </a:xfrm>
            <a:prstGeom prst="roundRect">
              <a:avLst>
                <a:gd name="adj" fmla="val 0"/>
              </a:avLst>
            </a:prstGeom>
            <a:gradFill rotWithShape="0">
              <a:gsLst>
                <a:gs pos="0">
                  <a:srgbClr val="ffffff"/>
                </a:gs>
                <a:gs pos="100000">
                  <a:srgbClr val="f2f2f2"/>
                </a:gs>
              </a:gsLst>
              <a:lin ang="5400000"/>
            </a:gra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8" name="TextBox 77"/>
          <p:cNvSpPr/>
          <p:nvPr/>
        </p:nvSpPr>
        <p:spPr>
          <a:xfrm>
            <a:off x="3286080" y="1871640"/>
            <a:ext cx="5143680" cy="8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Black"/>
                <a:ea typeface="HY견고딕"/>
              </a:rPr>
              <a:t>ASADAL INTERNET, INC.</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grpSp>
        <p:nvGrpSpPr>
          <p:cNvPr id="319" name="Group 6"/>
          <p:cNvGrpSpPr/>
          <p:nvPr/>
        </p:nvGrpSpPr>
        <p:grpSpPr>
          <a:xfrm>
            <a:off x="838080" y="1650960"/>
            <a:ext cx="2376720" cy="1228680"/>
            <a:chOff x="838080" y="1650960"/>
            <a:chExt cx="2376720" cy="1228680"/>
          </a:xfrm>
        </p:grpSpPr>
        <p:sp>
          <p:nvSpPr>
            <p:cNvPr id="320" name="직사각형 78"/>
            <p:cNvSpPr/>
            <p:nvPr/>
          </p:nvSpPr>
          <p:spPr>
            <a:xfrm>
              <a:off x="1125360" y="1793520"/>
              <a:ext cx="1800360" cy="108612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사다리꼴 79"/>
            <p:cNvSpPr/>
            <p:nvPr/>
          </p:nvSpPr>
          <p:spPr>
            <a:xfrm flipV="1">
              <a:off x="838080" y="1650960"/>
              <a:ext cx="2376720" cy="142560"/>
            </a:xfrm>
            <a:custGeom>
              <a:avLst/>
              <a:gdLst>
                <a:gd name="textAreaLeft" fmla="*/ 193320 w 2376720"/>
                <a:gd name="textAreaRight" fmla="*/ 2183400 w 2376720"/>
                <a:gd name="textAreaTop" fmla="*/ 11880 h 142560"/>
                <a:gd name="textAreaBottom" fmla="*/ 143280 h 142560"/>
              </a:gdLst>
              <a:ahLst/>
              <a:rect l="textAreaLeft" t="textAreaTop" r="textAreaRight" b="textAreaBottom"/>
              <a:pathLst>
                <a:path w="2376511" h="142784">
                  <a:moveTo>
                    <a:pt x="0" y="142784"/>
                  </a:moveTo>
                  <a:lnTo>
                    <a:pt x="290060" y="0"/>
                  </a:lnTo>
                  <a:lnTo>
                    <a:pt x="2086451" y="0"/>
                  </a:lnTo>
                  <a:lnTo>
                    <a:pt x="2376511" y="142784"/>
                  </a:lnTo>
                  <a:lnTo>
                    <a:pt x="0" y="142784"/>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22" name="Group 9"/>
            <p:cNvGrpSpPr/>
            <p:nvPr/>
          </p:nvGrpSpPr>
          <p:grpSpPr>
            <a:xfrm>
              <a:off x="1350720" y="1952640"/>
              <a:ext cx="1346760" cy="746640"/>
              <a:chOff x="1350720" y="1952640"/>
              <a:chExt cx="1346760" cy="746640"/>
            </a:xfrm>
          </p:grpSpPr>
          <p:sp>
            <p:nvSpPr>
              <p:cNvPr id="323" name="TextBox 82"/>
              <p:cNvSpPr/>
              <p:nvPr/>
            </p:nvSpPr>
            <p:spPr>
              <a:xfrm>
                <a:off x="1350720" y="245304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sp>
            <p:nvSpPr>
              <p:cNvPr id="324" name="TextBox 83"/>
              <p:cNvSpPr/>
              <p:nvPr/>
            </p:nvSpPr>
            <p:spPr>
              <a:xfrm>
                <a:off x="1503720" y="195264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325" name="직사각형 81"/>
            <p:cNvSpPr/>
            <p:nvPr/>
          </p:nvSpPr>
          <p:spPr>
            <a:xfrm>
              <a:off x="1126800" y="1796760"/>
              <a:ext cx="1798920" cy="573120"/>
            </a:xfrm>
            <a:prstGeom prst="rect">
              <a:avLst/>
            </a:prstGeom>
            <a:solidFill>
              <a:srgbClr val="ffffff">
                <a:alpha val="4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6"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327"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grpSp>
        <p:nvGrpSpPr>
          <p:cNvPr id="328" name="Group 15"/>
          <p:cNvGrpSpPr/>
          <p:nvPr/>
        </p:nvGrpSpPr>
        <p:grpSpPr>
          <a:xfrm>
            <a:off x="642960" y="3157560"/>
            <a:ext cx="7858080" cy="1357200"/>
            <a:chOff x="642960" y="3157560"/>
            <a:chExt cx="7858080" cy="1357200"/>
          </a:xfrm>
        </p:grpSpPr>
        <p:sp>
          <p:nvSpPr>
            <p:cNvPr id="329" name="모서리가 둥근 직사각형 69"/>
            <p:cNvSpPr/>
            <p:nvPr/>
          </p:nvSpPr>
          <p:spPr>
            <a:xfrm>
              <a:off x="642960" y="3157560"/>
              <a:ext cx="7858080" cy="1357200"/>
            </a:xfrm>
            <a:prstGeom prst="roundRect">
              <a:avLst>
                <a:gd name="adj" fmla="val 0"/>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모서리가 둥근 직사각형 52"/>
            <p:cNvSpPr/>
            <p:nvPr/>
          </p:nvSpPr>
          <p:spPr>
            <a:xfrm>
              <a:off x="714240" y="3228840"/>
              <a:ext cx="7715520" cy="1214640"/>
            </a:xfrm>
            <a:prstGeom prst="roundRect">
              <a:avLst>
                <a:gd name="adj" fmla="val 0"/>
              </a:avLst>
            </a:prstGeom>
            <a:gradFill rotWithShape="0">
              <a:gsLst>
                <a:gs pos="0">
                  <a:srgbClr val="ffffff"/>
                </a:gs>
                <a:gs pos="100000">
                  <a:srgbClr val="f2f2f2"/>
                </a:gs>
              </a:gsLst>
              <a:lin ang="5400000"/>
            </a:gra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1" name="TextBox 67"/>
          <p:cNvSpPr/>
          <p:nvPr/>
        </p:nvSpPr>
        <p:spPr>
          <a:xfrm>
            <a:off x="3286080" y="3443400"/>
            <a:ext cx="5143680" cy="8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Arial Black"/>
                <a:ea typeface="HY견고딕"/>
              </a:rPr>
              <a:t>ASADAL INTERNET, INC.</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grpSp>
        <p:nvGrpSpPr>
          <p:cNvPr id="332" name="Group 19"/>
          <p:cNvGrpSpPr/>
          <p:nvPr/>
        </p:nvGrpSpPr>
        <p:grpSpPr>
          <a:xfrm>
            <a:off x="838080" y="3222720"/>
            <a:ext cx="2376720" cy="1228680"/>
            <a:chOff x="838080" y="3222720"/>
            <a:chExt cx="2376720" cy="1228680"/>
          </a:xfrm>
        </p:grpSpPr>
        <p:sp>
          <p:nvSpPr>
            <p:cNvPr id="333" name="직사각형 63"/>
            <p:cNvSpPr/>
            <p:nvPr/>
          </p:nvSpPr>
          <p:spPr>
            <a:xfrm>
              <a:off x="1125360" y="3365280"/>
              <a:ext cx="1800360" cy="108612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사다리꼴 62"/>
            <p:cNvSpPr/>
            <p:nvPr/>
          </p:nvSpPr>
          <p:spPr>
            <a:xfrm flipV="1">
              <a:off x="838080" y="3222720"/>
              <a:ext cx="2376720" cy="142560"/>
            </a:xfrm>
            <a:custGeom>
              <a:avLst/>
              <a:gdLst>
                <a:gd name="textAreaLeft" fmla="*/ 193320 w 2376720"/>
                <a:gd name="textAreaRight" fmla="*/ 2183400 w 2376720"/>
                <a:gd name="textAreaTop" fmla="*/ 11880 h 142560"/>
                <a:gd name="textAreaBottom" fmla="*/ 143280 h 142560"/>
              </a:gdLst>
              <a:ahLst/>
              <a:rect l="textAreaLeft" t="textAreaTop" r="textAreaRight" b="textAreaBottom"/>
              <a:pathLst>
                <a:path w="2376511" h="142784">
                  <a:moveTo>
                    <a:pt x="0" y="142784"/>
                  </a:moveTo>
                  <a:lnTo>
                    <a:pt x="290060" y="0"/>
                  </a:lnTo>
                  <a:lnTo>
                    <a:pt x="2086451" y="0"/>
                  </a:lnTo>
                  <a:lnTo>
                    <a:pt x="2376511" y="142784"/>
                  </a:lnTo>
                  <a:lnTo>
                    <a:pt x="0" y="142784"/>
                  </a:lnTo>
                  <a:close/>
                </a:path>
              </a:pathLst>
            </a:custGeom>
            <a:solidFill>
              <a:srgbClr val="00b4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35" name="Group 22"/>
            <p:cNvGrpSpPr/>
            <p:nvPr/>
          </p:nvGrpSpPr>
          <p:grpSpPr>
            <a:xfrm>
              <a:off x="1350720" y="3524400"/>
              <a:ext cx="1346760" cy="746640"/>
              <a:chOff x="1350720" y="3524400"/>
              <a:chExt cx="1346760" cy="746640"/>
            </a:xfrm>
          </p:grpSpPr>
          <p:sp>
            <p:nvSpPr>
              <p:cNvPr id="336" name="TextBox 65"/>
              <p:cNvSpPr/>
              <p:nvPr/>
            </p:nvSpPr>
            <p:spPr>
              <a:xfrm>
                <a:off x="1350720" y="402480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sp>
            <p:nvSpPr>
              <p:cNvPr id="337" name="TextBox 66"/>
              <p:cNvSpPr/>
              <p:nvPr/>
            </p:nvSpPr>
            <p:spPr>
              <a:xfrm>
                <a:off x="1503720" y="352440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338" name="직사각형 68"/>
            <p:cNvSpPr/>
            <p:nvPr/>
          </p:nvSpPr>
          <p:spPr>
            <a:xfrm>
              <a:off x="1126800" y="3368520"/>
              <a:ext cx="1798920" cy="573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9" name="Group 26"/>
          <p:cNvGrpSpPr/>
          <p:nvPr/>
        </p:nvGrpSpPr>
        <p:grpSpPr>
          <a:xfrm>
            <a:off x="642960" y="4786200"/>
            <a:ext cx="7858080" cy="1357560"/>
            <a:chOff x="642960" y="4786200"/>
            <a:chExt cx="7858080" cy="1357560"/>
          </a:xfrm>
        </p:grpSpPr>
        <p:sp>
          <p:nvSpPr>
            <p:cNvPr id="340" name="모서리가 둥근 직사각형 85"/>
            <p:cNvSpPr/>
            <p:nvPr/>
          </p:nvSpPr>
          <p:spPr>
            <a:xfrm>
              <a:off x="642960" y="4786200"/>
              <a:ext cx="7858080" cy="1357560"/>
            </a:xfrm>
            <a:prstGeom prst="roundRect">
              <a:avLst>
                <a:gd name="adj" fmla="val 0"/>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모서리가 둥근 직사각형 87"/>
            <p:cNvSpPr/>
            <p:nvPr/>
          </p:nvSpPr>
          <p:spPr>
            <a:xfrm>
              <a:off x="714240" y="4857480"/>
              <a:ext cx="7715520" cy="1214640"/>
            </a:xfrm>
            <a:prstGeom prst="roundRect">
              <a:avLst>
                <a:gd name="adj" fmla="val 0"/>
              </a:avLst>
            </a:prstGeom>
            <a:gradFill rotWithShape="0">
              <a:gsLst>
                <a:gs pos="0">
                  <a:srgbClr val="ffffff"/>
                </a:gs>
                <a:gs pos="100000">
                  <a:srgbClr val="f2f2f2"/>
                </a:gs>
              </a:gsLst>
              <a:lin ang="5400000"/>
            </a:gra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2" name="TextBox 88"/>
          <p:cNvSpPr/>
          <p:nvPr/>
        </p:nvSpPr>
        <p:spPr>
          <a:xfrm>
            <a:off x="3286080" y="5072040"/>
            <a:ext cx="5143680" cy="8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cee"/>
                </a:solidFill>
                <a:latin typeface="Arial Black"/>
                <a:ea typeface="HY견고딕"/>
              </a:rPr>
              <a:t>ASADAL INTERNET, INC.</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grpSp>
        <p:nvGrpSpPr>
          <p:cNvPr id="343" name="Group 30"/>
          <p:cNvGrpSpPr/>
          <p:nvPr/>
        </p:nvGrpSpPr>
        <p:grpSpPr>
          <a:xfrm>
            <a:off x="838080" y="4851360"/>
            <a:ext cx="2376720" cy="1228680"/>
            <a:chOff x="838080" y="4851360"/>
            <a:chExt cx="2376720" cy="1228680"/>
          </a:xfrm>
        </p:grpSpPr>
        <p:sp>
          <p:nvSpPr>
            <p:cNvPr id="344" name="직사각형 89"/>
            <p:cNvSpPr/>
            <p:nvPr/>
          </p:nvSpPr>
          <p:spPr>
            <a:xfrm>
              <a:off x="1125360" y="4993920"/>
              <a:ext cx="1800360" cy="108612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사다리꼴 90"/>
            <p:cNvSpPr/>
            <p:nvPr/>
          </p:nvSpPr>
          <p:spPr>
            <a:xfrm flipV="1">
              <a:off x="838080" y="4851360"/>
              <a:ext cx="2376720" cy="142560"/>
            </a:xfrm>
            <a:custGeom>
              <a:avLst/>
              <a:gdLst>
                <a:gd name="textAreaLeft" fmla="*/ 193320 w 2376720"/>
                <a:gd name="textAreaRight" fmla="*/ 2183400 w 2376720"/>
                <a:gd name="textAreaTop" fmla="*/ 11880 h 142560"/>
                <a:gd name="textAreaBottom" fmla="*/ 143280 h 142560"/>
              </a:gdLst>
              <a:ahLst/>
              <a:rect l="textAreaLeft" t="textAreaTop" r="textAreaRight" b="textAreaBottom"/>
              <a:pathLst>
                <a:path w="2376511" h="142784">
                  <a:moveTo>
                    <a:pt x="0" y="142784"/>
                  </a:moveTo>
                  <a:lnTo>
                    <a:pt x="290060" y="0"/>
                  </a:lnTo>
                  <a:lnTo>
                    <a:pt x="2086451" y="0"/>
                  </a:lnTo>
                  <a:lnTo>
                    <a:pt x="2376511" y="142784"/>
                  </a:lnTo>
                  <a:lnTo>
                    <a:pt x="0" y="142784"/>
                  </a:lnTo>
                  <a:close/>
                </a:path>
              </a:pathLst>
            </a:custGeom>
            <a:solidFill>
              <a:srgbClr val="00ace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6" name="Group 33"/>
            <p:cNvGrpSpPr/>
            <p:nvPr/>
          </p:nvGrpSpPr>
          <p:grpSpPr>
            <a:xfrm>
              <a:off x="1350720" y="5153040"/>
              <a:ext cx="1346760" cy="746640"/>
              <a:chOff x="1350720" y="5153040"/>
              <a:chExt cx="1346760" cy="746640"/>
            </a:xfrm>
          </p:grpSpPr>
          <p:sp>
            <p:nvSpPr>
              <p:cNvPr id="347" name="TextBox 93"/>
              <p:cNvSpPr/>
              <p:nvPr/>
            </p:nvSpPr>
            <p:spPr>
              <a:xfrm>
                <a:off x="1350720" y="565344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CLICK TO ADD TEXT</a:t>
                </a:r>
                <a:endParaRPr b="0" lang="en-US" sz="1000" spc="-1" strike="noStrike">
                  <a:solidFill>
                    <a:srgbClr val="000000"/>
                  </a:solidFill>
                  <a:latin typeface="Gulim"/>
                </a:endParaRPr>
              </a:p>
            </p:txBody>
          </p:sp>
          <p:sp>
            <p:nvSpPr>
              <p:cNvPr id="348" name="TextBox 94"/>
              <p:cNvSpPr/>
              <p:nvPr/>
            </p:nvSpPr>
            <p:spPr>
              <a:xfrm>
                <a:off x="1503720" y="515304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grpSp>
        <p:sp>
          <p:nvSpPr>
            <p:cNvPr id="349" name="직사각형 92"/>
            <p:cNvSpPr/>
            <p:nvPr/>
          </p:nvSpPr>
          <p:spPr>
            <a:xfrm>
              <a:off x="1126800" y="4997160"/>
              <a:ext cx="1798920" cy="5731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0"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3929040" y="3375000"/>
            <a:ext cx="5197320" cy="603360"/>
            <a:chOff x="3929040" y="3375000"/>
            <a:chExt cx="5197320" cy="603360"/>
          </a:xfrm>
        </p:grpSpPr>
        <p:sp>
          <p:nvSpPr>
            <p:cNvPr id="352" name="직사각형 159"/>
            <p:cNvSpPr/>
            <p:nvPr/>
          </p:nvSpPr>
          <p:spPr>
            <a:xfrm>
              <a:off x="3929040" y="3375000"/>
              <a:ext cx="5197320" cy="603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직사각형 160"/>
            <p:cNvSpPr/>
            <p:nvPr/>
          </p:nvSpPr>
          <p:spPr>
            <a:xfrm>
              <a:off x="3929040" y="3431880"/>
              <a:ext cx="5197320" cy="47952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Group 5"/>
          <p:cNvGrpSpPr/>
          <p:nvPr/>
        </p:nvGrpSpPr>
        <p:grpSpPr>
          <a:xfrm>
            <a:off x="3200400" y="4925880"/>
            <a:ext cx="5929200" cy="603360"/>
            <a:chOff x="3200400" y="4925880"/>
            <a:chExt cx="5929200" cy="603360"/>
          </a:xfrm>
        </p:grpSpPr>
        <p:sp>
          <p:nvSpPr>
            <p:cNvPr id="355" name="직사각형 155"/>
            <p:cNvSpPr/>
            <p:nvPr/>
          </p:nvSpPr>
          <p:spPr>
            <a:xfrm>
              <a:off x="3200400" y="4925880"/>
              <a:ext cx="5929200" cy="603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직사각형 156"/>
            <p:cNvSpPr/>
            <p:nvPr/>
          </p:nvSpPr>
          <p:spPr>
            <a:xfrm>
              <a:off x="3200400" y="4987800"/>
              <a:ext cx="5929200" cy="479520"/>
            </a:xfrm>
            <a:prstGeom prst="rect">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7" name="Group 8"/>
          <p:cNvGrpSpPr/>
          <p:nvPr/>
        </p:nvGrpSpPr>
        <p:grpSpPr>
          <a:xfrm>
            <a:off x="3198960" y="1822320"/>
            <a:ext cx="5929200" cy="603360"/>
            <a:chOff x="3198960" y="1822320"/>
            <a:chExt cx="5929200" cy="603360"/>
          </a:xfrm>
        </p:grpSpPr>
        <p:sp>
          <p:nvSpPr>
            <p:cNvPr id="358" name="직사각형 152"/>
            <p:cNvSpPr/>
            <p:nvPr/>
          </p:nvSpPr>
          <p:spPr>
            <a:xfrm>
              <a:off x="3198960" y="1822320"/>
              <a:ext cx="5929200" cy="603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직사각형 151"/>
            <p:cNvSpPr/>
            <p:nvPr/>
          </p:nvSpPr>
          <p:spPr>
            <a:xfrm>
              <a:off x="3198960" y="1879200"/>
              <a:ext cx="5929200" cy="47952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0"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361"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362" name="TextBox 53"/>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sp>
        <p:nvSpPr>
          <p:cNvPr id="363" name="타원 76"/>
          <p:cNvSpPr/>
          <p:nvPr/>
        </p:nvSpPr>
        <p:spPr>
          <a:xfrm>
            <a:off x="285840" y="1830240"/>
            <a:ext cx="3624120" cy="3624480"/>
          </a:xfrm>
          <a:prstGeom prst="ellipse">
            <a:avLst/>
          </a:prstGeom>
          <a:noFill/>
          <a:ln w="8892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4" name="Group 15"/>
          <p:cNvGrpSpPr/>
          <p:nvPr/>
        </p:nvGrpSpPr>
        <p:grpSpPr>
          <a:xfrm>
            <a:off x="2433600" y="1579680"/>
            <a:ext cx="1089000" cy="1089000"/>
            <a:chOff x="2433600" y="1579680"/>
            <a:chExt cx="1089000" cy="1089000"/>
          </a:xfrm>
        </p:grpSpPr>
        <p:sp>
          <p:nvSpPr>
            <p:cNvPr id="365" name="타원 85"/>
            <p:cNvSpPr/>
            <p:nvPr/>
          </p:nvSpPr>
          <p:spPr>
            <a:xfrm>
              <a:off x="2433600" y="157968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타원 87"/>
            <p:cNvSpPr/>
            <p:nvPr/>
          </p:nvSpPr>
          <p:spPr>
            <a:xfrm>
              <a:off x="2495520" y="1641600"/>
              <a:ext cx="965160" cy="96516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도넛 88"/>
            <p:cNvSpPr/>
            <p:nvPr/>
          </p:nvSpPr>
          <p:spPr>
            <a:xfrm>
              <a:off x="2433600" y="157968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368" name="Group 19"/>
          <p:cNvGrpSpPr/>
          <p:nvPr/>
        </p:nvGrpSpPr>
        <p:grpSpPr>
          <a:xfrm>
            <a:off x="2433600" y="4683240"/>
            <a:ext cx="1089000" cy="1089000"/>
            <a:chOff x="2433600" y="4683240"/>
            <a:chExt cx="1089000" cy="1089000"/>
          </a:xfrm>
        </p:grpSpPr>
        <p:sp>
          <p:nvSpPr>
            <p:cNvPr id="369" name="타원 91"/>
            <p:cNvSpPr/>
            <p:nvPr/>
          </p:nvSpPr>
          <p:spPr>
            <a:xfrm>
              <a:off x="2433600" y="468324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타원 92"/>
            <p:cNvSpPr/>
            <p:nvPr/>
          </p:nvSpPr>
          <p:spPr>
            <a:xfrm>
              <a:off x="2495520" y="4745160"/>
              <a:ext cx="965160" cy="96516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도넛 93"/>
            <p:cNvSpPr/>
            <p:nvPr/>
          </p:nvSpPr>
          <p:spPr>
            <a:xfrm>
              <a:off x="2433600" y="468324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372" name="Group 23"/>
          <p:cNvGrpSpPr/>
          <p:nvPr/>
        </p:nvGrpSpPr>
        <p:grpSpPr>
          <a:xfrm>
            <a:off x="3286080" y="3132000"/>
            <a:ext cx="1089000" cy="1089000"/>
            <a:chOff x="3286080" y="3132000"/>
            <a:chExt cx="1089000" cy="1089000"/>
          </a:xfrm>
        </p:grpSpPr>
        <p:sp>
          <p:nvSpPr>
            <p:cNvPr id="373" name="타원 97"/>
            <p:cNvSpPr/>
            <p:nvPr/>
          </p:nvSpPr>
          <p:spPr>
            <a:xfrm>
              <a:off x="3286080" y="313200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타원 98"/>
            <p:cNvSpPr/>
            <p:nvPr/>
          </p:nvSpPr>
          <p:spPr>
            <a:xfrm>
              <a:off x="3348000" y="3193920"/>
              <a:ext cx="965160" cy="96516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도넛 99"/>
            <p:cNvSpPr/>
            <p:nvPr/>
          </p:nvSpPr>
          <p:spPr>
            <a:xfrm>
              <a:off x="3286080" y="313200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376" name="TextBox 147"/>
          <p:cNvSpPr/>
          <p:nvPr/>
        </p:nvSpPr>
        <p:spPr>
          <a:xfrm>
            <a:off x="2600640" y="192420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377" name="TextBox 149"/>
          <p:cNvSpPr/>
          <p:nvPr/>
        </p:nvSpPr>
        <p:spPr>
          <a:xfrm>
            <a:off x="3453840" y="34765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378" name="TextBox 150"/>
          <p:cNvSpPr/>
          <p:nvPr/>
        </p:nvSpPr>
        <p:spPr>
          <a:xfrm>
            <a:off x="2600640" y="502776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379" name="TextBox 162"/>
          <p:cNvSpPr/>
          <p:nvPr/>
        </p:nvSpPr>
        <p:spPr>
          <a:xfrm>
            <a:off x="4108680" y="1924200"/>
            <a:ext cx="228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CLICK TO ADD TEXT</a:t>
            </a:r>
            <a:endParaRPr b="0" lang="en-US" sz="1800" spc="-1" strike="noStrike">
              <a:solidFill>
                <a:srgbClr val="000000"/>
              </a:solidFill>
              <a:latin typeface="Gulim"/>
            </a:endParaRPr>
          </a:p>
        </p:txBody>
      </p:sp>
      <p:sp>
        <p:nvSpPr>
          <p:cNvPr id="380" name="TextBox 163"/>
          <p:cNvSpPr/>
          <p:nvPr/>
        </p:nvSpPr>
        <p:spPr>
          <a:xfrm>
            <a:off x="4965840" y="3473280"/>
            <a:ext cx="228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CLICK TO ADD TEXT</a:t>
            </a:r>
            <a:endParaRPr b="0" lang="en-US" sz="1800" spc="-1" strike="noStrike">
              <a:solidFill>
                <a:srgbClr val="000000"/>
              </a:solidFill>
              <a:latin typeface="Gulim"/>
            </a:endParaRPr>
          </a:p>
        </p:txBody>
      </p:sp>
      <p:sp>
        <p:nvSpPr>
          <p:cNvPr id="381" name="TextBox 164"/>
          <p:cNvSpPr/>
          <p:nvPr/>
        </p:nvSpPr>
        <p:spPr>
          <a:xfrm>
            <a:off x="4108680" y="5030640"/>
            <a:ext cx="228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견고딕"/>
                <a:ea typeface="HY견고딕"/>
              </a:rPr>
              <a:t>CLICK TO ADD TEXT</a:t>
            </a:r>
            <a:endParaRPr b="0" lang="en-US" sz="1800" spc="-1" strike="noStrike">
              <a:solidFill>
                <a:srgbClr val="000000"/>
              </a:solidFill>
              <a:latin typeface="Gulim"/>
            </a:endParaRPr>
          </a:p>
        </p:txBody>
      </p:sp>
      <p:sp>
        <p:nvSpPr>
          <p:cNvPr id="382" name="TextBox 165"/>
          <p:cNvSpPr/>
          <p:nvPr/>
        </p:nvSpPr>
        <p:spPr>
          <a:xfrm>
            <a:off x="4071960" y="4213080"/>
            <a:ext cx="500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sp>
        <p:nvSpPr>
          <p:cNvPr id="383" name="TextBox 166"/>
          <p:cNvSpPr/>
          <p:nvPr/>
        </p:nvSpPr>
        <p:spPr>
          <a:xfrm>
            <a:off x="3929040" y="2565360"/>
            <a:ext cx="500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sp>
        <p:nvSpPr>
          <p:cNvPr id="384" name="TextBox 167"/>
          <p:cNvSpPr/>
          <p:nvPr/>
        </p:nvSpPr>
        <p:spPr>
          <a:xfrm>
            <a:off x="3929040" y="5637240"/>
            <a:ext cx="500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f6f6f"/>
                </a:solidFill>
                <a:latin typeface="Arial"/>
                <a:ea typeface="HY견고딕"/>
              </a:rPr>
              <a:t>started its business in Seoul Korea in February 1998 with the fundamental goal of providing better internet services to the world.</a:t>
            </a:r>
            <a:endParaRPr b="0" lang="en-US" sz="1300" spc="-1" strike="noStrike">
              <a:solidFill>
                <a:srgbClr val="000000"/>
              </a:solidFill>
              <a:latin typeface="Gulim"/>
            </a:endParaRPr>
          </a:p>
        </p:txBody>
      </p:sp>
      <p:grpSp>
        <p:nvGrpSpPr>
          <p:cNvPr id="385" name="Group 36"/>
          <p:cNvGrpSpPr/>
          <p:nvPr/>
        </p:nvGrpSpPr>
        <p:grpSpPr>
          <a:xfrm>
            <a:off x="1304280" y="3184560"/>
            <a:ext cx="1587240" cy="915480"/>
            <a:chOff x="1304280" y="3184560"/>
            <a:chExt cx="1587240" cy="915480"/>
          </a:xfrm>
        </p:grpSpPr>
        <p:sp>
          <p:nvSpPr>
            <p:cNvPr id="386" name="TextBox 169"/>
            <p:cNvSpPr/>
            <p:nvPr/>
          </p:nvSpPr>
          <p:spPr>
            <a:xfrm>
              <a:off x="1304280" y="382356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CLICK TO ADD TEXT</a:t>
              </a:r>
              <a:endParaRPr b="0" lang="en-US" sz="1200" spc="-1" strike="noStrike">
                <a:solidFill>
                  <a:srgbClr val="000000"/>
                </a:solidFill>
                <a:latin typeface="Gulim"/>
              </a:endParaRPr>
            </a:p>
          </p:txBody>
        </p:sp>
        <p:sp>
          <p:nvSpPr>
            <p:cNvPr id="387" name="TextBox 170"/>
            <p:cNvSpPr/>
            <p:nvPr/>
          </p:nvSpPr>
          <p:spPr>
            <a:xfrm>
              <a:off x="1436040" y="3184560"/>
              <a:ext cx="1323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견고딕"/>
                  <a:ea typeface="HY견고딕"/>
                </a:rPr>
                <a:t>TEXT</a:t>
              </a:r>
              <a:endParaRPr b="0" lang="en-US" sz="40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2"/>
          <p:cNvGrpSpPr/>
          <p:nvPr/>
        </p:nvGrpSpPr>
        <p:grpSpPr>
          <a:xfrm>
            <a:off x="1285920" y="3786120"/>
            <a:ext cx="6572160" cy="2332080"/>
            <a:chOff x="1285920" y="3786120"/>
            <a:chExt cx="6572160" cy="2332080"/>
          </a:xfrm>
        </p:grpSpPr>
        <p:sp>
          <p:nvSpPr>
            <p:cNvPr id="389" name="모서리가 둥근 직사각형 121"/>
            <p:cNvSpPr/>
            <p:nvPr/>
          </p:nvSpPr>
          <p:spPr>
            <a:xfrm>
              <a:off x="1285920" y="3786120"/>
              <a:ext cx="6572160" cy="2332080"/>
            </a:xfrm>
            <a:prstGeom prst="roundRect">
              <a:avLst>
                <a:gd name="adj" fmla="val 0"/>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모서리가 둥근 직사각형 122"/>
            <p:cNvSpPr/>
            <p:nvPr/>
          </p:nvSpPr>
          <p:spPr>
            <a:xfrm>
              <a:off x="1357200" y="3857400"/>
              <a:ext cx="6429600" cy="2197440"/>
            </a:xfrm>
            <a:prstGeom prst="roundRect">
              <a:avLst>
                <a:gd name="adj" fmla="val 0"/>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Group 5"/>
            <p:cNvGrpSpPr/>
            <p:nvPr/>
          </p:nvGrpSpPr>
          <p:grpSpPr>
            <a:xfrm>
              <a:off x="1454760" y="3941640"/>
              <a:ext cx="6234120" cy="487440"/>
              <a:chOff x="1454760" y="3941640"/>
              <a:chExt cx="6234120" cy="487440"/>
            </a:xfrm>
          </p:grpSpPr>
          <p:sp>
            <p:nvSpPr>
              <p:cNvPr id="392" name="직사각형 124"/>
              <p:cNvSpPr/>
              <p:nvPr/>
            </p:nvSpPr>
            <p:spPr>
              <a:xfrm>
                <a:off x="1454760" y="3949560"/>
                <a:ext cx="6234120" cy="479520"/>
              </a:xfrm>
              <a:prstGeom prst="rect">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직사각형 134"/>
              <p:cNvSpPr/>
              <p:nvPr/>
            </p:nvSpPr>
            <p:spPr>
              <a:xfrm>
                <a:off x="1454760" y="3941640"/>
                <a:ext cx="6234120" cy="246240"/>
              </a:xfrm>
              <a:prstGeom prst="rect">
                <a:avLst/>
              </a:prstGeom>
              <a:solidFill>
                <a:srgbClr val="ffffff">
                  <a:alpha val="1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9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39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39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397" name="Group 11"/>
          <p:cNvGrpSpPr/>
          <p:nvPr/>
        </p:nvGrpSpPr>
        <p:grpSpPr>
          <a:xfrm>
            <a:off x="4564080" y="1714680"/>
            <a:ext cx="3286080" cy="1109520"/>
            <a:chOff x="4564080" y="1714680"/>
            <a:chExt cx="3286080" cy="1109520"/>
          </a:xfrm>
        </p:grpSpPr>
        <p:sp>
          <p:nvSpPr>
            <p:cNvPr id="398" name="직사각형 87"/>
            <p:cNvSpPr/>
            <p:nvPr/>
          </p:nvSpPr>
          <p:spPr>
            <a:xfrm>
              <a:off x="4564080" y="1714680"/>
              <a:ext cx="3286080" cy="11095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9" name="Group 13"/>
            <p:cNvGrpSpPr/>
            <p:nvPr/>
          </p:nvGrpSpPr>
          <p:grpSpPr>
            <a:xfrm>
              <a:off x="4640040" y="1785240"/>
              <a:ext cx="3142440" cy="968040"/>
              <a:chOff x="4640040" y="1785240"/>
              <a:chExt cx="3142440" cy="968040"/>
            </a:xfrm>
          </p:grpSpPr>
          <p:sp>
            <p:nvSpPr>
              <p:cNvPr id="400" name="직사각형 88"/>
              <p:cNvSpPr/>
              <p:nvPr/>
            </p:nvSpPr>
            <p:spPr>
              <a:xfrm>
                <a:off x="4640040" y="1785240"/>
                <a:ext cx="3142440" cy="968040"/>
              </a:xfrm>
              <a:prstGeom prst="rect">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직사각형 89"/>
              <p:cNvSpPr/>
              <p:nvPr/>
            </p:nvSpPr>
            <p:spPr>
              <a:xfrm>
                <a:off x="4640040" y="1785240"/>
                <a:ext cx="3142440" cy="1126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직사각형 90"/>
              <p:cNvSpPr/>
              <p:nvPr/>
            </p:nvSpPr>
            <p:spPr>
              <a:xfrm>
                <a:off x="4640040" y="2635920"/>
                <a:ext cx="3142440" cy="1126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17"/>
          <p:cNvGrpSpPr/>
          <p:nvPr/>
        </p:nvGrpSpPr>
        <p:grpSpPr>
          <a:xfrm>
            <a:off x="1281240" y="1714680"/>
            <a:ext cx="3286080" cy="1109520"/>
            <a:chOff x="1281240" y="1714680"/>
            <a:chExt cx="3286080" cy="1109520"/>
          </a:xfrm>
        </p:grpSpPr>
        <p:sp>
          <p:nvSpPr>
            <p:cNvPr id="404" name="직사각형 92"/>
            <p:cNvSpPr/>
            <p:nvPr/>
          </p:nvSpPr>
          <p:spPr>
            <a:xfrm>
              <a:off x="1281240" y="1714680"/>
              <a:ext cx="3286080" cy="110952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19"/>
            <p:cNvGrpSpPr/>
            <p:nvPr/>
          </p:nvGrpSpPr>
          <p:grpSpPr>
            <a:xfrm>
              <a:off x="1357200" y="1785240"/>
              <a:ext cx="3142440" cy="968040"/>
              <a:chOff x="1357200" y="1785240"/>
              <a:chExt cx="3142440" cy="968040"/>
            </a:xfrm>
          </p:grpSpPr>
          <p:sp>
            <p:nvSpPr>
              <p:cNvPr id="406" name="직사각형 93"/>
              <p:cNvSpPr/>
              <p:nvPr/>
            </p:nvSpPr>
            <p:spPr>
              <a:xfrm>
                <a:off x="1357200" y="1785240"/>
                <a:ext cx="3142440" cy="96804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직사각형 94"/>
              <p:cNvSpPr/>
              <p:nvPr/>
            </p:nvSpPr>
            <p:spPr>
              <a:xfrm>
                <a:off x="1357200" y="1785240"/>
                <a:ext cx="3142440" cy="1126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직사각형 95"/>
              <p:cNvSpPr/>
              <p:nvPr/>
            </p:nvSpPr>
            <p:spPr>
              <a:xfrm>
                <a:off x="1357200" y="2635920"/>
                <a:ext cx="3142440" cy="11268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Group 23"/>
          <p:cNvGrpSpPr/>
          <p:nvPr/>
        </p:nvGrpSpPr>
        <p:grpSpPr>
          <a:xfrm>
            <a:off x="2188080" y="1876320"/>
            <a:ext cx="1471680" cy="733680"/>
            <a:chOff x="2188080" y="1876320"/>
            <a:chExt cx="1471680" cy="733680"/>
          </a:xfrm>
        </p:grpSpPr>
        <p:sp>
          <p:nvSpPr>
            <p:cNvPr id="410" name="TextBox 107"/>
            <p:cNvSpPr/>
            <p:nvPr/>
          </p:nvSpPr>
          <p:spPr>
            <a:xfrm>
              <a:off x="2403720" y="187632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411" name="TextBox 108"/>
            <p:cNvSpPr/>
            <p:nvPr/>
          </p:nvSpPr>
          <p:spPr>
            <a:xfrm>
              <a:off x="2188080" y="2348640"/>
              <a:ext cx="1471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CLICK TO ADD TEXT</a:t>
              </a:r>
              <a:endParaRPr b="0" lang="en-US" sz="1100" spc="-1" strike="noStrike">
                <a:solidFill>
                  <a:srgbClr val="000000"/>
                </a:solidFill>
                <a:latin typeface="Gulim"/>
              </a:endParaRPr>
            </a:p>
          </p:txBody>
        </p:sp>
      </p:grpSp>
      <p:grpSp>
        <p:nvGrpSpPr>
          <p:cNvPr id="412" name="Group 26"/>
          <p:cNvGrpSpPr/>
          <p:nvPr/>
        </p:nvGrpSpPr>
        <p:grpSpPr>
          <a:xfrm>
            <a:off x="5472000" y="1876320"/>
            <a:ext cx="1471680" cy="733680"/>
            <a:chOff x="5472000" y="1876320"/>
            <a:chExt cx="1471680" cy="733680"/>
          </a:xfrm>
        </p:grpSpPr>
        <p:sp>
          <p:nvSpPr>
            <p:cNvPr id="413" name="TextBox 111"/>
            <p:cNvSpPr/>
            <p:nvPr/>
          </p:nvSpPr>
          <p:spPr>
            <a:xfrm>
              <a:off x="5687640" y="1876320"/>
              <a:ext cx="104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견고딕"/>
                  <a:ea typeface="HY견고딕"/>
                </a:rPr>
                <a:t>TEXT</a:t>
              </a:r>
              <a:endParaRPr b="0" lang="en-US" sz="3000" spc="-1" strike="noStrike">
                <a:solidFill>
                  <a:srgbClr val="000000"/>
                </a:solidFill>
                <a:latin typeface="Gulim"/>
              </a:endParaRPr>
            </a:p>
          </p:txBody>
        </p:sp>
        <p:sp>
          <p:nvSpPr>
            <p:cNvPr id="414" name="TextBox 112"/>
            <p:cNvSpPr/>
            <p:nvPr/>
          </p:nvSpPr>
          <p:spPr>
            <a:xfrm>
              <a:off x="5472000" y="2348640"/>
              <a:ext cx="1471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Y견고딕"/>
                  <a:ea typeface="HY견고딕"/>
                </a:rPr>
                <a:t>CLICK TO ADD TEXT</a:t>
              </a:r>
              <a:endParaRPr b="0" lang="en-US" sz="1100" spc="-1" strike="noStrike">
                <a:solidFill>
                  <a:srgbClr val="000000"/>
                </a:solidFill>
                <a:latin typeface="Gulim"/>
              </a:endParaRPr>
            </a:p>
          </p:txBody>
        </p:sp>
      </p:grpSp>
      <p:grpSp>
        <p:nvGrpSpPr>
          <p:cNvPr id="415" name="Group 29"/>
          <p:cNvGrpSpPr/>
          <p:nvPr/>
        </p:nvGrpSpPr>
        <p:grpSpPr>
          <a:xfrm>
            <a:off x="4019400" y="1752480"/>
            <a:ext cx="1105200" cy="1890720"/>
            <a:chOff x="4019400" y="1752480"/>
            <a:chExt cx="1105200" cy="1890720"/>
          </a:xfrm>
        </p:grpSpPr>
        <p:sp>
          <p:nvSpPr>
            <p:cNvPr id="416" name="오른쪽 화살표 96"/>
            <p:cNvSpPr/>
            <p:nvPr/>
          </p:nvSpPr>
          <p:spPr>
            <a:xfrm rot="5400000">
              <a:off x="3792600" y="2491200"/>
              <a:ext cx="1557360" cy="746280"/>
            </a:xfrm>
            <a:prstGeom prst="rightArrow">
              <a:avLst>
                <a:gd name="adj1" fmla="val 50000"/>
                <a:gd name="adj2" fmla="val 49987"/>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7" name="Group 31"/>
            <p:cNvGrpSpPr/>
            <p:nvPr/>
          </p:nvGrpSpPr>
          <p:grpSpPr>
            <a:xfrm>
              <a:off x="4019400" y="1752480"/>
              <a:ext cx="1105200" cy="1104840"/>
              <a:chOff x="4019400" y="1752480"/>
              <a:chExt cx="1105200" cy="1104840"/>
            </a:xfrm>
          </p:grpSpPr>
          <p:sp>
            <p:nvSpPr>
              <p:cNvPr id="418" name="타원 115"/>
              <p:cNvSpPr/>
              <p:nvPr/>
            </p:nvSpPr>
            <p:spPr>
              <a:xfrm>
                <a:off x="4019400" y="1752480"/>
                <a:ext cx="1105200" cy="1104840"/>
              </a:xfrm>
              <a:prstGeom prst="ellipse">
                <a:avLst/>
              </a:prstGeom>
              <a:solidFill>
                <a:srgbClr val="ffffff">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타원 97"/>
              <p:cNvSpPr/>
              <p:nvPr/>
            </p:nvSpPr>
            <p:spPr>
              <a:xfrm>
                <a:off x="4074840" y="1807920"/>
                <a:ext cx="994320" cy="99396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0" name="TextBox 118"/>
          <p:cNvSpPr/>
          <p:nvPr/>
        </p:nvSpPr>
        <p:spPr>
          <a:xfrm>
            <a:off x="4224600" y="2135160"/>
            <a:ext cx="69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Y견고딕"/>
                <a:ea typeface="HY견고딕"/>
              </a:rPr>
              <a:t>TEXT</a:t>
            </a:r>
            <a:endParaRPr b="0" lang="en-US" sz="1800" spc="-1" strike="noStrike">
              <a:solidFill>
                <a:srgbClr val="000000"/>
              </a:solidFill>
              <a:latin typeface="Gulim"/>
            </a:endParaRPr>
          </a:p>
        </p:txBody>
      </p:sp>
      <p:sp>
        <p:nvSpPr>
          <p:cNvPr id="421" name="TextBox 132"/>
          <p:cNvSpPr/>
          <p:nvPr/>
        </p:nvSpPr>
        <p:spPr>
          <a:xfrm>
            <a:off x="1436760" y="4572000"/>
            <a:ext cx="6500880" cy="137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3a7"/>
                </a:solidFill>
                <a:latin typeface="Arial Black"/>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f7f7f"/>
                </a:solidFill>
                <a:latin typeface="Arial"/>
                <a:ea typeface="HY견고딕"/>
              </a:rPr>
              <a:t>started its business in Seoul Korea in February 1998 with the fundamental goal of </a:t>
            </a:r>
            <a:br>
              <a:rPr sz="1300"/>
            </a:br>
            <a:r>
              <a:rPr b="0" lang="en-US" sz="1300" spc="-1" strike="noStrike">
                <a:solidFill>
                  <a:srgbClr val="7f7f7f"/>
                </a:solidFill>
                <a:latin typeface="Arial"/>
                <a:ea typeface="HY견고딕"/>
              </a:rPr>
              <a:t>providing better internet services to the world. started its business in Seoul Korea in February 1998 with the fundamental goal of providing better internet services to the world. started its business in Seoul Korea in February 1998 with the fundamental </a:t>
            </a:r>
            <a:br>
              <a:rPr sz="1300"/>
            </a:br>
            <a:r>
              <a:rPr b="0" lang="en-US" sz="1300" spc="-1" strike="noStrike">
                <a:solidFill>
                  <a:srgbClr val="7f7f7f"/>
                </a:solidFill>
                <a:latin typeface="Arial"/>
                <a:ea typeface="HY견고딕"/>
              </a:rPr>
              <a:t>goal of providing better internet services to the world.</a:t>
            </a:r>
            <a:endParaRPr b="0" lang="en-US" sz="1300" spc="-1" strike="noStrike">
              <a:solidFill>
                <a:srgbClr val="000000"/>
              </a:solidFill>
              <a:latin typeface="Gulim"/>
            </a:endParaRPr>
          </a:p>
        </p:txBody>
      </p:sp>
      <p:sp>
        <p:nvSpPr>
          <p:cNvPr id="422" name="TextBox 133"/>
          <p:cNvSpPr/>
          <p:nvPr/>
        </p:nvSpPr>
        <p:spPr>
          <a:xfrm>
            <a:off x="2963880" y="4017960"/>
            <a:ext cx="321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ASADAL INTERNET, INC.</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직사각형 130"/>
          <p:cNvSpPr/>
          <p:nvPr/>
        </p:nvSpPr>
        <p:spPr>
          <a:xfrm>
            <a:off x="5000760" y="1584360"/>
            <a:ext cx="3709800" cy="4570200"/>
          </a:xfrm>
          <a:prstGeom prst="rect">
            <a:avLst/>
          </a:prstGeom>
          <a:solidFill>
            <a:srgbClr val="d9d9d9">
              <a:alpha val="7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PlaceHolder 1"/>
          <p:cNvSpPr>
            <a:spLocks noGrp="1"/>
          </p:cNvSpPr>
          <p:nvPr>
            <p:ph type="title"/>
          </p:nvPr>
        </p:nvSpPr>
        <p:spPr>
          <a:xfrm>
            <a:off x="476280" y="9000"/>
            <a:ext cx="8229600" cy="101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견고딕"/>
                <a:ea typeface="HY견고딕"/>
              </a:rPr>
              <a:t>ADD A TITLE SLIDE</a:t>
            </a:r>
            <a:endParaRPr b="0" lang="en-US" sz="3600" spc="-1" strike="noStrike">
              <a:solidFill>
                <a:srgbClr val="000000"/>
              </a:solidFill>
              <a:latin typeface="Malgun Gothic"/>
            </a:endParaRPr>
          </a:p>
        </p:txBody>
      </p:sp>
      <p:sp>
        <p:nvSpPr>
          <p:cNvPr id="425" name="TextBox 21"/>
          <p:cNvSpPr/>
          <p:nvPr/>
        </p:nvSpPr>
        <p:spPr>
          <a:xfrm>
            <a:off x="7249320" y="65437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CLICK TO ADD TEXT</a:t>
            </a:r>
            <a:endParaRPr b="0" lang="en-US" sz="1200" spc="-1" strike="noStrike">
              <a:solidFill>
                <a:srgbClr val="000000"/>
              </a:solidFill>
              <a:latin typeface="Gulim"/>
            </a:endParaRPr>
          </a:p>
        </p:txBody>
      </p:sp>
      <p:sp>
        <p:nvSpPr>
          <p:cNvPr id="426" name="TextBox 37"/>
          <p:cNvSpPr/>
          <p:nvPr/>
        </p:nvSpPr>
        <p:spPr>
          <a:xfrm>
            <a:off x="500040" y="852480"/>
            <a:ext cx="828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7171"/>
                </a:solidFill>
                <a:latin typeface="Arial"/>
                <a:ea typeface="Malgun Gothic"/>
              </a:rPr>
              <a:t>Asadal has been running one of the biggest domain and web hosting sites in Korea since March 1998. </a:t>
            </a:r>
            <a:br>
              <a:rPr sz="1200"/>
            </a:br>
            <a:r>
              <a:rPr b="0" lang="en-US" sz="1200" spc="-1" strike="noStrike">
                <a:solidFill>
                  <a:srgbClr val="717171"/>
                </a:solidFill>
                <a:latin typeface="Arial"/>
                <a:ea typeface="Malgun Gothic"/>
              </a:rPr>
              <a:t>More than 3,000,000 people have visited our website, www.asadal.com for domain registration and web hosting.</a:t>
            </a:r>
            <a:endParaRPr b="0" lang="en-US" sz="1200" spc="-1" strike="noStrike">
              <a:solidFill>
                <a:srgbClr val="000000"/>
              </a:solidFill>
              <a:latin typeface="Gulim"/>
            </a:endParaRPr>
          </a:p>
        </p:txBody>
      </p:sp>
      <p:grpSp>
        <p:nvGrpSpPr>
          <p:cNvPr id="427" name="Group 6"/>
          <p:cNvGrpSpPr/>
          <p:nvPr/>
        </p:nvGrpSpPr>
        <p:grpSpPr>
          <a:xfrm>
            <a:off x="907920" y="2424240"/>
            <a:ext cx="3186360" cy="3184560"/>
            <a:chOff x="907920" y="2424240"/>
            <a:chExt cx="3186360" cy="3184560"/>
          </a:xfrm>
        </p:grpSpPr>
        <p:sp>
          <p:nvSpPr>
            <p:cNvPr id="428" name="타원 88"/>
            <p:cNvSpPr/>
            <p:nvPr/>
          </p:nvSpPr>
          <p:spPr>
            <a:xfrm>
              <a:off x="907920" y="2424240"/>
              <a:ext cx="3186360" cy="3184560"/>
            </a:xfrm>
            <a:prstGeom prst="ellipse">
              <a:avLst/>
            </a:prstGeom>
            <a:noFill/>
            <a:ln w="8892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타원 110"/>
            <p:cNvSpPr/>
            <p:nvPr/>
          </p:nvSpPr>
          <p:spPr>
            <a:xfrm>
              <a:off x="1077480" y="2593800"/>
              <a:ext cx="2846880" cy="284508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0" name="Group 9"/>
          <p:cNvGrpSpPr/>
          <p:nvPr/>
        </p:nvGrpSpPr>
        <p:grpSpPr>
          <a:xfrm>
            <a:off x="3408480" y="3046320"/>
            <a:ext cx="1089000" cy="1090800"/>
            <a:chOff x="3408480" y="3046320"/>
            <a:chExt cx="1089000" cy="1090800"/>
          </a:xfrm>
        </p:grpSpPr>
        <p:sp>
          <p:nvSpPr>
            <p:cNvPr id="431" name="타원 90"/>
            <p:cNvSpPr/>
            <p:nvPr/>
          </p:nvSpPr>
          <p:spPr>
            <a:xfrm>
              <a:off x="3408480" y="3046320"/>
              <a:ext cx="1089000" cy="109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타원 91"/>
            <p:cNvSpPr/>
            <p:nvPr/>
          </p:nvSpPr>
          <p:spPr>
            <a:xfrm>
              <a:off x="3470400" y="3108240"/>
              <a:ext cx="965160" cy="96696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도넛 92"/>
            <p:cNvSpPr/>
            <p:nvPr/>
          </p:nvSpPr>
          <p:spPr>
            <a:xfrm>
              <a:off x="3408480" y="3046320"/>
              <a:ext cx="1089000" cy="1090800"/>
            </a:xfrm>
            <a:custGeom>
              <a:avLst/>
              <a:gdLst>
                <a:gd name="textAreaLeft" fmla="*/ 159480 w 1089000"/>
                <a:gd name="textAreaRight" fmla="*/ 929520 w 1089000"/>
                <a:gd name="textAreaTop" fmla="*/ 159480 h 1090800"/>
                <a:gd name="textAreaBottom" fmla="*/ 931320 h 10908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34" name="Group 13"/>
          <p:cNvGrpSpPr/>
          <p:nvPr/>
        </p:nvGrpSpPr>
        <p:grpSpPr>
          <a:xfrm>
            <a:off x="3097080" y="4719600"/>
            <a:ext cx="1089000" cy="1089000"/>
            <a:chOff x="3097080" y="4719600"/>
            <a:chExt cx="1089000" cy="1089000"/>
          </a:xfrm>
        </p:grpSpPr>
        <p:sp>
          <p:nvSpPr>
            <p:cNvPr id="435" name="타원 94"/>
            <p:cNvSpPr/>
            <p:nvPr/>
          </p:nvSpPr>
          <p:spPr>
            <a:xfrm>
              <a:off x="3097080" y="471960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타원 95"/>
            <p:cNvSpPr/>
            <p:nvPr/>
          </p:nvSpPr>
          <p:spPr>
            <a:xfrm>
              <a:off x="3159000" y="4781520"/>
              <a:ext cx="965160" cy="96516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도넛 96"/>
            <p:cNvSpPr/>
            <p:nvPr/>
          </p:nvSpPr>
          <p:spPr>
            <a:xfrm>
              <a:off x="3097080" y="471960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38" name="Group 17"/>
          <p:cNvGrpSpPr/>
          <p:nvPr/>
        </p:nvGrpSpPr>
        <p:grpSpPr>
          <a:xfrm>
            <a:off x="817560" y="4719600"/>
            <a:ext cx="1089000" cy="1089000"/>
            <a:chOff x="817560" y="4719600"/>
            <a:chExt cx="1089000" cy="1089000"/>
          </a:xfrm>
        </p:grpSpPr>
        <p:sp>
          <p:nvSpPr>
            <p:cNvPr id="439" name="타원 98"/>
            <p:cNvSpPr/>
            <p:nvPr/>
          </p:nvSpPr>
          <p:spPr>
            <a:xfrm>
              <a:off x="817560" y="471960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타원 99"/>
            <p:cNvSpPr/>
            <p:nvPr/>
          </p:nvSpPr>
          <p:spPr>
            <a:xfrm>
              <a:off x="879480" y="4781520"/>
              <a:ext cx="965160" cy="96516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도넛 100"/>
            <p:cNvSpPr/>
            <p:nvPr/>
          </p:nvSpPr>
          <p:spPr>
            <a:xfrm>
              <a:off x="817560" y="471960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42" name="Group 21"/>
          <p:cNvGrpSpPr/>
          <p:nvPr/>
        </p:nvGrpSpPr>
        <p:grpSpPr>
          <a:xfrm>
            <a:off x="1952640" y="1862280"/>
            <a:ext cx="1089000" cy="1089000"/>
            <a:chOff x="1952640" y="1862280"/>
            <a:chExt cx="1089000" cy="1089000"/>
          </a:xfrm>
        </p:grpSpPr>
        <p:sp>
          <p:nvSpPr>
            <p:cNvPr id="443" name="타원 102"/>
            <p:cNvSpPr/>
            <p:nvPr/>
          </p:nvSpPr>
          <p:spPr>
            <a:xfrm>
              <a:off x="1952640" y="1862280"/>
              <a:ext cx="1089000" cy="1089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타원 103"/>
            <p:cNvSpPr/>
            <p:nvPr/>
          </p:nvSpPr>
          <p:spPr>
            <a:xfrm>
              <a:off x="2014560" y="1924200"/>
              <a:ext cx="965160" cy="965160"/>
            </a:xfrm>
            <a:prstGeom prst="ellipse">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도넛 104"/>
            <p:cNvSpPr/>
            <p:nvPr/>
          </p:nvSpPr>
          <p:spPr>
            <a:xfrm>
              <a:off x="1952640" y="1862280"/>
              <a:ext cx="1089000" cy="1089000"/>
            </a:xfrm>
            <a:custGeom>
              <a:avLst/>
              <a:gdLst>
                <a:gd name="textAreaLeft" fmla="*/ 159480 w 1089000"/>
                <a:gd name="textAreaRight" fmla="*/ 929520 w 1089000"/>
                <a:gd name="textAreaTop" fmla="*/ 159480 h 1089000"/>
                <a:gd name="textAreaBottom" fmla="*/ 929520 h 1089000"/>
              </a:gdLst>
              <a:ahLst/>
              <a:rect l="textAreaLeft" t="textAreaTop" r="textAreaRight" b="textAreaBottom"/>
              <a:pathLst>
                <a:path w="1089135" h="1089135">
                  <a:moveTo>
                    <a:pt x="0" y="544568"/>
                  </a:moveTo>
                  <a:lnTo>
                    <a:pt x="0" y="544568"/>
                  </a:lnTo>
                  <a:cubicBezTo>
                    <a:pt x="0" y="243811"/>
                    <a:pt x="243811" y="1"/>
                    <a:pt x="544568" y="1"/>
                  </a:cubicBezTo>
                  <a:cubicBezTo>
                    <a:pt x="544568" y="1"/>
                    <a:pt x="544568" y="1"/>
                    <a:pt x="544568" y="1"/>
                  </a:cubicBezTo>
                  <a:cubicBezTo>
                    <a:pt x="845325" y="1"/>
                    <a:pt x="1089136" y="243812"/>
                    <a:pt x="1089136" y="544569"/>
                  </a:cubicBezTo>
                  <a:cubicBezTo>
                    <a:pt x="1089136" y="544569"/>
                    <a:pt x="1089135" y="544569"/>
                    <a:pt x="1089135" y="544570"/>
                  </a:cubicBezTo>
                  <a:lnTo>
                    <a:pt x="1089136" y="544570"/>
                  </a:lnTo>
                  <a:cubicBezTo>
                    <a:pt x="1089136" y="845326"/>
                    <a:pt x="845324" y="1089138"/>
                    <a:pt x="544568" y="1089138"/>
                  </a:cubicBezTo>
                  <a:cubicBezTo>
                    <a:pt x="243811" y="1089138"/>
                    <a:pt x="0" y="845326"/>
                    <a:pt x="0" y="544570"/>
                  </a:cubicBezTo>
                  <a:cubicBezTo>
                    <a:pt x="0" y="544569"/>
                    <a:pt x="0" y="544569"/>
                    <a:pt x="0" y="544569"/>
                  </a:cubicBezTo>
                  <a:lnTo>
                    <a:pt x="0" y="544568"/>
                  </a:lnTo>
                  <a:close/>
                  <a:moveTo>
                    <a:pt x="144583" y="544568"/>
                  </a:moveTo>
                  <a:lnTo>
                    <a:pt x="144583" y="544568"/>
                  </a:lnTo>
                  <a:cubicBezTo>
                    <a:pt x="144583" y="765473"/>
                    <a:pt x="323662" y="944553"/>
                    <a:pt x="544568" y="944553"/>
                  </a:cubicBezTo>
                  <a:cubicBezTo>
                    <a:pt x="765473" y="944553"/>
                    <a:pt x="944553" y="765473"/>
                    <a:pt x="944553" y="544568"/>
                  </a:cubicBezTo>
                  <a:cubicBezTo>
                    <a:pt x="944553" y="323662"/>
                    <a:pt x="765473" y="144583"/>
                    <a:pt x="544568" y="144583"/>
                  </a:cubicBezTo>
                  <a:lnTo>
                    <a:pt x="544567" y="144583"/>
                  </a:lnTo>
                  <a:cubicBezTo>
                    <a:pt x="323662" y="144583"/>
                    <a:pt x="144583" y="323662"/>
                    <a:pt x="144583" y="544568"/>
                  </a:cubicBez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46" name="Group 25"/>
          <p:cNvGrpSpPr/>
          <p:nvPr/>
        </p:nvGrpSpPr>
        <p:grpSpPr>
          <a:xfrm>
            <a:off x="500040" y="3046320"/>
            <a:ext cx="1089000" cy="1090800"/>
            <a:chOff x="500040" y="3046320"/>
            <a:chExt cx="1089000" cy="1090800"/>
          </a:xfrm>
        </p:grpSpPr>
        <p:sp>
          <p:nvSpPr>
            <p:cNvPr id="447" name="타원 106"/>
            <p:cNvSpPr/>
            <p:nvPr/>
          </p:nvSpPr>
          <p:spPr>
            <a:xfrm>
              <a:off x="500040" y="3046320"/>
              <a:ext cx="1089000" cy="1090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타원 107"/>
            <p:cNvSpPr/>
            <p:nvPr/>
          </p:nvSpPr>
          <p:spPr>
            <a:xfrm>
              <a:off x="561960" y="3108240"/>
              <a:ext cx="965160" cy="96696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도넛 108"/>
            <p:cNvSpPr/>
            <p:nvPr/>
          </p:nvSpPr>
          <p:spPr>
            <a:xfrm>
              <a:off x="500040" y="3046320"/>
              <a:ext cx="1089000" cy="1090800"/>
            </a:xfrm>
            <a:custGeom>
              <a:avLst/>
              <a:gdLst>
                <a:gd name="textAreaLeft" fmla="*/ 159480 w 1089000"/>
                <a:gd name="textAreaRight" fmla="*/ 929520 w 1089000"/>
                <a:gd name="textAreaTop" fmla="*/ 159480 h 1090800"/>
                <a:gd name="textAreaBottom" fmla="*/ 931320 h 1090800"/>
              </a:gdLst>
              <a:ahLst/>
              <a:rect l="textAreaLeft" t="textAreaTop" r="textAreaRight" b="textAreaBottom"/>
              <a:pathLst>
                <a:path w="1089135" h="1089135">
                  <a:moveTo>
                    <a:pt x="0" y="544568"/>
                  </a:moveTo>
                  <a:lnTo>
                    <a:pt x="0" y="544568"/>
                  </a:lnTo>
                  <a:cubicBezTo>
                    <a:pt x="0" y="243811"/>
                    <a:pt x="243811" y="1"/>
                    <a:pt x="544568" y="1"/>
                  </a:cubicBezTo>
                  <a:cubicBezTo>
                    <a:pt x="544568" y="1"/>
                    <a:pt x="544568" y="1"/>
                    <a:pt x="544568" y="1"/>
                  </a:cubicBezTo>
                  <a:cubicBezTo>
                    <a:pt x="845325" y="1"/>
                    <a:pt x="1089136" y="243812"/>
                    <a:pt x="1089136" y="544569"/>
                  </a:cubicBezTo>
                  <a:cubicBezTo>
                    <a:pt x="1089136" y="544569"/>
                    <a:pt x="1089135" y="544569"/>
                    <a:pt x="1089135" y="544570"/>
                  </a:cubicBezTo>
                  <a:lnTo>
                    <a:pt x="1089136" y="544570"/>
                  </a:lnTo>
                  <a:cubicBezTo>
                    <a:pt x="1089136" y="845326"/>
                    <a:pt x="845324" y="1089138"/>
                    <a:pt x="544568" y="1089138"/>
                  </a:cubicBezTo>
                  <a:cubicBezTo>
                    <a:pt x="243811" y="1089138"/>
                    <a:pt x="0" y="845326"/>
                    <a:pt x="0" y="544570"/>
                  </a:cubicBezTo>
                  <a:cubicBezTo>
                    <a:pt x="0" y="544569"/>
                    <a:pt x="0" y="544569"/>
                    <a:pt x="0" y="544569"/>
                  </a:cubicBezTo>
                  <a:lnTo>
                    <a:pt x="0" y="544568"/>
                  </a:lnTo>
                  <a:close/>
                  <a:moveTo>
                    <a:pt x="144583" y="544568"/>
                  </a:moveTo>
                  <a:lnTo>
                    <a:pt x="144583" y="544568"/>
                  </a:lnTo>
                  <a:cubicBezTo>
                    <a:pt x="144583" y="765473"/>
                    <a:pt x="323662" y="944553"/>
                    <a:pt x="544568" y="944553"/>
                  </a:cubicBezTo>
                  <a:cubicBezTo>
                    <a:pt x="765473" y="944553"/>
                    <a:pt x="944553" y="765473"/>
                    <a:pt x="944553" y="544568"/>
                  </a:cubicBezTo>
                  <a:cubicBezTo>
                    <a:pt x="944553" y="323662"/>
                    <a:pt x="765473" y="144583"/>
                    <a:pt x="544568" y="144583"/>
                  </a:cubicBezTo>
                  <a:lnTo>
                    <a:pt x="544567" y="144583"/>
                  </a:lnTo>
                  <a:cubicBezTo>
                    <a:pt x="323662" y="144583"/>
                    <a:pt x="144583" y="323662"/>
                    <a:pt x="144583" y="544568"/>
                  </a:cubicBez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450" name="TextBox 109"/>
          <p:cNvSpPr/>
          <p:nvPr/>
        </p:nvSpPr>
        <p:spPr>
          <a:xfrm>
            <a:off x="2118600" y="220680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451" name="TextBox 112"/>
          <p:cNvSpPr/>
          <p:nvPr/>
        </p:nvSpPr>
        <p:spPr>
          <a:xfrm>
            <a:off x="3574440" y="33908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452" name="TextBox 113"/>
          <p:cNvSpPr/>
          <p:nvPr/>
        </p:nvSpPr>
        <p:spPr>
          <a:xfrm>
            <a:off x="667080" y="339084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453" name="TextBox 114"/>
          <p:cNvSpPr/>
          <p:nvPr/>
        </p:nvSpPr>
        <p:spPr>
          <a:xfrm>
            <a:off x="984600" y="50641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sp>
        <p:nvSpPr>
          <p:cNvPr id="454" name="TextBox 115"/>
          <p:cNvSpPr/>
          <p:nvPr/>
        </p:nvSpPr>
        <p:spPr>
          <a:xfrm>
            <a:off x="3264120" y="5064120"/>
            <a:ext cx="75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Y견고딕"/>
                <a:ea typeface="HY견고딕"/>
              </a:rPr>
              <a:t>TEXT</a:t>
            </a:r>
            <a:endParaRPr b="0" lang="en-US" sz="2000" spc="-1" strike="noStrike">
              <a:solidFill>
                <a:srgbClr val="000000"/>
              </a:solidFill>
              <a:latin typeface="Gulim"/>
            </a:endParaRPr>
          </a:p>
        </p:txBody>
      </p:sp>
      <p:grpSp>
        <p:nvGrpSpPr>
          <p:cNvPr id="455" name="Group 34"/>
          <p:cNvGrpSpPr/>
          <p:nvPr/>
        </p:nvGrpSpPr>
        <p:grpSpPr>
          <a:xfrm>
            <a:off x="1707480" y="3559320"/>
            <a:ext cx="1587240" cy="915480"/>
            <a:chOff x="1707480" y="3559320"/>
            <a:chExt cx="1587240" cy="915480"/>
          </a:xfrm>
        </p:grpSpPr>
        <p:sp>
          <p:nvSpPr>
            <p:cNvPr id="456" name="TextBox 117"/>
            <p:cNvSpPr/>
            <p:nvPr/>
          </p:nvSpPr>
          <p:spPr>
            <a:xfrm>
              <a:off x="1707480" y="4198320"/>
              <a:ext cx="158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CLICK TO ADD TEXT</a:t>
              </a:r>
              <a:endParaRPr b="0" lang="en-US" sz="1200" spc="-1" strike="noStrike">
                <a:solidFill>
                  <a:srgbClr val="000000"/>
                </a:solidFill>
                <a:latin typeface="Gulim"/>
              </a:endParaRPr>
            </a:p>
          </p:txBody>
        </p:sp>
        <p:sp>
          <p:nvSpPr>
            <p:cNvPr id="457" name="TextBox 118"/>
            <p:cNvSpPr/>
            <p:nvPr/>
          </p:nvSpPr>
          <p:spPr>
            <a:xfrm>
              <a:off x="1839240" y="3559320"/>
              <a:ext cx="1323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견고딕"/>
                  <a:ea typeface="HY견고딕"/>
                </a:rPr>
                <a:t>TEXT</a:t>
              </a:r>
              <a:endParaRPr b="0" lang="en-US" sz="4000" spc="-1" strike="noStrike">
                <a:solidFill>
                  <a:srgbClr val="000000"/>
                </a:solidFill>
                <a:latin typeface="Gulim"/>
              </a:endParaRPr>
            </a:p>
          </p:txBody>
        </p:sp>
      </p:grpSp>
      <p:sp>
        <p:nvSpPr>
          <p:cNvPr id="458" name="직사각형 157"/>
          <p:cNvSpPr/>
          <p:nvPr/>
        </p:nvSpPr>
        <p:spPr>
          <a:xfrm>
            <a:off x="5424480" y="1677960"/>
            <a:ext cx="3181320" cy="819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9" name="Group 38"/>
          <p:cNvGrpSpPr/>
          <p:nvPr/>
        </p:nvGrpSpPr>
        <p:grpSpPr>
          <a:xfrm>
            <a:off x="5154480" y="1816200"/>
            <a:ext cx="544680" cy="544320"/>
            <a:chOff x="5154480" y="1816200"/>
            <a:chExt cx="544680" cy="544320"/>
          </a:xfrm>
        </p:grpSpPr>
        <p:sp>
          <p:nvSpPr>
            <p:cNvPr id="460" name="타원 149"/>
            <p:cNvSpPr/>
            <p:nvPr/>
          </p:nvSpPr>
          <p:spPr>
            <a:xfrm>
              <a:off x="5154480" y="1816200"/>
              <a:ext cx="544680" cy="544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타원 150"/>
            <p:cNvSpPr/>
            <p:nvPr/>
          </p:nvSpPr>
          <p:spPr>
            <a:xfrm>
              <a:off x="5186160" y="1847880"/>
              <a:ext cx="481320" cy="480960"/>
            </a:xfrm>
            <a:prstGeom prst="ellipse">
              <a:avLst/>
            </a:prstGeom>
            <a:solidFill>
              <a:srgbClr val="f6ea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도넛 151"/>
            <p:cNvSpPr/>
            <p:nvPr/>
          </p:nvSpPr>
          <p:spPr>
            <a:xfrm>
              <a:off x="5154480" y="1816200"/>
              <a:ext cx="544680" cy="544320"/>
            </a:xfrm>
            <a:custGeom>
              <a:avLst/>
              <a:gdLst>
                <a:gd name="textAreaLeft" fmla="*/ 79560 w 544680"/>
                <a:gd name="textAreaRight" fmla="*/ 465120 w 544680"/>
                <a:gd name="textAreaTop" fmla="*/ 79560 h 544320"/>
                <a:gd name="textAreaBottom" fmla="*/ 464760 h 544320"/>
              </a:gdLst>
              <a:ahLst/>
              <a:rect l="textAreaLeft" t="textAreaTop" r="textAreaRight" b="textAreaBottom"/>
              <a:pathLst>
                <a:path w="1089135" h="1089135">
                  <a:moveTo>
                    <a:pt x="0" y="544568"/>
                  </a:moveTo>
                  <a:lnTo>
                    <a:pt x="0" y="544568"/>
                  </a:lnTo>
                  <a:cubicBezTo>
                    <a:pt x="0" y="243811"/>
                    <a:pt x="243811" y="1"/>
                    <a:pt x="544568" y="1"/>
                  </a:cubicBezTo>
                  <a:cubicBezTo>
                    <a:pt x="544568" y="1"/>
                    <a:pt x="544568" y="1"/>
                    <a:pt x="544568" y="1"/>
                  </a:cubicBezTo>
                  <a:cubicBezTo>
                    <a:pt x="845325" y="1"/>
                    <a:pt x="1089136" y="243812"/>
                    <a:pt x="1089136" y="544569"/>
                  </a:cubicBezTo>
                  <a:cubicBezTo>
                    <a:pt x="1089136" y="544569"/>
                    <a:pt x="1089135" y="544569"/>
                    <a:pt x="1089135" y="544570"/>
                  </a:cubicBezTo>
                  <a:lnTo>
                    <a:pt x="1089136" y="544570"/>
                  </a:lnTo>
                  <a:cubicBezTo>
                    <a:pt x="1089136" y="845326"/>
                    <a:pt x="845324" y="1089138"/>
                    <a:pt x="544568" y="1089138"/>
                  </a:cubicBezTo>
                  <a:cubicBezTo>
                    <a:pt x="243811" y="1089138"/>
                    <a:pt x="0" y="845326"/>
                    <a:pt x="0" y="544570"/>
                  </a:cubicBezTo>
                  <a:cubicBezTo>
                    <a:pt x="0" y="544569"/>
                    <a:pt x="0" y="544569"/>
                    <a:pt x="0" y="544569"/>
                  </a:cubicBezTo>
                  <a:lnTo>
                    <a:pt x="0" y="544568"/>
                  </a:lnTo>
                  <a:close/>
                  <a:moveTo>
                    <a:pt x="144583" y="544568"/>
                  </a:moveTo>
                  <a:lnTo>
                    <a:pt x="144583" y="544568"/>
                  </a:lnTo>
                  <a:cubicBezTo>
                    <a:pt x="144583" y="765473"/>
                    <a:pt x="323662" y="944553"/>
                    <a:pt x="544568" y="944553"/>
                  </a:cubicBezTo>
                  <a:cubicBezTo>
                    <a:pt x="765473" y="944553"/>
                    <a:pt x="944553" y="765473"/>
                    <a:pt x="944553" y="544568"/>
                  </a:cubicBezTo>
                  <a:cubicBezTo>
                    <a:pt x="944553" y="323662"/>
                    <a:pt x="765473" y="144583"/>
                    <a:pt x="544568" y="144583"/>
                  </a:cubicBezTo>
                  <a:lnTo>
                    <a:pt x="544567" y="144583"/>
                  </a:lnTo>
                  <a:cubicBezTo>
                    <a:pt x="323662" y="144583"/>
                    <a:pt x="144583" y="323662"/>
                    <a:pt x="144583" y="544568"/>
                  </a:cubicBez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463" name="직사각형 158"/>
          <p:cNvSpPr/>
          <p:nvPr/>
        </p:nvSpPr>
        <p:spPr>
          <a:xfrm>
            <a:off x="5424480" y="2571840"/>
            <a:ext cx="3181320" cy="819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직사각형 159"/>
          <p:cNvSpPr/>
          <p:nvPr/>
        </p:nvSpPr>
        <p:spPr>
          <a:xfrm>
            <a:off x="5424480" y="3463920"/>
            <a:ext cx="3181320" cy="819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직사각형 161"/>
          <p:cNvSpPr/>
          <p:nvPr/>
        </p:nvSpPr>
        <p:spPr>
          <a:xfrm>
            <a:off x="5424480" y="4357800"/>
            <a:ext cx="3181320" cy="819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직사각형 164"/>
          <p:cNvSpPr/>
          <p:nvPr/>
        </p:nvSpPr>
        <p:spPr>
          <a:xfrm>
            <a:off x="5424480" y="5249880"/>
            <a:ext cx="3181320" cy="819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TextBox 126"/>
          <p:cNvSpPr/>
          <p:nvPr/>
        </p:nvSpPr>
        <p:spPr>
          <a:xfrm>
            <a:off x="5786280" y="2614680"/>
            <a:ext cx="285768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468" name="TextBox 127"/>
          <p:cNvSpPr/>
          <p:nvPr/>
        </p:nvSpPr>
        <p:spPr>
          <a:xfrm>
            <a:off x="5786280" y="3510000"/>
            <a:ext cx="285768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4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469" name="TextBox 128"/>
          <p:cNvSpPr/>
          <p:nvPr/>
        </p:nvSpPr>
        <p:spPr>
          <a:xfrm>
            <a:off x="5786280" y="4386240"/>
            <a:ext cx="285768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cee"/>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470" name="TextBox 129"/>
          <p:cNvSpPr/>
          <p:nvPr/>
        </p:nvSpPr>
        <p:spPr>
          <a:xfrm>
            <a:off x="5786280" y="5275440"/>
            <a:ext cx="285768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3a7"/>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sp>
        <p:nvSpPr>
          <p:cNvPr id="471" name="TextBox 121"/>
          <p:cNvSpPr/>
          <p:nvPr/>
        </p:nvSpPr>
        <p:spPr>
          <a:xfrm>
            <a:off x="5786280" y="1716120"/>
            <a:ext cx="285768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ea00"/>
                </a:solidFill>
                <a:latin typeface="Arial Black"/>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f6f6f"/>
                </a:solidFill>
                <a:latin typeface="Arial"/>
                <a:ea typeface="HY견고딕"/>
              </a:rPr>
              <a:t>started its business in Seoul Korea in February 1998 with the fundamental goal of providing better internet services to the world.</a:t>
            </a:r>
            <a:endParaRPr b="0" lang="en-US" sz="1000" spc="-1" strike="noStrike">
              <a:solidFill>
                <a:srgbClr val="000000"/>
              </a:solidFill>
              <a:latin typeface="Gulim"/>
            </a:endParaRPr>
          </a:p>
        </p:txBody>
      </p:sp>
      <p:grpSp>
        <p:nvGrpSpPr>
          <p:cNvPr id="472" name="Group 51"/>
          <p:cNvGrpSpPr/>
          <p:nvPr/>
        </p:nvGrpSpPr>
        <p:grpSpPr>
          <a:xfrm>
            <a:off x="5154480" y="3602160"/>
            <a:ext cx="544680" cy="544320"/>
            <a:chOff x="5154480" y="3602160"/>
            <a:chExt cx="544680" cy="544320"/>
          </a:xfrm>
        </p:grpSpPr>
        <p:sp>
          <p:nvSpPr>
            <p:cNvPr id="473" name="타원 132"/>
            <p:cNvSpPr/>
            <p:nvPr/>
          </p:nvSpPr>
          <p:spPr>
            <a:xfrm>
              <a:off x="5154480" y="3602160"/>
              <a:ext cx="544680" cy="544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타원 133"/>
            <p:cNvSpPr/>
            <p:nvPr/>
          </p:nvSpPr>
          <p:spPr>
            <a:xfrm>
              <a:off x="5186160" y="3633840"/>
              <a:ext cx="481320" cy="480960"/>
            </a:xfrm>
            <a:prstGeom prst="ellipse">
              <a:avLst/>
            </a:prstGeom>
            <a:solidFill>
              <a:srgbClr val="00b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도넛 134"/>
            <p:cNvSpPr/>
            <p:nvPr/>
          </p:nvSpPr>
          <p:spPr>
            <a:xfrm>
              <a:off x="5154480" y="3602160"/>
              <a:ext cx="544680" cy="544320"/>
            </a:xfrm>
            <a:custGeom>
              <a:avLst/>
              <a:gdLst>
                <a:gd name="textAreaLeft" fmla="*/ 79560 w 544680"/>
                <a:gd name="textAreaRight" fmla="*/ 465120 w 544680"/>
                <a:gd name="textAreaTop" fmla="*/ 79560 h 544320"/>
                <a:gd name="textAreaBottom" fmla="*/ 464760 h 54432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76" name="Group 55"/>
          <p:cNvGrpSpPr/>
          <p:nvPr/>
        </p:nvGrpSpPr>
        <p:grpSpPr>
          <a:xfrm>
            <a:off x="5154480" y="5388120"/>
            <a:ext cx="544680" cy="544320"/>
            <a:chOff x="5154480" y="5388120"/>
            <a:chExt cx="544680" cy="544320"/>
          </a:xfrm>
        </p:grpSpPr>
        <p:sp>
          <p:nvSpPr>
            <p:cNvPr id="477" name="타원 141"/>
            <p:cNvSpPr/>
            <p:nvPr/>
          </p:nvSpPr>
          <p:spPr>
            <a:xfrm>
              <a:off x="5154480" y="5388120"/>
              <a:ext cx="544680" cy="5443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타원 142"/>
            <p:cNvSpPr/>
            <p:nvPr/>
          </p:nvSpPr>
          <p:spPr>
            <a:xfrm>
              <a:off x="5186160" y="5419800"/>
              <a:ext cx="481320" cy="480960"/>
            </a:xfrm>
            <a:prstGeom prst="ellipse">
              <a:avLst/>
            </a:prstGeom>
            <a:solidFill>
              <a:srgbClr val="0053a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도넛 143"/>
            <p:cNvSpPr/>
            <p:nvPr/>
          </p:nvSpPr>
          <p:spPr>
            <a:xfrm>
              <a:off x="5154480" y="5388120"/>
              <a:ext cx="544680" cy="544320"/>
            </a:xfrm>
            <a:custGeom>
              <a:avLst/>
              <a:gdLst>
                <a:gd name="textAreaLeft" fmla="*/ 79560 w 544680"/>
                <a:gd name="textAreaRight" fmla="*/ 465120 w 544680"/>
                <a:gd name="textAreaTop" fmla="*/ 79560 h 544320"/>
                <a:gd name="textAreaBottom" fmla="*/ 464760 h 54432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80" name="Group 59"/>
          <p:cNvGrpSpPr/>
          <p:nvPr/>
        </p:nvGrpSpPr>
        <p:grpSpPr>
          <a:xfrm>
            <a:off x="5154480" y="4494240"/>
            <a:ext cx="544680" cy="546120"/>
            <a:chOff x="5154480" y="4494240"/>
            <a:chExt cx="544680" cy="546120"/>
          </a:xfrm>
        </p:grpSpPr>
        <p:sp>
          <p:nvSpPr>
            <p:cNvPr id="481" name="타원 145"/>
            <p:cNvSpPr/>
            <p:nvPr/>
          </p:nvSpPr>
          <p:spPr>
            <a:xfrm>
              <a:off x="5154480" y="4494240"/>
              <a:ext cx="544680" cy="5461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타원 146"/>
            <p:cNvSpPr/>
            <p:nvPr/>
          </p:nvSpPr>
          <p:spPr>
            <a:xfrm>
              <a:off x="5186160" y="4525920"/>
              <a:ext cx="481320" cy="482760"/>
            </a:xfrm>
            <a:prstGeom prst="ellipse">
              <a:avLst/>
            </a:prstGeom>
            <a:solidFill>
              <a:srgbClr val="00ac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도넛 147"/>
            <p:cNvSpPr/>
            <p:nvPr/>
          </p:nvSpPr>
          <p:spPr>
            <a:xfrm>
              <a:off x="5154480" y="4494240"/>
              <a:ext cx="544680" cy="546120"/>
            </a:xfrm>
            <a:custGeom>
              <a:avLst/>
              <a:gdLst>
                <a:gd name="textAreaLeft" fmla="*/ 79560 w 544680"/>
                <a:gd name="textAreaRight" fmla="*/ 465120 w 544680"/>
                <a:gd name="textAreaTop" fmla="*/ 79920 h 546120"/>
                <a:gd name="textAreaBottom" fmla="*/ 466200 h 546120"/>
              </a:gdLst>
              <a:ahLst/>
              <a:rect l="textAreaLeft" t="textAreaTop" r="textAreaRight" b="textAreaBottom"/>
              <a:pathLst>
                <a:path w="1800000" h="1800000">
                  <a:moveTo>
                    <a:pt x="0" y="900000"/>
                  </a:moveTo>
                  <a:lnTo>
                    <a:pt x="0" y="900000"/>
                  </a:lnTo>
                  <a:cubicBezTo>
                    <a:pt x="0" y="402944"/>
                    <a:pt x="402944" y="1"/>
                    <a:pt x="900000" y="1"/>
                  </a:cubicBezTo>
                  <a:cubicBezTo>
                    <a:pt x="900000" y="1"/>
                    <a:pt x="900001" y="1"/>
                    <a:pt x="900001" y="1"/>
                  </a:cubicBezTo>
                  <a:cubicBezTo>
                    <a:pt x="1397057" y="1"/>
                    <a:pt x="1800001" y="402945"/>
                    <a:pt x="1800001" y="900001"/>
                  </a:cubicBezTo>
                  <a:cubicBezTo>
                    <a:pt x="1800001" y="900001"/>
                    <a:pt x="1800000" y="900002"/>
                    <a:pt x="1800000" y="900003"/>
                  </a:cubicBezTo>
                  <a:lnTo>
                    <a:pt x="1800001" y="900003"/>
                  </a:lnTo>
                  <a:cubicBezTo>
                    <a:pt x="1800001" y="1397059"/>
                    <a:pt x="1397057" y="1800003"/>
                    <a:pt x="900001" y="1800003"/>
                  </a:cubicBezTo>
                  <a:cubicBezTo>
                    <a:pt x="900000" y="1800003"/>
                    <a:pt x="900000" y="1800002"/>
                    <a:pt x="900000" y="1800002"/>
                  </a:cubicBezTo>
                  <a:cubicBezTo>
                    <a:pt x="402944" y="1800002"/>
                    <a:pt x="1" y="1397058"/>
                    <a:pt x="1" y="900003"/>
                  </a:cubicBezTo>
                  <a:cubicBezTo>
                    <a:pt x="1" y="900002"/>
                    <a:pt x="1" y="900002"/>
                    <a:pt x="1" y="900002"/>
                  </a:cubicBezTo>
                  <a:lnTo>
                    <a:pt x="0" y="900000"/>
                  </a:lnTo>
                  <a:close/>
                  <a:moveTo>
                    <a:pt x="238950" y="900000"/>
                  </a:moveTo>
                  <a:lnTo>
                    <a:pt x="238950" y="900000"/>
                  </a:lnTo>
                  <a:cubicBezTo>
                    <a:pt x="238950" y="900000"/>
                    <a:pt x="238950" y="900000"/>
                    <a:pt x="238950" y="900000"/>
                  </a:cubicBezTo>
                  <a:cubicBezTo>
                    <a:pt x="238950" y="1265088"/>
                    <a:pt x="534911" y="1561050"/>
                    <a:pt x="899999" y="1561050"/>
                  </a:cubicBezTo>
                  <a:lnTo>
                    <a:pt x="899999" y="1561051"/>
                  </a:lnTo>
                  <a:cubicBezTo>
                    <a:pt x="1265086" y="1561051"/>
                    <a:pt x="1561049" y="1265088"/>
                    <a:pt x="1561049" y="900001"/>
                  </a:cubicBezTo>
                  <a:cubicBezTo>
                    <a:pt x="1561049" y="534913"/>
                    <a:pt x="1265086" y="238951"/>
                    <a:pt x="899999" y="238951"/>
                  </a:cubicBezTo>
                  <a:lnTo>
                    <a:pt x="899998" y="238951"/>
                  </a:lnTo>
                  <a:cubicBezTo>
                    <a:pt x="899998" y="238951"/>
                    <a:pt x="899998" y="238951"/>
                    <a:pt x="899998" y="238951"/>
                  </a:cubicBezTo>
                  <a:cubicBezTo>
                    <a:pt x="534910" y="238951"/>
                    <a:pt x="238948" y="534912"/>
                    <a:pt x="238948" y="900000"/>
                  </a:cubicBezTo>
                  <a:lnTo>
                    <a:pt x="238950" y="900000"/>
                  </a:ln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484" name="Group 63"/>
          <p:cNvGrpSpPr/>
          <p:nvPr/>
        </p:nvGrpSpPr>
        <p:grpSpPr>
          <a:xfrm>
            <a:off x="5154480" y="2708280"/>
            <a:ext cx="544680" cy="546120"/>
            <a:chOff x="5154480" y="2708280"/>
            <a:chExt cx="544680" cy="546120"/>
          </a:xfrm>
        </p:grpSpPr>
        <p:sp>
          <p:nvSpPr>
            <p:cNvPr id="485" name="타원 154"/>
            <p:cNvSpPr/>
            <p:nvPr/>
          </p:nvSpPr>
          <p:spPr>
            <a:xfrm>
              <a:off x="5154480" y="2708280"/>
              <a:ext cx="544680" cy="5461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타원 155"/>
            <p:cNvSpPr/>
            <p:nvPr/>
          </p:nvSpPr>
          <p:spPr>
            <a:xfrm>
              <a:off x="5186160" y="2739960"/>
              <a:ext cx="481320" cy="48276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도넛 156"/>
            <p:cNvSpPr/>
            <p:nvPr/>
          </p:nvSpPr>
          <p:spPr>
            <a:xfrm>
              <a:off x="5154480" y="2708280"/>
              <a:ext cx="544680" cy="546120"/>
            </a:xfrm>
            <a:custGeom>
              <a:avLst/>
              <a:gdLst>
                <a:gd name="textAreaLeft" fmla="*/ 79560 w 544680"/>
                <a:gd name="textAreaRight" fmla="*/ 465120 w 544680"/>
                <a:gd name="textAreaTop" fmla="*/ 79920 h 546120"/>
                <a:gd name="textAreaBottom" fmla="*/ 466200 h 546120"/>
              </a:gdLst>
              <a:ahLst/>
              <a:rect l="textAreaLeft" t="textAreaTop" r="textAreaRight" b="textAreaBottom"/>
              <a:pathLst>
                <a:path w="1089135" h="1089135">
                  <a:moveTo>
                    <a:pt x="0" y="544568"/>
                  </a:moveTo>
                  <a:lnTo>
                    <a:pt x="0" y="544568"/>
                  </a:lnTo>
                  <a:cubicBezTo>
                    <a:pt x="0" y="243811"/>
                    <a:pt x="243811" y="1"/>
                    <a:pt x="544568" y="1"/>
                  </a:cubicBezTo>
                  <a:cubicBezTo>
                    <a:pt x="544568" y="1"/>
                    <a:pt x="544568" y="1"/>
                    <a:pt x="544568" y="1"/>
                  </a:cubicBezTo>
                  <a:cubicBezTo>
                    <a:pt x="845325" y="1"/>
                    <a:pt x="1089136" y="243812"/>
                    <a:pt x="1089136" y="544569"/>
                  </a:cubicBezTo>
                  <a:cubicBezTo>
                    <a:pt x="1089136" y="544569"/>
                    <a:pt x="1089135" y="544569"/>
                    <a:pt x="1089135" y="544570"/>
                  </a:cubicBezTo>
                  <a:lnTo>
                    <a:pt x="1089136" y="544570"/>
                  </a:lnTo>
                  <a:cubicBezTo>
                    <a:pt x="1089136" y="845326"/>
                    <a:pt x="845324" y="1089138"/>
                    <a:pt x="544568" y="1089138"/>
                  </a:cubicBezTo>
                  <a:cubicBezTo>
                    <a:pt x="243811" y="1089138"/>
                    <a:pt x="0" y="845326"/>
                    <a:pt x="0" y="544570"/>
                  </a:cubicBezTo>
                  <a:cubicBezTo>
                    <a:pt x="0" y="544569"/>
                    <a:pt x="0" y="544569"/>
                    <a:pt x="0" y="544569"/>
                  </a:cubicBezTo>
                  <a:lnTo>
                    <a:pt x="0" y="544568"/>
                  </a:lnTo>
                  <a:close/>
                  <a:moveTo>
                    <a:pt x="144583" y="544568"/>
                  </a:moveTo>
                  <a:lnTo>
                    <a:pt x="144583" y="544568"/>
                  </a:lnTo>
                  <a:cubicBezTo>
                    <a:pt x="144583" y="765473"/>
                    <a:pt x="323662" y="944553"/>
                    <a:pt x="544568" y="944553"/>
                  </a:cubicBezTo>
                  <a:cubicBezTo>
                    <a:pt x="765473" y="944553"/>
                    <a:pt x="944553" y="765473"/>
                    <a:pt x="944553" y="544568"/>
                  </a:cubicBezTo>
                  <a:cubicBezTo>
                    <a:pt x="944553" y="323662"/>
                    <a:pt x="765473" y="144583"/>
                    <a:pt x="544568" y="144583"/>
                  </a:cubicBezTo>
                  <a:lnTo>
                    <a:pt x="544567" y="144583"/>
                  </a:lnTo>
                  <a:cubicBezTo>
                    <a:pt x="323662" y="144583"/>
                    <a:pt x="144583" y="323662"/>
                    <a:pt x="144583" y="544568"/>
                  </a:cubicBezTo>
                  <a:close/>
                </a:path>
              </a:pathLst>
            </a:custGeom>
            <a:solidFill>
              <a:srgbClr val="ffffff">
                <a:alpha val="1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488" name="TextBox 173"/>
          <p:cNvSpPr/>
          <p:nvPr/>
        </p:nvSpPr>
        <p:spPr>
          <a:xfrm>
            <a:off x="5129640" y="196992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STEP 1</a:t>
            </a:r>
            <a:endParaRPr b="0" lang="en-US" sz="1000" spc="-1" strike="noStrike">
              <a:solidFill>
                <a:srgbClr val="000000"/>
              </a:solidFill>
              <a:latin typeface="Gulim"/>
            </a:endParaRPr>
          </a:p>
        </p:txBody>
      </p:sp>
      <p:sp>
        <p:nvSpPr>
          <p:cNvPr id="489" name="TextBox 176"/>
          <p:cNvSpPr/>
          <p:nvPr/>
        </p:nvSpPr>
        <p:spPr>
          <a:xfrm>
            <a:off x="5129640" y="286056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STEP 2</a:t>
            </a:r>
            <a:endParaRPr b="0" lang="en-US" sz="1000" spc="-1" strike="noStrike">
              <a:solidFill>
                <a:srgbClr val="000000"/>
              </a:solidFill>
              <a:latin typeface="Gulim"/>
            </a:endParaRPr>
          </a:p>
        </p:txBody>
      </p:sp>
      <p:sp>
        <p:nvSpPr>
          <p:cNvPr id="490" name="TextBox 178"/>
          <p:cNvSpPr/>
          <p:nvPr/>
        </p:nvSpPr>
        <p:spPr>
          <a:xfrm>
            <a:off x="5129640" y="375120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STEP 3</a:t>
            </a:r>
            <a:endParaRPr b="0" lang="en-US" sz="1000" spc="-1" strike="noStrike">
              <a:solidFill>
                <a:srgbClr val="000000"/>
              </a:solidFill>
              <a:latin typeface="Gulim"/>
            </a:endParaRPr>
          </a:p>
        </p:txBody>
      </p:sp>
      <p:sp>
        <p:nvSpPr>
          <p:cNvPr id="491" name="TextBox 179"/>
          <p:cNvSpPr/>
          <p:nvPr/>
        </p:nvSpPr>
        <p:spPr>
          <a:xfrm>
            <a:off x="5129640" y="464184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STEP 4</a:t>
            </a:r>
            <a:endParaRPr b="0" lang="en-US" sz="1000" spc="-1" strike="noStrike">
              <a:solidFill>
                <a:srgbClr val="000000"/>
              </a:solidFill>
              <a:latin typeface="Gulim"/>
            </a:endParaRPr>
          </a:p>
        </p:txBody>
      </p:sp>
      <p:sp>
        <p:nvSpPr>
          <p:cNvPr id="492" name="TextBox 180"/>
          <p:cNvSpPr/>
          <p:nvPr/>
        </p:nvSpPr>
        <p:spPr>
          <a:xfrm>
            <a:off x="5129640" y="5532480"/>
            <a:ext cx="57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견고딕"/>
                <a:ea typeface="HY견고딕"/>
              </a:rPr>
              <a:t>STEP 5</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5-07-20T12:37:49Z</dcterms:modified>
  <cp:revision>1</cp:revision>
  <dc:subject/>
  <dc:title>PowerPoint 演示文稿</dc:title>
</cp:coreProperties>
</file>