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1AB-759E-4876-A42E-150CA9CD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475-A9E4-4E2D-99CD-EDBA3279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7E6-1F09-46E3-932A-54E580D3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ADA-2A74-4BF7-81F6-8FC2821E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DBF1-E85A-4DA1-88E7-2314E9FD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8489-6ACE-4310-96CA-8053DD6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7FC1-E7D3-46F9-A4DC-45B961FB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E608-5C36-443C-AE93-55434F38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473-A556-4FBC-93E7-6137BF5A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DB70-28B5-4321-826F-69468EA0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23B-BAA0-4904-BF21-5FE61489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941-D91A-440A-A61F-773BD853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9046-0CAB-4617-8BEE-4CAB580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DF1A-406C-492A-89E7-E772804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6229-5F24-4D0B-8CA2-9FC948BA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BFCE-1439-4A0B-86EB-A5EC20D6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BA0B-8250-41DC-8F4C-680E063B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794-981A-4871-9A80-909BC3FF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645-0216-4AB5-88D9-429AE984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BD7-8D26-4DBA-B1D5-83E294AE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5D8-515D-4401-A880-AE6BF430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ADD-0BC2-4703-913A-F5790187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56D-6FC0-4382-9698-3084C059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1D4-F887-4712-AA12-CE09245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DBCB-FB8F-469E-8EFB-F47152977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EE65-EB42-4BCE-9191-90B0EB75527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breeze.wav" TargetMode="External"/><Relationship Id="rId4" Type="http://schemas.microsoft.com/office/2007/relationships/media" Target="file:///tmp/home/.config/libreoffice/4/user/gallery/breeze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file:///tmp/home/.config/libreoffice/4/user/gallery/wind.wav" TargetMode="External"/><Relationship Id="rId4" Type="http://schemas.microsoft.com/office/2007/relationships/media" Target="file:///tmp/home/.config/libreoffice/4/user/gallery/wind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020070725600862612190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482800" y="533520"/>
            <a:ext cx="3660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夜书所见 </a:t>
            </a:r>
            <a:br>
              <a:rPr sz="40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叶绍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5105520" y="205740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萧萧梧叶送寒声，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江上秋风动客情。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知有儿童挑促织，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夜深篱落一灯明。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800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20" y="76320"/>
            <a:ext cx="139932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古诗两首语文课件免费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725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萧萧秋风吹动梧桐树叶，送来阵阵寒意。这个时候，客游在外的诗人不禁思念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324480" y="4038480"/>
            <a:ext cx="25909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762120" y="4800600"/>
            <a:ext cx="14475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860400" y="1211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自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066680" y="33526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 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自己的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乡。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685800" y="1676520"/>
            <a:ext cx="86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知有儿童挑促织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480" y="33526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深篱落一灯明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762120" y="762120"/>
            <a:ext cx="86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知有儿童挑促织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5800" y="3657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深篱落一灯明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57200" y="2362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知：料想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76720" y="23623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挑：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7">
            <a:hlinkClick r:id="" action="ppaction://hlinkshowjump?jump=nextslide"/>
          </p:cNvPr>
          <p:cNvSpPr/>
          <p:nvPr/>
        </p:nvSpPr>
        <p:spPr>
          <a:xfrm>
            <a:off x="5486400" y="2362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促织：蟋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981080" y="53341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篱落：篱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740720" y="5805360"/>
            <a:ext cx="792000" cy="79236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92360"/>
              <a:gd name="textAreaBottom" fmla="*/ 743040 h 79236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50" y="20260"/>
                </a:lnTo>
                <a:lnTo>
                  <a:pt x="20250" y="135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350" y="20260"/>
                </a:lnTo>
                <a:lnTo>
                  <a:pt x="20250" y="2026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6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他料想有孩子正在草地上捉蟋蟀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原因是他看到了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此时可能又想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心里会产生一种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304920" y="3657600"/>
            <a:ext cx="36576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7467480" y="4724280"/>
            <a:ext cx="9144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21337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                                    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篱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笆下边有灯火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80880" y="5486400"/>
            <a:ext cx="2133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7924680" y="2895480"/>
            <a:ext cx="5335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57200" y="4724280"/>
            <a:ext cx="28954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61880" y="4038480"/>
            <a:ext cx="22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童年的生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75720" y="3962520"/>
            <a:ext cx="730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       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亲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切之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W020070725600862612190"/>
          <p:cNvPicPr/>
          <p:nvPr/>
        </p:nvPicPr>
        <p:blipFill>
          <a:blip r:embed="rId2"/>
          <a:stretch/>
        </p:blipFill>
        <p:spPr>
          <a:xfrm>
            <a:off x="457200" y="380880"/>
            <a:ext cx="3581280" cy="5867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4419720" y="228600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萧萧梧叶送寒声，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江上秋风动客情。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知有儿童挑促织，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夜深篱落一灯明。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81480" y="380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夜书所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638680" y="137160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叶绍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3"/>
          <p:cNvSpPr txBox="1"/>
          <p:nvPr/>
        </p:nvSpPr>
        <p:spPr>
          <a:xfrm>
            <a:off x="3200400" y="68580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译文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3520" y="3048120"/>
            <a:ext cx="8305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萧萧秋风吹动梧桐树叶，送来阵阵寒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客游在外的诗人不禁思念起自己的家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他忽然看到远处篱笆下的灯火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猜想那是孩子们在捉蟋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Picture 5" descr="2"/>
          <p:cNvPicPr/>
          <p:nvPr/>
        </p:nvPicPr>
        <p:blipFill>
          <a:blip r:embed="rId2"/>
          <a:stretch/>
        </p:blipFill>
        <p:spPr>
          <a:xfrm>
            <a:off x="0" y="15228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夜书所见"/>
          <p:cNvPicPr/>
          <p:nvPr/>
        </p:nvPicPr>
        <p:blipFill>
          <a:blip r:embed="rId2"/>
          <a:stretch/>
        </p:blipFill>
        <p:spPr>
          <a:xfrm>
            <a:off x="1143000" y="685800"/>
            <a:ext cx="3048120" cy="5410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5013000" y="990720"/>
            <a:ext cx="2564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知有儿童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挑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促织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夜深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篱落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一灯明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"/>
          <p:cNvPicPr/>
          <p:nvPr/>
        </p:nvPicPr>
        <p:blipFill>
          <a:blip r:embed="rId2"/>
          <a:stretch/>
        </p:blipFill>
        <p:spPr>
          <a:xfrm>
            <a:off x="0" y="-252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143000" y="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书所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200400" y="1066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叶 绍 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1371600" y="1676520"/>
            <a:ext cx="6095880" cy="4724280"/>
            <a:chOff x="1371600" y="1676520"/>
            <a:chExt cx="6095880" cy="4724280"/>
          </a:xfrm>
        </p:grpSpPr>
        <p:sp>
          <p:nvSpPr>
            <p:cNvPr id="149" name="AutoShape 6"/>
            <p:cNvSpPr/>
            <p:nvPr/>
          </p:nvSpPr>
          <p:spPr>
            <a:xfrm>
              <a:off x="1371600" y="1676520"/>
              <a:ext cx="6095880" cy="4724280"/>
            </a:xfrm>
            <a:prstGeom prst="flowChartAlternateProcess">
              <a:avLst/>
            </a:prstGeom>
            <a:solidFill>
              <a:srgbClr val="33cc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981080" y="1981440"/>
              <a:ext cx="5181840" cy="41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萧萧梧叶送寒声，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江上秋风动客情。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知有儿童挑促织，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夜深篱落一灯明。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2" name="Picture 3" descr="gugaung1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1080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828720" y="0"/>
            <a:ext cx="237492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有一年秋天，叶绍翁离开家乡，一个人远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外地。一天晚上，风吹着梧桐树哗啦啦地响，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像在说：“秋天到了。”连树叶都怕冷起来。看着一江秋水，满天的黑暗，听着秋风吹动树叶的声音，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到自己漂泊在外，诗人怎么都睡不着，心里觉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更加寒冷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夜书所见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8301240" y="0"/>
            <a:ext cx="790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忽然透过窗户，他看到不远处的篱笆间有盏灯火，仔细一看，原来是几个孩子用细枝从缝穴中小心翼翼地捉蟋蟀，尽管已经很晚了，却玩得十分投入。诗人不禁想起自己小时候跟小伙伴们一起捉蟋蟀、捉蝴蝶、逮小鱼的快乐情景，那时也是这样的无忧无虑啊！可时光过得飞快，自己早已告别了那美好的童年，此时此刻一个人远离家乡，漂泊在外。于是，诗人起身坐到书桌前，在寒冷的秋夜里提笔写下自己所看到的景象，表达自己思念家乡的心情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2" descr="3118461266978135513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09480" y="129528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萧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xiāo xiāo)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梧叶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(wú  y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篱落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(lí luò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)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知道（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zhī dào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　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寒声（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hán shēn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客情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kè qíng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挑促织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tiǎo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cù zhī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灯明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dēng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míng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8E1C-A869-4CF6-BBFE-087FF2E99B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夜书所见  电子课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你觉得这首诗表达了一种怎样的感情？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000" y="3860640"/>
            <a:ext cx="90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诗人客游在外，看到秋风落叶，篱落灯明，不禁勾起思念家乡的思想感情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447560" y="838080"/>
            <a:ext cx="6525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这首诗先写客游在外，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由看到远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篱笆下的灯火，料想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不禁回忆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于是那种              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被                      所代替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620120" y="1523880"/>
            <a:ext cx="838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762120" y="2286000"/>
            <a:ext cx="4419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53080" y="2819520"/>
            <a:ext cx="1981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685800" y="3581280"/>
            <a:ext cx="1447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5410080" y="3505320"/>
            <a:ext cx="3200400" cy="75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609480" y="4267080"/>
            <a:ext cx="2743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5867280" y="4191120"/>
            <a:ext cx="2210040" cy="75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1295280" y="4876920"/>
            <a:ext cx="3429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929160" y="838080"/>
            <a:ext cx="735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秋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落叶，感到郁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161000" y="2133720"/>
            <a:ext cx="682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小孩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蟋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1229760" y="2819520"/>
            <a:ext cx="681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自己的故乡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童年的生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239880" y="342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郁闷之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2693520" y="41911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种亲切之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320" y="696600"/>
            <a:ext cx="26096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代表作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1341360"/>
            <a:ext cx="831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宋体"/>
              </a:rPr>
              <a:t>　</a:t>
            </a:r>
            <a:r>
              <a:rPr b="0" lang="zh-CN" sz="4400" spc="-1" strike="noStrike">
                <a:solidFill>
                  <a:srgbClr val="0f0601"/>
                </a:solidFill>
                <a:latin typeface="宋体"/>
              </a:rPr>
              <a:t>游园不值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f0601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0f0601"/>
                </a:solidFill>
                <a:latin typeface="宋体"/>
              </a:rPr>
              <a:t>叶绍翁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应怜屐齿印苍台， 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小扣柴扉久不开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春色满园关不住，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一枝红杏出墙来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注释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3360" y="129528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游园不值 ： 我在游园时没有遇到主人。　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应：大概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值：遇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怜：怜惜，爱惜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屐齿：古代木鞋下的木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苍苔：生长在阴暗潮湿地方的苔藓植物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扣：轻轻地敲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柴扉：用树枝编成的简陋的柴门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译文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大概是院子的主人爱惜青苔，怕我的木屐在上面留下脚印吧，轻轻地敲柴门，好久也没人来开门。可是满园子的春色毕竟是关不住的，开得正旺的红杏有一枝枝条已经伸到墙外来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解读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】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诗人想去朋友的花园中观赏春色，但是敲了半天门，也没有人来开。主人大概不在家。也许是担心游人踏坏了地面的青苔，故意不开门。但是一扇柴门，虽然关住了游人，却关不住满园春色，一只红色的杏花，早已探出墙来。表达了作者对春天的喜爱之情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200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Arial"/>
                <a:ea typeface="楷体_GB2312"/>
              </a:rPr>
              <a:t>促</a:t>
            </a:r>
            <a:endParaRPr b="0" lang="en-US" sz="35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9903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3" marL="1328040" indent="0">
              <a:lnSpc>
                <a:spcPct val="90000"/>
              </a:lnSpc>
              <a:spcBef>
                <a:spcPts val="8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Arial"/>
                <a:ea typeface="楷体_GB2312"/>
              </a:rPr>
              <a:t>深</a:t>
            </a:r>
            <a:endParaRPr b="0" lang="en-US" sz="35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萧萧梧叶送寒声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江上秋风动客情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057400" y="6094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00200" y="14479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Picture 4" descr="生命1"/>
          <p:cNvPicPr/>
          <p:nvPr/>
        </p:nvPicPr>
        <p:blipFill>
          <a:blip r:embed="rId2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450720" y="1447920"/>
            <a:ext cx="8442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江上秋风动客情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68360" y="6094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萧萧梧叶送寒声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198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萧萧：风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050920" y="29242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送寒声：送来阵阵寒意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57200" y="4800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动客情：使客人产生了思念家乡之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395600" y="1995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梧叶：梧桐树的叶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诗中写了哪些景物？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梧叶     秋风     儿童     灯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促织     篱落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无言独上西楼，月如钩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寂寞梧桐深院锁清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李煜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相见欢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04920" y="4114800"/>
            <a:ext cx="8540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声桐叶一声秋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点芭蕉一点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徐再思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水仙子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夜雨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梧桐叶抒发了诗人什么感情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25146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据传晋人张翰官居洛阳，见秋风起而思念故乡，于是辞官回乡，了却心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江上秋风动客情”抒发了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诗人什么感情？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8:42Z</dcterms:created>
  <dc:creator/>
  <dc:description/>
  <cp:keywords>幻灯片之家 http:/www.eeppt.com</cp:keywords>
  <dc:language>en-US</dc:language>
  <cp:lastModifiedBy/>
  <dcterms:modified xsi:type="dcterms:W3CDTF">2015-07-20T03:06:08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