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type.wav" ContentType="audio/x-wav"/>
  <Override PartName="/ppt/media/camera.wav" ContentType="audio/x-wav"/>
  <Override PartName="/ppt/media/breeze.wav" ContentType="audio/x-wav"/>
  <Override PartName="/ppt/media/chimes.wav" ContentType="audio/x-wav"/>
  <Override PartName="/ppt/media/image10.png" ContentType="image/png"/>
  <Override PartName="/ppt/media/image17.png" ContentType="image/png"/>
  <Override PartName="/ppt/media/image21.png" ContentType="image/png"/>
  <Override PartName="/ppt/media/image7.png" ContentType="image/png"/>
  <Override PartName="/ppt/media/image24.png" ContentType="image/png"/>
  <Override PartName="/ppt/media/image1.png" ContentType="image/png"/>
  <Override PartName="/ppt/media/bomb.wav" ContentType="audio/x-wav"/>
  <Override PartName="/ppt/media/push.wav" ContentType="audio/x-wav"/>
  <Override PartName="/ppt/media/image23.png" ContentType="image/png"/>
  <Override PartName="/ppt/media/image13.jpeg" ContentType="image/jpeg"/>
  <Override PartName="/ppt/media/wind.wav" ContentType="audio/x-wav"/>
  <Override PartName="/ppt/media/image16.png" ContentType="image/png"/>
  <Override PartName="/ppt/media/image8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applause.wav" ContentType="audio/x-wav"/>
  <Override PartName="/ppt/media/image5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drumroll.wav" ContentType="audio/x-wav"/>
  <Override PartName="/ppt/media/image12.png" ContentType="image/png"/>
  <Override PartName="/ppt/media/coin.wav" ContentType="audio/x-wav"/>
  <Override PartName="/ppt/media/image11.png" ContentType="image/png"/>
  <Override PartName="/ppt/media/image14.png" ContentType="image/png"/>
  <Override PartName="/ppt/media/image22.jpeg" ContentType="image/jpeg"/>
  <Override PartName="/ppt/media/image9.png" ContentType="image/png"/>
  <Override PartName="/ppt/media/cashreg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979B-333D-456C-9E5C-C4D13D38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3A4-A542-4C4B-B959-DED5BE25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A12B-A8EB-4A00-BBD1-611FB87F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C225-FFC1-4BA2-BAD6-4D0A58E9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66C4-D806-4EE7-AA00-F0D83885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5C28-6ABF-4580-8795-BD3230E5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9BDA-47B2-44DB-AD54-BEB52C86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C6AB-999B-4C41-9D0C-E2B44A0D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0F6E-EDF5-4BE7-99CB-708EBA59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A3D8-B5FC-475D-8186-3207C9B7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8874-64EB-401C-98EC-94C1721F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2C4C-1EF7-4DFD-B4E8-D92544F0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5AD6-A929-472E-882C-31970C87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1703-0C79-4070-8A63-6CEB5676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4744-6F4C-45D3-9F6E-F5D465F4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76D7-2E5F-46E4-A1FB-3850A874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9181-28FE-4461-A44D-65E5A58C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C57C-BAA4-4517-A8C6-B562EFF9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312F-370D-4FC4-9253-B64EE95D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1419-EB7D-4DD9-AADC-90F683C4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6095-D81C-4845-BFC9-C08170A8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CF75-888A-4E9E-B049-B729DD49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313B-FA86-4D4D-BAF0-0161065F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7FD-1EEC-4332-B8E9-DCFC7713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4D3E-7A19-4B80-A14A-4C7A45AE0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5680"/>
            <a:ext cx="2429280" cy="2249640"/>
            <a:chOff x="7170480" y="-85680"/>
            <a:chExt cx="2429280" cy="22496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5680"/>
              <a:ext cx="2429280" cy="2249640"/>
              <a:chOff x="7170480" y="-85680"/>
              <a:chExt cx="2429280" cy="22496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5680"/>
                <a:ext cx="2429280" cy="2249640"/>
                <a:chOff x="7170480" y="-85680"/>
                <a:chExt cx="2429280" cy="22496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77880" y="112680"/>
                  <a:ext cx="24372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08560" y="523440"/>
                  <a:ext cx="42804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6160" y="285840"/>
                  <a:ext cx="8042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760" y="-27360"/>
                  <a:ext cx="1206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3840" y="1422360"/>
                  <a:ext cx="26892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4360" y="1278000"/>
                  <a:ext cx="28800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07760" y="328680"/>
                  <a:ext cx="28836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0160" y="219960"/>
                  <a:ext cx="28476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3640" y="4317840"/>
            <a:ext cx="982440" cy="1161000"/>
            <a:chOff x="7793640" y="4317840"/>
            <a:chExt cx="982440" cy="116100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88240" y="465588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1520" y="461880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3640" y="4317840"/>
              <a:ext cx="982440" cy="1161000"/>
              <a:chOff x="7793640" y="4317840"/>
              <a:chExt cx="982440" cy="116100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760" y="5059080"/>
                <a:ext cx="9360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5480" y="4649760"/>
                <a:ext cx="1058760" cy="4968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8800" y="4757040"/>
                <a:ext cx="749160" cy="2808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3640" y="4556520"/>
                <a:ext cx="100080" cy="1886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1120" y="475632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094B-5C22-411A-B467-FCE1558B4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256,-1,NEXT" TargetMode="External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8.png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256,-1,NEXT" TargetMode="External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905120" y="2590920"/>
            <a:ext cx="5790960" cy="838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给予是快乐的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课件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5562720" y="5181480"/>
            <a:ext cx="2361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9" descr="caihui2_203"/>
          <p:cNvPicPr/>
          <p:nvPr/>
        </p:nvPicPr>
        <p:blipFill>
          <a:blip r:embed="rId1"/>
          <a:stretch/>
        </p:blipFill>
        <p:spPr>
          <a:xfrm>
            <a:off x="3276720" y="0"/>
            <a:ext cx="1674720" cy="1752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caihui2_310"/>
          <p:cNvPicPr/>
          <p:nvPr/>
        </p:nvPicPr>
        <p:blipFill>
          <a:blip r:embed="rId2"/>
          <a:stretch/>
        </p:blipFill>
        <p:spPr>
          <a:xfrm>
            <a:off x="2514600" y="4343400"/>
            <a:ext cx="1752480" cy="1652760"/>
          </a:xfrm>
          <a:prstGeom prst="rect">
            <a:avLst/>
          </a:prstGeom>
          <a:ln w="0">
            <a:noFill/>
          </a:ln>
        </p:spPr>
      </p:pic>
      <p:sp>
        <p:nvSpPr>
          <p:cNvPr id="155" name="Oval 11"/>
          <p:cNvSpPr/>
          <p:nvPr/>
        </p:nvSpPr>
        <p:spPr>
          <a:xfrm>
            <a:off x="1981080" y="4724280"/>
            <a:ext cx="228600" cy="228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Oval 12"/>
          <p:cNvSpPr/>
          <p:nvPr/>
        </p:nvSpPr>
        <p:spPr>
          <a:xfrm>
            <a:off x="685800" y="3733920"/>
            <a:ext cx="1066680" cy="10666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WordArt 13"/>
          <p:cNvSpPr txBox="1"/>
          <p:nvPr/>
        </p:nvSpPr>
        <p:spPr>
          <a:xfrm>
            <a:off x="5410080" y="304920"/>
            <a:ext cx="2743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小学语文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  <p:sndAc>
      <p:stSnd>
        <p:snd r:embed="rId4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黑体"/>
              </a:rPr>
              <a:t>这段话是小男孩由心而发的，用最自然，最朴实的话，说出来却是那么的令人感动。在这里我们再次感到，小男孩纯洁无暇美好无私的心灵和乐观自信的性格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1295280" y="0"/>
            <a:ext cx="6870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24*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黑体"/>
              </a:rPr>
              <a:t>给予是快乐的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6" descr="juxie2_154"/>
          <p:cNvPicPr/>
          <p:nvPr/>
        </p:nvPicPr>
        <p:blipFill>
          <a:blip r:embed="rId1"/>
          <a:stretch/>
        </p:blipFill>
        <p:spPr>
          <a:xfrm rot="20532000">
            <a:off x="0" y="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juxie2_190"/>
          <p:cNvPicPr/>
          <p:nvPr/>
        </p:nvPicPr>
        <p:blipFill>
          <a:blip r:embed="rId2"/>
          <a:srcRect l="1563" t="0" r="0" b="6251"/>
          <a:stretch/>
        </p:blipFill>
        <p:spPr>
          <a:xfrm rot="774000">
            <a:off x="5791320" y="4648320"/>
            <a:ext cx="2133360" cy="203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33520" y="2666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黑体"/>
              </a:rPr>
              <a:t>这个夜晚，保罗从内心里感受到，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给予是令人快乐的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6" descr="caihui1_345"/>
          <p:cNvPicPr/>
          <p:nvPr/>
        </p:nvPicPr>
        <p:blipFill>
          <a:blip r:embed="rId1"/>
          <a:stretch/>
        </p:blipFill>
        <p:spPr>
          <a:xfrm>
            <a:off x="0" y="0"/>
            <a:ext cx="1565280" cy="228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mojie2_164"/>
          <p:cNvPicPr/>
          <p:nvPr/>
        </p:nvPicPr>
        <p:blipFill>
          <a:blip r:embed="rId2"/>
          <a:stretch/>
        </p:blipFill>
        <p:spPr>
          <a:xfrm rot="785400">
            <a:off x="3123720" y="4647960"/>
            <a:ext cx="1725840" cy="2057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juxie2_080"/>
          <p:cNvPicPr/>
          <p:nvPr/>
        </p:nvPicPr>
        <p:blipFill>
          <a:blip r:embed="rId3"/>
          <a:stretch/>
        </p:blipFill>
        <p:spPr>
          <a:xfrm>
            <a:off x="7238880" y="4952880"/>
            <a:ext cx="1063800" cy="10638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24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*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黑体"/>
              </a:rPr>
              <a:t>给予是快乐的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  <p:sndAc>
      <p:stSnd>
        <p:snd r:embed="rId4" name="push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omic Sans MS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FA45-69EE-4EB0-8BC3-19A41DEC1666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2514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学习了这篇课文你有什么收获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你在日常生活中有过这样的体会吗？                                                     　　　　</a:t>
            </a:r>
            <a:r>
              <a:rPr b="1" lang="zh-CN" sz="3600" spc="-1" strike="noStrike">
                <a:solidFill>
                  <a:srgbClr val="703dff"/>
                </a:solidFill>
                <a:latin typeface="黑体"/>
                <a:ea typeface="黑体"/>
              </a:rPr>
              <a:t>（举例说明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5" descr="juxie2_080"/>
          <p:cNvPicPr/>
          <p:nvPr/>
        </p:nvPicPr>
        <p:blipFill>
          <a:blip r:embed="rId1"/>
          <a:stretch/>
        </p:blipFill>
        <p:spPr>
          <a:xfrm>
            <a:off x="7238880" y="4952880"/>
            <a:ext cx="1063800" cy="1063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juxie2_039"/>
          <p:cNvPicPr/>
          <p:nvPr/>
        </p:nvPicPr>
        <p:blipFill>
          <a:blip r:embed="rId2"/>
          <a:stretch/>
        </p:blipFill>
        <p:spPr>
          <a:xfrm>
            <a:off x="0" y="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chunv2_115"/>
          <p:cNvPicPr/>
          <p:nvPr/>
        </p:nvPicPr>
        <p:blipFill>
          <a:blip r:embed="rId3"/>
          <a:stretch/>
        </p:blipFill>
        <p:spPr>
          <a:xfrm>
            <a:off x="3733920" y="4419720"/>
            <a:ext cx="2065320" cy="26161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9"/>
          <p:cNvSpPr/>
          <p:nvPr/>
        </p:nvSpPr>
        <p:spPr>
          <a:xfrm>
            <a:off x="3200400" y="7621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33"/>
                </a:solidFill>
                <a:latin typeface="Comic Sans MS"/>
                <a:ea typeface="黑体"/>
              </a:rPr>
              <a:t>课文收获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  <p:sndAc>
      <p:stSnd>
        <p:snd r:embed="rId4" name="wind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给予  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快乐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3352680" y="2660040"/>
            <a:ext cx="2362320" cy="14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b200"/>
                </a:solidFill>
                <a:uFillTx/>
                <a:latin typeface="Arial"/>
                <a:ea typeface="黑体"/>
                <a:hlinkClick r:id="rId1"/>
              </a:rPr>
              <a:t>礼物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8" descr="caihui2_203"/>
          <p:cNvPicPr/>
          <p:nvPr/>
        </p:nvPicPr>
        <p:blipFill>
          <a:blip r:embed="rId2"/>
          <a:stretch/>
        </p:blipFill>
        <p:spPr>
          <a:xfrm rot="1033800">
            <a:off x="228600" y="228600"/>
            <a:ext cx="2257560" cy="2362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caihui2_310"/>
          <p:cNvPicPr/>
          <p:nvPr/>
        </p:nvPicPr>
        <p:blipFill>
          <a:blip r:embed="rId3"/>
          <a:stretch/>
        </p:blipFill>
        <p:spPr>
          <a:xfrm>
            <a:off x="6172200" y="4572000"/>
            <a:ext cx="2057400" cy="19382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push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66ff33"/>
                </a:solidFill>
                <a:uFillTx/>
                <a:latin typeface="Comic Sans MS"/>
                <a:ea typeface="黑体"/>
              </a:rPr>
              <a:t>赠语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447920" y="388620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Comic Sans MS"/>
              </a:rPr>
              <a:t>给予是快乐的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1600200" y="251460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Comic Sans MS"/>
              </a:rPr>
              <a:t>送人玫瑰，手有余香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8"/>
          <p:cNvSpPr/>
          <p:nvPr/>
        </p:nvSpPr>
        <p:spPr>
          <a:xfrm>
            <a:off x="641520" y="53496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1440" y="-228600"/>
            <a:ext cx="6870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24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*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黑体"/>
              </a:rPr>
              <a:t>给予是快乐的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7620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SzPct val="1542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自由轻声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的朗读课文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边读边想：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课文主要讲了一件什么事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12" descr="caihui2_162"/>
          <p:cNvPicPr/>
          <p:nvPr/>
        </p:nvPicPr>
        <p:blipFill>
          <a:blip r:embed="rId2"/>
          <a:stretch/>
        </p:blipFill>
        <p:spPr>
          <a:xfrm>
            <a:off x="0" y="0"/>
            <a:ext cx="1905120" cy="1824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caihui2_183"/>
          <p:cNvPicPr/>
          <p:nvPr/>
        </p:nvPicPr>
        <p:blipFill>
          <a:blip r:embed="rId3"/>
          <a:stretch/>
        </p:blipFill>
        <p:spPr>
          <a:xfrm>
            <a:off x="6324480" y="762120"/>
            <a:ext cx="2362320" cy="21762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breez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371600" y="2362320"/>
            <a:ext cx="685800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文中哪些地方给你留下了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深刻的印象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哪些地方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出乎你的意料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8" descr="juxie2_190"/>
          <p:cNvPicPr/>
          <p:nvPr/>
        </p:nvPicPr>
        <p:blipFill>
          <a:blip r:embed="rId2"/>
          <a:srcRect l="1563" t="0" r="0" b="6251"/>
          <a:stretch/>
        </p:blipFill>
        <p:spPr>
          <a:xfrm rot="774000">
            <a:off x="0" y="0"/>
            <a:ext cx="2133720" cy="2031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juxie2_080"/>
          <p:cNvPicPr/>
          <p:nvPr/>
        </p:nvPicPr>
        <p:blipFill>
          <a:blip r:embed="rId3"/>
          <a:stretch/>
        </p:blipFill>
        <p:spPr>
          <a:xfrm>
            <a:off x="7238880" y="4952880"/>
            <a:ext cx="1063800" cy="10638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5"/>
          <p:cNvSpPr/>
          <p:nvPr/>
        </p:nvSpPr>
        <p:spPr>
          <a:xfrm>
            <a:off x="1143000" y="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24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*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黑体"/>
              </a:rPr>
              <a:t>给予是快乐的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  <p:sndAc>
      <p:stSnd>
        <p:snd r:embed="rId4" name="bomb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男孩睁大了眼睛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是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车是你哥哥送给你的，你不用花一分钱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保罗点点头。 男孩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惊叹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地说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哇！ 我希望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…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6" descr="juxie2_080"/>
          <p:cNvPicPr/>
          <p:nvPr/>
        </p:nvPicPr>
        <p:blipFill>
          <a:blip r:embed="rId1"/>
          <a:stretch/>
        </p:blipFill>
        <p:spPr>
          <a:xfrm>
            <a:off x="7238880" y="5257800"/>
            <a:ext cx="1063800" cy="10638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8"/>
          <p:cNvSpPr/>
          <p:nvPr/>
        </p:nvSpPr>
        <p:spPr>
          <a:xfrm>
            <a:off x="914400" y="-22860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24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*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黑体"/>
              </a:rPr>
              <a:t>给予是快乐的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10" descr="caihui2_310"/>
          <p:cNvPicPr/>
          <p:nvPr/>
        </p:nvPicPr>
        <p:blipFill>
          <a:blip r:embed="rId2"/>
          <a:stretch/>
        </p:blipFill>
        <p:spPr>
          <a:xfrm>
            <a:off x="0" y="0"/>
            <a:ext cx="2286000" cy="21542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type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66320" y="228600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 u="sng">
                <a:solidFill>
                  <a:srgbClr val="66ff33"/>
                </a:solidFill>
                <a:uFillTx/>
                <a:latin typeface="黑体"/>
                <a:ea typeface="黑体"/>
              </a:rPr>
              <a:t>保罗以为男孩希望也有一个这样的哥哥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男孩却说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我希望自己也能当这样的哥哥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5" descr="chaojikatong2_0374"/>
          <p:cNvPicPr/>
          <p:nvPr/>
        </p:nvPicPr>
        <p:blipFill>
          <a:blip r:embed="rId1"/>
          <a:stretch/>
        </p:blipFill>
        <p:spPr>
          <a:xfrm>
            <a:off x="457200" y="304920"/>
            <a:ext cx="1779480" cy="1904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juxie2_080"/>
          <p:cNvPicPr/>
          <p:nvPr/>
        </p:nvPicPr>
        <p:blipFill>
          <a:blip r:embed="rId2"/>
          <a:stretch/>
        </p:blipFill>
        <p:spPr>
          <a:xfrm>
            <a:off x="7162920" y="533412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caihui1_203"/>
          <p:cNvPicPr/>
          <p:nvPr/>
        </p:nvPicPr>
        <p:blipFill>
          <a:blip r:embed="rId3"/>
          <a:stretch/>
        </p:blipFill>
        <p:spPr>
          <a:xfrm>
            <a:off x="3341520" y="4724280"/>
            <a:ext cx="2035440" cy="21337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1295280" y="0"/>
            <a:ext cx="6870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24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*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黑体"/>
              </a:rPr>
              <a:t>给予是快乐的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  <p:sndAc>
      <p:stSnd>
        <p:snd r:embed="rId4" name="coin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391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SzPct val="1543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我希望自己也能当这样的哥哥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小男孩一心只想着给予，而不是获取的高尚品德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9" descr="juxie2_080"/>
          <p:cNvPicPr/>
          <p:nvPr/>
        </p:nvPicPr>
        <p:blipFill>
          <a:blip r:embed="rId2"/>
          <a:stretch/>
        </p:blipFill>
        <p:spPr>
          <a:xfrm>
            <a:off x="7238880" y="5334120"/>
            <a:ext cx="1063800" cy="1063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6" descr="juxie2_154"/>
          <p:cNvPicPr/>
          <p:nvPr/>
        </p:nvPicPr>
        <p:blipFill>
          <a:blip r:embed="rId3"/>
          <a:stretch/>
        </p:blipFill>
        <p:spPr>
          <a:xfrm rot="20532000">
            <a:off x="0" y="0"/>
            <a:ext cx="2435400" cy="24354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24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*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黑体"/>
              </a:rPr>
              <a:t>给予是快乐的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  <p:sndAc>
      <p:stSnd>
        <p:snd r:embed="rId4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保罗微微一笑，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黑体"/>
              </a:rPr>
              <a:t>他理解小男孩的想法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；坐一辆又大又漂亮的车子回家，在小朋友面前事很神气的事。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Comic Sans MS"/>
                <a:ea typeface="黑体"/>
              </a:rPr>
              <a:t>但是，保罗</a:t>
            </a:r>
            <a:r>
              <a:rPr b="1" lang="zh-CN" sz="3600" spc="-1" strike="noStrike" u="sng">
                <a:solidFill>
                  <a:srgbClr val="703dff"/>
                </a:solidFill>
                <a:uFillTx/>
                <a:latin typeface="Comic Sans MS"/>
                <a:ea typeface="黑体"/>
              </a:rPr>
              <a:t>又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Comic Sans MS"/>
                <a:ea typeface="黑体"/>
              </a:rPr>
              <a:t>错了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6" descr="caihui2_162"/>
          <p:cNvPicPr/>
          <p:nvPr/>
        </p:nvPicPr>
        <p:blipFill>
          <a:blip r:embed="rId1"/>
          <a:stretch/>
        </p:blipFill>
        <p:spPr>
          <a:xfrm>
            <a:off x="0" y="0"/>
            <a:ext cx="2438280" cy="2163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mojie2_077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 rot="693000">
            <a:off x="6857640" y="4723920"/>
            <a:ext cx="1347840" cy="16052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121896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24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*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黑体"/>
              </a:rPr>
              <a:t>给予是快乐的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  <p:sndAc>
      <p:stSnd>
        <p:snd r:embed="rId3" name="drumrol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  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Comic Sans MS"/>
                <a:ea typeface="黑体"/>
              </a:rPr>
              <a:t>保罗的眼睛湿润了。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他下了车，把小弟弟抱进了车里。那个男孩眼睛里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黑体"/>
              </a:rPr>
              <a:t>闪着喜悦的光芒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，也坐了进去。</a:t>
            </a:r>
            <a:r>
              <a:rPr b="1" lang="zh-CN" sz="3600" spc="-1" strike="noStrike">
                <a:solidFill>
                  <a:srgbClr val="703dff"/>
                </a:solidFill>
                <a:latin typeface="Comic Sans MS"/>
                <a:ea typeface="黑体"/>
              </a:rPr>
              <a:t>他们三个人一起过了一个难忘的夜晚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6" descr="chaojikatong2_0383"/>
          <p:cNvPicPr/>
          <p:nvPr/>
        </p:nvPicPr>
        <p:blipFill>
          <a:blip r:embed="rId1"/>
          <a:stretch/>
        </p:blipFill>
        <p:spPr>
          <a:xfrm>
            <a:off x="0" y="0"/>
            <a:ext cx="2209680" cy="16398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mojie2_077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 rot="693000">
            <a:off x="7009920" y="4876560"/>
            <a:ext cx="1347840" cy="16048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24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*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黑体"/>
              </a:rPr>
              <a:t>给予是快乐的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09480" y="2362320"/>
            <a:ext cx="74678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看见了吗？很漂亮，对不对？这是他哥哥送给他的圣诞礼物！将来，我也要送你一辆这样的新车。到时候你就可以坐在车里，亲眼看看我跟你讲的那些好看的圣诞礼物了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8" descr="chaojikatong2_0285"/>
          <p:cNvPicPr/>
          <p:nvPr/>
        </p:nvPicPr>
        <p:blipFill>
          <a:blip r:embed="rId2"/>
          <a:stretch/>
        </p:blipFill>
        <p:spPr>
          <a:xfrm>
            <a:off x="0" y="0"/>
            <a:ext cx="1674720" cy="2286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mojie2_077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rot="693000">
            <a:off x="6857640" y="4723920"/>
            <a:ext cx="1347840" cy="16052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6"/>
          <p:cNvSpPr/>
          <p:nvPr/>
        </p:nvSpPr>
        <p:spPr>
          <a:xfrm>
            <a:off x="1295280" y="0"/>
            <a:ext cx="6870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24*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黑体"/>
              </a:rPr>
              <a:t>给予是快乐的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  <p:sndAc>
      <p:stSnd>
        <p:snd r:embed="rId4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5T12:33:10Z</dcterms:created>
  <dc:creator/>
  <dc:description/>
  <cp:keywords>幻灯片之家 http:/www.eeppt.com</cp:keywords>
  <dc:language>en-US</dc:language>
  <cp:lastModifiedBy/>
  <dcterms:modified xsi:type="dcterms:W3CDTF">2015-07-20T04:23:56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