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AA8-E64A-49B1-95C7-89D8A8B9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6C2-FB24-4F19-B2AB-516E9DE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A5D-365A-45A3-A21B-726D6FE5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5F2-C2EB-4C10-B9CA-68BD151B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B951-4695-4164-A786-E1894A59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43AE-B4F5-4B32-99AC-98627C59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E237-AD45-4166-9A54-32926A3A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CE1-B9D5-4B63-81EF-978B4C8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C725-8212-4BD1-B1CA-F77B1B71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573200" y="-25920"/>
            <a:ext cx="7113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31F2-A799-40ED-926C-88F66E4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036D-41C6-476E-90BB-D01BEE51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E40-B296-4CB8-83C7-34F3CE3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B3FF-C8FB-4D2D-AED9-639782A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97F-3EBB-4842-BC47-27E7814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A79F-E8F8-4E68-9D5F-AA061CDA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EBE2-94BD-4053-B58B-60FCC683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A5C-D759-48B3-AF4A-0CAA22E5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50D-25AE-486F-B3DD-1ECE94CC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C44-A01C-4E36-9BB0-5EDD6F7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95F-296B-4E72-9614-321149AE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573200" y="-25920"/>
            <a:ext cx="7113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1CA-84D3-4B2F-8269-67C46CF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B48-FC0E-4614-A319-F3F803A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257-7963-4540-85A2-FA2D71B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FB2-2496-4F81-848B-15CB201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561" t="5424" r="1561" b="19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-969840" y="-1033560"/>
            <a:ext cx="4024080" cy="357048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"/>
          <p:cNvPicPr/>
          <p:nvPr/>
        </p:nvPicPr>
        <p:blipFill>
          <a:blip r:embed="rId4"/>
          <a:stretch/>
        </p:blipFill>
        <p:spPr>
          <a:xfrm>
            <a:off x="5572080" y="78588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3" name="矩形 21"/>
          <p:cNvSpPr/>
          <p:nvPr/>
        </p:nvSpPr>
        <p:spPr>
          <a:xfrm>
            <a:off x="0" y="2654280"/>
            <a:ext cx="9144000" cy="1714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2666880"/>
            <a:ext cx="9144000" cy="1800"/>
            <a:chOff x="0" y="2666880"/>
            <a:chExt cx="9144000" cy="1800"/>
          </a:xfrm>
        </p:grpSpPr>
        <p:sp>
          <p:nvSpPr>
            <p:cNvPr id="5" name="直接连接符 24"/>
            <p:cNvSpPr/>
            <p:nvPr/>
          </p:nvSpPr>
          <p:spPr>
            <a:xfrm>
              <a:off x="0" y="2666880"/>
              <a:ext cx="9144000" cy="1800"/>
            </a:xfrm>
            <a:prstGeom prst="line">
              <a:avLst/>
            </a:prstGeom>
            <a:ln w="19080">
              <a:solidFill>
                <a:srgbClr val="eaf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 txBox="1"/>
            <p:nvPr/>
          </p:nvSpPr>
          <p:spPr>
            <a:xfrm>
              <a:off x="0" y="266688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0" y="4381560"/>
            <a:ext cx="9144000" cy="1440"/>
            <a:chOff x="0" y="4381560"/>
            <a:chExt cx="9144000" cy="1440"/>
          </a:xfrm>
        </p:grpSpPr>
        <p:sp>
          <p:nvSpPr>
            <p:cNvPr id="8" name="直接连接符 27"/>
            <p:cNvSpPr/>
            <p:nvPr/>
          </p:nvSpPr>
          <p:spPr>
            <a:xfrm>
              <a:off x="0" y="4381560"/>
              <a:ext cx="9144000" cy="1440"/>
            </a:xfrm>
            <a:prstGeom prst="line">
              <a:avLst/>
            </a:prstGeom>
            <a:ln w="19080">
              <a:solidFill>
                <a:srgbClr val="eaf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0" y="438156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直接连接符 12"/>
          <p:cNvSpPr/>
          <p:nvPr/>
        </p:nvSpPr>
        <p:spPr>
          <a:xfrm>
            <a:off x="1357200" y="785880"/>
            <a:ext cx="77868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3857760" y="785880"/>
            <a:ext cx="1593720" cy="1000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15"/>
          <p:cNvSpPr/>
          <p:nvPr/>
        </p:nvSpPr>
        <p:spPr>
          <a:xfrm>
            <a:off x="7275600" y="785880"/>
            <a:ext cx="1576440" cy="1000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矩形 117"/>
          <p:cNvSpPr/>
          <p:nvPr/>
        </p:nvSpPr>
        <p:spPr>
          <a:xfrm>
            <a:off x="1601640" y="5713560"/>
            <a:ext cx="5940720" cy="7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矩形 18"/>
          <p:cNvSpPr/>
          <p:nvPr/>
        </p:nvSpPr>
        <p:spPr>
          <a:xfrm>
            <a:off x="3855960" y="785880"/>
            <a:ext cx="1594080" cy="1000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图片 19" descr=""/>
          <p:cNvPicPr/>
          <p:nvPr/>
        </p:nvPicPr>
        <p:blipFill>
          <a:blip r:embed="rId8"/>
          <a:stretch/>
        </p:blipFill>
        <p:spPr>
          <a:xfrm>
            <a:off x="5572080" y="785880"/>
            <a:ext cx="1593720" cy="1014480"/>
          </a:xfrm>
          <a:prstGeom prst="rect">
            <a:avLst/>
          </a:prstGeom>
          <a:ln w="0">
            <a:noFill/>
          </a:ln>
        </p:spPr>
      </p:pic>
      <p:sp>
        <p:nvSpPr>
          <p:cNvPr id="16" name="矩形 20"/>
          <p:cNvSpPr/>
          <p:nvPr/>
        </p:nvSpPr>
        <p:spPr>
          <a:xfrm>
            <a:off x="7286760" y="785880"/>
            <a:ext cx="1593720" cy="10000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矩形 21"/>
          <p:cNvSpPr/>
          <p:nvPr/>
        </p:nvSpPr>
        <p:spPr>
          <a:xfrm>
            <a:off x="3857760" y="785880"/>
            <a:ext cx="1592280" cy="10000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矩形 22"/>
          <p:cNvSpPr/>
          <p:nvPr/>
        </p:nvSpPr>
        <p:spPr>
          <a:xfrm>
            <a:off x="5572080" y="785880"/>
            <a:ext cx="1592280" cy="10000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23"/>
          <p:cNvSpPr/>
          <p:nvPr/>
        </p:nvSpPr>
        <p:spPr>
          <a:xfrm>
            <a:off x="7265880" y="785880"/>
            <a:ext cx="1592280" cy="10000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图片 14" descr=""/>
          <p:cNvPicPr/>
          <p:nvPr/>
        </p:nvPicPr>
        <p:blipFill>
          <a:blip r:embed="rId10"/>
          <a:srcRect l="14824" t="42067" r="31554" b="28964"/>
          <a:stretch/>
        </p:blipFill>
        <p:spPr>
          <a:xfrm>
            <a:off x="3646440" y="806400"/>
            <a:ext cx="4903920" cy="198756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B615-018F-4405-9598-FB98BCC5CA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D38E-02D7-4276-98C2-2217A616EC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Box 25"/>
          <p:cNvSpPr/>
          <p:nvPr/>
        </p:nvSpPr>
        <p:spPr>
          <a:xfrm>
            <a:off x="327240" y="415800"/>
            <a:ext cx="1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5" descr=""/>
          <p:cNvPicPr/>
          <p:nvPr/>
        </p:nvPicPr>
        <p:blipFill>
          <a:blip r:embed="rId2"/>
          <a:srcRect l="0" t="88442" r="0" b="0"/>
          <a:stretch/>
        </p:blipFill>
        <p:spPr>
          <a:xfrm>
            <a:off x="0" y="6230880"/>
            <a:ext cx="9144000" cy="627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3" descr=""/>
          <p:cNvPicPr/>
          <p:nvPr/>
        </p:nvPicPr>
        <p:blipFill>
          <a:blip r:embed="rId3"/>
          <a:srcRect l="0" t="0" r="0" b="80927"/>
          <a:stretch/>
        </p:blipFill>
        <p:spPr>
          <a:xfrm>
            <a:off x="-11160" y="-4680"/>
            <a:ext cx="9142560" cy="103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AAD-E5D9-4B44-A419-63525F40699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E84-18D6-487C-A0F8-B1B2BA66DB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642000" y="6235560"/>
            <a:ext cx="24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草檀斋毛泽东字体"/>
                <a:ea typeface="草檀斋毛泽东字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83960" y="15552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052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3520" y="29145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1"/>
          <p:cNvSpPr/>
          <p:nvPr/>
        </p:nvSpPr>
        <p:spPr>
          <a:xfrm>
            <a:off x="395280" y="1484280"/>
            <a:ext cx="8497800" cy="4321080"/>
          </a:xfrm>
          <a:prstGeom prst="roundRect">
            <a:avLst>
              <a:gd name="adj" fmla="val 535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58840" y="58831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 rot="10800000">
            <a:off x="342720" y="2123280"/>
            <a:ext cx="8453160" cy="3753000"/>
          </a:xfrm>
          <a:prstGeom prst="roundRect">
            <a:avLst>
              <a:gd name="adj" fmla="val 5301"/>
            </a:avLst>
          </a:prstGeom>
          <a:solidFill>
            <a:srgbClr val="ffffff">
              <a:alpha val="6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5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318960" y="1447920"/>
            <a:ext cx="3532320" cy="617400"/>
          </a:xfrm>
          <a:prstGeom prst="roundRect">
            <a:avLst>
              <a:gd name="adj" fmla="val 16667"/>
            </a:avLst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393840" y="202896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单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5490-71A1-4929-B1DF-112A032000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5:11:00Z</dcterms:created>
  <dc:creator>User</dc:creator>
  <dc:description/>
  <dc:language>en-US</dc:language>
  <cp:lastModifiedBy>雨林木风</cp:lastModifiedBy>
  <dcterms:modified xsi:type="dcterms:W3CDTF">2015-07-20T11:32:5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