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3C2-E850-4A63-935C-96D6E645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A14-2333-4A57-B121-025D125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309-5D32-422E-9FC4-E962EC6A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270-3132-4237-8500-6FEB2F79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92CE-83C2-4AEB-A3DA-C742AFA3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9968-6BAB-4392-8A67-598885B0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FC1F-E269-46A4-B950-10869425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BA4F-51CA-4260-8312-27FD83E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3743-0FBF-4416-B6C3-0FA2558C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408B-2E54-4E88-A938-EA232247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EFAD-28B3-40BA-81DC-4207A5BA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812-8678-4980-BC24-37DDD4E4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F07A-27BC-49B3-A6D5-0CD041CD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3A7B-CA0F-4C33-B526-CD27296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0DE7-E48B-4E1C-9A91-159F66F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50A5-B3F7-4225-BA53-376BA3B7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D8A2-7396-46D3-B9B7-99CF5775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BB4-03D4-4099-8771-AFEA9533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A09-1575-4D7D-8C40-6035CB4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E22-6701-4344-82FF-AD480810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FBF-E87C-42CC-9566-AE05CF8C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61E-2081-4551-9CEE-E63F78EF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4DB-E681-4C76-A376-076C51C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ECE-8709-455F-B35B-924E146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91A-A2F0-4BF8-B755-D9C6D0D5E4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F83D-D090-41D9-8C52-ED1BC8AD70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0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"/>
          <p:cNvPicPr/>
          <p:nvPr/>
        </p:nvPicPr>
        <p:blipFill>
          <a:blip r:embed="rId2"/>
          <a:stretch/>
        </p:blipFill>
        <p:spPr>
          <a:xfrm>
            <a:off x="-755640" y="-1467000"/>
            <a:ext cx="15908400" cy="1193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551_07"/>
          <p:cNvPicPr/>
          <p:nvPr/>
        </p:nvPicPr>
        <p:blipFill>
          <a:blip r:embed="rId17"/>
          <a:stretch/>
        </p:blipFill>
        <p:spPr>
          <a:xfrm>
            <a:off x="10072800" y="278136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51_11"/>
          <p:cNvPicPr/>
          <p:nvPr/>
        </p:nvPicPr>
        <p:blipFill>
          <a:blip r:embed="rId18"/>
          <a:stretch/>
        </p:blipFill>
        <p:spPr>
          <a:xfrm>
            <a:off x="-1184400" y="7242120"/>
            <a:ext cx="94320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点"/>
          <p:cNvPicPr/>
          <p:nvPr/>
        </p:nvPicPr>
        <p:blipFill>
          <a:blip r:embed="rId19">
            <a:lum bright="54000"/>
          </a:blip>
          <a:stretch/>
        </p:blipFill>
        <p:spPr>
          <a:xfrm>
            <a:off x="826920" y="3076560"/>
            <a:ext cx="7601040" cy="37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汽泡"/>
          <p:cNvPicPr/>
          <p:nvPr/>
        </p:nvPicPr>
        <p:blipFill>
          <a:blip r:embed="rId20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551_03"/>
          <p:cNvPicPr/>
          <p:nvPr/>
        </p:nvPicPr>
        <p:blipFill>
          <a:blip r:embed="rId21"/>
          <a:stretch/>
        </p:blipFill>
        <p:spPr>
          <a:xfrm>
            <a:off x="-2408400" y="2349360"/>
            <a:ext cx="857520" cy="1162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8000" y="6742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49480" y="189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蝴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31" name="Freeform 28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1118520"/>
                <a:gd name="textAreaBottom" fmla="*/ 1118880 h 111852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>
                <a:gd name="textAreaLeft" fmla="*/ 0 w 1191240"/>
                <a:gd name="textAreaRight" fmla="*/ 1191600 w 119124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Q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3080" y="-264960"/>
            <a:ext cx="9806040" cy="7360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A885-66AA-41E7-A19C-EDDA56F06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33:36Z</dcterms:created>
  <dc:creator>Administrator</dc:creator>
  <dc:description/>
  <dc:language>en-US</dc:language>
  <cp:lastModifiedBy>DBC</cp:lastModifiedBy>
  <dcterms:modified xsi:type="dcterms:W3CDTF">2015-07-20T09:52:29Z</dcterms:modified>
  <cp:revision>3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