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113-A0ED-4D90-91EC-3030AE74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DCD-9C5F-4D94-9FFE-F8CA014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FFF-30A2-4832-9782-782F6376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896-CF85-4344-8B88-BB412F70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DAA-1D1C-4078-A48E-11A2B4E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7CB-9F6D-461E-A862-33E05E8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664-8E1A-40DB-B9C9-8CF51FE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3E8-0188-4121-9DCB-16E9CA33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389-21F7-4746-B34D-88CCC75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4DB-9133-424E-B5B7-788D4F9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850-A325-4ACF-AA7C-619E36A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DD2-16CB-48DF-AEB7-A653FF9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397C-59AC-415C-9300-E23D51D0C0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25680" y="1851120"/>
            <a:ext cx="35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——</a:t>
            </a:r>
            <a:r>
              <a:rPr b="1" lang="en-US" sz="36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imple Powerful&amp;Free</a:t>
            </a:r>
            <a:endParaRPr b="0" lang="en-US" sz="36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金山软件公司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褚洪静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556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531520" y="811080"/>
            <a:ext cx="3382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灰色动态</a:t>
            </a: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PPT</a:t>
            </a: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模板</a:t>
            </a:r>
            <a:endParaRPr b="0" lang="en-US" sz="45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826320" y="2838600"/>
            <a:ext cx="551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 1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金山办公软件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oftwar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2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简洁简单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impl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3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高效有力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Powerful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4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免费自由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Fre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5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发展未来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Further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73040" y="749160"/>
            <a:ext cx="3063960" cy="1527120"/>
            <a:chOff x="473040" y="749160"/>
            <a:chExt cx="3063960" cy="1527120"/>
          </a:xfrm>
        </p:grpSpPr>
        <p:sp>
          <p:nvSpPr>
            <p:cNvPr id="51" name="TextBox 8"/>
            <p:cNvSpPr/>
            <p:nvPr/>
          </p:nvSpPr>
          <p:spPr>
            <a:xfrm>
              <a:off x="473040" y="815400"/>
              <a:ext cx="248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够范你就来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       ——</a:t>
              </a: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imple Powerful&amp;Free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2" name="TextBox 10"/>
            <p:cNvSpPr/>
            <p:nvPr/>
          </p:nvSpPr>
          <p:spPr>
            <a:xfrm>
              <a:off x="2212560" y="1816560"/>
              <a:ext cx="10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目录</a:t>
              </a:r>
              <a:endParaRPr b="0" lang="en-US" sz="2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3" name="矩形 11"/>
            <p:cNvSpPr/>
            <p:nvPr/>
          </p:nvSpPr>
          <p:spPr>
            <a:xfrm>
              <a:off x="1779480" y="183960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" name="矩形 12"/>
            <p:cNvSpPr/>
            <p:nvPr/>
          </p:nvSpPr>
          <p:spPr>
            <a:xfrm>
              <a:off x="2302200" y="749160"/>
              <a:ext cx="1234800" cy="1008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1640" y="40258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3737"/>
                </a:solidFill>
                <a:uFillTx/>
                <a:latin typeface="Calibri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111111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251-E367-4B69-A646-151D4154EE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36520" y="244440"/>
            <a:ext cx="3063960" cy="1769040"/>
            <a:chOff x="236520" y="244440"/>
            <a:chExt cx="3063960" cy="1769040"/>
          </a:xfrm>
        </p:grpSpPr>
        <p:sp>
          <p:nvSpPr>
            <p:cNvPr id="64" name="TextBox 8"/>
            <p:cNvSpPr/>
            <p:nvPr/>
          </p:nvSpPr>
          <p:spPr>
            <a:xfrm>
              <a:off x="236520" y="310680"/>
              <a:ext cx="248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够范你就来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       ——</a:t>
              </a: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imple Powerful&amp;Free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1960200" y="1280160"/>
              <a:ext cx="1324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金山办公软件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oftware</a:t>
              </a:r>
              <a:endParaRPr b="0" lang="en-US" sz="1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6" name="矩形 11"/>
            <p:cNvSpPr/>
            <p:nvPr/>
          </p:nvSpPr>
          <p:spPr>
            <a:xfrm>
              <a:off x="1542960" y="133452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7" name="矩形 12"/>
            <p:cNvSpPr/>
            <p:nvPr/>
          </p:nvSpPr>
          <p:spPr>
            <a:xfrm>
              <a:off x="2065680" y="244440"/>
              <a:ext cx="1234800" cy="1008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68" name="TextBox 10"/>
          <p:cNvSpPr/>
          <p:nvPr/>
        </p:nvSpPr>
        <p:spPr>
          <a:xfrm>
            <a:off x="3565440" y="1201680"/>
            <a:ext cx="2795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在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8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诞生自一个叫求伯君的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4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岁年轻人之手。而这个产品也成就了这个年轻人，不仅使他成为国内软件业的元老级人物，还令他以此为基础扬名立万、发家致富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“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求伯君用一台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386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电脑撰写了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1.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，当时他的肝病发作三次。”金山资深员工透露当年的求伯君如此清贫、勤奋和辛苦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9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到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94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金山和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如日中天。”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据介绍，当年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批发价是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20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元，年销售量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3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万多套，销售额超过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660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万元。对于当时个人创业企业来说，简直就是一个天文数字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197240" y="1819440"/>
            <a:ext cx="17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感谢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观赏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767560" y="3527280"/>
            <a:ext cx="301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6:12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0c05000000000001024140</vt:lpwstr>
  </property>
</Properties>
</file>