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7B6-EF47-47F1-92EA-9F13FA4E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9A9-429A-4828-AF3A-6A2E7D0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F6D-BAEA-40CE-BA3F-795DE41C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287-0C24-4092-8519-21D6A72B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43F-9493-4CC8-BCB6-413A66F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14A-5541-4B04-930C-88AAB0A1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859-AC67-4BB1-B070-F5023A1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001-CF15-41C1-B790-E716947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DAD-632F-461A-A41A-2F84D9C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7B2-7295-4286-AEB2-4A0DFCA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EB4-3BBE-4F2F-B908-17BC70CA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412-E936-4B10-B0AB-FD37FFD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2CF3-49AE-4988-BEB1-5C03338C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Owner\My Documents\My Pictures\1_副本_副本.png"/>
          <p:cNvPicPr/>
          <p:nvPr/>
        </p:nvPicPr>
        <p:blipFill>
          <a:blip r:embed="rId2"/>
          <a:stretch/>
        </p:blipFill>
        <p:spPr>
          <a:xfrm rot="386400">
            <a:off x="-1692000" y="6521040"/>
            <a:ext cx="1339920" cy="687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486400" y="152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E:\ppt模板\个人作品\鱼\gucn_2011102786630161139pic2_副本_副本_副本_副本.png"/>
          <p:cNvPicPr/>
          <p:nvPr/>
        </p:nvPicPr>
        <p:blipFill>
          <a:blip r:embed="rId3"/>
          <a:stretch/>
        </p:blipFill>
        <p:spPr>
          <a:xfrm>
            <a:off x="6095880" y="4038480"/>
            <a:ext cx="115272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3440" y="3246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0720" y="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58698 -0.38945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2336 L 0.12257 -0.13483 C 0.16111 -0.16859 0.18333 -0.22017 0.18559 -0.27636 C 0.18819 -0.3395 0.171 -0.39315 0.13403 -0.43178 L -0.01667 -0.6161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11600" y="95760"/>
            <a:ext cx="1535040" cy="1239840"/>
            <a:chOff x="111600" y="95760"/>
            <a:chExt cx="1535040" cy="1239840"/>
          </a:xfrm>
        </p:grpSpPr>
        <p:pic>
          <p:nvPicPr>
            <p:cNvPr id="48" name="Picture 2" descr="C:\Documents and Settings\Owner\My Documents\My Pictures\1_副本_副本.png"/>
            <p:cNvPicPr/>
            <p:nvPr/>
          </p:nvPicPr>
          <p:blipFill>
            <a:blip r:embed="rId1"/>
            <a:stretch/>
          </p:blipFill>
          <p:spPr>
            <a:xfrm rot="4456800">
              <a:off x="145800" y="348480"/>
              <a:ext cx="97344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C:\Documents and Settings\Owner\My Documents\My Pictures\1_副本_副本.png"/>
            <p:cNvPicPr/>
            <p:nvPr/>
          </p:nvPicPr>
          <p:blipFill>
            <a:blip r:embed="rId2"/>
            <a:stretch/>
          </p:blipFill>
          <p:spPr>
            <a:xfrm rot="14283000">
              <a:off x="570240" y="326160"/>
              <a:ext cx="97524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8"/>
          <p:cNvSpPr/>
          <p:nvPr/>
        </p:nvSpPr>
        <p:spPr>
          <a:xfrm>
            <a:off x="174096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标题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C:\Documents and Settings\Owner\My Documents\My Pictures\201011252346014290[1]_副本.jpg"/>
          <p:cNvPicPr/>
          <p:nvPr/>
        </p:nvPicPr>
        <p:blipFill>
          <a:blip r:embed="rId3"/>
          <a:stretch/>
        </p:blipFill>
        <p:spPr>
          <a:xfrm>
            <a:off x="8077320" y="58672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891-173E-4D5A-A51D-63521EF1C7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4T10:15:43Z</dcterms:created>
  <dc:creator/>
  <dc:description/>
  <dc:language>en-US</dc:language>
  <cp:lastModifiedBy>微软用户</cp:lastModifiedBy>
  <dcterms:modified xsi:type="dcterms:W3CDTF">2015-07-21T06:30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