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gif" ContentType="image/gif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12.jpeg" ContentType="image/jpeg"/>
  <Override PartName="/ppt/media/image6.png" ContentType="image/png"/>
  <Override PartName="/ppt/media/camera.wav" ContentType="audio/x-wav"/>
  <Override PartName="/ppt/media/image21.jpeg" ContentType="image/jpeg"/>
  <Override PartName="/ppt/media/image27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media/image14.jpeg" ContentType="image/jpeg"/>
  <Override PartName="/ppt/media/image28.jpeg" ContentType="image/jpeg"/>
  <Override PartName="/ppt/media/image15.gif" ContentType="image/gif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C58E-41CC-421D-8370-7A20F231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D21-F3AF-4217-B8BE-E105FB97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A487-7B34-4333-A11A-19268E1C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C6D-1B2A-4DE0-9FE0-8043BA42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191-75D9-43B9-B12A-F265D255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DF9-80E8-48A1-9C3C-1A86869C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62CE-D6B6-49A9-BE93-5F84B8B4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2919-C1CC-4283-8916-85A142B3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B39-0E7F-4E52-8DA7-D52F1565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5E2-2B56-4EEC-A0DA-6C7B7459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8AAB-9C0B-4CBD-98B1-F900CB89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90C-C7CB-4193-98F2-8D1F742A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A400-ABCE-4B40-BB45-6CC27CC3F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6400800"/>
            <a:ext cx="8534520" cy="459000"/>
            <a:chOff x="0" y="6400800"/>
            <a:chExt cx="8534520" cy="459000"/>
          </a:xfrm>
        </p:grpSpPr>
        <p:sp>
          <p:nvSpPr>
            <p:cNvPr id="6" name="AutoShape 8"/>
            <p:cNvSpPr/>
            <p:nvPr/>
          </p:nvSpPr>
          <p:spPr>
            <a:xfrm>
              <a:off x="7227720" y="6400800"/>
              <a:ext cx="1306800" cy="459000"/>
            </a:xfrm>
            <a:custGeom>
              <a:avLst/>
              <a:gdLst>
                <a:gd name="textAreaLeft" fmla="*/ 0 w 1306800"/>
                <a:gd name="textAreaRight" fmla="*/ 1307160 w 13068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c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练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>
              <a:off x="4148280" y="6400800"/>
              <a:ext cx="1306440" cy="459000"/>
            </a:xfrm>
            <a:custGeom>
              <a:avLst/>
              <a:gdLst>
                <a:gd name="textAreaLeft" fmla="*/ 0 w 1306440"/>
                <a:gd name="textAreaRight" fmla="*/ 1306800 w 13064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种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>
              <a:off x="3013200" y="6400800"/>
              <a:ext cx="1306440" cy="459000"/>
            </a:xfrm>
            <a:custGeom>
              <a:avLst/>
              <a:gdLst>
                <a:gd name="textAreaLeft" fmla="*/ 0 w 1306440"/>
                <a:gd name="textAreaRight" fmla="*/ 1306800 w 13064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cc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进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>
              <a:off x="1878120" y="6400800"/>
              <a:ext cx="1306440" cy="459000"/>
            </a:xfrm>
            <a:custGeom>
              <a:avLst/>
              <a:gdLst>
                <a:gd name="textAreaLeft" fmla="*/ 0 w 1306440"/>
                <a:gd name="textAreaRight" fmla="*/ 1306800 w 13064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大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>
              <a:off x="5283360" y="6400800"/>
              <a:ext cx="2116080" cy="459000"/>
            </a:xfrm>
            <a:custGeom>
              <a:avLst/>
              <a:gdLst>
                <a:gd name="textAreaLeft" fmla="*/ 0 w 2116080"/>
                <a:gd name="textAreaRight" fmla="*/ 2116440 w 211608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900" y="0"/>
                  </a:lnTo>
                  <a:lnTo>
                    <a:pt x="21600" y="10800"/>
                  </a:lnTo>
                  <a:lnTo>
                    <a:pt x="17900" y="21600"/>
                  </a:lnTo>
                  <a:lnTo>
                    <a:pt x="0" y="21600"/>
                  </a:lnTo>
                  <a:lnTo>
                    <a:pt x="37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cc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生活习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>
              <a:off x="743040" y="6400800"/>
              <a:ext cx="1306440" cy="459000"/>
            </a:xfrm>
            <a:custGeom>
              <a:avLst/>
              <a:gdLst>
                <a:gd name="textAreaLeft" fmla="*/ 0 w 1306440"/>
                <a:gd name="textAreaRight" fmla="*/ 1306800 w 13064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学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>
              <a:off x="0" y="6400800"/>
              <a:ext cx="914400" cy="4590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开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15">
            <a:hlinkClick r:id="" action="ppaction://hlinkshowjump?jump=nextslide"/>
          </p:cNvPr>
          <p:cNvSpPr/>
          <p:nvPr/>
        </p:nvSpPr>
        <p:spPr>
          <a:xfrm>
            <a:off x="8305920" y="6400800"/>
            <a:ext cx="1218960" cy="45900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272,21,&#24187;&#28783;&#29255; 21" TargetMode="External"/><Relationship Id="rId2" Type="http://schemas.openxmlformats.org/officeDocument/2006/relationships/hyperlink" Target="272,5,&#24187;&#28783;&#29255; 5" TargetMode="External"/><Relationship Id="rId3" Type="http://schemas.openxmlformats.org/officeDocument/2006/relationships/hyperlink" Target="272,4,&#24187;&#28783;&#29255; 4" TargetMode="External"/><Relationship Id="rId4" Type="http://schemas.openxmlformats.org/officeDocument/2006/relationships/hyperlink" Target="272,3,&#24187;&#28783;&#29255; 3" TargetMode="External"/><Relationship Id="rId5" Type="http://schemas.openxmlformats.org/officeDocument/2006/relationships/image" Target="../media/image7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0&#49064;%B5&#314;%F4%CE%FC&amp;in=22572&amp;cl=2&amp;lm=-1&amp;pn=26&amp;rn=1&amp;di=17708048085&amp;ln=1&amp;fr=&amp;ic=0&amp;s=0&amp;se=1&amp;sme=0&amp;tab=&amp;width=&amp;height=&amp;face=0&amp;fb=0" TargetMode="External"/><Relationship Id="rId2" Type="http://schemas.openxmlformats.org/officeDocument/2006/relationships/image" Target="../media/image7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esk.scdxs.net/desk/class102/1004/66f0b23c836dcc7c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1" descr="imag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2"/>
          <p:cNvSpPr/>
          <p:nvPr/>
        </p:nvSpPr>
        <p:spPr>
          <a:xfrm>
            <a:off x="611280" y="2205000"/>
            <a:ext cx="82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114800" y="3581280"/>
            <a:ext cx="26668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1"/>
              </a:rPr>
              <a:t>种        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590920" y="304812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962520" y="1371600"/>
            <a:ext cx="28954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cab0a"/>
                </a:solidFill>
                <a:latin typeface="Times New Roman"/>
                <a:ea typeface="楷体_GB2312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2"/>
              </a:rPr>
              <a:t>形        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114800" y="2514600"/>
            <a:ext cx="28954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3"/>
              </a:rPr>
              <a:t>演        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114800" y="4648320"/>
            <a:ext cx="28195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4"/>
              </a:rPr>
              <a:t>生活习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 flipH="1">
            <a:off x="3504960" y="1752480"/>
            <a:ext cx="609480" cy="15242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V="1">
            <a:off x="3505320" y="3047760"/>
            <a:ext cx="761760" cy="533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3505320" y="3809880"/>
            <a:ext cx="685800" cy="3049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3352680" y="3962520"/>
            <a:ext cx="91440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3505320" y="0"/>
            <a:ext cx="281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   </a:t>
            </a:r>
            <a:r>
              <a:rPr b="1" lang="en-US" sz="6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9   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5715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A5_220"/>
          <p:cNvPicPr/>
          <p:nvPr/>
        </p:nvPicPr>
        <p:blipFill>
          <a:blip r:embed="rId5"/>
          <a:stretch/>
        </p:blipFill>
        <p:spPr>
          <a:xfrm>
            <a:off x="609480" y="457200"/>
            <a:ext cx="2438640" cy="180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6" name="camera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学习课文第一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读第一段，你明白了鲸的体形最明显的的特点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042920" y="3213000"/>
            <a:ext cx="68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</a:rPr>
              <a:t>（大、庞然大物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0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yw0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8153280" cy="6119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34" name="Comment 4">
            <a:hlinkClick r:id="" action="ppaction://hlinkshowjump?jump=previousslide"/>
          </p:cNvPr>
          <p:cNvSpPr/>
          <p:nvPr/>
        </p:nvSpPr>
        <p:spPr>
          <a:xfrm>
            <a:off x="8305920" y="380880"/>
            <a:ext cx="838080" cy="2837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鲸与象和人的大小比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>
            <a:hlinkClick r:id="" action="ppaction://hlinkshowjump?jump=previousslide"/>
          </p:cNvPr>
          <p:cNvSpPr/>
          <p:nvPr/>
        </p:nvSpPr>
        <p:spPr>
          <a:xfrm>
            <a:off x="8039160" y="640080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35847_32809167954"/>
          <p:cNvPicPr/>
          <p:nvPr/>
        </p:nvPicPr>
        <p:blipFill>
          <a:blip r:embed="rId2"/>
          <a:stretch/>
        </p:blipFill>
        <p:spPr>
          <a:xfrm>
            <a:off x="0" y="0"/>
            <a:ext cx="302436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3" name="camera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xin_0230606191435187655788"/>
          <p:cNvPicPr/>
          <p:nvPr/>
        </p:nvPicPr>
        <p:blipFill>
          <a:blip r:embed="rId1"/>
          <a:stretch/>
        </p:blipFill>
        <p:spPr>
          <a:xfrm>
            <a:off x="0" y="0"/>
            <a:ext cx="9286920" cy="6186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7b46db9628cb985f55fb96b1"/>
          <p:cNvPicPr/>
          <p:nvPr/>
        </p:nvPicPr>
        <p:blipFill>
          <a:blip r:embed="rId1"/>
          <a:stretch/>
        </p:blipFill>
        <p:spPr>
          <a:xfrm>
            <a:off x="0" y="0"/>
            <a:ext cx="9036000" cy="6308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246b2a2b830f7dd4e6cd40ce"/>
          <p:cNvPicPr/>
          <p:nvPr/>
        </p:nvPicPr>
        <p:blipFill>
          <a:blip r:embed="rId1"/>
          <a:stretch/>
        </p:blipFill>
        <p:spPr>
          <a:xfrm>
            <a:off x="-71280" y="0"/>
            <a:ext cx="9286560" cy="6381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学习课文第一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读第一段，你明白了鲸的体形最明显的的特点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85800" y="21337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你是从哪几出处看出来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914400" y="1600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大、庞然大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066680" y="29973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最大的鲸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万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公斤重，最小的也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000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公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042920" y="3500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我国捕获过一头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万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公斤重的鲸，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米长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条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舌头就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十几头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大肥猪那么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1066680" y="25146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比大象大得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0" y="595008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9"/>
          <p:cNvSpPr/>
          <p:nvPr/>
        </p:nvSpPr>
        <p:spPr>
          <a:xfrm>
            <a:off x="0" y="1557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、本段运用了哪些说明方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2"/>
          <p:cNvGrpSpPr/>
          <p:nvPr/>
        </p:nvGrpSpPr>
        <p:grpSpPr>
          <a:xfrm>
            <a:off x="755640" y="333360"/>
            <a:ext cx="2879640" cy="1008000"/>
            <a:chOff x="755640" y="333360"/>
            <a:chExt cx="2879640" cy="1008000"/>
          </a:xfrm>
        </p:grpSpPr>
        <p:sp>
          <p:nvSpPr>
            <p:cNvPr id="152" name="AutoShape 11"/>
            <p:cNvSpPr/>
            <p:nvPr/>
          </p:nvSpPr>
          <p:spPr>
            <a:xfrm>
              <a:off x="755640" y="333360"/>
              <a:ext cx="2879640" cy="1008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0"/>
            <p:cNvSpPr/>
            <p:nvPr/>
          </p:nvSpPr>
          <p:spPr>
            <a:xfrm>
              <a:off x="1187280" y="404640"/>
              <a:ext cx="208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Arial"/>
                </a:rPr>
                <a:t>想一想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8"/>
          <p:cNvSpPr/>
          <p:nvPr/>
        </p:nvSpPr>
        <p:spPr>
          <a:xfrm>
            <a:off x="1066680" y="25146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比大象大得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066680" y="29973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最大的鲸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万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公斤重，最小的也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000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公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755640" y="4149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我国捕获过一头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万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公斤重的鲸，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米长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条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舌头就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十几头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大肥猪那么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4356000" y="24922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说明方法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做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619280" y="357336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说明方法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列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547640" y="522936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说明方法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：列数据   举例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学习课文第二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鲸(2段).avi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280360" cy="42368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380880" y="10666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读第二自然段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想想它属于鱼类吗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它是怎样由陆地生活逐渐适应海洋生活的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amera.wav"/>
      </p:stSnd>
    </p:sndAc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7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yw01_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0" y="38160"/>
            <a:ext cx="8381880" cy="6288120"/>
          </a:xfrm>
          <a:prstGeom prst="rect">
            <a:avLst/>
          </a:prstGeom>
          <a:ln w="0">
            <a:noFill/>
          </a:ln>
        </p:spPr>
      </p:pic>
      <p:sp>
        <p:nvSpPr>
          <p:cNvPr id="165" name="Comment 4">
            <a:hlinkClick r:id="" action="ppaction://hlinkshowjump?jump=previousslide"/>
          </p:cNvPr>
          <p:cNvSpPr/>
          <p:nvPr/>
        </p:nvSpPr>
        <p:spPr>
          <a:xfrm>
            <a:off x="8077320" y="380880"/>
            <a:ext cx="685800" cy="2288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鲸的形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>
            <a:hlinkClick r:id="" action="ppaction://hlinkshowjump?jump=previousslide"/>
          </p:cNvPr>
          <p:cNvSpPr/>
          <p:nvPr/>
        </p:nvSpPr>
        <p:spPr>
          <a:xfrm>
            <a:off x="8039160" y="640080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1771560" y="5684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265884"/>
              <a:gd name="adj4" fmla="val -93750"/>
            </a:avLst>
          </a:prstGeom>
          <a:noFill/>
          <a:ln w="12600">
            <a:solidFill>
              <a:srgbClr val="009999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2209680" y="1219320"/>
            <a:ext cx="30492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2666880" y="1219320"/>
            <a:ext cx="2286000" cy="18288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5943600" y="4038480"/>
            <a:ext cx="914400" cy="1067040"/>
          </a:xfrm>
          <a:prstGeom prst="wedgeRoundRectCallout">
            <a:avLst>
              <a:gd name="adj1" fmla="val 101736"/>
              <a:gd name="adj2" fmla="val -215773"/>
              <a:gd name="adj3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上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  <p:sndAc>
      <p:stSnd>
        <p:snd r:embed="rId2" name="camera.wav"/>
      </p:stSnd>
    </p:sndAc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5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372824"/>
          <p:cNvPicPr/>
          <p:nvPr/>
        </p:nvPicPr>
        <p:blipFill>
          <a:blip r:embed="rId1"/>
          <a:stretch/>
        </p:blipFill>
        <p:spPr>
          <a:xfrm>
            <a:off x="-1143000" y="-366840"/>
            <a:ext cx="11430000" cy="7591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1801440" y="83664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鲸是怎样演化成鱼的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A5_050"/>
          <p:cNvPicPr/>
          <p:nvPr/>
        </p:nvPicPr>
        <p:blipFill>
          <a:blip r:embed="rId1"/>
          <a:stretch/>
        </p:blipFill>
        <p:spPr>
          <a:xfrm>
            <a:off x="6877080" y="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80880" y="35053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  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很远的古代”、“很长很长的年代”、“渐渐”等词语说明这个进化过程是漫长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685800" y="155736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陆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048120" y="155736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浅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691240" y="1628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海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981080" y="1916280"/>
            <a:ext cx="114300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4343400" y="1989000"/>
            <a:ext cx="114300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80880" y="4724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我们人类由猿进化而来也是如此，这个过程也是很长很长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0" y="0"/>
            <a:ext cx="794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学习课文第二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755640" y="24922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四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2268360" y="249228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前肢和尾巴演变为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7467480" y="24210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后肢退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amera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866160" y="-223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学习课文第三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80880" y="2743200"/>
            <a:ext cx="289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鲸的种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581280" y="144792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须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581280" y="39625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齿鲸（虎鲸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 flipV="1">
            <a:off x="2971800" y="2133720"/>
            <a:ext cx="762120" cy="7617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2895480" y="3505320"/>
            <a:ext cx="685800" cy="68580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A5_052"/>
          <p:cNvPicPr/>
          <p:nvPr/>
        </p:nvPicPr>
        <p:blipFill>
          <a:blip r:embed="rId1"/>
          <a:stretch/>
        </p:blipFill>
        <p:spPr>
          <a:xfrm>
            <a:off x="6248520" y="838080"/>
            <a:ext cx="2498760" cy="18748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9"/>
          <p:cNvSpPr/>
          <p:nvPr/>
        </p:nvSpPr>
        <p:spPr>
          <a:xfrm>
            <a:off x="1979640" y="544500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判断依据：有无牙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JINGYU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1524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JINGYU3"/>
          <p:cNvPicPr/>
          <p:nvPr/>
        </p:nvPicPr>
        <p:blipFill>
          <a:blip r:embed="rId2"/>
          <a:stretch/>
        </p:blipFill>
        <p:spPr>
          <a:xfrm>
            <a:off x="0" y="20574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4"/>
          <p:cNvSpPr/>
          <p:nvPr/>
        </p:nvSpPr>
        <p:spPr>
          <a:xfrm>
            <a:off x="3851280" y="558972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须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3" name="camera.wav"/>
      </p:stSnd>
    </p:sndAc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INGYU4"/>
          <p:cNvPicPr/>
          <p:nvPr/>
        </p:nvPicPr>
        <p:blipFill>
          <a:blip r:embed="rId1"/>
          <a:stretch/>
        </p:blipFill>
        <p:spPr>
          <a:xfrm>
            <a:off x="0" y="0"/>
            <a:ext cx="9144000" cy="3343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JINGYU7"/>
          <p:cNvPicPr/>
          <p:nvPr/>
        </p:nvPicPr>
        <p:blipFill>
          <a:blip r:embed="rId2"/>
          <a:stretch/>
        </p:blipFill>
        <p:spPr>
          <a:xfrm>
            <a:off x="0" y="2638440"/>
            <a:ext cx="9296280" cy="4219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395280" y="263700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齿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3" name="camera.wav"/>
      </p:stSnd>
    </p:sndAc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304920" y="0"/>
            <a:ext cx="852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学习课文第四段（</a:t>
            </a:r>
            <a:r>
              <a:rPr b="1" lang="en-US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4--7</a:t>
            </a: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自然段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85800" y="121932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一部分从哪几个方面介绍鲸的生活习性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457200" y="3048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（吃食  呼吸  睡觉  生长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685800" y="441972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些方面都有什么特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762120" y="38088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鲸的生活习性（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066680" y="12193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黑体"/>
              </a:rPr>
              <a:t>吃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514600" y="1676520"/>
            <a:ext cx="990720" cy="0"/>
          </a:xfrm>
          <a:prstGeom prst="line">
            <a:avLst/>
          </a:prstGeom>
          <a:ln w="507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733920" y="12193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鲸吃食量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非常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685800" y="205740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须鲸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主要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吃虾和小鱼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，一顿就可以吃</a:t>
            </a:r>
            <a:r>
              <a:rPr b="1" lang="en-US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2000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多公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762120" y="35812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齿鲸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主要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吃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大鱼和海兽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。有一种号称“海中之虎”的虎鲸，常常好几十头结成一群，围住一头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30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多吨重的长须鲸，几个小时就把它吃光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FBB-8E2F-4108-8640-3C321EDB5E8D}" type="slidenum">
              <a:t>26</a:t>
            </a:fld>
          </a:p>
        </p:txBody>
      </p:sp>
    </p:spTree>
  </p:cSld>
  <p:transition spd="med">
    <p:cover dir="d"/>
    <p:sndAc>
      <p:stSnd>
        <p:snd r:embed="rId4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459440" y="228600"/>
            <a:ext cx="370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鲸的生活习性（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990720" y="12952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鲸用肺呼吸，呼气时会形成一股水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A5_320"/>
          <p:cNvPicPr/>
          <p:nvPr/>
        </p:nvPicPr>
        <p:blipFill>
          <a:blip r:embed="rId1"/>
          <a:stretch/>
        </p:blipFill>
        <p:spPr>
          <a:xfrm>
            <a:off x="838080" y="2743200"/>
            <a:ext cx="3200400" cy="2368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amera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yw03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7772400" cy="58276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3809880" y="1219320"/>
            <a:ext cx="2819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3962520" y="0"/>
            <a:ext cx="5715000" cy="2286000"/>
          </a:xfrm>
          <a:prstGeom prst="cloudCallout">
            <a:avLst>
              <a:gd name="adj1" fmla="val -84000"/>
              <a:gd name="adj2" fmla="val -277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be0e3"/>
                </a:solidFill>
                <a:latin typeface="宋体"/>
              </a:rPr>
              <a:t>须</a:t>
            </a:r>
            <a:r>
              <a:rPr b="0" lang="zh-CN" sz="3600" spc="-1" strike="noStrike">
                <a:solidFill>
                  <a:srgbClr val="bbe0e3"/>
                </a:solidFill>
                <a:latin typeface="宋体"/>
              </a:rPr>
              <a:t>鲸的水柱是垂直的，又细又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-533520" y="3886200"/>
            <a:ext cx="5029200" cy="2133720"/>
          </a:xfrm>
          <a:prstGeom prst="wedgeEllipseCallout">
            <a:avLst>
              <a:gd name="adj1" fmla="val 61175"/>
              <a:gd name="adj2" fmla="val -93305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宋体"/>
              </a:rPr>
              <a:t>齿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鲸的水柱是倾斜的，又粗又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>
            <a:hlinkClick r:id="" action="ppaction://hlinkshowjump?jump=previousslide"/>
          </p:cNvPr>
          <p:cNvSpPr/>
          <p:nvPr/>
        </p:nvSpPr>
        <p:spPr>
          <a:xfrm>
            <a:off x="8039160" y="640080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1459440" y="228600"/>
            <a:ext cx="370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鲸的生活习性（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990720" y="12952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鲸用肺呼吸，呼气时会形成一股水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A5_320"/>
          <p:cNvPicPr/>
          <p:nvPr/>
        </p:nvPicPr>
        <p:blipFill>
          <a:blip r:embed="rId1"/>
          <a:stretch/>
        </p:blipFill>
        <p:spPr>
          <a:xfrm>
            <a:off x="838080" y="2743200"/>
            <a:ext cx="3200400" cy="23684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3733920" y="24382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须鲸的水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495680" y="3048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垂直的，又细又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4231800" y="3962520"/>
            <a:ext cx="193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齿鲸的水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5241600" y="4724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倾斜的，又粗又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amera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鲸的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250920" y="54936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鲸的鼻孔长在脑袋上，呼气的时候浮出海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amera.wav"/>
      </p:stSnd>
    </p:sndAc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鲸的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WordArt 3"/>
          <p:cNvSpPr txBox="1"/>
          <p:nvPr/>
        </p:nvSpPr>
        <p:spPr>
          <a:xfrm>
            <a:off x="684360" y="692280"/>
            <a:ext cx="7056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黑体"/>
              </a:rPr>
              <a:t>齿鲸的水柱是倾斜的，又粗又矮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cover dir="d"/>
    <p:sndAc>
      <p:stSnd>
        <p:snd r:embed="rId2" name="camera.wav"/>
      </p:stSnd>
    </p:sndAc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383120" y="0"/>
            <a:ext cx="370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鲸的生活习性（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990720" y="838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鲸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天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都要睡觉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A5_050"/>
          <p:cNvPicPr/>
          <p:nvPr/>
        </p:nvPicPr>
        <p:blipFill>
          <a:blip r:embed="rId1"/>
          <a:stretch/>
        </p:blipFill>
        <p:spPr>
          <a:xfrm>
            <a:off x="609480" y="4724280"/>
            <a:ext cx="2514600" cy="2013120"/>
          </a:xfrm>
          <a:prstGeom prst="rect">
            <a:avLst/>
          </a:prstGeom>
          <a:ln w="0">
            <a:noFill/>
          </a:ln>
        </p:spPr>
      </p:pic>
      <p:pic>
        <p:nvPicPr>
          <p:cNvPr id="235" name="MTM_040.MID" descr=""/>
          <p:cNvPicPr/>
          <p:nvPr/>
        </p:nvPicPr>
        <p:blipFill>
          <a:blip r:embed="rId2"/>
          <a:stretch/>
        </p:blipFill>
        <p:spPr>
          <a:xfrm>
            <a:off x="5562720" y="63244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8"/>
          <p:cNvSpPr/>
          <p:nvPr/>
        </p:nvSpPr>
        <p:spPr>
          <a:xfrm>
            <a:off x="755640" y="2708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请同学们根据课文的叙述想象一下鲸睡觉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3" name="camera.wav"/>
      </p:stSnd>
    </p:sndAc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3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yw02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8001000" cy="5989680"/>
          </a:xfrm>
          <a:prstGeom prst="rect">
            <a:avLst/>
          </a:prstGeom>
          <a:ln w="0">
            <a:noFill/>
          </a:ln>
        </p:spPr>
      </p:pic>
      <p:sp>
        <p:nvSpPr>
          <p:cNvPr id="239" name="Comment 4">
            <a:hlinkClick r:id="" action="ppaction://hlinkshowjump?jump=previousslide"/>
          </p:cNvPr>
          <p:cNvSpPr/>
          <p:nvPr/>
        </p:nvSpPr>
        <p:spPr>
          <a:xfrm>
            <a:off x="8397720" y="1066680"/>
            <a:ext cx="746280" cy="31413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鲸群在睡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>
            <a:hlinkClick r:id="" action="ppaction://hlinkshowjump?jump=previousslide"/>
          </p:cNvPr>
          <p:cNvSpPr/>
          <p:nvPr/>
        </p:nvSpPr>
        <p:spPr>
          <a:xfrm>
            <a:off x="8039160" y="640080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amera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鲸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4140360" y="3246480"/>
            <a:ext cx="122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7288200" y="5365800"/>
            <a:ext cx="160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睡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amera.wav"/>
      </p:stSnd>
    </p:sndAc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1383120" y="0"/>
            <a:ext cx="370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鲸的生活习性（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A5_050"/>
          <p:cNvPicPr/>
          <p:nvPr/>
        </p:nvPicPr>
        <p:blipFill>
          <a:blip r:embed="rId1"/>
          <a:stretch/>
        </p:blipFill>
        <p:spPr>
          <a:xfrm>
            <a:off x="609480" y="4724280"/>
            <a:ext cx="2514600" cy="2013120"/>
          </a:xfrm>
          <a:prstGeom prst="rect">
            <a:avLst/>
          </a:prstGeom>
          <a:ln w="0">
            <a:noFill/>
          </a:ln>
        </p:spPr>
      </p:pic>
      <p:pic>
        <p:nvPicPr>
          <p:cNvPr id="246" name="MTM_040.MID" descr=""/>
          <p:cNvPicPr/>
          <p:nvPr/>
        </p:nvPicPr>
        <p:blipFill>
          <a:blip r:embed="rId2"/>
          <a:stretch/>
        </p:blipFill>
        <p:spPr>
          <a:xfrm>
            <a:off x="5562720" y="63244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826920" y="1773360"/>
            <a:ext cx="62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鲸为什么这样睡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971640" y="31417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这是一种自我保护，一旦有危险就可以四散游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3" name="camera.wav"/>
      </p:stSnd>
    </p:sndAc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7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1459440" y="0"/>
            <a:ext cx="370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鲸的生活习性（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4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914400" y="114300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鲸是如何繁养后代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143000" y="205740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（ 胎生    喂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914400" y="28195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肺呼吸、胎生、哺乳这些特征说明鲸是哺乳动物，不是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A5_052"/>
          <p:cNvPicPr/>
          <p:nvPr/>
        </p:nvPicPr>
        <p:blipFill>
          <a:blip r:embed="rId1"/>
          <a:stretch/>
        </p:blipFill>
        <p:spPr>
          <a:xfrm>
            <a:off x="7010280" y="228600"/>
            <a:ext cx="1812960" cy="1360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amera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j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"/>
          <p:cNvSpPr/>
          <p:nvPr/>
        </p:nvSpPr>
        <p:spPr>
          <a:xfrm>
            <a:off x="3419640" y="476280"/>
            <a:ext cx="14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胎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6443640" y="47628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哺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amera.wav"/>
      </p:stSnd>
    </p:sndAc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20640"/>
            <a:ext cx="8135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哺乳动物的特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用肺呼吸，胎生，靠吃母乳长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大多数哺乳动物有毛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380880" y="2743200"/>
            <a:ext cx="114300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1"/>
              </a:rPr>
              <a:t>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752480" y="1066680"/>
            <a:ext cx="289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cab0a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bcab0a"/>
                </a:solidFill>
                <a:latin typeface="Times New Roman"/>
                <a:ea typeface="楷体_GB2312"/>
              </a:rPr>
              <a:t>形        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1905120" y="2209680"/>
            <a:ext cx="28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cab0a"/>
                </a:solidFill>
                <a:latin typeface="Times New Roman"/>
                <a:ea typeface="楷体_GB2312"/>
              </a:rPr>
              <a:t>演        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905120" y="32767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cab0a"/>
                </a:solidFill>
                <a:latin typeface="Times New Roman"/>
                <a:ea typeface="楷体_GB2312"/>
              </a:rPr>
              <a:t>种        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905120" y="43434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cab0a"/>
                </a:solidFill>
                <a:latin typeface="Times New Roman"/>
                <a:ea typeface="楷体_GB2312"/>
              </a:rPr>
              <a:t>生活习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7"/>
          <p:cNvSpPr/>
          <p:nvPr/>
        </p:nvSpPr>
        <p:spPr>
          <a:xfrm flipH="1">
            <a:off x="1295280" y="1447920"/>
            <a:ext cx="609840" cy="15238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"/>
          <p:cNvSpPr/>
          <p:nvPr/>
        </p:nvSpPr>
        <p:spPr>
          <a:xfrm flipV="1">
            <a:off x="1295280" y="2743200"/>
            <a:ext cx="762120" cy="5335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1295280" y="3505320"/>
            <a:ext cx="685800" cy="304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1143000" y="3657600"/>
            <a:ext cx="91440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2666880" y="0"/>
            <a:ext cx="281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9  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48006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a1c2d"/>
                </a:solidFill>
                <a:latin typeface="Times New Roman"/>
                <a:ea typeface="楷体_GB2312"/>
              </a:rPr>
              <a:t>巨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5867280" y="114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a1c2d"/>
                </a:solidFill>
                <a:latin typeface="Times New Roman"/>
                <a:ea typeface="楷体_GB2312"/>
              </a:rPr>
              <a:t>世界上最大的动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4876920" y="1905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陆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5"/>
          <p:cNvSpPr/>
          <p:nvPr/>
        </p:nvSpPr>
        <p:spPr>
          <a:xfrm>
            <a:off x="6019920" y="2209680"/>
            <a:ext cx="1523880" cy="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7696080" y="1905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海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4800600" y="2514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像牛羊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8"/>
          <p:cNvSpPr/>
          <p:nvPr/>
        </p:nvSpPr>
        <p:spPr>
          <a:xfrm>
            <a:off x="6095880" y="2819520"/>
            <a:ext cx="1371600" cy="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7315200" y="259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像鱼的样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4876920" y="33526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齿鲸    须鲸    虎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5715000" y="2286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经过很长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"/>
          <p:cNvSpPr/>
          <p:nvPr/>
        </p:nvSpPr>
        <p:spPr>
          <a:xfrm flipV="1">
            <a:off x="4495680" y="2209320"/>
            <a:ext cx="381240" cy="30492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"/>
          <p:cNvSpPr/>
          <p:nvPr/>
        </p:nvSpPr>
        <p:spPr>
          <a:xfrm>
            <a:off x="4495680" y="2743200"/>
            <a:ext cx="381240" cy="15228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4952880" y="4267080"/>
            <a:ext cx="91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吃食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5"/>
          <p:cNvSpPr/>
          <p:nvPr/>
        </p:nvSpPr>
        <p:spPr>
          <a:xfrm>
            <a:off x="495288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呼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6553080" y="4648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用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7"/>
          <p:cNvSpPr/>
          <p:nvPr/>
        </p:nvSpPr>
        <p:spPr>
          <a:xfrm>
            <a:off x="495288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睡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"/>
          <p:cNvSpPr/>
          <p:nvPr/>
        </p:nvSpPr>
        <p:spPr>
          <a:xfrm>
            <a:off x="655308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量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9"/>
          <p:cNvSpPr/>
          <p:nvPr/>
        </p:nvSpPr>
        <p:spPr>
          <a:xfrm>
            <a:off x="6553080" y="5105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围成一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0"/>
          <p:cNvSpPr/>
          <p:nvPr/>
        </p:nvSpPr>
        <p:spPr>
          <a:xfrm>
            <a:off x="4952880" y="5715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繁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1"/>
          <p:cNvSpPr/>
          <p:nvPr/>
        </p:nvSpPr>
        <p:spPr>
          <a:xfrm>
            <a:off x="6553080" y="5715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胎生   哺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2" descr="A5_220"/>
          <p:cNvPicPr/>
          <p:nvPr/>
        </p:nvPicPr>
        <p:blipFill>
          <a:blip r:embed="rId2"/>
          <a:stretch/>
        </p:blipFill>
        <p:spPr>
          <a:xfrm>
            <a:off x="6858000" y="0"/>
            <a:ext cx="1752480" cy="129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0061102082138300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755640" y="907920"/>
            <a:ext cx="720108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见的说明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列数字、举例子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作比较、打比方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250920" y="260280"/>
            <a:ext cx="8569080" cy="13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宋体"/>
              </a:rPr>
              <a:t>4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第二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课文在介绍鲸的时候，使用了一些说明方法，如列举数字，“目前已知最大的鲸约有十六万公斤重，最小的也有两千公斤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4207320" y="3246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最大的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042920" y="2852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大的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1116000" y="3933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小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2843280" y="28526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十六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斤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2484360" y="393372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有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 flipV="1" rot="10800000">
            <a:off x="4572000" y="52902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明方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列举数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755640" y="50133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441396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441396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441396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468360" y="4508640"/>
            <a:ext cx="8207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体重、身长的数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突出鲸是很大的动物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24000" y="6206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目前已知最大的鲸约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十六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斤重，最小的也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两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斤。我国发现过一头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四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斤重的鲸，约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十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长，一条舌头就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十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头大肥猪那么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920" y="60213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324000" y="404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须鲸主要吃虾和小鱼。它们在海洋里游的时候，张着大嘴，把许多小鱼小虾连同海水一齐吸进嘴里，然后闭上嘴，把海水从须板中间滤出来，把小鱼小虾吞进肚子里，一顿就可以吃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公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24000" y="270828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种号称“海中之虎”的虎鲸，常常好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几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头结成一群，围住一头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三十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吨重的长须鲸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几个小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能把它吃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684360" y="4581360"/>
            <a:ext cx="770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示食物重量、时间的数字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突出了鲸食量大，吃得快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6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250920" y="404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长须鲸刚生下来就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十多米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长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七千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公斤重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天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能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十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公斤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五十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公斤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三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年就可以长成大鲸。鲸的寿命很长，一般可以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几十年到一百年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24000" y="3645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一段的数字，突出了幼鲸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个头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生长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特点；突出了鲸的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寿命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539640" y="620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不少人看到过象，都说象是很大的动物。其实还有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比象大得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动物，那就是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619280" y="278136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比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539640" y="3860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将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不熟悉的事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与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熟悉的事物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相比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由象“很大”到鲸“比象大得多”，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以此来说明鲸之庞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这样写，给人留下了鲜明的印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250920" y="333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我国发现过一头近四万公斤重的鲸，约十七米长，一条舌头就有十几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大肥猪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那么重。它要是张开嘴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站在它嘴里，举起手来还摸不到它的上腭，四个人围着桌子坐在它的嘴里看书，还显得很宽敞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042920" y="299736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举例子、列数字、作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395280" y="41497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从鲸的体重、身长、舌头及口腔的宽大等四方面具体生动地说明鲸的确非常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395280" y="692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种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号称“海中之虎”的虎鲸，常常好几十头结成一群，围住一头三十多吨重的长须鲸，几个小时就能把它吃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1258920" y="3213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举例子、列数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539640" y="4508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子中的数字可以让我们看到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虎鲸之凶猛，动作之迅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684360" y="1197000"/>
            <a:ext cx="73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324000" y="3333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鲸的鼻孔长在脑袋顶上。呼气的时候浮出海面，从鼻孔喷出来的气形成一股水柱，就像花园里的喷泉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547640" y="263700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打比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68360" y="3860640"/>
            <a:ext cx="806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鲸喷出的气形成的水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比作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花园里的喷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使说明的事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形象具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给人以深刻的印象。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684360" y="2602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堂上练习：比较句子，说说哪一名的表达更加          具体、生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250920" y="13413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我国发现过一头近四万公斤重的鲸，约十七米    长，一条舌头就有十几头大肥猪那么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我国发现过一头很重、很长的鲸，一条舌头重得让你不敢相信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179280" y="35002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鲸的寿命很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鲸的寿命很长，一般可以活几十年到一百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179280" y="47242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鲸从鼻孔喷出来的气形成一股水柱，就像花园里  的喷泉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鲸从鼻孔喷出来的气形成一股水柱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0050801161214387"/>
          <p:cNvPicPr/>
          <p:nvPr/>
        </p:nvPicPr>
        <p:blipFill>
          <a:blip r:embed="rId1">
            <a:lum bright="12000"/>
          </a:blip>
          <a:srcRect l="0" t="0" r="0" b="4667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3"/>
          <p:cNvGrpSpPr/>
          <p:nvPr/>
        </p:nvGrpSpPr>
        <p:grpSpPr>
          <a:xfrm>
            <a:off x="1116000" y="1989000"/>
            <a:ext cx="7056000" cy="1510920"/>
            <a:chOff x="1116000" y="1989000"/>
            <a:chExt cx="7056000" cy="1510920"/>
          </a:xfrm>
        </p:grpSpPr>
        <p:grpSp>
          <p:nvGrpSpPr>
            <p:cNvPr id="59" name="Group 4"/>
            <p:cNvGrpSpPr/>
            <p:nvPr/>
          </p:nvGrpSpPr>
          <p:grpSpPr>
            <a:xfrm>
              <a:off x="2543760" y="2032560"/>
              <a:ext cx="1427760" cy="1467360"/>
              <a:chOff x="2543760" y="2032560"/>
              <a:chExt cx="1427760" cy="1467360"/>
            </a:xfrm>
          </p:grpSpPr>
          <p:sp>
            <p:nvSpPr>
              <p:cNvPr id="60" name="Rectangle 5"/>
              <p:cNvSpPr/>
              <p:nvPr/>
            </p:nvSpPr>
            <p:spPr>
              <a:xfrm>
                <a:off x="2543760" y="2032560"/>
                <a:ext cx="1427760" cy="1467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6"/>
              <p:cNvSpPr/>
              <p:nvPr/>
            </p:nvSpPr>
            <p:spPr>
              <a:xfrm flipH="1">
                <a:off x="2543760" y="2766240"/>
                <a:ext cx="14277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7"/>
              <p:cNvSpPr/>
              <p:nvPr/>
            </p:nvSpPr>
            <p:spPr>
              <a:xfrm>
                <a:off x="3258000" y="2068560"/>
                <a:ext cx="0" cy="1431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8"/>
            <p:cNvGrpSpPr/>
            <p:nvPr/>
          </p:nvGrpSpPr>
          <p:grpSpPr>
            <a:xfrm>
              <a:off x="1116000" y="2032560"/>
              <a:ext cx="1427760" cy="1467360"/>
              <a:chOff x="1116000" y="2032560"/>
              <a:chExt cx="1427760" cy="1467360"/>
            </a:xfrm>
          </p:grpSpPr>
          <p:sp>
            <p:nvSpPr>
              <p:cNvPr id="64" name="Rectangle 9"/>
              <p:cNvSpPr/>
              <p:nvPr/>
            </p:nvSpPr>
            <p:spPr>
              <a:xfrm>
                <a:off x="1116000" y="2032560"/>
                <a:ext cx="1427760" cy="1467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0"/>
              <p:cNvSpPr/>
              <p:nvPr/>
            </p:nvSpPr>
            <p:spPr>
              <a:xfrm flipH="1">
                <a:off x="1116000" y="2766240"/>
                <a:ext cx="14277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1"/>
              <p:cNvSpPr/>
              <p:nvPr/>
            </p:nvSpPr>
            <p:spPr>
              <a:xfrm>
                <a:off x="1830240" y="2068560"/>
                <a:ext cx="0" cy="1431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12"/>
            <p:cNvGrpSpPr/>
            <p:nvPr/>
          </p:nvGrpSpPr>
          <p:grpSpPr>
            <a:xfrm>
              <a:off x="3971880" y="2032560"/>
              <a:ext cx="1427760" cy="1467360"/>
              <a:chOff x="3971880" y="2032560"/>
              <a:chExt cx="1427760" cy="1467360"/>
            </a:xfrm>
          </p:grpSpPr>
          <p:sp>
            <p:nvSpPr>
              <p:cNvPr id="68" name="Rectangle 13"/>
              <p:cNvSpPr/>
              <p:nvPr/>
            </p:nvSpPr>
            <p:spPr>
              <a:xfrm>
                <a:off x="3971880" y="2032560"/>
                <a:ext cx="1427760" cy="1467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4"/>
              <p:cNvSpPr/>
              <p:nvPr/>
            </p:nvSpPr>
            <p:spPr>
              <a:xfrm flipH="1">
                <a:off x="3971880" y="2766240"/>
                <a:ext cx="14277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5"/>
              <p:cNvSpPr/>
              <p:nvPr/>
            </p:nvSpPr>
            <p:spPr>
              <a:xfrm>
                <a:off x="4686120" y="2068560"/>
                <a:ext cx="0" cy="1431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16"/>
            <p:cNvGrpSpPr/>
            <p:nvPr/>
          </p:nvGrpSpPr>
          <p:grpSpPr>
            <a:xfrm>
              <a:off x="5399640" y="2032560"/>
              <a:ext cx="1427760" cy="1467360"/>
              <a:chOff x="5399640" y="2032560"/>
              <a:chExt cx="1427760" cy="1467360"/>
            </a:xfrm>
          </p:grpSpPr>
          <p:sp>
            <p:nvSpPr>
              <p:cNvPr id="72" name="Rectangle 17"/>
              <p:cNvSpPr/>
              <p:nvPr/>
            </p:nvSpPr>
            <p:spPr>
              <a:xfrm>
                <a:off x="5399640" y="2032560"/>
                <a:ext cx="1427760" cy="1467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18"/>
              <p:cNvSpPr/>
              <p:nvPr/>
            </p:nvSpPr>
            <p:spPr>
              <a:xfrm flipH="1">
                <a:off x="5399640" y="2766240"/>
                <a:ext cx="14277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>
                <a:off x="6113880" y="2068560"/>
                <a:ext cx="0" cy="1431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20"/>
            <p:cNvGrpSpPr/>
            <p:nvPr/>
          </p:nvGrpSpPr>
          <p:grpSpPr>
            <a:xfrm>
              <a:off x="6744240" y="2032560"/>
              <a:ext cx="1427760" cy="1467360"/>
              <a:chOff x="6744240" y="2032560"/>
              <a:chExt cx="1427760" cy="1467360"/>
            </a:xfrm>
          </p:grpSpPr>
          <p:sp>
            <p:nvSpPr>
              <p:cNvPr id="76" name="Rectangle 21"/>
              <p:cNvSpPr/>
              <p:nvPr/>
            </p:nvSpPr>
            <p:spPr>
              <a:xfrm>
                <a:off x="6744240" y="2032560"/>
                <a:ext cx="1427760" cy="1467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2"/>
              <p:cNvSpPr/>
              <p:nvPr/>
            </p:nvSpPr>
            <p:spPr>
              <a:xfrm flipH="1">
                <a:off x="6744240" y="2766240"/>
                <a:ext cx="14277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23"/>
              <p:cNvSpPr/>
              <p:nvPr/>
            </p:nvSpPr>
            <p:spPr>
              <a:xfrm>
                <a:off x="7458480" y="2068560"/>
                <a:ext cx="0" cy="1431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 Box 24"/>
            <p:cNvSpPr/>
            <p:nvPr/>
          </p:nvSpPr>
          <p:spPr>
            <a:xfrm>
              <a:off x="1198800" y="1989000"/>
              <a:ext cx="69728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920" rIns="7092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鲸猪腭哺滤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5"/>
          <p:cNvGrpSpPr/>
          <p:nvPr/>
        </p:nvGrpSpPr>
        <p:grpSpPr>
          <a:xfrm>
            <a:off x="1116000" y="3716280"/>
            <a:ext cx="7056000" cy="1441080"/>
            <a:chOff x="1116000" y="3716280"/>
            <a:chExt cx="7056000" cy="1441080"/>
          </a:xfrm>
        </p:grpSpPr>
        <p:grpSp>
          <p:nvGrpSpPr>
            <p:cNvPr id="81" name="Group 26"/>
            <p:cNvGrpSpPr/>
            <p:nvPr/>
          </p:nvGrpSpPr>
          <p:grpSpPr>
            <a:xfrm>
              <a:off x="2543760" y="3757680"/>
              <a:ext cx="1427760" cy="1399680"/>
              <a:chOff x="2543760" y="3757680"/>
              <a:chExt cx="1427760" cy="1399680"/>
            </a:xfrm>
          </p:grpSpPr>
          <p:sp>
            <p:nvSpPr>
              <p:cNvPr id="82" name="Rectangle 27"/>
              <p:cNvSpPr/>
              <p:nvPr/>
            </p:nvSpPr>
            <p:spPr>
              <a:xfrm>
                <a:off x="2543760" y="3757680"/>
                <a:ext cx="1427760" cy="1399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8"/>
              <p:cNvSpPr/>
              <p:nvPr/>
            </p:nvSpPr>
            <p:spPr>
              <a:xfrm flipH="1">
                <a:off x="2543760" y="4457520"/>
                <a:ext cx="14277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29"/>
              <p:cNvSpPr/>
              <p:nvPr/>
            </p:nvSpPr>
            <p:spPr>
              <a:xfrm>
                <a:off x="3258000" y="3792240"/>
                <a:ext cx="0" cy="1365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30"/>
            <p:cNvGrpSpPr/>
            <p:nvPr/>
          </p:nvGrpSpPr>
          <p:grpSpPr>
            <a:xfrm>
              <a:off x="1116000" y="3757680"/>
              <a:ext cx="1427760" cy="1399680"/>
              <a:chOff x="1116000" y="3757680"/>
              <a:chExt cx="1427760" cy="1399680"/>
            </a:xfrm>
          </p:grpSpPr>
          <p:sp>
            <p:nvSpPr>
              <p:cNvPr id="86" name="Rectangle 31"/>
              <p:cNvSpPr/>
              <p:nvPr/>
            </p:nvSpPr>
            <p:spPr>
              <a:xfrm>
                <a:off x="1116000" y="3757680"/>
                <a:ext cx="1427760" cy="1399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32"/>
              <p:cNvSpPr/>
              <p:nvPr/>
            </p:nvSpPr>
            <p:spPr>
              <a:xfrm flipH="1">
                <a:off x="1116000" y="4457520"/>
                <a:ext cx="14277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33"/>
              <p:cNvSpPr/>
              <p:nvPr/>
            </p:nvSpPr>
            <p:spPr>
              <a:xfrm>
                <a:off x="1830240" y="3792240"/>
                <a:ext cx="0" cy="1365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34"/>
            <p:cNvGrpSpPr/>
            <p:nvPr/>
          </p:nvGrpSpPr>
          <p:grpSpPr>
            <a:xfrm>
              <a:off x="3971880" y="3757680"/>
              <a:ext cx="1427760" cy="1399680"/>
              <a:chOff x="3971880" y="3757680"/>
              <a:chExt cx="1427760" cy="1399680"/>
            </a:xfrm>
          </p:grpSpPr>
          <p:sp>
            <p:nvSpPr>
              <p:cNvPr id="90" name="Rectangle 35"/>
              <p:cNvSpPr/>
              <p:nvPr/>
            </p:nvSpPr>
            <p:spPr>
              <a:xfrm>
                <a:off x="3971880" y="3757680"/>
                <a:ext cx="1427760" cy="1399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36"/>
              <p:cNvSpPr/>
              <p:nvPr/>
            </p:nvSpPr>
            <p:spPr>
              <a:xfrm flipH="1">
                <a:off x="3971880" y="4457520"/>
                <a:ext cx="14277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37"/>
              <p:cNvSpPr/>
              <p:nvPr/>
            </p:nvSpPr>
            <p:spPr>
              <a:xfrm>
                <a:off x="4686120" y="3792240"/>
                <a:ext cx="0" cy="1365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38"/>
            <p:cNvGrpSpPr/>
            <p:nvPr/>
          </p:nvGrpSpPr>
          <p:grpSpPr>
            <a:xfrm>
              <a:off x="5399640" y="3757680"/>
              <a:ext cx="1427760" cy="1399680"/>
              <a:chOff x="5399640" y="3757680"/>
              <a:chExt cx="1427760" cy="1399680"/>
            </a:xfrm>
          </p:grpSpPr>
          <p:sp>
            <p:nvSpPr>
              <p:cNvPr id="94" name="Rectangle 39"/>
              <p:cNvSpPr/>
              <p:nvPr/>
            </p:nvSpPr>
            <p:spPr>
              <a:xfrm>
                <a:off x="5399640" y="3757680"/>
                <a:ext cx="1427760" cy="1399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40"/>
              <p:cNvSpPr/>
              <p:nvPr/>
            </p:nvSpPr>
            <p:spPr>
              <a:xfrm flipH="1">
                <a:off x="5399640" y="4457520"/>
                <a:ext cx="14277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41"/>
              <p:cNvSpPr/>
              <p:nvPr/>
            </p:nvSpPr>
            <p:spPr>
              <a:xfrm>
                <a:off x="6113880" y="3792240"/>
                <a:ext cx="0" cy="1365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42"/>
            <p:cNvGrpSpPr/>
            <p:nvPr/>
          </p:nvGrpSpPr>
          <p:grpSpPr>
            <a:xfrm>
              <a:off x="6744240" y="3757680"/>
              <a:ext cx="1427760" cy="1399680"/>
              <a:chOff x="6744240" y="3757680"/>
              <a:chExt cx="1427760" cy="1399680"/>
            </a:xfrm>
          </p:grpSpPr>
          <p:sp>
            <p:nvSpPr>
              <p:cNvPr id="98" name="Rectangle 43"/>
              <p:cNvSpPr/>
              <p:nvPr/>
            </p:nvSpPr>
            <p:spPr>
              <a:xfrm>
                <a:off x="6744240" y="3757680"/>
                <a:ext cx="1427760" cy="1399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44"/>
              <p:cNvSpPr/>
              <p:nvPr/>
            </p:nvSpPr>
            <p:spPr>
              <a:xfrm flipH="1">
                <a:off x="6744240" y="4457520"/>
                <a:ext cx="14277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5"/>
              <p:cNvSpPr/>
              <p:nvPr/>
            </p:nvSpPr>
            <p:spPr>
              <a:xfrm>
                <a:off x="7458480" y="3792240"/>
                <a:ext cx="0" cy="1365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Text Box 46"/>
            <p:cNvSpPr/>
            <p:nvPr/>
          </p:nvSpPr>
          <p:spPr>
            <a:xfrm>
              <a:off x="1198800" y="3716280"/>
              <a:ext cx="697284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920" rIns="7092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肚肺矮判胎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47" descr="官方logo副本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179280" y="33336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读下面的句子，说说有无红色的词语，句子的意思有什么不同，你从中受到了什么启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611280" y="220500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须鲸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主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吃虾和小鱼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611280" y="35002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鲸隔一定的时间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必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呼吸一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611280" y="47242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鲸每天都要睡觉，睡觉的时候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总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几头聚在一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8"/>
          <p:cNvSpPr/>
          <p:nvPr/>
        </p:nvSpPr>
        <p:spPr>
          <a:xfrm>
            <a:off x="250920" y="333360"/>
            <a:ext cx="8893080" cy="72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jīng    zhū       è   bǔ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须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鲸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肥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猪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上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腭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哺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乳动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lǜ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　 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dù    fèi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　　　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滤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出  　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肚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子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肺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部  又粗又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矮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n     tā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判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断   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胎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6"/>
          <p:cNvSpPr/>
          <p:nvPr/>
        </p:nvSpPr>
        <p:spPr>
          <a:xfrm>
            <a:off x="0" y="18900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上腭：口腔的上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哺乳：用乳汁喂；喂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滤出：使液体经过某些物质，除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其中的杂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判断：分辨，断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胎生：哺乳动物的繁殖方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358920" y="1916280"/>
            <a:ext cx="87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、文中主要写了哪几个方面的内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24000" y="4437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、文章运用了哪些说明方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2"/>
          <p:cNvGrpSpPr/>
          <p:nvPr/>
        </p:nvGrpSpPr>
        <p:grpSpPr>
          <a:xfrm>
            <a:off x="755640" y="333360"/>
            <a:ext cx="2879640" cy="1008000"/>
            <a:chOff x="755640" y="333360"/>
            <a:chExt cx="2879640" cy="1008000"/>
          </a:xfrm>
        </p:grpSpPr>
        <p:sp>
          <p:nvSpPr>
            <p:cNvPr id="108" name="AutoShape 11"/>
            <p:cNvSpPr/>
            <p:nvPr/>
          </p:nvSpPr>
          <p:spPr>
            <a:xfrm>
              <a:off x="755640" y="333360"/>
              <a:ext cx="2879640" cy="1008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1187280" y="404640"/>
              <a:ext cx="208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Arial"/>
                </a:rPr>
                <a:t>想一想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d"/>
    <p:sndAc>
      <p:stSnd>
        <p:snd r:embed="rId1" name="camera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9"/>
          <p:cNvSpPr/>
          <p:nvPr/>
        </p:nvSpPr>
        <p:spPr>
          <a:xfrm>
            <a:off x="0" y="2781360"/>
            <a:ext cx="97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修辞方法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：比喻，拟人，夸张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…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2"/>
          <p:cNvGrpSpPr/>
          <p:nvPr/>
        </p:nvGrpSpPr>
        <p:grpSpPr>
          <a:xfrm>
            <a:off x="755640" y="333360"/>
            <a:ext cx="2879640" cy="1008000"/>
            <a:chOff x="755640" y="333360"/>
            <a:chExt cx="2879640" cy="1008000"/>
          </a:xfrm>
        </p:grpSpPr>
        <p:sp>
          <p:nvSpPr>
            <p:cNvPr id="112" name="AutoShape 11"/>
            <p:cNvSpPr/>
            <p:nvPr/>
          </p:nvSpPr>
          <p:spPr>
            <a:xfrm>
              <a:off x="755640" y="333360"/>
              <a:ext cx="2879640" cy="1008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187280" y="404640"/>
              <a:ext cx="208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Arial"/>
                </a:rPr>
                <a:t>想一想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9"/>
          <p:cNvSpPr/>
          <p:nvPr/>
        </p:nvSpPr>
        <p:spPr>
          <a:xfrm>
            <a:off x="0" y="4292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、我们学习过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修辞方法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跟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说明方法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有哪些不同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0" y="184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，我们学过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修辞方法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有哪些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0:57:10Z</dcterms:created>
  <dc:creator/>
  <dc:description/>
  <cp:keywords>幻灯片之家 http:/www.eeppt.com</cp:keywords>
  <dc:language>en-US</dc:language>
  <cp:lastModifiedBy/>
  <dcterms:modified xsi:type="dcterms:W3CDTF">2015-07-20T03:47:46Z</dcterms:modified>
  <cp:revision>6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