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8ED-FF4F-4F35-9274-41849335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A8A-407F-4F7E-8854-2293CAB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A7F-B93A-42E8-BC08-0818F1FA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C65-C010-41A1-A01E-5E9E104B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A8D-EE35-4763-902B-F03603F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B2C-1DBF-445D-97AB-4664EA67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896-53E6-4273-84C4-E8CC0461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8EF-6668-4E95-BBC4-2CA14B4F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097-5825-419C-B26C-69E7A8AA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544-2764-4D88-AC90-0D4B0F9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C65-E1CE-45F8-8294-F1E729C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388-D5D8-4858-A397-04C64DF9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375-6055-48B5-B954-AF69854B8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36918491549512"/>
          <p:cNvPicPr/>
          <p:nvPr/>
        </p:nvPicPr>
        <p:blipFill>
          <a:blip r:embed="rId1"/>
          <a:stretch/>
        </p:blipFill>
        <p:spPr>
          <a:xfrm>
            <a:off x="5076720" y="657360"/>
            <a:ext cx="4523040" cy="48654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7308720" y="4184640"/>
            <a:ext cx="396720" cy="396720"/>
            <a:chOff x="7308720" y="4184640"/>
            <a:chExt cx="396720" cy="396720"/>
          </a:xfrm>
        </p:grpSpPr>
        <p:sp>
          <p:nvSpPr>
            <p:cNvPr id="43" name="Oval 4"/>
            <p:cNvSpPr/>
            <p:nvPr/>
          </p:nvSpPr>
          <p:spPr>
            <a:xfrm>
              <a:off x="7308720" y="4184640"/>
              <a:ext cx="396720" cy="396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>
              <a:off x="7380000" y="4257720"/>
              <a:ext cx="250920" cy="2509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46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49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2376360" y="3968640"/>
              <a:ext cx="1079640" cy="107928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2448000" y="4113000"/>
              <a:ext cx="863640" cy="86364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53" name="Oval 14"/>
            <p:cNvSpPr/>
            <p:nvPr/>
          </p:nvSpPr>
          <p:spPr>
            <a:xfrm>
              <a:off x="2950920" y="3462120"/>
              <a:ext cx="828360" cy="828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3095280" y="3608280"/>
              <a:ext cx="539280" cy="539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79640" y="44280"/>
            <a:ext cx="1044720" cy="1008000"/>
            <a:chOff x="2879640" y="44280"/>
            <a:chExt cx="1044720" cy="1008000"/>
          </a:xfrm>
        </p:grpSpPr>
        <p:sp>
          <p:nvSpPr>
            <p:cNvPr id="57" name="Oval 18"/>
            <p:cNvSpPr/>
            <p:nvPr/>
          </p:nvSpPr>
          <p:spPr>
            <a:xfrm>
              <a:off x="2879640" y="44280"/>
              <a:ext cx="1044720" cy="100800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3095640" y="260280"/>
              <a:ext cx="610920" cy="6109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158920" y="619200"/>
            <a:ext cx="1225440" cy="1225440"/>
            <a:chOff x="2158920" y="619200"/>
            <a:chExt cx="1225440" cy="1225440"/>
          </a:xfrm>
        </p:grpSpPr>
        <p:sp>
          <p:nvSpPr>
            <p:cNvPr id="61" name="Oval 22"/>
            <p:cNvSpPr/>
            <p:nvPr/>
          </p:nvSpPr>
          <p:spPr>
            <a:xfrm>
              <a:off x="2158920" y="619200"/>
              <a:ext cx="1225440" cy="122544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2268360" y="728640"/>
              <a:ext cx="1008000" cy="1008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65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9"/>
          <p:cNvSpPr/>
          <p:nvPr/>
        </p:nvSpPr>
        <p:spPr>
          <a:xfrm>
            <a:off x="-3527280" y="549360"/>
            <a:ext cx="3527280" cy="7308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70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efd6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3419280" y="4327200"/>
              <a:ext cx="1223640" cy="1224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3600360" y="4508280"/>
              <a:ext cx="862920" cy="86364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34"/>
          <p:cNvSpPr/>
          <p:nvPr/>
        </p:nvSpPr>
        <p:spPr>
          <a:xfrm>
            <a:off x="-273528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5"/>
          <p:cNvSpPr/>
          <p:nvPr/>
        </p:nvSpPr>
        <p:spPr>
          <a:xfrm>
            <a:off x="-4749840" y="4581360"/>
            <a:ext cx="4749840" cy="36720"/>
          </a:xfrm>
          <a:prstGeom prst="roundRect">
            <a:avLst>
              <a:gd name="adj" fmla="val 16667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-4788000" y="873000"/>
            <a:ext cx="478800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-5830920" y="4689360"/>
            <a:ext cx="56516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08" name="Oval 69"/>
            <p:cNvSpPr/>
            <p:nvPr/>
          </p:nvSpPr>
          <p:spPr>
            <a:xfrm>
              <a:off x="1439640" y="549360"/>
              <a:ext cx="14256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40292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12" name="Oval 73"/>
            <p:cNvSpPr/>
            <p:nvPr/>
          </p:nvSpPr>
          <p:spPr>
            <a:xfrm>
              <a:off x="468000" y="1196640"/>
              <a:ext cx="144720" cy="144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468000" y="1196640"/>
              <a:ext cx="144720" cy="144360"/>
            </a:xfrm>
            <a:prstGeom prst="ellipse">
              <a:avLst/>
            </a:prstGeom>
            <a:noFill/>
            <a:ln w="255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7"/>
          <p:cNvSpPr/>
          <p:nvPr/>
        </p:nvSpPr>
        <p:spPr>
          <a:xfrm>
            <a:off x="-2193840" y="692280"/>
            <a:ext cx="21938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8"/>
          <p:cNvSpPr/>
          <p:nvPr/>
        </p:nvSpPr>
        <p:spPr>
          <a:xfrm>
            <a:off x="-5291280" y="1052640"/>
            <a:ext cx="5291280" cy="7272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9"/>
          <p:cNvSpPr/>
          <p:nvPr/>
        </p:nvSpPr>
        <p:spPr>
          <a:xfrm>
            <a:off x="-1403280" y="1052640"/>
            <a:ext cx="1403280" cy="7272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122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2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91480" y="2205000"/>
            <a:ext cx="3651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可爱的动态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8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36918501712034"/>
          <p:cNvPicPr/>
          <p:nvPr/>
        </p:nvPicPr>
        <p:blipFill>
          <a:blip r:embed="rId1"/>
          <a:srcRect l="21770" t="12186" r="15591" b="0"/>
          <a:stretch/>
        </p:blipFill>
        <p:spPr>
          <a:xfrm>
            <a:off x="5364000" y="800280"/>
            <a:ext cx="32148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308720" y="4184640"/>
            <a:ext cx="396720" cy="396720"/>
            <a:chOff x="7308720" y="4184640"/>
            <a:chExt cx="396720" cy="396720"/>
          </a:xfrm>
        </p:grpSpPr>
        <p:sp>
          <p:nvSpPr>
            <p:cNvPr id="129" name="Oval 4"/>
            <p:cNvSpPr/>
            <p:nvPr/>
          </p:nvSpPr>
          <p:spPr>
            <a:xfrm>
              <a:off x="7308720" y="4184640"/>
              <a:ext cx="396720" cy="396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7380000" y="4257720"/>
              <a:ext cx="250920" cy="2509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132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135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2376360" y="3968640"/>
              <a:ext cx="1079640" cy="107928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2448000" y="4113000"/>
              <a:ext cx="863640" cy="86364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139" name="Oval 14"/>
            <p:cNvSpPr/>
            <p:nvPr/>
          </p:nvSpPr>
          <p:spPr>
            <a:xfrm>
              <a:off x="2950920" y="3462120"/>
              <a:ext cx="828360" cy="828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5"/>
            <p:cNvSpPr/>
            <p:nvPr/>
          </p:nvSpPr>
          <p:spPr>
            <a:xfrm>
              <a:off x="3095280" y="3608280"/>
              <a:ext cx="539280" cy="539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879640" y="44280"/>
            <a:ext cx="1044720" cy="1008000"/>
            <a:chOff x="2879640" y="44280"/>
            <a:chExt cx="1044720" cy="1008000"/>
          </a:xfrm>
        </p:grpSpPr>
        <p:sp>
          <p:nvSpPr>
            <p:cNvPr id="143" name="Oval 18"/>
            <p:cNvSpPr/>
            <p:nvPr/>
          </p:nvSpPr>
          <p:spPr>
            <a:xfrm>
              <a:off x="2879640" y="44280"/>
              <a:ext cx="1044720" cy="100800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0"/>
            <p:cNvSpPr/>
            <p:nvPr/>
          </p:nvSpPr>
          <p:spPr>
            <a:xfrm>
              <a:off x="3095640" y="260280"/>
              <a:ext cx="610920" cy="6109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158920" y="619200"/>
            <a:ext cx="1225440" cy="1225440"/>
            <a:chOff x="2158920" y="619200"/>
            <a:chExt cx="1225440" cy="1225440"/>
          </a:xfrm>
        </p:grpSpPr>
        <p:sp>
          <p:nvSpPr>
            <p:cNvPr id="147" name="Oval 22"/>
            <p:cNvSpPr/>
            <p:nvPr/>
          </p:nvSpPr>
          <p:spPr>
            <a:xfrm>
              <a:off x="2158920" y="619200"/>
              <a:ext cx="1225440" cy="122544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2268360" y="728640"/>
              <a:ext cx="1008000" cy="1008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151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29"/>
          <p:cNvSpPr/>
          <p:nvPr/>
        </p:nvSpPr>
        <p:spPr>
          <a:xfrm>
            <a:off x="-3527280" y="549360"/>
            <a:ext cx="3527280" cy="7308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156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d5f0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419280" y="4327200"/>
              <a:ext cx="1223640" cy="1224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3"/>
            <p:cNvSpPr/>
            <p:nvPr/>
          </p:nvSpPr>
          <p:spPr>
            <a:xfrm>
              <a:off x="3600360" y="4508280"/>
              <a:ext cx="862920" cy="86364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34"/>
          <p:cNvSpPr/>
          <p:nvPr/>
        </p:nvSpPr>
        <p:spPr>
          <a:xfrm>
            <a:off x="-273528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-4749840" y="4581360"/>
            <a:ext cx="4749840" cy="36720"/>
          </a:xfrm>
          <a:prstGeom prst="roundRect">
            <a:avLst>
              <a:gd name="adj" fmla="val 16667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-4788000" y="873000"/>
            <a:ext cx="478800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7"/>
          <p:cNvSpPr/>
          <p:nvPr/>
        </p:nvSpPr>
        <p:spPr>
          <a:xfrm>
            <a:off x="-5830920" y="4689360"/>
            <a:ext cx="56516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94" name="Oval 69"/>
            <p:cNvSpPr/>
            <p:nvPr/>
          </p:nvSpPr>
          <p:spPr>
            <a:xfrm>
              <a:off x="1439640" y="549360"/>
              <a:ext cx="142560" cy="14292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70"/>
            <p:cNvSpPr/>
            <p:nvPr/>
          </p:nvSpPr>
          <p:spPr>
            <a:xfrm>
              <a:off x="140292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98" name="Oval 73"/>
            <p:cNvSpPr/>
            <p:nvPr/>
          </p:nvSpPr>
          <p:spPr>
            <a:xfrm>
              <a:off x="468000" y="1196640"/>
              <a:ext cx="144720" cy="14436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4"/>
            <p:cNvSpPr/>
            <p:nvPr/>
          </p:nvSpPr>
          <p:spPr>
            <a:xfrm>
              <a:off x="468000" y="1196640"/>
              <a:ext cx="144720" cy="14436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7"/>
          <p:cNvSpPr/>
          <p:nvPr/>
        </p:nvSpPr>
        <p:spPr>
          <a:xfrm>
            <a:off x="-2193840" y="692280"/>
            <a:ext cx="21938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8"/>
          <p:cNvSpPr/>
          <p:nvPr/>
        </p:nvSpPr>
        <p:spPr>
          <a:xfrm>
            <a:off x="-5291280" y="1052640"/>
            <a:ext cx="5291280" cy="7272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9"/>
          <p:cNvSpPr/>
          <p:nvPr/>
        </p:nvSpPr>
        <p:spPr>
          <a:xfrm>
            <a:off x="-1403280" y="1052640"/>
            <a:ext cx="1403280" cy="7272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208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11280" y="292572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320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322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326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328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442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8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415-490D-47BC-A352-94382607FE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35:21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1:3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