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7000" y="152280"/>
            <a:ext cx="750384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7000" y="152280"/>
            <a:ext cx="750384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F8E7C39-A34E-4A01-8284-1670F3FFCD4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2160" y="1893600"/>
            <a:ext cx="52707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200"/>
            </a:br>
            <a:r>
              <a:rPr b="1" sz="32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422160" y="3024000"/>
            <a:ext cx="527076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Enter your subtitle or m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author‘s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6000" y="41799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75320" y="48744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科幻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ffffff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ffffff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2560" y="765000"/>
            <a:ext cx="63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40505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54080" y="173160"/>
            <a:ext cx="8835840" cy="6497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61880" y="727200"/>
            <a:ext cx="85392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 indent="-154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Feel free to use this PowerPoint template and background for your persona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educational and business present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59720" y="2890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Copyright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336600" y="3519360"/>
            <a:ext cx="84931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05:42Z</dcterms:modified>
  <cp:revision>6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