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4EF-9389-476F-B8B5-0F63D48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DFE-78B9-4917-AD7A-3BD1CAC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441-E92B-4D67-9120-75B29C1F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363-C4D5-4D30-B84D-0EDB8E99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62F4-6998-4CC4-9669-9D468A4C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A9A-9457-4D33-9C16-0E3A043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4AF-A0FD-4B1C-A6B3-73B573F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9DE-9403-4D61-A1EF-0D37AC5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5CA-FAA6-4CAE-88B0-D55D5D54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98A3-00D2-4A7D-B1D0-3DE3E6B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9F20-21DD-4B50-AA19-0827EE8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156-CACB-46D3-A7F6-DF29A8A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D6C-7C1C-4392-A454-5E5F733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E41-16E2-4E29-9DA6-FC7D677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837F-FC1F-43BE-9E79-791BE1FA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EF5A-8EEA-4171-8772-A239279E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95D1-A114-4310-8C44-795A9EA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60A-0BE3-4F83-9C15-3A752E10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57B-6AF3-456C-8692-214CF763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489-202A-451A-A281-41196BA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F2A-B6A7-471A-BB49-FF59857E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26C-1C00-4194-8FF4-9C72A0F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EBA-6B23-478C-995A-03022BE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A93-A22E-4745-9598-E11500E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BE9-6952-4E88-A621-E5E20C2975B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685-76E3-4496-A702-EC64D3E1691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95280" y="4941360"/>
            <a:ext cx="4969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卡通动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5080" y="638172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2560" y="7650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CF8-C381-40AD-B0BE-488D23954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c4a7d"/>
                </a:solidFill>
                <a:latin typeface="华文隶书"/>
                <a:ea typeface="华文隶书"/>
              </a:rPr>
              <a:t>谢谢观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763640" y="47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9:56Z</dcterms:modified>
  <cp:revision>7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