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AF3-BA2F-484D-BFC0-A2C63D5C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540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F04-C300-42DA-884F-537E2510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523-CE41-42A4-BB3E-8CC2CF8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6094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54080"/>
            <a:ext cx="2404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0BC-D1EC-4966-8435-E8645AB5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722-26B3-43A4-B9A2-50A280F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34B-8230-4A56-BA89-D1E837AA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321-A645-424B-9A23-90FF1DA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9C3-9D75-49E8-9A38-213FEFE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7467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118-4040-4264-93E2-6289FC0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BCB-40E1-430D-9D3B-A136385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540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CFE-0E41-4762-9EFC-F7AF56F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-849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609480"/>
            <a:ext cx="36442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54080"/>
            <a:ext cx="74678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1C0-BA3F-43BE-8F4D-7D4AEBB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54d4d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609480"/>
            <a:ext cx="7467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626D-2B80-4A1F-90BB-BB68F9CAB783}" type="slidenum">
              <a:rPr b="1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2"/>
          <a:stretch/>
        </p:blipFill>
        <p:spPr>
          <a:xfrm>
            <a:off x="3276720" y="5334120"/>
            <a:ext cx="2743200" cy="150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卡通婚礼</a:t>
            </a:r>
            <a:r>
              <a:rPr b="1" i="1" lang="en-US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模板下载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3"/>
          <a:stretch/>
        </p:blipFill>
        <p:spPr>
          <a:xfrm>
            <a:off x="2666880" y="304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2" descr=""/>
          <p:cNvPicPr/>
          <p:nvPr/>
        </p:nvPicPr>
        <p:blipFill>
          <a:blip r:embed="rId2"/>
          <a:stretch/>
        </p:blipFill>
        <p:spPr>
          <a:xfrm>
            <a:off x="-684360" y="1066680"/>
            <a:ext cx="398016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3880" y="609480"/>
            <a:ext cx="3657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114800" cy="3853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1" i="1" lang="en-US" sz="72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zh-CN" sz="2000" spc="-1" strike="noStrike">
              <a:solidFill>
                <a:srgbClr val="4d4d4d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-227160" y="990720"/>
            <a:ext cx="258444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3880" y="609480"/>
            <a:ext cx="3657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4d4d4d"/>
              </a:buClr>
              <a:buSzPct val="200000"/>
              <a:buFont typeface="Tahoma"/>
              <a:buChar char="•"/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854d4d"/>
                </a:solidFill>
                <a:latin typeface="Times New Roman"/>
                <a:ea typeface="宋体"/>
              </a:rPr>
              <a:t>使用规范说明</a:t>
            </a:r>
            <a:endParaRPr b="1" i="1" lang="en-US" sz="4000" spc="-1" strike="noStrike">
              <a:solidFill>
                <a:srgbClr val="854d4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Tahoma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6:58:00Z</dcterms:created>
  <dc:creator>微软中国</dc:creator>
  <dc:description/>
  <dc:language>en-US</dc:language>
  <cp:lastModifiedBy>a</cp:lastModifiedBy>
  <dcterms:modified xsi:type="dcterms:W3CDTF">2015-08-24T12:45:47Z</dcterms:modified>
  <cp:revision>3</cp:revision>
  <dc:subject/>
  <dc:title>Wedding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