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6726-5792-414C-8FEE-F10FE18AF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A725-655E-433C-B3BB-004921CE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6296-C281-49B3-9F25-B0876BB40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8436-5A03-4633-8AFC-3657CD941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07B9-0B10-4F1E-B8B0-B9FD32034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D6AE-7C33-4C53-B013-29FBB7B0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DEC6-2FCB-45D3-A13B-FD2AB60D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ED31-22EF-429D-BB5B-A1189AAC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2E50-AD19-4FB3-BAA3-F47A00A0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C283-71FA-4E44-A919-B6D8B6AE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2BFB-2437-4177-98B2-7C15E4C5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40D7-00AE-4FA1-8D3A-38AEC990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2638-D0C8-4FEF-BE9D-B03DE149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7199-D366-467E-AB4E-4B2DB388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03A7-E39B-413D-9C16-C1544F87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6ACA-FD9E-408B-A03B-8ABC0E434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81E5-06AF-4449-8D3E-E3BDAA65B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51CE8-9041-4586-92C8-E499063D9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14CD4-9672-419C-A1AB-97F26EB1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01CED-1C38-4CF5-AAAA-950116F2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077E6-385E-47FB-BDFD-BF65B7E5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66AAC-119E-4AA6-8B29-6868CDD8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B443-8BF6-4C37-B3BD-02D0E928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4892C-D543-44DE-8335-3F7EBE9C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0AE05-9070-467E-9554-AC10FCA0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C3E49-F10E-431F-B99C-B7846B93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60504-BC58-4D86-8B2A-8627713A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33317-454B-4F91-B269-DE8A997E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B8FF2-3609-4B47-BB75-A287E4B73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FC7DB-3211-44EB-94AD-8684E42B9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0D618-CA9B-4919-B252-CA3FD0FFD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3911C-A028-4BAB-A348-D724425C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28075-AEC4-4884-AB81-74DD9CE4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4072-5FD9-4C04-BEFE-1FDB463B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8F169-7732-4EF2-B2AD-644C528A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8D0A6-F4D1-4B50-B072-52235C59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5AC7D-EE2B-4169-A629-9198A1A7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5E622-4A24-4305-BF85-D7620F51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C2D18-389A-4E14-896C-D40E5AF8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03708-4A35-4C41-8860-5A6B0028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12A46-9DF6-4C21-8DF4-9139E956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0E7DF-025D-4B6A-A0F9-81B3236E3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08496-6D67-472F-93AE-00843B6D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3F67D-38CD-45AC-92FD-627231A0D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B552-FF39-4607-B572-392D4E88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1B333-44F3-4BA5-B180-D25BC9B3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000B5-3F6A-441B-AB75-19B49D8E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9B4DB-3DAE-4FD7-9093-3F2BCF44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79BEE-C2E5-4BD7-B57E-E0C998FB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70411-D73B-46F4-8F68-EE3D6885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695B0-F5D1-4390-8F9E-D65DFBE9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4E902-7B52-44EE-90F0-118468AD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AC755-E802-4999-90CF-7FADC3C9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0DD0F-FA27-4085-951C-D41B26A6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5BEE7-16B5-4CED-BE9B-0F3DF8D8A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64A1-5C20-4E12-B280-B1B800D5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5E331-18D9-4EDF-B1C8-8070402F9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F6926-4434-4E52-82B5-D8C37285E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5B108-D02C-4960-83AB-C5CD5AB0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D662D-6525-4DAD-8260-7BE49F67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5A2AE-02E4-4A5E-9188-6CED4126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5FDEF-B12B-47CC-9092-0FCCF6F4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56859-A273-4FCA-97C3-42A3D104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AEDF3-C5B8-4AAD-95E5-550BF07C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4140B-FC28-49EF-B305-8DDFCB24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E3D2A-9C14-428E-AA2C-35C43E06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0365-801E-413F-B36F-D112C539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AD7E3-3586-4B68-B4EB-3B3A6E10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62DAB-7B65-42FE-8B07-43F4F1E10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2BA82-99A7-40F4-91FF-807A69A2C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07BF1-ED1C-4963-A7A6-4319F801E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0A234-E61A-4A4C-AB7C-83A8264D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6D83B-18F5-4468-8D54-A96D6917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355D5-6F11-4025-B9BE-43B64A31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69F81-CE9A-485B-A076-E27E4D1D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DEFFE-C7BC-4A9E-9C2E-5D2C4D18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75BA4-37A6-4762-B507-E9FF1C05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FF81-3C53-4CC1-93CD-59B2B882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3D64D-AB14-4E37-ADEC-F17CB43E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4843E-2C95-4265-BB1D-6AC4A738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2DECA-3D4A-4A88-A252-48DF3DAE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A7EA5-78F0-4D67-B37B-597B6571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8371A-7531-4FD7-8698-8C6A34D08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83A8-2100-4F1B-A17E-BADD53F6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PT背景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8213-83B7-499A-8E24-463A41FEE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CCCE-BAF9-453A-973D-EFA5BB2DA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PPT背景_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PPT背景_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CF36-FC50-480B-91B2-EF2E5217D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PPT背景_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ADC6-3D8A-4CDD-9C85-13C84B7A4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PPT背景_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7C7E-6741-4E28-924D-EE4FD1EC2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PPT背景_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7FE1-29E0-4799-8865-4CE0BBBBC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8E7B-CEB0-4CB3-A205-EF74147C9E4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矩形 1"/>
          <p:cNvSpPr/>
          <p:nvPr/>
        </p:nvSpPr>
        <p:spPr>
          <a:xfrm>
            <a:off x="2393640" y="45720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母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3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0T06:37:0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37:2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Version">
    <vt:r8>1</vt:r8>
  </property>
</Properties>
</file>