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1FB-08D0-4513-B87B-88B3C9EE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1520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3CEC-B430-4721-8970-5A917384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977-9701-4822-B5DE-E45430DA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C09-5E1C-4817-B4B7-58DBC63B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F098-5F09-4919-ADA3-2ADF9347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5715-2D11-499C-9670-6DC40FA4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50CF-CE0E-4199-8FC3-89712212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07D5-E139-4D48-915C-AB93D2D6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B11F6-098E-425B-BE86-A7BDD59B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A44C-E591-46ED-AF53-603B5BD2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FED1-84D3-40A9-88DA-7BBED2D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45CA-1766-400B-A701-C63ABDD19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7CA2-CD8B-4BDC-AC98-A048E8FE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76D7-54DF-4E13-920C-299034CE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71520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7C27-48D0-4E32-A496-F326FFE6D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43FA-6DA1-4BCF-A2BD-C696121D2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01916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715200"/>
            <a:ext cx="250236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683F-81CA-4172-A62D-26AF0C52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8448-32D5-4AF3-839F-345EF63B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155-259E-48C8-BEE8-E6A5E627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4E1D-4E1C-4CF7-95EF-6B103D75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3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42C-E75F-4729-AD69-59F89CC55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CA8F-6176-42CB-B4B4-478D8FCA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1520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5699-76D8-4E27-9B28-0F5D7E71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19160"/>
            <a:ext cx="37926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15200"/>
            <a:ext cx="7772400" cy="24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8ED-8D8E-497C-8970-49D8E08D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0656-3242-44B3-B5E0-9654AB0D27AC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0" t="0" r="0" b="-294"/>
          <a:stretch/>
        </p:blipFill>
        <p:spPr>
          <a:xfrm>
            <a:off x="0" y="0"/>
            <a:ext cx="9144000" cy="80820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8"/>
          <p:cNvSpPr/>
          <p:nvPr/>
        </p:nvSpPr>
        <p:spPr>
          <a:xfrm>
            <a:off x="0" y="808200"/>
            <a:ext cx="9144000" cy="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"/>
          <p:cNvPicPr/>
          <p:nvPr/>
        </p:nvPicPr>
        <p:blipFill>
          <a:blip r:embed="rId2"/>
          <a:srcRect l="0" t="0" r="0" b="-294"/>
          <a:stretch/>
        </p:blipFill>
        <p:spPr>
          <a:xfrm>
            <a:off x="0" y="0"/>
            <a:ext cx="9144000" cy="8082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8"/>
          <p:cNvSpPr/>
          <p:nvPr/>
        </p:nvSpPr>
        <p:spPr>
          <a:xfrm>
            <a:off x="0" y="808200"/>
            <a:ext cx="9144000" cy="0"/>
          </a:xfrm>
          <a:prstGeom prst="line">
            <a:avLst/>
          </a:prstGeom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"/>
          <p:cNvPicPr/>
          <p:nvPr/>
        </p:nvPicPr>
        <p:blipFill>
          <a:blip r:embed="rId3"/>
          <a:srcRect l="0" t="0" r="0" b="3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-4680" y="4230720"/>
            <a:ext cx="9155160" cy="2633760"/>
            <a:chOff x="-4680" y="4230720"/>
            <a:chExt cx="9155160" cy="2633760"/>
          </a:xfrm>
        </p:grpSpPr>
        <p:pic>
          <p:nvPicPr>
            <p:cNvPr id="47" name="Right Triangle 7" descr=""/>
            <p:cNvPicPr/>
            <p:nvPr/>
          </p:nvPicPr>
          <p:blipFill>
            <a:blip r:embed="rId4"/>
            <a:stretch/>
          </p:blipFill>
          <p:spPr>
            <a:xfrm>
              <a:off x="-4680" y="4230720"/>
              <a:ext cx="9155160" cy="26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7"/>
            <p:cNvSpPr/>
            <p:nvPr/>
          </p:nvSpPr>
          <p:spPr>
            <a:xfrm>
              <a:off x="0" y="4237200"/>
              <a:ext cx="9144360" cy="26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Freeform 8"/>
          <p:cNvSpPr/>
          <p:nvPr/>
        </p:nvSpPr>
        <p:spPr>
          <a:xfrm>
            <a:off x="-9360" y="4243320"/>
            <a:ext cx="9153360" cy="2621160"/>
          </a:xfrm>
          <a:custGeom>
            <a:avLst/>
            <a:gdLst/>
            <a:ahLst/>
            <a:rect l="l" t="t" r="r" b="b"/>
            <a:pathLst>
              <a:path w="9155875" h="2620586">
                <a:moveTo>
                  <a:pt x="0" y="8014"/>
                </a:moveTo>
                <a:cubicBezTo>
                  <a:pt x="2366159" y="-37509"/>
                  <a:pt x="3829792" y="106975"/>
                  <a:pt x="5355771" y="542404"/>
                </a:cubicBezTo>
                <a:cubicBezTo>
                  <a:pt x="6881750" y="977833"/>
                  <a:pt x="8736280" y="1858586"/>
                  <a:pt x="9155875" y="2620586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322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4004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F3FFD-281E-43D9-985B-B78850DED5E9}" type="slidenum">
              <a:rPr b="0" lang="zh-CN" sz="11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4846680"/>
            <a:ext cx="68580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矩形 1"/>
          <p:cNvSpPr/>
          <p:nvPr/>
        </p:nvSpPr>
        <p:spPr>
          <a:xfrm>
            <a:off x="2255400" y="5126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红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019160"/>
            <a:ext cx="77724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38120" y="-17640"/>
            <a:ext cx="40114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ff8119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8119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8119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1T01:47:34Z</dcterms:modified>
  <cp:revision>1</cp:revision>
  <dc:subject/>
  <dc:title>PowerPoint 演示文稿</dc:title>
</cp:coreProperties>
</file>