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C3A-4D4A-4194-B128-3231BBA2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402-0451-44C9-BE6B-91EB872C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259-606A-4604-96B9-C02D5A65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D63-7C10-4B90-929E-139AEBF8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51C-43AD-4E92-9589-C72F9F42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071-302F-4010-A088-004E3BB9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D02-F1C1-4633-86E7-629897F7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AFB-A766-4F6C-80E3-5D46D662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201-5BE8-4727-890B-14CC214D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87B-3223-4E4A-9ED8-2476288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9BF-E856-41D2-B9B2-CC0C6860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7C8-66F7-4AEA-A511-DE65043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7D8B-2A81-4C53-9D46-E403C75F1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6" descr="@NLLJK5W@NMT`ACPLD4U(R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仿宋_GB2312"/>
              </a:rPr>
              <a:t>梦幻青春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仿宋_GB2312"/>
              </a:rPr>
              <a:t>PPT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仿宋_GB2312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7085160" y="5473440"/>
            <a:ext cx="1166040" cy="972000"/>
            <a:chOff x="7085160" y="5473440"/>
            <a:chExt cx="1166040" cy="972000"/>
          </a:xfrm>
        </p:grpSpPr>
        <p:grpSp>
          <p:nvGrpSpPr>
            <p:cNvPr id="44" name="Group 6"/>
            <p:cNvGrpSpPr/>
            <p:nvPr/>
          </p:nvGrpSpPr>
          <p:grpSpPr>
            <a:xfrm>
              <a:off x="7085160" y="5473440"/>
              <a:ext cx="1166040" cy="972000"/>
              <a:chOff x="7085160" y="5473440"/>
              <a:chExt cx="1166040" cy="972000"/>
            </a:xfrm>
          </p:grpSpPr>
          <p:sp>
            <p:nvSpPr>
              <p:cNvPr id="45" name="Freeform 7"/>
              <p:cNvSpPr/>
              <p:nvPr/>
            </p:nvSpPr>
            <p:spPr>
              <a:xfrm rot="20073000">
                <a:off x="7186680" y="5760360"/>
                <a:ext cx="54468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8"/>
              <p:cNvSpPr/>
              <p:nvPr/>
            </p:nvSpPr>
            <p:spPr>
              <a:xfrm flipH="1" rot="20073000">
                <a:off x="7669800" y="5546520"/>
                <a:ext cx="47556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9"/>
            <p:cNvGrpSpPr/>
            <p:nvPr/>
          </p:nvGrpSpPr>
          <p:grpSpPr>
            <a:xfrm>
              <a:off x="7184160" y="5571720"/>
              <a:ext cx="970920" cy="774360"/>
              <a:chOff x="7184160" y="5571720"/>
              <a:chExt cx="970920" cy="774360"/>
            </a:xfrm>
          </p:grpSpPr>
          <p:sp>
            <p:nvSpPr>
              <p:cNvPr id="48" name="Freeform 10"/>
              <p:cNvSpPr/>
              <p:nvPr/>
            </p:nvSpPr>
            <p:spPr>
              <a:xfrm rot="20073000">
                <a:off x="7257600" y="5820120"/>
                <a:ext cx="4665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1"/>
              <p:cNvSpPr/>
              <p:nvPr/>
            </p:nvSpPr>
            <p:spPr>
              <a:xfrm flipH="1" rot="20073000">
                <a:off x="7671240" y="5637240"/>
                <a:ext cx="4071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Group 90"/>
          <p:cNvGrpSpPr/>
          <p:nvPr/>
        </p:nvGrpSpPr>
        <p:grpSpPr>
          <a:xfrm>
            <a:off x="-43200" y="5714280"/>
            <a:ext cx="1044720" cy="927000"/>
            <a:chOff x="-43200" y="5714280"/>
            <a:chExt cx="1044720" cy="927000"/>
          </a:xfrm>
        </p:grpSpPr>
        <p:grpSp>
          <p:nvGrpSpPr>
            <p:cNvPr id="51" name="Group 91"/>
            <p:cNvGrpSpPr/>
            <p:nvPr/>
          </p:nvGrpSpPr>
          <p:grpSpPr>
            <a:xfrm>
              <a:off x="-43200" y="5714280"/>
              <a:ext cx="1044720" cy="927000"/>
              <a:chOff x="-43200" y="5714280"/>
              <a:chExt cx="1044720" cy="927000"/>
            </a:xfrm>
          </p:grpSpPr>
          <p:sp>
            <p:nvSpPr>
              <p:cNvPr id="52" name="Freeform 92"/>
              <p:cNvSpPr/>
              <p:nvPr/>
            </p:nvSpPr>
            <p:spPr>
              <a:xfrm rot="2127600">
                <a:off x="40680" y="5822280"/>
                <a:ext cx="51804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93"/>
              <p:cNvSpPr/>
              <p:nvPr/>
            </p:nvSpPr>
            <p:spPr>
              <a:xfrm flipH="1" rot="2127000">
                <a:off x="458640" y="6096600"/>
                <a:ext cx="45252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4"/>
            <p:cNvGrpSpPr/>
            <p:nvPr/>
          </p:nvGrpSpPr>
          <p:grpSpPr>
            <a:xfrm>
              <a:off x="47160" y="5801400"/>
              <a:ext cx="866520" cy="754560"/>
              <a:chOff x="47160" y="5801400"/>
              <a:chExt cx="866520" cy="754560"/>
            </a:xfrm>
          </p:grpSpPr>
          <p:sp>
            <p:nvSpPr>
              <p:cNvPr id="55" name="Freeform 95"/>
              <p:cNvSpPr/>
              <p:nvPr/>
            </p:nvSpPr>
            <p:spPr>
              <a:xfrm rot="2127600">
                <a:off x="105120" y="5898240"/>
                <a:ext cx="44388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96"/>
              <p:cNvSpPr/>
              <p:nvPr/>
            </p:nvSpPr>
            <p:spPr>
              <a:xfrm flipH="1" rot="2127000">
                <a:off x="462600" y="6133320"/>
                <a:ext cx="38736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97"/>
          <p:cNvGrpSpPr/>
          <p:nvPr/>
        </p:nvGrpSpPr>
        <p:grpSpPr>
          <a:xfrm>
            <a:off x="6484320" y="2532240"/>
            <a:ext cx="970560" cy="952200"/>
            <a:chOff x="6484320" y="2532240"/>
            <a:chExt cx="970560" cy="952200"/>
          </a:xfrm>
        </p:grpSpPr>
        <p:grpSp>
          <p:nvGrpSpPr>
            <p:cNvPr id="58" name="Group 98"/>
            <p:cNvGrpSpPr/>
            <p:nvPr/>
          </p:nvGrpSpPr>
          <p:grpSpPr>
            <a:xfrm>
              <a:off x="6484320" y="2532240"/>
              <a:ext cx="970560" cy="952200"/>
              <a:chOff x="6484320" y="2532240"/>
              <a:chExt cx="970560" cy="952200"/>
            </a:xfrm>
          </p:grpSpPr>
          <p:sp>
            <p:nvSpPr>
              <p:cNvPr id="59" name="Freeform 99"/>
              <p:cNvSpPr/>
              <p:nvPr/>
            </p:nvSpPr>
            <p:spPr>
              <a:xfrm rot="2428800">
                <a:off x="6629400" y="259416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00"/>
              <p:cNvSpPr/>
              <p:nvPr/>
            </p:nvSpPr>
            <p:spPr>
              <a:xfrm flipH="1" rot="2428200">
                <a:off x="6942600" y="283896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01"/>
            <p:cNvGrpSpPr/>
            <p:nvPr/>
          </p:nvGrpSpPr>
          <p:grpSpPr>
            <a:xfrm>
              <a:off x="6575760" y="2626200"/>
              <a:ext cx="789120" cy="766080"/>
              <a:chOff x="6575760" y="2626200"/>
              <a:chExt cx="789120" cy="766080"/>
            </a:xfrm>
          </p:grpSpPr>
          <p:sp>
            <p:nvSpPr>
              <p:cNvPr id="62" name="Freeform 102"/>
              <p:cNvSpPr/>
              <p:nvPr/>
            </p:nvSpPr>
            <p:spPr>
              <a:xfrm rot="2428800">
                <a:off x="6679080" y="2687040"/>
                <a:ext cx="353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03"/>
              <p:cNvSpPr/>
              <p:nvPr/>
            </p:nvSpPr>
            <p:spPr>
              <a:xfrm flipH="1" rot="2428200">
                <a:off x="6946920" y="289584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11"/>
          <p:cNvGrpSpPr/>
          <p:nvPr/>
        </p:nvGrpSpPr>
        <p:grpSpPr>
          <a:xfrm>
            <a:off x="4944960" y="1241640"/>
            <a:ext cx="325080" cy="403560"/>
            <a:chOff x="4944960" y="1241640"/>
            <a:chExt cx="325080" cy="403560"/>
          </a:xfrm>
        </p:grpSpPr>
        <p:grpSp>
          <p:nvGrpSpPr>
            <p:cNvPr id="65" name="Group 112"/>
            <p:cNvGrpSpPr/>
            <p:nvPr/>
          </p:nvGrpSpPr>
          <p:grpSpPr>
            <a:xfrm>
              <a:off x="4944960" y="1241640"/>
              <a:ext cx="325080" cy="403560"/>
              <a:chOff x="4944960" y="1241640"/>
              <a:chExt cx="325080" cy="403560"/>
            </a:xfrm>
          </p:grpSpPr>
          <p:sp>
            <p:nvSpPr>
              <p:cNvPr id="66" name="Freeform 113"/>
              <p:cNvSpPr/>
              <p:nvPr/>
            </p:nvSpPr>
            <p:spPr>
              <a:xfrm rot="14869800">
                <a:off x="5042880" y="1413720"/>
                <a:ext cx="18972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14"/>
              <p:cNvSpPr/>
              <p:nvPr/>
            </p:nvSpPr>
            <p:spPr>
              <a:xfrm flipH="1" rot="14869800">
                <a:off x="4989240" y="1253160"/>
                <a:ext cx="16560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115"/>
            <p:cNvGrpSpPr/>
            <p:nvPr/>
          </p:nvGrpSpPr>
          <p:grpSpPr>
            <a:xfrm>
              <a:off x="4978080" y="1274040"/>
              <a:ext cx="258480" cy="337320"/>
              <a:chOff x="4978080" y="1274040"/>
              <a:chExt cx="258480" cy="337320"/>
            </a:xfrm>
          </p:grpSpPr>
          <p:sp>
            <p:nvSpPr>
              <p:cNvPr id="69" name="Freeform 116"/>
              <p:cNvSpPr/>
              <p:nvPr/>
            </p:nvSpPr>
            <p:spPr>
              <a:xfrm rot="14869800">
                <a:off x="5052240" y="1428480"/>
                <a:ext cx="162360" cy="1562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17"/>
              <p:cNvSpPr/>
              <p:nvPr/>
            </p:nvSpPr>
            <p:spPr>
              <a:xfrm flipH="1" rot="14869800">
                <a:off x="5005800" y="1290960"/>
                <a:ext cx="141840" cy="1562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135"/>
          <p:cNvGrpSpPr/>
          <p:nvPr/>
        </p:nvGrpSpPr>
        <p:grpSpPr>
          <a:xfrm>
            <a:off x="3099960" y="5558040"/>
            <a:ext cx="970560" cy="952200"/>
            <a:chOff x="3099960" y="5558040"/>
            <a:chExt cx="970560" cy="952200"/>
          </a:xfrm>
        </p:grpSpPr>
        <p:grpSp>
          <p:nvGrpSpPr>
            <p:cNvPr id="72" name="Group 136"/>
            <p:cNvGrpSpPr/>
            <p:nvPr/>
          </p:nvGrpSpPr>
          <p:grpSpPr>
            <a:xfrm>
              <a:off x="3099960" y="5558040"/>
              <a:ext cx="970560" cy="952200"/>
              <a:chOff x="3099960" y="5558040"/>
              <a:chExt cx="970560" cy="952200"/>
            </a:xfrm>
          </p:grpSpPr>
          <p:sp>
            <p:nvSpPr>
              <p:cNvPr id="73" name="Freeform 137"/>
              <p:cNvSpPr/>
              <p:nvPr/>
            </p:nvSpPr>
            <p:spPr>
              <a:xfrm rot="2428800">
                <a:off x="3245040" y="561996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8"/>
              <p:cNvSpPr/>
              <p:nvPr/>
            </p:nvSpPr>
            <p:spPr>
              <a:xfrm flipH="1" rot="2428200">
                <a:off x="3558240" y="586476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39"/>
            <p:cNvGrpSpPr/>
            <p:nvPr/>
          </p:nvGrpSpPr>
          <p:grpSpPr>
            <a:xfrm>
              <a:off x="3191400" y="5652000"/>
              <a:ext cx="789120" cy="766080"/>
              <a:chOff x="3191400" y="5652000"/>
              <a:chExt cx="789120" cy="766080"/>
            </a:xfrm>
          </p:grpSpPr>
          <p:sp>
            <p:nvSpPr>
              <p:cNvPr id="76" name="Freeform 140"/>
              <p:cNvSpPr/>
              <p:nvPr/>
            </p:nvSpPr>
            <p:spPr>
              <a:xfrm rot="2428800">
                <a:off x="3294720" y="5712840"/>
                <a:ext cx="353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41"/>
              <p:cNvSpPr/>
              <p:nvPr/>
            </p:nvSpPr>
            <p:spPr>
              <a:xfrm flipH="1" rot="2428200">
                <a:off x="3562560" y="592164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142"/>
          <p:cNvGrpSpPr/>
          <p:nvPr/>
        </p:nvGrpSpPr>
        <p:grpSpPr>
          <a:xfrm>
            <a:off x="2580120" y="570600"/>
            <a:ext cx="785160" cy="625680"/>
            <a:chOff x="2580120" y="570600"/>
            <a:chExt cx="785160" cy="625680"/>
          </a:xfrm>
        </p:grpSpPr>
        <p:grpSp>
          <p:nvGrpSpPr>
            <p:cNvPr id="79" name="Group 143"/>
            <p:cNvGrpSpPr/>
            <p:nvPr/>
          </p:nvGrpSpPr>
          <p:grpSpPr>
            <a:xfrm>
              <a:off x="2580120" y="570600"/>
              <a:ext cx="785160" cy="625680"/>
              <a:chOff x="2580120" y="570600"/>
              <a:chExt cx="785160" cy="625680"/>
            </a:xfrm>
          </p:grpSpPr>
          <p:sp>
            <p:nvSpPr>
              <p:cNvPr id="80" name="Freeform 144"/>
              <p:cNvSpPr/>
              <p:nvPr/>
            </p:nvSpPr>
            <p:spPr>
              <a:xfrm rot="9390000">
                <a:off x="2931120" y="628920"/>
                <a:ext cx="373320" cy="3823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45"/>
              <p:cNvSpPr/>
              <p:nvPr/>
            </p:nvSpPr>
            <p:spPr>
              <a:xfrm flipH="1" rot="9390000">
                <a:off x="2642400" y="764640"/>
                <a:ext cx="325800" cy="3823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46"/>
            <p:cNvGrpSpPr/>
            <p:nvPr/>
          </p:nvGrpSpPr>
          <p:grpSpPr>
            <a:xfrm>
              <a:off x="2643120" y="634320"/>
              <a:ext cx="656640" cy="498960"/>
              <a:chOff x="2643120" y="634320"/>
              <a:chExt cx="656640" cy="498960"/>
            </a:xfrm>
          </p:grpSpPr>
          <p:sp>
            <p:nvSpPr>
              <p:cNvPr id="83" name="Freeform 147"/>
              <p:cNvSpPr/>
              <p:nvPr/>
            </p:nvSpPr>
            <p:spPr>
              <a:xfrm rot="9390000">
                <a:off x="2935800" y="686160"/>
                <a:ext cx="31968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8"/>
              <p:cNvSpPr/>
              <p:nvPr/>
            </p:nvSpPr>
            <p:spPr>
              <a:xfrm flipH="1" rot="9390000">
                <a:off x="2688480" y="802440"/>
                <a:ext cx="27900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5" name="flower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7037E-007 L 0.23629 -0.45162 E">
                                      <p:cBhvr>
                                        <p:cTn id="20" dur="19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4607E-006 L -0.7283 -0.68223 E">
                                      <p:cBhvr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4.44444E-006 L 0.27952 -0.25185 E">
                                      <p:cBhvr>
                                        <p:cTn id="38" dur="26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9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226 -0.00185 L 0.27934 -0.24861 E">
                                      <p:cBhvr>
                                        <p:cTn id="68" dur="26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4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5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476" name="Oval 6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bbe0e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0099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8"/>
          <p:cNvGrpSpPr/>
          <p:nvPr/>
        </p:nvGrpSpPr>
        <p:grpSpPr>
          <a:xfrm>
            <a:off x="2879640" y="44280"/>
            <a:ext cx="1044720" cy="1008000"/>
            <a:chOff x="2879640" y="44280"/>
            <a:chExt cx="1044720" cy="1008000"/>
          </a:xfrm>
        </p:grpSpPr>
        <p:sp>
          <p:nvSpPr>
            <p:cNvPr id="479" name="Oval 9"/>
            <p:cNvSpPr/>
            <p:nvPr/>
          </p:nvSpPr>
          <p:spPr>
            <a:xfrm>
              <a:off x="2879640" y="44280"/>
              <a:ext cx="1044720" cy="1008000"/>
            </a:xfrm>
            <a:prstGeom prst="ellipse">
              <a:avLst/>
            </a:prstGeom>
            <a:noFill/>
            <a:ln w="50760">
              <a:solidFill>
                <a:srgbClr val="cc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0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bbe0e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1"/>
            <p:cNvSpPr/>
            <p:nvPr/>
          </p:nvSpPr>
          <p:spPr>
            <a:xfrm>
              <a:off x="3095640" y="260280"/>
              <a:ext cx="610920" cy="610920"/>
            </a:xfrm>
            <a:prstGeom prst="ellipse">
              <a:avLst/>
            </a:pr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2556000" y="836640"/>
            <a:ext cx="1225440" cy="1225440"/>
            <a:chOff x="2556000" y="836640"/>
            <a:chExt cx="1225440" cy="1225440"/>
          </a:xfrm>
        </p:grpSpPr>
        <p:sp>
          <p:nvSpPr>
            <p:cNvPr id="483" name="Oval 13"/>
            <p:cNvSpPr/>
            <p:nvPr/>
          </p:nvSpPr>
          <p:spPr>
            <a:xfrm>
              <a:off x="2556000" y="836640"/>
              <a:ext cx="1225440" cy="1225440"/>
            </a:xfrm>
            <a:prstGeom prst="ellipse">
              <a:avLst/>
            </a:prstGeom>
            <a:noFill/>
            <a:ln w="50760">
              <a:solidFill>
                <a:srgbClr val="cc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"/>
            <p:cNvSpPr/>
            <p:nvPr/>
          </p:nvSpPr>
          <p:spPr>
            <a:xfrm>
              <a:off x="2665440" y="946080"/>
              <a:ext cx="1008000" cy="1008000"/>
            </a:xfrm>
            <a:prstGeom prst="ellipse">
              <a:avLst/>
            </a:prstGeom>
            <a:solidFill>
              <a:srgbClr val="cc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5"/>
            <p:cNvSpPr/>
            <p:nvPr/>
          </p:nvSpPr>
          <p:spPr>
            <a:xfrm>
              <a:off x="2773440" y="1054080"/>
              <a:ext cx="790560" cy="790560"/>
            </a:xfrm>
            <a:prstGeom prst="ellipse">
              <a:avLst/>
            </a:pr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6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487" name="Oval 17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00cc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8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0099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99cc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Oval 20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21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2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3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4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5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26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7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8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29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500" name="Oval 30"/>
            <p:cNvSpPr/>
            <p:nvPr/>
          </p:nvSpPr>
          <p:spPr>
            <a:xfrm>
              <a:off x="1439640" y="549360"/>
              <a:ext cx="142560" cy="1429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31"/>
            <p:cNvSpPr/>
            <p:nvPr/>
          </p:nvSpPr>
          <p:spPr>
            <a:xfrm>
              <a:off x="140292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32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3"/>
          <p:cNvGrpSpPr/>
          <p:nvPr/>
        </p:nvGrpSpPr>
        <p:grpSpPr>
          <a:xfrm>
            <a:off x="431640" y="1160640"/>
            <a:ext cx="179640" cy="180720"/>
            <a:chOff x="431640" y="1160640"/>
            <a:chExt cx="179640" cy="180720"/>
          </a:xfrm>
        </p:grpSpPr>
        <p:sp>
          <p:nvSpPr>
            <p:cNvPr id="504" name="Oval 34"/>
            <p:cNvSpPr/>
            <p:nvPr/>
          </p:nvSpPr>
          <p:spPr>
            <a:xfrm>
              <a:off x="461880" y="1190880"/>
              <a:ext cx="120240" cy="12096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35"/>
            <p:cNvSpPr/>
            <p:nvPr/>
          </p:nvSpPr>
          <p:spPr>
            <a:xfrm>
              <a:off x="461880" y="1190880"/>
              <a:ext cx="120240" cy="120960"/>
            </a:xfrm>
            <a:prstGeom prst="ellipse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6"/>
            <p:cNvSpPr/>
            <p:nvPr/>
          </p:nvSpPr>
          <p:spPr>
            <a:xfrm>
              <a:off x="431640" y="1160640"/>
              <a:ext cx="179640" cy="18072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37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8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39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510" name="Oval 40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1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2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Rectangle 43"/>
          <p:cNvSpPr/>
          <p:nvPr/>
        </p:nvSpPr>
        <p:spPr>
          <a:xfrm>
            <a:off x="6806520" y="188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ondrift of Y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4"/>
          <p:cNvSpPr/>
          <p:nvPr/>
        </p:nvSpPr>
        <p:spPr>
          <a:xfrm>
            <a:off x="5543640" y="1989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5" descr="})(KO{QK`_XVH7E}B4GONXK"/>
          <p:cNvPicPr/>
          <p:nvPr/>
        </p:nvPicPr>
        <p:blipFill>
          <a:blip r:embed="rId1"/>
          <a:stretch/>
        </p:blipFill>
        <p:spPr>
          <a:xfrm>
            <a:off x="539640" y="2924280"/>
            <a:ext cx="5040360" cy="37162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6"/>
          <p:cNvSpPr/>
          <p:nvPr/>
        </p:nvSpPr>
        <p:spPr>
          <a:xfrm>
            <a:off x="826920" y="220500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青春  我们一起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3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3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6" descr="0(9~{~CMIVMU9)7FQG]D7@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"/>
          <p:cNvGrpSpPr/>
          <p:nvPr/>
        </p:nvGrpSpPr>
        <p:grpSpPr>
          <a:xfrm>
            <a:off x="2128320" y="2496960"/>
            <a:ext cx="1142280" cy="876960"/>
            <a:chOff x="2128320" y="2496960"/>
            <a:chExt cx="1142280" cy="876960"/>
          </a:xfrm>
        </p:grpSpPr>
        <p:grpSp>
          <p:nvGrpSpPr>
            <p:cNvPr id="89" name="Group 3"/>
            <p:cNvGrpSpPr/>
            <p:nvPr/>
          </p:nvGrpSpPr>
          <p:grpSpPr>
            <a:xfrm>
              <a:off x="2128320" y="2496960"/>
              <a:ext cx="1142280" cy="876960"/>
              <a:chOff x="2128320" y="2496960"/>
              <a:chExt cx="1142280" cy="876960"/>
            </a:xfrm>
          </p:grpSpPr>
          <p:sp>
            <p:nvSpPr>
              <p:cNvPr id="90" name="Freeform 4"/>
              <p:cNvSpPr/>
              <p:nvPr/>
            </p:nvSpPr>
            <p:spPr>
              <a:xfrm rot="20529000">
                <a:off x="2206440" y="2707920"/>
                <a:ext cx="54468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"/>
              <p:cNvSpPr/>
              <p:nvPr/>
            </p:nvSpPr>
            <p:spPr>
              <a:xfrm flipH="1" rot="20529000">
                <a:off x="2715120" y="2555280"/>
                <a:ext cx="47556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6"/>
            <p:cNvGrpSpPr/>
            <p:nvPr/>
          </p:nvGrpSpPr>
          <p:grpSpPr>
            <a:xfrm>
              <a:off x="2221920" y="2589840"/>
              <a:ext cx="958320" cy="690480"/>
              <a:chOff x="2221920" y="2589840"/>
              <a:chExt cx="958320" cy="690480"/>
            </a:xfrm>
          </p:grpSpPr>
          <p:sp>
            <p:nvSpPr>
              <p:cNvPr id="93" name="Freeform 7"/>
              <p:cNvSpPr/>
              <p:nvPr/>
            </p:nvSpPr>
            <p:spPr>
              <a:xfrm rot="20529000">
                <a:off x="2279160" y="2772000"/>
                <a:ext cx="4665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8"/>
              <p:cNvSpPr/>
              <p:nvPr/>
            </p:nvSpPr>
            <p:spPr>
              <a:xfrm flipH="1" rot="20529000">
                <a:off x="2714040" y="2641320"/>
                <a:ext cx="4071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9"/>
          <p:cNvGrpSpPr/>
          <p:nvPr/>
        </p:nvGrpSpPr>
        <p:grpSpPr>
          <a:xfrm>
            <a:off x="2173320" y="3011400"/>
            <a:ext cx="759960" cy="835560"/>
            <a:chOff x="2173320" y="3011400"/>
            <a:chExt cx="759960" cy="835560"/>
          </a:xfrm>
        </p:grpSpPr>
        <p:grpSp>
          <p:nvGrpSpPr>
            <p:cNvPr id="96" name="Group 10"/>
            <p:cNvGrpSpPr/>
            <p:nvPr/>
          </p:nvGrpSpPr>
          <p:grpSpPr>
            <a:xfrm>
              <a:off x="2173320" y="3011400"/>
              <a:ext cx="759960" cy="835560"/>
              <a:chOff x="2173320" y="3011400"/>
              <a:chExt cx="759960" cy="835560"/>
            </a:xfrm>
          </p:grpSpPr>
          <p:sp>
            <p:nvSpPr>
              <p:cNvPr id="97" name="Freeform 11"/>
              <p:cNvSpPr/>
              <p:nvPr/>
            </p:nvSpPr>
            <p:spPr>
              <a:xfrm rot="18270000">
                <a:off x="2264760" y="3351960"/>
                <a:ext cx="389520" cy="4269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 flipH="1" rot="18270000">
                <a:off x="2490480" y="3058920"/>
                <a:ext cx="340200" cy="4269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2247480" y="3083040"/>
              <a:ext cx="613440" cy="690120"/>
              <a:chOff x="2247480" y="3083040"/>
              <a:chExt cx="613440" cy="690120"/>
            </a:xfrm>
          </p:grpSpPr>
          <p:sp>
            <p:nvSpPr>
              <p:cNvPr id="100" name="Freeform 14"/>
              <p:cNvSpPr/>
              <p:nvPr/>
            </p:nvSpPr>
            <p:spPr>
              <a:xfrm rot="18270000">
                <a:off x="2306880" y="3384720"/>
                <a:ext cx="333720" cy="320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 flipH="1" rot="18270000">
                <a:off x="2500560" y="3133440"/>
                <a:ext cx="291240" cy="320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2800080" y="2545560"/>
            <a:ext cx="1044720" cy="927000"/>
            <a:chOff x="2800080" y="2545560"/>
            <a:chExt cx="1044720" cy="927000"/>
          </a:xfrm>
        </p:grpSpPr>
        <p:grpSp>
          <p:nvGrpSpPr>
            <p:cNvPr id="103" name="Group 17"/>
            <p:cNvGrpSpPr/>
            <p:nvPr/>
          </p:nvGrpSpPr>
          <p:grpSpPr>
            <a:xfrm>
              <a:off x="2800080" y="2545560"/>
              <a:ext cx="1044720" cy="927000"/>
              <a:chOff x="2800080" y="2545560"/>
              <a:chExt cx="1044720" cy="927000"/>
            </a:xfrm>
          </p:grpSpPr>
          <p:sp>
            <p:nvSpPr>
              <p:cNvPr id="104" name="Freeform 18"/>
              <p:cNvSpPr/>
              <p:nvPr/>
            </p:nvSpPr>
            <p:spPr>
              <a:xfrm rot="2127600">
                <a:off x="2883960" y="2653560"/>
                <a:ext cx="51804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9"/>
              <p:cNvSpPr/>
              <p:nvPr/>
            </p:nvSpPr>
            <p:spPr>
              <a:xfrm flipH="1" rot="2127000">
                <a:off x="3301920" y="2927880"/>
                <a:ext cx="452520" cy="455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20"/>
            <p:cNvGrpSpPr/>
            <p:nvPr/>
          </p:nvGrpSpPr>
          <p:grpSpPr>
            <a:xfrm>
              <a:off x="2890440" y="2632680"/>
              <a:ext cx="866520" cy="754560"/>
              <a:chOff x="2890440" y="2632680"/>
              <a:chExt cx="866520" cy="754560"/>
            </a:xfrm>
          </p:grpSpPr>
          <p:sp>
            <p:nvSpPr>
              <p:cNvPr id="107" name="Freeform 21"/>
              <p:cNvSpPr/>
              <p:nvPr/>
            </p:nvSpPr>
            <p:spPr>
              <a:xfrm rot="2127600">
                <a:off x="2948400" y="2729520"/>
                <a:ext cx="44388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flipH="1" rot="2127000">
                <a:off x="3305880" y="2964600"/>
                <a:ext cx="387360" cy="341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23"/>
          <p:cNvGrpSpPr/>
          <p:nvPr/>
        </p:nvGrpSpPr>
        <p:grpSpPr>
          <a:xfrm>
            <a:off x="2737800" y="2951640"/>
            <a:ext cx="758160" cy="759240"/>
            <a:chOff x="2737800" y="2951640"/>
            <a:chExt cx="758160" cy="759240"/>
          </a:xfrm>
        </p:grpSpPr>
        <p:grpSp>
          <p:nvGrpSpPr>
            <p:cNvPr id="110" name="Group 24"/>
            <p:cNvGrpSpPr/>
            <p:nvPr/>
          </p:nvGrpSpPr>
          <p:grpSpPr>
            <a:xfrm>
              <a:off x="2737800" y="2951640"/>
              <a:ext cx="758160" cy="759240"/>
              <a:chOff x="2737800" y="2951640"/>
              <a:chExt cx="758160" cy="759240"/>
            </a:xfrm>
          </p:grpSpPr>
          <p:sp>
            <p:nvSpPr>
              <p:cNvPr id="111" name="Freeform 25"/>
              <p:cNvSpPr/>
              <p:nvPr/>
            </p:nvSpPr>
            <p:spPr>
              <a:xfrm rot="8091000">
                <a:off x="3042000" y="3027600"/>
                <a:ext cx="37332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 flipH="1" rot="8091000">
                <a:off x="2825280" y="3268800"/>
                <a:ext cx="3258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7"/>
            <p:cNvGrpSpPr/>
            <p:nvPr/>
          </p:nvGrpSpPr>
          <p:grpSpPr>
            <a:xfrm>
              <a:off x="2805840" y="3021480"/>
              <a:ext cx="620280" cy="621000"/>
              <a:chOff x="2805840" y="3021480"/>
              <a:chExt cx="620280" cy="621000"/>
            </a:xfrm>
          </p:grpSpPr>
          <p:sp>
            <p:nvSpPr>
              <p:cNvPr id="114" name="Freeform 28"/>
              <p:cNvSpPr/>
              <p:nvPr/>
            </p:nvSpPr>
            <p:spPr>
              <a:xfrm rot="8091000">
                <a:off x="3051720" y="3092400"/>
                <a:ext cx="31968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 flipH="1" rot="8091000">
                <a:off x="2866320" y="3298680"/>
                <a:ext cx="27900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30"/>
          <p:cNvGrpSpPr/>
          <p:nvPr/>
        </p:nvGrpSpPr>
        <p:grpSpPr>
          <a:xfrm>
            <a:off x="3171240" y="2605320"/>
            <a:ext cx="970560" cy="952200"/>
            <a:chOff x="3171240" y="2605320"/>
            <a:chExt cx="970560" cy="952200"/>
          </a:xfrm>
        </p:grpSpPr>
        <p:grpSp>
          <p:nvGrpSpPr>
            <p:cNvPr id="117" name="Group 31"/>
            <p:cNvGrpSpPr/>
            <p:nvPr/>
          </p:nvGrpSpPr>
          <p:grpSpPr>
            <a:xfrm>
              <a:off x="3171240" y="2605320"/>
              <a:ext cx="970560" cy="952200"/>
              <a:chOff x="3171240" y="2605320"/>
              <a:chExt cx="970560" cy="952200"/>
            </a:xfrm>
          </p:grpSpPr>
          <p:sp>
            <p:nvSpPr>
              <p:cNvPr id="118" name="Freeform 32"/>
              <p:cNvSpPr/>
              <p:nvPr/>
            </p:nvSpPr>
            <p:spPr>
              <a:xfrm rot="2428800">
                <a:off x="3316320" y="266724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flipH="1" rot="2428200">
                <a:off x="3629520" y="291204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34"/>
            <p:cNvGrpSpPr/>
            <p:nvPr/>
          </p:nvGrpSpPr>
          <p:grpSpPr>
            <a:xfrm>
              <a:off x="3262680" y="2699280"/>
              <a:ext cx="789120" cy="766080"/>
              <a:chOff x="3262680" y="2699280"/>
              <a:chExt cx="789120" cy="766080"/>
            </a:xfrm>
          </p:grpSpPr>
          <p:sp>
            <p:nvSpPr>
              <p:cNvPr id="121" name="Freeform 35"/>
              <p:cNvSpPr/>
              <p:nvPr/>
            </p:nvSpPr>
            <p:spPr>
              <a:xfrm rot="2428800">
                <a:off x="3366000" y="2760120"/>
                <a:ext cx="353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flipH="1" rot="2428200">
                <a:off x="3633840" y="296892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37"/>
          <p:cNvGrpSpPr/>
          <p:nvPr/>
        </p:nvGrpSpPr>
        <p:grpSpPr>
          <a:xfrm>
            <a:off x="2884680" y="2354760"/>
            <a:ext cx="753480" cy="515160"/>
            <a:chOff x="2884680" y="2354760"/>
            <a:chExt cx="753480" cy="515160"/>
          </a:xfrm>
        </p:grpSpPr>
        <p:grpSp>
          <p:nvGrpSpPr>
            <p:cNvPr id="124" name="Group 38"/>
            <p:cNvGrpSpPr/>
            <p:nvPr/>
          </p:nvGrpSpPr>
          <p:grpSpPr>
            <a:xfrm>
              <a:off x="2884680" y="2354760"/>
              <a:ext cx="753480" cy="515160"/>
              <a:chOff x="2884680" y="2354760"/>
              <a:chExt cx="753480" cy="515160"/>
            </a:xfrm>
          </p:grpSpPr>
          <p:sp>
            <p:nvSpPr>
              <p:cNvPr id="125" name="Freeform 39"/>
              <p:cNvSpPr/>
              <p:nvPr/>
            </p:nvSpPr>
            <p:spPr>
              <a:xfrm rot="704400">
                <a:off x="2919600" y="2388600"/>
                <a:ext cx="37332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 flipH="1" rot="704400">
                <a:off x="3276720" y="2457720"/>
                <a:ext cx="3258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41"/>
            <p:cNvGrpSpPr/>
            <p:nvPr/>
          </p:nvGrpSpPr>
          <p:grpSpPr>
            <a:xfrm>
              <a:off x="2944080" y="2412000"/>
              <a:ext cx="637200" cy="401040"/>
              <a:chOff x="2944080" y="2412000"/>
              <a:chExt cx="637200" cy="401040"/>
            </a:xfrm>
          </p:grpSpPr>
          <p:sp>
            <p:nvSpPr>
              <p:cNvPr id="128" name="Freeform 42"/>
              <p:cNvSpPr/>
              <p:nvPr/>
            </p:nvSpPr>
            <p:spPr>
              <a:xfrm rot="704400">
                <a:off x="2969640" y="2441520"/>
                <a:ext cx="31968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 flipH="1" rot="704400">
                <a:off x="3275280" y="2500560"/>
                <a:ext cx="27900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45"/>
          <p:cNvSpPr/>
          <p:nvPr/>
        </p:nvSpPr>
        <p:spPr>
          <a:xfrm>
            <a:off x="4572000" y="2060640"/>
            <a:ext cx="435600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一所大学就是一条奔腾不息的河流，簇拥着青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 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浪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7" descr="1606330"/>
          <p:cNvPicPr/>
          <p:nvPr/>
        </p:nvPicPr>
        <p:blipFill>
          <a:blip r:embed="rId2"/>
          <a:stretch/>
        </p:blipFill>
        <p:spPr>
          <a:xfrm>
            <a:off x="611280" y="476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8" descr="1606330"/>
          <p:cNvPicPr/>
          <p:nvPr/>
        </p:nvPicPr>
        <p:blipFill>
          <a:blip r:embed="rId3"/>
          <a:stretch/>
        </p:blipFill>
        <p:spPr>
          <a:xfrm>
            <a:off x="1116000" y="5805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9" descr="1606330"/>
          <p:cNvPicPr/>
          <p:nvPr/>
        </p:nvPicPr>
        <p:blipFill>
          <a:blip r:embed="rId4"/>
          <a:stretch/>
        </p:blipFill>
        <p:spPr>
          <a:xfrm>
            <a:off x="7164360" y="59500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0" descr="1606330"/>
          <p:cNvPicPr/>
          <p:nvPr/>
        </p:nvPicPr>
        <p:blipFill>
          <a:blip r:embed="rId5"/>
          <a:stretch/>
        </p:blipFill>
        <p:spPr>
          <a:xfrm>
            <a:off x="7956720" y="33336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1" descr="1606330"/>
          <p:cNvPicPr/>
          <p:nvPr/>
        </p:nvPicPr>
        <p:blipFill>
          <a:blip r:embed="rId6"/>
          <a:stretch/>
        </p:blipFill>
        <p:spPr>
          <a:xfrm>
            <a:off x="3419640" y="11970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2" descr="1606330"/>
          <p:cNvPicPr/>
          <p:nvPr/>
        </p:nvPicPr>
        <p:blipFill>
          <a:blip r:embed="rId7"/>
          <a:stretch/>
        </p:blipFill>
        <p:spPr>
          <a:xfrm>
            <a:off x="4211640" y="4941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3" descr="1606330"/>
          <p:cNvPicPr/>
          <p:nvPr/>
        </p:nvPicPr>
        <p:blipFill>
          <a:blip r:embed="rId8"/>
          <a:stretch/>
        </p:blipFill>
        <p:spPr>
          <a:xfrm>
            <a:off x="8172360" y="3716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4" descr="1606330"/>
          <p:cNvPicPr/>
          <p:nvPr/>
        </p:nvPicPr>
        <p:blipFill>
          <a:blip r:embed="rId9"/>
          <a:stretch/>
        </p:blipFill>
        <p:spPr>
          <a:xfrm>
            <a:off x="1116000" y="234936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6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03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2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05556E-006 -2.13691E-006 L -0.33055 -0.03145 E">
                                      <p:cBhvr>
                                        <p:cTn id="130" dur="29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11111E-006 -3.321E-006 L -0.13368 -0.49445 E">
                                      <p:cBhvr>
                                        <p:cTn id="132" dur="23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94444E-006 -1.61887E-006 L 0.25469 -0.48427 E">
                                      <p:cBhvr>
                                        <p:cTn id="134" dur="19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3.46901E-006 L 0.1434 0.58071 E">
                                      <p:cBhvr>
                                        <p:cTn id="13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2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47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8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6.38889E-006 4.07407E-006 L 0.27952 -0.25185 E">
                                      <p:cBhvr>
                                        <p:cTn id="156" dur="26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174 0.00393 L -0.01406 -0.53145 E">
                                      <p:cBhvr>
                                        <p:cTn id="158" dur="1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0">
                                  <p:stCondLst>
                                    <p:cond delay="6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2" descr="QS80V{1O2MAAWJ6W1DH`B[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3419640" y="242100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067280" y="285264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808080"/>
                </a:solidFill>
                <a:latin typeface="Arial"/>
              </a:rPr>
              <a:t>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059280" y="27813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04b_09"/>
                <a:ea typeface="楷体_GB2312"/>
              </a:rPr>
              <a:t>扬起理想的风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924360" y="2997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就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706560" y="3429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梦想的海洋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987880" y="14842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激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84360" y="3357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3995640" y="3860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浪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958E-006 L -0.33854 -0.29371 E">
                                      <p:cBhvr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956E-006 L -0.34254 -0.30019 E">
                                      <p:cBhvr>
                                        <p:cTn id="224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0">
                                  <p:stCondLst>
                                    <p:cond delay="11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0">
                                  <p:stCondLst>
                                    <p:cond delay="2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1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2" descr="~JD0SB`K]_NQHF2$DQQBG%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2"/>
          <p:cNvGrpSpPr/>
          <p:nvPr/>
        </p:nvGrpSpPr>
        <p:grpSpPr>
          <a:xfrm>
            <a:off x="4932360" y="5805360"/>
            <a:ext cx="503280" cy="503280"/>
            <a:chOff x="4932360" y="5805360"/>
            <a:chExt cx="503280" cy="503280"/>
          </a:xfrm>
        </p:grpSpPr>
        <p:sp>
          <p:nvSpPr>
            <p:cNvPr id="150" name="Oval 3"/>
            <p:cNvSpPr/>
            <p:nvPr/>
          </p:nvSpPr>
          <p:spPr>
            <a:xfrm>
              <a:off x="4932360" y="5805360"/>
              <a:ext cx="503280" cy="503280"/>
            </a:xfrm>
            <a:prstGeom prst="ellipse">
              <a:avLst/>
            </a:prstGeom>
            <a:solidFill>
              <a:srgbClr val="bfd7d9">
                <a:alpha val="50000"/>
              </a:srgbClr>
            </a:solidFill>
            <a:ln w="936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4"/>
            <p:cNvSpPr/>
            <p:nvPr/>
          </p:nvSpPr>
          <p:spPr>
            <a:xfrm>
              <a:off x="5010840" y="5884560"/>
              <a:ext cx="356400" cy="35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rc 5"/>
            <p:cNvSpPr/>
            <p:nvPr/>
          </p:nvSpPr>
          <p:spPr>
            <a:xfrm>
              <a:off x="4994280" y="5906520"/>
              <a:ext cx="178200" cy="14580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76320">
              <a:solidFill>
                <a:srgbClr val="ffffff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rc 6"/>
            <p:cNvSpPr/>
            <p:nvPr/>
          </p:nvSpPr>
          <p:spPr>
            <a:xfrm>
              <a:off x="5092920" y="5869080"/>
              <a:ext cx="83880" cy="17784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"/>
          <p:cNvGrpSpPr/>
          <p:nvPr/>
        </p:nvGrpSpPr>
        <p:grpSpPr>
          <a:xfrm>
            <a:off x="3492360" y="5734080"/>
            <a:ext cx="863640" cy="863640"/>
            <a:chOff x="3492360" y="5734080"/>
            <a:chExt cx="863640" cy="863640"/>
          </a:xfrm>
        </p:grpSpPr>
        <p:sp>
          <p:nvSpPr>
            <p:cNvPr id="155" name="Oval 8"/>
            <p:cNvSpPr/>
            <p:nvPr/>
          </p:nvSpPr>
          <p:spPr>
            <a:xfrm>
              <a:off x="3492360" y="5734080"/>
              <a:ext cx="863640" cy="863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3627000" y="5870160"/>
              <a:ext cx="611640" cy="611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rc 10"/>
            <p:cNvSpPr/>
            <p:nvPr/>
          </p:nvSpPr>
          <p:spPr>
            <a:xfrm>
              <a:off x="3598560" y="5907960"/>
              <a:ext cx="306000" cy="25020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99cc00"/>
            </a:solidFill>
            <a:ln w="76320">
              <a:solidFill>
                <a:srgbClr val="ffffff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rc 11"/>
            <p:cNvSpPr/>
            <p:nvPr/>
          </p:nvSpPr>
          <p:spPr>
            <a:xfrm>
              <a:off x="3767760" y="5843520"/>
              <a:ext cx="144000" cy="30564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99cc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1476360" y="-1035000"/>
            <a:ext cx="934560" cy="934560"/>
            <a:chOff x="1476360" y="-1035000"/>
            <a:chExt cx="934560" cy="934560"/>
          </a:xfrm>
        </p:grpSpPr>
        <p:sp>
          <p:nvSpPr>
            <p:cNvPr id="160" name="Oval 13"/>
            <p:cNvSpPr/>
            <p:nvPr/>
          </p:nvSpPr>
          <p:spPr>
            <a:xfrm>
              <a:off x="1476360" y="-1035000"/>
              <a:ext cx="934560" cy="93456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1622160" y="-887400"/>
              <a:ext cx="662040" cy="66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>
              <a:off x="1591560" y="-846360"/>
              <a:ext cx="331200" cy="27072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rc 16"/>
            <p:cNvSpPr/>
            <p:nvPr/>
          </p:nvSpPr>
          <p:spPr>
            <a:xfrm>
              <a:off x="1774800" y="-916200"/>
              <a:ext cx="155880" cy="33084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6659640" y="1773360"/>
            <a:ext cx="555480" cy="555480"/>
            <a:chOff x="6659640" y="1773360"/>
            <a:chExt cx="555480" cy="555480"/>
          </a:xfrm>
        </p:grpSpPr>
        <p:sp>
          <p:nvSpPr>
            <p:cNvPr id="165" name="Oval 18"/>
            <p:cNvSpPr/>
            <p:nvPr/>
          </p:nvSpPr>
          <p:spPr>
            <a:xfrm>
              <a:off x="6659640" y="1773360"/>
              <a:ext cx="555480" cy="55548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9"/>
            <p:cNvSpPr/>
            <p:nvPr/>
          </p:nvSpPr>
          <p:spPr>
            <a:xfrm>
              <a:off x="6746400" y="1860840"/>
              <a:ext cx="393480" cy="3934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rc 20"/>
            <p:cNvSpPr/>
            <p:nvPr/>
          </p:nvSpPr>
          <p:spPr>
            <a:xfrm>
              <a:off x="6728040" y="1885320"/>
              <a:ext cx="196560" cy="16092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ff00ff"/>
            </a:solidFill>
            <a:ln w="57240">
              <a:solidFill>
                <a:srgbClr val="ffffff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rc 21"/>
            <p:cNvSpPr/>
            <p:nvPr/>
          </p:nvSpPr>
          <p:spPr>
            <a:xfrm>
              <a:off x="6836760" y="1843560"/>
              <a:ext cx="92520" cy="19656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ff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7812000" y="-747720"/>
            <a:ext cx="576360" cy="576360"/>
            <a:chOff x="7812000" y="-747720"/>
            <a:chExt cx="576360" cy="576360"/>
          </a:xfrm>
        </p:grpSpPr>
        <p:sp>
          <p:nvSpPr>
            <p:cNvPr id="170" name="Oval 23"/>
            <p:cNvSpPr/>
            <p:nvPr/>
          </p:nvSpPr>
          <p:spPr>
            <a:xfrm>
              <a:off x="7812000" y="-747720"/>
              <a:ext cx="576360" cy="576360"/>
            </a:xfrm>
            <a:prstGeom prst="ellipse">
              <a:avLst/>
            </a:prstGeom>
            <a:solidFill>
              <a:srgbClr val="747dbc">
                <a:alpha val="50000"/>
              </a:srgbClr>
            </a:solidFill>
            <a:ln w="936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4"/>
            <p:cNvSpPr/>
            <p:nvPr/>
          </p:nvSpPr>
          <p:spPr>
            <a:xfrm>
              <a:off x="7902000" y="-656640"/>
              <a:ext cx="408240" cy="4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rc 25"/>
            <p:cNvSpPr/>
            <p:nvPr/>
          </p:nvSpPr>
          <p:spPr>
            <a:xfrm>
              <a:off x="7882920" y="-631440"/>
              <a:ext cx="204120" cy="16704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rc 26"/>
            <p:cNvSpPr/>
            <p:nvPr/>
          </p:nvSpPr>
          <p:spPr>
            <a:xfrm>
              <a:off x="7995960" y="-674280"/>
              <a:ext cx="96120" cy="20376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7"/>
          <p:cNvGrpSpPr/>
          <p:nvPr/>
        </p:nvGrpSpPr>
        <p:grpSpPr>
          <a:xfrm>
            <a:off x="2700360" y="620640"/>
            <a:ext cx="720720" cy="720720"/>
            <a:chOff x="2700360" y="620640"/>
            <a:chExt cx="720720" cy="720720"/>
          </a:xfrm>
        </p:grpSpPr>
        <p:sp>
          <p:nvSpPr>
            <p:cNvPr id="175" name="Oval 28"/>
            <p:cNvSpPr/>
            <p:nvPr/>
          </p:nvSpPr>
          <p:spPr>
            <a:xfrm>
              <a:off x="2700360" y="620640"/>
              <a:ext cx="720720" cy="72072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9"/>
            <p:cNvSpPr/>
            <p:nvPr/>
          </p:nvSpPr>
          <p:spPr>
            <a:xfrm>
              <a:off x="2812320" y="734760"/>
              <a:ext cx="511200" cy="5101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rc 30"/>
            <p:cNvSpPr/>
            <p:nvPr/>
          </p:nvSpPr>
          <p:spPr>
            <a:xfrm>
              <a:off x="2788920" y="765360"/>
              <a:ext cx="254880" cy="20952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ff99cc"/>
            </a:solidFill>
            <a:ln w="76320">
              <a:solidFill>
                <a:srgbClr val="ffffff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31"/>
            <p:cNvSpPr/>
            <p:nvPr/>
          </p:nvSpPr>
          <p:spPr>
            <a:xfrm>
              <a:off x="2930760" y="711360"/>
              <a:ext cx="119520" cy="25488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ff99cc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2"/>
          <p:cNvGrpSpPr/>
          <p:nvPr/>
        </p:nvGrpSpPr>
        <p:grpSpPr>
          <a:xfrm>
            <a:off x="7380360" y="5661000"/>
            <a:ext cx="360360" cy="360360"/>
            <a:chOff x="7380360" y="5661000"/>
            <a:chExt cx="360360" cy="360360"/>
          </a:xfrm>
        </p:grpSpPr>
        <p:sp>
          <p:nvSpPr>
            <p:cNvPr id="180" name="Oval 33"/>
            <p:cNvSpPr/>
            <p:nvPr/>
          </p:nvSpPr>
          <p:spPr>
            <a:xfrm>
              <a:off x="7380360" y="5661000"/>
              <a:ext cx="360360" cy="3603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4"/>
            <p:cNvSpPr/>
            <p:nvPr/>
          </p:nvSpPr>
          <p:spPr>
            <a:xfrm>
              <a:off x="7436520" y="5717880"/>
              <a:ext cx="255240" cy="2552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rc 35"/>
            <p:cNvSpPr/>
            <p:nvPr/>
          </p:nvSpPr>
          <p:spPr>
            <a:xfrm>
              <a:off x="7424640" y="5733360"/>
              <a:ext cx="127440" cy="10440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ff9900"/>
            </a:solidFill>
            <a:ln w="76320">
              <a:solidFill>
                <a:srgbClr val="ffffff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rc 36"/>
            <p:cNvSpPr/>
            <p:nvPr/>
          </p:nvSpPr>
          <p:spPr>
            <a:xfrm>
              <a:off x="7495200" y="5706360"/>
              <a:ext cx="60120" cy="12744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ff99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37"/>
          <p:cNvGrpSpPr/>
          <p:nvPr/>
        </p:nvGrpSpPr>
        <p:grpSpPr>
          <a:xfrm>
            <a:off x="6084720" y="5661000"/>
            <a:ext cx="505080" cy="504720"/>
            <a:chOff x="6084720" y="5661000"/>
            <a:chExt cx="505080" cy="504720"/>
          </a:xfrm>
        </p:grpSpPr>
        <p:sp>
          <p:nvSpPr>
            <p:cNvPr id="185" name="Oval 38"/>
            <p:cNvSpPr/>
            <p:nvPr/>
          </p:nvSpPr>
          <p:spPr>
            <a:xfrm>
              <a:off x="6084720" y="5661000"/>
              <a:ext cx="505080" cy="5047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9"/>
            <p:cNvSpPr/>
            <p:nvPr/>
          </p:nvSpPr>
          <p:spPr>
            <a:xfrm>
              <a:off x="6163560" y="5740560"/>
              <a:ext cx="357840" cy="35748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rc 40"/>
            <p:cNvSpPr/>
            <p:nvPr/>
          </p:nvSpPr>
          <p:spPr>
            <a:xfrm>
              <a:off x="6146640" y="5762520"/>
              <a:ext cx="178920" cy="14616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solidFill>
              <a:srgbClr val="ccffcc"/>
            </a:solidFill>
            <a:ln w="76320">
              <a:solidFill>
                <a:srgbClr val="ffffff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rc 41"/>
            <p:cNvSpPr/>
            <p:nvPr/>
          </p:nvSpPr>
          <p:spPr>
            <a:xfrm>
              <a:off x="6246000" y="5724720"/>
              <a:ext cx="84240" cy="17856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solidFill>
              <a:srgbClr val="ccffcc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42"/>
          <p:cNvGrpSpPr/>
          <p:nvPr/>
        </p:nvGrpSpPr>
        <p:grpSpPr>
          <a:xfrm>
            <a:off x="2987640" y="-1108080"/>
            <a:ext cx="790560" cy="790560"/>
            <a:chOff x="2987640" y="-1108080"/>
            <a:chExt cx="790560" cy="790560"/>
          </a:xfrm>
        </p:grpSpPr>
        <p:sp>
          <p:nvSpPr>
            <p:cNvPr id="190" name="Oval 43"/>
            <p:cNvSpPr/>
            <p:nvPr/>
          </p:nvSpPr>
          <p:spPr>
            <a:xfrm>
              <a:off x="2987640" y="-1108080"/>
              <a:ext cx="790560" cy="79056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ffffff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4"/>
            <p:cNvSpPr/>
            <p:nvPr/>
          </p:nvSpPr>
          <p:spPr>
            <a:xfrm>
              <a:off x="3111120" y="-983160"/>
              <a:ext cx="559800" cy="55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rc 45"/>
            <p:cNvSpPr/>
            <p:nvPr/>
          </p:nvSpPr>
          <p:spPr>
            <a:xfrm>
              <a:off x="3084840" y="-948600"/>
              <a:ext cx="280080" cy="22896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rc 46"/>
            <p:cNvSpPr/>
            <p:nvPr/>
          </p:nvSpPr>
          <p:spPr>
            <a:xfrm>
              <a:off x="3240000" y="-1007640"/>
              <a:ext cx="131760" cy="27972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47" descr="方向"/>
          <p:cNvPicPr/>
          <p:nvPr/>
        </p:nvPicPr>
        <p:blipFill>
          <a:blip r:embed="rId2"/>
          <a:stretch/>
        </p:blipFill>
        <p:spPr>
          <a:xfrm>
            <a:off x="2476440" y="-2082960"/>
            <a:ext cx="1532160" cy="2082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8" descr="方向"/>
          <p:cNvPicPr/>
          <p:nvPr/>
        </p:nvPicPr>
        <p:blipFill>
          <a:blip r:embed="rId3"/>
          <a:stretch/>
        </p:blipFill>
        <p:spPr>
          <a:xfrm>
            <a:off x="3297240" y="-2462040"/>
            <a:ext cx="1531800" cy="2082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9" descr="方向"/>
          <p:cNvPicPr/>
          <p:nvPr/>
        </p:nvPicPr>
        <p:blipFill>
          <a:blip r:embed="rId4"/>
          <a:stretch/>
        </p:blipFill>
        <p:spPr>
          <a:xfrm>
            <a:off x="5977080" y="-2082960"/>
            <a:ext cx="1531800" cy="208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0" descr="方向"/>
          <p:cNvPicPr/>
          <p:nvPr/>
        </p:nvPicPr>
        <p:blipFill>
          <a:blip r:embed="rId5"/>
          <a:stretch/>
        </p:blipFill>
        <p:spPr>
          <a:xfrm>
            <a:off x="6797520" y="-2462040"/>
            <a:ext cx="1532160" cy="2082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1"/>
          <p:cNvSpPr/>
          <p:nvPr/>
        </p:nvSpPr>
        <p:spPr>
          <a:xfrm>
            <a:off x="684360" y="83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舞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方正华隶简体"/>
              </a:rPr>
              <a:t>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2"/>
          <p:cNvSpPr/>
          <p:nvPr/>
        </p:nvSpPr>
        <p:spPr>
          <a:xfrm>
            <a:off x="1403280" y="4797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汉仪中隶书简"/>
              </a:rPr>
              <a:t>梦想似大海</a:t>
            </a:r>
            <a:r>
              <a:rPr b="1" lang="en-US" sz="4400" spc="-1" strike="noStrike">
                <a:solidFill>
                  <a:srgbClr val="ff0000"/>
                </a:solidFill>
                <a:latin typeface="汉仪中隶书简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汉仪中隶书简"/>
              </a:rPr>
              <a:t>青春似浪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3"/>
          <p:cNvSpPr/>
          <p:nvPr/>
        </p:nvSpPr>
        <p:spPr>
          <a:xfrm>
            <a:off x="3995640" y="27072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河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4"/>
          <p:cNvGrpSpPr/>
          <p:nvPr/>
        </p:nvGrpSpPr>
        <p:grpSpPr>
          <a:xfrm>
            <a:off x="2079000" y="1979280"/>
            <a:ext cx="1166400" cy="1168560"/>
            <a:chOff x="2079000" y="1979280"/>
            <a:chExt cx="1166400" cy="1168560"/>
          </a:xfrm>
        </p:grpSpPr>
        <p:grpSp>
          <p:nvGrpSpPr>
            <p:cNvPr id="202" name="Group 55"/>
            <p:cNvGrpSpPr/>
            <p:nvPr/>
          </p:nvGrpSpPr>
          <p:grpSpPr>
            <a:xfrm>
              <a:off x="2079000" y="1979280"/>
              <a:ext cx="1166400" cy="1168560"/>
              <a:chOff x="2079000" y="1979280"/>
              <a:chExt cx="1166400" cy="1168560"/>
            </a:xfrm>
          </p:grpSpPr>
          <p:sp>
            <p:nvSpPr>
              <p:cNvPr id="203" name="Freeform 56"/>
              <p:cNvSpPr/>
              <p:nvPr/>
            </p:nvSpPr>
            <p:spPr>
              <a:xfrm rot="8091000">
                <a:off x="2537640" y="2125440"/>
                <a:ext cx="621360" cy="5018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7"/>
              <p:cNvSpPr/>
              <p:nvPr/>
            </p:nvSpPr>
            <p:spPr>
              <a:xfrm flipH="1" rot="8091000">
                <a:off x="2176560" y="2527560"/>
                <a:ext cx="542520" cy="5018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58"/>
            <p:cNvGrpSpPr/>
            <p:nvPr/>
          </p:nvGrpSpPr>
          <p:grpSpPr>
            <a:xfrm>
              <a:off x="2180160" y="2083320"/>
              <a:ext cx="961200" cy="963720"/>
              <a:chOff x="2180160" y="2083320"/>
              <a:chExt cx="961200" cy="963720"/>
            </a:xfrm>
          </p:grpSpPr>
          <p:sp>
            <p:nvSpPr>
              <p:cNvPr id="206" name="Freeform 59"/>
              <p:cNvSpPr/>
              <p:nvPr/>
            </p:nvSpPr>
            <p:spPr>
              <a:xfrm rot="8091000">
                <a:off x="2554200" y="2216520"/>
                <a:ext cx="532080" cy="3765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0"/>
              <p:cNvSpPr/>
              <p:nvPr/>
            </p:nvSpPr>
            <p:spPr>
              <a:xfrm flipH="1" rot="8091000">
                <a:off x="2244600" y="2561040"/>
                <a:ext cx="464400" cy="3765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Group 61"/>
          <p:cNvGrpSpPr/>
          <p:nvPr/>
        </p:nvGrpSpPr>
        <p:grpSpPr>
          <a:xfrm>
            <a:off x="362520" y="853200"/>
            <a:ext cx="641160" cy="491760"/>
            <a:chOff x="362520" y="853200"/>
            <a:chExt cx="641160" cy="491760"/>
          </a:xfrm>
        </p:grpSpPr>
        <p:grpSp>
          <p:nvGrpSpPr>
            <p:cNvPr id="209" name="Group 62"/>
            <p:cNvGrpSpPr/>
            <p:nvPr/>
          </p:nvGrpSpPr>
          <p:grpSpPr>
            <a:xfrm>
              <a:off x="362520" y="853200"/>
              <a:ext cx="641160" cy="491760"/>
              <a:chOff x="362520" y="853200"/>
              <a:chExt cx="641160" cy="491760"/>
            </a:xfrm>
          </p:grpSpPr>
          <p:sp>
            <p:nvSpPr>
              <p:cNvPr id="210" name="Freeform 63"/>
              <p:cNvSpPr/>
              <p:nvPr/>
            </p:nvSpPr>
            <p:spPr>
              <a:xfrm rot="704400">
                <a:off x="397800" y="880560"/>
                <a:ext cx="3114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4"/>
              <p:cNvSpPr/>
              <p:nvPr/>
            </p:nvSpPr>
            <p:spPr>
              <a:xfrm flipH="1" rot="704400">
                <a:off x="695520" y="938880"/>
                <a:ext cx="2718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65"/>
            <p:cNvGrpSpPr/>
            <p:nvPr/>
          </p:nvGrpSpPr>
          <p:grpSpPr>
            <a:xfrm>
              <a:off x="413640" y="909000"/>
              <a:ext cx="541080" cy="381240"/>
              <a:chOff x="413640" y="909000"/>
              <a:chExt cx="541080" cy="381240"/>
            </a:xfrm>
          </p:grpSpPr>
          <p:sp>
            <p:nvSpPr>
              <p:cNvPr id="213" name="Freeform 66"/>
              <p:cNvSpPr/>
              <p:nvPr/>
            </p:nvSpPr>
            <p:spPr>
              <a:xfrm rot="704400">
                <a:off x="439920" y="933120"/>
                <a:ext cx="26676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7"/>
              <p:cNvSpPr/>
              <p:nvPr/>
            </p:nvSpPr>
            <p:spPr>
              <a:xfrm flipH="1" rot="704400">
                <a:off x="694800" y="982440"/>
                <a:ext cx="23292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Group 68"/>
          <p:cNvGrpSpPr/>
          <p:nvPr/>
        </p:nvGrpSpPr>
        <p:grpSpPr>
          <a:xfrm>
            <a:off x="586800" y="3239640"/>
            <a:ext cx="718560" cy="808560"/>
            <a:chOff x="586800" y="3239640"/>
            <a:chExt cx="718560" cy="808560"/>
          </a:xfrm>
        </p:grpSpPr>
        <p:grpSp>
          <p:nvGrpSpPr>
            <p:cNvPr id="216" name="Group 69"/>
            <p:cNvGrpSpPr/>
            <p:nvPr/>
          </p:nvGrpSpPr>
          <p:grpSpPr>
            <a:xfrm>
              <a:off x="586800" y="3239640"/>
              <a:ext cx="718560" cy="808560"/>
              <a:chOff x="586800" y="3239640"/>
              <a:chExt cx="718560" cy="808560"/>
            </a:xfrm>
          </p:grpSpPr>
          <p:sp>
            <p:nvSpPr>
              <p:cNvPr id="217" name="Freeform 70"/>
              <p:cNvSpPr/>
              <p:nvPr/>
            </p:nvSpPr>
            <p:spPr>
              <a:xfrm rot="7449600">
                <a:off x="844200" y="3316680"/>
                <a:ext cx="388440" cy="380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1"/>
              <p:cNvSpPr/>
              <p:nvPr/>
            </p:nvSpPr>
            <p:spPr>
              <a:xfrm flipH="1" rot="7449600">
                <a:off x="669960" y="3610440"/>
                <a:ext cx="339120" cy="380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ffff0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72"/>
            <p:cNvGrpSpPr/>
            <p:nvPr/>
          </p:nvGrpSpPr>
          <p:grpSpPr>
            <a:xfrm>
              <a:off x="654480" y="3310200"/>
              <a:ext cx="581760" cy="669600"/>
              <a:chOff x="654480" y="3310200"/>
              <a:chExt cx="581760" cy="669600"/>
            </a:xfrm>
          </p:grpSpPr>
          <p:sp>
            <p:nvSpPr>
              <p:cNvPr id="220" name="Freeform 73"/>
              <p:cNvSpPr/>
              <p:nvPr/>
            </p:nvSpPr>
            <p:spPr>
              <a:xfrm rot="7449600">
                <a:off x="858240" y="3385080"/>
                <a:ext cx="332640" cy="2858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74"/>
              <p:cNvSpPr/>
              <p:nvPr/>
            </p:nvSpPr>
            <p:spPr>
              <a:xfrm flipH="1" rot="7449600">
                <a:off x="708840" y="3636360"/>
                <a:ext cx="290520" cy="2858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75"/>
          <p:cNvGrpSpPr/>
          <p:nvPr/>
        </p:nvGrpSpPr>
        <p:grpSpPr>
          <a:xfrm>
            <a:off x="833760" y="2179080"/>
            <a:ext cx="552960" cy="567720"/>
            <a:chOff x="833760" y="2179080"/>
            <a:chExt cx="552960" cy="567720"/>
          </a:xfrm>
        </p:grpSpPr>
        <p:grpSp>
          <p:nvGrpSpPr>
            <p:cNvPr id="223" name="Group 76"/>
            <p:cNvGrpSpPr/>
            <p:nvPr/>
          </p:nvGrpSpPr>
          <p:grpSpPr>
            <a:xfrm>
              <a:off x="833760" y="2179080"/>
              <a:ext cx="552960" cy="567720"/>
              <a:chOff x="833760" y="2179080"/>
              <a:chExt cx="552960" cy="567720"/>
            </a:xfrm>
          </p:grpSpPr>
          <p:sp>
            <p:nvSpPr>
              <p:cNvPr id="224" name="Freeform 77"/>
              <p:cNvSpPr/>
              <p:nvPr/>
            </p:nvSpPr>
            <p:spPr>
              <a:xfrm rot="2848800">
                <a:off x="890640" y="2236680"/>
                <a:ext cx="279000" cy="2775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8"/>
              <p:cNvSpPr/>
              <p:nvPr/>
            </p:nvSpPr>
            <p:spPr>
              <a:xfrm flipH="1" rot="2848800">
                <a:off x="1080000" y="2424240"/>
                <a:ext cx="243360" cy="2775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79"/>
            <p:cNvGrpSpPr/>
            <p:nvPr/>
          </p:nvGrpSpPr>
          <p:grpSpPr>
            <a:xfrm>
              <a:off x="884880" y="2230200"/>
              <a:ext cx="451440" cy="465840"/>
              <a:chOff x="884880" y="2230200"/>
              <a:chExt cx="451440" cy="465840"/>
            </a:xfrm>
          </p:grpSpPr>
          <p:sp>
            <p:nvSpPr>
              <p:cNvPr id="227" name="Freeform 80"/>
              <p:cNvSpPr/>
              <p:nvPr/>
            </p:nvSpPr>
            <p:spPr>
              <a:xfrm rot="2848800">
                <a:off x="922680" y="2284200"/>
                <a:ext cx="23868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1"/>
              <p:cNvSpPr/>
              <p:nvPr/>
            </p:nvSpPr>
            <p:spPr>
              <a:xfrm flipH="1" rot="2848800">
                <a:off x="1084680" y="2444760"/>
                <a:ext cx="208440" cy="2080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82"/>
          <p:cNvGrpSpPr/>
          <p:nvPr/>
        </p:nvGrpSpPr>
        <p:grpSpPr>
          <a:xfrm>
            <a:off x="1986480" y="1026360"/>
            <a:ext cx="553320" cy="568080"/>
            <a:chOff x="1986480" y="1026360"/>
            <a:chExt cx="553320" cy="568080"/>
          </a:xfrm>
        </p:grpSpPr>
        <p:grpSp>
          <p:nvGrpSpPr>
            <p:cNvPr id="230" name="Group 83"/>
            <p:cNvGrpSpPr/>
            <p:nvPr/>
          </p:nvGrpSpPr>
          <p:grpSpPr>
            <a:xfrm>
              <a:off x="1986480" y="1026360"/>
              <a:ext cx="553320" cy="568080"/>
              <a:chOff x="1986480" y="1026360"/>
              <a:chExt cx="553320" cy="568080"/>
            </a:xfrm>
          </p:grpSpPr>
          <p:sp>
            <p:nvSpPr>
              <p:cNvPr id="231" name="Freeform 84"/>
              <p:cNvSpPr/>
              <p:nvPr/>
            </p:nvSpPr>
            <p:spPr>
              <a:xfrm rot="2848800">
                <a:off x="2043360" y="1083960"/>
                <a:ext cx="279000" cy="277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85"/>
              <p:cNvSpPr/>
              <p:nvPr/>
            </p:nvSpPr>
            <p:spPr>
              <a:xfrm flipH="1" rot="2848800">
                <a:off x="2233080" y="1271520"/>
                <a:ext cx="243360" cy="277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86"/>
            <p:cNvGrpSpPr/>
            <p:nvPr/>
          </p:nvGrpSpPr>
          <p:grpSpPr>
            <a:xfrm>
              <a:off x="2037600" y="1077840"/>
              <a:ext cx="451800" cy="466200"/>
              <a:chOff x="2037600" y="1077840"/>
              <a:chExt cx="451800" cy="466200"/>
            </a:xfrm>
          </p:grpSpPr>
          <p:sp>
            <p:nvSpPr>
              <p:cNvPr id="234" name="Freeform 87"/>
              <p:cNvSpPr/>
              <p:nvPr/>
            </p:nvSpPr>
            <p:spPr>
              <a:xfrm rot="2848800">
                <a:off x="2075760" y="1131840"/>
                <a:ext cx="238680" cy="2084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88"/>
              <p:cNvSpPr/>
              <p:nvPr/>
            </p:nvSpPr>
            <p:spPr>
              <a:xfrm flipH="1" rot="2848800">
                <a:off x="2237760" y="1292400"/>
                <a:ext cx="208440" cy="2084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Text Box 90"/>
          <p:cNvSpPr/>
          <p:nvPr/>
        </p:nvSpPr>
        <p:spPr>
          <a:xfrm>
            <a:off x="2484360" y="6237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3.05556E-006 -0.86088 E">
                                      <p:cBhvr>
                                        <p:cTn id="274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evt="end">
                                        <p:tn val="273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8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5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10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1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1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6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5E-006 4.81481E-006 L -0.00382 -0.78218 E">
                                      <p:cBhvr>
                                        <p:cTn id="307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9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77778E-007 0.00092 L -0.00399 -0.79168 E">
                                      <p:cBhvr>
                                        <p:cTn id="310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evt="end">
                                        <p:tn val="309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2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44444E-006 1.48148E-006 L -0.004 -0.78218 E">
                                      <p:cBhvr>
                                        <p:cTn id="313" dur="5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evt="end">
                                        <p:tn val="312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5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5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2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33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1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5.55556E-007 5.20231E-007 L 0.23264 0.19676 E">
                                      <p:cBhvr>
                                        <p:cTn id="34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2" repeatCount="indefinite">
                                  <p:stCondLst>
                                    <p:cond delay="1300"/>
                                  </p:stCondLst>
                                  <p:childTnLst>
                                    <p:animClr clrSpc="rgb">
                                      <p:cBhvr>
                                        <p:cTn id="350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1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2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359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1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94444E-006 -2.31214E-007 L 0.24688 0.1785 E">
                                      <p:cBhvr>
                                        <p:cTn id="368" dur="23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70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1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2" repeatCount="indefinite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379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0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1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1">
                                  <p:stCondLst>
                                    <p:cond delay="17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1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28" descr="3Z6E0]0_~S](2T`9%[JBR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"/>
          <p:cNvSpPr/>
          <p:nvPr/>
        </p:nvSpPr>
        <p:spPr>
          <a:xfrm>
            <a:off x="395280" y="148428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问雄鹰</a:t>
            </a:r>
            <a:r>
              <a:rPr b="1" lang="en-US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梦想是什么</a:t>
            </a:r>
            <a:r>
              <a:rPr b="1" lang="en-US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雄鹰扑闪了一下翅膀，略有所思地说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971640" y="3068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梦想就是用昂扬的斗志和旺盛的生命去叱咤风云点缀蓝天白云</a:t>
            </a: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5003640" y="-892080"/>
            <a:ext cx="792000" cy="726840"/>
            <a:chOff x="5003640" y="-892080"/>
            <a:chExt cx="792000" cy="726840"/>
          </a:xfrm>
        </p:grpSpPr>
        <p:sp>
          <p:nvSpPr>
            <p:cNvPr id="241" name="Freeform 5"/>
            <p:cNvSpPr/>
            <p:nvPr/>
          </p:nvSpPr>
          <p:spPr>
            <a:xfrm>
              <a:off x="5003640" y="-892080"/>
              <a:ext cx="776520" cy="72684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6"/>
            <p:cNvGrpSpPr/>
            <p:nvPr/>
          </p:nvGrpSpPr>
          <p:grpSpPr>
            <a:xfrm>
              <a:off x="5030640" y="-865080"/>
              <a:ext cx="765000" cy="687600"/>
              <a:chOff x="5030640" y="-865080"/>
              <a:chExt cx="765000" cy="687600"/>
            </a:xfrm>
          </p:grpSpPr>
          <p:sp>
            <p:nvSpPr>
              <p:cNvPr id="243" name="Freeform 7"/>
              <p:cNvSpPr/>
              <p:nvPr/>
            </p:nvSpPr>
            <p:spPr>
              <a:xfrm rot="10789800">
                <a:off x="5352840" y="-669960"/>
                <a:ext cx="156240" cy="49248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8"/>
              <p:cNvSpPr/>
              <p:nvPr/>
            </p:nvSpPr>
            <p:spPr>
              <a:xfrm rot="10789800">
                <a:off x="5343840" y="-674280"/>
                <a:ext cx="382320" cy="34128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"/>
              <p:cNvSpPr/>
              <p:nvPr/>
            </p:nvSpPr>
            <p:spPr>
              <a:xfrm rot="10789800">
                <a:off x="5343480" y="-674280"/>
                <a:ext cx="451800" cy="9504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"/>
              <p:cNvSpPr/>
              <p:nvPr/>
            </p:nvSpPr>
            <p:spPr>
              <a:xfrm rot="10789800">
                <a:off x="5343120" y="-801000"/>
                <a:ext cx="330120" cy="12672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1"/>
              <p:cNvSpPr/>
              <p:nvPr/>
            </p:nvSpPr>
            <p:spPr>
              <a:xfrm rot="10789800">
                <a:off x="5196600" y="-673200"/>
                <a:ext cx="147600" cy="46044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2"/>
              <p:cNvSpPr/>
              <p:nvPr/>
            </p:nvSpPr>
            <p:spPr>
              <a:xfrm rot="10789800">
                <a:off x="5030640" y="-677880"/>
                <a:ext cx="312840" cy="27504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3"/>
              <p:cNvSpPr/>
              <p:nvPr/>
            </p:nvSpPr>
            <p:spPr>
              <a:xfrm rot="10789800">
                <a:off x="5343120" y="-864720"/>
                <a:ext cx="138960" cy="19044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4"/>
              <p:cNvSpPr/>
              <p:nvPr/>
            </p:nvSpPr>
            <p:spPr>
              <a:xfrm rot="10789800">
                <a:off x="5047560" y="-672840"/>
                <a:ext cx="295560" cy="500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15"/>
          <p:cNvGrpSpPr/>
          <p:nvPr/>
        </p:nvGrpSpPr>
        <p:grpSpPr>
          <a:xfrm>
            <a:off x="1157400" y="-691920"/>
            <a:ext cx="765000" cy="725040"/>
            <a:chOff x="1157400" y="-691920"/>
            <a:chExt cx="765000" cy="725040"/>
          </a:xfrm>
        </p:grpSpPr>
        <p:sp>
          <p:nvSpPr>
            <p:cNvPr id="252" name="Freeform 16"/>
            <p:cNvSpPr/>
            <p:nvPr/>
          </p:nvSpPr>
          <p:spPr>
            <a:xfrm rot="21269400">
              <a:off x="1187280" y="-659520"/>
              <a:ext cx="704880" cy="66024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17"/>
            <p:cNvGrpSpPr/>
            <p:nvPr/>
          </p:nvGrpSpPr>
          <p:grpSpPr>
            <a:xfrm>
              <a:off x="1199880" y="-641160"/>
              <a:ext cx="700200" cy="632880"/>
              <a:chOff x="1199880" y="-641160"/>
              <a:chExt cx="700200" cy="632880"/>
            </a:xfrm>
          </p:grpSpPr>
          <p:sp>
            <p:nvSpPr>
              <p:cNvPr id="254" name="Freeform 18"/>
              <p:cNvSpPr/>
              <p:nvPr/>
            </p:nvSpPr>
            <p:spPr>
              <a:xfrm rot="10459800">
                <a:off x="1513440" y="-461160"/>
                <a:ext cx="141840" cy="44712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"/>
              <p:cNvSpPr/>
              <p:nvPr/>
            </p:nvSpPr>
            <p:spPr>
              <a:xfrm rot="10459800">
                <a:off x="1497600" y="-473400"/>
                <a:ext cx="347040" cy="30996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0"/>
              <p:cNvSpPr/>
              <p:nvPr/>
            </p:nvSpPr>
            <p:spPr>
              <a:xfrm rot="10459800">
                <a:off x="1486080" y="-476280"/>
                <a:ext cx="410400" cy="8640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1"/>
              <p:cNvSpPr/>
              <p:nvPr/>
            </p:nvSpPr>
            <p:spPr>
              <a:xfrm rot="10459800">
                <a:off x="1476360" y="-585720"/>
                <a:ext cx="299880" cy="11520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2"/>
              <p:cNvSpPr/>
              <p:nvPr/>
            </p:nvSpPr>
            <p:spPr>
              <a:xfrm rot="10459800">
                <a:off x="1369800" y="-450000"/>
                <a:ext cx="133920" cy="41832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3"/>
              <p:cNvSpPr/>
              <p:nvPr/>
            </p:nvSpPr>
            <p:spPr>
              <a:xfrm rot="10459800">
                <a:off x="1211400" y="-447120"/>
                <a:ext cx="284040" cy="24984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4"/>
              <p:cNvSpPr/>
              <p:nvPr/>
            </p:nvSpPr>
            <p:spPr>
              <a:xfrm rot="10459800">
                <a:off x="1474560" y="-635040"/>
                <a:ext cx="126000" cy="1731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5"/>
              <p:cNvSpPr/>
              <p:nvPr/>
            </p:nvSpPr>
            <p:spPr>
              <a:xfrm rot="10459800">
                <a:off x="1217520" y="-442440"/>
                <a:ext cx="268200" cy="4572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26"/>
          <p:cNvGrpSpPr/>
          <p:nvPr/>
        </p:nvGrpSpPr>
        <p:grpSpPr>
          <a:xfrm>
            <a:off x="7476840" y="5315760"/>
            <a:ext cx="1086480" cy="1057680"/>
            <a:chOff x="7476840" y="5315760"/>
            <a:chExt cx="1086480" cy="1057680"/>
          </a:xfrm>
        </p:grpSpPr>
        <p:sp>
          <p:nvSpPr>
            <p:cNvPr id="263" name="Freeform 27"/>
            <p:cNvSpPr/>
            <p:nvPr/>
          </p:nvSpPr>
          <p:spPr>
            <a:xfrm rot="20235600">
              <a:off x="7597080" y="5448240"/>
              <a:ext cx="846000" cy="79236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28"/>
            <p:cNvGrpSpPr/>
            <p:nvPr/>
          </p:nvGrpSpPr>
          <p:grpSpPr>
            <a:xfrm>
              <a:off x="7593840" y="5451480"/>
              <a:ext cx="844920" cy="792720"/>
              <a:chOff x="7593840" y="5451480"/>
              <a:chExt cx="844920" cy="792720"/>
            </a:xfrm>
          </p:grpSpPr>
          <p:sp>
            <p:nvSpPr>
              <p:cNvPr id="265" name="Freeform 29"/>
              <p:cNvSpPr/>
              <p:nvPr/>
            </p:nvSpPr>
            <p:spPr>
              <a:xfrm rot="9425400">
                <a:off x="8018280" y="5664600"/>
                <a:ext cx="170280" cy="53676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0"/>
              <p:cNvSpPr/>
              <p:nvPr/>
            </p:nvSpPr>
            <p:spPr>
              <a:xfrm rot="9425400">
                <a:off x="7966080" y="5622480"/>
                <a:ext cx="416520" cy="37224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1"/>
              <p:cNvSpPr/>
              <p:nvPr/>
            </p:nvSpPr>
            <p:spPr>
              <a:xfrm rot="9425400">
                <a:off x="7910280" y="5619240"/>
                <a:ext cx="492480" cy="10368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2"/>
              <p:cNvSpPr/>
              <p:nvPr/>
            </p:nvSpPr>
            <p:spPr>
              <a:xfrm rot="9425400">
                <a:off x="7869240" y="5515920"/>
                <a:ext cx="359640" cy="13824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3"/>
              <p:cNvSpPr/>
              <p:nvPr/>
            </p:nvSpPr>
            <p:spPr>
              <a:xfrm rot="9425400">
                <a:off x="7853400" y="5730480"/>
                <a:ext cx="160920" cy="5022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4"/>
              <p:cNvSpPr/>
              <p:nvPr/>
            </p:nvSpPr>
            <p:spPr>
              <a:xfrm rot="9425400">
                <a:off x="7638840" y="5768640"/>
                <a:ext cx="340920" cy="29988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5"/>
              <p:cNvSpPr/>
              <p:nvPr/>
            </p:nvSpPr>
            <p:spPr>
              <a:xfrm rot="9425400">
                <a:off x="7863840" y="5489640"/>
                <a:ext cx="151200" cy="20772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6"/>
              <p:cNvSpPr/>
              <p:nvPr/>
            </p:nvSpPr>
            <p:spPr>
              <a:xfrm rot="9425400">
                <a:off x="7611480" y="5779800"/>
                <a:ext cx="321840" cy="5472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37"/>
          <p:cNvGrpSpPr/>
          <p:nvPr/>
        </p:nvGrpSpPr>
        <p:grpSpPr>
          <a:xfrm>
            <a:off x="3938400" y="-1058040"/>
            <a:ext cx="1125000" cy="1179000"/>
            <a:chOff x="3938400" y="-1058040"/>
            <a:chExt cx="1125000" cy="1179000"/>
          </a:xfrm>
        </p:grpSpPr>
        <p:sp>
          <p:nvSpPr>
            <p:cNvPr id="274" name="Freeform 38"/>
            <p:cNvSpPr/>
            <p:nvPr/>
          </p:nvSpPr>
          <p:spPr>
            <a:xfrm rot="2083800">
              <a:off x="4140360" y="-936000"/>
              <a:ext cx="720720" cy="93492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39"/>
            <p:cNvGrpSpPr/>
            <p:nvPr/>
          </p:nvGrpSpPr>
          <p:grpSpPr>
            <a:xfrm>
              <a:off x="4115880" y="-857880"/>
              <a:ext cx="794160" cy="813960"/>
              <a:chOff x="4115880" y="-857880"/>
              <a:chExt cx="794160" cy="813960"/>
            </a:xfrm>
          </p:grpSpPr>
          <p:sp>
            <p:nvSpPr>
              <p:cNvPr id="276" name="Freeform 40"/>
              <p:cNvSpPr/>
              <p:nvPr/>
            </p:nvSpPr>
            <p:spPr>
              <a:xfrm rot="12874800">
                <a:off x="4376160" y="-662040"/>
                <a:ext cx="145080" cy="63288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1"/>
              <p:cNvSpPr/>
              <p:nvPr/>
            </p:nvSpPr>
            <p:spPr>
              <a:xfrm rot="12874800">
                <a:off x="4408920" y="-594360"/>
                <a:ext cx="354960" cy="43884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2"/>
              <p:cNvSpPr/>
              <p:nvPr/>
            </p:nvSpPr>
            <p:spPr>
              <a:xfrm rot="12874800">
                <a:off x="4492800" y="-548280"/>
                <a:ext cx="419400" cy="12240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3"/>
              <p:cNvSpPr/>
              <p:nvPr/>
            </p:nvSpPr>
            <p:spPr>
              <a:xfrm rot="12874800">
                <a:off x="4584240" y="-717840"/>
                <a:ext cx="306360" cy="16308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4"/>
              <p:cNvSpPr/>
              <p:nvPr/>
            </p:nvSpPr>
            <p:spPr>
              <a:xfrm rot="12874800">
                <a:off x="4271760" y="-747360"/>
                <a:ext cx="137160" cy="5922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5"/>
              <p:cNvSpPr/>
              <p:nvPr/>
            </p:nvSpPr>
            <p:spPr>
              <a:xfrm rot="12874800">
                <a:off x="4203360" y="-775800"/>
                <a:ext cx="290520" cy="35388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6"/>
              <p:cNvSpPr/>
              <p:nvPr/>
            </p:nvSpPr>
            <p:spPr>
              <a:xfrm rot="12874800">
                <a:off x="4622760" y="-842760"/>
                <a:ext cx="128880" cy="24480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7"/>
              <p:cNvSpPr/>
              <p:nvPr/>
            </p:nvSpPr>
            <p:spPr>
              <a:xfrm rot="12874800">
                <a:off x="4296600" y="-739800"/>
                <a:ext cx="274320" cy="644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Group 48"/>
          <p:cNvGrpSpPr/>
          <p:nvPr/>
        </p:nvGrpSpPr>
        <p:grpSpPr>
          <a:xfrm>
            <a:off x="1872000" y="4824000"/>
            <a:ext cx="1000440" cy="973440"/>
            <a:chOff x="1872000" y="4824000"/>
            <a:chExt cx="1000440" cy="973440"/>
          </a:xfrm>
        </p:grpSpPr>
        <p:sp>
          <p:nvSpPr>
            <p:cNvPr id="285" name="Freeform 49"/>
            <p:cNvSpPr/>
            <p:nvPr/>
          </p:nvSpPr>
          <p:spPr>
            <a:xfrm rot="20310000">
              <a:off x="1979640" y="4942080"/>
              <a:ext cx="785160" cy="73692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50"/>
            <p:cNvGrpSpPr/>
            <p:nvPr/>
          </p:nvGrpSpPr>
          <p:grpSpPr>
            <a:xfrm>
              <a:off x="1965960" y="4950360"/>
              <a:ext cx="783720" cy="731880"/>
              <a:chOff x="1965960" y="4950360"/>
              <a:chExt cx="783720" cy="731880"/>
            </a:xfrm>
          </p:grpSpPr>
          <p:sp>
            <p:nvSpPr>
              <p:cNvPr id="287" name="Freeform 51"/>
              <p:cNvSpPr/>
              <p:nvPr/>
            </p:nvSpPr>
            <p:spPr>
              <a:xfrm rot="9500400">
                <a:off x="2358360" y="5146560"/>
                <a:ext cx="158040" cy="49896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2"/>
              <p:cNvSpPr/>
              <p:nvPr/>
            </p:nvSpPr>
            <p:spPr>
              <a:xfrm rot="9500400">
                <a:off x="2312640" y="5109480"/>
                <a:ext cx="386640" cy="34596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3"/>
              <p:cNvSpPr/>
              <p:nvPr/>
            </p:nvSpPr>
            <p:spPr>
              <a:xfrm rot="9500400">
                <a:off x="2263680" y="5105160"/>
                <a:ext cx="457200" cy="9648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54"/>
              <p:cNvSpPr/>
              <p:nvPr/>
            </p:nvSpPr>
            <p:spPr>
              <a:xfrm rot="9500400">
                <a:off x="2226240" y="5007240"/>
                <a:ext cx="334080" cy="12852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55"/>
              <p:cNvSpPr/>
              <p:nvPr/>
            </p:nvSpPr>
            <p:spPr>
              <a:xfrm rot="9500400">
                <a:off x="2204280" y="5204160"/>
                <a:ext cx="149400" cy="46692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56"/>
              <p:cNvSpPr/>
              <p:nvPr/>
            </p:nvSpPr>
            <p:spPr>
              <a:xfrm rot="9500400">
                <a:off x="2006280" y="5236560"/>
                <a:ext cx="316440" cy="27900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57"/>
              <p:cNvSpPr/>
              <p:nvPr/>
            </p:nvSpPr>
            <p:spPr>
              <a:xfrm rot="9500400">
                <a:off x="2221560" y="4980960"/>
                <a:ext cx="140400" cy="1929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58"/>
              <p:cNvSpPr/>
              <p:nvPr/>
            </p:nvSpPr>
            <p:spPr>
              <a:xfrm rot="9500400">
                <a:off x="1983240" y="5246640"/>
                <a:ext cx="298800" cy="5076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Group 59"/>
          <p:cNvGrpSpPr/>
          <p:nvPr/>
        </p:nvGrpSpPr>
        <p:grpSpPr>
          <a:xfrm>
            <a:off x="6142320" y="-741960"/>
            <a:ext cx="804240" cy="757080"/>
            <a:chOff x="6142320" y="-741960"/>
            <a:chExt cx="804240" cy="757080"/>
          </a:xfrm>
        </p:grpSpPr>
        <p:sp>
          <p:nvSpPr>
            <p:cNvPr id="296" name="Freeform 60"/>
            <p:cNvSpPr/>
            <p:nvPr/>
          </p:nvSpPr>
          <p:spPr>
            <a:xfrm rot="21465000">
              <a:off x="6156000" y="-726840"/>
              <a:ext cx="776160" cy="72720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61"/>
            <p:cNvGrpSpPr/>
            <p:nvPr/>
          </p:nvGrpSpPr>
          <p:grpSpPr>
            <a:xfrm>
              <a:off x="6177600" y="-702720"/>
              <a:ext cx="767880" cy="692280"/>
              <a:chOff x="6177600" y="-702720"/>
              <a:chExt cx="767880" cy="692280"/>
            </a:xfrm>
          </p:grpSpPr>
          <p:sp>
            <p:nvSpPr>
              <p:cNvPr id="298" name="Freeform 62"/>
              <p:cNvSpPr/>
              <p:nvPr/>
            </p:nvSpPr>
            <p:spPr>
              <a:xfrm rot="10654800">
                <a:off x="6509160" y="-505800"/>
                <a:ext cx="156240" cy="49248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3"/>
              <p:cNvSpPr/>
              <p:nvPr/>
            </p:nvSpPr>
            <p:spPr>
              <a:xfrm rot="10654800">
                <a:off x="6497280" y="-514440"/>
                <a:ext cx="381960" cy="34164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4"/>
              <p:cNvSpPr/>
              <p:nvPr/>
            </p:nvSpPr>
            <p:spPr>
              <a:xfrm rot="10654800">
                <a:off x="6491880" y="-515520"/>
                <a:ext cx="451440" cy="9504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65"/>
              <p:cNvSpPr/>
              <p:nvPr/>
            </p:nvSpPr>
            <p:spPr>
              <a:xfrm rot="10654800">
                <a:off x="6487560" y="-640080"/>
                <a:ext cx="329760" cy="12708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66"/>
              <p:cNvSpPr/>
              <p:nvPr/>
            </p:nvSpPr>
            <p:spPr>
              <a:xfrm rot="10654800">
                <a:off x="6352560" y="-502920"/>
                <a:ext cx="147600" cy="4608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67"/>
              <p:cNvSpPr/>
              <p:nvPr/>
            </p:nvSpPr>
            <p:spPr>
              <a:xfrm rot="10654800">
                <a:off x="6183360" y="-504720"/>
                <a:ext cx="312480" cy="27540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68"/>
              <p:cNvSpPr/>
              <p:nvPr/>
            </p:nvSpPr>
            <p:spPr>
              <a:xfrm rot="10654800">
                <a:off x="6486120" y="-699480"/>
                <a:ext cx="138960" cy="19044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69"/>
              <p:cNvSpPr/>
              <p:nvPr/>
            </p:nvSpPr>
            <p:spPr>
              <a:xfrm rot="10654800">
                <a:off x="6195960" y="-499320"/>
                <a:ext cx="295200" cy="500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Group 70"/>
          <p:cNvGrpSpPr/>
          <p:nvPr/>
        </p:nvGrpSpPr>
        <p:grpSpPr>
          <a:xfrm>
            <a:off x="7185600" y="-868680"/>
            <a:ext cx="1024200" cy="1002960"/>
            <a:chOff x="7185600" y="-868680"/>
            <a:chExt cx="1024200" cy="1002960"/>
          </a:xfrm>
        </p:grpSpPr>
        <p:sp>
          <p:nvSpPr>
            <p:cNvPr id="307" name="Freeform 71"/>
            <p:cNvSpPr/>
            <p:nvPr/>
          </p:nvSpPr>
          <p:spPr>
            <a:xfrm rot="1642200">
              <a:off x="7309080" y="-730800"/>
              <a:ext cx="776520" cy="72720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72"/>
            <p:cNvGrpSpPr/>
            <p:nvPr/>
          </p:nvGrpSpPr>
          <p:grpSpPr>
            <a:xfrm>
              <a:off x="7319520" y="-687600"/>
              <a:ext cx="803880" cy="686880"/>
              <a:chOff x="7319520" y="-687600"/>
              <a:chExt cx="803880" cy="686880"/>
            </a:xfrm>
          </p:grpSpPr>
          <p:sp>
            <p:nvSpPr>
              <p:cNvPr id="309" name="Freeform 73"/>
              <p:cNvSpPr/>
              <p:nvPr/>
            </p:nvSpPr>
            <p:spPr>
              <a:xfrm rot="12432600">
                <a:off x="7606080" y="-501480"/>
                <a:ext cx="156240" cy="49248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74"/>
              <p:cNvSpPr/>
              <p:nvPr/>
            </p:nvSpPr>
            <p:spPr>
              <a:xfrm rot="12432600">
                <a:off x="7622280" y="-449640"/>
                <a:ext cx="382320" cy="34164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75"/>
              <p:cNvSpPr/>
              <p:nvPr/>
            </p:nvSpPr>
            <p:spPr>
              <a:xfrm rot="12432600">
                <a:off x="7674480" y="-419760"/>
                <a:ext cx="451800" cy="9504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76"/>
              <p:cNvSpPr/>
              <p:nvPr/>
            </p:nvSpPr>
            <p:spPr>
              <a:xfrm rot="12432600">
                <a:off x="7732080" y="-562680"/>
                <a:ext cx="330120" cy="12708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77"/>
              <p:cNvSpPr/>
              <p:nvPr/>
            </p:nvSpPr>
            <p:spPr>
              <a:xfrm rot="12432600">
                <a:off x="7476480" y="-576720"/>
                <a:ext cx="147600" cy="4608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78"/>
              <p:cNvSpPr/>
              <p:nvPr/>
            </p:nvSpPr>
            <p:spPr>
              <a:xfrm rot="12432600">
                <a:off x="7364880" y="-609480"/>
                <a:ext cx="312840" cy="27540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79"/>
              <p:cNvSpPr/>
              <p:nvPr/>
            </p:nvSpPr>
            <p:spPr>
              <a:xfrm rot="12432600">
                <a:off x="7757280" y="-666000"/>
                <a:ext cx="138960" cy="19044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80"/>
              <p:cNvSpPr/>
              <p:nvPr/>
            </p:nvSpPr>
            <p:spPr>
              <a:xfrm rot="12432600">
                <a:off x="7430400" y="-587520"/>
                <a:ext cx="295560" cy="500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Group 81"/>
          <p:cNvGrpSpPr/>
          <p:nvPr/>
        </p:nvGrpSpPr>
        <p:grpSpPr>
          <a:xfrm>
            <a:off x="2795400" y="-801360"/>
            <a:ext cx="948600" cy="935280"/>
            <a:chOff x="2795400" y="-801360"/>
            <a:chExt cx="948600" cy="935280"/>
          </a:xfrm>
        </p:grpSpPr>
        <p:sp>
          <p:nvSpPr>
            <p:cNvPr id="318" name="Freeform 82"/>
            <p:cNvSpPr/>
            <p:nvPr/>
          </p:nvSpPr>
          <p:spPr>
            <a:xfrm rot="1947000">
              <a:off x="2917440" y="-663840"/>
              <a:ext cx="704520" cy="66024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83"/>
            <p:cNvGrpSpPr/>
            <p:nvPr/>
          </p:nvGrpSpPr>
          <p:grpSpPr>
            <a:xfrm>
              <a:off x="2932200" y="-623880"/>
              <a:ext cx="717840" cy="616680"/>
              <a:chOff x="2932200" y="-623880"/>
              <a:chExt cx="717840" cy="616680"/>
            </a:xfrm>
          </p:grpSpPr>
          <p:sp>
            <p:nvSpPr>
              <p:cNvPr id="320" name="Freeform 84"/>
              <p:cNvSpPr/>
              <p:nvPr/>
            </p:nvSpPr>
            <p:spPr>
              <a:xfrm rot="12736800">
                <a:off x="3177720" y="-457560"/>
                <a:ext cx="141840" cy="44712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85"/>
              <p:cNvSpPr/>
              <p:nvPr/>
            </p:nvSpPr>
            <p:spPr>
              <a:xfrm rot="12736800">
                <a:off x="3193200" y="-398880"/>
                <a:ext cx="347040" cy="30996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86"/>
              <p:cNvSpPr/>
              <p:nvPr/>
            </p:nvSpPr>
            <p:spPr>
              <a:xfrm rot="12736800">
                <a:off x="3248640" y="-365400"/>
                <a:ext cx="410040" cy="8640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87"/>
              <p:cNvSpPr/>
              <p:nvPr/>
            </p:nvSpPr>
            <p:spPr>
              <a:xfrm rot="12736800">
                <a:off x="3310920" y="-494280"/>
                <a:ext cx="299520" cy="11520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88"/>
              <p:cNvSpPr/>
              <p:nvPr/>
            </p:nvSpPr>
            <p:spPr>
              <a:xfrm rot="12736800">
                <a:off x="3067920" y="-536040"/>
                <a:ext cx="133920" cy="41832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89"/>
              <p:cNvSpPr/>
              <p:nvPr/>
            </p:nvSpPr>
            <p:spPr>
              <a:xfrm rot="12736800">
                <a:off x="2976840" y="-567360"/>
                <a:ext cx="284040" cy="24984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90"/>
              <p:cNvSpPr/>
              <p:nvPr/>
            </p:nvSpPr>
            <p:spPr>
              <a:xfrm rot="12736800">
                <a:off x="3339720" y="-594720"/>
                <a:ext cx="126000" cy="1731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91"/>
              <p:cNvSpPr/>
              <p:nvPr/>
            </p:nvSpPr>
            <p:spPr>
              <a:xfrm rot="12736800">
                <a:off x="3043440" y="-543240"/>
                <a:ext cx="268200" cy="4572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 92"/>
          <p:cNvGrpSpPr/>
          <p:nvPr/>
        </p:nvGrpSpPr>
        <p:grpSpPr>
          <a:xfrm>
            <a:off x="6181200" y="3875760"/>
            <a:ext cx="1086840" cy="1057680"/>
            <a:chOff x="6181200" y="3875760"/>
            <a:chExt cx="1086840" cy="1057680"/>
          </a:xfrm>
        </p:grpSpPr>
        <p:sp>
          <p:nvSpPr>
            <p:cNvPr id="329" name="Freeform 93"/>
            <p:cNvSpPr/>
            <p:nvPr/>
          </p:nvSpPr>
          <p:spPr>
            <a:xfrm rot="20235600">
              <a:off x="6301080" y="4008600"/>
              <a:ext cx="846360" cy="79200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94"/>
            <p:cNvGrpSpPr/>
            <p:nvPr/>
          </p:nvGrpSpPr>
          <p:grpSpPr>
            <a:xfrm>
              <a:off x="6297840" y="4011480"/>
              <a:ext cx="845280" cy="792360"/>
              <a:chOff x="6297840" y="4011480"/>
              <a:chExt cx="845280" cy="792360"/>
            </a:xfrm>
          </p:grpSpPr>
          <p:sp>
            <p:nvSpPr>
              <p:cNvPr id="331" name="Freeform 95"/>
              <p:cNvSpPr/>
              <p:nvPr/>
            </p:nvSpPr>
            <p:spPr>
              <a:xfrm rot="9425400">
                <a:off x="6722280" y="4224600"/>
                <a:ext cx="170280" cy="53640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96"/>
              <p:cNvSpPr/>
              <p:nvPr/>
            </p:nvSpPr>
            <p:spPr>
              <a:xfrm rot="9425400">
                <a:off x="6670440" y="4182840"/>
                <a:ext cx="416520" cy="37188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97"/>
              <p:cNvSpPr/>
              <p:nvPr/>
            </p:nvSpPr>
            <p:spPr>
              <a:xfrm rot="9425400">
                <a:off x="6614640" y="4178880"/>
                <a:ext cx="492480" cy="10368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98"/>
              <p:cNvSpPr/>
              <p:nvPr/>
            </p:nvSpPr>
            <p:spPr>
              <a:xfrm rot="9425400">
                <a:off x="6573240" y="4075920"/>
                <a:ext cx="359640" cy="13824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99"/>
              <p:cNvSpPr/>
              <p:nvPr/>
            </p:nvSpPr>
            <p:spPr>
              <a:xfrm rot="9425400">
                <a:off x="6557400" y="4290120"/>
                <a:ext cx="160920" cy="50184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00"/>
              <p:cNvSpPr/>
              <p:nvPr/>
            </p:nvSpPr>
            <p:spPr>
              <a:xfrm rot="9425400">
                <a:off x="6342840" y="4328280"/>
                <a:ext cx="340920" cy="29988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01"/>
              <p:cNvSpPr/>
              <p:nvPr/>
            </p:nvSpPr>
            <p:spPr>
              <a:xfrm rot="9425400">
                <a:off x="6568200" y="4049640"/>
                <a:ext cx="151200" cy="20772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02"/>
              <p:cNvSpPr/>
              <p:nvPr/>
            </p:nvSpPr>
            <p:spPr>
              <a:xfrm rot="9425400">
                <a:off x="6315480" y="4339440"/>
                <a:ext cx="321840" cy="5472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103"/>
          <p:cNvGrpSpPr/>
          <p:nvPr/>
        </p:nvGrpSpPr>
        <p:grpSpPr>
          <a:xfrm>
            <a:off x="3330360" y="-1044720"/>
            <a:ext cx="1046520" cy="1151280"/>
            <a:chOff x="3330360" y="-1044720"/>
            <a:chExt cx="1046520" cy="1151280"/>
          </a:xfrm>
        </p:grpSpPr>
        <p:sp>
          <p:nvSpPr>
            <p:cNvPr id="340" name="Freeform 104"/>
            <p:cNvSpPr/>
            <p:nvPr/>
          </p:nvSpPr>
          <p:spPr>
            <a:xfrm rot="1487400">
              <a:off x="3493080" y="-936360"/>
              <a:ext cx="721080" cy="93492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05"/>
            <p:cNvGrpSpPr/>
            <p:nvPr/>
          </p:nvGrpSpPr>
          <p:grpSpPr>
            <a:xfrm>
              <a:off x="3474720" y="-887400"/>
              <a:ext cx="790560" cy="866160"/>
              <a:chOff x="3474720" y="-887400"/>
              <a:chExt cx="790560" cy="866160"/>
            </a:xfrm>
          </p:grpSpPr>
          <p:sp>
            <p:nvSpPr>
              <p:cNvPr id="342" name="Freeform 106"/>
              <p:cNvSpPr/>
              <p:nvPr/>
            </p:nvSpPr>
            <p:spPr>
              <a:xfrm rot="12277800">
                <a:off x="3750120" y="-655560"/>
                <a:ext cx="145080" cy="63288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07"/>
              <p:cNvSpPr/>
              <p:nvPr/>
            </p:nvSpPr>
            <p:spPr>
              <a:xfrm rot="12277800">
                <a:off x="3776040" y="-611280"/>
                <a:ext cx="354960" cy="43884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8"/>
              <p:cNvSpPr/>
              <p:nvPr/>
            </p:nvSpPr>
            <p:spPr>
              <a:xfrm rot="12277800">
                <a:off x="3838680" y="-583200"/>
                <a:ext cx="419760" cy="12240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9"/>
              <p:cNvSpPr/>
              <p:nvPr/>
            </p:nvSpPr>
            <p:spPr>
              <a:xfrm rot="12277800">
                <a:off x="3903480" y="-756720"/>
                <a:ext cx="306720" cy="16308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10"/>
              <p:cNvSpPr/>
              <p:nvPr/>
            </p:nvSpPr>
            <p:spPr>
              <a:xfrm rot="12277800">
                <a:off x="3629520" y="-720720"/>
                <a:ext cx="137160" cy="59220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11"/>
              <p:cNvSpPr/>
              <p:nvPr/>
            </p:nvSpPr>
            <p:spPr>
              <a:xfrm rot="12277800">
                <a:off x="3535200" y="-748080"/>
                <a:ext cx="290520" cy="35388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2"/>
              <p:cNvSpPr/>
              <p:nvPr/>
            </p:nvSpPr>
            <p:spPr>
              <a:xfrm rot="12277800">
                <a:off x="3928680" y="-871560"/>
                <a:ext cx="128880" cy="24480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13"/>
              <p:cNvSpPr/>
              <p:nvPr/>
            </p:nvSpPr>
            <p:spPr>
              <a:xfrm rot="12277800">
                <a:off x="3608280" y="-725400"/>
                <a:ext cx="274320" cy="6444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Group 114"/>
          <p:cNvGrpSpPr/>
          <p:nvPr/>
        </p:nvGrpSpPr>
        <p:grpSpPr>
          <a:xfrm>
            <a:off x="3384720" y="3742560"/>
            <a:ext cx="1000800" cy="973800"/>
            <a:chOff x="3384720" y="3742560"/>
            <a:chExt cx="1000800" cy="973800"/>
          </a:xfrm>
        </p:grpSpPr>
        <p:sp>
          <p:nvSpPr>
            <p:cNvPr id="351" name="Freeform 115"/>
            <p:cNvSpPr/>
            <p:nvPr/>
          </p:nvSpPr>
          <p:spPr>
            <a:xfrm rot="20310000">
              <a:off x="3492360" y="3860640"/>
              <a:ext cx="785520" cy="736920"/>
            </a:xfrm>
            <a:custGeom>
              <a:avLst/>
              <a:gdLst/>
              <a:ahLst/>
              <a:rect l="l" t="t" r="r" b="b"/>
              <a:pathLst>
                <a:path w="3814" h="3579">
                  <a:moveTo>
                    <a:pt x="1548" y="1011"/>
                  </a:moveTo>
                  <a:lnTo>
                    <a:pt x="1374" y="957"/>
                  </a:lnTo>
                  <a:lnTo>
                    <a:pt x="960" y="777"/>
                  </a:lnTo>
                  <a:lnTo>
                    <a:pt x="1005" y="827"/>
                  </a:lnTo>
                  <a:lnTo>
                    <a:pt x="836" y="770"/>
                  </a:lnTo>
                  <a:lnTo>
                    <a:pt x="624" y="789"/>
                  </a:lnTo>
                  <a:lnTo>
                    <a:pt x="810" y="933"/>
                  </a:lnTo>
                  <a:lnTo>
                    <a:pt x="960" y="999"/>
                  </a:lnTo>
                  <a:lnTo>
                    <a:pt x="668" y="995"/>
                  </a:lnTo>
                  <a:lnTo>
                    <a:pt x="500" y="1051"/>
                  </a:lnTo>
                  <a:lnTo>
                    <a:pt x="612" y="1108"/>
                  </a:lnTo>
                  <a:lnTo>
                    <a:pt x="360" y="1173"/>
                  </a:lnTo>
                  <a:lnTo>
                    <a:pt x="390" y="1233"/>
                  </a:lnTo>
                  <a:lnTo>
                    <a:pt x="162" y="1287"/>
                  </a:lnTo>
                  <a:lnTo>
                    <a:pt x="388" y="1332"/>
                  </a:lnTo>
                  <a:lnTo>
                    <a:pt x="312" y="1395"/>
                  </a:lnTo>
                  <a:lnTo>
                    <a:pt x="612" y="1353"/>
                  </a:lnTo>
                  <a:lnTo>
                    <a:pt x="612" y="1413"/>
                  </a:lnTo>
                  <a:lnTo>
                    <a:pt x="762" y="1413"/>
                  </a:lnTo>
                  <a:lnTo>
                    <a:pt x="1062" y="1332"/>
                  </a:lnTo>
                  <a:cubicBezTo>
                    <a:pt x="1062" y="1332"/>
                    <a:pt x="781" y="1444"/>
                    <a:pt x="500" y="1557"/>
                  </a:cubicBezTo>
                  <a:cubicBezTo>
                    <a:pt x="400" y="1629"/>
                    <a:pt x="300" y="1701"/>
                    <a:pt x="300" y="1701"/>
                  </a:cubicBezTo>
                  <a:lnTo>
                    <a:pt x="500" y="1726"/>
                  </a:lnTo>
                  <a:cubicBezTo>
                    <a:pt x="500" y="1726"/>
                    <a:pt x="367" y="1725"/>
                    <a:pt x="240" y="1809"/>
                  </a:cubicBezTo>
                  <a:cubicBezTo>
                    <a:pt x="181" y="1875"/>
                    <a:pt x="168" y="1953"/>
                    <a:pt x="168" y="1953"/>
                  </a:cubicBezTo>
                  <a:lnTo>
                    <a:pt x="331" y="1950"/>
                  </a:lnTo>
                  <a:lnTo>
                    <a:pt x="138" y="2055"/>
                  </a:lnTo>
                  <a:lnTo>
                    <a:pt x="102" y="2139"/>
                  </a:lnTo>
                  <a:lnTo>
                    <a:pt x="218" y="2119"/>
                  </a:lnTo>
                  <a:lnTo>
                    <a:pt x="107" y="2231"/>
                  </a:lnTo>
                  <a:lnTo>
                    <a:pt x="24" y="2337"/>
                  </a:lnTo>
                  <a:lnTo>
                    <a:pt x="0" y="2415"/>
                  </a:lnTo>
                  <a:cubicBezTo>
                    <a:pt x="0" y="2415"/>
                    <a:pt x="67" y="2457"/>
                    <a:pt x="168" y="2415"/>
                  </a:cubicBezTo>
                  <a:cubicBezTo>
                    <a:pt x="237" y="2370"/>
                    <a:pt x="306" y="2325"/>
                    <a:pt x="306" y="2325"/>
                  </a:cubicBezTo>
                  <a:lnTo>
                    <a:pt x="275" y="2400"/>
                  </a:lnTo>
                  <a:lnTo>
                    <a:pt x="414" y="2409"/>
                  </a:lnTo>
                  <a:lnTo>
                    <a:pt x="557" y="2231"/>
                  </a:lnTo>
                  <a:lnTo>
                    <a:pt x="557" y="2344"/>
                  </a:lnTo>
                  <a:cubicBezTo>
                    <a:pt x="557" y="2344"/>
                    <a:pt x="620" y="2313"/>
                    <a:pt x="684" y="2283"/>
                  </a:cubicBezTo>
                  <a:cubicBezTo>
                    <a:pt x="853" y="2157"/>
                    <a:pt x="1005" y="1950"/>
                    <a:pt x="1005" y="1950"/>
                  </a:cubicBezTo>
                  <a:cubicBezTo>
                    <a:pt x="1005" y="1950"/>
                    <a:pt x="823" y="2133"/>
                    <a:pt x="725" y="2344"/>
                  </a:cubicBezTo>
                  <a:cubicBezTo>
                    <a:pt x="607" y="2565"/>
                    <a:pt x="630" y="2685"/>
                    <a:pt x="630" y="2685"/>
                  </a:cubicBezTo>
                  <a:lnTo>
                    <a:pt x="725" y="2624"/>
                  </a:lnTo>
                  <a:lnTo>
                    <a:pt x="696" y="2937"/>
                  </a:lnTo>
                  <a:lnTo>
                    <a:pt x="792" y="2913"/>
                  </a:lnTo>
                  <a:lnTo>
                    <a:pt x="750" y="3075"/>
                  </a:lnTo>
                  <a:lnTo>
                    <a:pt x="840" y="3063"/>
                  </a:lnTo>
                  <a:lnTo>
                    <a:pt x="864" y="3183"/>
                  </a:lnTo>
                  <a:lnTo>
                    <a:pt x="906" y="3357"/>
                  </a:lnTo>
                  <a:lnTo>
                    <a:pt x="1014" y="3141"/>
                  </a:lnTo>
                  <a:lnTo>
                    <a:pt x="1092" y="3225"/>
                  </a:lnTo>
                  <a:lnTo>
                    <a:pt x="1182" y="3135"/>
                  </a:lnTo>
                  <a:lnTo>
                    <a:pt x="1206" y="2973"/>
                  </a:lnTo>
                  <a:lnTo>
                    <a:pt x="1254" y="3057"/>
                  </a:lnTo>
                  <a:lnTo>
                    <a:pt x="1302" y="3021"/>
                  </a:lnTo>
                  <a:lnTo>
                    <a:pt x="1374" y="2919"/>
                  </a:lnTo>
                  <a:lnTo>
                    <a:pt x="1362" y="2703"/>
                  </a:lnTo>
                  <a:lnTo>
                    <a:pt x="1482" y="2823"/>
                  </a:lnTo>
                  <a:cubicBezTo>
                    <a:pt x="1482" y="2823"/>
                    <a:pt x="1543" y="2751"/>
                    <a:pt x="1549" y="2559"/>
                  </a:cubicBezTo>
                  <a:cubicBezTo>
                    <a:pt x="1542" y="2307"/>
                    <a:pt x="1536" y="2055"/>
                    <a:pt x="1536" y="2055"/>
                  </a:cubicBezTo>
                  <a:lnTo>
                    <a:pt x="1572" y="2001"/>
                  </a:lnTo>
                  <a:lnTo>
                    <a:pt x="1620" y="2451"/>
                  </a:lnTo>
                  <a:lnTo>
                    <a:pt x="1608" y="2631"/>
                  </a:lnTo>
                  <a:lnTo>
                    <a:pt x="1656" y="2793"/>
                  </a:lnTo>
                  <a:lnTo>
                    <a:pt x="1736" y="2737"/>
                  </a:lnTo>
                  <a:lnTo>
                    <a:pt x="1854" y="3099"/>
                  </a:lnTo>
                  <a:lnTo>
                    <a:pt x="1974" y="2913"/>
                  </a:lnTo>
                  <a:lnTo>
                    <a:pt x="2017" y="3130"/>
                  </a:lnTo>
                  <a:lnTo>
                    <a:pt x="2094" y="3303"/>
                  </a:lnTo>
                  <a:lnTo>
                    <a:pt x="2185" y="3130"/>
                  </a:lnTo>
                  <a:lnTo>
                    <a:pt x="2256" y="3363"/>
                  </a:lnTo>
                  <a:lnTo>
                    <a:pt x="2298" y="3309"/>
                  </a:lnTo>
                  <a:lnTo>
                    <a:pt x="2448" y="3579"/>
                  </a:lnTo>
                  <a:lnTo>
                    <a:pt x="2466" y="3018"/>
                  </a:lnTo>
                  <a:lnTo>
                    <a:pt x="2550" y="3111"/>
                  </a:lnTo>
                  <a:lnTo>
                    <a:pt x="2522" y="2849"/>
                  </a:lnTo>
                  <a:lnTo>
                    <a:pt x="2580" y="2787"/>
                  </a:lnTo>
                  <a:lnTo>
                    <a:pt x="2520" y="2571"/>
                  </a:lnTo>
                  <a:lnTo>
                    <a:pt x="2579" y="2512"/>
                  </a:lnTo>
                  <a:lnTo>
                    <a:pt x="2214" y="1965"/>
                  </a:lnTo>
                  <a:lnTo>
                    <a:pt x="2635" y="2455"/>
                  </a:lnTo>
                  <a:lnTo>
                    <a:pt x="2676" y="2337"/>
                  </a:lnTo>
                  <a:cubicBezTo>
                    <a:pt x="2676" y="2337"/>
                    <a:pt x="2725" y="2493"/>
                    <a:pt x="2820" y="2571"/>
                  </a:cubicBezTo>
                  <a:cubicBezTo>
                    <a:pt x="2896" y="2597"/>
                    <a:pt x="2972" y="2624"/>
                    <a:pt x="2972" y="2624"/>
                  </a:cubicBezTo>
                  <a:lnTo>
                    <a:pt x="3018" y="2559"/>
                  </a:lnTo>
                  <a:lnTo>
                    <a:pt x="3210" y="2709"/>
                  </a:lnTo>
                  <a:lnTo>
                    <a:pt x="3222" y="2649"/>
                  </a:lnTo>
                  <a:lnTo>
                    <a:pt x="3522" y="2781"/>
                  </a:lnTo>
                  <a:lnTo>
                    <a:pt x="3366" y="2568"/>
                  </a:lnTo>
                  <a:lnTo>
                    <a:pt x="3366" y="2512"/>
                  </a:lnTo>
                  <a:lnTo>
                    <a:pt x="3252" y="2385"/>
                  </a:lnTo>
                  <a:lnTo>
                    <a:pt x="3384" y="2355"/>
                  </a:lnTo>
                  <a:lnTo>
                    <a:pt x="3318" y="2181"/>
                  </a:lnTo>
                  <a:lnTo>
                    <a:pt x="3162" y="2091"/>
                  </a:lnTo>
                  <a:lnTo>
                    <a:pt x="3309" y="2063"/>
                  </a:lnTo>
                  <a:cubicBezTo>
                    <a:pt x="3309" y="2063"/>
                    <a:pt x="3241" y="1929"/>
                    <a:pt x="3031" y="1773"/>
                  </a:cubicBezTo>
                  <a:cubicBezTo>
                    <a:pt x="2787" y="1626"/>
                    <a:pt x="2544" y="1479"/>
                    <a:pt x="2544" y="1479"/>
                  </a:cubicBezTo>
                  <a:lnTo>
                    <a:pt x="3072" y="1683"/>
                  </a:lnTo>
                  <a:lnTo>
                    <a:pt x="3198" y="1683"/>
                  </a:lnTo>
                  <a:lnTo>
                    <a:pt x="3126" y="1569"/>
                  </a:lnTo>
                  <a:lnTo>
                    <a:pt x="3318" y="1647"/>
                  </a:lnTo>
                  <a:lnTo>
                    <a:pt x="3462" y="1623"/>
                  </a:lnTo>
                  <a:lnTo>
                    <a:pt x="3421" y="1557"/>
                  </a:lnTo>
                  <a:lnTo>
                    <a:pt x="3540" y="1557"/>
                  </a:lnTo>
                  <a:lnTo>
                    <a:pt x="3814" y="1557"/>
                  </a:lnTo>
                  <a:lnTo>
                    <a:pt x="3462" y="1347"/>
                  </a:lnTo>
                  <a:lnTo>
                    <a:pt x="3372" y="1287"/>
                  </a:lnTo>
                  <a:lnTo>
                    <a:pt x="3468" y="1215"/>
                  </a:lnTo>
                  <a:cubicBezTo>
                    <a:pt x="3468" y="1215"/>
                    <a:pt x="3411" y="1173"/>
                    <a:pt x="3354" y="1131"/>
                  </a:cubicBezTo>
                  <a:cubicBezTo>
                    <a:pt x="3217" y="1083"/>
                    <a:pt x="3078" y="1119"/>
                    <a:pt x="3078" y="1119"/>
                  </a:cubicBezTo>
                  <a:lnTo>
                    <a:pt x="3246" y="999"/>
                  </a:lnTo>
                  <a:cubicBezTo>
                    <a:pt x="3246" y="999"/>
                    <a:pt x="3165" y="969"/>
                    <a:pt x="3084" y="939"/>
                  </a:cubicBezTo>
                  <a:cubicBezTo>
                    <a:pt x="2887" y="873"/>
                    <a:pt x="2688" y="897"/>
                    <a:pt x="2688" y="897"/>
                  </a:cubicBezTo>
                  <a:lnTo>
                    <a:pt x="2886" y="753"/>
                  </a:lnTo>
                  <a:lnTo>
                    <a:pt x="2803" y="714"/>
                  </a:lnTo>
                  <a:cubicBezTo>
                    <a:pt x="2803" y="714"/>
                    <a:pt x="2883" y="700"/>
                    <a:pt x="2964" y="687"/>
                  </a:cubicBezTo>
                  <a:cubicBezTo>
                    <a:pt x="3151" y="579"/>
                    <a:pt x="3252" y="381"/>
                    <a:pt x="3252" y="381"/>
                  </a:cubicBezTo>
                  <a:lnTo>
                    <a:pt x="2886" y="465"/>
                  </a:lnTo>
                  <a:lnTo>
                    <a:pt x="2898" y="399"/>
                  </a:lnTo>
                  <a:cubicBezTo>
                    <a:pt x="2898" y="399"/>
                    <a:pt x="2821" y="393"/>
                    <a:pt x="2724" y="423"/>
                  </a:cubicBezTo>
                  <a:cubicBezTo>
                    <a:pt x="2611" y="447"/>
                    <a:pt x="2550" y="531"/>
                    <a:pt x="2550" y="531"/>
                  </a:cubicBezTo>
                  <a:lnTo>
                    <a:pt x="2604" y="381"/>
                  </a:lnTo>
                  <a:lnTo>
                    <a:pt x="2304" y="507"/>
                  </a:lnTo>
                  <a:lnTo>
                    <a:pt x="2010" y="645"/>
                  </a:lnTo>
                  <a:cubicBezTo>
                    <a:pt x="2010" y="645"/>
                    <a:pt x="2131" y="561"/>
                    <a:pt x="2241" y="433"/>
                  </a:cubicBezTo>
                  <a:cubicBezTo>
                    <a:pt x="2335" y="273"/>
                    <a:pt x="2310" y="57"/>
                    <a:pt x="2310" y="57"/>
                  </a:cubicBezTo>
                  <a:cubicBezTo>
                    <a:pt x="2297" y="0"/>
                    <a:pt x="2210" y="63"/>
                    <a:pt x="2161" y="93"/>
                  </a:cubicBezTo>
                  <a:cubicBezTo>
                    <a:pt x="2112" y="123"/>
                    <a:pt x="2064" y="166"/>
                    <a:pt x="2016" y="237"/>
                  </a:cubicBezTo>
                  <a:cubicBezTo>
                    <a:pt x="1897" y="393"/>
                    <a:pt x="1872" y="519"/>
                    <a:pt x="1872" y="519"/>
                  </a:cubicBezTo>
                  <a:lnTo>
                    <a:pt x="1794" y="381"/>
                  </a:lnTo>
                  <a:cubicBezTo>
                    <a:pt x="1794" y="381"/>
                    <a:pt x="1699" y="495"/>
                    <a:pt x="1656" y="699"/>
                  </a:cubicBezTo>
                  <a:cubicBezTo>
                    <a:pt x="1609" y="849"/>
                    <a:pt x="1615" y="951"/>
                    <a:pt x="1615" y="951"/>
                  </a:cubicBezTo>
                  <a:lnTo>
                    <a:pt x="1548" y="101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16"/>
            <p:cNvGrpSpPr/>
            <p:nvPr/>
          </p:nvGrpSpPr>
          <p:grpSpPr>
            <a:xfrm>
              <a:off x="3479400" y="3868920"/>
              <a:ext cx="783720" cy="732240"/>
              <a:chOff x="3479400" y="3868920"/>
              <a:chExt cx="783720" cy="732240"/>
            </a:xfrm>
          </p:grpSpPr>
          <p:sp>
            <p:nvSpPr>
              <p:cNvPr id="353" name="Freeform 117"/>
              <p:cNvSpPr/>
              <p:nvPr/>
            </p:nvSpPr>
            <p:spPr>
              <a:xfrm rot="9500400">
                <a:off x="3871800" y="4065120"/>
                <a:ext cx="158040" cy="498960"/>
              </a:xfrm>
              <a:custGeom>
                <a:avLst/>
                <a:gdLst/>
                <a:ahLst/>
                <a:rect l="l" t="t" r="r" b="b"/>
                <a:pathLst>
                  <a:path w="432" h="1488">
                    <a:moveTo>
                      <a:pt x="0" y="0"/>
                    </a:moveTo>
                    <a:cubicBezTo>
                      <a:pt x="84" y="356"/>
                      <a:pt x="168" y="712"/>
                      <a:pt x="240" y="960"/>
                    </a:cubicBezTo>
                    <a:cubicBezTo>
                      <a:pt x="312" y="1208"/>
                      <a:pt x="372" y="1348"/>
                      <a:pt x="432" y="14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18"/>
              <p:cNvSpPr/>
              <p:nvPr/>
            </p:nvSpPr>
            <p:spPr>
              <a:xfrm rot="9500400">
                <a:off x="3825720" y="4028400"/>
                <a:ext cx="387000" cy="345960"/>
              </a:xfrm>
              <a:custGeom>
                <a:avLst/>
                <a:gdLst/>
                <a:ahLst/>
                <a:rect l="l" t="t" r="r" b="b"/>
                <a:pathLst>
                  <a:path w="1056" h="1032">
                    <a:moveTo>
                      <a:pt x="0" y="0"/>
                    </a:moveTo>
                    <a:cubicBezTo>
                      <a:pt x="196" y="216"/>
                      <a:pt x="392" y="432"/>
                      <a:pt x="528" y="576"/>
                    </a:cubicBezTo>
                    <a:cubicBezTo>
                      <a:pt x="664" y="720"/>
                      <a:pt x="736" y="792"/>
                      <a:pt x="816" y="864"/>
                    </a:cubicBezTo>
                    <a:cubicBezTo>
                      <a:pt x="896" y="936"/>
                      <a:pt x="968" y="984"/>
                      <a:pt x="1008" y="1008"/>
                    </a:cubicBezTo>
                    <a:cubicBezTo>
                      <a:pt x="1048" y="1032"/>
                      <a:pt x="1052" y="1020"/>
                      <a:pt x="1056" y="100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19"/>
              <p:cNvSpPr/>
              <p:nvPr/>
            </p:nvSpPr>
            <p:spPr>
              <a:xfrm rot="9500400">
                <a:off x="3777120" y="4023720"/>
                <a:ext cx="457200" cy="9648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0" y="0"/>
                    </a:moveTo>
                    <a:cubicBezTo>
                      <a:pt x="232" y="52"/>
                      <a:pt x="464" y="104"/>
                      <a:pt x="624" y="144"/>
                    </a:cubicBezTo>
                    <a:cubicBezTo>
                      <a:pt x="784" y="184"/>
                      <a:pt x="864" y="216"/>
                      <a:pt x="960" y="240"/>
                    </a:cubicBezTo>
                    <a:cubicBezTo>
                      <a:pt x="1056" y="264"/>
                      <a:pt x="1128" y="276"/>
                      <a:pt x="1200" y="2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20"/>
              <p:cNvSpPr/>
              <p:nvPr/>
            </p:nvSpPr>
            <p:spPr>
              <a:xfrm rot="9500400">
                <a:off x="3739680" y="3925800"/>
                <a:ext cx="334080" cy="128520"/>
              </a:xfrm>
              <a:custGeom>
                <a:avLst/>
                <a:gdLst/>
                <a:ahLst/>
                <a:rect l="l" t="t" r="r" b="b"/>
                <a:pathLst>
                  <a:path w="912" h="384">
                    <a:moveTo>
                      <a:pt x="0" y="384"/>
                    </a:moveTo>
                    <a:cubicBezTo>
                      <a:pt x="180" y="312"/>
                      <a:pt x="360" y="240"/>
                      <a:pt x="480" y="192"/>
                    </a:cubicBezTo>
                    <a:cubicBezTo>
                      <a:pt x="600" y="144"/>
                      <a:pt x="648" y="128"/>
                      <a:pt x="720" y="96"/>
                    </a:cubicBezTo>
                    <a:cubicBezTo>
                      <a:pt x="792" y="64"/>
                      <a:pt x="852" y="32"/>
                      <a:pt x="91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21"/>
              <p:cNvSpPr/>
              <p:nvPr/>
            </p:nvSpPr>
            <p:spPr>
              <a:xfrm rot="9500400">
                <a:off x="3717360" y="4123080"/>
                <a:ext cx="149400" cy="466920"/>
              </a:xfrm>
              <a:custGeom>
                <a:avLst/>
                <a:gdLst/>
                <a:ahLst/>
                <a:rect l="l" t="t" r="r" b="b"/>
                <a:pathLst>
                  <a:path w="408" h="1392">
                    <a:moveTo>
                      <a:pt x="384" y="0"/>
                    </a:moveTo>
                    <a:cubicBezTo>
                      <a:pt x="396" y="124"/>
                      <a:pt x="408" y="248"/>
                      <a:pt x="384" y="384"/>
                    </a:cubicBezTo>
                    <a:cubicBezTo>
                      <a:pt x="360" y="520"/>
                      <a:pt x="280" y="696"/>
                      <a:pt x="240" y="816"/>
                    </a:cubicBezTo>
                    <a:cubicBezTo>
                      <a:pt x="200" y="936"/>
                      <a:pt x="184" y="1008"/>
                      <a:pt x="144" y="1104"/>
                    </a:cubicBezTo>
                    <a:cubicBezTo>
                      <a:pt x="104" y="1200"/>
                      <a:pt x="52" y="1296"/>
                      <a:pt x="0" y="139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22"/>
              <p:cNvSpPr/>
              <p:nvPr/>
            </p:nvSpPr>
            <p:spPr>
              <a:xfrm rot="9500400">
                <a:off x="3519720" y="4155480"/>
                <a:ext cx="316440" cy="279000"/>
              </a:xfrm>
              <a:custGeom>
                <a:avLst/>
                <a:gdLst/>
                <a:ahLst/>
                <a:rect l="l" t="t" r="r" b="b"/>
                <a:pathLst>
                  <a:path w="864" h="832">
                    <a:moveTo>
                      <a:pt x="864" y="0"/>
                    </a:moveTo>
                    <a:cubicBezTo>
                      <a:pt x="688" y="152"/>
                      <a:pt x="512" y="304"/>
                      <a:pt x="384" y="432"/>
                    </a:cubicBezTo>
                    <a:cubicBezTo>
                      <a:pt x="256" y="560"/>
                      <a:pt x="160" y="704"/>
                      <a:pt x="96" y="768"/>
                    </a:cubicBezTo>
                    <a:cubicBezTo>
                      <a:pt x="32" y="832"/>
                      <a:pt x="16" y="824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23"/>
              <p:cNvSpPr/>
              <p:nvPr/>
            </p:nvSpPr>
            <p:spPr>
              <a:xfrm rot="9500400">
                <a:off x="3735000" y="3899160"/>
                <a:ext cx="140400" cy="192960"/>
              </a:xfrm>
              <a:custGeom>
                <a:avLst/>
                <a:gdLst/>
                <a:ahLst/>
                <a:rect l="l" t="t" r="r" b="b"/>
                <a:pathLst>
                  <a:path w="384" h="576">
                    <a:moveTo>
                      <a:pt x="0" y="576"/>
                    </a:moveTo>
                    <a:cubicBezTo>
                      <a:pt x="32" y="548"/>
                      <a:pt x="64" y="520"/>
                      <a:pt x="96" y="480"/>
                    </a:cubicBezTo>
                    <a:cubicBezTo>
                      <a:pt x="128" y="440"/>
                      <a:pt x="160" y="392"/>
                      <a:pt x="192" y="336"/>
                    </a:cubicBezTo>
                    <a:cubicBezTo>
                      <a:pt x="224" y="280"/>
                      <a:pt x="256" y="200"/>
                      <a:pt x="288" y="144"/>
                    </a:cubicBezTo>
                    <a:cubicBezTo>
                      <a:pt x="320" y="88"/>
                      <a:pt x="352" y="44"/>
                      <a:pt x="384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24"/>
              <p:cNvSpPr/>
              <p:nvPr/>
            </p:nvSpPr>
            <p:spPr>
              <a:xfrm rot="9500400">
                <a:off x="3496320" y="4165200"/>
                <a:ext cx="299160" cy="50760"/>
              </a:xfrm>
              <a:custGeom>
                <a:avLst/>
                <a:gdLst/>
                <a:ahLst/>
                <a:rect l="l" t="t" r="r" b="b"/>
                <a:pathLst>
                  <a:path w="816" h="152">
                    <a:moveTo>
                      <a:pt x="816" y="8"/>
                    </a:moveTo>
                    <a:cubicBezTo>
                      <a:pt x="752" y="4"/>
                      <a:pt x="688" y="0"/>
                      <a:pt x="624" y="8"/>
                    </a:cubicBezTo>
                    <a:cubicBezTo>
                      <a:pt x="560" y="16"/>
                      <a:pt x="504" y="40"/>
                      <a:pt x="432" y="56"/>
                    </a:cubicBezTo>
                    <a:cubicBezTo>
                      <a:pt x="360" y="72"/>
                      <a:pt x="264" y="88"/>
                      <a:pt x="192" y="104"/>
                    </a:cubicBezTo>
                    <a:cubicBezTo>
                      <a:pt x="120" y="120"/>
                      <a:pt x="60" y="136"/>
                      <a:pt x="0" y="15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0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6 -7.40741E-007 C 0.00139 0.00162 0.00244 0.0037 0.004 0.00509 C 0.00556 0.00671 0.00764 0.00717 0.00921 0.00879 C 0.01598 0.01643 0.01806 0.02893 0.0224 0.03842 C 0.02657 0.04791 0.03126 0.05717 0.03542 0.06666 C 0.03629 0.06852 0.03716 0.07014 0.0382 0.07176 C 0.03907 0.07315 0.04011 0.07407 0.0408 0.07546 C 0.04271 0.07986 0.04393 0.08495 0.04601 0.08935 C 0.04775 0.09282 0.05122 0.1 0.05122 0.1 C 0.05261 0.10694 0.05417 0.11273 0.0566 0.11921 C 0.05938 0.13958 0.06303 0.16111 0.06841 0.18055 C 0.06719 0.21967 0.07153 0.23148 0.05521 0.25787 C 0.05139 0.26389 0.05105 0.26921 0.04601 0.27361 C 0.04185 0.28194 0.04011 0.28773 0.03421 0.29282 C 0.03074 0.30602 0.02518 0.31412 0.01841 0.32453 C 0.01355 0.33217 0.01268 0.34259 0.00921 0.35092 C 0.00504 0.36111 0.00348 0.36273 0.00122 0.37361 C 0.00278 0.38796 0.00296 0.40115 0.00782 0.41389 C 0.01008 0.41967 0.00955 0.42338 0.0132 0.42801 C 0.0106 0.43773 0.01181 0.43148 0.01181 0.44722 E">
                                      <p:cBhvr>
                                        <p:cTn id="41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05556E-006 2.22017E-007 C 0.00816 0.00601 0.01459 0.01526 0.02084 0.02451 C 0.02604 0.03215 0.02518 0.02798 0.02986 0.03376 C 0.03559 0.0407 0.04132 0.04857 0.04688 0.05574 C 0.04896 0.06799 0.05486 0.07863 0.06111 0.08742 C 0.06407 0.10129 0.05973 0.08464 0.06632 0.09875 C 0.06702 0.10037 0.06684 0.10268 0.06754 0.10453 C 0.06997 0.11147 0.07361 0.11841 0.07674 0.12488 C 0.07865 0.13437 0.07952 0.14315 0.08316 0.15102 C 0.08403 0.15981 0.08559 0.16674 0.08698 0.1753 C 0.08611 0.19565 0.08525 0.21647 0.08438 0.23682 C 0.0842 0.2426 0.07934 0.25046 0.07795 0.2537 C 0.07709 0.25555 0.07535 0.25948 0.07535 0.25971 C 0.07327 0.27174 0.06268 0.29972 0.0533 0.30412 C 0.05087 0.3062 0.04757 0.30689 0.04549 0.30967 C 0.04462 0.31129 0.04514 0.31406 0.04427 0.31522 C 0.04271 0.31753 0.03733 0.32007 0.03507 0.321 C 0.02934 0.32932 0.0224 0.33487 0.01563 0.34158 C 0.01337 0.34366 0.01164 0.34713 0.0092 0.34898 C 0.00712 0.35037 0.00486 0.35014 0.00261 0.3506 C -0.00295 0.35708 -0.00607 0.36332 -0.01302 0.36563 C -0.02048 0.3735 -0.02205 0.37512 -0.02986 0.37858 C -0.04514 0.39639 -0.02777 0.37766 -0.04288 0.38992 C -0.04965 0.39547 -0.05503 0.40541 -0.06232 0.40865 C -0.06666 0.41512 -0.07152 0.41859 -0.07656 0.42345 C -0.07916 0.42599 -0.08177 0.42854 -0.08437 0.43108 C -0.08611 0.4327 -0.08958 0.43663 -0.08958 0.43686 C -0.09531 0.44935 -0.0993 0.46323 -0.10521 0.47572 C -0.10816 0.49838 -0.10416 0.47502 -0.10902 0.49075 C -0.11336 0.50486 -0.11701 0.5222 -0.11944 0.53723 C -0.11875 0.5666 -0.12014 0.59736 -0.10902 0.62327 C -0.10798 0.62974 -0.10642 0.6383 -0.10382 0.64385 C -0.10277 0.64616 -0.10121 0.64732 -0.1 0.6494 C -0.09896 0.65102 -0.09826 0.6531 -0.09739 0.65518 C -0.09375 0.6642 -0.09045 0.67507 -0.08437 0.68108 C -0.07916 0.69981 -0.06857 0.71485 -0.06093 0.7315 C -0.05555 0.74329 -0.05086 0.75509 -0.04548 0.76688 C -0.04166 0.77521 -0.03767 0.7833 -0.03368 0.7914 C -0.03194 0.79487 -0.03021 0.79857 -0.02847 0.80227 C -0.02725 0.80481 -0.02465 0.8099 -0.02465 0.81013 C -0.02291 0.83048 -0.02135 0.86147 -0.01041 0.8772 C -0.00538 0.88437 0.00139 0.88598 0.0066 0.89223 C 0.01216 0.8987 0.01441 0.90796 0.01823 0.91628 C 0.02136 0.93617 0.02257 0.9586 0.01424 0.97595 C 0.01146 0.98867 0.00295 0.99306 -0.00521 0.99306 E">
                                      <p:cBhvr>
                                        <p:cTn id="416" dur="32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3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1.80389E-006 C -0.06892 -0.04764 -0.1585 0.01041 -0.20364 0.1265 C -0.25035 0.2456 -0.23385 0.37696 -0.16475 0.42461 C -0.09566 0.47178 -0.07899 0.60314 -0.12552 0.72225 C -0.17048 0.83857 -0.26076 0.89662 -0.32986 0.84898 E">
                                      <p:cBhvr>
                                        <p:cTn id="418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-1.68363E-006 C -0.00781 0.00694 -0.01059 0.01711 -0.01684 0.0259 C -0.01875 0.03261 -0.02083 0.03631 -0.02465 0.0414 C -0.02639 0.0488 -0.02934 0.05227 -0.03246 0.05874 C -0.03559 0.06522 -0.03802 0.07308 -0.04149 0.07956 C -0.04548 0.08672 -0.05017 0.0932 -0.05451 0.10014 C -0.0592 0.10777 -0.06128 0.11586 -0.06614 0.1228 C -0.06927 0.1339 -0.06527 0.12118 -0.07135 0.13321 C -0.0743 0.13853 -0.07639 0.145 -0.07916 0.15055 C -0.08489 0.16189 -0.0927 0.17252 -0.09739 0.18478 C -0.09913 0.18941 -0.09982 0.19519 -0.1026 0.19866 C -0.10625 0.20375 -0.10902 0.20652 -0.11163 0.21253 C -0.11562 0.22178 -0.11632 0.22803 -0.11944 0.23705 C -0.12639 0.25578 -0.13402 0.27359 -0.13889 0.29394 C -0.13663 0.39223 -0.13889 0.3062 -0.13628 0.38714 C -0.13489 0.43316 -0.13854 0.41721 -0.13246 0.44079 C -0.1283 0.45745 -0.11979 0.47086 -0.11562 0.48751 C -0.11336 0.49653 -0.11475 0.49237 -0.10902 0.50347 C -0.10816 0.50509 -0.10642 0.50832 -0.10642 0.50832 C -0.10399 0.5185 -0.09566 0.52428 -0.08836 0.52752 C -0.07882 0.53608 -0.07257 0.54093 -0.06614 0.55319 C -0.06354 0.56452 -0.05746 0.57354 -0.05451 0.58464 C -0.05312 0.64246 -0.03784 0.72271 -0.06093 0.76966 C -0.06319 0.79209 -0.07222 0.80805 -0.08177 0.82678 C -0.08628 0.83534 -0.08889 0.84713 -0.0934 0.85615 C -0.09791 0.8654 -0.10312 0.87396 -0.10642 0.88367 C -0.10816 0.88945 -0.11302 0.8994 -0.11302 0.8994 C -0.11493 0.90749 -0.12187 0.92414 -0.12725 0.929 C -0.12968 0.93339 -0.12986 0.93848 -0.13368 0.94079 E">
                                      <p:cBhvr>
                                        <p:cTn id="420" dur="37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2.77778E-006 3.60777E-006 L 0.1026 0.27497 E">
                                      <p:cBhvr>
                                        <p:cTn id="422" dur="37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72222E-006 -7.40741E-007 C -0.00277 0.01898 -0.00763 0.03681 -0.0118 0.05463 C -0.0177 0.07986 -0.02152 0.10602 -0.0269 0.13125 C -0.0309 0.15 -0.03593 0.16782 -0.03993 0.18634 C -0.04218 0.22269 -0.04861 0.2581 -0.05625 0.29259 C -0.05989 0.30972 -0.06163 0.3331 -0.06788 0.34745 C -0.0684 0.35417 -0.06822 0.36088 -0.06909 0.36759 C -0.06944 0.36991 -0.07118 0.37107 -0.07135 0.37315 C -0.07326 0.40185 -0.07187 0.41389 -0.075 0.43704 C -0.075 0.46921 -0.07881 0.5625 -0.07604 0.61667 C -0.07656 0.63403 -0.07586 0.65278 -0.07968 0.66945 C -0.08055 0.6794 -0.08177 0.68657 -0.08541 0.69491 C -0.08715 0.70741 -0.08923 0.72315 -0.09375 0.73357 C -0.09531 0.74329 -0.09843 0.75556 -0.10295 0.76273 C -0.10572 0.77523 -0.1019 0.76204 -0.10763 0.77199 C -0.11267 0.78102 -0.11406 0.79259 -0.12048 0.79954 C -0.12187 0.8088 -0.12361 0.81065 -0.1276 0.81782 C -0.12951 0.8213 -0.12986 0.82616 -0.13211 0.8287 C -0.13333 0.83056 -0.13524 0.83102 -0.1368 0.83218 C -0.14184 0.84005 -0.14739 0.84468 -0.15312 0.8507 C -0.15833 0.85579 -0.16232 0.86227 -0.1684 0.86528 C -0.17187 0.87083 -0.17413 0.87407 -0.17899 0.87639 C -0.18871 0.88634 -0.19826 0.89583 -0.20815 0.90579 C -0.21284 0.91042 -0.21857 0.9132 -0.22326 0.91852 C -0.22777 0.92292 -0.23472 0.92315 -0.23975 0.9257 C -0.24201 0.92685 -0.24444 0.92801 -0.2467 0.92917 C -0.24791 0.92963 -0.25017 0.93102 -0.25017 0.93125 C -0.25208 0.93032 -0.2559 0.92917 -0.2559 0.9294 E">
                                      <p:cBhvr>
                                        <p:cTn id="424" dur="37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7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4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4.72222E-006 -4.6531E-006 C 0.00538 0.00717 0.01302 0.01157 0.01944 0.01735 C 0.02205 0.01966 0.02725 0.02429 0.02725 0.02429 C 0.02916 0.02799 0.03177 0.03076 0.03368 0.03446 C 0.03455 0.03608 0.03437 0.03816 0.03507 0.03978 C 0.03923 0.04996 0.04461 0.05944 0.05069 0.06753 C 0.05295 0.07678 0.05816 0.08557 0.06232 0.09343 C 0.06736 0.10292 0.07152 0.11332 0.07656 0.12281 C 0.08836 0.14478 0.07361 0.11564 0.08316 0.13668 C 0.08472 0.14015 0.08663 0.14362 0.08836 0.14709 C 0.08923 0.14871 0.0908 0.15218 0.0908 0.15218 C 0.09236 0.16212 0.09323 0.17137 0.09739 0.17993 C 0.09965 0.19265 0.10243 0.20514 0.10521 0.21786 C 0.10573 0.22017 0.1059 0.22248 0.10642 0.22479 C 0.10711 0.22826 0.10902 0.2352 0.10902 0.2352 C 0.11128 0.2574 0.11406 0.27914 0.11823 0.30088 C 0.11996 0.3099 0.12205 0.32863 0.12205 0.32863 C 0.11458 0.44404 0.11996 0.35338 0.12326 0.64015 C 0.12343 0.65981 0.12066 0.713 0.13107 0.73358 C 0.13628 0.74399 0.14496 0.75902 0.15191 0.76804 C 0.1559 0.77336 0.16753 0.77683 0.16753 0.77683 E">
                                      <p:cBhvr>
                                        <p:cTn id="438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5" descr="()$%TI$M4A_YXX0~(E(UT6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2"/>
          <p:cNvSpPr/>
          <p:nvPr/>
        </p:nvSpPr>
        <p:spPr>
          <a:xfrm rot="1690200">
            <a:off x="1000080" y="717120"/>
            <a:ext cx="287280" cy="289080"/>
          </a:xfrm>
          <a:custGeom>
            <a:avLst/>
            <a:gdLst/>
            <a:ahLst/>
            <a:rect l="l" t="t" r="r" b="b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"/>
          <p:cNvSpPr/>
          <p:nvPr/>
        </p:nvSpPr>
        <p:spPr>
          <a:xfrm rot="19515600">
            <a:off x="588600" y="1203480"/>
            <a:ext cx="360360" cy="358560"/>
          </a:xfrm>
          <a:custGeom>
            <a:avLst/>
            <a:gdLst/>
            <a:ahLst/>
            <a:rect l="l" t="t" r="r" b="b"/>
            <a:pathLst>
              <a:path w="360362" h="358775">
                <a:moveTo>
                  <a:pt x="0" y="137040"/>
                </a:moveTo>
                <a:lnTo>
                  <a:pt x="137647" y="137040"/>
                </a:lnTo>
                <a:lnTo>
                  <a:pt x="180181" y="0"/>
                </a:lnTo>
                <a:lnTo>
                  <a:pt x="222715" y="137040"/>
                </a:lnTo>
                <a:lnTo>
                  <a:pt x="360362" y="137040"/>
                </a:lnTo>
                <a:lnTo>
                  <a:pt x="249003" y="221734"/>
                </a:lnTo>
                <a:lnTo>
                  <a:pt x="291539" y="358774"/>
                </a:lnTo>
                <a:lnTo>
                  <a:pt x="180181" y="274078"/>
                </a:lnTo>
                <a:lnTo>
                  <a:pt x="68823" y="358774"/>
                </a:lnTo>
                <a:lnTo>
                  <a:pt x="111359" y="221734"/>
                </a:lnTo>
                <a:lnTo>
                  <a:pt x="0" y="13704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 rot="20429400">
            <a:off x="1329840" y="1265040"/>
            <a:ext cx="358920" cy="320400"/>
          </a:xfrm>
          <a:custGeom>
            <a:avLst/>
            <a:gdLst/>
            <a:ahLst/>
            <a:rect l="l" t="t" r="r" b="b"/>
            <a:pathLst>
              <a:path w="358775" h="320675">
                <a:moveTo>
                  <a:pt x="0" y="122487"/>
                </a:moveTo>
                <a:lnTo>
                  <a:pt x="137041" y="122488"/>
                </a:lnTo>
                <a:lnTo>
                  <a:pt x="179388" y="0"/>
                </a:lnTo>
                <a:lnTo>
                  <a:pt x="221734" y="122488"/>
                </a:lnTo>
                <a:lnTo>
                  <a:pt x="358775" y="122487"/>
                </a:lnTo>
                <a:lnTo>
                  <a:pt x="247906" y="198187"/>
                </a:lnTo>
                <a:lnTo>
                  <a:pt x="290255" y="320674"/>
                </a:lnTo>
                <a:lnTo>
                  <a:pt x="179388" y="244972"/>
                </a:lnTo>
                <a:lnTo>
                  <a:pt x="68520" y="320674"/>
                </a:lnTo>
                <a:lnTo>
                  <a:pt x="110869" y="198187"/>
                </a:lnTo>
                <a:lnTo>
                  <a:pt x="0" y="122487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 rot="1314600">
            <a:off x="1763640" y="692280"/>
            <a:ext cx="331920" cy="288720"/>
          </a:xfrm>
          <a:custGeom>
            <a:avLst/>
            <a:gdLst/>
            <a:ahLst/>
            <a:rect l="l" t="t" r="r" b="b"/>
            <a:pathLst>
              <a:path w="331787" h="288925">
                <a:moveTo>
                  <a:pt x="0" y="110359"/>
                </a:moveTo>
                <a:lnTo>
                  <a:pt x="126732" y="110360"/>
                </a:lnTo>
                <a:lnTo>
                  <a:pt x="165894" y="0"/>
                </a:lnTo>
                <a:lnTo>
                  <a:pt x="205055" y="110360"/>
                </a:lnTo>
                <a:lnTo>
                  <a:pt x="331787" y="110359"/>
                </a:lnTo>
                <a:lnTo>
                  <a:pt x="229258" y="178565"/>
                </a:lnTo>
                <a:lnTo>
                  <a:pt x="268421" y="288924"/>
                </a:lnTo>
                <a:lnTo>
                  <a:pt x="165894" y="220718"/>
                </a:lnTo>
                <a:lnTo>
                  <a:pt x="63366" y="288924"/>
                </a:lnTo>
                <a:lnTo>
                  <a:pt x="102529" y="178565"/>
                </a:lnTo>
                <a:lnTo>
                  <a:pt x="0" y="11035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 rot="1690200">
            <a:off x="2266920" y="1050840"/>
            <a:ext cx="358920" cy="293760"/>
          </a:xfrm>
          <a:custGeom>
            <a:avLst/>
            <a:gdLst/>
            <a:ahLst/>
            <a:rect l="l" t="t" r="r" b="b"/>
            <a:pathLst>
              <a:path w="358775" h="293688">
                <a:moveTo>
                  <a:pt x="0" y="112179"/>
                </a:moveTo>
                <a:lnTo>
                  <a:pt x="137041" y="112179"/>
                </a:lnTo>
                <a:lnTo>
                  <a:pt x="179388" y="0"/>
                </a:lnTo>
                <a:lnTo>
                  <a:pt x="221734" y="112179"/>
                </a:lnTo>
                <a:lnTo>
                  <a:pt x="358775" y="112179"/>
                </a:lnTo>
                <a:lnTo>
                  <a:pt x="247906" y="181508"/>
                </a:lnTo>
                <a:lnTo>
                  <a:pt x="290255" y="293687"/>
                </a:lnTo>
                <a:lnTo>
                  <a:pt x="179388" y="224356"/>
                </a:lnTo>
                <a:lnTo>
                  <a:pt x="68520" y="293687"/>
                </a:lnTo>
                <a:lnTo>
                  <a:pt x="110869" y="181508"/>
                </a:lnTo>
                <a:lnTo>
                  <a:pt x="0" y="11217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 rot="1690200">
            <a:off x="2268000" y="404640"/>
            <a:ext cx="358920" cy="322560"/>
          </a:xfrm>
          <a:custGeom>
            <a:avLst/>
            <a:gdLst/>
            <a:ahLst/>
            <a:rect l="l" t="t" r="r" b="b"/>
            <a:pathLst>
              <a:path w="358775" h="322262">
                <a:moveTo>
                  <a:pt x="0" y="123093"/>
                </a:moveTo>
                <a:lnTo>
                  <a:pt x="137041" y="123094"/>
                </a:lnTo>
                <a:lnTo>
                  <a:pt x="179388" y="0"/>
                </a:lnTo>
                <a:lnTo>
                  <a:pt x="221734" y="123094"/>
                </a:lnTo>
                <a:lnTo>
                  <a:pt x="358775" y="123093"/>
                </a:lnTo>
                <a:lnTo>
                  <a:pt x="247906" y="199168"/>
                </a:lnTo>
                <a:lnTo>
                  <a:pt x="290255" y="322261"/>
                </a:lnTo>
                <a:lnTo>
                  <a:pt x="179388" y="246185"/>
                </a:lnTo>
                <a:lnTo>
                  <a:pt x="68520" y="322261"/>
                </a:lnTo>
                <a:lnTo>
                  <a:pt x="110869" y="199168"/>
                </a:lnTo>
                <a:lnTo>
                  <a:pt x="0" y="12309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 rot="20094000">
            <a:off x="2916360" y="333360"/>
            <a:ext cx="360360" cy="309600"/>
          </a:xfrm>
          <a:custGeom>
            <a:avLst/>
            <a:gdLst/>
            <a:ahLst/>
            <a:rect l="l" t="t" r="r" b="b"/>
            <a:pathLst>
              <a:path w="360362" h="309563">
                <a:moveTo>
                  <a:pt x="0" y="118242"/>
                </a:moveTo>
                <a:lnTo>
                  <a:pt x="137647" y="118243"/>
                </a:lnTo>
                <a:lnTo>
                  <a:pt x="180181" y="0"/>
                </a:lnTo>
                <a:lnTo>
                  <a:pt x="222715" y="118243"/>
                </a:lnTo>
                <a:lnTo>
                  <a:pt x="360362" y="118242"/>
                </a:lnTo>
                <a:lnTo>
                  <a:pt x="249003" y="191320"/>
                </a:lnTo>
                <a:lnTo>
                  <a:pt x="291539" y="309562"/>
                </a:lnTo>
                <a:lnTo>
                  <a:pt x="180181" y="236483"/>
                </a:lnTo>
                <a:lnTo>
                  <a:pt x="68823" y="309562"/>
                </a:lnTo>
                <a:lnTo>
                  <a:pt x="111359" y="191320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9"/>
          <p:cNvSpPr/>
          <p:nvPr/>
        </p:nvSpPr>
        <p:spPr>
          <a:xfrm rot="20345400">
            <a:off x="3419280" y="836280"/>
            <a:ext cx="358560" cy="309600"/>
          </a:xfrm>
          <a:custGeom>
            <a:avLst/>
            <a:gdLst/>
            <a:ahLst/>
            <a:rect l="l" t="t" r="r" b="b"/>
            <a:pathLst>
              <a:path w="358775" h="309562">
                <a:moveTo>
                  <a:pt x="0" y="118242"/>
                </a:moveTo>
                <a:lnTo>
                  <a:pt x="137041" y="118243"/>
                </a:lnTo>
                <a:lnTo>
                  <a:pt x="179388" y="0"/>
                </a:lnTo>
                <a:lnTo>
                  <a:pt x="221734" y="118243"/>
                </a:lnTo>
                <a:lnTo>
                  <a:pt x="358775" y="118242"/>
                </a:lnTo>
                <a:lnTo>
                  <a:pt x="247906" y="191319"/>
                </a:lnTo>
                <a:lnTo>
                  <a:pt x="290255" y="309561"/>
                </a:lnTo>
                <a:lnTo>
                  <a:pt x="179388" y="236483"/>
                </a:lnTo>
                <a:lnTo>
                  <a:pt x="68520" y="309561"/>
                </a:lnTo>
                <a:lnTo>
                  <a:pt x="110869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0"/>
          <p:cNvSpPr/>
          <p:nvPr/>
        </p:nvSpPr>
        <p:spPr>
          <a:xfrm rot="20345400">
            <a:off x="2916000" y="836280"/>
            <a:ext cx="288720" cy="287280"/>
          </a:xfrm>
          <a:custGeom>
            <a:avLst/>
            <a:gdLst/>
            <a:ahLst/>
            <a:rect l="l" t="t" r="r" b="b"/>
            <a:pathLst>
              <a:path w="288925" h="287337">
                <a:moveTo>
                  <a:pt x="0" y="109753"/>
                </a:moveTo>
                <a:lnTo>
                  <a:pt x="110360" y="109753"/>
                </a:lnTo>
                <a:lnTo>
                  <a:pt x="144463" y="0"/>
                </a:lnTo>
                <a:lnTo>
                  <a:pt x="178565" y="109753"/>
                </a:lnTo>
                <a:lnTo>
                  <a:pt x="288925" y="109753"/>
                </a:lnTo>
                <a:lnTo>
                  <a:pt x="199641" y="177583"/>
                </a:lnTo>
                <a:lnTo>
                  <a:pt x="233745" y="287336"/>
                </a:lnTo>
                <a:lnTo>
                  <a:pt x="144463" y="219504"/>
                </a:lnTo>
                <a:lnTo>
                  <a:pt x="55180" y="287336"/>
                </a:lnTo>
                <a:lnTo>
                  <a:pt x="89284" y="177583"/>
                </a:lnTo>
                <a:lnTo>
                  <a:pt x="0" y="10975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1"/>
          <p:cNvSpPr/>
          <p:nvPr/>
        </p:nvSpPr>
        <p:spPr>
          <a:xfrm rot="21373800">
            <a:off x="3995640" y="836280"/>
            <a:ext cx="355680" cy="309600"/>
          </a:xfrm>
          <a:custGeom>
            <a:avLst/>
            <a:gdLst/>
            <a:ahLst/>
            <a:rect l="l" t="t" r="r" b="b"/>
            <a:pathLst>
              <a:path w="355600" h="309562">
                <a:moveTo>
                  <a:pt x="0" y="118242"/>
                </a:moveTo>
                <a:lnTo>
                  <a:pt x="135828" y="118243"/>
                </a:lnTo>
                <a:lnTo>
                  <a:pt x="177800" y="0"/>
                </a:lnTo>
                <a:lnTo>
                  <a:pt x="219772" y="118243"/>
                </a:lnTo>
                <a:lnTo>
                  <a:pt x="355600" y="118242"/>
                </a:lnTo>
                <a:lnTo>
                  <a:pt x="245712" y="191319"/>
                </a:lnTo>
                <a:lnTo>
                  <a:pt x="287686" y="309561"/>
                </a:lnTo>
                <a:lnTo>
                  <a:pt x="177800" y="236483"/>
                </a:lnTo>
                <a:lnTo>
                  <a:pt x="67914" y="309561"/>
                </a:lnTo>
                <a:lnTo>
                  <a:pt x="109888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2"/>
          <p:cNvSpPr/>
          <p:nvPr/>
        </p:nvSpPr>
        <p:spPr>
          <a:xfrm rot="20450400">
            <a:off x="3563640" y="260280"/>
            <a:ext cx="366480" cy="309600"/>
          </a:xfrm>
          <a:custGeom>
            <a:avLst/>
            <a:gdLst/>
            <a:ahLst/>
            <a:rect l="l" t="t" r="r" b="b"/>
            <a:pathLst>
              <a:path w="366712" h="309563">
                <a:moveTo>
                  <a:pt x="0" y="118242"/>
                </a:moveTo>
                <a:lnTo>
                  <a:pt x="140072" y="118243"/>
                </a:lnTo>
                <a:lnTo>
                  <a:pt x="183356" y="0"/>
                </a:lnTo>
                <a:lnTo>
                  <a:pt x="226640" y="118243"/>
                </a:lnTo>
                <a:lnTo>
                  <a:pt x="366712" y="118242"/>
                </a:lnTo>
                <a:lnTo>
                  <a:pt x="253391" y="191320"/>
                </a:lnTo>
                <a:lnTo>
                  <a:pt x="296676" y="309562"/>
                </a:lnTo>
                <a:lnTo>
                  <a:pt x="183356" y="236483"/>
                </a:lnTo>
                <a:lnTo>
                  <a:pt x="70036" y="309562"/>
                </a:lnTo>
                <a:lnTo>
                  <a:pt x="113321" y="191320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3"/>
          <p:cNvSpPr/>
          <p:nvPr/>
        </p:nvSpPr>
        <p:spPr>
          <a:xfrm rot="20729400">
            <a:off x="4138200" y="258480"/>
            <a:ext cx="360360" cy="309600"/>
          </a:xfrm>
          <a:custGeom>
            <a:avLst/>
            <a:gdLst/>
            <a:ahLst/>
            <a:rect l="l" t="t" r="r" b="b"/>
            <a:pathLst>
              <a:path w="360362" h="309562">
                <a:moveTo>
                  <a:pt x="0" y="118242"/>
                </a:moveTo>
                <a:lnTo>
                  <a:pt x="137647" y="118243"/>
                </a:lnTo>
                <a:lnTo>
                  <a:pt x="180181" y="0"/>
                </a:lnTo>
                <a:lnTo>
                  <a:pt x="222715" y="118243"/>
                </a:lnTo>
                <a:lnTo>
                  <a:pt x="360362" y="118242"/>
                </a:lnTo>
                <a:lnTo>
                  <a:pt x="249003" y="191319"/>
                </a:lnTo>
                <a:lnTo>
                  <a:pt x="291539" y="309561"/>
                </a:lnTo>
                <a:lnTo>
                  <a:pt x="180181" y="236483"/>
                </a:lnTo>
                <a:lnTo>
                  <a:pt x="68823" y="309561"/>
                </a:lnTo>
                <a:lnTo>
                  <a:pt x="111359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 rot="465000">
            <a:off x="7308720" y="1125360"/>
            <a:ext cx="360360" cy="309600"/>
          </a:xfrm>
          <a:custGeom>
            <a:avLst/>
            <a:gdLst/>
            <a:ahLst/>
            <a:rect l="l" t="t" r="r" b="b"/>
            <a:pathLst>
              <a:path w="360363" h="309562">
                <a:moveTo>
                  <a:pt x="0" y="118242"/>
                </a:moveTo>
                <a:lnTo>
                  <a:pt x="137647" y="118243"/>
                </a:lnTo>
                <a:lnTo>
                  <a:pt x="180182" y="0"/>
                </a:lnTo>
                <a:lnTo>
                  <a:pt x="222716" y="118243"/>
                </a:lnTo>
                <a:lnTo>
                  <a:pt x="360363" y="118242"/>
                </a:lnTo>
                <a:lnTo>
                  <a:pt x="249003" y="191319"/>
                </a:lnTo>
                <a:lnTo>
                  <a:pt x="291540" y="309561"/>
                </a:lnTo>
                <a:lnTo>
                  <a:pt x="180182" y="236483"/>
                </a:lnTo>
                <a:lnTo>
                  <a:pt x="68823" y="309561"/>
                </a:lnTo>
                <a:lnTo>
                  <a:pt x="111360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 rot="20614200">
            <a:off x="4859280" y="188640"/>
            <a:ext cx="358920" cy="309600"/>
          </a:xfrm>
          <a:custGeom>
            <a:avLst/>
            <a:gdLst/>
            <a:ahLst/>
            <a:rect l="l" t="t" r="r" b="b"/>
            <a:pathLst>
              <a:path w="358775" h="309562">
                <a:moveTo>
                  <a:pt x="0" y="118242"/>
                </a:moveTo>
                <a:lnTo>
                  <a:pt x="137041" y="118243"/>
                </a:lnTo>
                <a:lnTo>
                  <a:pt x="179388" y="0"/>
                </a:lnTo>
                <a:lnTo>
                  <a:pt x="221734" y="118243"/>
                </a:lnTo>
                <a:lnTo>
                  <a:pt x="358775" y="118242"/>
                </a:lnTo>
                <a:lnTo>
                  <a:pt x="247906" y="191319"/>
                </a:lnTo>
                <a:lnTo>
                  <a:pt x="290255" y="309561"/>
                </a:lnTo>
                <a:lnTo>
                  <a:pt x="179388" y="236483"/>
                </a:lnTo>
                <a:lnTo>
                  <a:pt x="68520" y="309561"/>
                </a:lnTo>
                <a:lnTo>
                  <a:pt x="110869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6"/>
          <p:cNvSpPr/>
          <p:nvPr/>
        </p:nvSpPr>
        <p:spPr>
          <a:xfrm rot="20590800">
            <a:off x="4500720" y="620640"/>
            <a:ext cx="358560" cy="309600"/>
          </a:xfrm>
          <a:custGeom>
            <a:avLst/>
            <a:gdLst/>
            <a:ahLst/>
            <a:rect l="l" t="t" r="r" b="b"/>
            <a:pathLst>
              <a:path w="358775" h="309562">
                <a:moveTo>
                  <a:pt x="0" y="118242"/>
                </a:moveTo>
                <a:lnTo>
                  <a:pt x="137041" y="118243"/>
                </a:lnTo>
                <a:lnTo>
                  <a:pt x="179388" y="0"/>
                </a:lnTo>
                <a:lnTo>
                  <a:pt x="221734" y="118243"/>
                </a:lnTo>
                <a:lnTo>
                  <a:pt x="358775" y="118242"/>
                </a:lnTo>
                <a:lnTo>
                  <a:pt x="247906" y="191319"/>
                </a:lnTo>
                <a:lnTo>
                  <a:pt x="290255" y="309561"/>
                </a:lnTo>
                <a:lnTo>
                  <a:pt x="179388" y="236483"/>
                </a:lnTo>
                <a:lnTo>
                  <a:pt x="68520" y="309561"/>
                </a:lnTo>
                <a:lnTo>
                  <a:pt x="110869" y="191319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7"/>
          <p:cNvSpPr/>
          <p:nvPr/>
        </p:nvSpPr>
        <p:spPr>
          <a:xfrm rot="21451200">
            <a:off x="5003280" y="763560"/>
            <a:ext cx="28908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8"/>
          <p:cNvSpPr/>
          <p:nvPr/>
        </p:nvSpPr>
        <p:spPr>
          <a:xfrm rot="19920600">
            <a:off x="394920" y="691920"/>
            <a:ext cx="358920" cy="309600"/>
          </a:xfrm>
          <a:custGeom>
            <a:avLst/>
            <a:gdLst/>
            <a:ahLst/>
            <a:rect l="l" t="t" r="r" b="b"/>
            <a:pathLst>
              <a:path w="358775" h="309563">
                <a:moveTo>
                  <a:pt x="0" y="118242"/>
                </a:moveTo>
                <a:lnTo>
                  <a:pt x="137041" y="118243"/>
                </a:lnTo>
                <a:lnTo>
                  <a:pt x="179388" y="0"/>
                </a:lnTo>
                <a:lnTo>
                  <a:pt x="221734" y="118243"/>
                </a:lnTo>
                <a:lnTo>
                  <a:pt x="358775" y="118242"/>
                </a:lnTo>
                <a:lnTo>
                  <a:pt x="247906" y="191320"/>
                </a:lnTo>
                <a:lnTo>
                  <a:pt x="290255" y="309562"/>
                </a:lnTo>
                <a:lnTo>
                  <a:pt x="179388" y="236483"/>
                </a:lnTo>
                <a:lnTo>
                  <a:pt x="68520" y="309562"/>
                </a:lnTo>
                <a:lnTo>
                  <a:pt x="110869" y="191320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9"/>
          <p:cNvSpPr/>
          <p:nvPr/>
        </p:nvSpPr>
        <p:spPr>
          <a:xfrm rot="18802800">
            <a:off x="8088840" y="1136880"/>
            <a:ext cx="311400" cy="287280"/>
          </a:xfrm>
          <a:custGeom>
            <a:avLst/>
            <a:gdLst/>
            <a:ahLst/>
            <a:rect l="l" t="t" r="r" b="b"/>
            <a:pathLst>
              <a:path w="311150" h="287337">
                <a:moveTo>
                  <a:pt x="0" y="109753"/>
                </a:moveTo>
                <a:lnTo>
                  <a:pt x="118849" y="109753"/>
                </a:lnTo>
                <a:lnTo>
                  <a:pt x="155575" y="0"/>
                </a:lnTo>
                <a:lnTo>
                  <a:pt x="192301" y="109753"/>
                </a:lnTo>
                <a:lnTo>
                  <a:pt x="311150" y="109753"/>
                </a:lnTo>
                <a:lnTo>
                  <a:pt x="214998" y="177583"/>
                </a:lnTo>
                <a:lnTo>
                  <a:pt x="251725" y="287336"/>
                </a:lnTo>
                <a:lnTo>
                  <a:pt x="155575" y="219504"/>
                </a:lnTo>
                <a:lnTo>
                  <a:pt x="59425" y="287336"/>
                </a:lnTo>
                <a:lnTo>
                  <a:pt x="96152" y="177583"/>
                </a:lnTo>
                <a:lnTo>
                  <a:pt x="0" y="10975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0"/>
          <p:cNvSpPr/>
          <p:nvPr/>
        </p:nvSpPr>
        <p:spPr>
          <a:xfrm rot="21004200">
            <a:off x="7667280" y="692280"/>
            <a:ext cx="360360" cy="309600"/>
          </a:xfrm>
          <a:custGeom>
            <a:avLst/>
            <a:gdLst/>
            <a:ahLst/>
            <a:rect l="l" t="t" r="r" b="b"/>
            <a:pathLst>
              <a:path w="360363" h="309563">
                <a:moveTo>
                  <a:pt x="0" y="118242"/>
                </a:moveTo>
                <a:lnTo>
                  <a:pt x="137647" y="118243"/>
                </a:lnTo>
                <a:lnTo>
                  <a:pt x="180182" y="0"/>
                </a:lnTo>
                <a:lnTo>
                  <a:pt x="222716" y="118243"/>
                </a:lnTo>
                <a:lnTo>
                  <a:pt x="360363" y="118242"/>
                </a:lnTo>
                <a:lnTo>
                  <a:pt x="249003" y="191320"/>
                </a:lnTo>
                <a:lnTo>
                  <a:pt x="291540" y="309562"/>
                </a:lnTo>
                <a:lnTo>
                  <a:pt x="180182" y="236483"/>
                </a:lnTo>
                <a:lnTo>
                  <a:pt x="68823" y="309562"/>
                </a:lnTo>
                <a:lnTo>
                  <a:pt x="111360" y="191320"/>
                </a:lnTo>
                <a:lnTo>
                  <a:pt x="0" y="118242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1"/>
          <p:cNvSpPr/>
          <p:nvPr/>
        </p:nvSpPr>
        <p:spPr>
          <a:xfrm rot="1120200">
            <a:off x="5435280" y="189000"/>
            <a:ext cx="28872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2"/>
          <p:cNvSpPr/>
          <p:nvPr/>
        </p:nvSpPr>
        <p:spPr>
          <a:xfrm rot="21451200">
            <a:off x="5435280" y="549360"/>
            <a:ext cx="288720" cy="236520"/>
          </a:xfrm>
          <a:custGeom>
            <a:avLst/>
            <a:gdLst/>
            <a:ahLst/>
            <a:rect l="l" t="t" r="r" b="b"/>
            <a:pathLst>
              <a:path w="288925" h="236538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8"/>
                </a:lnTo>
                <a:lnTo>
                  <a:pt x="233745" y="236537"/>
                </a:lnTo>
                <a:lnTo>
                  <a:pt x="144463" y="180698"/>
                </a:lnTo>
                <a:lnTo>
                  <a:pt x="55180" y="236537"/>
                </a:lnTo>
                <a:lnTo>
                  <a:pt x="89284" y="146188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3"/>
          <p:cNvSpPr/>
          <p:nvPr/>
        </p:nvSpPr>
        <p:spPr>
          <a:xfrm rot="20820000">
            <a:off x="5866920" y="689040"/>
            <a:ext cx="358920" cy="360360"/>
          </a:xfrm>
          <a:custGeom>
            <a:avLst/>
            <a:gdLst/>
            <a:ahLst/>
            <a:rect l="l" t="t" r="r" b="b"/>
            <a:pathLst>
              <a:path w="358775" h="360363">
                <a:moveTo>
                  <a:pt x="0" y="137646"/>
                </a:moveTo>
                <a:lnTo>
                  <a:pt x="137041" y="137647"/>
                </a:lnTo>
                <a:lnTo>
                  <a:pt x="179388" y="0"/>
                </a:lnTo>
                <a:lnTo>
                  <a:pt x="221734" y="137647"/>
                </a:lnTo>
                <a:lnTo>
                  <a:pt x="358775" y="137646"/>
                </a:lnTo>
                <a:lnTo>
                  <a:pt x="247906" y="222716"/>
                </a:lnTo>
                <a:lnTo>
                  <a:pt x="290255" y="360362"/>
                </a:lnTo>
                <a:lnTo>
                  <a:pt x="179388" y="275291"/>
                </a:lnTo>
                <a:lnTo>
                  <a:pt x="68520" y="360362"/>
                </a:lnTo>
                <a:lnTo>
                  <a:pt x="110869" y="222716"/>
                </a:lnTo>
                <a:lnTo>
                  <a:pt x="0" y="137646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4"/>
          <p:cNvSpPr/>
          <p:nvPr/>
        </p:nvSpPr>
        <p:spPr>
          <a:xfrm rot="20143200">
            <a:off x="6012000" y="189000"/>
            <a:ext cx="28872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5"/>
          <p:cNvSpPr/>
          <p:nvPr/>
        </p:nvSpPr>
        <p:spPr>
          <a:xfrm rot="20431800">
            <a:off x="6588000" y="188640"/>
            <a:ext cx="28908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6"/>
          <p:cNvSpPr/>
          <p:nvPr/>
        </p:nvSpPr>
        <p:spPr>
          <a:xfrm rot="20431800">
            <a:off x="6372360" y="549000"/>
            <a:ext cx="288720" cy="236520"/>
          </a:xfrm>
          <a:custGeom>
            <a:avLst/>
            <a:gdLst/>
            <a:ahLst/>
            <a:rect l="l" t="t" r="r" b="b"/>
            <a:pathLst>
              <a:path w="288925" h="236538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8"/>
                </a:lnTo>
                <a:lnTo>
                  <a:pt x="233745" y="236537"/>
                </a:lnTo>
                <a:lnTo>
                  <a:pt x="144463" y="180698"/>
                </a:lnTo>
                <a:lnTo>
                  <a:pt x="55180" y="236537"/>
                </a:lnTo>
                <a:lnTo>
                  <a:pt x="89284" y="146188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7"/>
          <p:cNvSpPr/>
          <p:nvPr/>
        </p:nvSpPr>
        <p:spPr>
          <a:xfrm rot="21451200">
            <a:off x="7092720" y="474840"/>
            <a:ext cx="358560" cy="288720"/>
          </a:xfrm>
          <a:custGeom>
            <a:avLst/>
            <a:gdLst/>
            <a:ahLst/>
            <a:rect l="l" t="t" r="r" b="b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lnTo>
                  <a:pt x="0" y="11035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8"/>
          <p:cNvSpPr/>
          <p:nvPr/>
        </p:nvSpPr>
        <p:spPr>
          <a:xfrm rot="21451200">
            <a:off x="8532360" y="620640"/>
            <a:ext cx="358920" cy="284400"/>
          </a:xfrm>
          <a:custGeom>
            <a:avLst/>
            <a:gdLst/>
            <a:ahLst/>
            <a:rect l="l" t="t" r="r" b="b"/>
            <a:pathLst>
              <a:path w="358775" h="284162">
                <a:moveTo>
                  <a:pt x="0" y="108540"/>
                </a:moveTo>
                <a:lnTo>
                  <a:pt x="137041" y="108541"/>
                </a:lnTo>
                <a:lnTo>
                  <a:pt x="179388" y="0"/>
                </a:lnTo>
                <a:lnTo>
                  <a:pt x="221734" y="108541"/>
                </a:lnTo>
                <a:lnTo>
                  <a:pt x="358775" y="108540"/>
                </a:lnTo>
                <a:lnTo>
                  <a:pt x="247906" y="175621"/>
                </a:lnTo>
                <a:lnTo>
                  <a:pt x="290255" y="284161"/>
                </a:lnTo>
                <a:lnTo>
                  <a:pt x="179388" y="217079"/>
                </a:lnTo>
                <a:lnTo>
                  <a:pt x="68520" y="284161"/>
                </a:lnTo>
                <a:lnTo>
                  <a:pt x="110869" y="175621"/>
                </a:lnTo>
                <a:lnTo>
                  <a:pt x="0" y="10854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9"/>
          <p:cNvSpPr/>
          <p:nvPr/>
        </p:nvSpPr>
        <p:spPr>
          <a:xfrm rot="20674800">
            <a:off x="6732720" y="764640"/>
            <a:ext cx="288720" cy="236880"/>
          </a:xfrm>
          <a:custGeom>
            <a:avLst/>
            <a:gdLst/>
            <a:ahLst/>
            <a:rect l="l" t="t" r="r" b="b"/>
            <a:pathLst>
              <a:path w="288925" h="236538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8"/>
                </a:lnTo>
                <a:lnTo>
                  <a:pt x="233745" y="236537"/>
                </a:lnTo>
                <a:lnTo>
                  <a:pt x="144463" y="180698"/>
                </a:lnTo>
                <a:lnTo>
                  <a:pt x="55180" y="236537"/>
                </a:lnTo>
                <a:lnTo>
                  <a:pt x="89284" y="146188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0"/>
          <p:cNvSpPr/>
          <p:nvPr/>
        </p:nvSpPr>
        <p:spPr>
          <a:xfrm rot="21451200">
            <a:off x="8100720" y="260280"/>
            <a:ext cx="288720" cy="236520"/>
          </a:xfrm>
          <a:custGeom>
            <a:avLst/>
            <a:gdLst/>
            <a:ahLst/>
            <a:rect l="l" t="t" r="r" b="b"/>
            <a:pathLst>
              <a:path w="288925" h="236538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8"/>
                </a:lnTo>
                <a:lnTo>
                  <a:pt x="233745" y="236537"/>
                </a:lnTo>
                <a:lnTo>
                  <a:pt x="144463" y="180698"/>
                </a:lnTo>
                <a:lnTo>
                  <a:pt x="55180" y="236537"/>
                </a:lnTo>
                <a:lnTo>
                  <a:pt x="89284" y="146188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1"/>
          <p:cNvSpPr/>
          <p:nvPr/>
        </p:nvSpPr>
        <p:spPr>
          <a:xfrm rot="20488200">
            <a:off x="7380360" y="188640"/>
            <a:ext cx="288720" cy="236520"/>
          </a:xfrm>
          <a:custGeom>
            <a:avLst/>
            <a:gdLst/>
            <a:ahLst/>
            <a:rect l="l" t="t" r="r" b="b"/>
            <a:pathLst>
              <a:path w="288925" h="236537">
                <a:moveTo>
                  <a:pt x="0" y="90349"/>
                </a:moveTo>
                <a:lnTo>
                  <a:pt x="110360" y="90350"/>
                </a:lnTo>
                <a:lnTo>
                  <a:pt x="144463" y="0"/>
                </a:lnTo>
                <a:lnTo>
                  <a:pt x="178565" y="90350"/>
                </a:lnTo>
                <a:lnTo>
                  <a:pt x="288925" y="90349"/>
                </a:lnTo>
                <a:lnTo>
                  <a:pt x="199641" y="146187"/>
                </a:lnTo>
                <a:lnTo>
                  <a:pt x="233745" y="236536"/>
                </a:lnTo>
                <a:lnTo>
                  <a:pt x="144463" y="180697"/>
                </a:lnTo>
                <a:lnTo>
                  <a:pt x="55180" y="236536"/>
                </a:lnTo>
                <a:lnTo>
                  <a:pt x="89284" y="146187"/>
                </a:lnTo>
                <a:lnTo>
                  <a:pt x="0" y="90349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问青松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:</a:t>
            </a:r>
            <a:r>
              <a:rPr b="1" lang="en-US" sz="2400" spc="-1" strike="noStrike">
                <a:solidFill>
                  <a:srgbClr val="474747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青春是什么</a:t>
            </a:r>
            <a:r>
              <a:rPr b="1" lang="zh-CN" sz="2400" spc="-1" strike="noStrike">
                <a:solidFill>
                  <a:srgbClr val="474747"/>
                </a:solidFill>
                <a:latin typeface="Arial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松树点了点头便开了口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755640" y="36450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青春就是坚韧刚毅，不畏严寒，不怕困难，让生命之树四季长青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0">
                                  <p:stCondLst>
                                    <p:cond delay="33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 repeatCount="indefinite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 repeatCount="indefinite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5" repeatCount="indefinite">
                                  <p:stCondLst>
                                    <p:cond delay="3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 repeatCount="indefinite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 repeatCount="indefinite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4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 repeatCount="indefinite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5" repeatCount="indefinite">
                                  <p:stCondLst>
                                    <p:cond delay="5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 repeatCount="indefinite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 repeatCount="indefinite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 repeatCount="indefinite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9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 repeatCount="indefinite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 repeatCount="indefinite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 repeatCount="indefinite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3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 repeatCount="indefinite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 repeatCount="indefinite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 repeatCount="indefinite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35" repeatCount="indefinite">
                                  <p:stCondLst>
                                    <p:cond delay="8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1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 repeatCount="indefinite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 repeatCount="indefinite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 repeatCount="indefinite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 repeatCount="indefinite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 repeatCount="indefinite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6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 repeatCount="indefinite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34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 repeatCount="indefinite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3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 repeatCount="indefinite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7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 repeatCount="indefinite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35" repeatCount="indefinite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1" descr="(%C1(0]BBUVEL_6VN7XL_U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Oval 2"/>
          <p:cNvSpPr/>
          <p:nvPr/>
        </p:nvSpPr>
        <p:spPr>
          <a:xfrm>
            <a:off x="10117080" y="620640"/>
            <a:ext cx="216000" cy="19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10117080" y="1557360"/>
            <a:ext cx="216000" cy="19368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9540720" y="765000"/>
            <a:ext cx="216000" cy="19368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10333080" y="1125360"/>
            <a:ext cx="216000" cy="19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9396360" y="1844640"/>
            <a:ext cx="144360" cy="1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9685440" y="1700280"/>
            <a:ext cx="215640" cy="19368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9828360" y="981000"/>
            <a:ext cx="215640" cy="193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9540720" y="2205000"/>
            <a:ext cx="144720" cy="12240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10044000" y="2349360"/>
            <a:ext cx="216000" cy="1936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10476000" y="2133720"/>
            <a:ext cx="144360" cy="12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9756720" y="2637000"/>
            <a:ext cx="144360" cy="122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3"/>
          <p:cNvSpPr/>
          <p:nvPr/>
        </p:nvSpPr>
        <p:spPr>
          <a:xfrm>
            <a:off x="9468000" y="3068640"/>
            <a:ext cx="215640" cy="1936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4"/>
          <p:cNvSpPr/>
          <p:nvPr/>
        </p:nvSpPr>
        <p:spPr>
          <a:xfrm>
            <a:off x="9972720" y="3213000"/>
            <a:ext cx="216000" cy="193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5"/>
          <p:cNvSpPr/>
          <p:nvPr/>
        </p:nvSpPr>
        <p:spPr>
          <a:xfrm>
            <a:off x="10549080" y="2708280"/>
            <a:ext cx="144360" cy="12240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又问游鱼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:</a:t>
            </a:r>
            <a:r>
              <a:rPr b="1" lang="en-US" sz="2400" spc="-1" strike="noStrike">
                <a:solidFill>
                  <a:srgbClr val="474747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请你告诉我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青春的梦想是什么</a:t>
            </a:r>
            <a:r>
              <a:rPr b="1" lang="en-US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?</a:t>
            </a:r>
            <a:r>
              <a:rPr b="1" lang="en-US" sz="2400" spc="-1" strike="noStrike">
                <a:solidFill>
                  <a:srgbClr val="474747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474747"/>
                </a:solidFill>
                <a:latin typeface="楷体_GB2312"/>
                <a:ea typeface="楷体_GB2312"/>
              </a:rPr>
              <a:t>游鱼停顿了片刻后说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10333080" y="907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cc"/>
                </a:solidFill>
                <a:latin typeface="Arial"/>
              </a:rPr>
              <a:t>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9540720" y="0"/>
            <a:ext cx="22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cc"/>
                </a:solidFill>
                <a:latin typeface="Arial"/>
              </a:rPr>
              <a:t>青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284720" y="3675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cc"/>
                </a:solidFill>
                <a:latin typeface="Arial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20"/>
          <p:cNvSpPr txBox="1"/>
          <p:nvPr/>
        </p:nvSpPr>
        <p:spPr>
          <a:xfrm>
            <a:off x="3348000" y="3573360"/>
            <a:ext cx="31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9999"/>
                </a:solidFill>
                <a:latin typeface="宋体"/>
              </a:rPr>
              <a:t>浪花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2484360" y="6237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1397E-006 L -0.74409 0.5629 E">
                                      <p:cBhvr>
                                        <p:cTn id="561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61111E-006 -2.09066E-006 L -1.05521 0.66096 E">
                                      <p:cBhvr>
                                        <p:cTn id="563" dur="19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16667E-006 2.6272E-006 C -0.15868 0.00647 -0.31736 0.01318 -0.44947 0.08071 C -0.58125 0.14824 -0.68958 0.31429 -0.79184 0.40587 C -0.89409 0.49722 -0.97864 0.5636 -1.06302 0.6302 E">
                                      <p:cBhvr>
                                        <p:cTn id="565" dur="41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1.12858E-006 L -1.06302 0.36725 E">
                                      <p:cBhvr>
                                        <p:cTn id="567" dur="26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44444E-006 4.79186E-006 C -0.00382 0.01619 0.00174 -0.00393 -0.00434 0.00925 C -0.00816 0.01781 -0.00989 0.02891 -0.01406 0.03747 C -0.01562 0.04117 -0.0191 0.04325 -0.02101 0.04695 C -0.02691 0.05782 -0.02899 0.0666 -0.03941 0.07123 C -0.04548 0.07886 -0.05173 0.08511 -0.05903 0.08996 C -0.06267 0.09505 -0.06423 0.09759 -0.06892 0.10129 C -0.07708 0.10731 -0.07014 0.09551 -0.0816 0.11078 C -0.0875 0.11841 -0.10191 0.13159 -0.10989 0.13506 C -0.11857 0.14685 -0.11371 0.14292 -0.12378 0.14824 C -0.12986 0.15611 -0.13507 0.15865 -0.14219 0.16512 C -0.14861 0.17091 -0.15434 0.17877 -0.16198 0.18201 C -0.17066 0.19311 -0.18021 0.19796 -0.18993 0.20629 C -0.19844 0.21323 -0.20469 0.22086 -0.21389 0.22502 C -0.21771 0.23011 -0.22135 0.23404 -0.22656 0.23636 C -0.23455 0.24653 -0.24462 0.25231 -0.25347 0.26087 C -0.25955 0.26665 -0.26146 0.26989 -0.2691 0.27382 C -0.27465 0.28168 -0.28038 0.2803 -0.28715 0.287 C -0.29809 0.29787 -0.30937 0.3055 -0.32239 0.31152 C -0.32778 0.31406 -0.33403 0.3136 -0.33923 0.31707 C -0.34583 0.32146 -0.35191 0.32701 -0.35903 0.33025 C -0.36493 0.33603 -0.36944 0.33649 -0.37587 0.3395 C -0.38194 0.34736 -0.37569 0.34066 -0.38732 0.34528 C -0.38923 0.34598 -0.39097 0.34806 -0.39288 0.34898 C -0.4 0.35245 -0.40798 0.35384 -0.41528 0.35638 C -0.42691 0.36448 -0.43906 0.36748 -0.45191 0.36957 C -0.57587 0.36679 -0.56302 0.3661 -0.72969 0.36771 C -0.73594 0.37049 -0.74132 0.37604 -0.74774 0.37905 C -0.75642 0.39038 -0.76892 0.3957 -0.77743 0.40703 C -0.78246 0.41397 -0.78559 0.41883 -0.79288 0.42391 C -0.79496 0.4253 -0.80087 0.42923 -0.8026 0.43154 C -0.80434 0.43363 -0.80521 0.43686 -0.80712 0.43895 C -0.81146 0.44496 -0.81146 0.4408 -0.81684 0.44658 C -0.82535 0.45583 -0.83038 0.46369 -0.83941 0.47271 C -0.84479 0.47826 -0.84792 0.48589 -0.85347 0.49144 C -0.85712 0.50116 -0.86059 0.50301 -0.86614 0.51041 C -0.87118 0.51688 -0.87604 0.52567 -0.88038 0.53284 C -0.88229 0.53631 -0.88385 0.54047 -0.88594 0.54417 C -0.8875 0.54787 -0.89288 0.55342 -0.89288 0.55342 C -0.89548 0.56383 -0.90555 0.56707 -0.9125 0.57216 C -0.92413 0.58071 -0.9092 0.57007 -0.92101 0.58164 C -0.92482 0.58534 -0.92951 0.58834 -0.93368 0.59089 C -0.94132 0.59528 -0.9368 0.59436 -0.94357 0.59667 C -0.94739 0.59806 -0.95503 0.60037 -0.95503 0.60037 C -0.96423 0.60638 -0.97309 0.60962 -0.98316 0.6117 C -0.99514 0.61702 -1.00712 0.62049 -1.01962 0.6228 C -1.03281 0.62858 -1.04253 0.62512 -1.05486 0.6228 C -1.05764 0.62165 -1.06111 0.62188 -1.06337 0.6191 C -1.06423 0.61795 -1.0651 0.6161 -1.06614 0.6154 C -1.06892 0.61378 -1.07448 0.6117 -1.07448 0.6117 C -1.08229 0.60083 -1.09392 0.60222 -1.10417 0.60222 E">
                                      <p:cBhvr>
                                        <p:cTn id="569" dur="26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9.89824E-007 L -1.15764 0.34621 E">
                                      <p:cBhvr>
                                        <p:cTn id="571" dur="65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26 -0.01687 C -0.00608 -0.01294 -0.01302 -0.00346 -0.02118 0.00185 C -0.03629 0.02197 -0.01962 0.00185 -0.0309 0.0111 C -0.04097 0.0192 -0.04983 0.03053 -0.06076 0.03746 C -0.06736 0.04648 -0.07552 0.05087 -0.08333 0.05804 C -0.0974 0.07122 -0.11042 0.08694 -0.12674 0.0955 C -0.13229 0.10105 -0.13646 0.10613 -0.14236 0.11053 C -0.14705 0.11422 -0.15625 0.12185 -0.15625 0.12209 C -0.16337 0.13388 -0.15747 0.12602 -0.1691 0.13503 C -0.18004 0.14382 -0.1901 0.15353 -0.20139 0.16116 C -0.21493 0.17989 -0.23403 0.18891 -0.24931 0.2044 C -0.27483 0.23053 -0.29809 0.26428 -0.32813 0.28139 C -0.33576 0.29503 -0.35 0.30105 -0.36059 0.31122 C -0.36563 0.31607 -0.37014 0.32185 -0.37604 0.3244 C -0.38247 0.33018 -0.39236 0.34151 -0.4 0.34498 C -0.40625 0.35376 -0.41302 0.35307 -0.42135 0.35631 C -0.42882 0.35908 -0.43576 0.3637 -0.44358 0.36579 C -0.45486 0.3755 -0.43976 0.36324 -0.45486 0.37133 C -0.47257 0.38058 -0.45017 0.37457 -0.47188 0.37873 C -0.47726 0.38382 -0.48108 0.38474 -0.48767 0.38636 C -0.50122 0.39561 -0.48385 0.38474 -0.50035 0.39191 C -0.50938 0.39607 -0.51892 0.40093 -0.5283 0.40509 C -0.53767 0.40925 -0.54653 0.41457 -0.55642 0.41642 C -0.56927 0.42313 -0.58056 0.43029 -0.59427 0.4333 C -0.60226 0.44 -0.61198 0.44209 -0.62135 0.4444 C -0.6651 0.44301 -0.66754 0.45665 -0.68733 0.42937 C -0.68976 0.41989 -0.68854 0.42752 -0.68733 0.41642 C -0.68663 0.41087 -0.68733 0.40486 -0.68594 0.39954 C -0.68385 0.39122 -0.67813 0.38567 -0.67465 0.37873 C -0.67344 0.37642 -0.67309 0.37365 -0.67188 0.37133 C -0.66754 0.36301 -0.6592 0.35677 -0.65208 0.35261 C -0.6375 0.34428 -0.62257 0.33619 -0.60712 0.33203 C -0.59306 0.31885 -0.57622 0.32717 -0.55938 0.3281 C -0.55191 0.33295 -0.54531 0.33827 -0.5382 0.34313 C -0.53021 0.35422 -0.5276 0.36347 -0.52552 0.37873 C -0.52726 0.39399 -0.5283 0.43307 -0.5408 0.4444 C -0.54358 0.45619 -0.5401 0.44417 -0.5467 0.45573 C -0.54844 0.45873 -0.54948 0.46197 -0.5507 0.46521 C -0.55174 0.46752 -0.55226 0.47029 -0.55347 0.47261 C -0.56181 0.48856 -0.57274 0.49966 -0.58594 0.50659 C -0.59236 0.51538 -0.59705 0.51538 -0.60417 0.52162 C -0.60868 0.52555 -0.61198 0.53249 -0.61684 0.5348 C -0.62969 0.54035 -0.62674 0.54058 -0.63663 0.54983 C -0.64531 0.55792 -0.65677 0.56093 -0.66615 0.56671 C -0.68004 0.57526 -0.6901 0.58868 -0.70556 0.59284 C -0.70955 0.59538 -0.71424 0.59584 -0.71823 0.59862 C -0.71997 0.59977 -0.72083 0.60278 -0.72257 0.60417 C -0.72517 0.60648 -0.7283 0.60763 -0.7309 0.60972 C -0.74097 0.61758 -0.74288 0.62405 -0.75486 0.62659 C -0.77309 0.63908 -0.79201 0.6474 -0.81146 0.65665 C -0.81615 0.65896 -0.82066 0.66174 -0.82535 0.66428 C -0.8316 0.66775 -0.84497 0.66983 -0.84497 0.67006 C -0.84688 0.67099 -0.84879 0.67261 -0.8507 0.67353 C -0.85347 0.67492 -0.85642 0.67561 -0.8592 0.67723 C -0.86076 0.67816 -0.86181 0.68047 -0.86337 0.68116 C -0.86788 0.68301 -0.87292 0.68255 -0.87743 0.68486 C -0.89375 0.69342 -0.91024 0.70012 -0.92674 0.70729 C -0.93976 0.71307 -0.92656 0.70821 -0.93524 0.71492 C -0.93976 0.71839 -0.94722 0.7237 -0.95208 0.72602 C -0.95608 0.7281 -0.96059 0.7281 -0.96476 0.72972 C -0.97135 0.73249 -0.97431 0.73573 -0.9816 0.73735 C -0.98906 0.74359 -1 0.74683 -1.00417 0.75792 E">
                                      <p:cBhvr>
                                        <p:cTn id="573" dur="4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05556E-006 -6.75301E-006 L -1.05122 0.90217 E">
                                      <p:cBhvr>
                                        <p:cTn id="575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66667E-006 2.77521E-007 C -0.16614 0.179 -0.33211 0.358 -0.52534 0.44843 C -0.71857 0.53886 -0.93888 0.54047 -1.1592 0.54232 E">
                                      <p:cBhvr>
                                        <p:cTn id="577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 repeatCount="indefinite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3.33333E-006 -4.07956E-006 C -0.25382 0.05111 -0.50781 0.10222 -0.69306 0.19126 C -0.87847 0.2803 -1.04271 0.47734 -1.11268 0.53469 E">
                                      <p:cBhvr>
                                        <p:cTn id="579" dur="36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05556E-006 2.77521E-007 L -0.76389 0.84967 E">
                                      <p:cBhvr>
                                        <p:cTn id="581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 repeatCount="indefinite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8.33333E-007 -2.83996E-006 C -0.0849 0.03377 -0.41042 0.15148 -0.50972 0.20306 C -0.60903 0.25463 -0.6 0.28886 -0.59566 0.31013 C -0.59132 0.33141 -0.51354 0.33881 -0.48316 0.33025 C -0.45278 0.3217 -0.42552 0.2803 -0.41267 0.25902 C -0.39983 0.23775 -0.40208 0.21693 -0.40556 0.20306 C -0.40903 0.18918 -0.40816 0.17484 -0.43368 0.17507 C -0.4592 0.1753 -0.43837 0.11864 -0.5592 0.20444 C -0.68004 0.29024 -1.05434 0.60569 -1.15833 0.69034 C -1.26406 0.77498 -1.22639 0.74399 -1.18802 0.713 E">
                                      <p:cBhvr>
                                        <p:cTn id="583" dur="42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 repeatCount="indefinite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-2.22222E-006 3.66327E-006 C -0.14271 0.04602 -0.28524 0.09227 -0.37604 0.18201 C -0.46684 0.27174 -0.44826 0.45236 -0.54496 0.53862 C -0.64166 0.62465 -0.79896 0.66235 -0.95625 0.69981 E">
                                      <p:cBhvr>
                                        <p:cTn id="585" dur="43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13700"/>
                                  </p:stCondLst>
                                  <p:childTnLst>
                                    <p:animMotion origin="layout" path="M 0.00018 0.00347 L -0.69687 0.53827 E">
                                      <p:cBhvr>
                                        <p:cTn id="587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2.22222E-006 4.33526E-006 L -0.60243 0.40601 E">
                                      <p:cBhvr>
                                        <p:cTn id="589" dur="38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169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1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1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0">
                                  <p:stCondLst>
                                    <p:cond delay="1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7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3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3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8" descr="BJ$]`_@VJTN0}B22$YW{8X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-720" y="404640"/>
            <a:ext cx="74919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青春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是一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永不言败的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梦想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就是歌上的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青春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是一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叹咏的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梦想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就是诗中的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青春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是一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美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梦想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就是酒里的五谷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青春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是一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茗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方正华隶简体"/>
                <a:ea typeface="方正华隶简体"/>
              </a:rPr>
              <a:t>梦想</a:t>
            </a: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就是那茶里的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4747"/>
                </a:solidFill>
                <a:latin typeface="方正华隶简体"/>
                <a:ea typeface="方正华隶简体"/>
              </a:rPr>
              <a:t>水中的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885320" y="5156280"/>
            <a:ext cx="764640" cy="930600"/>
            <a:chOff x="1885320" y="5156280"/>
            <a:chExt cx="764640" cy="930600"/>
          </a:xfrm>
        </p:grpSpPr>
        <p:grpSp>
          <p:nvGrpSpPr>
            <p:cNvPr id="419" name="Group 5"/>
            <p:cNvGrpSpPr/>
            <p:nvPr/>
          </p:nvGrpSpPr>
          <p:grpSpPr>
            <a:xfrm>
              <a:off x="1885320" y="5227560"/>
              <a:ext cx="331200" cy="859320"/>
              <a:chOff x="1885320" y="5227560"/>
              <a:chExt cx="331200" cy="859320"/>
            </a:xfrm>
          </p:grpSpPr>
          <p:sp>
            <p:nvSpPr>
              <p:cNvPr id="420" name="Oval 6"/>
              <p:cNvSpPr/>
              <p:nvPr/>
            </p:nvSpPr>
            <p:spPr>
              <a:xfrm rot="20460000">
                <a:off x="1909440" y="5849640"/>
                <a:ext cx="282600" cy="19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7"/>
              <p:cNvSpPr/>
              <p:nvPr/>
            </p:nvSpPr>
            <p:spPr>
              <a:xfrm flipV="1">
                <a:off x="2192400" y="522756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8"/>
            <p:cNvGrpSpPr/>
            <p:nvPr/>
          </p:nvGrpSpPr>
          <p:grpSpPr>
            <a:xfrm>
              <a:off x="2318760" y="5156280"/>
              <a:ext cx="331200" cy="859320"/>
              <a:chOff x="2318760" y="5156280"/>
              <a:chExt cx="331200" cy="859320"/>
            </a:xfrm>
          </p:grpSpPr>
          <p:sp>
            <p:nvSpPr>
              <p:cNvPr id="423" name="Oval 9"/>
              <p:cNvSpPr/>
              <p:nvPr/>
            </p:nvSpPr>
            <p:spPr>
              <a:xfrm rot="20460000">
                <a:off x="2342880" y="5778360"/>
                <a:ext cx="282600" cy="19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0"/>
              <p:cNvSpPr/>
              <p:nvPr/>
            </p:nvSpPr>
            <p:spPr>
              <a:xfrm flipV="1">
                <a:off x="2625840" y="515628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Line 11"/>
            <p:cNvSpPr/>
            <p:nvPr/>
          </p:nvSpPr>
          <p:spPr>
            <a:xfrm flipV="1">
              <a:off x="2198880" y="5156280"/>
              <a:ext cx="43164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2"/>
          <p:cNvGrpSpPr/>
          <p:nvPr/>
        </p:nvGrpSpPr>
        <p:grpSpPr>
          <a:xfrm>
            <a:off x="2893320" y="5403960"/>
            <a:ext cx="331200" cy="858600"/>
            <a:chOff x="2893320" y="5403960"/>
            <a:chExt cx="331200" cy="858600"/>
          </a:xfrm>
        </p:grpSpPr>
        <p:sp>
          <p:nvSpPr>
            <p:cNvPr id="427" name="Oval 13"/>
            <p:cNvSpPr/>
            <p:nvPr/>
          </p:nvSpPr>
          <p:spPr>
            <a:xfrm rot="20460000">
              <a:off x="2917440" y="5444640"/>
              <a:ext cx="282600" cy="196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 flipV="1">
              <a:off x="2917800" y="554328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5"/>
          <p:cNvGrpSpPr/>
          <p:nvPr/>
        </p:nvGrpSpPr>
        <p:grpSpPr>
          <a:xfrm>
            <a:off x="1020240" y="5516640"/>
            <a:ext cx="529200" cy="930600"/>
            <a:chOff x="1020240" y="5516640"/>
            <a:chExt cx="529200" cy="930600"/>
          </a:xfrm>
        </p:grpSpPr>
        <p:grpSp>
          <p:nvGrpSpPr>
            <p:cNvPr id="430" name="Group 16"/>
            <p:cNvGrpSpPr/>
            <p:nvPr/>
          </p:nvGrpSpPr>
          <p:grpSpPr>
            <a:xfrm>
              <a:off x="1020240" y="5587920"/>
              <a:ext cx="331200" cy="859320"/>
              <a:chOff x="1020240" y="5587920"/>
              <a:chExt cx="331200" cy="859320"/>
            </a:xfrm>
          </p:grpSpPr>
          <p:sp>
            <p:nvSpPr>
              <p:cNvPr id="431" name="Oval 17"/>
              <p:cNvSpPr/>
              <p:nvPr/>
            </p:nvSpPr>
            <p:spPr>
              <a:xfrm rot="20460000">
                <a:off x="1044360" y="6210000"/>
                <a:ext cx="282600" cy="19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8"/>
              <p:cNvSpPr/>
              <p:nvPr/>
            </p:nvSpPr>
            <p:spPr>
              <a:xfrm flipV="1">
                <a:off x="1327320" y="558792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Line 19"/>
            <p:cNvSpPr/>
            <p:nvPr/>
          </p:nvSpPr>
          <p:spPr>
            <a:xfrm flipV="1">
              <a:off x="1333800" y="5516640"/>
              <a:ext cx="2156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0"/>
          <p:cNvGrpSpPr/>
          <p:nvPr/>
        </p:nvGrpSpPr>
        <p:grpSpPr>
          <a:xfrm>
            <a:off x="3252240" y="5084640"/>
            <a:ext cx="529200" cy="930600"/>
            <a:chOff x="3252240" y="5084640"/>
            <a:chExt cx="529200" cy="930600"/>
          </a:xfrm>
        </p:grpSpPr>
        <p:grpSp>
          <p:nvGrpSpPr>
            <p:cNvPr id="435" name="Group 21"/>
            <p:cNvGrpSpPr/>
            <p:nvPr/>
          </p:nvGrpSpPr>
          <p:grpSpPr>
            <a:xfrm>
              <a:off x="3252240" y="5155920"/>
              <a:ext cx="331200" cy="859320"/>
              <a:chOff x="3252240" y="5155920"/>
              <a:chExt cx="331200" cy="859320"/>
            </a:xfrm>
          </p:grpSpPr>
          <p:sp>
            <p:nvSpPr>
              <p:cNvPr id="436" name="Oval 22"/>
              <p:cNvSpPr/>
              <p:nvPr/>
            </p:nvSpPr>
            <p:spPr>
              <a:xfrm rot="20460000">
                <a:off x="3276360" y="5778000"/>
                <a:ext cx="282600" cy="19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23"/>
              <p:cNvSpPr/>
              <p:nvPr/>
            </p:nvSpPr>
            <p:spPr>
              <a:xfrm flipV="1">
                <a:off x="3559320" y="515592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4"/>
            <p:cNvSpPr/>
            <p:nvPr/>
          </p:nvSpPr>
          <p:spPr>
            <a:xfrm flipV="1">
              <a:off x="3565800" y="5084640"/>
              <a:ext cx="2156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25"/>
          <p:cNvGrpSpPr/>
          <p:nvPr/>
        </p:nvGrpSpPr>
        <p:grpSpPr>
          <a:xfrm>
            <a:off x="3972960" y="4653000"/>
            <a:ext cx="331200" cy="859320"/>
            <a:chOff x="3972960" y="4653000"/>
            <a:chExt cx="331200" cy="859320"/>
          </a:xfrm>
        </p:grpSpPr>
        <p:sp>
          <p:nvSpPr>
            <p:cNvPr id="440" name="Oval 26"/>
            <p:cNvSpPr/>
            <p:nvPr/>
          </p:nvSpPr>
          <p:spPr>
            <a:xfrm rot="20460000">
              <a:off x="3997080" y="5275080"/>
              <a:ext cx="282600" cy="19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 flipV="1">
              <a:off x="4280040" y="465300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8"/>
          <p:cNvGrpSpPr/>
          <p:nvPr/>
        </p:nvGrpSpPr>
        <p:grpSpPr>
          <a:xfrm>
            <a:off x="7717680" y="5011560"/>
            <a:ext cx="331200" cy="859320"/>
            <a:chOff x="7717680" y="5011560"/>
            <a:chExt cx="331200" cy="859320"/>
          </a:xfrm>
        </p:grpSpPr>
        <p:sp>
          <p:nvSpPr>
            <p:cNvPr id="443" name="Oval 29"/>
            <p:cNvSpPr/>
            <p:nvPr/>
          </p:nvSpPr>
          <p:spPr>
            <a:xfrm rot="20460000">
              <a:off x="7741800" y="5633640"/>
              <a:ext cx="282600" cy="19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 flipV="1">
              <a:off x="8024760" y="501156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31"/>
          <p:cNvGrpSpPr/>
          <p:nvPr/>
        </p:nvGrpSpPr>
        <p:grpSpPr>
          <a:xfrm>
            <a:off x="6420600" y="4940280"/>
            <a:ext cx="331200" cy="859320"/>
            <a:chOff x="6420600" y="4940280"/>
            <a:chExt cx="331200" cy="859320"/>
          </a:xfrm>
        </p:grpSpPr>
        <p:sp>
          <p:nvSpPr>
            <p:cNvPr id="446" name="Oval 32"/>
            <p:cNvSpPr/>
            <p:nvPr/>
          </p:nvSpPr>
          <p:spPr>
            <a:xfrm rot="20460000">
              <a:off x="6444720" y="5562360"/>
              <a:ext cx="282600" cy="19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6727680" y="494028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34"/>
          <p:cNvGrpSpPr/>
          <p:nvPr/>
        </p:nvGrpSpPr>
        <p:grpSpPr>
          <a:xfrm>
            <a:off x="4909320" y="5445000"/>
            <a:ext cx="764640" cy="930600"/>
            <a:chOff x="4909320" y="5445000"/>
            <a:chExt cx="764640" cy="930600"/>
          </a:xfrm>
        </p:grpSpPr>
        <p:grpSp>
          <p:nvGrpSpPr>
            <p:cNvPr id="449" name="Group 35"/>
            <p:cNvGrpSpPr/>
            <p:nvPr/>
          </p:nvGrpSpPr>
          <p:grpSpPr>
            <a:xfrm>
              <a:off x="4909320" y="5516280"/>
              <a:ext cx="331200" cy="859320"/>
              <a:chOff x="4909320" y="5516280"/>
              <a:chExt cx="331200" cy="859320"/>
            </a:xfrm>
          </p:grpSpPr>
          <p:sp>
            <p:nvSpPr>
              <p:cNvPr id="450" name="Oval 36"/>
              <p:cNvSpPr/>
              <p:nvPr/>
            </p:nvSpPr>
            <p:spPr>
              <a:xfrm rot="20460000">
                <a:off x="4933440" y="6138360"/>
                <a:ext cx="282600" cy="19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7"/>
              <p:cNvSpPr/>
              <p:nvPr/>
            </p:nvSpPr>
            <p:spPr>
              <a:xfrm flipV="1">
                <a:off x="5216400" y="551628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38"/>
            <p:cNvGrpSpPr/>
            <p:nvPr/>
          </p:nvGrpSpPr>
          <p:grpSpPr>
            <a:xfrm>
              <a:off x="5342760" y="5445000"/>
              <a:ext cx="331200" cy="859320"/>
              <a:chOff x="5342760" y="5445000"/>
              <a:chExt cx="331200" cy="859320"/>
            </a:xfrm>
          </p:grpSpPr>
          <p:sp>
            <p:nvSpPr>
              <p:cNvPr id="453" name="Oval 39"/>
              <p:cNvSpPr/>
              <p:nvPr/>
            </p:nvSpPr>
            <p:spPr>
              <a:xfrm rot="20460000">
                <a:off x="5366880" y="6067080"/>
                <a:ext cx="282600" cy="19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40"/>
              <p:cNvSpPr/>
              <p:nvPr/>
            </p:nvSpPr>
            <p:spPr>
              <a:xfrm flipV="1">
                <a:off x="5649840" y="544500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Line 41"/>
            <p:cNvSpPr/>
            <p:nvPr/>
          </p:nvSpPr>
          <p:spPr>
            <a:xfrm flipV="1">
              <a:off x="5222880" y="5445000"/>
              <a:ext cx="43164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2"/>
          <p:cNvGrpSpPr/>
          <p:nvPr/>
        </p:nvGrpSpPr>
        <p:grpSpPr>
          <a:xfrm>
            <a:off x="6709680" y="5371920"/>
            <a:ext cx="765000" cy="930600"/>
            <a:chOff x="6709680" y="5371920"/>
            <a:chExt cx="765000" cy="930600"/>
          </a:xfrm>
        </p:grpSpPr>
        <p:grpSp>
          <p:nvGrpSpPr>
            <p:cNvPr id="457" name="Group 43"/>
            <p:cNvGrpSpPr/>
            <p:nvPr/>
          </p:nvGrpSpPr>
          <p:grpSpPr>
            <a:xfrm>
              <a:off x="6709680" y="5443200"/>
              <a:ext cx="331200" cy="859320"/>
              <a:chOff x="6709680" y="5443200"/>
              <a:chExt cx="331200" cy="859320"/>
            </a:xfrm>
          </p:grpSpPr>
          <p:sp>
            <p:nvSpPr>
              <p:cNvPr id="458" name="Oval 44"/>
              <p:cNvSpPr/>
              <p:nvPr/>
            </p:nvSpPr>
            <p:spPr>
              <a:xfrm rot="20460000">
                <a:off x="6733800" y="6065280"/>
                <a:ext cx="282600" cy="19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45"/>
              <p:cNvSpPr/>
              <p:nvPr/>
            </p:nvSpPr>
            <p:spPr>
              <a:xfrm flipV="1">
                <a:off x="7016760" y="544320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46"/>
            <p:cNvGrpSpPr/>
            <p:nvPr/>
          </p:nvGrpSpPr>
          <p:grpSpPr>
            <a:xfrm>
              <a:off x="7143480" y="5371920"/>
              <a:ext cx="331200" cy="858960"/>
              <a:chOff x="7143480" y="5371920"/>
              <a:chExt cx="331200" cy="858960"/>
            </a:xfrm>
          </p:grpSpPr>
          <p:sp>
            <p:nvSpPr>
              <p:cNvPr id="461" name="Oval 47"/>
              <p:cNvSpPr/>
              <p:nvPr/>
            </p:nvSpPr>
            <p:spPr>
              <a:xfrm rot="20460000">
                <a:off x="7167600" y="5994000"/>
                <a:ext cx="282600" cy="19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48"/>
              <p:cNvSpPr/>
              <p:nvPr/>
            </p:nvSpPr>
            <p:spPr>
              <a:xfrm flipV="1">
                <a:off x="7450200" y="5371920"/>
                <a:ext cx="0" cy="71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Line 49"/>
            <p:cNvSpPr/>
            <p:nvPr/>
          </p:nvSpPr>
          <p:spPr>
            <a:xfrm flipV="1">
              <a:off x="7023240" y="5371920"/>
              <a:ext cx="43164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50"/>
          <p:cNvGrpSpPr/>
          <p:nvPr/>
        </p:nvGrpSpPr>
        <p:grpSpPr>
          <a:xfrm>
            <a:off x="4404600" y="5156280"/>
            <a:ext cx="529200" cy="930600"/>
            <a:chOff x="4404600" y="5156280"/>
            <a:chExt cx="529200" cy="930600"/>
          </a:xfrm>
        </p:grpSpPr>
        <p:grpSp>
          <p:nvGrpSpPr>
            <p:cNvPr id="465" name="Group 51"/>
            <p:cNvGrpSpPr/>
            <p:nvPr/>
          </p:nvGrpSpPr>
          <p:grpSpPr>
            <a:xfrm>
              <a:off x="4404600" y="5227560"/>
              <a:ext cx="331200" cy="859320"/>
              <a:chOff x="4404600" y="5227560"/>
              <a:chExt cx="331200" cy="859320"/>
            </a:xfrm>
          </p:grpSpPr>
          <p:sp>
            <p:nvSpPr>
              <p:cNvPr id="466" name="Oval 52"/>
              <p:cNvSpPr/>
              <p:nvPr/>
            </p:nvSpPr>
            <p:spPr>
              <a:xfrm rot="20460000">
                <a:off x="4428720" y="5849640"/>
                <a:ext cx="282600" cy="19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3"/>
              <p:cNvSpPr/>
              <p:nvPr/>
            </p:nvSpPr>
            <p:spPr>
              <a:xfrm flipV="1">
                <a:off x="4711680" y="5227560"/>
                <a:ext cx="0" cy="7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Line 54"/>
            <p:cNvSpPr/>
            <p:nvPr/>
          </p:nvSpPr>
          <p:spPr>
            <a:xfrm flipV="1">
              <a:off x="4718160" y="5156280"/>
              <a:ext cx="2156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55"/>
          <p:cNvGrpSpPr/>
          <p:nvPr/>
        </p:nvGrpSpPr>
        <p:grpSpPr>
          <a:xfrm>
            <a:off x="6060240" y="5259600"/>
            <a:ext cx="331200" cy="858600"/>
            <a:chOff x="6060240" y="5259600"/>
            <a:chExt cx="331200" cy="858600"/>
          </a:xfrm>
        </p:grpSpPr>
        <p:sp>
          <p:nvSpPr>
            <p:cNvPr id="470" name="Oval 56"/>
            <p:cNvSpPr/>
            <p:nvPr/>
          </p:nvSpPr>
          <p:spPr>
            <a:xfrm rot="20460000">
              <a:off x="6084360" y="5300280"/>
              <a:ext cx="282600" cy="196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57"/>
            <p:cNvSpPr/>
            <p:nvPr/>
          </p:nvSpPr>
          <p:spPr>
            <a:xfrm flipV="1">
              <a:off x="6084720" y="539892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45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3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3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3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3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3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1">
                                  <p:stCondLst>
                                    <p:cond delay="14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1">
                                  <p:stCondLst>
                                    <p:cond delay="3500"/>
                                  </p:stCondLst>
                                  <p:iterate type="lt">
                                    <p:tmAbs val="23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3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3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3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3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23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1">
                                  <p:stCondLst>
                                    <p:cond delay="5800"/>
                                  </p:stCondLst>
                                  <p:iterate type="lt">
                                    <p:tmAbs val="17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7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7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7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7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7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7600"/>
                                  </p:stCondLst>
                                  <p:iterate type="lt">
                                    <p:tmAbs val="266.669998168945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1">
                                  <p:stCondLst>
                                    <p:cond delay="92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1">
                                  <p:stCondLst>
                                    <p:cond delay="111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1">
                                  <p:stCondLst>
                                    <p:cond delay="1320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6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6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6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1">
                                  <p:stCondLst>
                                    <p:cond delay="14800"/>
                                  </p:stCondLst>
                                  <p:iterate type="lt">
                                    <p:tmAbs val="208.709993362427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250.008007049561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2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2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2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2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22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1">
                                  <p:stCondLst>
                                    <p:cond delay="20200"/>
                                  </p:stCondLst>
                                  <p:iterate type="lt">
                                    <p:tmAbs val="350.003997802734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2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2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2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200" fill="hold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2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1">
                                  <p:stCondLst>
                                    <p:cond delay="21500"/>
                                  </p:stCondLst>
                                  <p:iterate type="lt">
                                    <p:tmAbs val="144.45600605011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600" fill="hold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600" fill="hold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600" fill="hold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600" fill="hold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600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1">
                                  <p:stCondLst>
                                    <p:cond delay="2400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500" fill="hold"/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500"/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7750"/>
                            </p:stCondLst>
                            <p:childTnLst>
                              <p:par>
                                <p:cTn id="73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50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8750"/>
                            </p:stCondLst>
                            <p:childTnLst>
                              <p:par>
                                <p:cTn id="74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50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9750"/>
                            </p:stCondLst>
                            <p:childTnLst>
                              <p:par>
                                <p:cTn id="746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8" dur="50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7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50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1750"/>
                            </p:stCondLst>
                            <p:childTnLst>
                              <p:par>
                                <p:cTn id="75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500" autoRev="1" fill="hold"/>
                                        <p:tgtEl>
                                          <p:spTgt spid="4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32750"/>
                            </p:stCondLst>
                            <p:childTnLst>
                              <p:par>
                                <p:cTn id="7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0" dur="500" autoRev="1" fill="hold"/>
                                        <p:tgtEl>
                                          <p:spTgt spid="4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3750"/>
                            </p:stCondLst>
                            <p:childTnLst>
                              <p:par>
                                <p:cTn id="7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500" autoRev="1" fill="hold"/>
                                        <p:tgtEl>
                                          <p:spTgt spid="4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34750"/>
                            </p:stCondLst>
                            <p:childTnLst>
                              <p:par>
                                <p:cTn id="766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8" dur="500" autoRev="1" fill="hold"/>
                                        <p:tgtEl>
                                          <p:spTgt spid="4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35750"/>
                            </p:stCondLst>
                            <p:childTnLst>
                              <p:par>
                                <p:cTn id="77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500" autoRev="1" fill="hold"/>
                                        <p:tgtEl>
                                          <p:spTgt spid="4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36750"/>
                            </p:stCondLst>
                            <p:childTnLst>
                              <p:par>
                                <p:cTn id="7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6" dur="50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37750"/>
                            </p:stCondLst>
                            <p:childTnLst>
                              <p:par>
                                <p:cTn id="77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0" dur="50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7:02:08Z</dcterms:created>
  <dc:creator>User</dc:creator>
  <dc:description/>
  <cp:keywords/>
  <dc:language>en-US</dc:language>
  <cp:lastModifiedBy>a</cp:lastModifiedBy>
  <dcterms:modified xsi:type="dcterms:W3CDTF">2015-07-21T01:50:42Z</dcterms:modified>
  <cp:revision>7</cp:revision>
  <dc:subject/>
  <dc:title>青春的浪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