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615D-CFA2-4974-9D60-D6740CC3C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FD4E-2A08-4086-9FA5-8C2D0AB6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8C19-0336-4BB2-827C-F34AC1FCE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3D24-D8A9-4296-913F-CB1DF6DAE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4255-D513-4483-976C-256864E1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3F50-4FE5-4531-8094-84AAB85C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45C1-AAFB-4FE6-AE55-ADB1EB9F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BFF6-985F-4310-B278-3C6DBDDA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C17F-EEF2-4B8C-A58D-67E785B6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644A-75CF-42D0-9F89-2BD22EC2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EB63-3573-48F9-9094-5DFF77B9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0F09-DE4D-4B32-ACFA-9DCD85F0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7A8A-F3B0-469B-90C4-44018575FC9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B0F4-7B5C-4B7B-95CE-1BEB36F90DE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1189080" y="549360"/>
            <a:ext cx="6910200" cy="5924520"/>
          </a:xfrm>
          <a:prstGeom prst="rect">
            <a:avLst/>
          </a:prstGeom>
          <a:ln w="0">
            <a:noFill/>
          </a:ln>
        </p:spPr>
      </p:pic>
      <p:sp>
        <p:nvSpPr>
          <p:cNvPr id="42" name="矩形 1"/>
          <p:cNvSpPr/>
          <p:nvPr/>
        </p:nvSpPr>
        <p:spPr>
          <a:xfrm>
            <a:off x="2906280" y="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马年喜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2671920" y="907920"/>
            <a:ext cx="3800160" cy="4727880"/>
            <a:chOff x="2671920" y="907920"/>
            <a:chExt cx="3800160" cy="4727880"/>
          </a:xfrm>
        </p:grpSpPr>
        <p:sp>
          <p:nvSpPr>
            <p:cNvPr id="45" name="矩形 2"/>
            <p:cNvSpPr/>
            <p:nvPr/>
          </p:nvSpPr>
          <p:spPr>
            <a:xfrm>
              <a:off x="4248000" y="3644280"/>
              <a:ext cx="648000" cy="14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模板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  <a:hlinkClick r:id="rId1"/>
                </a:rPr>
                <a:t>www.1ppt.com/moban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行业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模板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  <a:hlinkClick r:id="rId2"/>
                </a:rPr>
                <a:t>www.1ppt.com/hangye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节日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模板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  <a:hlinkClick r:id="rId3"/>
                </a:rPr>
                <a:t>www.1ppt.com/jieri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     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素材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  <a:hlinkClick r:id="rId4"/>
                </a:rPr>
                <a:t>www.1ppt.com/sucai/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背景图片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  <a:hlinkClick r:id="rId5"/>
                </a:rPr>
                <a:t>www.1ppt.com/beijing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图表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  <a:hlinkClick r:id="rId6"/>
                </a:rPr>
                <a:t>www.1ppt.com/tubiao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优秀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  <a:hlinkClick r:id="rId7"/>
                </a:rPr>
                <a:t>www.1ppt.com/xiazai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  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教程： 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  <a:hlinkClick r:id="rId8"/>
                </a:rPr>
                <a:t>www.1ppt.com/powerpoint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Word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教程： 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  <a:hlinkClick r:id="rId9"/>
                </a:rPr>
                <a:t>www.1ppt.com/word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        Excel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教程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  <a:hlinkClick r:id="rId10"/>
                </a:rPr>
                <a:t>www.1ppt.com/excel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资料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  <a:hlinkClick r:id="rId11"/>
                </a:rPr>
                <a:t>www.1ppt.com/ziliao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          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课件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  <a:hlinkClick r:id="rId12"/>
                </a:rPr>
                <a:t>www.1ppt.com/kejian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范文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  <a:hlinkClick r:id="rId13"/>
                </a:rPr>
                <a:t>www.1ppt.com/fanwen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       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试卷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  <a:hlinkClick r:id="rId14"/>
                </a:rPr>
                <a:t>www.1ppt.com/shiti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教案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  <a:hlinkClick r:id="rId15"/>
                </a:rPr>
                <a:t>www.1ppt.com/jiaoan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Picture 2" descr=""/>
            <p:cNvPicPr/>
            <p:nvPr/>
          </p:nvPicPr>
          <p:blipFill>
            <a:blip r:embed="rId16"/>
            <a:stretch/>
          </p:blipFill>
          <p:spPr>
            <a:xfrm>
              <a:off x="2671920" y="907920"/>
              <a:ext cx="3800160" cy="4727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4140360" y="3413160"/>
            <a:ext cx="3298680" cy="2070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1560600" y="3228840"/>
            <a:ext cx="3298680" cy="2070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2835360" y="3068640"/>
            <a:ext cx="3298680" cy="2070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4"/>
          <a:stretch/>
        </p:blipFill>
        <p:spPr>
          <a:xfrm>
            <a:off x="2556000" y="2492280"/>
            <a:ext cx="2295360" cy="144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5"/>
          <a:stretch/>
        </p:blipFill>
        <p:spPr>
          <a:xfrm>
            <a:off x="4024440" y="2492280"/>
            <a:ext cx="2295360" cy="1441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6"/>
          <a:stretch/>
        </p:blipFill>
        <p:spPr>
          <a:xfrm>
            <a:off x="3384720" y="2035080"/>
            <a:ext cx="18349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556160" y="189000"/>
            <a:ext cx="2843280" cy="6537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1332000" y="1868400"/>
            <a:ext cx="3008160" cy="34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5T09:18:00Z</dcterms:created>
  <dc:creator>haobao-007</dc:creator>
  <dc:description/>
  <cp:keywords/>
  <dc:language>en-US</dc:language>
  <cp:lastModifiedBy>a</cp:lastModifiedBy>
  <dcterms:modified xsi:type="dcterms:W3CDTF">2015-07-21T01:39:44Z</dcterms:modified>
  <cp:revision>1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