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10F-DA01-4D99-8E79-054732CF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7C8-6C51-4CBD-B10D-50C17B64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CAB-2A82-4317-BEDA-C262D29D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96A-86E7-4E95-A470-7E993829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6F6-3399-4F86-B6A6-E7B0B34C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C6B-A856-4130-A125-1EA478DF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2EE-5451-432F-89ED-EF57819A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8AA-4C8F-4902-AF29-86864093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6B2-4FA1-4CD9-B24A-0E6733EE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BEF-FA75-42C1-9EE8-031F033D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A54-9F87-400B-BF69-B866324B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87A3-56B5-4B46-BDD0-AB71A686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E4AF-A211-4E84-AF2B-F5E00DFEAC9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C921-C67B-469D-A6E8-48CFE87479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777240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米奇卡通</a:t>
            </a:r>
            <a:r>
              <a:rPr b="0" lang="zh-CN" sz="40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特粗光辉简体"/>
                <a:ea typeface="方正特粗光辉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81080" y="645336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1E6-C13E-4FBA-A913-3209E63450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4T13:21:00Z</dcterms:created>
  <dc:creator>for_yang@qq.com</dc:creator>
  <dc:description>Made by Moyea Software. To find more free PowerPoint templates, please visit http://www.dvd-ppt-slideshow.com/powerpoint-knowledge/powerpoint-templates.html</dc:description>
  <cp:keywords>Disney free cartoon PowerPoint templates</cp:keywords>
  <dc:language>en-US</dc:language>
  <cp:lastModifiedBy>lenovo</cp:lastModifiedBy>
  <dcterms:modified xsi:type="dcterms:W3CDTF">2015-07-21T03:26:11Z</dcterms:modified>
  <cp:revision>7</cp:revision>
  <dc:subject>Disney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