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jpeg" ContentType="image/jpeg"/>
  <Override PartName="/ppt/media/image39.jpeg" ContentType="image/jpeg"/>
  <Override PartName="/ppt/media/image3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1666-0572-4512-83B8-374725E7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C8B-FB17-4A85-918C-FC5D0090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DAD-14AE-43A1-878D-C347966A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75F-FC50-4D76-8E08-B78D9977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97F-CD31-4FD4-B6C0-0DB60C1E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763-3B26-4668-9BE4-23CB3B4B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B89-036E-434B-8F4F-EF354AE0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D3A-4445-4832-94C7-9B270342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81B-AFD2-460E-919C-D59B0868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519-4F6E-4153-9D55-97A82B5F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226-E252-410E-9306-A12355AC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820-B0F0-4458-9362-3121E8E2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A659-AB46-4578-B026-3EDA312772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3.png"/><Relationship Id="rId26" Type="http://schemas.openxmlformats.org/officeDocument/2006/relationships/image" Target="../media/image14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4.png"/><Relationship Id="rId30" Type="http://schemas.openxmlformats.org/officeDocument/2006/relationships/image" Target="../media/image13.png"/><Relationship Id="rId31" Type="http://schemas.openxmlformats.org/officeDocument/2006/relationships/image" Target="../media/image12.png"/><Relationship Id="rId3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9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2.png"/><Relationship Id="rId11" Type="http://schemas.openxmlformats.org/officeDocument/2006/relationships/image" Target="../media/image27.png"/><Relationship Id="rId12" Type="http://schemas.openxmlformats.org/officeDocument/2006/relationships/image" Target="../media/image34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29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7.png"/><Relationship Id="rId2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3" descr="未标题-1.PNG"/>
          <p:cNvPicPr/>
          <p:nvPr/>
        </p:nvPicPr>
        <p:blipFill>
          <a:blip r:embed="rId1"/>
          <a:stretch/>
        </p:blipFill>
        <p:spPr>
          <a:xfrm>
            <a:off x="0" y="2095560"/>
            <a:ext cx="327348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1000"/>
              </a:srgbClr>
            </a:outerShdw>
          </a:effectLst>
        </p:spPr>
      </p:pic>
      <p:sp>
        <p:nvSpPr>
          <p:cNvPr id="42" name="圆角矩形 10"/>
          <p:cNvSpPr/>
          <p:nvPr/>
        </p:nvSpPr>
        <p:spPr>
          <a:xfrm>
            <a:off x="4570560" y="5311800"/>
            <a:ext cx="9349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圆角矩形 11"/>
          <p:cNvSpPr/>
          <p:nvPr/>
        </p:nvSpPr>
        <p:spPr>
          <a:xfrm>
            <a:off x="4570560" y="5811840"/>
            <a:ext cx="9349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圆角矩形 12"/>
          <p:cNvSpPr/>
          <p:nvPr/>
        </p:nvSpPr>
        <p:spPr>
          <a:xfrm>
            <a:off x="4570560" y="6283440"/>
            <a:ext cx="9349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29"/>
          <p:cNvSpPr/>
          <p:nvPr/>
        </p:nvSpPr>
        <p:spPr>
          <a:xfrm>
            <a:off x="5357880" y="5662440"/>
            <a:ext cx="3786120" cy="972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直接连接符 31"/>
          <p:cNvSpPr/>
          <p:nvPr/>
        </p:nvSpPr>
        <p:spPr>
          <a:xfrm>
            <a:off x="5357880" y="6167520"/>
            <a:ext cx="3786120" cy="468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接连接符 32"/>
          <p:cNvSpPr/>
          <p:nvPr/>
        </p:nvSpPr>
        <p:spPr>
          <a:xfrm>
            <a:off x="5357880" y="6642000"/>
            <a:ext cx="3786120" cy="180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640160" y="189000"/>
            <a:ext cx="51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不知道的的十个思维误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椭圆 9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1547640" y="33336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验预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Self-fulfilling Prophe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684360" y="1773360"/>
            <a:ext cx="78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潜意识：是如此顽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旦创生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便不可湮灭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流程图: 可选过程 13"/>
          <p:cNvSpPr/>
          <p:nvPr/>
        </p:nvSpPr>
        <p:spPr>
          <a:xfrm>
            <a:off x="3071880" y="2428920"/>
            <a:ext cx="2214360" cy="785880"/>
          </a:xfrm>
          <a:prstGeom prst="flowChartAlternateProcess">
            <a:avLst/>
          </a:prstGeom>
          <a:noFill/>
          <a:ln w="572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实环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圆角矩形 14"/>
          <p:cNvSpPr/>
          <p:nvPr/>
        </p:nvSpPr>
        <p:spPr>
          <a:xfrm>
            <a:off x="2214720" y="3643200"/>
            <a:ext cx="3929040" cy="3000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椭圆 15"/>
          <p:cNvSpPr/>
          <p:nvPr/>
        </p:nvSpPr>
        <p:spPr>
          <a:xfrm>
            <a:off x="3678120" y="3857760"/>
            <a:ext cx="1001880" cy="1000080"/>
          </a:xfrm>
          <a:prstGeom prst="ellipse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椭圆 16"/>
          <p:cNvSpPr/>
          <p:nvPr/>
        </p:nvSpPr>
        <p:spPr>
          <a:xfrm>
            <a:off x="2500200" y="5214960"/>
            <a:ext cx="1000080" cy="1000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椭圆 17"/>
          <p:cNvSpPr/>
          <p:nvPr/>
        </p:nvSpPr>
        <p:spPr>
          <a:xfrm>
            <a:off x="4857840" y="5214960"/>
            <a:ext cx="1000080" cy="1000080"/>
          </a:xfrm>
          <a:prstGeom prst="ellipse">
            <a:avLst/>
          </a:prstGeom>
          <a:noFill/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5" name="直接箭头连接符 19"/>
          <p:cNvCxnSpPr>
            <a:stCxn id="270" idx="2"/>
            <a:endCxn id="272" idx="0"/>
          </p:cNvCxnSpPr>
          <p:nvPr/>
        </p:nvCxnSpPr>
        <p:spPr>
          <a:xfrm flipH="1">
            <a:off x="4177440" y="3214800"/>
            <a:ext cx="2520" cy="645120"/>
          </a:xfrm>
          <a:prstGeom prst="straightConnector1">
            <a:avLst/>
          </a:prstGeom>
          <a:ln w="25560">
            <a:solidFill>
              <a:srgbClr val="604a7b"/>
            </a:solidFill>
            <a:miter/>
            <a:headEnd len="lg" type="triangle" w="med"/>
            <a:tailEnd len="lg" type="triangle" w="med"/>
          </a:ln>
        </p:spPr>
      </p:cxnSp>
      <p:cxnSp>
        <p:nvCxnSpPr>
          <p:cNvPr id="276" name="直接箭头连接符 20"/>
          <p:cNvCxnSpPr>
            <a:stCxn id="272" idx="3"/>
            <a:endCxn id="273" idx="7"/>
          </p:cNvCxnSpPr>
          <p:nvPr/>
        </p:nvCxnSpPr>
        <p:spPr>
          <a:xfrm flipH="1">
            <a:off x="3353760" y="4711680"/>
            <a:ext cx="471960" cy="650160"/>
          </a:xfrm>
          <a:prstGeom prst="straightConnector1">
            <a:avLst/>
          </a:prstGeom>
          <a:ln w="25560">
            <a:solidFill>
              <a:srgbClr val="604a7b"/>
            </a:solidFill>
            <a:miter/>
            <a:headEnd len="lg" type="triangle" w="med"/>
            <a:tailEnd len="lg" type="triangle" w="med"/>
          </a:ln>
        </p:spPr>
      </p:cxnSp>
      <p:cxnSp>
        <p:nvCxnSpPr>
          <p:cNvPr id="277" name="直接箭头连接符 23"/>
          <p:cNvCxnSpPr>
            <a:stCxn id="272" idx="5"/>
            <a:endCxn id="274" idx="1"/>
          </p:cNvCxnSpPr>
          <p:nvPr/>
        </p:nvCxnSpPr>
        <p:spPr>
          <a:xfrm>
            <a:off x="4531320" y="4711680"/>
            <a:ext cx="471960" cy="650160"/>
          </a:xfrm>
          <a:prstGeom prst="straightConnector1">
            <a:avLst/>
          </a:prstGeom>
          <a:ln w="25560">
            <a:solidFill>
              <a:srgbClr val="604a7b"/>
            </a:solidFill>
            <a:miter/>
            <a:headEnd len="lg" type="triangle" w="med"/>
            <a:tailEnd len="lg" type="triangle" w="med"/>
          </a:ln>
        </p:spPr>
      </p:cxnSp>
      <p:cxnSp>
        <p:nvCxnSpPr>
          <p:cNvPr id="278" name="直接箭头连接符 26"/>
          <p:cNvCxnSpPr>
            <a:stCxn id="274" idx="2"/>
            <a:endCxn id="273" idx="6"/>
          </p:cNvCxnSpPr>
          <p:nvPr/>
        </p:nvCxnSpPr>
        <p:spPr>
          <a:xfrm flipH="1" flipV="1">
            <a:off x="3499560" y="5714640"/>
            <a:ext cx="1358280" cy="2160"/>
          </a:xfrm>
          <a:prstGeom prst="straightConnector1">
            <a:avLst/>
          </a:prstGeom>
          <a:ln w="25560">
            <a:solidFill>
              <a:srgbClr val="604a7b"/>
            </a:solidFill>
            <a:miter/>
            <a:headEnd len="lg" type="triangle" w="med"/>
            <a:tailEnd len="lg" type="triangle" w="med"/>
          </a:ln>
        </p:spPr>
      </p:cxnSp>
      <p:sp>
        <p:nvSpPr>
          <p:cNvPr id="279" name="TextBox 29"/>
          <p:cNvSpPr/>
          <p:nvPr/>
        </p:nvSpPr>
        <p:spPr>
          <a:xfrm>
            <a:off x="3643200" y="514368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是谁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0"/>
          <p:cNvSpPr/>
          <p:nvPr/>
        </p:nvSpPr>
        <p:spPr>
          <a:xfrm>
            <a:off x="3857760" y="5715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冲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31"/>
          <p:cNvSpPr/>
          <p:nvPr/>
        </p:nvSpPr>
        <p:spPr>
          <a:xfrm rot="3205800">
            <a:off x="4476960" y="47188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协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32"/>
          <p:cNvSpPr/>
          <p:nvPr/>
        </p:nvSpPr>
        <p:spPr>
          <a:xfrm rot="18579000">
            <a:off x="2989440" y="46904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协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33"/>
          <p:cNvSpPr/>
          <p:nvPr/>
        </p:nvSpPr>
        <p:spPr>
          <a:xfrm>
            <a:off x="3786120" y="3244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协  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众效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erd Ment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61"/>
          <p:cNvSpPr/>
          <p:nvPr/>
        </p:nvSpPr>
        <p:spPr>
          <a:xfrm>
            <a:off x="684360" y="177336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众效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个体受到群体的影响而改变自己，以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保持一致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927080" y="2746440"/>
            <a:ext cx="1954440" cy="1376640"/>
            <a:chOff x="1927080" y="2746440"/>
            <a:chExt cx="1954440" cy="1376640"/>
          </a:xfrm>
        </p:grpSpPr>
        <p:grpSp>
          <p:nvGrpSpPr>
            <p:cNvPr id="288" name=""/>
            <p:cNvGrpSpPr/>
            <p:nvPr/>
          </p:nvGrpSpPr>
          <p:grpSpPr>
            <a:xfrm>
              <a:off x="2122200" y="2746440"/>
              <a:ext cx="1563840" cy="804600"/>
              <a:chOff x="2122200" y="2746440"/>
              <a:chExt cx="1563840" cy="804600"/>
            </a:xfrm>
          </p:grpSpPr>
          <p:pic>
            <p:nvPicPr>
              <p:cNvPr id="289" name="图片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15504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图片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316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图片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032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图片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2220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图片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289656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图片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263844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图片 43" descr=""/>
              <p:cNvPicPr/>
              <p:nvPr/>
            </p:nvPicPr>
            <p:blipFill>
              <a:blip r:embed="rId7"/>
              <a:stretch/>
            </p:blipFill>
            <p:spPr>
              <a:xfrm>
                <a:off x="2633400" y="2746440"/>
                <a:ext cx="460440" cy="803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6" name="TextBox 58"/>
            <p:cNvSpPr/>
            <p:nvPr/>
          </p:nvSpPr>
          <p:spPr>
            <a:xfrm>
              <a:off x="1927080" y="3754800"/>
              <a:ext cx="195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个人在望天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7" name="椭圆 74"/>
          <p:cNvSpPr/>
          <p:nvPr/>
        </p:nvSpPr>
        <p:spPr>
          <a:xfrm>
            <a:off x="1500120" y="2746440"/>
            <a:ext cx="287280" cy="28872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532480" y="2746440"/>
            <a:ext cx="2089080" cy="1376640"/>
            <a:chOff x="5532480" y="2746440"/>
            <a:chExt cx="2089080" cy="1376640"/>
          </a:xfrm>
        </p:grpSpPr>
        <p:grpSp>
          <p:nvGrpSpPr>
            <p:cNvPr id="299" name=""/>
            <p:cNvGrpSpPr/>
            <p:nvPr/>
          </p:nvGrpSpPr>
          <p:grpSpPr>
            <a:xfrm>
              <a:off x="5794920" y="2746440"/>
              <a:ext cx="1564200" cy="804600"/>
              <a:chOff x="5794920" y="2746440"/>
              <a:chExt cx="1564200" cy="804600"/>
            </a:xfrm>
          </p:grpSpPr>
          <p:pic>
            <p:nvPicPr>
              <p:cNvPr id="300" name="图片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682776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图片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708624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图片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605304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图片 18" descr=""/>
              <p:cNvPicPr/>
              <p:nvPr/>
            </p:nvPicPr>
            <p:blipFill>
              <a:blip r:embed="rId11"/>
              <a:stretch/>
            </p:blipFill>
            <p:spPr>
              <a:xfrm>
                <a:off x="579492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图片 19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6964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图片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6311160" y="307476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" name="图片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6734160" y="2747160"/>
                <a:ext cx="460800" cy="80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图片 42" descr=""/>
              <p:cNvPicPr/>
              <p:nvPr/>
            </p:nvPicPr>
            <p:blipFill>
              <a:blip r:embed="rId15"/>
              <a:stretch/>
            </p:blipFill>
            <p:spPr>
              <a:xfrm>
                <a:off x="5944320" y="2746440"/>
                <a:ext cx="460800" cy="80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8" name="TextBox 59"/>
            <p:cNvSpPr/>
            <p:nvPr/>
          </p:nvSpPr>
          <p:spPr>
            <a:xfrm>
              <a:off x="5532480" y="3754800"/>
              <a:ext cx="20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两个人在望天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9" name="椭圆 75"/>
          <p:cNvSpPr/>
          <p:nvPr/>
        </p:nvSpPr>
        <p:spPr>
          <a:xfrm>
            <a:off x="5100480" y="2746440"/>
            <a:ext cx="287640" cy="28872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60480" y="5113440"/>
            <a:ext cx="2087640" cy="1376640"/>
            <a:chOff x="1860480" y="5113440"/>
            <a:chExt cx="2087640" cy="1376640"/>
          </a:xfrm>
        </p:grpSpPr>
        <p:grpSp>
          <p:nvGrpSpPr>
            <p:cNvPr id="311" name=""/>
            <p:cNvGrpSpPr/>
            <p:nvPr/>
          </p:nvGrpSpPr>
          <p:grpSpPr>
            <a:xfrm>
              <a:off x="2122560" y="5113440"/>
              <a:ext cx="1563120" cy="804240"/>
              <a:chOff x="2122560" y="5113440"/>
              <a:chExt cx="1563120" cy="804240"/>
            </a:xfrm>
          </p:grpSpPr>
          <p:pic>
            <p:nvPicPr>
              <p:cNvPr id="312" name="图片 23" descr=""/>
              <p:cNvPicPr/>
              <p:nvPr/>
            </p:nvPicPr>
            <p:blipFill>
              <a:blip r:embed="rId16"/>
              <a:stretch/>
            </p:blipFill>
            <p:spPr>
              <a:xfrm>
                <a:off x="3154680" y="544104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图片 24" descr=""/>
              <p:cNvPicPr/>
              <p:nvPr/>
            </p:nvPicPr>
            <p:blipFill>
              <a:blip r:embed="rId17"/>
              <a:stretch/>
            </p:blipFill>
            <p:spPr>
              <a:xfrm>
                <a:off x="3412800" y="544104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图片 25" descr=""/>
              <p:cNvPicPr/>
              <p:nvPr/>
            </p:nvPicPr>
            <p:blipFill>
              <a:blip r:embed="rId18"/>
              <a:stretch/>
            </p:blipFill>
            <p:spPr>
              <a:xfrm>
                <a:off x="2380320" y="544104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图片 26" descr=""/>
              <p:cNvPicPr/>
              <p:nvPr/>
            </p:nvPicPr>
            <p:blipFill>
              <a:blip r:embed="rId19"/>
              <a:stretch/>
            </p:blipFill>
            <p:spPr>
              <a:xfrm>
                <a:off x="2122560" y="544104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图片 27" descr=""/>
              <p:cNvPicPr/>
              <p:nvPr/>
            </p:nvPicPr>
            <p:blipFill>
              <a:blip r:embed="rId20"/>
              <a:stretch/>
            </p:blipFill>
            <p:spPr>
              <a:xfrm>
                <a:off x="2896560" y="544104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图片 28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38440" y="5441040"/>
                <a:ext cx="27288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图片 29" descr=""/>
              <p:cNvPicPr/>
              <p:nvPr/>
            </p:nvPicPr>
            <p:blipFill>
              <a:blip r:embed="rId22"/>
              <a:stretch/>
            </p:blipFill>
            <p:spPr>
              <a:xfrm>
                <a:off x="2673720" y="5113800"/>
                <a:ext cx="460440" cy="80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图片 30" descr=""/>
              <p:cNvPicPr/>
              <p:nvPr/>
            </p:nvPicPr>
            <p:blipFill>
              <a:blip r:embed="rId23"/>
              <a:stretch/>
            </p:blipFill>
            <p:spPr>
              <a:xfrm>
                <a:off x="2193120" y="5113440"/>
                <a:ext cx="460440" cy="80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图片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3154680" y="5113440"/>
                <a:ext cx="460440" cy="80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1" name="TextBox 62"/>
            <p:cNvSpPr/>
            <p:nvPr/>
          </p:nvSpPr>
          <p:spPr>
            <a:xfrm>
              <a:off x="1860480" y="61218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三个人在望天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2" name="椭圆 76"/>
          <p:cNvSpPr/>
          <p:nvPr/>
        </p:nvSpPr>
        <p:spPr>
          <a:xfrm>
            <a:off x="1500120" y="4906800"/>
            <a:ext cx="287280" cy="2890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335560" y="5021280"/>
            <a:ext cx="2879640" cy="1478520"/>
            <a:chOff x="5335560" y="5021280"/>
            <a:chExt cx="2879640" cy="1478520"/>
          </a:xfrm>
        </p:grpSpPr>
        <p:sp>
          <p:nvSpPr>
            <p:cNvPr id="324" name="TextBox 64"/>
            <p:cNvSpPr/>
            <p:nvPr/>
          </p:nvSpPr>
          <p:spPr>
            <a:xfrm>
              <a:off x="5335560" y="613152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刚出鼻血，你们在看啥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871240" y="5021280"/>
              <a:ext cx="1339560" cy="803520"/>
              <a:chOff x="5871240" y="5021280"/>
              <a:chExt cx="1339560" cy="8035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5871240" y="5021280"/>
                <a:ext cx="1339560" cy="803520"/>
                <a:chOff x="5871240" y="5021280"/>
                <a:chExt cx="1339560" cy="80352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5871240" y="5277240"/>
                  <a:ext cx="1339560" cy="547560"/>
                  <a:chOff x="5871240" y="5277240"/>
                  <a:chExt cx="1339560" cy="547560"/>
                </a:xfrm>
              </p:grpSpPr>
              <p:pic>
                <p:nvPicPr>
                  <p:cNvPr id="328" name="图片 3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871240" y="5277240"/>
                    <a:ext cx="3258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29" name="图片 4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76440" y="5277240"/>
                    <a:ext cx="31968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0" name="图片 45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6275520" y="5277240"/>
                    <a:ext cx="3258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1" name="图片 4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480720" y="5277240"/>
                    <a:ext cx="3258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2" name="图片 47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685920" y="5277240"/>
                    <a:ext cx="31968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3" name="图片 4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885000" y="5277240"/>
                    <a:ext cx="3258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334" name="图片 63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6310800" y="5021280"/>
                  <a:ext cx="460440" cy="80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35" name="泪滴形 66"/>
              <p:cNvSpPr/>
              <p:nvPr/>
            </p:nvSpPr>
            <p:spPr>
              <a:xfrm rot="18738000">
                <a:off x="6612840" y="5244480"/>
                <a:ext cx="117720" cy="110880"/>
              </a:xfrm>
              <a:prstGeom prst="pi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6" name="椭圆 77"/>
          <p:cNvSpPr/>
          <p:nvPr/>
        </p:nvSpPr>
        <p:spPr>
          <a:xfrm>
            <a:off x="5100480" y="4906800"/>
            <a:ext cx="287640" cy="2890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众效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erd Ment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61"/>
          <p:cNvSpPr/>
          <p:nvPr/>
        </p:nvSpPr>
        <p:spPr>
          <a:xfrm>
            <a:off x="684360" y="1773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众效应的核心在于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致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19280" y="3157560"/>
            <a:ext cx="8067600" cy="1779480"/>
            <a:chOff x="719280" y="3157560"/>
            <a:chExt cx="8067600" cy="1779480"/>
          </a:xfrm>
        </p:grpSpPr>
        <p:sp>
          <p:nvSpPr>
            <p:cNvPr id="341" name="右箭头 60"/>
            <p:cNvSpPr/>
            <p:nvPr/>
          </p:nvSpPr>
          <p:spPr>
            <a:xfrm>
              <a:off x="2681280" y="3558240"/>
              <a:ext cx="576000" cy="2880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右箭头 62"/>
            <p:cNvSpPr/>
            <p:nvPr/>
          </p:nvSpPr>
          <p:spPr>
            <a:xfrm>
              <a:off x="5957280" y="3558240"/>
              <a:ext cx="576000" cy="2880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719280" y="3157560"/>
              <a:ext cx="1584000" cy="1779480"/>
              <a:chOff x="719280" y="3157560"/>
              <a:chExt cx="1584000" cy="177948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755280" y="3157560"/>
                <a:ext cx="1512000" cy="972360"/>
                <a:chOff x="755280" y="3157560"/>
                <a:chExt cx="1512000" cy="972360"/>
              </a:xfrm>
            </p:grpSpPr>
            <p:sp>
              <p:nvSpPr>
                <p:cNvPr id="345" name="椭圆 102"/>
                <p:cNvSpPr/>
                <p:nvPr/>
              </p:nvSpPr>
              <p:spPr>
                <a:xfrm>
                  <a:off x="75528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6" name="椭圆 103"/>
                <p:cNvSpPr/>
                <p:nvPr/>
              </p:nvSpPr>
              <p:spPr>
                <a:xfrm>
                  <a:off x="117504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7" name="椭圆 104"/>
                <p:cNvSpPr/>
                <p:nvPr/>
              </p:nvSpPr>
              <p:spPr>
                <a:xfrm>
                  <a:off x="159516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8" name="椭圆 105"/>
                <p:cNvSpPr/>
                <p:nvPr/>
              </p:nvSpPr>
              <p:spPr>
                <a:xfrm>
                  <a:off x="2015280" y="315756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" name="椭圆 106"/>
                <p:cNvSpPr/>
                <p:nvPr/>
              </p:nvSpPr>
              <p:spPr>
                <a:xfrm>
                  <a:off x="755280" y="351756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0" name="椭圆 107"/>
                <p:cNvSpPr/>
                <p:nvPr/>
              </p:nvSpPr>
              <p:spPr>
                <a:xfrm>
                  <a:off x="117504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1" name="椭圆 108"/>
                <p:cNvSpPr/>
                <p:nvPr/>
              </p:nvSpPr>
              <p:spPr>
                <a:xfrm>
                  <a:off x="159516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2" name="椭圆 109"/>
                <p:cNvSpPr/>
                <p:nvPr/>
              </p:nvSpPr>
              <p:spPr>
                <a:xfrm>
                  <a:off x="201528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3" name="椭圆 110"/>
                <p:cNvSpPr/>
                <p:nvPr/>
              </p:nvSpPr>
              <p:spPr>
                <a:xfrm>
                  <a:off x="75528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4" name="椭圆 111"/>
                <p:cNvSpPr/>
                <p:nvPr/>
              </p:nvSpPr>
              <p:spPr>
                <a:xfrm>
                  <a:off x="117504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5" name="椭圆 112"/>
                <p:cNvSpPr/>
                <p:nvPr/>
              </p:nvSpPr>
              <p:spPr>
                <a:xfrm>
                  <a:off x="159516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6" name="椭圆 113"/>
                <p:cNvSpPr/>
                <p:nvPr/>
              </p:nvSpPr>
              <p:spPr>
                <a:xfrm>
                  <a:off x="2015280" y="387792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57" name="TextBox 63"/>
              <p:cNvSpPr/>
              <p:nvPr/>
            </p:nvSpPr>
            <p:spPr>
              <a:xfrm>
                <a:off x="719280" y="4568760"/>
                <a:ext cx="158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与别人不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3635280" y="3157560"/>
              <a:ext cx="1944000" cy="1779480"/>
              <a:chOff x="3635280" y="3157560"/>
              <a:chExt cx="1944000" cy="1779480"/>
            </a:xfrm>
          </p:grpSpPr>
          <p:sp>
            <p:nvSpPr>
              <p:cNvPr id="359" name="TextBox 64"/>
              <p:cNvSpPr/>
              <p:nvPr/>
            </p:nvSpPr>
            <p:spPr>
              <a:xfrm>
                <a:off x="3635280" y="4568760"/>
                <a:ext cx="194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为了和别人保持一致，改变自己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3851280" y="3157560"/>
                <a:ext cx="1512000" cy="972360"/>
                <a:chOff x="3851280" y="3157560"/>
                <a:chExt cx="1512000" cy="972360"/>
              </a:xfrm>
            </p:grpSpPr>
            <p:sp>
              <p:nvSpPr>
                <p:cNvPr id="361" name="椭圆 117"/>
                <p:cNvSpPr/>
                <p:nvPr/>
              </p:nvSpPr>
              <p:spPr>
                <a:xfrm>
                  <a:off x="385128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2" name="椭圆 118"/>
                <p:cNvSpPr/>
                <p:nvPr/>
              </p:nvSpPr>
              <p:spPr>
                <a:xfrm>
                  <a:off x="427104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3" name="椭圆 119"/>
                <p:cNvSpPr/>
                <p:nvPr/>
              </p:nvSpPr>
              <p:spPr>
                <a:xfrm>
                  <a:off x="469116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4" name="椭圆 120"/>
                <p:cNvSpPr/>
                <p:nvPr/>
              </p:nvSpPr>
              <p:spPr>
                <a:xfrm>
                  <a:off x="511128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5" name="椭圆 121"/>
                <p:cNvSpPr/>
                <p:nvPr/>
              </p:nvSpPr>
              <p:spPr>
                <a:xfrm>
                  <a:off x="385128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6" name="椭圆 122"/>
                <p:cNvSpPr/>
                <p:nvPr/>
              </p:nvSpPr>
              <p:spPr>
                <a:xfrm>
                  <a:off x="427104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7" name="椭圆 123"/>
                <p:cNvSpPr/>
                <p:nvPr/>
              </p:nvSpPr>
              <p:spPr>
                <a:xfrm>
                  <a:off x="469116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8" name="椭圆 124"/>
                <p:cNvSpPr/>
                <p:nvPr/>
              </p:nvSpPr>
              <p:spPr>
                <a:xfrm>
                  <a:off x="511128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9" name="椭圆 125"/>
                <p:cNvSpPr/>
                <p:nvPr/>
              </p:nvSpPr>
              <p:spPr>
                <a:xfrm>
                  <a:off x="385128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0" name="椭圆 126"/>
                <p:cNvSpPr/>
                <p:nvPr/>
              </p:nvSpPr>
              <p:spPr>
                <a:xfrm>
                  <a:off x="427104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1" name="椭圆 127"/>
                <p:cNvSpPr/>
                <p:nvPr/>
              </p:nvSpPr>
              <p:spPr>
                <a:xfrm>
                  <a:off x="469116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2" name="椭圆 128"/>
                <p:cNvSpPr/>
                <p:nvPr/>
              </p:nvSpPr>
              <p:spPr>
                <a:xfrm>
                  <a:off x="5111280" y="387792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73" name=""/>
            <p:cNvGrpSpPr/>
            <p:nvPr/>
          </p:nvGrpSpPr>
          <p:grpSpPr>
            <a:xfrm>
              <a:off x="6911280" y="3157560"/>
              <a:ext cx="1875600" cy="1779480"/>
              <a:chOff x="6911280" y="3157560"/>
              <a:chExt cx="1875600" cy="1779480"/>
            </a:xfrm>
          </p:grpSpPr>
          <p:sp>
            <p:nvSpPr>
              <p:cNvPr id="374" name="TextBox 65"/>
              <p:cNvSpPr/>
              <p:nvPr/>
            </p:nvSpPr>
            <p:spPr>
              <a:xfrm>
                <a:off x="6911280" y="4568760"/>
                <a:ext cx="187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获得群体归属感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7093080" y="3157560"/>
                <a:ext cx="1512000" cy="972360"/>
                <a:chOff x="7093080" y="3157560"/>
                <a:chExt cx="1512000" cy="972360"/>
              </a:xfrm>
            </p:grpSpPr>
            <p:sp>
              <p:nvSpPr>
                <p:cNvPr id="376" name="椭圆 130"/>
                <p:cNvSpPr/>
                <p:nvPr/>
              </p:nvSpPr>
              <p:spPr>
                <a:xfrm>
                  <a:off x="709308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7" name="椭圆 131"/>
                <p:cNvSpPr/>
                <p:nvPr/>
              </p:nvSpPr>
              <p:spPr>
                <a:xfrm>
                  <a:off x="751284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8" name="椭圆 132"/>
                <p:cNvSpPr/>
                <p:nvPr/>
              </p:nvSpPr>
              <p:spPr>
                <a:xfrm>
                  <a:off x="793296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9" name="椭圆 133"/>
                <p:cNvSpPr/>
                <p:nvPr/>
              </p:nvSpPr>
              <p:spPr>
                <a:xfrm>
                  <a:off x="8353080" y="315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椭圆 134"/>
                <p:cNvSpPr/>
                <p:nvPr/>
              </p:nvSpPr>
              <p:spPr>
                <a:xfrm>
                  <a:off x="709308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1" name="椭圆 135"/>
                <p:cNvSpPr/>
                <p:nvPr/>
              </p:nvSpPr>
              <p:spPr>
                <a:xfrm>
                  <a:off x="751284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2" name="椭圆 136"/>
                <p:cNvSpPr/>
                <p:nvPr/>
              </p:nvSpPr>
              <p:spPr>
                <a:xfrm>
                  <a:off x="793296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椭圆 137"/>
                <p:cNvSpPr/>
                <p:nvPr/>
              </p:nvSpPr>
              <p:spPr>
                <a:xfrm>
                  <a:off x="8353080" y="351756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椭圆 138"/>
                <p:cNvSpPr/>
                <p:nvPr/>
              </p:nvSpPr>
              <p:spPr>
                <a:xfrm>
                  <a:off x="709308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椭圆 139"/>
                <p:cNvSpPr/>
                <p:nvPr/>
              </p:nvSpPr>
              <p:spPr>
                <a:xfrm>
                  <a:off x="751284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6" name="椭圆 140"/>
                <p:cNvSpPr/>
                <p:nvPr/>
              </p:nvSpPr>
              <p:spPr>
                <a:xfrm>
                  <a:off x="793296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7" name="椭圆 141"/>
                <p:cNvSpPr/>
                <p:nvPr/>
              </p:nvSpPr>
              <p:spPr>
                <a:xfrm>
                  <a:off x="8353080" y="3877920"/>
                  <a:ext cx="252000" cy="252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晕轮效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alo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642960" y="17924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在候选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选出一个领导者，你会选择谁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134000" y="3929040"/>
            <a:ext cx="6997680" cy="2571840"/>
            <a:chOff x="1134000" y="3929040"/>
            <a:chExt cx="6997680" cy="2571840"/>
          </a:xfrm>
        </p:grpSpPr>
        <p:grpSp>
          <p:nvGrpSpPr>
            <p:cNvPr id="392" name=""/>
            <p:cNvGrpSpPr/>
            <p:nvPr/>
          </p:nvGrpSpPr>
          <p:grpSpPr>
            <a:xfrm>
              <a:off x="1134000" y="3951720"/>
              <a:ext cx="1316880" cy="2549160"/>
              <a:chOff x="1134000" y="3951720"/>
              <a:chExt cx="1316880" cy="2549160"/>
            </a:xfrm>
          </p:grpSpPr>
          <p:pic>
            <p:nvPicPr>
              <p:cNvPr id="393" name="图片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134000" y="3951720"/>
                <a:ext cx="1316880" cy="25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TextBox 22"/>
              <p:cNvSpPr/>
              <p:nvPr/>
            </p:nvSpPr>
            <p:spPr>
              <a:xfrm>
                <a:off x="1137600" y="5639400"/>
                <a:ext cx="1311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富兰克林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·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罗斯福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090320" y="3945240"/>
              <a:ext cx="1322640" cy="2549160"/>
              <a:chOff x="4090320" y="3945240"/>
              <a:chExt cx="1322640" cy="2549160"/>
            </a:xfrm>
          </p:grpSpPr>
          <p:pic>
            <p:nvPicPr>
              <p:cNvPr id="396" name="图片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090320" y="3945240"/>
                <a:ext cx="1322640" cy="25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21"/>
              <p:cNvSpPr/>
              <p:nvPr/>
            </p:nvSpPr>
            <p:spPr>
              <a:xfrm>
                <a:off x="4163760" y="5620320"/>
                <a:ext cx="117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温斯顿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·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丘吉尔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6796800" y="3929040"/>
              <a:ext cx="1334880" cy="2549160"/>
              <a:chOff x="6796800" y="3929040"/>
              <a:chExt cx="1334880" cy="2549160"/>
            </a:xfrm>
          </p:grpSpPr>
          <p:pic>
            <p:nvPicPr>
              <p:cNvPr id="399" name="图片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796800" y="3929040"/>
                <a:ext cx="1334880" cy="25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TextBox 20"/>
              <p:cNvSpPr/>
              <p:nvPr/>
            </p:nvSpPr>
            <p:spPr>
              <a:xfrm>
                <a:off x="6878160" y="5594760"/>
                <a:ext cx="117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阿道夫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·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希特勒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1" name=""/>
          <p:cNvGrpSpPr/>
          <p:nvPr/>
        </p:nvGrpSpPr>
        <p:grpSpPr>
          <a:xfrm>
            <a:off x="614520" y="2500200"/>
            <a:ext cx="2471760" cy="1214640"/>
            <a:chOff x="614520" y="2500200"/>
            <a:chExt cx="2471760" cy="1214640"/>
          </a:xfrm>
        </p:grpSpPr>
        <p:sp>
          <p:nvSpPr>
            <p:cNvPr id="402" name="圆角矩形 3"/>
            <p:cNvSpPr/>
            <p:nvPr/>
          </p:nvSpPr>
          <p:spPr>
            <a:xfrm>
              <a:off x="614520" y="2500200"/>
              <a:ext cx="2471760" cy="1214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充满肉欲，有婚外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嗜烟如命，沉溺酒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圆角矩形 2"/>
            <p:cNvSpPr/>
            <p:nvPr/>
          </p:nvSpPr>
          <p:spPr>
            <a:xfrm>
              <a:off x="1542960" y="2571480"/>
              <a:ext cx="481320" cy="4060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571920" y="2500200"/>
            <a:ext cx="2473200" cy="1214640"/>
            <a:chOff x="3571920" y="2500200"/>
            <a:chExt cx="2473200" cy="1214640"/>
          </a:xfrm>
        </p:grpSpPr>
        <p:sp>
          <p:nvSpPr>
            <p:cNvPr id="405" name="圆角矩形 25"/>
            <p:cNvSpPr/>
            <p:nvPr/>
          </p:nvSpPr>
          <p:spPr>
            <a:xfrm>
              <a:off x="3571920" y="2500200"/>
              <a:ext cx="2473200" cy="1214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思进取，使用毒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行懒惰，工作不佳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圆角矩形 26"/>
            <p:cNvSpPr/>
            <p:nvPr/>
          </p:nvSpPr>
          <p:spPr>
            <a:xfrm>
              <a:off x="4500720" y="2571480"/>
              <a:ext cx="481680" cy="4060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286680" y="2500200"/>
            <a:ext cx="2473200" cy="1214640"/>
            <a:chOff x="6286680" y="2500200"/>
            <a:chExt cx="2473200" cy="1214640"/>
          </a:xfrm>
        </p:grpSpPr>
        <p:sp>
          <p:nvSpPr>
            <p:cNvPr id="408" name="圆角矩形 28"/>
            <p:cNvSpPr/>
            <p:nvPr/>
          </p:nvSpPr>
          <p:spPr>
            <a:xfrm>
              <a:off x="6286680" y="2500200"/>
              <a:ext cx="2473200" cy="1214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曾经受勋，品行端正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烟酒不占，对爱忠贞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圆角矩形 30"/>
            <p:cNvSpPr/>
            <p:nvPr/>
          </p:nvSpPr>
          <p:spPr>
            <a:xfrm>
              <a:off x="7215480" y="2571480"/>
              <a:ext cx="481680" cy="4060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晕轮效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alo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571760" y="1773360"/>
            <a:ext cx="5832360" cy="4471920"/>
            <a:chOff x="1571760" y="1773360"/>
            <a:chExt cx="5832360" cy="4471920"/>
          </a:xfrm>
        </p:grpSpPr>
        <p:pic>
          <p:nvPicPr>
            <p:cNvPr id="413" name="圆角矩形 46" descr=""/>
            <p:cNvPicPr/>
            <p:nvPr/>
          </p:nvPicPr>
          <p:blipFill>
            <a:blip r:embed="rId1"/>
            <a:stretch/>
          </p:blipFill>
          <p:spPr>
            <a:xfrm>
              <a:off x="1571760" y="1773360"/>
              <a:ext cx="869400" cy="4471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"/>
            <p:cNvGrpSpPr/>
            <p:nvPr/>
          </p:nvGrpSpPr>
          <p:grpSpPr>
            <a:xfrm>
              <a:off x="2965680" y="3004920"/>
              <a:ext cx="4438440" cy="797040"/>
              <a:chOff x="2965680" y="3004920"/>
              <a:chExt cx="4438440" cy="797040"/>
            </a:xfrm>
          </p:grpSpPr>
          <p:sp>
            <p:nvSpPr>
              <p:cNvPr id="415" name="圆角矩形 12"/>
              <p:cNvSpPr/>
              <p:nvPr/>
            </p:nvSpPr>
            <p:spPr>
              <a:xfrm>
                <a:off x="2965680" y="3188520"/>
                <a:ext cx="1252080" cy="4298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刻板印象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4499640" y="3004920"/>
                <a:ext cx="2904480" cy="797040"/>
                <a:chOff x="4499640" y="3004920"/>
                <a:chExt cx="2904480" cy="797040"/>
              </a:xfrm>
            </p:grpSpPr>
            <p:sp>
              <p:nvSpPr>
                <p:cNvPr id="417" name="TextBox 25"/>
                <p:cNvSpPr/>
                <p:nvPr/>
              </p:nvSpPr>
              <p:spPr>
                <a:xfrm>
                  <a:off x="5144040" y="3081240"/>
                  <a:ext cx="22600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龙生龙，凤生凤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种瓜得瓜，种豆得豆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" name="五边形 1"/>
                <p:cNvSpPr/>
                <p:nvPr/>
              </p:nvSpPr>
              <p:spPr>
                <a:xfrm flipH="1">
                  <a:off x="4499280" y="3004920"/>
                  <a:ext cx="2904120" cy="797040"/>
                </a:xfrm>
                <a:custGeom>
                  <a:avLst/>
                  <a:gdLst>
                    <a:gd name="textAreaLeft" fmla="*/ -360 w 2904120"/>
                    <a:gd name="textAreaRight" fmla="*/ 2904120 w 2904120"/>
                    <a:gd name="textAreaTop" fmla="*/ 0 h 797040"/>
                    <a:gd name="textAreaBottom" fmla="*/ 797400 h 797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674" y="0"/>
                      </a:lnTo>
                      <a:lnTo>
                        <a:pt x="21600" y="10800"/>
                      </a:lnTo>
                      <a:lnTo>
                        <a:pt x="18674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ac09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9" name="椭圆 54"/>
                <p:cNvSpPr/>
                <p:nvPr/>
              </p:nvSpPr>
              <p:spPr>
                <a:xfrm>
                  <a:off x="4736160" y="3295800"/>
                  <a:ext cx="212400" cy="215280"/>
                </a:xfrm>
                <a:prstGeom prst="ellipse">
                  <a:avLst/>
                </a:prstGeom>
                <a:noFill/>
                <a:ln w="38160">
                  <a:solidFill>
                    <a:srgbClr val="fac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2965680" y="1784520"/>
              <a:ext cx="4438440" cy="797040"/>
              <a:chOff x="2965680" y="1784520"/>
              <a:chExt cx="4438440" cy="797040"/>
            </a:xfrm>
          </p:grpSpPr>
          <p:sp>
            <p:nvSpPr>
              <p:cNvPr id="421" name="圆角矩形 38"/>
              <p:cNvSpPr/>
              <p:nvPr/>
            </p:nvSpPr>
            <p:spPr>
              <a:xfrm>
                <a:off x="2965680" y="1968120"/>
                <a:ext cx="1252080" cy="4298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循环证实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4499640" y="1784520"/>
                <a:ext cx="2904480" cy="797040"/>
                <a:chOff x="4499640" y="1784520"/>
                <a:chExt cx="2904480" cy="797040"/>
              </a:xfrm>
            </p:grpSpPr>
            <p:sp>
              <p:nvSpPr>
                <p:cNvPr id="423" name="TextBox 34"/>
                <p:cNvSpPr/>
                <p:nvPr/>
              </p:nvSpPr>
              <p:spPr>
                <a:xfrm>
                  <a:off x="5144040" y="1860840"/>
                  <a:ext cx="22600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疑邻盗斧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智子疑邻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4" name="五边形 40"/>
                <p:cNvSpPr/>
                <p:nvPr/>
              </p:nvSpPr>
              <p:spPr>
                <a:xfrm flipH="1">
                  <a:off x="4499280" y="1784520"/>
                  <a:ext cx="2904120" cy="797040"/>
                </a:xfrm>
                <a:custGeom>
                  <a:avLst/>
                  <a:gdLst>
                    <a:gd name="textAreaLeft" fmla="*/ -360 w 2904120"/>
                    <a:gd name="textAreaRight" fmla="*/ 2904120 w 2904120"/>
                    <a:gd name="textAreaTop" fmla="*/ 0 h 797040"/>
                    <a:gd name="textAreaBottom" fmla="*/ 797400 h 797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674" y="0"/>
                      </a:lnTo>
                      <a:lnTo>
                        <a:pt x="21600" y="10800"/>
                      </a:lnTo>
                      <a:lnTo>
                        <a:pt x="18674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ac09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5" name="椭圆 42"/>
                <p:cNvSpPr/>
                <p:nvPr/>
              </p:nvSpPr>
              <p:spPr>
                <a:xfrm>
                  <a:off x="4736160" y="2075400"/>
                  <a:ext cx="212400" cy="215280"/>
                </a:xfrm>
                <a:prstGeom prst="ellipse">
                  <a:avLst/>
                </a:prstGeom>
                <a:noFill/>
                <a:ln w="38160">
                  <a:solidFill>
                    <a:srgbClr val="fac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26" name=""/>
            <p:cNvGrpSpPr/>
            <p:nvPr/>
          </p:nvGrpSpPr>
          <p:grpSpPr>
            <a:xfrm>
              <a:off x="2965680" y="4224960"/>
              <a:ext cx="4438440" cy="797040"/>
              <a:chOff x="2965680" y="4224960"/>
              <a:chExt cx="4438440" cy="797040"/>
            </a:xfrm>
          </p:grpSpPr>
          <p:sp>
            <p:nvSpPr>
              <p:cNvPr id="427" name="圆角矩形 26"/>
              <p:cNvSpPr/>
              <p:nvPr/>
            </p:nvSpPr>
            <p:spPr>
              <a:xfrm>
                <a:off x="2965680" y="4408560"/>
                <a:ext cx="1252080" cy="4298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以貌取人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4499640" y="4224960"/>
                <a:ext cx="2904480" cy="797040"/>
                <a:chOff x="4499640" y="4224960"/>
                <a:chExt cx="2904480" cy="797040"/>
              </a:xfrm>
            </p:grpSpPr>
            <p:sp>
              <p:nvSpPr>
                <p:cNvPr id="429" name="TextBox 47"/>
                <p:cNvSpPr/>
                <p:nvPr/>
              </p:nvSpPr>
              <p:spPr>
                <a:xfrm>
                  <a:off x="5144040" y="4301280"/>
                  <a:ext cx="22600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克夫相、富贵相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“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手大漏财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0" name="五边形 48"/>
                <p:cNvSpPr/>
                <p:nvPr/>
              </p:nvSpPr>
              <p:spPr>
                <a:xfrm flipH="1">
                  <a:off x="4499280" y="4224960"/>
                  <a:ext cx="2904120" cy="797040"/>
                </a:xfrm>
                <a:custGeom>
                  <a:avLst/>
                  <a:gdLst>
                    <a:gd name="textAreaLeft" fmla="*/ -360 w 2904120"/>
                    <a:gd name="textAreaRight" fmla="*/ 2904120 w 2904120"/>
                    <a:gd name="textAreaTop" fmla="*/ 0 h 797040"/>
                    <a:gd name="textAreaBottom" fmla="*/ 797400 h 797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674" y="0"/>
                      </a:lnTo>
                      <a:lnTo>
                        <a:pt x="21600" y="10800"/>
                      </a:lnTo>
                      <a:lnTo>
                        <a:pt x="18674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ac09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1" name="椭圆 49"/>
                <p:cNvSpPr/>
                <p:nvPr/>
              </p:nvSpPr>
              <p:spPr>
                <a:xfrm>
                  <a:off x="4736160" y="4515840"/>
                  <a:ext cx="212400" cy="215280"/>
                </a:xfrm>
                <a:prstGeom prst="ellipse">
                  <a:avLst/>
                </a:prstGeom>
                <a:noFill/>
                <a:ln w="38160">
                  <a:solidFill>
                    <a:srgbClr val="fac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32" name=""/>
            <p:cNvGrpSpPr/>
            <p:nvPr/>
          </p:nvGrpSpPr>
          <p:grpSpPr>
            <a:xfrm>
              <a:off x="2965680" y="5445360"/>
              <a:ext cx="4438440" cy="797040"/>
              <a:chOff x="2965680" y="5445360"/>
              <a:chExt cx="4438440" cy="797040"/>
            </a:xfrm>
          </p:grpSpPr>
          <p:sp>
            <p:nvSpPr>
              <p:cNvPr id="433" name="圆角矩形 31"/>
              <p:cNvSpPr/>
              <p:nvPr/>
            </p:nvSpPr>
            <p:spPr>
              <a:xfrm>
                <a:off x="2965680" y="5628960"/>
                <a:ext cx="1252080" cy="4298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第一印象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4499640" y="5445360"/>
                <a:ext cx="2904480" cy="797040"/>
                <a:chOff x="4499640" y="5445360"/>
                <a:chExt cx="2904480" cy="797040"/>
              </a:xfrm>
            </p:grpSpPr>
            <p:sp>
              <p:nvSpPr>
                <p:cNvPr id="435" name="TextBox 51"/>
                <p:cNvSpPr/>
                <p:nvPr/>
              </p:nvSpPr>
              <p:spPr>
                <a:xfrm>
                  <a:off x="5144040" y="5521680"/>
                  <a:ext cx="22600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爱屋及乌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叶公好龙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6" name="五边形 52"/>
                <p:cNvSpPr/>
                <p:nvPr/>
              </p:nvSpPr>
              <p:spPr>
                <a:xfrm flipH="1">
                  <a:off x="4499280" y="5445360"/>
                  <a:ext cx="2904120" cy="797040"/>
                </a:xfrm>
                <a:custGeom>
                  <a:avLst/>
                  <a:gdLst>
                    <a:gd name="textAreaLeft" fmla="*/ -360 w 2904120"/>
                    <a:gd name="textAreaRight" fmla="*/ 2904120 w 2904120"/>
                    <a:gd name="textAreaTop" fmla="*/ 0 h 797040"/>
                    <a:gd name="textAreaBottom" fmla="*/ 797400 h 797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674" y="0"/>
                      </a:lnTo>
                      <a:lnTo>
                        <a:pt x="21600" y="10800"/>
                      </a:lnTo>
                      <a:lnTo>
                        <a:pt x="18674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ac09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7" name="椭圆 55"/>
                <p:cNvSpPr/>
                <p:nvPr/>
              </p:nvSpPr>
              <p:spPr>
                <a:xfrm>
                  <a:off x="4736160" y="5736240"/>
                  <a:ext cx="212400" cy="215280"/>
                </a:xfrm>
                <a:prstGeom prst="ellipse">
                  <a:avLst/>
                </a:prstGeom>
                <a:noFill/>
                <a:ln w="38160">
                  <a:solidFill>
                    <a:srgbClr val="fac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逆反心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Resist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10"/>
          <p:cNvSpPr/>
          <p:nvPr/>
        </p:nvSpPr>
        <p:spPr>
          <a:xfrm>
            <a:off x="684360" y="1773360"/>
            <a:ext cx="845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逆反心理：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维护自尊而采取对对方的要求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相反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态度和言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84360" y="4392720"/>
            <a:ext cx="7774920" cy="2056680"/>
            <a:chOff x="684360" y="4392720"/>
            <a:chExt cx="7774920" cy="2056680"/>
          </a:xfrm>
        </p:grpSpPr>
        <p:grpSp>
          <p:nvGrpSpPr>
            <p:cNvPr id="442" name=""/>
            <p:cNvGrpSpPr/>
            <p:nvPr/>
          </p:nvGrpSpPr>
          <p:grpSpPr>
            <a:xfrm>
              <a:off x="2484000" y="4392720"/>
              <a:ext cx="5975280" cy="2056680"/>
              <a:chOff x="2484000" y="4392720"/>
              <a:chExt cx="5975280" cy="205668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4100400" y="4817520"/>
                <a:ext cx="474840" cy="373680"/>
                <a:chOff x="4100400" y="4817520"/>
                <a:chExt cx="474840" cy="373680"/>
              </a:xfrm>
            </p:grpSpPr>
            <p:sp>
              <p:nvSpPr>
                <p:cNvPr id="444" name="燕尾形 46"/>
                <p:cNvSpPr/>
                <p:nvPr/>
              </p:nvSpPr>
              <p:spPr>
                <a:xfrm>
                  <a:off x="4100400" y="4817520"/>
                  <a:ext cx="184320" cy="373680"/>
                </a:xfrm>
                <a:custGeom>
                  <a:avLst/>
                  <a:gdLst>
                    <a:gd name="textAreaLeft" fmla="*/ 0 w 184320"/>
                    <a:gd name="textAreaRight" fmla="*/ 184680 w 184320"/>
                    <a:gd name="textAreaTop" fmla="*/ 0 h 373680"/>
                    <a:gd name="textAreaBottom" fmla="*/ 374040 h 373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800" y="0"/>
                      </a:lnTo>
                      <a:lnTo>
                        <a:pt x="21600" y="10800"/>
                      </a:lnTo>
                      <a:lnTo>
                        <a:pt x="10800" y="21600"/>
                      </a:lnTo>
                      <a:lnTo>
                        <a:pt x="0" y="21600"/>
                      </a:lnTo>
                      <a:lnTo>
                        <a:pt x="10800" y="10800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5" name="燕尾形 47"/>
                <p:cNvSpPr/>
                <p:nvPr/>
              </p:nvSpPr>
              <p:spPr>
                <a:xfrm>
                  <a:off x="4245480" y="4817520"/>
                  <a:ext cx="184320" cy="373680"/>
                </a:xfrm>
                <a:custGeom>
                  <a:avLst/>
                  <a:gdLst>
                    <a:gd name="textAreaLeft" fmla="*/ 0 w 184320"/>
                    <a:gd name="textAreaRight" fmla="*/ 184680 w 184320"/>
                    <a:gd name="textAreaTop" fmla="*/ 0 h 373680"/>
                    <a:gd name="textAreaBottom" fmla="*/ 374040 h 373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800" y="0"/>
                      </a:lnTo>
                      <a:lnTo>
                        <a:pt x="21600" y="10800"/>
                      </a:lnTo>
                      <a:lnTo>
                        <a:pt x="10800" y="21600"/>
                      </a:lnTo>
                      <a:lnTo>
                        <a:pt x="0" y="21600"/>
                      </a:lnTo>
                      <a:lnTo>
                        <a:pt x="10800" y="10800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6" name="燕尾形 48"/>
                <p:cNvSpPr/>
                <p:nvPr/>
              </p:nvSpPr>
              <p:spPr>
                <a:xfrm>
                  <a:off x="4390920" y="4817520"/>
                  <a:ext cx="184320" cy="373680"/>
                </a:xfrm>
                <a:custGeom>
                  <a:avLst/>
                  <a:gdLst>
                    <a:gd name="textAreaLeft" fmla="*/ 0 w 184320"/>
                    <a:gd name="textAreaRight" fmla="*/ 184680 w 184320"/>
                    <a:gd name="textAreaTop" fmla="*/ 0 h 373680"/>
                    <a:gd name="textAreaBottom" fmla="*/ 374040 h 373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800" y="0"/>
                      </a:lnTo>
                      <a:lnTo>
                        <a:pt x="21600" y="10800"/>
                      </a:lnTo>
                      <a:lnTo>
                        <a:pt x="10800" y="21600"/>
                      </a:lnTo>
                      <a:lnTo>
                        <a:pt x="0" y="21600"/>
                      </a:lnTo>
                      <a:lnTo>
                        <a:pt x="10800" y="10800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6584400" y="4817520"/>
                <a:ext cx="474840" cy="373680"/>
                <a:chOff x="6584400" y="4817520"/>
                <a:chExt cx="474840" cy="373680"/>
              </a:xfrm>
            </p:grpSpPr>
            <p:sp>
              <p:nvSpPr>
                <p:cNvPr id="448" name="燕尾形 51"/>
                <p:cNvSpPr/>
                <p:nvPr/>
              </p:nvSpPr>
              <p:spPr>
                <a:xfrm>
                  <a:off x="6584400" y="4817520"/>
                  <a:ext cx="184320" cy="373680"/>
                </a:xfrm>
                <a:custGeom>
                  <a:avLst/>
                  <a:gdLst>
                    <a:gd name="textAreaLeft" fmla="*/ 0 w 184320"/>
                    <a:gd name="textAreaRight" fmla="*/ 184680 w 184320"/>
                    <a:gd name="textAreaTop" fmla="*/ 0 h 373680"/>
                    <a:gd name="textAreaBottom" fmla="*/ 374040 h 373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800" y="0"/>
                      </a:lnTo>
                      <a:lnTo>
                        <a:pt x="21600" y="10800"/>
                      </a:lnTo>
                      <a:lnTo>
                        <a:pt x="10800" y="21600"/>
                      </a:lnTo>
                      <a:lnTo>
                        <a:pt x="0" y="21600"/>
                      </a:lnTo>
                      <a:lnTo>
                        <a:pt x="10800" y="10800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9" name="燕尾形 63"/>
                <p:cNvSpPr/>
                <p:nvPr/>
              </p:nvSpPr>
              <p:spPr>
                <a:xfrm>
                  <a:off x="6729480" y="4817520"/>
                  <a:ext cx="184320" cy="373680"/>
                </a:xfrm>
                <a:custGeom>
                  <a:avLst/>
                  <a:gdLst>
                    <a:gd name="textAreaLeft" fmla="*/ 0 w 184320"/>
                    <a:gd name="textAreaRight" fmla="*/ 184680 w 184320"/>
                    <a:gd name="textAreaTop" fmla="*/ 0 h 373680"/>
                    <a:gd name="textAreaBottom" fmla="*/ 374040 h 373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800" y="0"/>
                      </a:lnTo>
                      <a:lnTo>
                        <a:pt x="21600" y="10800"/>
                      </a:lnTo>
                      <a:lnTo>
                        <a:pt x="10800" y="21600"/>
                      </a:lnTo>
                      <a:lnTo>
                        <a:pt x="0" y="21600"/>
                      </a:lnTo>
                      <a:lnTo>
                        <a:pt x="10800" y="10800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0" name="燕尾形 64"/>
                <p:cNvSpPr/>
                <p:nvPr/>
              </p:nvSpPr>
              <p:spPr>
                <a:xfrm>
                  <a:off x="6874920" y="4817520"/>
                  <a:ext cx="184320" cy="373680"/>
                </a:xfrm>
                <a:custGeom>
                  <a:avLst/>
                  <a:gdLst>
                    <a:gd name="textAreaLeft" fmla="*/ 0 w 184320"/>
                    <a:gd name="textAreaRight" fmla="*/ 184680 w 184320"/>
                    <a:gd name="textAreaTop" fmla="*/ 0 h 373680"/>
                    <a:gd name="textAreaBottom" fmla="*/ 374040 h 373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800" y="0"/>
                      </a:lnTo>
                      <a:lnTo>
                        <a:pt x="21600" y="10800"/>
                      </a:lnTo>
                      <a:lnTo>
                        <a:pt x="10800" y="21600"/>
                      </a:lnTo>
                      <a:lnTo>
                        <a:pt x="0" y="21600"/>
                      </a:lnTo>
                      <a:lnTo>
                        <a:pt x="10800" y="10800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2484000" y="4464360"/>
                <a:ext cx="1367640" cy="1985040"/>
                <a:chOff x="2484000" y="4464360"/>
                <a:chExt cx="1367640" cy="1985040"/>
              </a:xfrm>
            </p:grpSpPr>
            <p:sp>
              <p:nvSpPr>
                <p:cNvPr id="452" name="椭圆 28"/>
                <p:cNvSpPr/>
                <p:nvPr/>
              </p:nvSpPr>
              <p:spPr>
                <a:xfrm>
                  <a:off x="2628000" y="4464360"/>
                  <a:ext cx="1079640" cy="1080000"/>
                </a:xfrm>
                <a:prstGeom prst="ellipse">
                  <a:avLst/>
                </a:prstGeom>
                <a:solidFill>
                  <a:srgbClr val="fac0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3" name="TextBox 66"/>
                <p:cNvSpPr/>
                <p:nvPr/>
              </p:nvSpPr>
              <p:spPr>
                <a:xfrm>
                  <a:off x="2484000" y="5868720"/>
                  <a:ext cx="1367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平时不</a:t>
                  </a:r>
                  <a:br>
                    <a:rPr sz="1600"/>
                  </a:b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关心的商品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571640" y="4392720"/>
                <a:ext cx="1944000" cy="2056680"/>
                <a:chOff x="4571640" y="4392720"/>
                <a:chExt cx="1944000" cy="2056680"/>
              </a:xfrm>
            </p:grpSpPr>
            <p:grpSp>
              <p:nvGrpSpPr>
                <p:cNvPr id="455" name=""/>
                <p:cNvGrpSpPr/>
                <p:nvPr/>
              </p:nvGrpSpPr>
              <p:grpSpPr>
                <a:xfrm>
                  <a:off x="4931640" y="4392720"/>
                  <a:ext cx="1224000" cy="1223640"/>
                  <a:chOff x="4931640" y="4392720"/>
                  <a:chExt cx="1224000" cy="1223640"/>
                </a:xfrm>
              </p:grpSpPr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5075640" y="4392720"/>
                    <a:ext cx="1080000" cy="1080000"/>
                    <a:chOff x="5075640" y="4392720"/>
                    <a:chExt cx="1080000" cy="1080000"/>
                  </a:xfrm>
                </p:grpSpPr>
                <p:sp>
                  <p:nvSpPr>
                    <p:cNvPr id="457" name="椭圆 41"/>
                    <p:cNvSpPr/>
                    <p:nvPr/>
                  </p:nvSpPr>
                  <p:spPr>
                    <a:xfrm>
                      <a:off x="5075640" y="4392720"/>
                      <a:ext cx="1080000" cy="1080000"/>
                    </a:xfrm>
                    <a:prstGeom prst="ellipse">
                      <a:avLst/>
                    </a:prstGeom>
                    <a:solidFill>
                      <a:srgbClr val="c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8" name="饼形 42"/>
                    <p:cNvSpPr/>
                    <p:nvPr/>
                  </p:nvSpPr>
                  <p:spPr>
                    <a:xfrm>
                      <a:off x="5075640" y="4392720"/>
                      <a:ext cx="1080000" cy="10800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59" name="饼形 40"/>
                  <p:cNvSpPr/>
                  <p:nvPr/>
                </p:nvSpPr>
                <p:spPr>
                  <a:xfrm>
                    <a:off x="4931640" y="4536360"/>
                    <a:ext cx="1080000" cy="1080000"/>
                  </a:xfrm>
                  <a:prstGeom prst="pie">
                    <a:avLst/>
                  </a:prstGeom>
                  <a:solidFill>
                    <a:srgbClr val="fdeada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460" name="TextBox 75"/>
                <p:cNvSpPr/>
                <p:nvPr/>
              </p:nvSpPr>
              <p:spPr>
                <a:xfrm>
                  <a:off x="4571640" y="5868720"/>
                  <a:ext cx="19440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突然间供应</a:t>
                  </a:r>
                  <a:br>
                    <a:rPr sz="1600"/>
                  </a:b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数量“人为”减少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7091640" y="4716360"/>
                <a:ext cx="1367640" cy="1733040"/>
                <a:chOff x="7091640" y="4716360"/>
                <a:chExt cx="1367640" cy="1733040"/>
              </a:xfrm>
            </p:grpSpPr>
            <p:sp>
              <p:nvSpPr>
                <p:cNvPr id="462" name="TextBox 76"/>
                <p:cNvSpPr/>
                <p:nvPr/>
              </p:nvSpPr>
              <p:spPr>
                <a:xfrm>
                  <a:off x="7091640" y="5868720"/>
                  <a:ext cx="1367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购买欲望</a:t>
                  </a:r>
                  <a:br>
                    <a:rPr sz="1600"/>
                  </a:br>
                  <a:r>
                    <a:rPr b="0" lang="zh-CN" sz="16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反而提高了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463" name="图片 77" descr="图片1.png"/>
                <p:cNvPicPr/>
                <p:nvPr/>
              </p:nvPicPr>
              <p:blipFill>
                <a:blip r:embed="rId1"/>
                <a:srcRect l="51646" t="0" r="0" b="48386"/>
                <a:stretch/>
              </p:blipFill>
              <p:spPr>
                <a:xfrm>
                  <a:off x="7505640" y="4716360"/>
                  <a:ext cx="539280" cy="57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64" name="矩形 83"/>
            <p:cNvSpPr/>
            <p:nvPr/>
          </p:nvSpPr>
          <p:spPr>
            <a:xfrm>
              <a:off x="684360" y="513072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消费者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" name="直接连接符 215"/>
          <p:cNvSpPr/>
          <p:nvPr/>
        </p:nvSpPr>
        <p:spPr>
          <a:xfrm>
            <a:off x="826920" y="4221000"/>
            <a:ext cx="7632720" cy="0"/>
          </a:xfrm>
          <a:prstGeom prst="line">
            <a:avLst/>
          </a:prstGeom>
          <a:ln w="7632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84360" y="2600280"/>
            <a:ext cx="7505640" cy="1555920"/>
            <a:chOff x="684360" y="2600280"/>
            <a:chExt cx="7505640" cy="1555920"/>
          </a:xfrm>
        </p:grpSpPr>
        <p:sp>
          <p:nvSpPr>
            <p:cNvPr id="467" name="矩形 84"/>
            <p:cNvSpPr/>
            <p:nvPr/>
          </p:nvSpPr>
          <p:spPr>
            <a:xfrm>
              <a:off x="684360" y="313668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青少年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5429520" y="2600280"/>
              <a:ext cx="2760480" cy="1555920"/>
              <a:chOff x="5429520" y="2600280"/>
              <a:chExt cx="2760480" cy="1555920"/>
            </a:xfrm>
          </p:grpSpPr>
          <p:sp>
            <p:nvSpPr>
              <p:cNvPr id="469" name="右箭头 205"/>
              <p:cNvSpPr/>
              <p:nvPr/>
            </p:nvSpPr>
            <p:spPr>
              <a:xfrm>
                <a:off x="5429520" y="2643480"/>
                <a:ext cx="2196360" cy="1223640"/>
              </a:xfrm>
              <a:prstGeom prst="rightArrow">
                <a:avLst>
                  <a:gd name="adj1" fmla="val 78565"/>
                  <a:gd name="adj2" fmla="val 74199"/>
                </a:avLst>
              </a:prstGeom>
              <a:solidFill>
                <a:srgbClr val="fde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家长希望孩子成为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7001280" y="2600280"/>
                <a:ext cx="1188720" cy="1555920"/>
                <a:chOff x="7001280" y="2600280"/>
                <a:chExt cx="1188720" cy="1555920"/>
              </a:xfrm>
            </p:grpSpPr>
            <p:pic>
              <p:nvPicPr>
                <p:cNvPr id="471" name="图片 180" descr="图片1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001280" y="2600280"/>
                  <a:ext cx="1188720" cy="1108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图片 22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357320" y="3520440"/>
                  <a:ext cx="367920" cy="635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73" name=""/>
            <p:cNvGrpSpPr/>
            <p:nvPr/>
          </p:nvGrpSpPr>
          <p:grpSpPr>
            <a:xfrm>
              <a:off x="2375640" y="2643480"/>
              <a:ext cx="2196360" cy="1273680"/>
              <a:chOff x="2375640" y="2643480"/>
              <a:chExt cx="2196360" cy="1273680"/>
            </a:xfrm>
          </p:grpSpPr>
          <p:sp>
            <p:nvSpPr>
              <p:cNvPr id="474" name="右箭头 206"/>
              <p:cNvSpPr/>
              <p:nvPr/>
            </p:nvSpPr>
            <p:spPr>
              <a:xfrm flipH="1">
                <a:off x="2375280" y="2643480"/>
                <a:ext cx="2196360" cy="1223640"/>
              </a:xfrm>
              <a:prstGeom prst="rightArrow">
                <a:avLst>
                  <a:gd name="adj1" fmla="val 78565"/>
                  <a:gd name="adj2" fmla="val 74199"/>
                </a:avLst>
              </a:prstGeom>
              <a:solidFill>
                <a:srgbClr val="fde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孩子自己希望成为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2428920" y="2838960"/>
                <a:ext cx="648000" cy="1078200"/>
                <a:chOff x="2428920" y="2838960"/>
                <a:chExt cx="648000" cy="1078200"/>
              </a:xfrm>
            </p:grpSpPr>
            <p:pic>
              <p:nvPicPr>
                <p:cNvPr id="476" name="图片 22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28920" y="2838960"/>
                  <a:ext cx="297360" cy="50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图片 22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779560" y="2838960"/>
                  <a:ext cx="297360" cy="50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图片 22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428920" y="3405240"/>
                  <a:ext cx="297360" cy="51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图片 2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779560" y="3405240"/>
                  <a:ext cx="297360" cy="511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逆反心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Resist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270080" y="3040200"/>
            <a:ext cx="6802200" cy="2311560"/>
            <a:chOff x="1270080" y="3040200"/>
            <a:chExt cx="6802200" cy="2311560"/>
          </a:xfrm>
        </p:grpSpPr>
        <p:grpSp>
          <p:nvGrpSpPr>
            <p:cNvPr id="483" name=""/>
            <p:cNvGrpSpPr/>
            <p:nvPr/>
          </p:nvGrpSpPr>
          <p:grpSpPr>
            <a:xfrm>
              <a:off x="1270080" y="3272760"/>
              <a:ext cx="1267200" cy="802080"/>
              <a:chOff x="1270080" y="3272760"/>
              <a:chExt cx="1267200" cy="802080"/>
            </a:xfrm>
          </p:grpSpPr>
          <p:sp>
            <p:nvSpPr>
              <p:cNvPr id="484" name="矩形标注 2"/>
              <p:cNvSpPr/>
              <p:nvPr/>
            </p:nvSpPr>
            <p:spPr>
              <a:xfrm>
                <a:off x="1270080" y="3756600"/>
                <a:ext cx="564120" cy="31824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矩形标注 13"/>
              <p:cNvSpPr/>
              <p:nvPr/>
            </p:nvSpPr>
            <p:spPr>
              <a:xfrm>
                <a:off x="1973160" y="3756600"/>
                <a:ext cx="564120" cy="31824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矩形标注 20"/>
              <p:cNvSpPr/>
              <p:nvPr/>
            </p:nvSpPr>
            <p:spPr>
              <a:xfrm>
                <a:off x="1611720" y="3272760"/>
                <a:ext cx="564120" cy="31824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7" name="TextBox 9"/>
            <p:cNvSpPr/>
            <p:nvPr/>
          </p:nvSpPr>
          <p:spPr>
            <a:xfrm>
              <a:off x="1273680" y="4434840"/>
              <a:ext cx="12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畅通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3891960" y="3040200"/>
              <a:ext cx="1267200" cy="1267200"/>
              <a:chOff x="3891960" y="3040200"/>
              <a:chExt cx="1267200" cy="126720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3891960" y="3200040"/>
                <a:ext cx="1267200" cy="802080"/>
                <a:chOff x="3891960" y="3200040"/>
                <a:chExt cx="1267200" cy="802080"/>
              </a:xfrm>
            </p:grpSpPr>
            <p:sp>
              <p:nvSpPr>
                <p:cNvPr id="490" name="矩形标注 22"/>
                <p:cNvSpPr/>
                <p:nvPr/>
              </p:nvSpPr>
              <p:spPr>
                <a:xfrm>
                  <a:off x="3891960" y="3683880"/>
                  <a:ext cx="564120" cy="318240"/>
                </a:xfrm>
                <a:prstGeom prst="wedgeRectCallout">
                  <a:avLst>
                    <a:gd name="adj1" fmla="val -43175"/>
                    <a:gd name="adj2" fmla="val 82300"/>
                  </a:avLst>
                </a:prstGeom>
                <a:solidFill>
                  <a:srgbClr val="ffffff"/>
                </a:solidFill>
                <a:ln w="255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a6a6a6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1" name="矩形标注 23"/>
                <p:cNvSpPr/>
                <p:nvPr/>
              </p:nvSpPr>
              <p:spPr>
                <a:xfrm>
                  <a:off x="4595040" y="3683880"/>
                  <a:ext cx="564120" cy="318240"/>
                </a:xfrm>
                <a:prstGeom prst="wedgeRectCallout">
                  <a:avLst>
                    <a:gd name="adj1" fmla="val -43175"/>
                    <a:gd name="adj2" fmla="val 82300"/>
                  </a:avLst>
                </a:prstGeom>
                <a:solidFill>
                  <a:srgbClr val="ffffff"/>
                </a:solidFill>
                <a:ln w="255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a6a6a6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2" name="矩形标注 24"/>
                <p:cNvSpPr/>
                <p:nvPr/>
              </p:nvSpPr>
              <p:spPr>
                <a:xfrm>
                  <a:off x="4233600" y="3200040"/>
                  <a:ext cx="564120" cy="318240"/>
                </a:xfrm>
                <a:prstGeom prst="wedgeRectCallout">
                  <a:avLst>
                    <a:gd name="adj1" fmla="val -43175"/>
                    <a:gd name="adj2" fmla="val 82300"/>
                  </a:avLst>
                </a:prstGeom>
                <a:solidFill>
                  <a:srgbClr val="ffffff"/>
                </a:solidFill>
                <a:ln w="255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a6a6a6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93" name="乘号 6"/>
              <p:cNvSpPr/>
              <p:nvPr/>
            </p:nvSpPr>
            <p:spPr>
              <a:xfrm>
                <a:off x="3891960" y="3040200"/>
                <a:ext cx="1267200" cy="1267200"/>
              </a:xfrm>
              <a:prstGeom prst="pi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4" name="TextBox 18"/>
            <p:cNvSpPr/>
            <p:nvPr/>
          </p:nvSpPr>
          <p:spPr>
            <a:xfrm>
              <a:off x="3895560" y="4434840"/>
              <a:ext cx="126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禁止传播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严格审查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6717240" y="3207600"/>
              <a:ext cx="1152000" cy="931680"/>
              <a:chOff x="6717240" y="3207600"/>
              <a:chExt cx="1152000" cy="931680"/>
            </a:xfrm>
          </p:grpSpPr>
          <p:sp>
            <p:nvSpPr>
              <p:cNvPr id="496" name="矩形标注 27"/>
              <p:cNvSpPr/>
              <p:nvPr/>
            </p:nvSpPr>
            <p:spPr>
              <a:xfrm>
                <a:off x="6770880" y="340164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矩形标注 28"/>
              <p:cNvSpPr/>
              <p:nvPr/>
            </p:nvSpPr>
            <p:spPr>
              <a:xfrm>
                <a:off x="6910560" y="320760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矩形标注 29"/>
              <p:cNvSpPr/>
              <p:nvPr/>
            </p:nvSpPr>
            <p:spPr>
              <a:xfrm>
                <a:off x="7126560" y="339804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矩形标注 30"/>
              <p:cNvSpPr/>
              <p:nvPr/>
            </p:nvSpPr>
            <p:spPr>
              <a:xfrm>
                <a:off x="7005240" y="357156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cd5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矩形标注 31"/>
              <p:cNvSpPr/>
              <p:nvPr/>
            </p:nvSpPr>
            <p:spPr>
              <a:xfrm>
                <a:off x="7437240" y="355608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矩形标注 32"/>
              <p:cNvSpPr/>
              <p:nvPr/>
            </p:nvSpPr>
            <p:spPr>
              <a:xfrm>
                <a:off x="7373160" y="325044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矩形标注 33"/>
              <p:cNvSpPr/>
              <p:nvPr/>
            </p:nvSpPr>
            <p:spPr>
              <a:xfrm>
                <a:off x="7324560" y="373968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矩形标注 34"/>
              <p:cNvSpPr/>
              <p:nvPr/>
            </p:nvSpPr>
            <p:spPr>
              <a:xfrm>
                <a:off x="7437240" y="390996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矩形标注 35"/>
              <p:cNvSpPr/>
              <p:nvPr/>
            </p:nvSpPr>
            <p:spPr>
              <a:xfrm>
                <a:off x="6892200" y="345744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矩形标注 36"/>
              <p:cNvSpPr/>
              <p:nvPr/>
            </p:nvSpPr>
            <p:spPr>
              <a:xfrm>
                <a:off x="6717240" y="369108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cd5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矩形标注 37"/>
              <p:cNvSpPr/>
              <p:nvPr/>
            </p:nvSpPr>
            <p:spPr>
              <a:xfrm>
                <a:off x="7138800" y="330984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矩形标注 38"/>
              <p:cNvSpPr/>
              <p:nvPr/>
            </p:nvSpPr>
            <p:spPr>
              <a:xfrm>
                <a:off x="6892200" y="390708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矩形标注 39"/>
              <p:cNvSpPr/>
              <p:nvPr/>
            </p:nvSpPr>
            <p:spPr>
              <a:xfrm>
                <a:off x="7202880" y="3969000"/>
                <a:ext cx="432000" cy="170280"/>
              </a:xfrm>
              <a:prstGeom prst="wedgeRectCallout">
                <a:avLst>
                  <a:gd name="adj1" fmla="val -43175"/>
                  <a:gd name="adj2" fmla="val 82300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Calibri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9" name="TextBox 40"/>
            <p:cNvSpPr/>
            <p:nvPr/>
          </p:nvSpPr>
          <p:spPr>
            <a:xfrm>
              <a:off x="6513840" y="4434840"/>
              <a:ext cx="1558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引起误会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道消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群体性事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2977200" y="3486960"/>
              <a:ext cx="474840" cy="373680"/>
              <a:chOff x="2977200" y="3486960"/>
              <a:chExt cx="474840" cy="373680"/>
            </a:xfrm>
          </p:grpSpPr>
          <p:sp>
            <p:nvSpPr>
              <p:cNvPr id="511" name="燕尾形 41"/>
              <p:cNvSpPr/>
              <p:nvPr/>
            </p:nvSpPr>
            <p:spPr>
              <a:xfrm>
                <a:off x="2977200" y="3486960"/>
                <a:ext cx="184320" cy="3736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燕尾形 42"/>
              <p:cNvSpPr/>
              <p:nvPr/>
            </p:nvSpPr>
            <p:spPr>
              <a:xfrm>
                <a:off x="3122280" y="3486960"/>
                <a:ext cx="184320" cy="3736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燕尾形 43"/>
              <p:cNvSpPr/>
              <p:nvPr/>
            </p:nvSpPr>
            <p:spPr>
              <a:xfrm>
                <a:off x="3267720" y="3486960"/>
                <a:ext cx="184320" cy="3736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5599080" y="3486960"/>
              <a:ext cx="474840" cy="373680"/>
              <a:chOff x="5599080" y="3486960"/>
              <a:chExt cx="474840" cy="373680"/>
            </a:xfrm>
          </p:grpSpPr>
          <p:sp>
            <p:nvSpPr>
              <p:cNvPr id="515" name="燕尾形 55"/>
              <p:cNvSpPr/>
              <p:nvPr/>
            </p:nvSpPr>
            <p:spPr>
              <a:xfrm>
                <a:off x="5599080" y="3486960"/>
                <a:ext cx="184320" cy="3736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燕尾形 56"/>
              <p:cNvSpPr/>
              <p:nvPr/>
            </p:nvSpPr>
            <p:spPr>
              <a:xfrm>
                <a:off x="5744160" y="3486960"/>
                <a:ext cx="184320" cy="3736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燕尾形 57"/>
              <p:cNvSpPr/>
              <p:nvPr/>
            </p:nvSpPr>
            <p:spPr>
              <a:xfrm>
                <a:off x="5889600" y="3486960"/>
                <a:ext cx="184320" cy="3736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8" name="TextBox 60"/>
          <p:cNvSpPr/>
          <p:nvPr/>
        </p:nvSpPr>
        <p:spPr>
          <a:xfrm>
            <a:off x="684360" y="1773360"/>
            <a:ext cx="63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逆反心理应用于传播学上的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7"/>
          <p:cNvSpPr/>
          <p:nvPr/>
        </p:nvSpPr>
        <p:spPr>
          <a:xfrm>
            <a:off x="1547640" y="333360"/>
            <a:ext cx="32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曲贴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yperbolic Discou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48"/>
          <p:cNvSpPr/>
          <p:nvPr/>
        </p:nvSpPr>
        <p:spPr>
          <a:xfrm>
            <a:off x="684360" y="1773360"/>
            <a:ext cx="78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曲贴现：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决策时更倾向于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眼前，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非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长远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利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285920" y="2557440"/>
            <a:ext cx="6118200" cy="4360320"/>
            <a:chOff x="1285920" y="2557440"/>
            <a:chExt cx="6118200" cy="4360320"/>
          </a:xfrm>
        </p:grpSpPr>
        <p:grpSp>
          <p:nvGrpSpPr>
            <p:cNvPr id="523" name=""/>
            <p:cNvGrpSpPr/>
            <p:nvPr/>
          </p:nvGrpSpPr>
          <p:grpSpPr>
            <a:xfrm>
              <a:off x="3446280" y="2557440"/>
              <a:ext cx="3957840" cy="2924640"/>
              <a:chOff x="3446280" y="2557440"/>
              <a:chExt cx="3957840" cy="2924640"/>
            </a:xfrm>
          </p:grpSpPr>
          <p:sp>
            <p:nvSpPr>
              <p:cNvPr id="524" name="直接连接符 2"/>
              <p:cNvSpPr/>
              <p:nvPr/>
            </p:nvSpPr>
            <p:spPr>
              <a:xfrm>
                <a:off x="3446280" y="2557440"/>
                <a:ext cx="0" cy="2924640"/>
              </a:xfrm>
              <a:prstGeom prst="line">
                <a:avLst/>
              </a:prstGeom>
              <a:ln w="28440">
                <a:solidFill>
                  <a:srgbClr val="e46c0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直接连接符 11"/>
              <p:cNvSpPr/>
              <p:nvPr/>
            </p:nvSpPr>
            <p:spPr>
              <a:xfrm flipH="1">
                <a:off x="3446280" y="5482080"/>
                <a:ext cx="3957840" cy="0"/>
              </a:xfrm>
              <a:prstGeom prst="line">
                <a:avLst/>
              </a:prstGeom>
              <a:ln w="28440">
                <a:solidFill>
                  <a:srgbClr val="e46c0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6" name="图片 44" descr=""/>
              <p:cNvPicPr/>
              <p:nvPr/>
            </p:nvPicPr>
            <p:blipFill>
              <a:blip r:embed="rId1"/>
              <a:stretch/>
            </p:blipFill>
            <p:spPr>
              <a:xfrm>
                <a:off x="3503520" y="2844000"/>
                <a:ext cx="3032640" cy="261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7" name=""/>
            <p:cNvGrpSpPr/>
            <p:nvPr/>
          </p:nvGrpSpPr>
          <p:grpSpPr>
            <a:xfrm>
              <a:off x="2005920" y="5085360"/>
              <a:ext cx="1941840" cy="1213920"/>
              <a:chOff x="2005920" y="5085360"/>
              <a:chExt cx="1941840" cy="1213920"/>
            </a:xfrm>
          </p:grpSpPr>
          <p:sp>
            <p:nvSpPr>
              <p:cNvPr id="528" name="任意多边形 81"/>
              <p:cNvSpPr/>
              <p:nvPr/>
            </p:nvSpPr>
            <p:spPr>
              <a:xfrm>
                <a:off x="2944800" y="5085360"/>
                <a:ext cx="1002960" cy="864000"/>
              </a:xfrm>
              <a:prstGeom prst="pie">
                <a:avLst/>
              </a:prstGeom>
              <a:noFill/>
              <a:ln w="9360">
                <a:solidFill>
                  <a:srgbClr val="f692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TextBox 83"/>
              <p:cNvSpPr/>
              <p:nvPr/>
            </p:nvSpPr>
            <p:spPr>
              <a:xfrm>
                <a:off x="2005920" y="5595480"/>
                <a:ext cx="1008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来钱快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得钱少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5246280" y="5301360"/>
              <a:ext cx="1793880" cy="993960"/>
              <a:chOff x="5246280" y="5301360"/>
              <a:chExt cx="1793880" cy="993960"/>
            </a:xfrm>
          </p:grpSpPr>
          <p:sp>
            <p:nvSpPr>
              <p:cNvPr id="531" name="任意多边形 82"/>
              <p:cNvSpPr/>
              <p:nvPr/>
            </p:nvSpPr>
            <p:spPr>
              <a:xfrm flipH="1">
                <a:off x="5245920" y="5301360"/>
                <a:ext cx="752040" cy="648000"/>
              </a:xfrm>
              <a:prstGeom prst="pie">
                <a:avLst/>
              </a:prstGeom>
              <a:noFill/>
              <a:ln w="9360">
                <a:solidFill>
                  <a:srgbClr val="f692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TextBox 84"/>
              <p:cNvSpPr/>
              <p:nvPr/>
            </p:nvSpPr>
            <p:spPr>
              <a:xfrm>
                <a:off x="6032160" y="5591520"/>
                <a:ext cx="1008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来钱慢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得钱多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3" name="TextBox 87"/>
            <p:cNvSpPr/>
            <p:nvPr/>
          </p:nvSpPr>
          <p:spPr>
            <a:xfrm>
              <a:off x="1285920" y="5483160"/>
              <a:ext cx="1008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*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17"/>
          <p:cNvSpPr/>
          <p:nvPr/>
        </p:nvSpPr>
        <p:spPr>
          <a:xfrm>
            <a:off x="1547640" y="333360"/>
            <a:ext cx="32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曲贴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yperbolic Discou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8"/>
          <p:cNvSpPr/>
          <p:nvPr/>
        </p:nvSpPr>
        <p:spPr>
          <a:xfrm>
            <a:off x="684360" y="1773360"/>
            <a:ext cx="80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趣的是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可以使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曲贴现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来解释很多事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1204920" y="5661000"/>
            <a:ext cx="67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人们决策的不是利益，而是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时间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14240" y="2695680"/>
            <a:ext cx="8286840" cy="2448000"/>
            <a:chOff x="714240" y="2695680"/>
            <a:chExt cx="8286840" cy="2448000"/>
          </a:xfrm>
        </p:grpSpPr>
        <p:grpSp>
          <p:nvGrpSpPr>
            <p:cNvPr id="540" name=""/>
            <p:cNvGrpSpPr/>
            <p:nvPr/>
          </p:nvGrpSpPr>
          <p:grpSpPr>
            <a:xfrm>
              <a:off x="714240" y="2695680"/>
              <a:ext cx="2535480" cy="2448000"/>
              <a:chOff x="714240" y="2695680"/>
              <a:chExt cx="2535480" cy="2448000"/>
            </a:xfrm>
          </p:grpSpPr>
          <p:sp>
            <p:nvSpPr>
              <p:cNvPr id="541" name="圆角矩形 13"/>
              <p:cNvSpPr/>
              <p:nvPr/>
            </p:nvSpPr>
            <p:spPr>
              <a:xfrm>
                <a:off x="1295280" y="2695680"/>
                <a:ext cx="1396080" cy="406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拖延症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圆角矩形 26"/>
              <p:cNvSpPr/>
              <p:nvPr/>
            </p:nvSpPr>
            <p:spPr>
              <a:xfrm>
                <a:off x="714240" y="3241080"/>
                <a:ext cx="2535480" cy="432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当下放下工作的快乐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圆角矩形 27"/>
              <p:cNvSpPr/>
              <p:nvPr/>
            </p:nvSpPr>
            <p:spPr>
              <a:xfrm>
                <a:off x="714240" y="4711680"/>
                <a:ext cx="2535480" cy="432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以后弥补进度的痛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燕尾形 3"/>
              <p:cNvSpPr/>
              <p:nvPr/>
            </p:nvSpPr>
            <p:spPr>
              <a:xfrm rot="5400000">
                <a:off x="1650240" y="3746880"/>
                <a:ext cx="738000" cy="89064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890640"/>
                  <a:gd name="textAreaBottom" fmla="*/ 891000 h 89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cd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3589920" y="2695680"/>
              <a:ext cx="2535480" cy="2448000"/>
              <a:chOff x="3589920" y="2695680"/>
              <a:chExt cx="2535480" cy="2448000"/>
            </a:xfrm>
          </p:grpSpPr>
          <p:sp>
            <p:nvSpPr>
              <p:cNvPr id="546" name="圆角矩形 18"/>
              <p:cNvSpPr/>
              <p:nvPr/>
            </p:nvSpPr>
            <p:spPr>
              <a:xfrm>
                <a:off x="4159440" y="2695680"/>
                <a:ext cx="1396080" cy="406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烟瘾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圆角矩形 22"/>
              <p:cNvSpPr/>
              <p:nvPr/>
            </p:nvSpPr>
            <p:spPr>
              <a:xfrm>
                <a:off x="3589920" y="3241080"/>
                <a:ext cx="2535480" cy="432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当下抽烟的快感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圆角矩形 24"/>
              <p:cNvSpPr/>
              <p:nvPr/>
            </p:nvSpPr>
            <p:spPr>
              <a:xfrm>
                <a:off x="3589920" y="4711680"/>
                <a:ext cx="2535480" cy="432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以后得肺癌的痛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燕尾形 28"/>
              <p:cNvSpPr/>
              <p:nvPr/>
            </p:nvSpPr>
            <p:spPr>
              <a:xfrm rot="5400000">
                <a:off x="4488480" y="3737160"/>
                <a:ext cx="738000" cy="89064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890640"/>
                  <a:gd name="textAreaBottom" fmla="*/ 891000 h 89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cd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6465600" y="2695680"/>
              <a:ext cx="2535480" cy="2448000"/>
              <a:chOff x="6465600" y="2695680"/>
              <a:chExt cx="2535480" cy="2448000"/>
            </a:xfrm>
          </p:grpSpPr>
          <p:sp>
            <p:nvSpPr>
              <p:cNvPr id="551" name="圆角矩形 30"/>
              <p:cNvSpPr/>
              <p:nvPr/>
            </p:nvSpPr>
            <p:spPr>
              <a:xfrm>
                <a:off x="7035120" y="2695680"/>
                <a:ext cx="1396080" cy="406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购物狂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圆角矩形 31"/>
              <p:cNvSpPr/>
              <p:nvPr/>
            </p:nvSpPr>
            <p:spPr>
              <a:xfrm>
                <a:off x="6465600" y="3241080"/>
                <a:ext cx="2535480" cy="432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当下刷爆信用卡的快感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圆角矩形 32"/>
              <p:cNvSpPr/>
              <p:nvPr/>
            </p:nvSpPr>
            <p:spPr>
              <a:xfrm>
                <a:off x="6465600" y="4711680"/>
                <a:ext cx="2535480" cy="432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以后成为卡奴的痛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燕尾形 33"/>
              <p:cNvSpPr/>
              <p:nvPr/>
            </p:nvSpPr>
            <p:spPr>
              <a:xfrm rot="5400000">
                <a:off x="7364160" y="3737160"/>
                <a:ext cx="738000" cy="89064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890640"/>
                  <a:gd name="textAreaBottom" fmla="*/ 891000 h 89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cd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17"/>
          <p:cNvSpPr/>
          <p:nvPr/>
        </p:nvSpPr>
        <p:spPr>
          <a:xfrm>
            <a:off x="1547640" y="333360"/>
            <a:ext cx="32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承诺升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Escalation of Commi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3"/>
          <p:cNvSpPr/>
          <p:nvPr/>
        </p:nvSpPr>
        <p:spPr>
          <a:xfrm>
            <a:off x="684360" y="177336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承诺升级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继续错误的代价由别人承担，而承认错误的代价由自己承担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071720" y="2857680"/>
            <a:ext cx="7358040" cy="1785600"/>
            <a:chOff x="1071720" y="2857680"/>
            <a:chExt cx="7358040" cy="1785600"/>
          </a:xfrm>
        </p:grpSpPr>
        <p:sp>
          <p:nvSpPr>
            <p:cNvPr id="559" name="圆角矩形 4"/>
            <p:cNvSpPr/>
            <p:nvPr/>
          </p:nvSpPr>
          <p:spPr>
            <a:xfrm>
              <a:off x="1071720" y="3607560"/>
              <a:ext cx="1285920" cy="357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ac09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出决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圆角矩形 9"/>
            <p:cNvSpPr/>
            <p:nvPr/>
          </p:nvSpPr>
          <p:spPr>
            <a:xfrm>
              <a:off x="2928960" y="3607560"/>
              <a:ext cx="1785960" cy="357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ac09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现决策失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圆角矩形 10"/>
            <p:cNvSpPr/>
            <p:nvPr/>
          </p:nvSpPr>
          <p:spPr>
            <a:xfrm>
              <a:off x="5643720" y="4286160"/>
              <a:ext cx="1285920" cy="357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adadad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停止实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圆角矩形 11"/>
            <p:cNvSpPr/>
            <p:nvPr/>
          </p:nvSpPr>
          <p:spPr>
            <a:xfrm>
              <a:off x="5643720" y="2857680"/>
              <a:ext cx="2786040" cy="357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继续实行，并追加承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接连接符 13"/>
            <p:cNvSpPr/>
            <p:nvPr/>
          </p:nvSpPr>
          <p:spPr>
            <a:xfrm>
              <a:off x="2357640" y="3786120"/>
              <a:ext cx="571320" cy="1440"/>
            </a:xfrm>
            <a:prstGeom prst="line">
              <a:avLst/>
            </a:prstGeom>
            <a:ln w="28440">
              <a:solidFill>
                <a:srgbClr val="fdeada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64" name="曲线连接符 15"/>
            <p:cNvCxnSpPr>
              <a:stCxn id="560" idx="3"/>
              <a:endCxn id="561" idx="1"/>
            </p:cNvCxnSpPr>
            <p:nvPr/>
          </p:nvCxnSpPr>
          <p:spPr>
            <a:xfrm>
              <a:off x="4714560" y="3785760"/>
              <a:ext cx="929160" cy="6793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adadad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565" name="曲线连接符 20"/>
            <p:cNvCxnSpPr>
              <a:stCxn id="560" idx="3"/>
              <a:endCxn id="562" idx="1"/>
            </p:cNvCxnSpPr>
            <p:nvPr/>
          </p:nvCxnSpPr>
          <p:spPr>
            <a:xfrm flipV="1">
              <a:off x="4714560" y="3035520"/>
              <a:ext cx="929160" cy="7506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c00000"/>
              </a:solidFill>
              <a:miter/>
              <a:headEnd len="med" type="oval" w="med"/>
              <a:tailEnd len="med" type="triangle" w="med"/>
            </a:ln>
          </p:spPr>
        </p:cxnSp>
      </p:grpSp>
      <p:sp>
        <p:nvSpPr>
          <p:cNvPr id="566" name="TextBox 24"/>
          <p:cNvSpPr/>
          <p:nvPr/>
        </p:nvSpPr>
        <p:spPr>
          <a:xfrm>
            <a:off x="1039680" y="5357880"/>
            <a:ext cx="75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要勇于承认错误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623960" y="1428840"/>
            <a:ext cx="2448000" cy="792000"/>
            <a:chOff x="1623960" y="1428840"/>
            <a:chExt cx="2448000" cy="792000"/>
          </a:xfrm>
        </p:grpSpPr>
        <p:sp>
          <p:nvSpPr>
            <p:cNvPr id="51" name="单圆角矩形 4"/>
            <p:cNvSpPr/>
            <p:nvPr/>
          </p:nvSpPr>
          <p:spPr>
            <a:xfrm>
              <a:off x="2127960" y="1572840"/>
              <a:ext cx="1944000" cy="50400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赌徒谬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椭圆 1"/>
            <p:cNvSpPr/>
            <p:nvPr/>
          </p:nvSpPr>
          <p:spPr>
            <a:xfrm>
              <a:off x="1623960" y="1428840"/>
              <a:ext cx="792000" cy="792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623960" y="2533680"/>
            <a:ext cx="2448000" cy="790560"/>
            <a:chOff x="1623960" y="2533680"/>
            <a:chExt cx="2448000" cy="790560"/>
          </a:xfrm>
        </p:grpSpPr>
        <p:sp>
          <p:nvSpPr>
            <p:cNvPr id="54" name="单圆角矩形 7"/>
            <p:cNvSpPr/>
            <p:nvPr/>
          </p:nvSpPr>
          <p:spPr>
            <a:xfrm>
              <a:off x="2127960" y="2677320"/>
              <a:ext cx="1944000" cy="50328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霍桑效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椭圆 8"/>
            <p:cNvSpPr/>
            <p:nvPr/>
          </p:nvSpPr>
          <p:spPr>
            <a:xfrm>
              <a:off x="1623960" y="2533680"/>
              <a:ext cx="792000" cy="79056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623960" y="3637080"/>
            <a:ext cx="2448000" cy="792000"/>
            <a:chOff x="1623960" y="3637080"/>
            <a:chExt cx="2448000" cy="792000"/>
          </a:xfrm>
        </p:grpSpPr>
        <p:sp>
          <p:nvSpPr>
            <p:cNvPr id="57" name="单圆角矩形 10"/>
            <p:cNvSpPr/>
            <p:nvPr/>
          </p:nvSpPr>
          <p:spPr>
            <a:xfrm>
              <a:off x="2127960" y="3781080"/>
              <a:ext cx="1944000" cy="50400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臆想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11"/>
            <p:cNvSpPr/>
            <p:nvPr/>
          </p:nvSpPr>
          <p:spPr>
            <a:xfrm>
              <a:off x="1623960" y="3637080"/>
              <a:ext cx="792000" cy="792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143680" y="3605040"/>
            <a:ext cx="2447280" cy="790920"/>
            <a:chOff x="5143680" y="3605040"/>
            <a:chExt cx="2447280" cy="790920"/>
          </a:xfrm>
        </p:grpSpPr>
        <p:sp>
          <p:nvSpPr>
            <p:cNvPr id="60" name="单圆角矩形 22"/>
            <p:cNvSpPr/>
            <p:nvPr/>
          </p:nvSpPr>
          <p:spPr>
            <a:xfrm>
              <a:off x="5647320" y="3748680"/>
              <a:ext cx="1943640" cy="50328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双曲贴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椭圆 23"/>
            <p:cNvSpPr/>
            <p:nvPr/>
          </p:nvSpPr>
          <p:spPr>
            <a:xfrm>
              <a:off x="5143680" y="3605040"/>
              <a:ext cx="791640" cy="7909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八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143680" y="4692600"/>
            <a:ext cx="2447280" cy="792360"/>
            <a:chOff x="5143680" y="4692600"/>
            <a:chExt cx="2447280" cy="792360"/>
          </a:xfrm>
        </p:grpSpPr>
        <p:sp>
          <p:nvSpPr>
            <p:cNvPr id="63" name="单圆角矩形 25"/>
            <p:cNvSpPr/>
            <p:nvPr/>
          </p:nvSpPr>
          <p:spPr>
            <a:xfrm>
              <a:off x="5647320" y="4836600"/>
              <a:ext cx="1943640" cy="50436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承诺升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椭圆 26"/>
            <p:cNvSpPr/>
            <p:nvPr/>
          </p:nvSpPr>
          <p:spPr>
            <a:xfrm>
              <a:off x="5143680" y="4692600"/>
              <a:ext cx="791640" cy="79236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九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43680" y="5780160"/>
            <a:ext cx="2447280" cy="792000"/>
            <a:chOff x="5143680" y="5780160"/>
            <a:chExt cx="2447280" cy="792000"/>
          </a:xfrm>
        </p:grpSpPr>
        <p:sp>
          <p:nvSpPr>
            <p:cNvPr id="66" name="单圆角矩形 28"/>
            <p:cNvSpPr/>
            <p:nvPr/>
          </p:nvSpPr>
          <p:spPr>
            <a:xfrm>
              <a:off x="5647320" y="5924160"/>
              <a:ext cx="1943640" cy="50400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安慰剂效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椭圆 29"/>
            <p:cNvSpPr/>
            <p:nvPr/>
          </p:nvSpPr>
          <p:spPr>
            <a:xfrm>
              <a:off x="5143680" y="5780160"/>
              <a:ext cx="791640" cy="792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623960" y="4708440"/>
            <a:ext cx="2448000" cy="792360"/>
            <a:chOff x="1623960" y="4708440"/>
            <a:chExt cx="2448000" cy="792360"/>
          </a:xfrm>
        </p:grpSpPr>
        <p:sp>
          <p:nvSpPr>
            <p:cNvPr id="69" name="单圆角矩形 13"/>
            <p:cNvSpPr/>
            <p:nvPr/>
          </p:nvSpPr>
          <p:spPr>
            <a:xfrm>
              <a:off x="2127960" y="4852440"/>
              <a:ext cx="1944000" cy="50436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验预言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14"/>
            <p:cNvSpPr/>
            <p:nvPr/>
          </p:nvSpPr>
          <p:spPr>
            <a:xfrm>
              <a:off x="1623960" y="4708440"/>
              <a:ext cx="792000" cy="79236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143680" y="2516040"/>
            <a:ext cx="2447280" cy="792360"/>
            <a:chOff x="5143680" y="2516040"/>
            <a:chExt cx="2447280" cy="792360"/>
          </a:xfrm>
        </p:grpSpPr>
        <p:sp>
          <p:nvSpPr>
            <p:cNvPr id="72" name="单圆角矩形 19"/>
            <p:cNvSpPr/>
            <p:nvPr/>
          </p:nvSpPr>
          <p:spPr>
            <a:xfrm>
              <a:off x="5647320" y="2660040"/>
              <a:ext cx="1943640" cy="50436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逆反心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椭圆 20"/>
            <p:cNvSpPr/>
            <p:nvPr/>
          </p:nvSpPr>
          <p:spPr>
            <a:xfrm>
              <a:off x="5143680" y="2516040"/>
              <a:ext cx="791640" cy="79236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623960" y="5780160"/>
            <a:ext cx="2448000" cy="792000"/>
            <a:chOff x="1623960" y="5780160"/>
            <a:chExt cx="2448000" cy="792000"/>
          </a:xfrm>
        </p:grpSpPr>
        <p:sp>
          <p:nvSpPr>
            <p:cNvPr id="75" name="单圆角矩形 32"/>
            <p:cNvSpPr/>
            <p:nvPr/>
          </p:nvSpPr>
          <p:spPr>
            <a:xfrm>
              <a:off x="2127960" y="5924160"/>
              <a:ext cx="1944000" cy="50400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从众效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椭圆 33"/>
            <p:cNvSpPr/>
            <p:nvPr/>
          </p:nvSpPr>
          <p:spPr>
            <a:xfrm>
              <a:off x="1623960" y="5780160"/>
              <a:ext cx="792000" cy="792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143680" y="1428840"/>
            <a:ext cx="2447280" cy="792000"/>
            <a:chOff x="5143680" y="1428840"/>
            <a:chExt cx="2447280" cy="792000"/>
          </a:xfrm>
        </p:grpSpPr>
        <p:sp>
          <p:nvSpPr>
            <p:cNvPr id="78" name="单圆角矩形 41"/>
            <p:cNvSpPr/>
            <p:nvPr/>
          </p:nvSpPr>
          <p:spPr>
            <a:xfrm>
              <a:off x="5647320" y="1572840"/>
              <a:ext cx="1943640" cy="504000"/>
            </a:xfrm>
            <a:prstGeom prst="pie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晕轮效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椭圆 42"/>
            <p:cNvSpPr/>
            <p:nvPr/>
          </p:nvSpPr>
          <p:spPr>
            <a:xfrm>
              <a:off x="5143680" y="1428840"/>
              <a:ext cx="791640" cy="792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619280" y="765000"/>
            <a:ext cx="5905440" cy="459720"/>
            <a:chOff x="1619280" y="765000"/>
            <a:chExt cx="5905440" cy="459720"/>
          </a:xfrm>
        </p:grpSpPr>
        <p:sp>
          <p:nvSpPr>
            <p:cNvPr id="81" name="直接连接符 50"/>
            <p:cNvSpPr/>
            <p:nvPr/>
          </p:nvSpPr>
          <p:spPr>
            <a:xfrm>
              <a:off x="1619280" y="1207080"/>
              <a:ext cx="5905440" cy="0"/>
            </a:xfrm>
            <a:prstGeom prst="line">
              <a:avLst/>
            </a:prstGeom>
            <a:ln w="28440">
              <a:solidFill>
                <a:srgbClr val="ffc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矩形 51"/>
            <p:cNvSpPr/>
            <p:nvPr/>
          </p:nvSpPr>
          <p:spPr>
            <a:xfrm>
              <a:off x="1871280" y="765000"/>
              <a:ext cx="540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人类思维的十大误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7"/>
          <p:cNvSpPr/>
          <p:nvPr/>
        </p:nvSpPr>
        <p:spPr>
          <a:xfrm>
            <a:off x="1547640" y="333360"/>
            <a:ext cx="32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承诺升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Escalation of Commi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14"/>
          <p:cNvSpPr/>
          <p:nvPr/>
        </p:nvSpPr>
        <p:spPr>
          <a:xfrm>
            <a:off x="684360" y="1773360"/>
            <a:ext cx="78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：为什么并不适合的一对男女往往能走完一生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946080" y="2386080"/>
            <a:ext cx="7251840" cy="3186000"/>
            <a:chOff x="946080" y="2386080"/>
            <a:chExt cx="7251840" cy="3186000"/>
          </a:xfrm>
        </p:grpSpPr>
        <p:sp>
          <p:nvSpPr>
            <p:cNvPr id="571" name="圆角矩形 18"/>
            <p:cNvSpPr/>
            <p:nvPr/>
          </p:nvSpPr>
          <p:spPr>
            <a:xfrm>
              <a:off x="981720" y="2571840"/>
              <a:ext cx="2357640" cy="642960"/>
            </a:xfrm>
            <a:prstGeom prst="roundRect">
              <a:avLst>
                <a:gd name="adj" fmla="val 16667"/>
              </a:avLst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那么久，不好意思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圆角矩形 19"/>
            <p:cNvSpPr/>
            <p:nvPr/>
          </p:nvSpPr>
          <p:spPr>
            <a:xfrm>
              <a:off x="1231560" y="3750480"/>
              <a:ext cx="2357640" cy="642960"/>
            </a:xfrm>
            <a:prstGeom prst="roundRect">
              <a:avLst>
                <a:gd name="adj" fmla="val 16667"/>
              </a:avLst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了船不能不负责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圆角矩形 21"/>
            <p:cNvSpPr/>
            <p:nvPr/>
          </p:nvSpPr>
          <p:spPr>
            <a:xfrm>
              <a:off x="1517400" y="4929120"/>
              <a:ext cx="2357640" cy="642960"/>
            </a:xfrm>
            <a:prstGeom prst="roundRect">
              <a:avLst>
                <a:gd name="adj" fmla="val 16667"/>
              </a:avLst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辈子就凑合过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圆角矩形 28"/>
            <p:cNvSpPr/>
            <p:nvPr/>
          </p:nvSpPr>
          <p:spPr>
            <a:xfrm>
              <a:off x="5840280" y="2571840"/>
              <a:ext cx="2357640" cy="642960"/>
            </a:xfrm>
            <a:prstGeom prst="roundRect">
              <a:avLst>
                <a:gd name="adj" fmla="val 16667"/>
              </a:avLst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男人不都是那样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圆角矩形 29"/>
            <p:cNvSpPr/>
            <p:nvPr/>
          </p:nvSpPr>
          <p:spPr>
            <a:xfrm>
              <a:off x="5590080" y="3750480"/>
              <a:ext cx="2357640" cy="642960"/>
            </a:xfrm>
            <a:prstGeom prst="roundRect">
              <a:avLst>
                <a:gd name="adj" fmla="val 16667"/>
              </a:avLst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又不是黄花闺女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圆角矩形 30"/>
            <p:cNvSpPr/>
            <p:nvPr/>
          </p:nvSpPr>
          <p:spPr>
            <a:xfrm>
              <a:off x="5304240" y="4929120"/>
              <a:ext cx="2357640" cy="642960"/>
            </a:xfrm>
            <a:prstGeom prst="roundRect">
              <a:avLst>
                <a:gd name="adj" fmla="val 16667"/>
              </a:avLst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辈子就凑合过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直接连接符 33"/>
            <p:cNvSpPr/>
            <p:nvPr/>
          </p:nvSpPr>
          <p:spPr>
            <a:xfrm>
              <a:off x="3339360" y="2893320"/>
              <a:ext cx="2500560" cy="1440"/>
            </a:xfrm>
            <a:prstGeom prst="line">
              <a:avLst/>
            </a:prstGeom>
            <a:ln w="7632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TextBox 34"/>
            <p:cNvSpPr/>
            <p:nvPr/>
          </p:nvSpPr>
          <p:spPr>
            <a:xfrm>
              <a:off x="3803760" y="238608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相识恋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TextBox 35"/>
            <p:cNvSpPr/>
            <p:nvPr/>
          </p:nvSpPr>
          <p:spPr>
            <a:xfrm>
              <a:off x="3803760" y="360036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结婚生子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36"/>
            <p:cNvSpPr/>
            <p:nvPr/>
          </p:nvSpPr>
          <p:spPr>
            <a:xfrm>
              <a:off x="3589560" y="4071960"/>
              <a:ext cx="2000520" cy="1440"/>
            </a:xfrm>
            <a:prstGeom prst="line">
              <a:avLst/>
            </a:prstGeom>
            <a:ln w="7632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40"/>
            <p:cNvSpPr/>
            <p:nvPr/>
          </p:nvSpPr>
          <p:spPr>
            <a:xfrm>
              <a:off x="3875400" y="5250600"/>
              <a:ext cx="1428840" cy="1440"/>
            </a:xfrm>
            <a:prstGeom prst="line">
              <a:avLst/>
            </a:prstGeom>
            <a:ln w="7632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TextBox 43"/>
            <p:cNvSpPr/>
            <p:nvPr/>
          </p:nvSpPr>
          <p:spPr>
            <a:xfrm>
              <a:off x="3803760" y="481500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中年以后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直接连接符 46"/>
            <p:cNvSpPr/>
            <p:nvPr/>
          </p:nvSpPr>
          <p:spPr>
            <a:xfrm>
              <a:off x="2160720" y="3214800"/>
              <a:ext cx="249840" cy="53568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直接连接符 47"/>
            <p:cNvSpPr/>
            <p:nvPr/>
          </p:nvSpPr>
          <p:spPr>
            <a:xfrm>
              <a:off x="2409840" y="4393440"/>
              <a:ext cx="285480" cy="53568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50"/>
            <p:cNvSpPr/>
            <p:nvPr/>
          </p:nvSpPr>
          <p:spPr>
            <a:xfrm flipH="1">
              <a:off x="6769080" y="3214800"/>
              <a:ext cx="249840" cy="53568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直接连接符 53"/>
            <p:cNvSpPr/>
            <p:nvPr/>
          </p:nvSpPr>
          <p:spPr>
            <a:xfrm flipH="1">
              <a:off x="6482880" y="4393440"/>
              <a:ext cx="285480" cy="53568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TextBox 56"/>
            <p:cNvSpPr/>
            <p:nvPr/>
          </p:nvSpPr>
          <p:spPr>
            <a:xfrm>
              <a:off x="946080" y="3357720"/>
              <a:ext cx="157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承诺升级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TextBox 57"/>
            <p:cNvSpPr/>
            <p:nvPr/>
          </p:nvSpPr>
          <p:spPr>
            <a:xfrm>
              <a:off x="1160280" y="4500720"/>
              <a:ext cx="157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承诺升级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TextBox 58"/>
            <p:cNvSpPr/>
            <p:nvPr/>
          </p:nvSpPr>
          <p:spPr>
            <a:xfrm>
              <a:off x="5518800" y="3357720"/>
              <a:ext cx="157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承诺升级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TextBox 59"/>
            <p:cNvSpPr/>
            <p:nvPr/>
          </p:nvSpPr>
          <p:spPr>
            <a:xfrm>
              <a:off x="5232960" y="4500720"/>
              <a:ext cx="157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承诺升级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1" name="TextBox 60"/>
          <p:cNvSpPr/>
          <p:nvPr/>
        </p:nvSpPr>
        <p:spPr>
          <a:xfrm>
            <a:off x="928800" y="5857920"/>
            <a:ext cx="75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婚姻就是个错，长久的婚姻就是将错就错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17"/>
          <p:cNvSpPr/>
          <p:nvPr/>
        </p:nvSpPr>
        <p:spPr>
          <a:xfrm>
            <a:off x="1547640" y="33336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慰剂效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Placebo 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圆角矩形 3"/>
          <p:cNvSpPr/>
          <p:nvPr/>
        </p:nvSpPr>
        <p:spPr>
          <a:xfrm>
            <a:off x="758880" y="3176640"/>
            <a:ext cx="15984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A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镇痛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圆角矩形 3"/>
          <p:cNvSpPr/>
          <p:nvPr/>
        </p:nvSpPr>
        <p:spPr>
          <a:xfrm>
            <a:off x="2657520" y="3176640"/>
            <a:ext cx="15555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B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维生素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圆角矩形 3"/>
          <p:cNvSpPr/>
          <p:nvPr/>
        </p:nvSpPr>
        <p:spPr>
          <a:xfrm>
            <a:off x="4513320" y="3176640"/>
            <a:ext cx="18302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C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灸治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圆角矩形 3"/>
          <p:cNvSpPr/>
          <p:nvPr/>
        </p:nvSpPr>
        <p:spPr>
          <a:xfrm>
            <a:off x="6643800" y="3176640"/>
            <a:ext cx="2071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D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贴张创可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684360" y="1773360"/>
            <a:ext cx="8173800" cy="4687560"/>
            <a:chOff x="684360" y="1773360"/>
            <a:chExt cx="8173800" cy="4687560"/>
          </a:xfrm>
        </p:grpSpPr>
        <p:sp>
          <p:nvSpPr>
            <p:cNvPr id="599" name="矩形 28"/>
            <p:cNvSpPr/>
            <p:nvPr/>
          </p:nvSpPr>
          <p:spPr>
            <a:xfrm>
              <a:off x="684360" y="1773360"/>
              <a:ext cx="79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24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假如你忍受着长期的偏头痛，医生给你开出以下四种疗法，你觉得何者更有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矩形 29"/>
            <p:cNvSpPr/>
            <p:nvPr/>
          </p:nvSpPr>
          <p:spPr>
            <a:xfrm>
              <a:off x="4786200" y="6001200"/>
              <a:ext cx="407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*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假设你不知道哪些是真正有效的药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17"/>
          <p:cNvSpPr/>
          <p:nvPr/>
        </p:nvSpPr>
        <p:spPr>
          <a:xfrm>
            <a:off x="1547640" y="33336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慰剂效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Placebo 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178"/>
          <p:cNvSpPr/>
          <p:nvPr/>
        </p:nvSpPr>
        <p:spPr>
          <a:xfrm>
            <a:off x="684360" y="1773360"/>
            <a:ext cx="43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实上是四种方法效果一样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813200" y="3286080"/>
            <a:ext cx="1081080" cy="1079640"/>
            <a:chOff x="4813200" y="3286080"/>
            <a:chExt cx="1081080" cy="1079640"/>
          </a:xfrm>
        </p:grpSpPr>
        <p:pic>
          <p:nvPicPr>
            <p:cNvPr id="605" name="组合 105" descr=""/>
            <p:cNvPicPr/>
            <p:nvPr/>
          </p:nvPicPr>
          <p:blipFill>
            <a:blip r:embed="rId1"/>
            <a:stretch/>
          </p:blipFill>
          <p:spPr>
            <a:xfrm>
              <a:off x="4813200" y="3286080"/>
              <a:ext cx="108108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组合 106" descr=""/>
            <p:cNvPicPr/>
            <p:nvPr/>
          </p:nvPicPr>
          <p:blipFill>
            <a:blip r:embed="rId2"/>
            <a:stretch/>
          </p:blipFill>
          <p:spPr>
            <a:xfrm>
              <a:off x="4813200" y="3515040"/>
              <a:ext cx="108108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组合 107" descr=""/>
            <p:cNvPicPr/>
            <p:nvPr/>
          </p:nvPicPr>
          <p:blipFill>
            <a:blip r:embed="rId3"/>
            <a:stretch/>
          </p:blipFill>
          <p:spPr>
            <a:xfrm>
              <a:off x="4813200" y="3750480"/>
              <a:ext cx="108108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组合 108" descr=""/>
            <p:cNvPicPr/>
            <p:nvPr/>
          </p:nvPicPr>
          <p:blipFill>
            <a:blip r:embed="rId4"/>
            <a:stretch/>
          </p:blipFill>
          <p:spPr>
            <a:xfrm>
              <a:off x="4813200" y="3979800"/>
              <a:ext cx="108108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组合 109" descr=""/>
            <p:cNvPicPr/>
            <p:nvPr/>
          </p:nvPicPr>
          <p:blipFill>
            <a:blip r:embed="rId5"/>
            <a:stretch/>
          </p:blipFill>
          <p:spPr>
            <a:xfrm>
              <a:off x="4813200" y="4215240"/>
              <a:ext cx="1081080" cy="15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"/>
          <p:cNvGrpSpPr/>
          <p:nvPr/>
        </p:nvGrpSpPr>
        <p:grpSpPr>
          <a:xfrm>
            <a:off x="7064280" y="3286080"/>
            <a:ext cx="1079640" cy="1079640"/>
            <a:chOff x="7064280" y="3286080"/>
            <a:chExt cx="1079640" cy="1079640"/>
          </a:xfrm>
        </p:grpSpPr>
        <p:pic>
          <p:nvPicPr>
            <p:cNvPr id="611" name="组合 136" descr=""/>
            <p:cNvPicPr/>
            <p:nvPr/>
          </p:nvPicPr>
          <p:blipFill>
            <a:blip r:embed="rId6"/>
            <a:stretch/>
          </p:blipFill>
          <p:spPr>
            <a:xfrm>
              <a:off x="7064280" y="3286080"/>
              <a:ext cx="107964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组合 137" descr=""/>
            <p:cNvPicPr/>
            <p:nvPr/>
          </p:nvPicPr>
          <p:blipFill>
            <a:blip r:embed="rId7"/>
            <a:stretch/>
          </p:blipFill>
          <p:spPr>
            <a:xfrm>
              <a:off x="7064280" y="3515040"/>
              <a:ext cx="107964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组合 138" descr=""/>
            <p:cNvPicPr/>
            <p:nvPr/>
          </p:nvPicPr>
          <p:blipFill>
            <a:blip r:embed="rId8"/>
            <a:stretch/>
          </p:blipFill>
          <p:spPr>
            <a:xfrm>
              <a:off x="7064280" y="3750480"/>
              <a:ext cx="107964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组合 139" descr=""/>
            <p:cNvPicPr/>
            <p:nvPr/>
          </p:nvPicPr>
          <p:blipFill>
            <a:blip r:embed="rId9"/>
            <a:stretch/>
          </p:blipFill>
          <p:spPr>
            <a:xfrm>
              <a:off x="7064280" y="3979800"/>
              <a:ext cx="107964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组合 140" descr=""/>
            <p:cNvPicPr/>
            <p:nvPr/>
          </p:nvPicPr>
          <p:blipFill>
            <a:blip r:embed="rId10"/>
            <a:stretch/>
          </p:blipFill>
          <p:spPr>
            <a:xfrm>
              <a:off x="7064280" y="4215240"/>
              <a:ext cx="1079640" cy="15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6" name=""/>
          <p:cNvGrpSpPr/>
          <p:nvPr/>
        </p:nvGrpSpPr>
        <p:grpSpPr>
          <a:xfrm>
            <a:off x="2820960" y="3286080"/>
            <a:ext cx="1079640" cy="1079640"/>
            <a:chOff x="2820960" y="3286080"/>
            <a:chExt cx="1079640" cy="1079640"/>
          </a:xfrm>
        </p:grpSpPr>
        <p:pic>
          <p:nvPicPr>
            <p:cNvPr id="617" name="组合 74" descr=""/>
            <p:cNvPicPr/>
            <p:nvPr/>
          </p:nvPicPr>
          <p:blipFill>
            <a:blip r:embed="rId11"/>
            <a:stretch/>
          </p:blipFill>
          <p:spPr>
            <a:xfrm>
              <a:off x="2820960" y="3286080"/>
              <a:ext cx="107964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组合 75" descr=""/>
            <p:cNvPicPr/>
            <p:nvPr/>
          </p:nvPicPr>
          <p:blipFill>
            <a:blip r:embed="rId12"/>
            <a:stretch/>
          </p:blipFill>
          <p:spPr>
            <a:xfrm>
              <a:off x="2820960" y="3515040"/>
              <a:ext cx="107964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组合 76" descr=""/>
            <p:cNvPicPr/>
            <p:nvPr/>
          </p:nvPicPr>
          <p:blipFill>
            <a:blip r:embed="rId13"/>
            <a:stretch/>
          </p:blipFill>
          <p:spPr>
            <a:xfrm>
              <a:off x="2820960" y="3750480"/>
              <a:ext cx="107964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组合 77" descr=""/>
            <p:cNvPicPr/>
            <p:nvPr/>
          </p:nvPicPr>
          <p:blipFill>
            <a:blip r:embed="rId14"/>
            <a:stretch/>
          </p:blipFill>
          <p:spPr>
            <a:xfrm>
              <a:off x="2820960" y="3979800"/>
              <a:ext cx="107964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组合 78" descr=""/>
            <p:cNvPicPr/>
            <p:nvPr/>
          </p:nvPicPr>
          <p:blipFill>
            <a:blip r:embed="rId15"/>
            <a:stretch/>
          </p:blipFill>
          <p:spPr>
            <a:xfrm>
              <a:off x="2820960" y="4215240"/>
              <a:ext cx="1079640" cy="15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2" name=""/>
          <p:cNvGrpSpPr/>
          <p:nvPr/>
        </p:nvGrpSpPr>
        <p:grpSpPr>
          <a:xfrm>
            <a:off x="942840" y="3286080"/>
            <a:ext cx="1081080" cy="1079640"/>
            <a:chOff x="942840" y="3286080"/>
            <a:chExt cx="1081080" cy="1079640"/>
          </a:xfrm>
        </p:grpSpPr>
        <p:pic>
          <p:nvPicPr>
            <p:cNvPr id="623" name="组合 47" descr=""/>
            <p:cNvPicPr/>
            <p:nvPr/>
          </p:nvPicPr>
          <p:blipFill>
            <a:blip r:embed="rId16"/>
            <a:stretch/>
          </p:blipFill>
          <p:spPr>
            <a:xfrm>
              <a:off x="942840" y="3286080"/>
              <a:ext cx="108108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组合 48" descr=""/>
            <p:cNvPicPr/>
            <p:nvPr/>
          </p:nvPicPr>
          <p:blipFill>
            <a:blip r:embed="rId17"/>
            <a:stretch/>
          </p:blipFill>
          <p:spPr>
            <a:xfrm>
              <a:off x="942840" y="3515040"/>
              <a:ext cx="108108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组合 54" descr=""/>
            <p:cNvPicPr/>
            <p:nvPr/>
          </p:nvPicPr>
          <p:blipFill>
            <a:blip r:embed="rId18"/>
            <a:stretch/>
          </p:blipFill>
          <p:spPr>
            <a:xfrm>
              <a:off x="942840" y="3750480"/>
              <a:ext cx="108108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组合 60" descr=""/>
            <p:cNvPicPr/>
            <p:nvPr/>
          </p:nvPicPr>
          <p:blipFill>
            <a:blip r:embed="rId19"/>
            <a:stretch/>
          </p:blipFill>
          <p:spPr>
            <a:xfrm>
              <a:off x="942840" y="3979800"/>
              <a:ext cx="108108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组合 66" descr=""/>
            <p:cNvPicPr/>
            <p:nvPr/>
          </p:nvPicPr>
          <p:blipFill>
            <a:blip r:embed="rId20"/>
            <a:stretch/>
          </p:blipFill>
          <p:spPr>
            <a:xfrm>
              <a:off x="942840" y="4215240"/>
              <a:ext cx="1081080" cy="15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圆角矩形 3"/>
          <p:cNvSpPr/>
          <p:nvPr/>
        </p:nvSpPr>
        <p:spPr>
          <a:xfrm>
            <a:off x="684360" y="2571840"/>
            <a:ext cx="15984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A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镇痛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圆角矩形 3"/>
          <p:cNvSpPr/>
          <p:nvPr/>
        </p:nvSpPr>
        <p:spPr>
          <a:xfrm>
            <a:off x="2583000" y="2571840"/>
            <a:ext cx="15555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B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维生素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圆角矩形 3"/>
          <p:cNvSpPr/>
          <p:nvPr/>
        </p:nvSpPr>
        <p:spPr>
          <a:xfrm>
            <a:off x="4438800" y="2571840"/>
            <a:ext cx="18302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C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灸治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圆角矩形 3"/>
          <p:cNvSpPr/>
          <p:nvPr/>
        </p:nvSpPr>
        <p:spPr>
          <a:xfrm>
            <a:off x="6568920" y="2571840"/>
            <a:ext cx="20718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D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贴张创可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75"/>
          <p:cNvSpPr/>
          <p:nvPr/>
        </p:nvSpPr>
        <p:spPr>
          <a:xfrm>
            <a:off x="1204920" y="5143680"/>
            <a:ext cx="67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候，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止痛药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不比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维生素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DA2A-F5D2-40F4-B024-12512DB9ED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赌徒谬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Gamblers’Fall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907320" y="3286080"/>
            <a:ext cx="1162080" cy="2325600"/>
            <a:chOff x="6907320" y="3286080"/>
            <a:chExt cx="1162080" cy="2325600"/>
          </a:xfrm>
        </p:grpSpPr>
        <p:sp>
          <p:nvSpPr>
            <p:cNvPr id="86" name="椭圆 26"/>
            <p:cNvSpPr/>
            <p:nvPr/>
          </p:nvSpPr>
          <p:spPr>
            <a:xfrm>
              <a:off x="7344360" y="5324040"/>
              <a:ext cx="287640" cy="287640"/>
            </a:xfrm>
            <a:prstGeom prst="ellips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圆角矩形 32"/>
            <p:cNvSpPr/>
            <p:nvPr/>
          </p:nvSpPr>
          <p:spPr>
            <a:xfrm>
              <a:off x="6907320" y="3286080"/>
              <a:ext cx="1162080" cy="1799640"/>
            </a:xfrm>
            <a:custGeom>
              <a:avLst/>
              <a:gdLst>
                <a:gd name="textAreaLeft" fmla="*/ 56520 w 1162080"/>
                <a:gd name="textAreaRight" fmla="*/ 1105560 w 1162080"/>
                <a:gd name="textAreaTop" fmla="*/ 56520 h 1799640"/>
                <a:gd name="textAreaBottom" fmla="*/ 1743120 h 1799640"/>
              </a:gdLst>
              <a:ahLst/>
              <a:rect l="textAreaLeft" t="textAreaTop" r="textAreaRight" b="textAreaBottom"/>
              <a:pathLst>
                <a:path w="21600" h="33447">
                  <a:moveTo>
                    <a:pt x="3600" y="0"/>
                  </a:moveTo>
                  <a:arcTo wR="3600" hR="3600" stAng="16200000" swAng="-5400000"/>
                  <a:lnTo>
                    <a:pt x="0" y="29847"/>
                  </a:lnTo>
                  <a:arcTo wR="3600" hR="3600" stAng="10800000" swAng="-5400000"/>
                  <a:lnTo>
                    <a:pt x="18000" y="334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？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74600" y="3308400"/>
            <a:ext cx="1162080" cy="2303280"/>
            <a:chOff x="1074600" y="3308400"/>
            <a:chExt cx="1162080" cy="2303280"/>
          </a:xfrm>
        </p:grpSpPr>
        <p:sp>
          <p:nvSpPr>
            <p:cNvPr id="89" name="椭圆 11"/>
            <p:cNvSpPr/>
            <p:nvPr/>
          </p:nvSpPr>
          <p:spPr>
            <a:xfrm>
              <a:off x="1511640" y="5324040"/>
              <a:ext cx="287640" cy="287640"/>
            </a:xfrm>
            <a:prstGeom prst="ellips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圆角矩形 27"/>
            <p:cNvSpPr/>
            <p:nvPr/>
          </p:nvSpPr>
          <p:spPr>
            <a:xfrm>
              <a:off x="1074600" y="3308400"/>
              <a:ext cx="1162080" cy="1799640"/>
            </a:xfrm>
            <a:custGeom>
              <a:avLst/>
              <a:gdLst>
                <a:gd name="textAreaLeft" fmla="*/ 56520 w 1162080"/>
                <a:gd name="textAreaRight" fmla="*/ 1105560 w 1162080"/>
                <a:gd name="textAreaTop" fmla="*/ 56520 h 1799640"/>
                <a:gd name="textAreaBottom" fmla="*/ 1743120 h 1799640"/>
              </a:gdLst>
              <a:ahLst/>
              <a:rect l="textAreaLeft" t="textAreaTop" r="textAreaRight" b="textAreaBottom"/>
              <a:pathLst>
                <a:path w="21600" h="33447">
                  <a:moveTo>
                    <a:pt x="3600" y="0"/>
                  </a:moveTo>
                  <a:arcTo wR="3600" hR="3600" stAng="16200000" swAng="-5400000"/>
                  <a:lnTo>
                    <a:pt x="0" y="29847"/>
                  </a:lnTo>
                  <a:arcTo wR="3600" hR="3600" stAng="10800000" swAng="-5400000"/>
                  <a:lnTo>
                    <a:pt x="18000" y="334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图片 33" descr=""/>
            <p:cNvPicPr/>
            <p:nvPr/>
          </p:nvPicPr>
          <p:blipFill>
            <a:blip r:embed="rId1"/>
            <a:stretch/>
          </p:blipFill>
          <p:spPr>
            <a:xfrm>
              <a:off x="1121400" y="3380040"/>
              <a:ext cx="1068120" cy="157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5448240" y="3286080"/>
            <a:ext cx="1163520" cy="2325600"/>
            <a:chOff x="5448240" y="3286080"/>
            <a:chExt cx="1163520" cy="2325600"/>
          </a:xfrm>
        </p:grpSpPr>
        <p:sp>
          <p:nvSpPr>
            <p:cNvPr id="93" name="椭圆 22"/>
            <p:cNvSpPr/>
            <p:nvPr/>
          </p:nvSpPr>
          <p:spPr>
            <a:xfrm>
              <a:off x="5886000" y="5324040"/>
              <a:ext cx="288000" cy="287640"/>
            </a:xfrm>
            <a:prstGeom prst="ellips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圆角矩形 31"/>
            <p:cNvSpPr/>
            <p:nvPr/>
          </p:nvSpPr>
          <p:spPr>
            <a:xfrm>
              <a:off x="5448240" y="3286080"/>
              <a:ext cx="1163520" cy="1799640"/>
            </a:xfrm>
            <a:custGeom>
              <a:avLst/>
              <a:gdLst>
                <a:gd name="textAreaLeft" fmla="*/ 56520 w 1163520"/>
                <a:gd name="textAreaRight" fmla="*/ 1107000 w 1163520"/>
                <a:gd name="textAreaTop" fmla="*/ 56520 h 1799640"/>
                <a:gd name="textAreaBottom" fmla="*/ 1743120 h 1799640"/>
              </a:gdLst>
              <a:ahLst/>
              <a:rect l="textAreaLeft" t="textAreaTop" r="textAreaRight" b="textAreaBottom"/>
              <a:pathLst>
                <a:path w="21600" h="33406">
                  <a:moveTo>
                    <a:pt x="3600" y="0"/>
                  </a:moveTo>
                  <a:arcTo wR="3600" hR="3600" stAng="16200000" swAng="-5400000"/>
                  <a:lnTo>
                    <a:pt x="0" y="29806"/>
                  </a:lnTo>
                  <a:arcTo wR="3600" hR="3600" stAng="10800000" swAng="-5400000"/>
                  <a:lnTo>
                    <a:pt x="18000" y="334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图片 34" descr=""/>
            <p:cNvPicPr/>
            <p:nvPr/>
          </p:nvPicPr>
          <p:blipFill>
            <a:blip r:embed="rId2"/>
            <a:stretch/>
          </p:blipFill>
          <p:spPr>
            <a:xfrm>
              <a:off x="5483880" y="3380040"/>
              <a:ext cx="1091880" cy="16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3990960" y="3289320"/>
            <a:ext cx="1162080" cy="2322360"/>
            <a:chOff x="3990960" y="3289320"/>
            <a:chExt cx="1162080" cy="2322360"/>
          </a:xfrm>
        </p:grpSpPr>
        <p:sp>
          <p:nvSpPr>
            <p:cNvPr id="97" name="椭圆 18"/>
            <p:cNvSpPr/>
            <p:nvPr/>
          </p:nvSpPr>
          <p:spPr>
            <a:xfrm>
              <a:off x="4428000" y="5323680"/>
              <a:ext cx="287640" cy="288000"/>
            </a:xfrm>
            <a:prstGeom prst="ellips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圆角矩形 30"/>
            <p:cNvSpPr/>
            <p:nvPr/>
          </p:nvSpPr>
          <p:spPr>
            <a:xfrm>
              <a:off x="3990960" y="3289320"/>
              <a:ext cx="1162080" cy="1800000"/>
            </a:xfrm>
            <a:custGeom>
              <a:avLst/>
              <a:gdLst>
                <a:gd name="textAreaLeft" fmla="*/ 56520 w 1162080"/>
                <a:gd name="textAreaRight" fmla="*/ 1105560 w 1162080"/>
                <a:gd name="textAreaTop" fmla="*/ 56520 h 1800000"/>
                <a:gd name="textAreaBottom" fmla="*/ 1743480 h 1800000"/>
              </a:gdLst>
              <a:ahLst/>
              <a:rect l="textAreaLeft" t="textAreaTop" r="textAreaRight" b="textAreaBottom"/>
              <a:pathLst>
                <a:path w="21600" h="33454">
                  <a:moveTo>
                    <a:pt x="3600" y="0"/>
                  </a:moveTo>
                  <a:arcTo wR="3600" hR="3600" stAng="16200000" swAng="-5400000"/>
                  <a:lnTo>
                    <a:pt x="0" y="29854"/>
                  </a:lnTo>
                  <a:arcTo wR="3600" hR="3600" stAng="10800000" swAng="-5400000"/>
                  <a:lnTo>
                    <a:pt x="18000" y="334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图片 35" descr=""/>
            <p:cNvPicPr/>
            <p:nvPr/>
          </p:nvPicPr>
          <p:blipFill>
            <a:blip r:embed="rId3"/>
            <a:stretch/>
          </p:blipFill>
          <p:spPr>
            <a:xfrm>
              <a:off x="4041720" y="3379680"/>
              <a:ext cx="1060560" cy="159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2532240" y="3308400"/>
            <a:ext cx="1163520" cy="2303280"/>
            <a:chOff x="2532240" y="3308400"/>
            <a:chExt cx="1163520" cy="2303280"/>
          </a:xfrm>
        </p:grpSpPr>
        <p:sp>
          <p:nvSpPr>
            <p:cNvPr id="101" name="椭圆 13"/>
            <p:cNvSpPr/>
            <p:nvPr/>
          </p:nvSpPr>
          <p:spPr>
            <a:xfrm>
              <a:off x="2970000" y="5324040"/>
              <a:ext cx="288000" cy="287640"/>
            </a:xfrm>
            <a:prstGeom prst="ellips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圆角矩形 29"/>
            <p:cNvSpPr/>
            <p:nvPr/>
          </p:nvSpPr>
          <p:spPr>
            <a:xfrm>
              <a:off x="2532240" y="3308400"/>
              <a:ext cx="1163520" cy="1799640"/>
            </a:xfrm>
            <a:custGeom>
              <a:avLst/>
              <a:gdLst>
                <a:gd name="textAreaLeft" fmla="*/ 56520 w 1163520"/>
                <a:gd name="textAreaRight" fmla="*/ 1107000 w 1163520"/>
                <a:gd name="textAreaTop" fmla="*/ 56520 h 1799640"/>
                <a:gd name="textAreaBottom" fmla="*/ 1743120 h 1799640"/>
              </a:gdLst>
              <a:ahLst/>
              <a:rect l="textAreaLeft" t="textAreaTop" r="textAreaRight" b="textAreaBottom"/>
              <a:pathLst>
                <a:path w="21600" h="33406">
                  <a:moveTo>
                    <a:pt x="3600" y="0"/>
                  </a:moveTo>
                  <a:arcTo wR="3600" hR="3600" stAng="16200000" swAng="-5400000"/>
                  <a:lnTo>
                    <a:pt x="0" y="29806"/>
                  </a:lnTo>
                  <a:arcTo wR="3600" hR="3600" stAng="10800000" swAng="-5400000"/>
                  <a:lnTo>
                    <a:pt x="18000" y="334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图片 36" descr=""/>
            <p:cNvPicPr/>
            <p:nvPr/>
          </p:nvPicPr>
          <p:blipFill>
            <a:blip r:embed="rId4"/>
            <a:stretch/>
          </p:blipFill>
          <p:spPr>
            <a:xfrm>
              <a:off x="2591640" y="3380040"/>
              <a:ext cx="1044720" cy="157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611280" y="1657440"/>
            <a:ext cx="7921440" cy="1078200"/>
            <a:chOff x="611280" y="1657440"/>
            <a:chExt cx="7921440" cy="1078200"/>
          </a:xfrm>
        </p:grpSpPr>
        <p:sp>
          <p:nvSpPr>
            <p:cNvPr id="105" name="TextBox 3"/>
            <p:cNvSpPr/>
            <p:nvPr/>
          </p:nvSpPr>
          <p:spPr>
            <a:xfrm>
              <a:off x="611280" y="1657440"/>
              <a:ext cx="792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完全洗乱的牌堆里你连续摸出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张红牌</a:t>
              </a: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。请问第五张牌哪种颜色的可能性更大？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还是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圆角矩形 45"/>
            <p:cNvSpPr/>
            <p:nvPr/>
          </p:nvSpPr>
          <p:spPr>
            <a:xfrm>
              <a:off x="4145400" y="2357640"/>
              <a:ext cx="783720" cy="378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红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圆角矩形 47"/>
            <p:cNvSpPr/>
            <p:nvPr/>
          </p:nvSpPr>
          <p:spPr>
            <a:xfrm>
              <a:off x="5715000" y="2357640"/>
              <a:ext cx="783720" cy="378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黑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矩形 43"/>
          <p:cNvSpPr/>
          <p:nvPr/>
        </p:nvSpPr>
        <p:spPr>
          <a:xfrm>
            <a:off x="5214960" y="6143760"/>
            <a:ext cx="35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些牌仍然会放回牌堆并再次打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赌徒谬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Gamblers’Fall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38920" y="2643120"/>
            <a:ext cx="1162080" cy="1800360"/>
            <a:chOff x="6838920" y="2643120"/>
            <a:chExt cx="1162080" cy="1800360"/>
          </a:xfrm>
        </p:grpSpPr>
        <p:sp>
          <p:nvSpPr>
            <p:cNvPr id="112" name="圆角矩形 9"/>
            <p:cNvSpPr/>
            <p:nvPr/>
          </p:nvSpPr>
          <p:spPr>
            <a:xfrm>
              <a:off x="6838920" y="2643120"/>
              <a:ext cx="1162080" cy="1800360"/>
            </a:xfrm>
            <a:custGeom>
              <a:avLst/>
              <a:gdLst>
                <a:gd name="textAreaLeft" fmla="*/ 56520 w 1162080"/>
                <a:gd name="textAreaRight" fmla="*/ 1105560 w 1162080"/>
                <a:gd name="textAreaTop" fmla="*/ 56520 h 1800360"/>
                <a:gd name="textAreaBottom" fmla="*/ 1743840 h 1800360"/>
              </a:gdLst>
              <a:ahLst/>
              <a:rect l="textAreaLeft" t="textAreaTop" r="textAreaRight" b="textAreaBottom"/>
              <a:pathLst>
                <a:path w="21600" h="33460">
                  <a:moveTo>
                    <a:pt x="3600" y="0"/>
                  </a:moveTo>
                  <a:arcTo wR="3600" hR="3600" stAng="16200000" swAng="-5400000"/>
                  <a:lnTo>
                    <a:pt x="0" y="29860"/>
                  </a:lnTo>
                  <a:arcTo wR="3600" hR="3600" stAng="10800000" swAng="-5400000"/>
                  <a:lnTo>
                    <a:pt x="18000" y="334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3" name="图片 10" descr=""/>
            <p:cNvPicPr/>
            <p:nvPr/>
          </p:nvPicPr>
          <p:blipFill>
            <a:blip r:embed="rId1"/>
            <a:stretch/>
          </p:blipFill>
          <p:spPr>
            <a:xfrm>
              <a:off x="6885720" y="2715120"/>
              <a:ext cx="1068120" cy="157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"/>
          <p:cNvGrpSpPr/>
          <p:nvPr/>
        </p:nvGrpSpPr>
        <p:grpSpPr>
          <a:xfrm>
            <a:off x="1962000" y="1824120"/>
            <a:ext cx="4935600" cy="459720"/>
            <a:chOff x="1962000" y="1824120"/>
            <a:chExt cx="4935600" cy="459720"/>
          </a:xfrm>
        </p:grpSpPr>
        <p:sp>
          <p:nvSpPr>
            <p:cNvPr id="115" name="矩形 34"/>
            <p:cNvSpPr/>
            <p:nvPr/>
          </p:nvSpPr>
          <p:spPr>
            <a:xfrm>
              <a:off x="1962000" y="1824120"/>
              <a:ext cx="493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部分人会选</a:t>
              </a: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再出现</a:t>
              </a: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是小概率事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圆角矩形 28"/>
            <p:cNvSpPr/>
            <p:nvPr/>
          </p:nvSpPr>
          <p:spPr>
            <a:xfrm>
              <a:off x="2602440" y="1865880"/>
              <a:ext cx="783720" cy="378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黑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圆角矩形 43"/>
            <p:cNvSpPr/>
            <p:nvPr/>
          </p:nvSpPr>
          <p:spPr>
            <a:xfrm>
              <a:off x="5348520" y="1865880"/>
              <a:ext cx="783720" cy="378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红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00200" y="2643120"/>
            <a:ext cx="1162080" cy="1800360"/>
            <a:chOff x="2500200" y="2643120"/>
            <a:chExt cx="1162080" cy="1800360"/>
          </a:xfrm>
        </p:grpSpPr>
        <p:sp>
          <p:nvSpPr>
            <p:cNvPr id="119" name="圆角矩形 13"/>
            <p:cNvSpPr/>
            <p:nvPr/>
          </p:nvSpPr>
          <p:spPr>
            <a:xfrm>
              <a:off x="2500200" y="2643120"/>
              <a:ext cx="1162080" cy="1800360"/>
            </a:xfrm>
            <a:custGeom>
              <a:avLst/>
              <a:gdLst>
                <a:gd name="textAreaLeft" fmla="*/ 56520 w 1162080"/>
                <a:gd name="textAreaRight" fmla="*/ 1105560 w 1162080"/>
                <a:gd name="textAreaTop" fmla="*/ 56520 h 1800360"/>
                <a:gd name="textAreaBottom" fmla="*/ 1743840 h 1800360"/>
              </a:gdLst>
              <a:ahLst/>
              <a:rect l="textAreaLeft" t="textAreaTop" r="textAreaRight" b="textAreaBottom"/>
              <a:pathLst>
                <a:path w="21600" h="33460">
                  <a:moveTo>
                    <a:pt x="3600" y="0"/>
                  </a:moveTo>
                  <a:arcTo wR="3600" hR="3600" stAng="16200000" swAng="-5400000"/>
                  <a:lnTo>
                    <a:pt x="0" y="29860"/>
                  </a:lnTo>
                  <a:arcTo wR="3600" hR="3600" stAng="10800000" swAng="-5400000"/>
                  <a:lnTo>
                    <a:pt x="18000" y="334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0" name="图片 14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559240" y="2715120"/>
              <a:ext cx="1043640" cy="157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矩形 40"/>
          <p:cNvSpPr/>
          <p:nvPr/>
        </p:nvSpPr>
        <p:spPr>
          <a:xfrm>
            <a:off x="3286080" y="5792760"/>
            <a:ext cx="542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，不要轻易</a:t>
            </a: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相信直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55"/>
          <p:cNvSpPr/>
          <p:nvPr/>
        </p:nvSpPr>
        <p:spPr>
          <a:xfrm>
            <a:off x="642960" y="5013360"/>
            <a:ext cx="66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实上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者的概率是</a:t>
            </a: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样的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14240" y="2986200"/>
            <a:ext cx="1781280" cy="1156320"/>
            <a:chOff x="714240" y="2986200"/>
            <a:chExt cx="1781280" cy="1156320"/>
          </a:xfrm>
        </p:grpSpPr>
        <p:grpSp>
          <p:nvGrpSpPr>
            <p:cNvPr id="124" name=""/>
            <p:cNvGrpSpPr/>
            <p:nvPr/>
          </p:nvGrpSpPr>
          <p:grpSpPr>
            <a:xfrm>
              <a:off x="714240" y="2986200"/>
              <a:ext cx="1781280" cy="798840"/>
              <a:chOff x="714240" y="2986200"/>
              <a:chExt cx="1781280" cy="7988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714240" y="2986200"/>
                <a:ext cx="719280" cy="798840"/>
                <a:chOff x="714240" y="2986200"/>
                <a:chExt cx="719280" cy="798840"/>
              </a:xfrm>
            </p:grpSpPr>
            <p:sp>
              <p:nvSpPr>
                <p:cNvPr id="126" name="TextBox 15"/>
                <p:cNvSpPr/>
                <p:nvPr/>
              </p:nvSpPr>
              <p:spPr>
                <a:xfrm>
                  <a:off x="1145880" y="3124440"/>
                  <a:ext cx="287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alibri"/>
                    </a:rPr>
                    <a:t>=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714240" y="2986200"/>
                  <a:ext cx="503640" cy="798840"/>
                  <a:chOff x="714240" y="2986200"/>
                  <a:chExt cx="503640" cy="798840"/>
                </a:xfrm>
              </p:grpSpPr>
              <p:sp>
                <p:nvSpPr>
                  <p:cNvPr id="128" name="矩形 19"/>
                  <p:cNvSpPr/>
                  <p:nvPr/>
                </p:nvSpPr>
                <p:spPr>
                  <a:xfrm>
                    <a:off x="745920" y="3386160"/>
                    <a:ext cx="439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5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9" name="矩形 20"/>
                  <p:cNvSpPr/>
                  <p:nvPr/>
                </p:nvSpPr>
                <p:spPr>
                  <a:xfrm>
                    <a:off x="745920" y="2986200"/>
                    <a:ext cx="439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1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0" name="直接连接符 22"/>
                  <p:cNvSpPr/>
                  <p:nvPr/>
                </p:nvSpPr>
                <p:spPr>
                  <a:xfrm>
                    <a:off x="714240" y="3386160"/>
                    <a:ext cx="503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31" name="圆角矩形 44"/>
              <p:cNvSpPr/>
              <p:nvPr/>
            </p:nvSpPr>
            <p:spPr>
              <a:xfrm>
                <a:off x="1285560" y="3113640"/>
                <a:ext cx="1209960" cy="5760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c00000"/>
                    </a:solidFill>
                    <a:latin typeface="Calibri"/>
                  </a:rPr>
                  <a:t>0.25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2" name="矩形 38"/>
            <p:cNvSpPr/>
            <p:nvPr/>
          </p:nvSpPr>
          <p:spPr>
            <a:xfrm>
              <a:off x="1069920" y="37742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出现黑色概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直接连接符 41"/>
            <p:cNvSpPr/>
            <p:nvPr/>
          </p:nvSpPr>
          <p:spPr>
            <a:xfrm>
              <a:off x="785520" y="3786120"/>
              <a:ext cx="1499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005440" y="2986200"/>
            <a:ext cx="1781280" cy="1156320"/>
            <a:chOff x="5005440" y="2986200"/>
            <a:chExt cx="1781280" cy="1156320"/>
          </a:xfrm>
        </p:grpSpPr>
        <p:grpSp>
          <p:nvGrpSpPr>
            <p:cNvPr id="135" name=""/>
            <p:cNvGrpSpPr/>
            <p:nvPr/>
          </p:nvGrpSpPr>
          <p:grpSpPr>
            <a:xfrm>
              <a:off x="5005440" y="2986200"/>
              <a:ext cx="1781280" cy="798840"/>
              <a:chOff x="5005440" y="2986200"/>
              <a:chExt cx="1781280" cy="79884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5005440" y="2986200"/>
                <a:ext cx="719280" cy="798840"/>
                <a:chOff x="5005440" y="2986200"/>
                <a:chExt cx="719280" cy="798840"/>
              </a:xfrm>
            </p:grpSpPr>
            <p:sp>
              <p:nvSpPr>
                <p:cNvPr id="137" name="TextBox 48"/>
                <p:cNvSpPr/>
                <p:nvPr/>
              </p:nvSpPr>
              <p:spPr>
                <a:xfrm>
                  <a:off x="5437080" y="3124440"/>
                  <a:ext cx="287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alibri"/>
                    </a:rPr>
                    <a:t>=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5005440" y="2986200"/>
                  <a:ext cx="503640" cy="798840"/>
                  <a:chOff x="5005440" y="2986200"/>
                  <a:chExt cx="503640" cy="798840"/>
                </a:xfrm>
              </p:grpSpPr>
              <p:sp>
                <p:nvSpPr>
                  <p:cNvPr id="139" name="矩形 50"/>
                  <p:cNvSpPr/>
                  <p:nvPr/>
                </p:nvSpPr>
                <p:spPr>
                  <a:xfrm>
                    <a:off x="5037120" y="3386160"/>
                    <a:ext cx="439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5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0" name="矩形 51"/>
                  <p:cNvSpPr/>
                  <p:nvPr/>
                </p:nvSpPr>
                <p:spPr>
                  <a:xfrm>
                    <a:off x="5037120" y="2986200"/>
                    <a:ext cx="439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1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1" name="直接连接符 52"/>
                  <p:cNvSpPr/>
                  <p:nvPr/>
                </p:nvSpPr>
                <p:spPr>
                  <a:xfrm>
                    <a:off x="5005440" y="3386160"/>
                    <a:ext cx="503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42" name="圆角矩形 47"/>
              <p:cNvSpPr/>
              <p:nvPr/>
            </p:nvSpPr>
            <p:spPr>
              <a:xfrm>
                <a:off x="5576760" y="3113640"/>
                <a:ext cx="1209960" cy="5760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c00000"/>
                    </a:solidFill>
                    <a:latin typeface="Calibri"/>
                  </a:rPr>
                  <a:t>0.25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矩形 53"/>
            <p:cNvSpPr/>
            <p:nvPr/>
          </p:nvSpPr>
          <p:spPr>
            <a:xfrm>
              <a:off x="5361120" y="37742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出现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红色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概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接连接符 54"/>
            <p:cNvSpPr/>
            <p:nvPr/>
          </p:nvSpPr>
          <p:spPr>
            <a:xfrm>
              <a:off x="5076720" y="3786120"/>
              <a:ext cx="1499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直接连接符 58"/>
          <p:cNvSpPr/>
          <p:nvPr/>
        </p:nvSpPr>
        <p:spPr>
          <a:xfrm>
            <a:off x="-425520" y="4784760"/>
            <a:ext cx="9926640" cy="144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霍桑效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awthorne 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79640" y="3341520"/>
            <a:ext cx="6984720" cy="2229120"/>
            <a:chOff x="1079640" y="3341520"/>
            <a:chExt cx="6984720" cy="2229120"/>
          </a:xfrm>
        </p:grpSpPr>
        <p:grpSp>
          <p:nvGrpSpPr>
            <p:cNvPr id="149" name=""/>
            <p:cNvGrpSpPr/>
            <p:nvPr/>
          </p:nvGrpSpPr>
          <p:grpSpPr>
            <a:xfrm>
              <a:off x="1079640" y="3341520"/>
              <a:ext cx="1656000" cy="2226960"/>
              <a:chOff x="1079640" y="3341520"/>
              <a:chExt cx="1656000" cy="222696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079640" y="3341520"/>
                <a:ext cx="1656000" cy="1224360"/>
                <a:chOff x="1079640" y="3341520"/>
                <a:chExt cx="1656000" cy="1224360"/>
              </a:xfrm>
            </p:grpSpPr>
            <p:sp>
              <p:nvSpPr>
                <p:cNvPr id="151" name="椭圆 20"/>
                <p:cNvSpPr/>
                <p:nvPr/>
              </p:nvSpPr>
              <p:spPr>
                <a:xfrm>
                  <a:off x="1727640" y="4205880"/>
                  <a:ext cx="360000" cy="360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椭圆 21"/>
                <p:cNvSpPr/>
                <p:nvPr/>
              </p:nvSpPr>
              <p:spPr>
                <a:xfrm>
                  <a:off x="1727640" y="3341520"/>
                  <a:ext cx="360000" cy="360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椭圆 22"/>
                <p:cNvSpPr/>
                <p:nvPr/>
              </p:nvSpPr>
              <p:spPr>
                <a:xfrm>
                  <a:off x="2375640" y="3341520"/>
                  <a:ext cx="360000" cy="360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椭圆 25"/>
                <p:cNvSpPr/>
                <p:nvPr/>
              </p:nvSpPr>
              <p:spPr>
                <a:xfrm>
                  <a:off x="1079640" y="3341520"/>
                  <a:ext cx="360000" cy="360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椭圆 26"/>
                <p:cNvSpPr/>
                <p:nvPr/>
              </p:nvSpPr>
              <p:spPr>
                <a:xfrm>
                  <a:off x="2375640" y="4205880"/>
                  <a:ext cx="360000" cy="360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椭圆 27"/>
                <p:cNvSpPr/>
                <p:nvPr/>
              </p:nvSpPr>
              <p:spPr>
                <a:xfrm>
                  <a:off x="1079640" y="4205880"/>
                  <a:ext cx="360000" cy="360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椭圆 29"/>
                <p:cNvSpPr/>
                <p:nvPr/>
              </p:nvSpPr>
              <p:spPr>
                <a:xfrm>
                  <a:off x="1367640" y="3773520"/>
                  <a:ext cx="360000" cy="360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椭圆 30"/>
                <p:cNvSpPr/>
                <p:nvPr/>
              </p:nvSpPr>
              <p:spPr>
                <a:xfrm>
                  <a:off x="2015640" y="3773520"/>
                  <a:ext cx="360000" cy="360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9" name="TextBox 41"/>
              <p:cNvSpPr/>
              <p:nvPr/>
            </p:nvSpPr>
            <p:spPr>
              <a:xfrm>
                <a:off x="1295640" y="492588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效率不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士气不足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408360" y="3341520"/>
              <a:ext cx="1656000" cy="2229120"/>
              <a:chOff x="6408360" y="3341520"/>
              <a:chExt cx="1656000" cy="2229120"/>
            </a:xfrm>
          </p:grpSpPr>
          <p:pic>
            <p:nvPicPr>
              <p:cNvPr id="161" name="组合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6408360" y="3341520"/>
                <a:ext cx="1656000" cy="12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TextBox 42"/>
              <p:cNvSpPr/>
              <p:nvPr/>
            </p:nvSpPr>
            <p:spPr>
              <a:xfrm>
                <a:off x="6629760" y="4928040"/>
                <a:ext cx="121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效率提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充满士气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095280" y="3630960"/>
              <a:ext cx="2952720" cy="368280"/>
              <a:chOff x="3095280" y="3630960"/>
              <a:chExt cx="2952720" cy="368280"/>
            </a:xfrm>
          </p:grpSpPr>
          <p:cxnSp>
            <p:nvCxnSpPr>
              <p:cNvPr id="164" name="直接箭头连接符 47"/>
              <p:cNvCxnSpPr/>
              <p:nvPr/>
            </p:nvCxnSpPr>
            <p:spPr>
              <a:xfrm>
                <a:off x="3095280" y="3989520"/>
                <a:ext cx="2953080" cy="2160"/>
              </a:xfrm>
              <a:prstGeom prst="straightConnector1">
                <a:avLst/>
              </a:prstGeom>
              <a:ln w="38160">
                <a:solidFill>
                  <a:srgbClr val="f79646"/>
                </a:solidFill>
                <a:miter/>
                <a:tailEnd len="med" type="arrow" w="med"/>
              </a:ln>
            </p:spPr>
          </p:cxnSp>
          <p:sp>
            <p:nvSpPr>
              <p:cNvPr id="165" name="TextBox 48"/>
              <p:cNvSpPr/>
              <p:nvPr/>
            </p:nvSpPr>
            <p:spPr>
              <a:xfrm>
                <a:off x="3779640" y="3630960"/>
                <a:ext cx="158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e46c0a"/>
                    </a:solidFill>
                    <a:latin typeface="微软雅黑"/>
                    <a:ea typeface="微软雅黑"/>
                  </a:rPr>
                  <a:t>倾诉和聆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66" name="TextBox 44"/>
          <p:cNvSpPr/>
          <p:nvPr/>
        </p:nvSpPr>
        <p:spPr>
          <a:xfrm>
            <a:off x="684360" y="1824120"/>
            <a:ext cx="79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予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倾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关注</a:t>
            </a:r>
            <a:r>
              <a:rPr b="1" lang="zh-CN" sz="2400" spc="-1" strike="noStrike">
                <a:solidFill>
                  <a:srgbClr val="4f6228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使得工人的积极性和效率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高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霍桑效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awthorne 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组合 63" descr=""/>
          <p:cNvPicPr/>
          <p:nvPr/>
        </p:nvPicPr>
        <p:blipFill>
          <a:blip r:embed="rId1"/>
          <a:stretch/>
        </p:blipFill>
        <p:spPr>
          <a:xfrm>
            <a:off x="639720" y="3713040"/>
            <a:ext cx="1523880" cy="98136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6588000" y="3554280"/>
            <a:ext cx="1979640" cy="1297080"/>
            <a:chOff x="6588000" y="3554280"/>
            <a:chExt cx="1979640" cy="1297080"/>
          </a:xfrm>
        </p:grpSpPr>
        <p:grpSp>
          <p:nvGrpSpPr>
            <p:cNvPr id="171" name=""/>
            <p:cNvGrpSpPr/>
            <p:nvPr/>
          </p:nvGrpSpPr>
          <p:grpSpPr>
            <a:xfrm>
              <a:off x="6588000" y="3554280"/>
              <a:ext cx="935640" cy="1297080"/>
              <a:chOff x="6588000" y="3554280"/>
              <a:chExt cx="935640" cy="129708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6719760" y="3698280"/>
                <a:ext cx="671760" cy="972720"/>
                <a:chOff x="6719760" y="3698280"/>
                <a:chExt cx="671760" cy="972720"/>
              </a:xfrm>
            </p:grpSpPr>
            <p:sp>
              <p:nvSpPr>
                <p:cNvPr id="173" name="椭圆 105"/>
                <p:cNvSpPr/>
                <p:nvPr/>
              </p:nvSpPr>
              <p:spPr>
                <a:xfrm>
                  <a:off x="6719760" y="369828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4" name="椭圆 106"/>
                <p:cNvSpPr/>
                <p:nvPr/>
              </p:nvSpPr>
              <p:spPr>
                <a:xfrm>
                  <a:off x="7139520" y="369828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椭圆 107"/>
                <p:cNvSpPr/>
                <p:nvPr/>
              </p:nvSpPr>
              <p:spPr>
                <a:xfrm>
                  <a:off x="6719760" y="405864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椭圆 108"/>
                <p:cNvSpPr/>
                <p:nvPr/>
              </p:nvSpPr>
              <p:spPr>
                <a:xfrm>
                  <a:off x="7139520" y="405864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7" name="椭圆 109"/>
                <p:cNvSpPr/>
                <p:nvPr/>
              </p:nvSpPr>
              <p:spPr>
                <a:xfrm>
                  <a:off x="6719760" y="441900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8" name="椭圆 110"/>
                <p:cNvSpPr/>
                <p:nvPr/>
              </p:nvSpPr>
              <p:spPr>
                <a:xfrm>
                  <a:off x="7139520" y="4419000"/>
                  <a:ext cx="252000" cy="25200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9" name="圆角矩形 104"/>
              <p:cNvSpPr/>
              <p:nvPr/>
            </p:nvSpPr>
            <p:spPr>
              <a:xfrm>
                <a:off x="6588000" y="3554280"/>
                <a:ext cx="935640" cy="1297080"/>
              </a:xfrm>
              <a:custGeom>
                <a:avLst/>
                <a:gdLst>
                  <a:gd name="textAreaLeft" fmla="*/ 45360 w 935640"/>
                  <a:gd name="textAreaRight" fmla="*/ 890280 w 935640"/>
                  <a:gd name="textAreaTop" fmla="*/ 45360 h 1297080"/>
                  <a:gd name="textAreaBottom" fmla="*/ 1251720 h 1297080"/>
                </a:gdLst>
                <a:ahLst/>
                <a:rect l="textAreaLeft" t="textAreaTop" r="textAreaRight" b="textAreaBottom"/>
                <a:pathLst>
                  <a:path w="21600" h="29941">
                    <a:moveTo>
                      <a:pt x="3600" y="0"/>
                    </a:moveTo>
                    <a:arcTo wR="3600" hR="3600" stAng="16200000" swAng="-5400000"/>
                    <a:lnTo>
                      <a:pt x="0" y="26341"/>
                    </a:lnTo>
                    <a:arcTo wR="3600" hR="3600" stAng="10800000" swAng="-5400000"/>
                    <a:lnTo>
                      <a:pt x="18000" y="299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c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7632000" y="3554280"/>
              <a:ext cx="935640" cy="1297080"/>
              <a:chOff x="7632000" y="3554280"/>
              <a:chExt cx="935640" cy="12970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7763760" y="3698280"/>
                <a:ext cx="671760" cy="972720"/>
                <a:chOff x="7763760" y="3698280"/>
                <a:chExt cx="671760" cy="972720"/>
              </a:xfrm>
            </p:grpSpPr>
            <p:sp>
              <p:nvSpPr>
                <p:cNvPr id="182" name="椭圆 97"/>
                <p:cNvSpPr/>
                <p:nvPr/>
              </p:nvSpPr>
              <p:spPr>
                <a:xfrm>
                  <a:off x="7763760" y="3698280"/>
                  <a:ext cx="252000" cy="25200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椭圆 98"/>
                <p:cNvSpPr/>
                <p:nvPr/>
              </p:nvSpPr>
              <p:spPr>
                <a:xfrm>
                  <a:off x="8183520" y="3698280"/>
                  <a:ext cx="252000" cy="25200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椭圆 99"/>
                <p:cNvSpPr/>
                <p:nvPr/>
              </p:nvSpPr>
              <p:spPr>
                <a:xfrm>
                  <a:off x="7763760" y="4058640"/>
                  <a:ext cx="252000" cy="25200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" name="椭圆 100"/>
                <p:cNvSpPr/>
                <p:nvPr/>
              </p:nvSpPr>
              <p:spPr>
                <a:xfrm>
                  <a:off x="8183520" y="4058640"/>
                  <a:ext cx="252000" cy="25200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" name="椭圆 101"/>
                <p:cNvSpPr/>
                <p:nvPr/>
              </p:nvSpPr>
              <p:spPr>
                <a:xfrm>
                  <a:off x="7763760" y="4419000"/>
                  <a:ext cx="252000" cy="25200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" name="椭圆 102"/>
                <p:cNvSpPr/>
                <p:nvPr/>
              </p:nvSpPr>
              <p:spPr>
                <a:xfrm>
                  <a:off x="8183520" y="4419000"/>
                  <a:ext cx="252000" cy="25200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8" name="圆角矩形 96"/>
              <p:cNvSpPr/>
              <p:nvPr/>
            </p:nvSpPr>
            <p:spPr>
              <a:xfrm>
                <a:off x="7632000" y="3554280"/>
                <a:ext cx="935640" cy="1297080"/>
              </a:xfrm>
              <a:custGeom>
                <a:avLst/>
                <a:gdLst>
                  <a:gd name="textAreaLeft" fmla="*/ 45360 w 935640"/>
                  <a:gd name="textAreaRight" fmla="*/ 890280 w 935640"/>
                  <a:gd name="textAreaTop" fmla="*/ 45360 h 1297080"/>
                  <a:gd name="textAreaBottom" fmla="*/ 1251720 h 1297080"/>
                </a:gdLst>
                <a:ahLst/>
                <a:rect l="textAreaLeft" t="textAreaTop" r="textAreaRight" b="textAreaBottom"/>
                <a:pathLst>
                  <a:path w="21600" h="29941">
                    <a:moveTo>
                      <a:pt x="3600" y="0"/>
                    </a:moveTo>
                    <a:arcTo wR="3600" hR="3600" stAng="16200000" swAng="-5400000"/>
                    <a:lnTo>
                      <a:pt x="0" y="26341"/>
                    </a:lnTo>
                    <a:arcTo wR="3600" hR="3600" stAng="10800000" swAng="-5400000"/>
                    <a:lnTo>
                      <a:pt x="18000" y="299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9" name="右箭头 111"/>
          <p:cNvSpPr/>
          <p:nvPr/>
        </p:nvSpPr>
        <p:spPr>
          <a:xfrm>
            <a:off x="2519280" y="405936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右箭头 112"/>
          <p:cNvSpPr/>
          <p:nvPr/>
        </p:nvSpPr>
        <p:spPr>
          <a:xfrm>
            <a:off x="5688000" y="405936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13"/>
          <p:cNvSpPr/>
          <p:nvPr/>
        </p:nvSpPr>
        <p:spPr>
          <a:xfrm>
            <a:off x="630360" y="50688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6228"/>
                </a:solidFill>
                <a:latin typeface="微软雅黑"/>
                <a:ea typeface="微软雅黑"/>
              </a:rPr>
              <a:t>无差异的学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15"/>
          <p:cNvSpPr/>
          <p:nvPr/>
        </p:nvSpPr>
        <p:spPr>
          <a:xfrm>
            <a:off x="6578640" y="5072040"/>
            <a:ext cx="19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优秀班表现更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68"/>
          <p:cNvSpPr/>
          <p:nvPr/>
        </p:nvSpPr>
        <p:spPr>
          <a:xfrm>
            <a:off x="684360" y="1773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额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关注会让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普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学生拥有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更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表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360600" y="3000240"/>
            <a:ext cx="2009880" cy="2427840"/>
            <a:chOff x="3360600" y="3000240"/>
            <a:chExt cx="2009880" cy="2427840"/>
          </a:xfrm>
        </p:grpSpPr>
        <p:sp>
          <p:nvSpPr>
            <p:cNvPr id="195" name="TextBox 114"/>
            <p:cNvSpPr/>
            <p:nvPr/>
          </p:nvSpPr>
          <p:spPr>
            <a:xfrm>
              <a:off x="3393360" y="300024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随机分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3360600" y="3554640"/>
              <a:ext cx="936000" cy="1873440"/>
              <a:chOff x="3360600" y="3554640"/>
              <a:chExt cx="936000" cy="187344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3360600" y="3554640"/>
                <a:ext cx="936000" cy="1296360"/>
                <a:chOff x="3360600" y="3554640"/>
                <a:chExt cx="936000" cy="129636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3492360" y="3698640"/>
                  <a:ext cx="672120" cy="982800"/>
                  <a:chOff x="3492360" y="3698640"/>
                  <a:chExt cx="672120" cy="982800"/>
                </a:xfrm>
              </p:grpSpPr>
              <p:sp>
                <p:nvSpPr>
                  <p:cNvPr id="199" name="椭圆 65"/>
                  <p:cNvSpPr/>
                  <p:nvPr/>
                </p:nvSpPr>
                <p:spPr>
                  <a:xfrm>
                    <a:off x="3492360" y="36986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椭圆 66"/>
                  <p:cNvSpPr/>
                  <p:nvPr/>
                </p:nvSpPr>
                <p:spPr>
                  <a:xfrm>
                    <a:off x="3912480" y="36986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" name="椭圆 69"/>
                  <p:cNvSpPr/>
                  <p:nvPr/>
                </p:nvSpPr>
                <p:spPr>
                  <a:xfrm>
                    <a:off x="3492360" y="40586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2" name="椭圆 70"/>
                  <p:cNvSpPr/>
                  <p:nvPr/>
                </p:nvSpPr>
                <p:spPr>
                  <a:xfrm>
                    <a:off x="3912480" y="40586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3" name="椭圆 73"/>
                  <p:cNvSpPr/>
                  <p:nvPr/>
                </p:nvSpPr>
                <p:spPr>
                  <a:xfrm>
                    <a:off x="3499920" y="44294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4" name="椭圆 74"/>
                  <p:cNvSpPr/>
                  <p:nvPr/>
                </p:nvSpPr>
                <p:spPr>
                  <a:xfrm>
                    <a:off x="3912480" y="441900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05" name="圆角矩形 79"/>
                <p:cNvSpPr/>
                <p:nvPr/>
              </p:nvSpPr>
              <p:spPr>
                <a:xfrm>
                  <a:off x="3360600" y="3554640"/>
                  <a:ext cx="936000" cy="1296360"/>
                </a:xfrm>
                <a:custGeom>
                  <a:avLst/>
                  <a:gdLst>
                    <a:gd name="textAreaLeft" fmla="*/ 45360 w 936000"/>
                    <a:gd name="textAreaRight" fmla="*/ 890640 w 936000"/>
                    <a:gd name="textAreaTop" fmla="*/ 45360 h 1296360"/>
                    <a:gd name="textAreaBottom" fmla="*/ 1251000 h 1296360"/>
                  </a:gdLst>
                  <a:ahLst/>
                  <a:rect l="textAreaLeft" t="textAreaTop" r="textAreaRight" b="textAreaBottom"/>
                  <a:pathLst>
                    <a:path w="21600" h="29913">
                      <a:moveTo>
                        <a:pt x="3600" y="0"/>
                      </a:moveTo>
                      <a:arcTo wR="3600" hR="3600" stAng="16200000" swAng="-5400000"/>
                      <a:lnTo>
                        <a:pt x="0" y="26313"/>
                      </a:lnTo>
                      <a:arcTo wR="3600" hR="3600" stAng="10800000" swAng="-5400000"/>
                      <a:lnTo>
                        <a:pt x="18000" y="2991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38160">
                  <a:solidFill>
                    <a:srgbClr val="c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6" name="矩形 71"/>
              <p:cNvSpPr/>
              <p:nvPr/>
            </p:nvSpPr>
            <p:spPr>
              <a:xfrm>
                <a:off x="3532320" y="50598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优秀班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434480" y="3554640"/>
              <a:ext cx="936000" cy="1873440"/>
              <a:chOff x="4434480" y="3554640"/>
              <a:chExt cx="936000" cy="187344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4434480" y="3554640"/>
                <a:ext cx="936000" cy="1296360"/>
                <a:chOff x="4434480" y="3554640"/>
                <a:chExt cx="936000" cy="129636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4566240" y="3698640"/>
                  <a:ext cx="672120" cy="972360"/>
                  <a:chOff x="4566240" y="3698640"/>
                  <a:chExt cx="672120" cy="972360"/>
                </a:xfrm>
              </p:grpSpPr>
              <p:sp>
                <p:nvSpPr>
                  <p:cNvPr id="210" name="椭圆 85"/>
                  <p:cNvSpPr/>
                  <p:nvPr/>
                </p:nvSpPr>
                <p:spPr>
                  <a:xfrm>
                    <a:off x="4566240" y="36986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1" name="椭圆 86"/>
                  <p:cNvSpPr/>
                  <p:nvPr/>
                </p:nvSpPr>
                <p:spPr>
                  <a:xfrm>
                    <a:off x="4986360" y="36986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2" name="椭圆 87"/>
                  <p:cNvSpPr/>
                  <p:nvPr/>
                </p:nvSpPr>
                <p:spPr>
                  <a:xfrm>
                    <a:off x="4566240" y="40586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3" name="椭圆 88"/>
                  <p:cNvSpPr/>
                  <p:nvPr/>
                </p:nvSpPr>
                <p:spPr>
                  <a:xfrm>
                    <a:off x="4986360" y="405864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" name="椭圆 89"/>
                  <p:cNvSpPr/>
                  <p:nvPr/>
                </p:nvSpPr>
                <p:spPr>
                  <a:xfrm>
                    <a:off x="4566240" y="441900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" name="椭圆 90"/>
                  <p:cNvSpPr/>
                  <p:nvPr/>
                </p:nvSpPr>
                <p:spPr>
                  <a:xfrm>
                    <a:off x="4986360" y="4419000"/>
                    <a:ext cx="252000" cy="252000"/>
                  </a:xfrm>
                  <a:prstGeom prst="ellipse">
                    <a:avLst/>
                  </a:prstGeom>
                  <a:solidFill>
                    <a:srgbClr val="d7e4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16" name="圆角矩形 84"/>
                <p:cNvSpPr/>
                <p:nvPr/>
              </p:nvSpPr>
              <p:spPr>
                <a:xfrm>
                  <a:off x="4434480" y="3554640"/>
                  <a:ext cx="936000" cy="1296360"/>
                </a:xfrm>
                <a:custGeom>
                  <a:avLst/>
                  <a:gdLst>
                    <a:gd name="textAreaLeft" fmla="*/ 45360 w 936000"/>
                    <a:gd name="textAreaRight" fmla="*/ 890640 w 936000"/>
                    <a:gd name="textAreaTop" fmla="*/ 45360 h 1296360"/>
                    <a:gd name="textAreaBottom" fmla="*/ 1251000 h 1296360"/>
                  </a:gdLst>
                  <a:ahLst/>
                  <a:rect l="textAreaLeft" t="textAreaTop" r="textAreaRight" b="textAreaBottom"/>
                  <a:pathLst>
                    <a:path w="21600" h="29913">
                      <a:moveTo>
                        <a:pt x="3600" y="0"/>
                      </a:moveTo>
                      <a:arcTo wR="3600" hR="3600" stAng="16200000" swAng="-5400000"/>
                      <a:lnTo>
                        <a:pt x="0" y="26313"/>
                      </a:lnTo>
                      <a:arcTo wR="3600" hR="3600" stAng="10800000" swAng="-5400000"/>
                      <a:lnTo>
                        <a:pt x="18000" y="2991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38160">
                  <a:solidFill>
                    <a:srgbClr val="7f7f7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7" name="矩形 72"/>
              <p:cNvSpPr/>
              <p:nvPr/>
            </p:nvSpPr>
            <p:spPr>
              <a:xfrm>
                <a:off x="4606200" y="50598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普通班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1547640" y="333360"/>
            <a:ext cx="25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臆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Pareidol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42960" y="2978280"/>
            <a:ext cx="2952720" cy="2680200"/>
            <a:chOff x="642960" y="2978280"/>
            <a:chExt cx="2952720" cy="2680200"/>
          </a:xfrm>
        </p:grpSpPr>
        <p:pic>
          <p:nvPicPr>
            <p:cNvPr id="221" name="图片 4" descr="老鼠还是猫.jpg"/>
            <p:cNvPicPr/>
            <p:nvPr/>
          </p:nvPicPr>
          <p:blipFill>
            <a:blip r:embed="rId1"/>
            <a:stretch/>
          </p:blipFill>
          <p:spPr>
            <a:xfrm>
              <a:off x="1101960" y="2978280"/>
              <a:ext cx="203436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6"/>
            <p:cNvSpPr/>
            <p:nvPr/>
          </p:nvSpPr>
          <p:spPr>
            <a:xfrm>
              <a:off x="642960" y="513792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是</a:t>
              </a:r>
              <a:r>
                <a:rPr b="0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黑猫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还是</a:t>
              </a:r>
              <a:r>
                <a:rPr b="0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老鼠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05440" y="2978280"/>
            <a:ext cx="2952720" cy="2680200"/>
            <a:chOff x="5905440" y="2978280"/>
            <a:chExt cx="2952720" cy="2680200"/>
          </a:xfrm>
        </p:grpSpPr>
        <p:pic>
          <p:nvPicPr>
            <p:cNvPr id="224" name="图片 5" descr="少妇还是老妇（2）副本.png"/>
            <p:cNvPicPr/>
            <p:nvPr/>
          </p:nvPicPr>
          <p:blipFill>
            <a:blip r:embed="rId2"/>
            <a:stretch/>
          </p:blipFill>
          <p:spPr>
            <a:xfrm>
              <a:off x="6364440" y="2978280"/>
              <a:ext cx="203436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7"/>
            <p:cNvSpPr/>
            <p:nvPr/>
          </p:nvSpPr>
          <p:spPr>
            <a:xfrm>
              <a:off x="5905440" y="513792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是</a:t>
              </a:r>
              <a:r>
                <a:rPr b="0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少妇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还是</a:t>
              </a:r>
              <a:r>
                <a:rPr b="0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老妪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TextBox 10"/>
          <p:cNvSpPr/>
          <p:nvPr/>
        </p:nvSpPr>
        <p:spPr>
          <a:xfrm>
            <a:off x="684360" y="1773360"/>
            <a:ext cx="55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眼睛会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骗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图片 11" descr="未标题-1.png"/>
          <p:cNvPicPr/>
          <p:nvPr/>
        </p:nvPicPr>
        <p:blipFill>
          <a:blip r:embed="rId3"/>
          <a:stretch/>
        </p:blipFill>
        <p:spPr>
          <a:xfrm rot="19765200">
            <a:off x="3095280" y="3029040"/>
            <a:ext cx="300348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-999"/>
                            </p:stCondLst>
                            <p:childTnLst>
                              <p:par>
                                <p:cTn id="12" nodeType="after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7"/>
          <p:cNvSpPr/>
          <p:nvPr/>
        </p:nvSpPr>
        <p:spPr>
          <a:xfrm>
            <a:off x="1547640" y="333360"/>
            <a:ext cx="70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臆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事后归因（</a:t>
            </a:r>
            <a:r>
              <a:rPr b="1" lang="en-US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post hoc, ergo prop ter hoc</a:t>
            </a: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684360" y="1773360"/>
            <a:ext cx="55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大脑会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骗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6546960" y="2857680"/>
            <a:ext cx="19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雨之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928800" y="2905200"/>
            <a:ext cx="19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面会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8"/>
          <p:cNvSpPr/>
          <p:nvPr/>
        </p:nvSpPr>
        <p:spPr>
          <a:xfrm>
            <a:off x="4259160" y="25718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不一定因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19"/>
          <p:cNvSpPr/>
          <p:nvPr/>
        </p:nvSpPr>
        <p:spPr>
          <a:xfrm>
            <a:off x="720720" y="43578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个世界上不是“一果一因”，而可能是“一果多因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20"/>
          <p:cNvSpPr/>
          <p:nvPr/>
        </p:nvSpPr>
        <p:spPr>
          <a:xfrm>
            <a:off x="720720" y="51498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溯原因，我们应该占据更全面的资料，再进行判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1"/>
          <p:cNvSpPr/>
          <p:nvPr/>
        </p:nvSpPr>
        <p:spPr>
          <a:xfrm>
            <a:off x="720720" y="59421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不是因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前，所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原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3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8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8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椭圆 16"/>
          <p:cNvSpPr/>
          <p:nvPr/>
        </p:nvSpPr>
        <p:spPr>
          <a:xfrm>
            <a:off x="324000" y="270000"/>
            <a:ext cx="1079280" cy="10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7"/>
          <p:cNvSpPr/>
          <p:nvPr/>
        </p:nvSpPr>
        <p:spPr>
          <a:xfrm>
            <a:off x="1547640" y="33336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验预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Self-fulfilling Prophe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60"/>
          <p:cNvSpPr/>
          <p:nvPr/>
        </p:nvSpPr>
        <p:spPr>
          <a:xfrm>
            <a:off x="684360" y="1773360"/>
            <a:ext cx="78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验预言：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倾向于获取结果来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验证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有的观点和行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285920" y="2543040"/>
            <a:ext cx="1368360" cy="368280"/>
            <a:chOff x="1285920" y="2543040"/>
            <a:chExt cx="1368360" cy="368280"/>
          </a:xfrm>
        </p:grpSpPr>
        <p:sp>
          <p:nvSpPr>
            <p:cNvPr id="241" name="直接连接符 30"/>
            <p:cNvSpPr/>
            <p:nvPr/>
          </p:nvSpPr>
          <p:spPr>
            <a:xfrm>
              <a:off x="1285920" y="2911320"/>
              <a:ext cx="1368360" cy="0"/>
            </a:xfrm>
            <a:prstGeom prst="line">
              <a:avLst/>
            </a:prstGeom>
            <a:ln w="28440">
              <a:solidFill>
                <a:srgbClr val="ffc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矩形 40"/>
            <p:cNvSpPr/>
            <p:nvPr/>
          </p:nvSpPr>
          <p:spPr>
            <a:xfrm>
              <a:off x="1712880" y="2543040"/>
              <a:ext cx="5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思 想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65560" y="2552760"/>
            <a:ext cx="1368360" cy="368280"/>
            <a:chOff x="4165560" y="2552760"/>
            <a:chExt cx="1368360" cy="368280"/>
          </a:xfrm>
        </p:grpSpPr>
        <p:sp>
          <p:nvSpPr>
            <p:cNvPr id="244" name="直接连接符 43"/>
            <p:cNvSpPr/>
            <p:nvPr/>
          </p:nvSpPr>
          <p:spPr>
            <a:xfrm>
              <a:off x="4165560" y="2921040"/>
              <a:ext cx="1368360" cy="0"/>
            </a:xfrm>
            <a:prstGeom prst="line">
              <a:avLst/>
            </a:prstGeom>
            <a:ln w="28440">
              <a:solidFill>
                <a:srgbClr val="ffc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44"/>
            <p:cNvSpPr/>
            <p:nvPr/>
          </p:nvSpPr>
          <p:spPr>
            <a:xfrm>
              <a:off x="4592520" y="2552760"/>
              <a:ext cx="5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行 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047000" y="2552760"/>
            <a:ext cx="1368360" cy="368280"/>
            <a:chOff x="7047000" y="2552760"/>
            <a:chExt cx="1368360" cy="368280"/>
          </a:xfrm>
        </p:grpSpPr>
        <p:sp>
          <p:nvSpPr>
            <p:cNvPr id="247" name="直接连接符 46"/>
            <p:cNvSpPr/>
            <p:nvPr/>
          </p:nvSpPr>
          <p:spPr>
            <a:xfrm>
              <a:off x="7047000" y="2921040"/>
              <a:ext cx="1368360" cy="0"/>
            </a:xfrm>
            <a:prstGeom prst="line">
              <a:avLst/>
            </a:prstGeom>
            <a:ln w="28440">
              <a:solidFill>
                <a:srgbClr val="ffc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47"/>
            <p:cNvSpPr/>
            <p:nvPr/>
          </p:nvSpPr>
          <p:spPr>
            <a:xfrm>
              <a:off x="7473960" y="2552760"/>
              <a:ext cx="5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结 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71120" y="3262320"/>
            <a:ext cx="8158320" cy="504720"/>
            <a:chOff x="771120" y="3262320"/>
            <a:chExt cx="8158320" cy="504720"/>
          </a:xfrm>
        </p:grpSpPr>
        <p:sp>
          <p:nvSpPr>
            <p:cNvPr id="250" name="双括号 22"/>
            <p:cNvSpPr/>
            <p:nvPr/>
          </p:nvSpPr>
          <p:spPr>
            <a:xfrm flipH="1">
              <a:off x="770760" y="326232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我是一个坏孩子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双括号 24"/>
            <p:cNvSpPr/>
            <p:nvPr/>
          </p:nvSpPr>
          <p:spPr>
            <a:xfrm flipH="1">
              <a:off x="3650760" y="326232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逃课、打架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双括号 25"/>
            <p:cNvSpPr/>
            <p:nvPr/>
          </p:nvSpPr>
          <p:spPr>
            <a:xfrm flipH="1">
              <a:off x="6531120" y="326232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成为“坏孩子”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燕尾形 39"/>
            <p:cNvSpPr/>
            <p:nvPr/>
          </p:nvSpPr>
          <p:spPr>
            <a:xfrm>
              <a:off x="3279240" y="3348000"/>
              <a:ext cx="236160" cy="3333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燕尾形 37"/>
            <p:cNvSpPr/>
            <p:nvPr/>
          </p:nvSpPr>
          <p:spPr>
            <a:xfrm>
              <a:off x="6198480" y="3348000"/>
              <a:ext cx="236160" cy="3333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71120" y="4210200"/>
            <a:ext cx="8158320" cy="504720"/>
            <a:chOff x="771120" y="4210200"/>
            <a:chExt cx="8158320" cy="504720"/>
          </a:xfrm>
        </p:grpSpPr>
        <p:sp>
          <p:nvSpPr>
            <p:cNvPr id="256" name="双括号 34"/>
            <p:cNvSpPr/>
            <p:nvPr/>
          </p:nvSpPr>
          <p:spPr>
            <a:xfrm flipH="1">
              <a:off x="770760" y="421020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我和朋友关系不好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双括号 35"/>
            <p:cNvSpPr/>
            <p:nvPr/>
          </p:nvSpPr>
          <p:spPr>
            <a:xfrm flipH="1">
              <a:off x="3650760" y="421020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疏远、谩骂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双括号 36"/>
            <p:cNvSpPr/>
            <p:nvPr/>
          </p:nvSpPr>
          <p:spPr>
            <a:xfrm flipH="1">
              <a:off x="6531120" y="421020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关系不好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燕尾形 48"/>
            <p:cNvSpPr/>
            <p:nvPr/>
          </p:nvSpPr>
          <p:spPr>
            <a:xfrm>
              <a:off x="3279240" y="4320000"/>
              <a:ext cx="236160" cy="3333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燕尾形 49"/>
            <p:cNvSpPr/>
            <p:nvPr/>
          </p:nvSpPr>
          <p:spPr>
            <a:xfrm>
              <a:off x="6198480" y="4291200"/>
              <a:ext cx="236160" cy="3333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71120" y="5214960"/>
            <a:ext cx="8158320" cy="504720"/>
            <a:chOff x="771120" y="5214960"/>
            <a:chExt cx="8158320" cy="504720"/>
          </a:xfrm>
        </p:grpSpPr>
        <p:sp>
          <p:nvSpPr>
            <p:cNvPr id="262" name="双括号 55"/>
            <p:cNvSpPr/>
            <p:nvPr/>
          </p:nvSpPr>
          <p:spPr>
            <a:xfrm flipH="1">
              <a:off x="770760" y="521496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通胀预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双括号 56"/>
            <p:cNvSpPr/>
            <p:nvPr/>
          </p:nvSpPr>
          <p:spPr>
            <a:xfrm flipH="1">
              <a:off x="3650760" y="521496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通货膨胀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双括号 57"/>
            <p:cNvSpPr/>
            <p:nvPr/>
          </p:nvSpPr>
          <p:spPr>
            <a:xfrm flipH="1">
              <a:off x="6531120" y="5214960"/>
              <a:ext cx="2397960" cy="504720"/>
            </a:xfrm>
            <a:prstGeom prst="bracketPair">
              <a:avLst>
                <a:gd name="adj" fmla="val 16666"/>
              </a:avLst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物资抢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燕尾形 53"/>
            <p:cNvSpPr/>
            <p:nvPr/>
          </p:nvSpPr>
          <p:spPr>
            <a:xfrm>
              <a:off x="3279240" y="5372280"/>
              <a:ext cx="236160" cy="3333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燕尾形 54"/>
            <p:cNvSpPr/>
            <p:nvPr/>
          </p:nvSpPr>
          <p:spPr>
            <a:xfrm>
              <a:off x="6198480" y="5343120"/>
              <a:ext cx="236160" cy="3333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14:52:49Z</dcterms:created>
  <dc:creator>rachel</dc:creator>
  <dc:description/>
  <dc:language>en-US</dc:language>
  <cp:lastModifiedBy>a</cp:lastModifiedBy>
  <dcterms:modified xsi:type="dcterms:W3CDTF">2015-07-20T12:52:25Z</dcterms:modified>
  <cp:revision>2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