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8133-671D-4279-95DA-457678D8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3F1-2B82-425C-8E50-34082C17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BA72-9DB7-40E3-BFAD-BF1A7009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7BE-6CE1-4331-AFF6-9B018B5F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5629-04B3-45C5-9489-A0EE459A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B3B3-75CF-4090-A613-714A3E3E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D9A2-D930-40D7-BF23-0B0766D6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88B-43AC-41AA-85AD-7964542A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3A9C-18FC-4FB6-B41A-8565BCB2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131-DCEB-4573-87A4-8122F795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7193-7C54-4E62-A3C1-6D536520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9C40-6B0E-44D3-9D40-3AB010A0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A4E7-89E2-4F86-A829-3649DAB0D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bs.ruideppt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背景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3591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shoux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284040" y="1773360"/>
            <a:ext cx="9393120" cy="32288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755640" y="2617920"/>
            <a:ext cx="55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656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81640" y="981000"/>
            <a:ext cx="27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尾谢谢动态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EA43-C07D-48B6-8FFA-27E4F4C1F1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0:34:25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04:49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