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908-9BDB-44AB-A9F6-A29448A8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4C1-3F79-470E-BF76-FA645B90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6C2F-5D03-49E7-A7BF-C87B6B0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40F8-1CE8-43CF-A26E-C94422EB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6DFD8-A7D0-4024-83A9-E713272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1B886-F688-45C5-839D-D8CBE1EF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60707-8C96-4130-8D7E-CD0058B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85CE-2655-471E-A8A1-787DA2B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01BF9-1D77-4E3C-B41B-FC5F452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310A-31E2-467F-8AA5-95ACDF03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E1147-448F-4322-9FBA-BF8B904A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95846-BD2A-4690-9E34-121ACF2D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8AA-B2D6-46B8-8BD1-2D59F580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C588-B690-4C3E-8740-AB51D98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B2615-BFEE-44F5-B66A-C01F6CC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5DB98-E177-4286-B86D-0C2CE678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B37DF-B141-4019-84C2-8369CDDF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0EBC9-4718-487D-9001-DE7835E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00CD-A48A-48A6-A2E6-B63DAE6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75CFF-A2A9-473D-B33C-631A431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2F8B8-DE3F-485A-87AA-8A6E231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A637F-AB1B-4598-91CC-74055AA3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832BF-45D5-4470-9074-66E374D4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B6B-CDBA-4F12-9658-0955DA57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1050A-1B84-4317-B156-EB3FB4F2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B8AA-358E-4996-8337-05B89EFE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7B667-2FEF-469F-9E0E-C474087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79389-8D24-4533-B807-07F3FB67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B14B-B00C-45B6-A1AB-F56E5E9B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BBE8E-2D54-4245-B4CF-9A48097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F6BAD-3D2A-450A-B36A-0FCB757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CD2E1-ECD9-4F5B-AA82-3A7BB22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89DC-BC0F-4B91-9B3D-960DF52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248FE-78CA-48F4-9E05-B71C466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8A6-7109-4E46-B99E-4C7A950E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F8100-138E-4C38-8BA6-CCDE4BA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07071-96F4-4E16-B14F-EA8CB6EB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49572-9F2D-4FEE-93FC-D8CF205B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23502-FD58-4DE8-B14F-0D9CDE66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3A098-4038-436E-BA8C-29CB3286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352BB-9105-48A3-8859-5905E2B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8B44C-ECC9-4FD7-90E3-16E1F468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9A327-4E24-4FB1-884D-75FAEFA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0B50-4889-43A7-8F78-D5E0547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708BE-6C37-4194-85DB-EF037CD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E31-135A-4964-8DE3-0F09A2F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3559-BEEE-4000-9A4C-7D6BE50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EB9E7-E902-4E2D-ACB1-E690FA8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F45F5-E723-4FE0-8D8D-5B719B5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8657F-93BB-46BD-909F-F97834C5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6C13A-486E-4D21-82D8-5B663E0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12E4E-ACBA-47E0-88FF-1666F2EC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36FAF-A75A-43C3-8D5F-8DBE3786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CCCF7-F7A1-4AA7-BE05-E2E0AD1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A231A-D69A-4941-B829-2BB4B8D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9AF9B-231B-4D91-8D65-320DA65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1E5-2EF6-40AF-9AF7-4D4C5A2C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BB933-CCEA-462D-991B-D773987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3EF63-A9E4-478F-99A2-1E98FD0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E07FC-87E0-4CF1-9AC3-1C68D58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D242C-3E65-46C5-AB99-24023D7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674CE-B7F4-44F2-A8BB-48ABD164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23053-6969-4E67-BB03-3B0F7511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FEB7F-D134-45A9-9912-A3D1C80F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C52-09D4-4014-AB47-10FC8C2C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1A7-1858-4439-AF41-97760FA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4FC7-DCB7-4DB5-AA5A-E972EDC2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14B3-A00B-44BC-B3DF-5945021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BB4-D2BD-4100-A17C-C749B3B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19E-690F-4DAE-BF1E-C9EA08B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FD8-2CB0-4DC8-B008-A9B537D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880-8D15-4360-9EAF-590F27C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041-4E81-452A-862C-4777FE8E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BD5B-63AD-43C9-8B48-A190F968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9C9E-F6FE-4FB1-8B88-34416451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358D-875E-45B3-8361-DF70853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433E-434A-4107-8F26-8A679C6E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02C4-C927-40F1-B264-F233F69F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81A9-F1E9-4388-B9B7-ED38632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1F3-42FA-4BF8-8B2D-7452E9FF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5E42-7151-455C-A725-DF581176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B520-1E21-4623-90C7-5C7C514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600C-E00E-4DD0-8C1A-24DDD09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158B-F54E-4242-AA84-8FF0B21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494E-AF46-4256-9C2D-35F0A50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F7AF-717F-4470-AB26-93D7BF16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8476-DD46-496A-8F23-9075AEE2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8B57-B34B-4038-9A1E-37C18A6B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71D7-30CD-4800-9476-B877EC6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D175-D61A-44E2-8648-7F7589B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5C4-FDC3-49BC-9439-9D6C819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44A3-2B66-4451-99FC-38F6972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4BF9-A92F-49D2-AC06-E065570E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5204-1D39-42E9-B6B7-1272F86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B5F9-A1E2-4611-B021-67670C1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237AF-E465-4D52-8369-AE417CC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2191-D8F6-47D8-A2BC-62C4A5A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5EFA-7CA2-4FD7-865F-C4337CC0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81A0-2C1D-42EB-A9CA-9EB218BC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98E0-DB9F-4611-8994-945DDDBF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CF5F-4EFB-42F7-B172-B3C2751D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653-7C0A-4B05-A76A-DBEA1E6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85BA-A52E-4673-9433-317EA968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DB83-8BDD-43D7-A88B-7EB60C67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210B-C2EC-44DC-8980-B3B2FC3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DF81-B9F9-418D-988B-0A3E116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8B2AF-04A9-401D-9CA7-7D0D6C5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65F6-F233-4256-AAB8-57E0709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1C5F-F4E5-44B4-A60A-87A8E2DE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8BCF-0586-488A-ACCA-92C3AA0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AA6E-180D-4349-9806-A59D45B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C8F2-ED86-4454-A4BB-A41C2A9E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6CD-E301-41CB-B685-02E54E1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41C0-AEF6-4B93-88A7-C8FBD6CC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4876-0967-4D1E-9D10-1F590AEC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FDD3-60F0-4C83-9B1A-B9F8DA74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7E69-15E5-4D79-905D-3F67410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1DFB-7916-4473-9E33-D7994D9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A2B4E-EADA-4580-AA60-8A497E3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343C-8529-435F-B956-E9F3DDA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F2C1-290A-48AC-89B4-A3E5CFC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38F4-FE21-4A99-9C2E-61C1D11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9D4B-2E1A-4940-836A-E4C4F50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2DE-BFB2-4A65-B677-78F6ADF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04A5-7687-42E8-83F0-3E09DAF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4947-7422-458E-A179-51E0C972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2DDA-C467-465A-84BE-8289DE0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51274-24CA-49C0-AEFC-7E77CBD4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5A68-6FA7-44B3-A54C-AE555948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5046-02D4-4AFE-A921-501D4EB0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84E42-E778-4FDF-B8EE-1EAE94B8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3558-B742-419E-AD08-9E8EC0C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14C0-39F9-45A5-A12B-E860E15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0415-CD3E-45E1-9372-C56A366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B3F-6ABA-492A-9377-C156134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01E3-FBAD-471D-BF41-F87D7A3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77C9-1C1B-4C27-84CB-00F69B8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311F-4FE8-469D-91B0-F4645C5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0131-00E0-47F1-A191-4E383F1E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9827-08DB-4A4F-9176-D203BB92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E59B-FD75-452C-9921-2DAF0EE1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66EC-9338-45D5-9494-F9CD99B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D16A2-F05C-4D7B-8C3E-52CB9CE7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77CF-7637-481E-AF36-CF0040A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2927C-8F26-4CB5-B7AB-5B96750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32A-0585-4A40-AA39-7B4C6BD7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4AA0-61FF-4039-A483-FE345F2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AEA3-A3EC-47FC-B487-7F22444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62D22-734A-4186-B752-6B32609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CF53-ED12-4DEB-BE75-A435544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0A9B-CC93-4992-905F-AC7BD8F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B947-3EEF-402C-B2F5-C442846C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58EB-FBB9-4C47-8030-D732CF72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A3675-4C48-4A3F-92D2-E2148B5E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9105B-19FA-486E-9E69-2FFF0023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9F5C-0138-4192-87CE-489E246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CD1-C084-4CEB-8C40-9D5C5A25D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DFC-9CBF-4B6D-88EB-3BFFB6BBDE5C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1DE-E8A1-4BA5-B533-368638A6F805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181-4796-4C52-AB38-9FCF5631F19B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20DE-0070-4DD4-81FB-2EE6565CA3D5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6EE5-CCC7-4300-BBC5-D20175C14F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C50E-FBC4-49C9-A2C6-3BE519E6E1D8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78D-DACA-4276-9936-0B53D72FA40C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E065-BF51-4C50-A98C-4234542CF1B3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542-E2CB-4A7E-88A0-34BD9E07073E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4102-AEF5-42C2-90E5-6CFE12EFA8C3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BF9-2572-48D6-BD7D-FEFADE15FDFC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989-0DC3-4E80-9280-3DD7E1310FE8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xwyjs.edu.cn/20020812/3063983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rcRect l="0" t="4967" r="0" b="0"/>
          <a:stretch/>
        </p:blipFill>
        <p:spPr>
          <a:xfrm>
            <a:off x="282600" y="549360"/>
            <a:ext cx="8505720" cy="5832360"/>
          </a:xfrm>
          <a:prstGeom prst="rect">
            <a:avLst/>
          </a:prstGeom>
          <a:ln w="0">
            <a:noFill/>
          </a:ln>
        </p:spPr>
      </p:pic>
      <p:sp>
        <p:nvSpPr>
          <p:cNvPr id="534" name="矩形 1"/>
          <p:cNvSpPr/>
          <p:nvPr/>
        </p:nvSpPr>
        <p:spPr>
          <a:xfrm>
            <a:off x="611280" y="10526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奇怪的大石头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PPT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模板免费下载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268200" y="6453360"/>
            <a:ext cx="28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ttp://www.eeppt.com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03280" y="1341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大坑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987640" y="1341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考察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716360" y="1268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秦岭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6300720" y="1197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流域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40328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遗迹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3059280" y="263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地震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471636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著名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6372360" y="249228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躲藏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403280" y="3933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推动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3203640" y="3933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旅行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859280" y="38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震惊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6443640" y="3860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平整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332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地质学家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3851280" y="5157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严严实实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588000" y="515772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转来转去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539640" y="2708280"/>
            <a:ext cx="9068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高地耸立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95280" y="1197000"/>
            <a:ext cx="906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大的流星在经过地球大气层时，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完全烧毁坠落到地球上的含石质较多或全部为石质的陨星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179280" y="1341360"/>
            <a:ext cx="9296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地质历史的最后一个纪。约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距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前至今。此时高纬度地区广泛地发生了多次冰川作用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-76320" y="304920"/>
            <a:ext cx="9296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横贯我国中部，东西走向的古老褶皱断层山脉。我国地理上的南北分解线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76320" y="1413000"/>
            <a:ext cx="906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从事地球物质形成和地壳构造研究，以探讨地球的形成和发展的科学家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0" name="Picture 3" descr="0812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科学家拍摄到的海上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2" name="Picture 3" descr="xinsrc_36b22d769d9a40789acdf58db312145a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冰川遗迹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纪冰川遗迹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7"/>
          <p:cNvSpPr/>
          <p:nvPr/>
        </p:nvSpPr>
        <p:spPr>
          <a:xfrm>
            <a:off x="3708360" y="763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hangye/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sucai/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tubiao/    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powerpoint/    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excel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kejian/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shiti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jiaoan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1332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奇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石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欣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赏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38" name="Picture 4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唐古拉山冰川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古拉山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遗    震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著   悄  闪  卧  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推   旅  纪  究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5040360" y="213372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藏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50920" y="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旅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148360" y="549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zànɡ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50920" y="4005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lǚ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50920" y="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040360" y="254484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震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50920" y="4005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qín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4788000" y="119700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zhèn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026"/>
          <p:cNvSpPr/>
          <p:nvPr/>
        </p:nvSpPr>
        <p:spPr>
          <a:xfrm>
            <a:off x="2362320" y="1447920"/>
            <a:ext cx="525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坑  考  秦  域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  震    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Rectangle 3"/>
          <p:cNvSpPr/>
          <p:nvPr/>
        </p:nvSpPr>
        <p:spPr>
          <a:xfrm>
            <a:off x="914400" y="251460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卧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3623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55627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考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71629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秦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3623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藏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9625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悄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55627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闪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7162920" y="9144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坑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182880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纪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39625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914400" y="8380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335268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495288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究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6629400" y="411480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震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914400" y="1371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55627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39625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39625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523880" y="1981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23623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4" name="Line 23"/>
          <p:cNvSpPr/>
          <p:nvPr/>
        </p:nvSpPr>
        <p:spPr>
          <a:xfrm>
            <a:off x="23623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5" name="Line 24"/>
          <p:cNvSpPr/>
          <p:nvPr/>
        </p:nvSpPr>
        <p:spPr>
          <a:xfrm>
            <a:off x="9144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6" name="Line 25"/>
          <p:cNvSpPr/>
          <p:nvPr/>
        </p:nvSpPr>
        <p:spPr>
          <a:xfrm>
            <a:off x="66294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7" name="Line 26"/>
          <p:cNvSpPr/>
          <p:nvPr/>
        </p:nvSpPr>
        <p:spPr>
          <a:xfrm>
            <a:off x="33526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8" name="Line 27"/>
          <p:cNvSpPr/>
          <p:nvPr/>
        </p:nvSpPr>
        <p:spPr>
          <a:xfrm>
            <a:off x="18288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9" name="Line 28"/>
          <p:cNvSpPr/>
          <p:nvPr/>
        </p:nvSpPr>
        <p:spPr>
          <a:xfrm>
            <a:off x="71629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0" name="Line 29"/>
          <p:cNvSpPr/>
          <p:nvPr/>
        </p:nvSpPr>
        <p:spPr>
          <a:xfrm>
            <a:off x="55627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1" name="Line 30"/>
          <p:cNvSpPr/>
          <p:nvPr/>
        </p:nvSpPr>
        <p:spPr>
          <a:xfrm>
            <a:off x="71629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2" name="Line 31"/>
          <p:cNvSpPr/>
          <p:nvPr/>
        </p:nvSpPr>
        <p:spPr>
          <a:xfrm>
            <a:off x="49528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3" name="Line 32"/>
          <p:cNvSpPr/>
          <p:nvPr/>
        </p:nvSpPr>
        <p:spPr>
          <a:xfrm>
            <a:off x="23623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4" name="Line 33"/>
          <p:cNvSpPr/>
          <p:nvPr/>
        </p:nvSpPr>
        <p:spPr>
          <a:xfrm>
            <a:off x="2438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5" name="Line 34"/>
          <p:cNvSpPr/>
          <p:nvPr/>
        </p:nvSpPr>
        <p:spPr>
          <a:xfrm>
            <a:off x="61722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6" name="Line 35"/>
          <p:cNvSpPr/>
          <p:nvPr/>
        </p:nvSpPr>
        <p:spPr>
          <a:xfrm>
            <a:off x="45720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7" name="Line 36"/>
          <p:cNvSpPr/>
          <p:nvPr/>
        </p:nvSpPr>
        <p:spPr>
          <a:xfrm>
            <a:off x="29718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8" name="Line 37"/>
          <p:cNvSpPr/>
          <p:nvPr/>
        </p:nvSpPr>
        <p:spPr>
          <a:xfrm>
            <a:off x="16002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9" name="Line 38"/>
          <p:cNvSpPr/>
          <p:nvPr/>
        </p:nvSpPr>
        <p:spPr>
          <a:xfrm>
            <a:off x="7772400" y="914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0" name="Line 39"/>
          <p:cNvSpPr/>
          <p:nvPr/>
        </p:nvSpPr>
        <p:spPr>
          <a:xfrm>
            <a:off x="609588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1" name="Line 40"/>
          <p:cNvSpPr/>
          <p:nvPr/>
        </p:nvSpPr>
        <p:spPr>
          <a:xfrm>
            <a:off x="457200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2" name="Line 41"/>
          <p:cNvSpPr/>
          <p:nvPr/>
        </p:nvSpPr>
        <p:spPr>
          <a:xfrm>
            <a:off x="297180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3" name="Line 42"/>
          <p:cNvSpPr/>
          <p:nvPr/>
        </p:nvSpPr>
        <p:spPr>
          <a:xfrm>
            <a:off x="152388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4" name="Line 43"/>
          <p:cNvSpPr/>
          <p:nvPr/>
        </p:nvSpPr>
        <p:spPr>
          <a:xfrm>
            <a:off x="72388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5" name="Line 44"/>
          <p:cNvSpPr/>
          <p:nvPr/>
        </p:nvSpPr>
        <p:spPr>
          <a:xfrm>
            <a:off x="396252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6" name="Line 45"/>
          <p:cNvSpPr/>
          <p:nvPr/>
        </p:nvSpPr>
        <p:spPr>
          <a:xfrm>
            <a:off x="556272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7" name="Line 46"/>
          <p:cNvSpPr/>
          <p:nvPr/>
        </p:nvSpPr>
        <p:spPr>
          <a:xfrm>
            <a:off x="769608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1066680" y="990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9" name="Rectangle 48"/>
          <p:cNvSpPr/>
          <p:nvPr/>
        </p:nvSpPr>
        <p:spPr>
          <a:xfrm>
            <a:off x="2666880" y="2666880"/>
            <a:ext cx="70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这篇课文讲了什么事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4" descr="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187280" y="2276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0"/>
            <a:ext cx="89629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仔细读课文，用“～～”勾画有关句子．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、课文中写李四光在玩捉迷藏时对大石头发生了兴趣的句子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２、写李四光跑去问老师，按老师的推测进一步思考的句子 。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、写李四光专门考察了这块大石头，弄明白大石头来历的句子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奇怪的大石头，“怪”在哪里？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新宋体"/>
              </a:rPr>
              <a:t>          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QQ截图未命名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4" descr="w"/>
          <p:cNvPicPr/>
          <p:nvPr/>
        </p:nvPicPr>
        <p:blipFill>
          <a:blip r:embed="rId1"/>
          <a:stretch/>
        </p:blipFill>
        <p:spPr>
          <a:xfrm>
            <a:off x="-860400" y="-426960"/>
            <a:ext cx="10866240" cy="7713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y"/>
          <p:cNvPicPr/>
          <p:nvPr/>
        </p:nvPicPr>
        <p:blipFill>
          <a:blip r:embed="rId2"/>
          <a:stretch/>
        </p:blipFill>
        <p:spPr>
          <a:xfrm>
            <a:off x="-396720" y="-387360"/>
            <a:ext cx="1091376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恐怕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也许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恐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也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恐怕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也许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583560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观察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5906880" y="24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提问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356000" y="4581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思考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按课文填空，体会李四光是怎样提问题的？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250920" y="29973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这么重的石头从天上掉下来，力量                               它应该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可它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？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1835280" y="4508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324000" y="52293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6372360" y="51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250920" y="59500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395280" y="981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关于这石头为什么会在这，李四光想了许多年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到他长大以后到英国学习了地质学，才明白冰川可以推动巨大的石头旅行几百里甚至上千里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后来，李四光回到家乡，专门考察了这块大石头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经过进一步的考察，他发现在长江流域有大量第四纪冰川的遗迹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1403280" y="1916280"/>
            <a:ext cx="66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69228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认真读课文，细心体会再回答：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李四光弄明白大石头来历的事中，你体会到什么？用“李四光爷爷，我想对你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句式说一说。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1" name="Picture 4" descr="j0301252"/>
          <p:cNvPicPr/>
          <p:nvPr/>
        </p:nvPicPr>
        <p:blipFill>
          <a:blip r:embed="rId1"/>
          <a:stretch/>
        </p:blipFill>
        <p:spPr>
          <a:xfrm>
            <a:off x="4462560" y="2854440"/>
            <a:ext cx="46814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四光爷爷是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勤于思考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于动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执着探索的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23a"/>
          <p:cNvPicPr/>
          <p:nvPr/>
        </p:nvPicPr>
        <p:blipFill>
          <a:blip r:embed="rId1"/>
          <a:stretch/>
        </p:blipFill>
        <p:spPr>
          <a:xfrm>
            <a:off x="533520" y="7621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WordArt 2" descr="白色大理石"/>
          <p:cNvPicPr/>
          <p:nvPr/>
        </p:nvPicPr>
        <p:blipFill>
          <a:blip r:embed="rId1"/>
          <a:stretch/>
        </p:blipFill>
        <p:spPr>
          <a:xfrm>
            <a:off x="669960" y="536400"/>
            <a:ext cx="3090960" cy="9208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684360" y="11970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有多少在工作上做出一番成就的人，他们从小就善于发现问题，勇于探索，最后为他们的成功奠定了基础，回去找找这方面的材料。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小练笔：我的小发现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PPT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之家整理发布，更多免费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PPT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模板下载请访问：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李四光"/>
          <p:cNvPicPr/>
          <p:nvPr/>
        </p:nvPicPr>
        <p:blipFill>
          <a:blip r:embed="rId1"/>
          <a:stretch/>
        </p:blipFill>
        <p:spPr>
          <a:xfrm>
            <a:off x="304920" y="304920"/>
            <a:ext cx="4109760" cy="54864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572000" y="1746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现代著名的地质科学家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毕生从事地质科学的研究和教育事业，成就卓著，是我国冰川学研究的奠基人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我国的石油事业作出了巨大贡献。</a:t>
            </a:r>
            <a:r>
              <a:rPr b="1" lang="en-US" sz="3600" spc="-1" strike="noStrike">
                <a:solidFill>
                  <a:srgbClr val="f3f6fa"/>
                </a:solidFill>
                <a:latin typeface="楷体_GB2312"/>
                <a:ea typeface="楷体_GB2312"/>
              </a:rPr>
              <a:t>(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152280"/>
            <a:ext cx="944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怪  躲闪 兴趣  历史  平整  专门  成果  卧室 推测  世纪  纪念  著名  悄悄  躲闪  陨石　大坑  突兀  旅行  考察 地质   流域  遗迹  研究 震惊  秦岭   冰川  捉迷藏  地质学家 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严严实实 转来转去  孤零零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3"/>
          <p:cNvSpPr/>
          <p:nvPr/>
        </p:nvSpPr>
        <p:spPr>
          <a:xfrm>
            <a:off x="1332000" y="69228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著名　捉迷藏　悄悄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躲闪　孤零零　陨石　大坑　卧进　　突兀　旅行　考察　　地质　流域　遗迹　　研究　震惊　秦岭　　冰川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/>
  <dc:description/>
  <cp:keywords>幻灯片之家 http:/www.eeppt.com</cp:keywords>
  <dc:language>en-US</dc:language>
  <cp:lastModifiedBy/>
  <dcterms:modified xsi:type="dcterms:W3CDTF">2015-07-20T06:4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