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28.png" ContentType="image/pn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A71-737B-4E61-AAC8-5A725145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B3B-91F2-4098-8A3A-5A3980AE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B4D15-2FEE-403B-8212-A0DF4D8A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21B9D-EDEA-4ECD-B9B1-9B497900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7EB2D-2B94-4150-849A-96ACE056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7664C-2590-4429-B963-484AAA8B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77291-9172-4B6B-B993-C7EFBF00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EBD60-A15C-4665-B5CC-136B4E29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697F5-EC81-4654-99EA-8259E420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1205E-48FE-443D-A015-4472F598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DAF45-8C5C-4D5B-8997-FC551D0D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99266-1B7F-493E-A9FA-287C90DE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A29-5317-44E0-8B1D-183552D8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933CB-4643-47ED-B5F4-D925DFB1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57CA1-8144-418E-9CE1-78798DBD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16026-321A-4ACE-B7AC-A275AEB8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EB19B-263A-4B14-97A0-2DC09804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B5E2F-2A60-4A80-BD5E-998F6EF1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F8108-63D3-4B56-B530-99891C9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687BF-3545-4114-92DB-4661B427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079EE-F283-4A8D-A8BC-CDDB88C5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2A6C0-E123-47B3-9B49-F63FEF64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5C8A8-E40D-482F-8690-BEBD3BFC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5AD-1EA2-4A98-8058-B8C50DED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36418-8080-41C8-951E-69CA031B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84773-3339-41FB-99CC-0D16A93F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C99AB-B17B-45A8-AD5E-8970303C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980A1-755F-4E2F-B900-25D0C4E0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456DB-AB3A-41F2-9D60-71EF5E4A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29013-C6B0-4633-BE13-30CC32EE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C385D-C131-41BF-913D-9F036CBF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3B629-8CA1-49FD-9806-E1A11A12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A7705-9AD0-4179-A733-EC28E7E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D7617-3005-4F4E-AD03-73824A09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45ED-19CF-4564-8344-5706A24A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C1BA3-DB5E-4E6A-9C1A-8AB25938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D63D5-34F2-47E3-B109-6BD752DC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9593F-CA4F-48B8-9813-62AC7A54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950DD-48BA-4E0B-97BA-299F2B39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8C77B-9025-4706-ACE2-49D1295A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259CB-A28C-4BE9-9E1D-04E6711C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171BF-E089-4EB4-95B6-082E2ED2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AFFAA-7A97-4755-93C7-3434BBF5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AC162-E65D-43B2-8477-BBBA1A0E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72CFC-8AE7-423C-ABAC-5B46A689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707-4422-40BE-BA5E-B58139BA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16C16-B00F-4A87-8AAD-83C3FBCD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228D3-C8A6-4BEC-9A64-2A85ADEC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ACF5C-C692-4461-853A-59A64393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322B9-C597-4A63-B1BD-9E439BBF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FF4EE-809F-468E-AEAA-10048F8A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051F5-9FF8-41F3-9E38-81A2CB83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9832C-FF2A-4AD4-924B-BF636A6C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B3AF1-8A21-4ECA-8DEF-54B85D0C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535FA-F276-4303-A6C9-D33EB802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FA74F-1EB0-4C72-B9DF-22736236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C20E-094D-4D7E-BA4A-F7487FDC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662B7-EA1B-4EC6-82A2-0EA55E9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A3F6F-89F6-4704-96A1-B8D78AE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FE4C0-A762-4BA8-B0D0-3884758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08772-A7B8-494B-8B26-AF2BEDA7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3CCBF-B5D1-4EEF-A147-C2F927D6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4C174-46A5-4905-A7D8-5A8EBFF1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4E76A-D7EA-4C70-8A5B-68FE9593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5F903-6650-4D82-AEC0-51CCF326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CAF12-2ABF-40CD-A075-D115EF20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1A872-ABDE-43CB-8C56-A882EF41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6493-9C61-4D79-B0ED-0B3E5684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B3727-B400-49EA-B4D2-CBEF73D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F48BE-A016-44E6-A53C-FBDD526E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5FE34-8518-4276-AD86-231775EA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95D52-F11E-410A-B0A5-8A5BEC8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AC4C9-78F0-414F-AFFF-A53FA78F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E8670-3210-4A3F-96D5-E0CC5CE4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E6136-80CF-4124-879D-0C9F0E92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3BE45-E722-4F12-9B09-D69F9FEF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B73A8-DF31-43FE-88E6-E26CC039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B917-7023-47C9-9C63-29C7152A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C0B3-3AEA-45DE-98FC-E9EE9D14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1E35-1BDA-4F13-9BAE-2279630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B92-1855-43FD-9BEB-6514425C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0734-F896-4B13-8433-CB22161C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C3A9-8C1B-4B3F-B0F5-E6877E77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D658-7518-4DAB-BFFF-DD166446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C8BE-75BF-42C3-9424-C0CE0269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AF0E-394A-4622-BBE2-A90554A2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9FFF-82C4-4669-ABBA-EDBE7847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39EC1-9600-4EB8-9DDC-2F99B33F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DEEC-99BA-4F00-A0F6-F01A4E7E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6A08-6AFB-4336-900B-9DE31EC0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FAB5-C781-4985-AEBF-14BB9DA5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2BA-9502-430B-8AFA-B75A3FEF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858F-21C2-480C-BDB9-4765D6F1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BBFB-5145-4033-86FC-E9C8224B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569A-161D-4FC9-950B-B6C9619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3026-B947-4EED-9DDC-5D2B4693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5851A-2F4D-4434-8205-5C189F33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29DD-8F25-4777-BFF9-2602415E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CDBD-AA0F-4CC1-8559-3750F1D6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24418-2B37-4677-BCE1-FB201457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9D11-39EC-4010-8D7A-8AC595C1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7879-D4C8-45E6-BE3E-19EB9E3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66B-455C-476F-BDED-8F2DC565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963F-FD4A-45EA-B027-995421EC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C37A-9FF5-49E4-9D8E-321940B3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08730-FC66-435E-B4E8-BB1B30D6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9848C-F25A-4709-A0EF-85386C5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3A29-EC1D-4D43-B5EA-D16C4FD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9E82-FFE5-44EB-A1B2-64439377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E289-26AC-4728-8E2A-5D4A71FB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26403-1E0F-4D8A-9B4B-1DEF915B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AE0F-B777-464B-A255-172A28C8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B316-1A94-404B-8391-0B8A2E3B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EE9-A369-4114-928F-EB52734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EBB43-7770-4BB5-90D5-7874B284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E202A-EE2F-4D6E-98E9-B2ECB4AC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588C8-65E7-447E-A222-4310EEAD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67A83-4D44-4014-AA7D-7686A165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DC0B0-59D1-466F-A8F9-FC12010C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77AE-C23E-478F-A5A9-1CA73AFE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BCE10-55DC-4EA9-88FB-FC29D3F5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A15D-91A0-4FE9-9021-CE46DB11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C82A0-E388-491F-A1E0-0573D474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0B9A-C13C-4C7C-92FD-973D6748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B77-79F5-4E47-BFE2-C94216DF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18DE2-D89C-4E6D-9CF1-D5E1B442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957D2-ECBD-422E-85DE-EF06B3D5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BBCA8-A2FD-4255-BB09-6928281D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99025-A374-4753-9098-2957C786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99D03-240E-4CEC-8AD2-3F35ED8F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5A14D-36AC-46F0-B71B-24565F20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F198F-A296-4047-AAF5-A0F1CB4B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374EC-40C9-44AC-AC43-C4F24242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0CDD3-C879-4357-A0EF-D06E93C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1DCE-5CC1-4275-B87F-7888592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83E-59FA-41FB-8288-B24709E4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6AC4-CE6F-4620-BAE6-91774A3D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3B1F2-F29F-4FA2-981F-7DC953CA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9AA68-BFAF-4A24-A738-E9513785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F8C1C-1861-405D-B29F-C0CD1379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365B5-14D2-463C-BDF1-4FD44220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DBCBE-CB51-45E6-A9FD-90D5362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652A0-0505-4C68-B474-7EAF6A7D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44007-29BE-480E-AEDC-CB3CF8AF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E3A52-360C-463C-8784-D2CD197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7550-62A5-4461-9A98-23752D1C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AF7-A251-46D0-A0DF-27652FE0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DA14-F65C-4C5B-ACCB-8A278D1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125FA-4D2E-44F7-BA02-CAA7C03A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1D99A-0EB8-4B8D-A75E-F5E308D1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F51AF-86A7-4698-915E-B8E20EB6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6F2FA-7A53-4E18-BC1F-820BB17B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10902-3C12-44F4-A146-90237738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930B0-8182-4AC5-ADE1-2E13169F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F1107-9D3B-4990-B2BE-9729B9D5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E481A-C6D2-49C0-9626-56EF5073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C122-873F-45E8-9CF8-9E29D76A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F91-E26D-479A-BE18-FDFE66E0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7B5AD-209F-48A1-B588-9285B8A7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36171-6D8F-489F-A5E2-3BF17C6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BC718-75FE-4F90-82F6-3C1E7C11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DE753-2734-4B99-BABA-5FB7E7FA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0B328-A513-49F4-909F-4A79C295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03E34-47BA-4BCA-8D3A-8744CB08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DB5BF-DE28-4469-872B-97432853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A6ACC-788B-4FD8-A8F0-CC541FF7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8CC01-390B-40A0-BA19-C0F3234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41740-6E80-41BA-9DE8-6689CE9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0A82-BA31-49EA-8CED-8F6798B559AD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BA68-4A36-4358-8E28-7FEF43E838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993-DE45-4F2C-BCB8-F9D494AA49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D3A6-E21E-4041-9402-57E507BBBA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57FC-A3CD-43EC-AF28-6DEA0CB533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AACE-5F66-4CA7-A4BE-B503B3118A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8BC6-1189-436C-B8F3-F7EC9908FE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E3AE-7332-4F27-8B58-1F8F71F4F3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F234-34F5-4C35-958C-544CC7949A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29DF-A3D6-443F-9F74-8B1CD67612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BA5F-2B9D-41E5-A720-06E7C73C93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4BE0-DB09-410A-876E-075A6F1137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A586-2C0C-4F79-A71B-E9ED42C3DF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9DE7-7F2A-4D76-9056-9692048226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4756-BDF8-4B41-99C1-2D27B41463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http://pic2.nipic.com/20090420/60154_091931063_2.jpg"/>
          <p:cNvPicPr/>
          <p:nvPr/>
        </p:nvPicPr>
        <p:blipFill>
          <a:blip r:embed="rId1"/>
          <a:srcRect l="0" t="7712" r="0" b="0"/>
          <a:stretch/>
        </p:blipFill>
        <p:spPr>
          <a:xfrm>
            <a:off x="2286000" y="642960"/>
            <a:ext cx="4286160" cy="4944960"/>
          </a:xfrm>
          <a:prstGeom prst="rect">
            <a:avLst/>
          </a:prstGeom>
          <a:ln w="0">
            <a:noFill/>
          </a:ln>
        </p:spPr>
      </p:pic>
      <p:pic>
        <p:nvPicPr>
          <p:cNvPr id="575" name="TextBox 3" descr=""/>
          <p:cNvPicPr/>
          <p:nvPr/>
        </p:nvPicPr>
        <p:blipFill>
          <a:blip r:embed="rId2"/>
          <a:stretch/>
        </p:blipFill>
        <p:spPr>
          <a:xfrm>
            <a:off x="1859040" y="4773600"/>
            <a:ext cx="6559560" cy="1712880"/>
          </a:xfrm>
          <a:prstGeom prst="rect">
            <a:avLst/>
          </a:prstGeom>
          <a:ln w="0">
            <a:noFill/>
          </a:ln>
        </p:spPr>
      </p:pic>
      <p:sp>
        <p:nvSpPr>
          <p:cNvPr id="576" name="矩形 1"/>
          <p:cNvSpPr/>
          <p:nvPr/>
        </p:nvSpPr>
        <p:spPr>
          <a:xfrm>
            <a:off x="2496960" y="2890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何识别假新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http://www.web07.cn/uploads/Vector/c100815/12QS942W50-24L0.jpg"/>
          <p:cNvPicPr/>
          <p:nvPr/>
        </p:nvPicPr>
        <p:blipFill>
          <a:blip r:embed="rId1"/>
          <a:srcRect l="3679" t="9378" r="2098" b="11464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http://www.web07.cn/uploads/Vector/c100815/12QS942W50-24L0.jpg"/>
          <p:cNvPicPr/>
          <p:nvPr/>
        </p:nvPicPr>
        <p:blipFill>
          <a:blip r:embed="rId2"/>
          <a:srcRect l="3679" t="0" r="9455" b="92717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580" name="TextBox 3" descr=""/>
          <p:cNvPicPr/>
          <p:nvPr/>
        </p:nvPicPr>
        <p:blipFill>
          <a:blip r:embed="rId3"/>
          <a:stretch/>
        </p:blipFill>
        <p:spPr>
          <a:xfrm>
            <a:off x="3005280" y="1779480"/>
            <a:ext cx="1358640" cy="1030320"/>
          </a:xfrm>
          <a:prstGeom prst="rect">
            <a:avLst/>
          </a:prstGeom>
          <a:ln w="0">
            <a:noFill/>
          </a:ln>
        </p:spPr>
      </p:pic>
      <p:pic>
        <p:nvPicPr>
          <p:cNvPr id="581" name="TextBox 4" descr=""/>
          <p:cNvPicPr/>
          <p:nvPr/>
        </p:nvPicPr>
        <p:blipFill>
          <a:blip r:embed="rId4"/>
          <a:stretch/>
        </p:blipFill>
        <p:spPr>
          <a:xfrm>
            <a:off x="6881760" y="1779480"/>
            <a:ext cx="1408320" cy="72576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5" descr=""/>
          <p:cNvPicPr/>
          <p:nvPr/>
        </p:nvPicPr>
        <p:blipFill>
          <a:blip r:embed="rId5"/>
          <a:stretch/>
        </p:blipFill>
        <p:spPr>
          <a:xfrm>
            <a:off x="1011240" y="2066760"/>
            <a:ext cx="1066680" cy="785880"/>
          </a:xfrm>
          <a:prstGeom prst="rect">
            <a:avLst/>
          </a:prstGeom>
          <a:ln w="0">
            <a:noFill/>
          </a:ln>
        </p:spPr>
      </p:pic>
      <p:pic>
        <p:nvPicPr>
          <p:cNvPr id="583" name="TextBox 6" descr=""/>
          <p:cNvPicPr/>
          <p:nvPr/>
        </p:nvPicPr>
        <p:blipFill>
          <a:blip r:embed="rId6"/>
          <a:stretch/>
        </p:blipFill>
        <p:spPr>
          <a:xfrm>
            <a:off x="5084640" y="1798560"/>
            <a:ext cx="1517760" cy="1378080"/>
          </a:xfrm>
          <a:prstGeom prst="rect">
            <a:avLst/>
          </a:prstGeom>
          <a:ln w="0">
            <a:noFill/>
          </a:ln>
        </p:spPr>
      </p:pic>
      <p:pic>
        <p:nvPicPr>
          <p:cNvPr id="584" name="TextBox 7" descr=""/>
          <p:cNvPicPr/>
          <p:nvPr/>
        </p:nvPicPr>
        <p:blipFill>
          <a:blip r:embed="rId7"/>
          <a:stretch/>
        </p:blipFill>
        <p:spPr>
          <a:xfrm>
            <a:off x="1536840" y="109440"/>
            <a:ext cx="64800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http://www.web07.cn/uploads/Photo/c100722/12OL5D2H0-45948.jpg"/>
          <p:cNvPicPr/>
          <p:nvPr/>
        </p:nvPicPr>
        <p:blipFill>
          <a:blip r:embed="rId1"/>
          <a:srcRect l="0" t="0" r="0" b="4817"/>
          <a:stretch/>
        </p:blipFill>
        <p:spPr>
          <a:xfrm>
            <a:off x="0" y="3373560"/>
            <a:ext cx="2928960" cy="3484440"/>
          </a:xfrm>
          <a:prstGeom prst="rect">
            <a:avLst/>
          </a:prstGeom>
          <a:ln w="0">
            <a:noFill/>
          </a:ln>
        </p:spPr>
      </p:pic>
      <p:pic>
        <p:nvPicPr>
          <p:cNvPr id="586" name="矩形 9" descr=""/>
          <p:cNvPicPr/>
          <p:nvPr/>
        </p:nvPicPr>
        <p:blipFill>
          <a:blip r:embed="rId2"/>
          <a:stretch/>
        </p:blipFill>
        <p:spPr>
          <a:xfrm>
            <a:off x="-155520" y="249120"/>
            <a:ext cx="5452920" cy="989280"/>
          </a:xfrm>
          <a:prstGeom prst="rect">
            <a:avLst/>
          </a:prstGeom>
          <a:ln w="0">
            <a:noFill/>
          </a:ln>
        </p:spPr>
      </p:pic>
      <p:pic>
        <p:nvPicPr>
          <p:cNvPr id="587" name="TextBox 2" descr=""/>
          <p:cNvPicPr/>
          <p:nvPr/>
        </p:nvPicPr>
        <p:blipFill>
          <a:blip r:embed="rId3"/>
          <a:stretch/>
        </p:blipFill>
        <p:spPr>
          <a:xfrm>
            <a:off x="3992400" y="1494000"/>
            <a:ext cx="4730760" cy="1298520"/>
          </a:xfrm>
          <a:prstGeom prst="rect">
            <a:avLst/>
          </a:prstGeom>
          <a:ln w="0">
            <a:noFill/>
          </a:ln>
        </p:spPr>
      </p:pic>
      <p:pic>
        <p:nvPicPr>
          <p:cNvPr id="588" name="矩形 4" descr=""/>
          <p:cNvPicPr/>
          <p:nvPr/>
        </p:nvPicPr>
        <p:blipFill>
          <a:blip r:embed="rId4"/>
          <a:stretch/>
        </p:blipFill>
        <p:spPr>
          <a:xfrm>
            <a:off x="4280040" y="2901960"/>
            <a:ext cx="42307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矩形 9" descr=""/>
          <p:cNvPicPr/>
          <p:nvPr/>
        </p:nvPicPr>
        <p:blipFill>
          <a:blip r:embed="rId1"/>
          <a:stretch/>
        </p:blipFill>
        <p:spPr>
          <a:xfrm>
            <a:off x="-155520" y="249120"/>
            <a:ext cx="5452920" cy="989280"/>
          </a:xfrm>
          <a:prstGeom prst="rect">
            <a:avLst/>
          </a:prstGeom>
          <a:ln w="0">
            <a:noFill/>
          </a:ln>
        </p:spPr>
      </p:pic>
      <p:pic>
        <p:nvPicPr>
          <p:cNvPr id="590" name="TextBox 6" descr=""/>
          <p:cNvPicPr/>
          <p:nvPr/>
        </p:nvPicPr>
        <p:blipFill>
          <a:blip r:embed="rId2"/>
          <a:stretch/>
        </p:blipFill>
        <p:spPr>
          <a:xfrm>
            <a:off x="420840" y="1542960"/>
            <a:ext cx="5583240" cy="4894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http://www.web07.cn/uploads/Photo/c100722/12OL5C5P-120D.jpg"/>
          <p:cNvPicPr/>
          <p:nvPr/>
        </p:nvPicPr>
        <p:blipFill>
          <a:blip r:embed="rId3"/>
          <a:stretch/>
        </p:blipFill>
        <p:spPr>
          <a:xfrm>
            <a:off x="4572000" y="2214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http://pic12.nipic.com/20101229/4750538_141342023147_2.jpg"/>
          <p:cNvPicPr/>
          <p:nvPr/>
        </p:nvPicPr>
        <p:blipFill>
          <a:blip r:embed="rId1"/>
          <a:srcRect l="1464" t="0" r="51271" b="26740"/>
          <a:stretch/>
        </p:blipFill>
        <p:spPr>
          <a:xfrm>
            <a:off x="0" y="1143000"/>
            <a:ext cx="4610160" cy="5715000"/>
          </a:xfrm>
          <a:prstGeom prst="rect">
            <a:avLst/>
          </a:prstGeom>
          <a:ln w="0">
            <a:noFill/>
          </a:ln>
        </p:spPr>
      </p:pic>
      <p:pic>
        <p:nvPicPr>
          <p:cNvPr id="593" name="矩形 9" descr=""/>
          <p:cNvPicPr/>
          <p:nvPr/>
        </p:nvPicPr>
        <p:blipFill>
          <a:blip r:embed="rId2"/>
          <a:stretch/>
        </p:blipFill>
        <p:spPr>
          <a:xfrm>
            <a:off x="-155520" y="249120"/>
            <a:ext cx="5452920" cy="989280"/>
          </a:xfrm>
          <a:prstGeom prst="rect">
            <a:avLst/>
          </a:prstGeom>
          <a:ln w="0">
            <a:noFill/>
          </a:ln>
        </p:spPr>
      </p:pic>
      <p:pic>
        <p:nvPicPr>
          <p:cNvPr id="594" name="矩形 4" descr=""/>
          <p:cNvPicPr/>
          <p:nvPr/>
        </p:nvPicPr>
        <p:blipFill>
          <a:blip r:embed="rId3"/>
          <a:stretch/>
        </p:blipFill>
        <p:spPr>
          <a:xfrm>
            <a:off x="3706920" y="2212920"/>
            <a:ext cx="5303880" cy="1262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Google"/>
          <p:cNvPicPr/>
          <p:nvPr/>
        </p:nvPicPr>
        <p:blipFill>
          <a:blip r:embed="rId4"/>
          <a:stretch/>
        </p:blipFill>
        <p:spPr>
          <a:xfrm>
            <a:off x="987480" y="2266920"/>
            <a:ext cx="2189160" cy="2408400"/>
          </a:xfrm>
          <a:prstGeom prst="rect">
            <a:avLst/>
          </a:prstGeom>
          <a:ln w="0">
            <a:noFill/>
          </a:ln>
        </p:spPr>
      </p:pic>
      <p:pic>
        <p:nvPicPr>
          <p:cNvPr id="596" name="矩形 7" descr=""/>
          <p:cNvPicPr/>
          <p:nvPr/>
        </p:nvPicPr>
        <p:blipFill>
          <a:blip r:embed="rId5"/>
          <a:stretch/>
        </p:blipFill>
        <p:spPr>
          <a:xfrm>
            <a:off x="1158840" y="3103560"/>
            <a:ext cx="2747880" cy="1004760"/>
          </a:xfrm>
          <a:prstGeom prst="rect">
            <a:avLst/>
          </a:prstGeom>
          <a:ln w="0">
            <a:noFill/>
          </a:ln>
        </p:spPr>
      </p:pic>
      <p:sp>
        <p:nvSpPr>
          <p:cNvPr id="597" name="任意多边形 10"/>
          <p:cNvSpPr/>
          <p:nvPr/>
        </p:nvSpPr>
        <p:spPr>
          <a:xfrm>
            <a:off x="3657600" y="1954080"/>
            <a:ext cx="5278320" cy="384480"/>
          </a:xfrm>
          <a:custGeom>
            <a:avLst/>
            <a:gdLst>
              <a:gd name="textAreaLeft" fmla="*/ 0 w 5278320"/>
              <a:gd name="textAreaRight" fmla="*/ 5278320 w 527832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5278582" h="385619">
                <a:moveTo>
                  <a:pt x="0" y="249382"/>
                </a:moveTo>
                <a:cubicBezTo>
                  <a:pt x="353291" y="124691"/>
                  <a:pt x="706582" y="0"/>
                  <a:pt x="1025236" y="13854"/>
                </a:cubicBezTo>
                <a:cubicBezTo>
                  <a:pt x="1343890" y="27708"/>
                  <a:pt x="1544782" y="318654"/>
                  <a:pt x="1911927" y="332509"/>
                </a:cubicBezTo>
                <a:cubicBezTo>
                  <a:pt x="2279073" y="346364"/>
                  <a:pt x="2780145" y="94673"/>
                  <a:pt x="3228109" y="96982"/>
                </a:cubicBezTo>
                <a:cubicBezTo>
                  <a:pt x="3676073" y="99291"/>
                  <a:pt x="4257964" y="307110"/>
                  <a:pt x="4599709" y="346364"/>
                </a:cubicBezTo>
                <a:cubicBezTo>
                  <a:pt x="4941455" y="385619"/>
                  <a:pt x="5278582" y="332509"/>
                  <a:pt x="5278582" y="332509"/>
                </a:cubicBezTo>
              </a:path>
            </a:pathLst>
          </a:cu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11"/>
          <p:cNvSpPr/>
          <p:nvPr/>
        </p:nvSpPr>
        <p:spPr>
          <a:xfrm>
            <a:off x="3786120" y="3286080"/>
            <a:ext cx="5278680" cy="385920"/>
          </a:xfrm>
          <a:custGeom>
            <a:avLst/>
            <a:gdLst>
              <a:gd name="textAreaLeft" fmla="*/ 0 w 5278680"/>
              <a:gd name="textAreaRight" fmla="*/ 5279040 w 527868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278582" h="385619">
                <a:moveTo>
                  <a:pt x="0" y="249382"/>
                </a:moveTo>
                <a:cubicBezTo>
                  <a:pt x="353291" y="124691"/>
                  <a:pt x="706582" y="0"/>
                  <a:pt x="1025236" y="13854"/>
                </a:cubicBezTo>
                <a:cubicBezTo>
                  <a:pt x="1343890" y="27708"/>
                  <a:pt x="1544782" y="318654"/>
                  <a:pt x="1911927" y="332509"/>
                </a:cubicBezTo>
                <a:cubicBezTo>
                  <a:pt x="2279073" y="346364"/>
                  <a:pt x="2780145" y="94673"/>
                  <a:pt x="3228109" y="96982"/>
                </a:cubicBezTo>
                <a:cubicBezTo>
                  <a:pt x="3676073" y="99291"/>
                  <a:pt x="4257964" y="307110"/>
                  <a:pt x="4599709" y="346364"/>
                </a:cubicBezTo>
                <a:cubicBezTo>
                  <a:pt x="4941455" y="385619"/>
                  <a:pt x="5278582" y="332509"/>
                  <a:pt x="5278582" y="332509"/>
                </a:cubicBezTo>
              </a:path>
            </a:pathLst>
          </a:cu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http://www.yaco.cc/uploadfile/20110510/20110510003301113.jpg"/>
          <p:cNvPicPr/>
          <p:nvPr/>
        </p:nvPicPr>
        <p:blipFill>
          <a:blip r:embed="rId1"/>
          <a:srcRect l="12943" t="11624" r="11996" b="11149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矩形 2" descr=""/>
          <p:cNvPicPr/>
          <p:nvPr/>
        </p:nvPicPr>
        <p:blipFill>
          <a:blip r:embed="rId2"/>
          <a:stretch/>
        </p:blipFill>
        <p:spPr>
          <a:xfrm>
            <a:off x="4565520" y="1481040"/>
            <a:ext cx="5158080" cy="3224160"/>
          </a:xfrm>
          <a:prstGeom prst="rect">
            <a:avLst/>
          </a:prstGeom>
          <a:ln w="0">
            <a:noFill/>
          </a:ln>
        </p:spPr>
      </p:pic>
      <p:pic>
        <p:nvPicPr>
          <p:cNvPr id="601" name="TextBox 4" descr=""/>
          <p:cNvPicPr/>
          <p:nvPr/>
        </p:nvPicPr>
        <p:blipFill>
          <a:blip r:embed="rId3"/>
          <a:stretch/>
        </p:blipFill>
        <p:spPr>
          <a:xfrm>
            <a:off x="133200" y="1994040"/>
            <a:ext cx="4305600" cy="4297320"/>
          </a:xfrm>
          <a:prstGeom prst="rect">
            <a:avLst/>
          </a:prstGeom>
          <a:ln w="0">
            <a:noFill/>
          </a:ln>
        </p:spPr>
      </p:pic>
      <p:pic>
        <p:nvPicPr>
          <p:cNvPr id="602" name="矩形 9" descr=""/>
          <p:cNvPicPr/>
          <p:nvPr/>
        </p:nvPicPr>
        <p:blipFill>
          <a:blip r:embed="rId4"/>
          <a:stretch/>
        </p:blipFill>
        <p:spPr>
          <a:xfrm>
            <a:off x="-155520" y="249120"/>
            <a:ext cx="545940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矩形 9" descr=""/>
          <p:cNvPicPr/>
          <p:nvPr/>
        </p:nvPicPr>
        <p:blipFill>
          <a:blip r:embed="rId1"/>
          <a:stretch/>
        </p:blipFill>
        <p:spPr>
          <a:xfrm>
            <a:off x="-155520" y="249120"/>
            <a:ext cx="5452920" cy="9892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http://pic9.nipic.com/20100824/2531170_080029467356_2.jpg"/>
          <p:cNvPicPr/>
          <p:nvPr/>
        </p:nvPicPr>
        <p:blipFill>
          <a:blip r:embed="rId2"/>
          <a:srcRect l="0" t="0" r="0" b="4236"/>
          <a:stretch/>
        </p:blipFill>
        <p:spPr>
          <a:xfrm>
            <a:off x="2708280" y="2500200"/>
            <a:ext cx="6435720" cy="4357800"/>
          </a:xfrm>
          <a:prstGeom prst="rect">
            <a:avLst/>
          </a:prstGeom>
          <a:ln w="0">
            <a:noFill/>
          </a:ln>
        </p:spPr>
      </p:pic>
      <p:pic>
        <p:nvPicPr>
          <p:cNvPr id="608" name="矩形 3" descr=""/>
          <p:cNvPicPr/>
          <p:nvPr/>
        </p:nvPicPr>
        <p:blipFill>
          <a:blip r:embed="rId3"/>
          <a:stretch/>
        </p:blipFill>
        <p:spPr>
          <a:xfrm>
            <a:off x="-228600" y="701640"/>
            <a:ext cx="103791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9:30Z</dcterms:modified>
  <cp:revision>0</cp:revision>
  <dc:subject/>
  <dc:title/>
</cp:coreProperties>
</file>