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B3C-7126-4FE1-8933-7CC0D9A4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8E7-0E18-493D-914A-4FCDE384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BB6-4394-42E8-A913-70B731F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920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832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4008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920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832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825-AB9C-4183-BFEB-F9D3C805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AEC4-D266-4E48-89A6-7D0CD61F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4CCD-1F4B-4B17-805F-A27965B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239F-99FF-4301-8B56-5958703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AAA1-DD2D-4630-89F2-727FD4FC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6C88-22BC-499C-A1AE-C5DB32E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40080" y="274320"/>
            <a:ext cx="63165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FE3D-695E-4DDC-A9A5-FF239DDB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12E0-28FE-4D54-85B7-4C728EE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804-0671-4F49-8F97-F436201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726F-F67B-4A2E-A3D6-40BE7A1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CA4-6792-4FE7-8A7E-A31F414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4129-8E97-4DED-A406-4A3448CF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6D7D-A223-486F-B2A4-C26B19B8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920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8320" y="18284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4008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7920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8320" y="4073040"/>
            <a:ext cx="203688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40EE-4B69-4AB4-AE56-6ACF9486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5FE-2C90-46AC-917C-A462963F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5B7-AC2C-44C5-A064-E15FF050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64D-5F94-4EBA-A83A-E8641121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40080" y="274320"/>
            <a:ext cx="631656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EF0-FA13-4CD4-B49A-ABC3E924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042-556D-4515-ACDC-CDECCF1E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1880" y="40730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38F8-08C6-4F4E-B3A9-436D339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880" y="1828440"/>
            <a:ext cx="30870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40080" y="4073040"/>
            <a:ext cx="63259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79B-5E8E-4E65-89CF-7FE4901C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138D-7AAF-46A6-B9D8-3215C5ACD5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B8F2-2AB8-4933-8E7C-E5B8E801775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zine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1440" y="22856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he County of Agent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pres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76212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人民币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Agent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sland off the coast of Loki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opical Paradise in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Verge of An Economic Overha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Opportunities Ga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posed Growth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Object 3" descr=""/>
          <p:cNvPicPr/>
          <p:nvPr/>
        </p:nvPicPr>
        <p:blipFill>
          <a:blip r:embed="rId2"/>
          <a:stretch/>
        </p:blipFill>
        <p:spPr>
          <a:xfrm>
            <a:off x="2697120" y="1600200"/>
            <a:ext cx="63468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 Paradise W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ha WX678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kil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one: xxx xxx xx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: </a:t>
            </a:r>
            <a:r>
              <a:rPr b="0" lang="en-US" sz="2400" spc="-1" strike="noStrike" u="sng">
                <a:solidFill>
                  <a:srgbClr val="7beaea"/>
                </a:solidFill>
                <a:uFillTx/>
                <a:latin typeface="Arial"/>
                <a:hlinkClick r:id="rId2"/>
              </a:rPr>
              <a:t>http://www.indezine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40080" y="274320"/>
            <a:ext cx="631656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40080" y="1828440"/>
            <a:ext cx="6325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beae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7697-9D73-478E-ACE5-F8C65D0791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144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pyright, Concept &amp; Cre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tesh Baja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