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542-73BB-45BA-9C60-604A165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AC0-B050-445E-BF8B-3A31C64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B25-DD61-4073-966C-D430820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076-BB11-4663-A710-4F76E49E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0892-7656-4405-85EE-3CCB68D3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F03-D9CA-45DF-A6EA-D71A50D9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1B20-2A6A-433F-80FA-6FA6C3F3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2830-10F8-45E5-857D-ABE5CDF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2AC-71D7-404C-85B0-473B8103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246B-83FC-4896-90B6-442B4E1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10D-6701-41EB-9920-1AAAA05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CBF-E419-421C-B437-E314030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52E-2FE9-431A-A439-523A1F1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E8A-B852-4682-B483-070E200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1F40-3D1F-40CF-AFB8-F5EC9D6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BA55-39B0-4843-A76B-83366C7B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51DC-75B3-436F-B627-E548F70E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63D-027D-47ED-861B-D2FF084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5AB-F3C8-4256-8F95-DBC2893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DB2-C257-44A5-88A3-98483670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2EB-C925-4D5D-BA69-288C9FC7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A51-3D4C-433C-B4E6-BF3F72D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0AF-BEAE-46FD-8772-9DE96E0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518-93B7-41CC-ACE7-65466BBC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6F6-4FE1-4499-A961-D327390009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9CA2-239A-49DF-B307-21D089D45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BC0A-37F1-4CA6-8DCA-9AF56783D8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A744-B351-433F-8AEC-7F008E9BD8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50fe4e6615301c0b93fcb7d6da5867a9" descr=""/>
          <p:cNvPicPr/>
          <p:nvPr/>
        </p:nvPicPr>
        <p:blipFill>
          <a:blip r:embed="rId1"/>
          <a:stretch/>
        </p:blipFill>
        <p:spPr>
          <a:xfrm>
            <a:off x="92160" y="1440"/>
            <a:ext cx="8975520" cy="6820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1720" y="4129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闪光点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FFC-D8DF-4096-ACF5-E36A551112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