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0FD-A1D5-4A45-82E9-BC1EFE75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388E-E778-4D79-BBFC-D13DFE90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046F-A810-49FE-8E30-007B4D5A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29D-F1CB-4FE9-BA9C-E62D1A58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4A4F-5CB6-4121-BB70-70C8346F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393F-7DA3-4867-A8EB-72EB61FC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C17B-2283-4CAA-9AC1-4845F28C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50A-A0E7-49B2-A8D9-1B779D96A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D0C3-D2A1-45BD-B544-5C8EDB9D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DBE7-3175-430C-88EB-7323341A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EEF-2C5E-4624-884A-E0A6AAF3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78E-4B7B-45F5-B0A9-9B2F119A0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9514-3D34-4DD7-84EE-1FE15B46F53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DCB5-82A7-4754-AC30-F765C67710F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09680" y="698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汉仪大宋简"/>
                <a:ea typeface="汉仪大宋简"/>
              </a:rPr>
              <a:t>水果美食</a:t>
            </a:r>
            <a:r>
              <a:rPr b="0" lang="zh-CN" sz="4400" spc="-1" strike="noStrike">
                <a:solidFill>
                  <a:srgbClr val="ff0000"/>
                </a:solidFill>
                <a:latin typeface="汉仪大宋简"/>
                <a:ea typeface="汉仪大宋简"/>
              </a:rPr>
              <a:t>PPT</a:t>
            </a:r>
            <a:r>
              <a:rPr b="0" lang="zh-CN" sz="4400" spc="-1" strike="noStrike">
                <a:solidFill>
                  <a:srgbClr val="ff0000"/>
                </a:solidFill>
                <a:latin typeface="汉仪大宋简"/>
                <a:ea typeface="汉仪大宋简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42920" y="23605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3309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17760" y="1290240"/>
            <a:ext cx="67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517760" y="2460240"/>
            <a:ext cx="6710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6128"/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4f6128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3600" y="274320"/>
            <a:ext cx="67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433600" y="1444320"/>
            <a:ext cx="6710400" cy="42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e Effective Present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Awesome Backgr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age your Aud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pture Audience Att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EC84-3112-4C77-A664-867CDD2614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0Z</dcterms:created>
  <dc:creator>Julian</dc:creator>
  <dc:description/>
  <dc:language>en-US</dc:language>
  <cp:lastModifiedBy>lenovo</cp:lastModifiedBy>
  <dcterms:modified xsi:type="dcterms:W3CDTF">2015-07-21T02:48:37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