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49B-71E4-4DD7-9F03-8A46A16F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427-5C4B-476C-8911-5058AC6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8F-971F-4DD0-B916-2F67339E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CD8-CF5A-43D0-B6B0-B49AEE63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15F-CF61-47A9-B357-EEBE0C5F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9A6-11A9-48B7-A645-94FA7A8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1010-3D47-4282-9847-7D7B7383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4B3-42D9-4E0A-B44D-4E74BA1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458-F24E-4C66-AF4E-D8D453D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7501-4538-42ED-A54F-EE7EF61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129-4397-4D51-BBED-44F96CE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F35-BF2D-4F7A-994A-0F26671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3FAA-C46A-4E4F-8C15-81341EBD6F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9093-4DCB-4E67-9DF7-A426040B61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2801880" y="-23760"/>
            <a:ext cx="12192120" cy="809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890640"/>
          <a:ext cx="12192120" cy="5075280"/>
        </p:xfrm>
        <a:graphic>
          <a:graphicData uri="http://schemas.openxmlformats.org/drawingml/2006/table">
            <a:tbl>
              <a:tblPr/>
              <a:tblGrid>
                <a:gridCol w="1015920"/>
                <a:gridCol w="507960"/>
                <a:gridCol w="507960"/>
                <a:gridCol w="1016280"/>
                <a:gridCol w="1015920"/>
                <a:gridCol w="507960"/>
                <a:gridCol w="50796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5a4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6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1c120c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矩形 5"/>
          <p:cNvSpPr/>
          <p:nvPr/>
        </p:nvSpPr>
        <p:spPr>
          <a:xfrm>
            <a:off x="41400" y="0"/>
            <a:ext cx="12191760" cy="9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生活中隐藏的哲理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4027320" y="239400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933560" y="2854440"/>
            <a:ext cx="38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941400" y="1846440"/>
            <a:ext cx="4795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1479600" y="2909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8"/>
          <p:cNvGrpSpPr/>
          <p:nvPr/>
        </p:nvGrpSpPr>
        <p:grpSpPr>
          <a:xfrm>
            <a:off x="8183520" y="1001880"/>
            <a:ext cx="1084320" cy="898200"/>
            <a:chOff x="8183520" y="1001880"/>
            <a:chExt cx="1084320" cy="898200"/>
          </a:xfrm>
        </p:grpSpPr>
        <p:sp>
          <p:nvSpPr>
            <p:cNvPr id="50" name="文本框 17"/>
            <p:cNvSpPr/>
            <p:nvPr/>
          </p:nvSpPr>
          <p:spPr>
            <a:xfrm>
              <a:off x="8212680" y="1530720"/>
              <a:ext cx="10551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8183520" y="1001880"/>
              <a:ext cx="9496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4080" y="6362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1D0-EF10-4955-A82E-72132E7F9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"/>
          <p:cNvPicPr/>
          <p:nvPr/>
        </p:nvPicPr>
        <p:blipFill>
          <a:blip r:embed="rId1"/>
          <a:srcRect l="0" t="6837" r="0" b="7351"/>
          <a:stretch/>
        </p:blipFill>
        <p:spPr>
          <a:xfrm rot="12208800">
            <a:off x="5364000" y="-503280"/>
            <a:ext cx="7647120" cy="6897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2"/>
          <a:stretch/>
        </p:blipFill>
        <p:spPr>
          <a:xfrm>
            <a:off x="7105680" y="915840"/>
            <a:ext cx="4165560" cy="306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矩形 13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7"/>
          <p:cNvSpPr/>
          <p:nvPr/>
        </p:nvSpPr>
        <p:spPr>
          <a:xfrm>
            <a:off x="7135920" y="1925640"/>
            <a:ext cx="1004760" cy="2043000"/>
          </a:xfrm>
          <a:prstGeom prst="rect">
            <a:avLst/>
          </a:prstGeom>
          <a:solidFill>
            <a:srgbClr val="0a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7058160" y="1938240"/>
            <a:ext cx="1195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蜘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1290600" y="3225960"/>
            <a:ext cx="54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能坐享其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靠的就是那</a:t>
            </a:r>
            <a:r>
              <a:rPr b="1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张关系网</a:t>
            </a:r>
            <a:r>
              <a:rPr b="0" lang="zh-CN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2" descr=""/>
          <p:cNvPicPr/>
          <p:nvPr/>
        </p:nvPicPr>
        <p:blipFill>
          <a:blip r:embed="rId1"/>
          <a:srcRect l="12605" t="0" r="0" b="-67"/>
          <a:stretch/>
        </p:blipFill>
        <p:spPr>
          <a:xfrm>
            <a:off x="5880240" y="903240"/>
            <a:ext cx="6311880" cy="498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矩形 19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1146240" y="40291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正大黑简体"/>
                <a:ea typeface="方正正大黑简体"/>
              </a:rPr>
              <a:t>大红之日，便是大悲。</a:t>
            </a:r>
            <a:r>
              <a:rPr b="0" lang="zh-CN" sz="4800" spc="-1" strike="noStrike">
                <a:solidFill>
                  <a:srgbClr val="c00000"/>
                </a:solidFill>
                <a:latin typeface="Arial"/>
                <a:ea typeface="方正正大黑简体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8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3"/>
          <p:cNvSpPr/>
          <p:nvPr/>
        </p:nvSpPr>
        <p:spPr>
          <a:xfrm>
            <a:off x="6122880" y="1944720"/>
            <a:ext cx="1005120" cy="1004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4"/>
          <p:cNvSpPr/>
          <p:nvPr/>
        </p:nvSpPr>
        <p:spPr>
          <a:xfrm>
            <a:off x="6122880" y="1873080"/>
            <a:ext cx="11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3" descr=""/>
          <p:cNvPicPr/>
          <p:nvPr/>
        </p:nvPicPr>
        <p:blipFill>
          <a:blip r:embed="rId1"/>
          <a:stretch/>
        </p:blipFill>
        <p:spPr>
          <a:xfrm>
            <a:off x="-174600" y="317520"/>
            <a:ext cx="4870440" cy="730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6276960" y="3247920"/>
            <a:ext cx="469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739"/>
                </a:solidFill>
                <a:latin typeface="方正正大黑简体"/>
                <a:ea typeface="方正正大黑简体"/>
              </a:rPr>
              <a:t>敲打的是自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739"/>
                </a:solidFill>
                <a:latin typeface="方正正大黑简体"/>
                <a:ea typeface="方正正大黑简体"/>
              </a:rPr>
              <a:t>提醒的是别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081320" y="1892160"/>
            <a:ext cx="1006560" cy="2041560"/>
          </a:xfrm>
          <a:prstGeom prst="rect">
            <a:avLst/>
          </a:prstGeom>
          <a:solidFill>
            <a:srgbClr val="875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4022640" y="193680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钟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 rot="1695000">
            <a:off x="5202000" y="1647720"/>
            <a:ext cx="6030720" cy="402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矩形 12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1379520" y="4122720"/>
            <a:ext cx="72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55233"/>
                </a:solidFill>
                <a:latin typeface="方正正大黑简体"/>
                <a:ea typeface="方正正大黑简体"/>
              </a:rPr>
              <a:t>伶牙俐齿，专做离间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10186920" y="1903320"/>
            <a:ext cx="1006560" cy="2043360"/>
          </a:xfrm>
          <a:prstGeom prst="rect">
            <a:avLst/>
          </a:prstGeom>
          <a:solidFill>
            <a:srgbClr val="85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10105920" y="1959120"/>
            <a:ext cx="1197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锯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 rot="7740600">
            <a:off x="-976680" y="1026720"/>
            <a:ext cx="7388280" cy="494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43560" y="3308400"/>
            <a:ext cx="58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6ce2d"/>
                </a:solidFill>
                <a:latin typeface="方正正大黑简体"/>
                <a:ea typeface="方正正大黑简体"/>
              </a:rPr>
              <a:t>只因为自己一生正直，才能丈量别人的长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3062160" y="2928960"/>
            <a:ext cx="1005120" cy="2043000"/>
          </a:xfrm>
          <a:prstGeom prst="rect">
            <a:avLst/>
          </a:prstGeom>
          <a:solidFill>
            <a:srgbClr val="e6c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2984400" y="297828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尺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3218040" y="0"/>
            <a:ext cx="10293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矩形 1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1674720" y="3292560"/>
            <a:ext cx="52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06337"/>
                </a:solidFill>
                <a:latin typeface="方正正大黑简体"/>
                <a:ea typeface="方正正大黑简体"/>
              </a:rPr>
              <a:t>每攀登一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06337"/>
                </a:solidFill>
                <a:latin typeface="方正正大黑简体"/>
                <a:ea typeface="方正正大黑简体"/>
              </a:rPr>
              <a:t>就做一次小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7124760" y="1892160"/>
            <a:ext cx="1004760" cy="2041560"/>
          </a:xfrm>
          <a:prstGeom prst="rect">
            <a:avLst/>
          </a:prstGeom>
          <a:solidFill>
            <a:srgbClr val="206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7053120" y="1935000"/>
            <a:ext cx="1195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rcRect l="0" t="0" r="0" b="7609"/>
          <a:stretch/>
        </p:blipFill>
        <p:spPr>
          <a:xfrm>
            <a:off x="-298440" y="457200"/>
            <a:ext cx="4670280" cy="55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21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4583160" y="3268800"/>
            <a:ext cx="639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51510"/>
                </a:solidFill>
                <a:latin typeface="方正正大黑简体"/>
                <a:ea typeface="方正正大黑简体"/>
              </a:rPr>
              <a:t>外表再漂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51510"/>
                </a:solidFill>
                <a:latin typeface="方正正大黑简体"/>
                <a:ea typeface="方正正大黑简体"/>
              </a:rPr>
              <a:t>也掩饰不住内心的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3"/>
          <p:cNvSpPr/>
          <p:nvPr/>
        </p:nvSpPr>
        <p:spPr>
          <a:xfrm>
            <a:off x="3025800" y="1873080"/>
            <a:ext cx="1006560" cy="2043360"/>
          </a:xfrm>
          <a:prstGeom prst="rect">
            <a:avLst/>
          </a:prstGeom>
          <a:solidFill>
            <a:srgbClr val="351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2968560" y="1946160"/>
            <a:ext cx="1197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花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" descr=""/>
          <p:cNvPicPr/>
          <p:nvPr/>
        </p:nvPicPr>
        <p:blipFill>
          <a:blip r:embed="rId1"/>
          <a:stretch/>
        </p:blipFill>
        <p:spPr>
          <a:xfrm>
            <a:off x="8609040" y="816120"/>
            <a:ext cx="3583080" cy="5073480"/>
          </a:xfrm>
          <a:prstGeom prst="rect">
            <a:avLst/>
          </a:prstGeom>
          <a:ln w="0">
            <a:noFill/>
          </a:ln>
        </p:spPr>
      </p:pic>
      <p:sp>
        <p:nvSpPr>
          <p:cNvPr id="105" name="矩形 5"/>
          <p:cNvSpPr/>
          <p:nvPr/>
        </p:nvSpPr>
        <p:spPr>
          <a:xfrm>
            <a:off x="1467000" y="2225520"/>
            <a:ext cx="587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方正正大黑简体"/>
                <a:ea typeface="方正正大黑简体"/>
              </a:rPr>
              <a:t>理解了锤子的用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d0d0d"/>
                </a:solidFill>
                <a:latin typeface="方正正大黑简体"/>
                <a:ea typeface="方正正大黑简体"/>
              </a:rPr>
              <a:t>就不计较敲打的疼痛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890640"/>
          <a:ext cx="12192120" cy="507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12"/>
          <p:cNvSpPr/>
          <p:nvPr/>
        </p:nvSpPr>
        <p:spPr>
          <a:xfrm>
            <a:off x="0" y="0"/>
            <a:ext cx="12192120" cy="9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0" y="5889600"/>
            <a:ext cx="12192120" cy="96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8105760" y="2925720"/>
            <a:ext cx="1006560" cy="2043000"/>
          </a:xfrm>
          <a:prstGeom prst="rect">
            <a:avLst/>
          </a:prstGeom>
          <a:solidFill>
            <a:srgbClr val="0a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8028000" y="2940120"/>
            <a:ext cx="11952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400" y="45846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9T05:28:00Z</dcterms:created>
  <dc:creator>张卫东</dc:creator>
  <dc:description/>
  <dc:language>en-US</dc:language>
  <cp:lastModifiedBy>a</cp:lastModifiedBy>
  <dcterms:modified xsi:type="dcterms:W3CDTF">2015-08-24T12:59:41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