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F15-C83A-4A78-8815-0F886791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595-A8D0-4C60-9D63-7DBA64A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F69-EA02-46C6-AF16-EA2C1DFB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1D2-1EA0-40D0-98CB-E10727C8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3CD-9ECC-4A37-AD7C-433D918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E464-3F4A-4055-81B7-FC4204E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A5F-0BF5-4290-8C21-70478E1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7D9-CE92-4DFA-9D67-3A30EA3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58B-26B7-4DB3-80F2-3A7966B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4250-2838-445F-809C-1C8EACC1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174-42B6-4347-859B-3E3D03D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E57-245A-4283-A2F3-F48F61C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442-CB61-498D-ABE1-F96ABCD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96FC-E5CE-4929-99DE-688EC71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CF9F-1DD1-438B-8A06-005E684B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C98-A0B2-4019-AF54-A2F6648A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27A-8A3E-45B0-BD86-EA597594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383-FB60-42E5-8D97-71158270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A83-E6D1-4EFD-893F-3C291C5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F3A-B3C9-4D3F-A1BF-5E5BAC30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19E-AC5C-45F9-878B-B139C22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807-25A2-42CB-B01B-D84A0BC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A2E-7D1D-4E98-ABED-2707FDA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F8D-284E-4422-8E21-0D699BF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5EA-6C2B-4198-9A62-89EA78BA76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8384-6789-4845-A290-B911C8B7A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976-C95B-4228-AC04-1704138279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48E6-E235-4A82-A543-697748762C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u=2560210966,2236770923&amp;fm=15&amp;gp=0" descr=""/>
          <p:cNvPicPr/>
          <p:nvPr/>
        </p:nvPicPr>
        <p:blipFill>
          <a:blip r:embed="rId1"/>
          <a:stretch/>
        </p:blipFill>
        <p:spPr>
          <a:xfrm>
            <a:off x="38160" y="406440"/>
            <a:ext cx="9036000" cy="6043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9200" y="4064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说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7AB-2ED7-4E19-85EE-AD9EE9F31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