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1847-92BE-4A24-A0FB-CC60529CB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F175-1031-463E-A1AD-0E2852634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B37965-6ACF-4E2E-B76F-02D77EE95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DBDD66-F3E8-4D13-AEF2-A8AE11F00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E22A36-0A23-4A64-8143-FB1200B22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FBA4F8-013C-443F-99EC-B1515CC5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870590-2E09-47A9-B36B-E88DFE33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00A71F-047B-4E88-B51F-089B53C5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237170-156A-4A66-8FBF-3F594CCC2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776916-4A8A-41E5-8FD3-5906BB858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D13AEB-9DFA-428A-903E-43FE94208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CA19AB-AB53-4889-B45A-9B2A35817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AF08-FDB7-4BAE-87FB-9D7C5D4AF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98E4E1-C8D6-4850-9230-787108D48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4503DE-37FD-4CCA-A550-0FD11444B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218DC9-4D54-4F2E-84EE-05CF09D39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7AABD6-3C07-4F1F-89AC-F3B357A53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603A1E-F047-403D-A316-62F1619BB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B86D14-535C-4DC5-A905-83065DBF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289D5F-C8CD-4632-BF8E-F33288E9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1F1DC4-F053-408E-A0CB-2DEA1400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FC0CD3-E0DC-486A-A521-9BB59370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78E614-CCB9-4DF1-ACD7-7790A696A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C196-73CB-4CF0-B858-E98A338DA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811934-D27A-4DAB-B770-F7BFA6766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42ECC8-6568-4A37-9938-BFA5AEF07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9BDEEC-4A85-4669-8E85-17705C10D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E0B594-E169-49EC-9247-AF7E5D9ED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3DA6B6-8761-4B8A-AC80-A4C7A2E51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176A7B-C31F-4A6B-87DD-E81E24695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672778-5A3C-4374-88DE-AD5BEF2AA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5E5441-5235-489A-AA35-4BF78FBD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DDBA31-B9CB-443F-947A-1A34C63C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E37EC9-9D94-475E-9EFC-C818D807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172FF-55D7-49A0-B17A-646CEA406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194D82-9BE7-4090-AE24-673E73853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B0E6EE-8064-4AE1-9C92-ABF50CC2B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42A8E9-E144-4A13-AD33-F5D823D76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8E37F8-B9A3-4F7F-B57E-9CCFB8A89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F04CA3-A272-412B-8500-140EBF620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7B1209-F35B-4E22-A931-A3B158977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CF830B-4F8B-4C9A-827E-1847675A3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AE6D7D-F750-4E35-9A21-8D1226A40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052D29-003B-4A70-9A00-ECADBECE9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216E2C-6664-464E-8C85-F45FEBCC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E2207-BCBE-437E-B817-FAEA1B3A8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1494F5-605B-4E2A-9A3E-BD988C8E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B429BD-48D5-481F-9DD1-3C78F9DA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9B1F25-99D8-4D26-97A0-46B33EEBC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F6CFAC-4344-43A8-B082-550DE961A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C6A3EA-1335-44D1-BB48-25ED6F685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2E4079-3F04-4B44-B817-C058ACA08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93698A-BE5D-4F79-A199-7CBDD6E74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E7B6BC-AEDF-414C-80F4-986FE701A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47C15D-B528-4E32-BF6E-50CF045FA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1CCD4F-8935-472E-BA4F-806948A7A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A97F1-3CC6-4883-9726-8D423BC06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A8C7AE-742F-47D1-908C-7CDEE4027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2FDF94-B2CE-4EF5-9E79-D606CB03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C8D2C1-4326-4A0C-B553-787B69A1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CACDFE-DFEE-438D-BFD6-2F8C355B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6FC7F6-A092-4331-A75E-A06725CCB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802B54-5F99-4597-951E-DE81DF9C2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562BE2-F5A8-41E4-B0ED-BBC5EA0EE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209E1-E49E-4640-A30B-93D73ACBA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0F730-B8E2-4F19-B0D1-8444BAF76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C78A4-3190-46A1-881C-F077ADFB5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4211F-384F-4507-83AB-4E9D7C28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B28B-CE73-4AC1-8AF2-DBA18CD71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FC81C-B6BF-4AE1-84EB-FDF4DBB8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E859F-FBF2-4E64-8405-FF808E4E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82985-3D93-4D1A-AFD0-1DBF6AFC0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D0873-89DC-4434-A98C-5FB31F8CB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E673B-EEDA-4F54-B8CE-1AC23284B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2D3FE-47BB-433F-A125-BCC34C448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0F672-530F-4ED6-A81E-E9D94AA59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BFE03-847E-457B-A83E-E32539618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F58B3-A3FA-4F4C-9979-9B205F08A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6E1B0-5F85-4D2B-B441-8F6562D4A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6FCE-42A8-4A21-858F-527B68A56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3415D-5F59-47C7-AE0C-AE0416977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01E06-84AB-446E-B377-04BB7D6F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C7268-8DAE-4A7B-AA5E-9CE2B2B6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2902D-2F51-48A6-A3D3-AFC9DC34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6D7D4-F995-48FA-ABC1-615D4827D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2173E-E031-4E7F-B818-59DD3422B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8F292-D5CA-4D46-A265-513F7A583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32348-D1D7-4537-8B84-BD1BCD561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65248-1F1E-44CC-A4B9-9866D88DD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130CB-E261-4274-91BC-EBCA2198B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288C-4003-4884-A4F1-408C45DA4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DA43D-E676-4985-A141-6FBD71F76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E2CB8-A41F-4955-BD5F-EB7319D21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82524-BC2D-4956-ACFA-61B2B9E02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7E023-E48E-412A-A5A5-6A05AA36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8D906-E9A3-4760-83E3-8C471CC2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21C74-4DC8-44E2-A05B-1E6D16DF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4A372-6D59-48F7-B184-C778905A4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22EA9-BEA8-4ED3-8C2F-3D6F308B3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F3D22-56E4-45D1-9253-E0BF4C0E2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C2A6A-E3D9-4664-B4C7-F4F055D63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F9FA-A817-4102-8D82-A32695E8B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4D3CE-5797-45B1-A909-75C8E1322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48EC7-EC5F-46C8-904B-7C567F858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B9E55-01B1-4BFA-8B87-A6EDBFE8C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0E39B-E2B0-4D86-A397-53A2672AA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6DB11-94B9-4683-99A4-9099C0A94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36AD7-EABF-4AB0-BE1B-36B959AD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8E41E-4077-4584-9E44-31A9C267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F414B-24E7-4547-978F-97730D7F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1E726-DAF3-4454-871D-F202C4E98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DE4B3-C0EB-4E54-8F49-4872BBBB0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0228-919A-4B7F-A949-272C94F55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9D40F-5333-469E-A69F-FB210A9C2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87301-D2E8-4547-8288-1738E8F12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C6CA2-674B-4E81-8DE6-714376B9F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EA9D7-DB9F-4467-BAB1-552F83583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040C5-CBF9-41E5-BE70-B1C619CC0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922714-F35C-4B24-90BE-7BCF9AA58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C28A8-E3DE-4590-978F-E2709ACB8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3A68C-E579-4177-B319-D5655414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ACF558-8E0D-4293-ADFD-3189B66B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CEDAE-F724-4EBD-B72C-E18BC89A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BA58-A745-4109-8616-5A486F89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8C2611-C01A-4C23-8D64-4DBE83A80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397712-8CC7-4AA6-BBE9-162BBF28E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9C97C-3F45-4D49-8FB6-4C06BEC34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5B559-89DB-4810-A68C-7B4C58495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0B538-918D-4A67-99F7-C75C3CC01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E267A-2D84-469B-9146-80F33D622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802687-1C0C-46C4-9CCC-E67B8A11A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3320C-4CF1-45D0-8217-93F7E0BD2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7BAC2-3291-4A11-843B-994D60834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4AC3EE-CBF1-4D97-9D66-2B3995D2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745B-8EB2-4E0A-8B73-0E2E07C6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0310C-9626-4161-8E7C-305957C5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51C952-01FD-4C6E-9178-F9E373C4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BD7538-AF83-4D00-80E9-345A587FD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386E6-8772-4C4C-ADD7-9A7766F78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CFC48-505A-42C2-95EC-84E826A21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734DFC-73CC-4DFB-95BE-660FB1039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143395-40BD-4ACF-8F24-C4BAE33BC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DA4399-E6C7-41CC-A55A-E70CD30AC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A3D1D-432A-41D7-A394-5CEED0F92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C9ABB4-53FB-4572-94B8-426842C13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DB34-99A6-4E62-9BBC-E39A8E75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0291BC-4274-4408-A1E6-DF284C449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148975-1878-4339-A886-8353C8F4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BD6A0A-BB0D-4A81-BB30-56CA5335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59ACED-6780-456E-8E97-51A4F521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ADD778-A7DC-4B5E-87FA-C27EAFE7A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1BD43-E9D9-4B88-BECB-B41EA4024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E2E1A0-B732-4A5A-A425-4DFB79B63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8332EF-8E63-4291-B1B3-760CD337F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EED4AF-3565-45C0-AE50-3FFE10BE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95EA23-46BB-4B0F-A292-BA4A45125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03092-C9F3-470B-BD24-DB20C7EC0C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47FD9-46B3-4385-8731-86CCA196040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E007B-421B-471C-925B-AE96C91AB65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D0903-0AE7-4F37-97E4-C450703AB61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99634-6362-49EC-A5D9-FE598F28586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6028F-42FF-403D-9606-A9D448EC227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CA80C-44E5-48DF-9892-9E334C2FF7D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D8171-769B-4C55-9E06-F32F88DE32B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D6AAF-5A8D-43A6-947B-5141AF80861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02801-031C-4F78-8741-020397B10A3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ED18B-9F1D-4DAD-BF51-959AB0B504F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80EC6-6D03-4403-A7F0-82D5136C490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8B43E-04C2-4D42-9257-87FBEDFCAD7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3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7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山"/>
          <p:cNvPicPr/>
          <p:nvPr/>
        </p:nvPicPr>
        <p:blipFill>
          <a:blip r:embed="rId1"/>
          <a:stretch/>
        </p:blipFill>
        <p:spPr>
          <a:xfrm>
            <a:off x="-93600" y="2730600"/>
            <a:ext cx="9129600" cy="516240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3" descr="C:/Users/lenovo/Desktop/云峰ppt/云.png云"/>
          <p:cNvPicPr/>
          <p:nvPr/>
        </p:nvPicPr>
        <p:blipFill>
          <a:blip r:embed="rId2"/>
          <a:stretch/>
        </p:blipFill>
        <p:spPr>
          <a:xfrm>
            <a:off x="1274760" y="765000"/>
            <a:ext cx="1300320" cy="76212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4" descr="C:/Users/lenovo/Desktop/云峰ppt/图片1.png图片1"/>
          <p:cNvPicPr/>
          <p:nvPr/>
        </p:nvPicPr>
        <p:blipFill>
          <a:blip r:embed="rId3"/>
          <a:stretch/>
        </p:blipFill>
        <p:spPr>
          <a:xfrm>
            <a:off x="3722760" y="34920"/>
            <a:ext cx="2852640" cy="108900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5" descr="C:/Users/lenovo/Desktop/云峰ppt/云3.png云3"/>
          <p:cNvPicPr/>
          <p:nvPr/>
        </p:nvPicPr>
        <p:blipFill>
          <a:blip r:embed="rId4"/>
          <a:stretch/>
        </p:blipFill>
        <p:spPr>
          <a:xfrm>
            <a:off x="395280" y="95400"/>
            <a:ext cx="1224000" cy="95220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6" descr="C:/Users/lenovo/Desktop/云峰ppt/云4.png云4"/>
          <p:cNvPicPr/>
          <p:nvPr/>
        </p:nvPicPr>
        <p:blipFill>
          <a:blip r:embed="rId5"/>
          <a:stretch/>
        </p:blipFill>
        <p:spPr>
          <a:xfrm>
            <a:off x="1273320" y="-87480"/>
            <a:ext cx="2203200" cy="130968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7" descr="C:/Users/lenovo/Desktop/云峰ppt/图片2.png图片2"/>
          <p:cNvPicPr/>
          <p:nvPr/>
        </p:nvPicPr>
        <p:blipFill>
          <a:blip r:embed="rId6"/>
          <a:stretch/>
        </p:blipFill>
        <p:spPr>
          <a:xfrm>
            <a:off x="7392960" y="-374760"/>
            <a:ext cx="5305320" cy="299556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8" descr="C:/Users/lenovo/Desktop/云峰ppt/图片1.png图片1"/>
          <p:cNvPicPr/>
          <p:nvPr/>
        </p:nvPicPr>
        <p:blipFill>
          <a:blip r:embed="rId7"/>
          <a:stretch/>
        </p:blipFill>
        <p:spPr>
          <a:xfrm>
            <a:off x="3722760" y="17640"/>
            <a:ext cx="2852640" cy="108900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9" descr="C:/Users/lenovo/Desktop/云峰ppt/云4.png云4"/>
          <p:cNvPicPr/>
          <p:nvPr/>
        </p:nvPicPr>
        <p:blipFill>
          <a:blip r:embed="rId8"/>
          <a:stretch/>
        </p:blipFill>
        <p:spPr>
          <a:xfrm>
            <a:off x="1273320" y="-104760"/>
            <a:ext cx="2203200" cy="130968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10" descr="C:/Users/lenovo/Desktop/云峰ppt/图片2.png图片2"/>
          <p:cNvPicPr/>
          <p:nvPr/>
        </p:nvPicPr>
        <p:blipFill>
          <a:blip r:embed="rId9"/>
          <a:stretch/>
        </p:blipFill>
        <p:spPr>
          <a:xfrm>
            <a:off x="7392960" y="-392040"/>
            <a:ext cx="5305320" cy="2995560"/>
          </a:xfrm>
          <a:prstGeom prst="rect">
            <a:avLst/>
          </a:prstGeom>
          <a:ln w="0">
            <a:noFill/>
          </a:ln>
        </p:spPr>
      </p:pic>
      <p:sp>
        <p:nvSpPr>
          <p:cNvPr id="542" name="矩形 1"/>
          <p:cNvSpPr/>
          <p:nvPr/>
        </p:nvSpPr>
        <p:spPr>
          <a:xfrm>
            <a:off x="2754720" y="133200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水墨云峰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矩形 11"/>
          <p:cNvSpPr/>
          <p:nvPr/>
        </p:nvSpPr>
        <p:spPr>
          <a:xfrm>
            <a:off x="208800" y="64533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云2"/>
          <p:cNvPicPr/>
          <p:nvPr/>
        </p:nvPicPr>
        <p:blipFill>
          <a:blip r:embed="rId1"/>
          <a:stretch/>
        </p:blipFill>
        <p:spPr>
          <a:xfrm>
            <a:off x="3708360" y="-87480"/>
            <a:ext cx="2808360" cy="141768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3" descr="C:/Users/lenovo/Desktop/云峰ppt/图片2.png图片2"/>
          <p:cNvPicPr/>
          <p:nvPr/>
        </p:nvPicPr>
        <p:blipFill>
          <a:blip r:embed="rId2"/>
          <a:stretch/>
        </p:blipFill>
        <p:spPr>
          <a:xfrm>
            <a:off x="-1679400" y="-374760"/>
            <a:ext cx="5283000" cy="2995560"/>
          </a:xfrm>
          <a:prstGeom prst="rect">
            <a:avLst/>
          </a:prstGeom>
          <a:ln w="0">
            <a:noFill/>
          </a:ln>
        </p:spPr>
      </p:pic>
      <p:grpSp>
        <p:nvGrpSpPr>
          <p:cNvPr id="546" name="Group 4"/>
          <p:cNvGrpSpPr/>
          <p:nvPr/>
        </p:nvGrpSpPr>
        <p:grpSpPr>
          <a:xfrm>
            <a:off x="7240680" y="117360"/>
            <a:ext cx="1436760" cy="1428840"/>
            <a:chOff x="7240680" y="117360"/>
            <a:chExt cx="1436760" cy="1428840"/>
          </a:xfrm>
        </p:grpSpPr>
        <p:sp>
          <p:nvSpPr>
            <p:cNvPr id="547" name="Oval 5"/>
            <p:cNvSpPr/>
            <p:nvPr/>
          </p:nvSpPr>
          <p:spPr>
            <a:xfrm>
              <a:off x="7240680" y="117360"/>
              <a:ext cx="1436760" cy="1428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6"/>
            <p:cNvSpPr/>
            <p:nvPr/>
          </p:nvSpPr>
          <p:spPr>
            <a:xfrm>
              <a:off x="7446960" y="260640"/>
              <a:ext cx="1008000" cy="115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未知"/>
          <p:cNvSpPr/>
          <p:nvPr/>
        </p:nvSpPr>
        <p:spPr>
          <a:xfrm>
            <a:off x="7542360" y="299880"/>
            <a:ext cx="828360" cy="247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70" y="20769"/>
                </a:moveTo>
                <a:lnTo>
                  <a:pt x="6091" y="13292"/>
                </a:lnTo>
                <a:lnTo>
                  <a:pt x="10924" y="8695"/>
                </a:lnTo>
                <a:lnTo>
                  <a:pt x="13787" y="10800"/>
                </a:lnTo>
                <a:lnTo>
                  <a:pt x="16882" y="16172"/>
                </a:lnTo>
                <a:lnTo>
                  <a:pt x="19365" y="21600"/>
                </a:lnTo>
                <a:lnTo>
                  <a:pt x="21600" y="16172"/>
                </a:lnTo>
                <a:lnTo>
                  <a:pt x="20739" y="8695"/>
                </a:lnTo>
                <a:lnTo>
                  <a:pt x="18753" y="8695"/>
                </a:lnTo>
                <a:lnTo>
                  <a:pt x="16137" y="1661"/>
                </a:lnTo>
                <a:lnTo>
                  <a:pt x="12662" y="0"/>
                </a:lnTo>
                <a:lnTo>
                  <a:pt x="8689" y="0"/>
                </a:lnTo>
                <a:lnTo>
                  <a:pt x="5346" y="2492"/>
                </a:lnTo>
                <a:lnTo>
                  <a:pt x="2118" y="9138"/>
                </a:lnTo>
                <a:lnTo>
                  <a:pt x="496" y="10800"/>
                </a:lnTo>
                <a:lnTo>
                  <a:pt x="0" y="15341"/>
                </a:lnTo>
                <a:lnTo>
                  <a:pt x="1870" y="207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未知"/>
          <p:cNvSpPr/>
          <p:nvPr/>
        </p:nvSpPr>
        <p:spPr>
          <a:xfrm>
            <a:off x="7516800" y="419040"/>
            <a:ext cx="888840" cy="863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" y="4923"/>
                </a:moveTo>
                <a:lnTo>
                  <a:pt x="0" y="12070"/>
                </a:lnTo>
                <a:lnTo>
                  <a:pt x="3625" y="19058"/>
                </a:lnTo>
                <a:lnTo>
                  <a:pt x="11802" y="21600"/>
                </a:lnTo>
                <a:lnTo>
                  <a:pt x="21600" y="16041"/>
                </a:lnTo>
                <a:lnTo>
                  <a:pt x="19902" y="4764"/>
                </a:lnTo>
                <a:lnTo>
                  <a:pt x="13500" y="0"/>
                </a:lnTo>
                <a:lnTo>
                  <a:pt x="6325" y="714"/>
                </a:lnTo>
                <a:lnTo>
                  <a:pt x="1080" y="49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未知"/>
          <p:cNvSpPr/>
          <p:nvPr/>
        </p:nvSpPr>
        <p:spPr>
          <a:xfrm>
            <a:off x="7612200" y="1152360"/>
            <a:ext cx="749160" cy="216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32" y="12388"/>
                </a:moveTo>
                <a:lnTo>
                  <a:pt x="7047" y="21600"/>
                </a:lnTo>
                <a:lnTo>
                  <a:pt x="16108" y="17152"/>
                </a:lnTo>
                <a:lnTo>
                  <a:pt x="21600" y="7623"/>
                </a:lnTo>
                <a:lnTo>
                  <a:pt x="20044" y="0"/>
                </a:lnTo>
                <a:lnTo>
                  <a:pt x="18305" y="2858"/>
                </a:lnTo>
                <a:lnTo>
                  <a:pt x="16016" y="6670"/>
                </a:lnTo>
                <a:lnTo>
                  <a:pt x="13454" y="10800"/>
                </a:lnTo>
                <a:lnTo>
                  <a:pt x="9244" y="12070"/>
                </a:lnTo>
                <a:lnTo>
                  <a:pt x="4942" y="8258"/>
                </a:lnTo>
                <a:lnTo>
                  <a:pt x="1189" y="2858"/>
                </a:lnTo>
                <a:lnTo>
                  <a:pt x="0" y="7305"/>
                </a:lnTo>
                <a:lnTo>
                  <a:pt x="732" y="1238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10" descr="园徽"/>
          <p:cNvPicPr/>
          <p:nvPr/>
        </p:nvPicPr>
        <p:blipFill>
          <a:blip r:embed="rId3"/>
          <a:stretch/>
        </p:blipFill>
        <p:spPr>
          <a:xfrm>
            <a:off x="7240680" y="117360"/>
            <a:ext cx="1436760" cy="1428840"/>
          </a:xfrm>
          <a:prstGeom prst="rect">
            <a:avLst/>
          </a:prstGeom>
          <a:ln w="0">
            <a:noFill/>
          </a:ln>
        </p:spPr>
      </p:pic>
      <p:sp>
        <p:nvSpPr>
          <p:cNvPr id="553" name="Rectangle 11"/>
          <p:cNvSpPr/>
          <p:nvPr/>
        </p:nvSpPr>
        <p:spPr>
          <a:xfrm>
            <a:off x="7740720" y="1539720"/>
            <a:ext cx="5032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12"/>
          <p:cNvSpPr/>
          <p:nvPr/>
        </p:nvSpPr>
        <p:spPr>
          <a:xfrm>
            <a:off x="7669080" y="52560"/>
            <a:ext cx="50328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13"/>
          <p:cNvSpPr/>
          <p:nvPr/>
        </p:nvSpPr>
        <p:spPr>
          <a:xfrm>
            <a:off x="8664480" y="620640"/>
            <a:ext cx="763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14"/>
          <p:cNvSpPr/>
          <p:nvPr/>
        </p:nvSpPr>
        <p:spPr>
          <a:xfrm>
            <a:off x="7175520" y="685800"/>
            <a:ext cx="7632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15"/>
          <p:cNvSpPr/>
          <p:nvPr/>
        </p:nvSpPr>
        <p:spPr>
          <a:xfrm>
            <a:off x="7020000" y="52560"/>
            <a:ext cx="2087640" cy="148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未知"/>
          <p:cNvSpPr/>
          <p:nvPr/>
        </p:nvSpPr>
        <p:spPr>
          <a:xfrm>
            <a:off x="7596360" y="1946160"/>
            <a:ext cx="276120" cy="158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365" y="0"/>
                </a:moveTo>
                <a:lnTo>
                  <a:pt x="1489" y="5225"/>
                </a:lnTo>
                <a:lnTo>
                  <a:pt x="0" y="13064"/>
                </a:lnTo>
                <a:lnTo>
                  <a:pt x="5958" y="21600"/>
                </a:lnTo>
                <a:lnTo>
                  <a:pt x="14499" y="15677"/>
                </a:lnTo>
                <a:lnTo>
                  <a:pt x="21600" y="7229"/>
                </a:lnTo>
                <a:lnTo>
                  <a:pt x="1936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未知"/>
          <p:cNvSpPr/>
          <p:nvPr/>
        </p:nvSpPr>
        <p:spPr>
          <a:xfrm>
            <a:off x="7499520" y="1968480"/>
            <a:ext cx="380880" cy="514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lnTo>
                  <a:pt x="21600" y="4000"/>
                </a:lnTo>
                <a:lnTo>
                  <a:pt x="21060" y="7600"/>
                </a:lnTo>
                <a:lnTo>
                  <a:pt x="16452" y="12586"/>
                </a:lnTo>
                <a:lnTo>
                  <a:pt x="6480" y="21600"/>
                </a:lnTo>
                <a:lnTo>
                  <a:pt x="1620" y="21600"/>
                </a:lnTo>
                <a:lnTo>
                  <a:pt x="0" y="20800"/>
                </a:lnTo>
                <a:lnTo>
                  <a:pt x="8640" y="13786"/>
                </a:lnTo>
                <a:lnTo>
                  <a:pt x="13500" y="8000"/>
                </a:lnTo>
                <a:lnTo>
                  <a:pt x="15912" y="4400"/>
                </a:lnTo>
                <a:lnTo>
                  <a:pt x="18900" y="0"/>
                </a:lnTo>
                <a:lnTo>
                  <a:pt x="2160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未知"/>
          <p:cNvSpPr/>
          <p:nvPr/>
        </p:nvSpPr>
        <p:spPr>
          <a:xfrm>
            <a:off x="7913520" y="1639800"/>
            <a:ext cx="13356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365" y="526"/>
                </a:moveTo>
                <a:lnTo>
                  <a:pt x="3908" y="3226"/>
                </a:lnTo>
                <a:lnTo>
                  <a:pt x="3085" y="6756"/>
                </a:lnTo>
                <a:lnTo>
                  <a:pt x="6171" y="9041"/>
                </a:lnTo>
                <a:lnTo>
                  <a:pt x="4628" y="9664"/>
                </a:lnTo>
                <a:lnTo>
                  <a:pt x="1542" y="15064"/>
                </a:lnTo>
                <a:lnTo>
                  <a:pt x="0" y="19523"/>
                </a:lnTo>
                <a:lnTo>
                  <a:pt x="6171" y="21600"/>
                </a:lnTo>
                <a:lnTo>
                  <a:pt x="18514" y="20672"/>
                </a:lnTo>
                <a:lnTo>
                  <a:pt x="19337" y="14123"/>
                </a:lnTo>
                <a:lnTo>
                  <a:pt x="13165" y="9969"/>
                </a:lnTo>
                <a:lnTo>
                  <a:pt x="18514" y="6756"/>
                </a:lnTo>
                <a:lnTo>
                  <a:pt x="21600" y="526"/>
                </a:lnTo>
                <a:lnTo>
                  <a:pt x="11622" y="0"/>
                </a:lnTo>
                <a:lnTo>
                  <a:pt x="2365" y="5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未知"/>
          <p:cNvSpPr/>
          <p:nvPr/>
        </p:nvSpPr>
        <p:spPr>
          <a:xfrm>
            <a:off x="7689960" y="2473200"/>
            <a:ext cx="280800" cy="171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8560"/>
                </a:moveTo>
                <a:lnTo>
                  <a:pt x="17592" y="1200"/>
                </a:lnTo>
                <a:lnTo>
                  <a:pt x="11728" y="1760"/>
                </a:lnTo>
                <a:lnTo>
                  <a:pt x="7330" y="0"/>
                </a:lnTo>
                <a:lnTo>
                  <a:pt x="1466" y="1200"/>
                </a:lnTo>
                <a:lnTo>
                  <a:pt x="0" y="14960"/>
                </a:lnTo>
                <a:lnTo>
                  <a:pt x="9529" y="18000"/>
                </a:lnTo>
                <a:lnTo>
                  <a:pt x="16126" y="21600"/>
                </a:lnTo>
                <a:lnTo>
                  <a:pt x="21600" y="185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未知"/>
          <p:cNvSpPr/>
          <p:nvPr/>
        </p:nvSpPr>
        <p:spPr>
          <a:xfrm>
            <a:off x="7880400" y="1835280"/>
            <a:ext cx="461880" cy="252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5152" y="0"/>
                </a:moveTo>
                <a:lnTo>
                  <a:pt x="10012" y="9358"/>
                </a:lnTo>
                <a:lnTo>
                  <a:pt x="6001" y="14254"/>
                </a:lnTo>
                <a:lnTo>
                  <a:pt x="653" y="17954"/>
                </a:lnTo>
                <a:lnTo>
                  <a:pt x="0" y="19967"/>
                </a:lnTo>
                <a:lnTo>
                  <a:pt x="4011" y="20403"/>
                </a:lnTo>
                <a:lnTo>
                  <a:pt x="6239" y="21600"/>
                </a:lnTo>
                <a:lnTo>
                  <a:pt x="16044" y="11806"/>
                </a:lnTo>
                <a:lnTo>
                  <a:pt x="21600" y="4896"/>
                </a:lnTo>
                <a:lnTo>
                  <a:pt x="19163" y="0"/>
                </a:lnTo>
                <a:lnTo>
                  <a:pt x="17381" y="0"/>
                </a:lnTo>
                <a:lnTo>
                  <a:pt x="1515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未知"/>
          <p:cNvSpPr/>
          <p:nvPr/>
        </p:nvSpPr>
        <p:spPr>
          <a:xfrm>
            <a:off x="7880400" y="2049480"/>
            <a:ext cx="723960" cy="357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595" y="14694"/>
                </a:moveTo>
                <a:lnTo>
                  <a:pt x="12922" y="10665"/>
                </a:lnTo>
                <a:lnTo>
                  <a:pt x="5115" y="3452"/>
                </a:lnTo>
                <a:lnTo>
                  <a:pt x="3543" y="1457"/>
                </a:lnTo>
                <a:lnTo>
                  <a:pt x="701" y="0"/>
                </a:lnTo>
                <a:lnTo>
                  <a:pt x="0" y="1457"/>
                </a:lnTo>
                <a:lnTo>
                  <a:pt x="4395" y="7788"/>
                </a:lnTo>
                <a:lnTo>
                  <a:pt x="15631" y="21024"/>
                </a:lnTo>
                <a:lnTo>
                  <a:pt x="21448" y="21600"/>
                </a:lnTo>
                <a:lnTo>
                  <a:pt x="21448" y="20449"/>
                </a:lnTo>
                <a:lnTo>
                  <a:pt x="21600" y="17571"/>
                </a:lnTo>
                <a:lnTo>
                  <a:pt x="20595" y="1469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22" descr="水"/>
          <p:cNvPicPr/>
          <p:nvPr/>
        </p:nvPicPr>
        <p:blipFill>
          <a:blip r:embed="rId4"/>
          <a:stretch/>
        </p:blipFill>
        <p:spPr>
          <a:xfrm>
            <a:off x="7508880" y="1625760"/>
            <a:ext cx="1112760" cy="1022040"/>
          </a:xfrm>
          <a:prstGeom prst="rect">
            <a:avLst/>
          </a:prstGeom>
          <a:ln w="0">
            <a:noFill/>
          </a:ln>
        </p:spPr>
      </p:pic>
      <p:sp>
        <p:nvSpPr>
          <p:cNvPr id="565" name="未知"/>
          <p:cNvSpPr/>
          <p:nvPr/>
        </p:nvSpPr>
        <p:spPr>
          <a:xfrm>
            <a:off x="7713720" y="2994120"/>
            <a:ext cx="204840" cy="428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1034" y="1440"/>
                </a:moveTo>
                <a:lnTo>
                  <a:pt x="0" y="0"/>
                </a:lnTo>
                <a:lnTo>
                  <a:pt x="0" y="9120"/>
                </a:lnTo>
                <a:lnTo>
                  <a:pt x="7556" y="21600"/>
                </a:lnTo>
                <a:lnTo>
                  <a:pt x="21065" y="20640"/>
                </a:lnTo>
                <a:lnTo>
                  <a:pt x="21600" y="14176"/>
                </a:lnTo>
                <a:lnTo>
                  <a:pt x="17052" y="7936"/>
                </a:lnTo>
                <a:lnTo>
                  <a:pt x="13575" y="3840"/>
                </a:lnTo>
                <a:lnTo>
                  <a:pt x="11034" y="14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未知"/>
          <p:cNvSpPr/>
          <p:nvPr/>
        </p:nvSpPr>
        <p:spPr>
          <a:xfrm>
            <a:off x="7804080" y="2979720"/>
            <a:ext cx="509760" cy="119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9471"/>
                </a:moveTo>
                <a:lnTo>
                  <a:pt x="807" y="17326"/>
                </a:lnTo>
                <a:lnTo>
                  <a:pt x="2423" y="21600"/>
                </a:lnTo>
                <a:lnTo>
                  <a:pt x="7056" y="17326"/>
                </a:lnTo>
                <a:lnTo>
                  <a:pt x="8268" y="15593"/>
                </a:lnTo>
                <a:lnTo>
                  <a:pt x="10099" y="14669"/>
                </a:lnTo>
                <a:lnTo>
                  <a:pt x="10288" y="13860"/>
                </a:lnTo>
                <a:lnTo>
                  <a:pt x="13735" y="11204"/>
                </a:lnTo>
                <a:lnTo>
                  <a:pt x="16348" y="11204"/>
                </a:lnTo>
                <a:lnTo>
                  <a:pt x="17775" y="12936"/>
                </a:lnTo>
                <a:lnTo>
                  <a:pt x="21600" y="17326"/>
                </a:lnTo>
                <a:lnTo>
                  <a:pt x="21007" y="5197"/>
                </a:lnTo>
                <a:lnTo>
                  <a:pt x="16563" y="0"/>
                </a:lnTo>
                <a:lnTo>
                  <a:pt x="11311" y="0"/>
                </a:lnTo>
                <a:lnTo>
                  <a:pt x="5655" y="808"/>
                </a:lnTo>
                <a:lnTo>
                  <a:pt x="0" y="947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未知"/>
          <p:cNvSpPr/>
          <p:nvPr/>
        </p:nvSpPr>
        <p:spPr>
          <a:xfrm>
            <a:off x="8089920" y="3027240"/>
            <a:ext cx="262080" cy="405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436" y="0"/>
                </a:moveTo>
                <a:lnTo>
                  <a:pt x="21600" y="0"/>
                </a:lnTo>
                <a:lnTo>
                  <a:pt x="14155" y="16276"/>
                </a:lnTo>
                <a:lnTo>
                  <a:pt x="9436" y="21600"/>
                </a:lnTo>
                <a:lnTo>
                  <a:pt x="0" y="21091"/>
                </a:lnTo>
                <a:lnTo>
                  <a:pt x="786" y="15767"/>
                </a:lnTo>
                <a:lnTo>
                  <a:pt x="2359" y="11935"/>
                </a:lnTo>
                <a:lnTo>
                  <a:pt x="6658" y="8138"/>
                </a:lnTo>
                <a:lnTo>
                  <a:pt x="8650" y="1763"/>
                </a:lnTo>
                <a:lnTo>
                  <a:pt x="943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未知"/>
          <p:cNvSpPr/>
          <p:nvPr/>
        </p:nvSpPr>
        <p:spPr>
          <a:xfrm>
            <a:off x="8047080" y="3338640"/>
            <a:ext cx="106200" cy="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lnTo>
                  <a:pt x="9969" y="0"/>
                </a:lnTo>
                <a:lnTo>
                  <a:pt x="2811" y="1359"/>
                </a:lnTo>
                <a:lnTo>
                  <a:pt x="0" y="2567"/>
                </a:lnTo>
                <a:lnTo>
                  <a:pt x="1661" y="7854"/>
                </a:lnTo>
                <a:lnTo>
                  <a:pt x="4473" y="16313"/>
                </a:lnTo>
                <a:lnTo>
                  <a:pt x="2160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未知"/>
          <p:cNvSpPr/>
          <p:nvPr/>
        </p:nvSpPr>
        <p:spPr>
          <a:xfrm>
            <a:off x="7859880" y="3094200"/>
            <a:ext cx="315720" cy="153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064" y="3466"/>
                </a:moveTo>
                <a:lnTo>
                  <a:pt x="735" y="800"/>
                </a:lnTo>
                <a:lnTo>
                  <a:pt x="0" y="3911"/>
                </a:lnTo>
                <a:lnTo>
                  <a:pt x="562" y="7377"/>
                </a:lnTo>
                <a:lnTo>
                  <a:pt x="2077" y="15822"/>
                </a:lnTo>
                <a:lnTo>
                  <a:pt x="4328" y="21600"/>
                </a:lnTo>
                <a:lnTo>
                  <a:pt x="7315" y="21600"/>
                </a:lnTo>
                <a:lnTo>
                  <a:pt x="7878" y="13511"/>
                </a:lnTo>
                <a:lnTo>
                  <a:pt x="10518" y="10044"/>
                </a:lnTo>
                <a:lnTo>
                  <a:pt x="13894" y="8888"/>
                </a:lnTo>
                <a:lnTo>
                  <a:pt x="15020" y="8888"/>
                </a:lnTo>
                <a:lnTo>
                  <a:pt x="15193" y="8888"/>
                </a:lnTo>
                <a:lnTo>
                  <a:pt x="16319" y="9688"/>
                </a:lnTo>
                <a:lnTo>
                  <a:pt x="18396" y="13866"/>
                </a:lnTo>
                <a:lnTo>
                  <a:pt x="19695" y="17333"/>
                </a:lnTo>
                <a:lnTo>
                  <a:pt x="21600" y="10844"/>
                </a:lnTo>
                <a:lnTo>
                  <a:pt x="21037" y="2755"/>
                </a:lnTo>
                <a:lnTo>
                  <a:pt x="17098" y="0"/>
                </a:lnTo>
                <a:lnTo>
                  <a:pt x="12769" y="2755"/>
                </a:lnTo>
                <a:lnTo>
                  <a:pt x="11817" y="3111"/>
                </a:lnTo>
                <a:lnTo>
                  <a:pt x="10302" y="3111"/>
                </a:lnTo>
                <a:lnTo>
                  <a:pt x="5064" y="346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未知"/>
          <p:cNvSpPr/>
          <p:nvPr/>
        </p:nvSpPr>
        <p:spPr>
          <a:xfrm>
            <a:off x="7905600" y="3157560"/>
            <a:ext cx="266760" cy="157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5171" y="349"/>
                </a:moveTo>
                <a:lnTo>
                  <a:pt x="20520" y="0"/>
                </a:lnTo>
                <a:lnTo>
                  <a:pt x="21600" y="2623"/>
                </a:lnTo>
                <a:lnTo>
                  <a:pt x="18925" y="11018"/>
                </a:lnTo>
                <a:lnTo>
                  <a:pt x="14708" y="13991"/>
                </a:lnTo>
                <a:lnTo>
                  <a:pt x="11365" y="18189"/>
                </a:lnTo>
                <a:lnTo>
                  <a:pt x="8022" y="19326"/>
                </a:lnTo>
                <a:lnTo>
                  <a:pt x="1080" y="21600"/>
                </a:lnTo>
                <a:lnTo>
                  <a:pt x="0" y="21250"/>
                </a:lnTo>
                <a:lnTo>
                  <a:pt x="5348" y="13642"/>
                </a:lnTo>
                <a:lnTo>
                  <a:pt x="5091" y="15128"/>
                </a:lnTo>
                <a:lnTo>
                  <a:pt x="12034" y="5684"/>
                </a:lnTo>
                <a:lnTo>
                  <a:pt x="12497" y="1923"/>
                </a:lnTo>
                <a:lnTo>
                  <a:pt x="15171" y="34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未知"/>
          <p:cNvSpPr/>
          <p:nvPr/>
        </p:nvSpPr>
        <p:spPr>
          <a:xfrm>
            <a:off x="7851600" y="3286080"/>
            <a:ext cx="270000" cy="135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421" y="6113"/>
                </a:moveTo>
                <a:lnTo>
                  <a:pt x="0" y="15894"/>
                </a:lnTo>
                <a:lnTo>
                  <a:pt x="1321" y="21600"/>
                </a:lnTo>
                <a:lnTo>
                  <a:pt x="7725" y="15384"/>
                </a:lnTo>
                <a:lnTo>
                  <a:pt x="9249" y="12328"/>
                </a:lnTo>
                <a:lnTo>
                  <a:pt x="14992" y="11920"/>
                </a:lnTo>
                <a:lnTo>
                  <a:pt x="20278" y="9271"/>
                </a:lnTo>
                <a:lnTo>
                  <a:pt x="21600" y="3973"/>
                </a:lnTo>
                <a:lnTo>
                  <a:pt x="17839" y="1732"/>
                </a:lnTo>
                <a:lnTo>
                  <a:pt x="14992" y="0"/>
                </a:lnTo>
                <a:lnTo>
                  <a:pt x="10571" y="1732"/>
                </a:lnTo>
                <a:lnTo>
                  <a:pt x="4421" y="61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未知"/>
          <p:cNvSpPr/>
          <p:nvPr/>
        </p:nvSpPr>
        <p:spPr>
          <a:xfrm>
            <a:off x="7958160" y="3038400"/>
            <a:ext cx="108000" cy="603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61" y="1000"/>
                </a:moveTo>
                <a:lnTo>
                  <a:pt x="3323" y="3456"/>
                </a:lnTo>
                <a:lnTo>
                  <a:pt x="2172" y="5229"/>
                </a:lnTo>
                <a:lnTo>
                  <a:pt x="2172" y="7002"/>
                </a:lnTo>
                <a:lnTo>
                  <a:pt x="1150" y="8867"/>
                </a:lnTo>
                <a:lnTo>
                  <a:pt x="1150" y="10163"/>
                </a:lnTo>
                <a:lnTo>
                  <a:pt x="1150" y="11823"/>
                </a:lnTo>
                <a:lnTo>
                  <a:pt x="1150" y="14096"/>
                </a:lnTo>
                <a:lnTo>
                  <a:pt x="511" y="17757"/>
                </a:lnTo>
                <a:lnTo>
                  <a:pt x="1150" y="18939"/>
                </a:lnTo>
                <a:lnTo>
                  <a:pt x="0" y="20304"/>
                </a:lnTo>
                <a:lnTo>
                  <a:pt x="2811" y="21190"/>
                </a:lnTo>
                <a:lnTo>
                  <a:pt x="9969" y="20895"/>
                </a:lnTo>
                <a:lnTo>
                  <a:pt x="10480" y="21600"/>
                </a:lnTo>
                <a:lnTo>
                  <a:pt x="17254" y="20304"/>
                </a:lnTo>
                <a:lnTo>
                  <a:pt x="15592" y="16870"/>
                </a:lnTo>
                <a:lnTo>
                  <a:pt x="14953" y="13210"/>
                </a:lnTo>
                <a:lnTo>
                  <a:pt x="14953" y="11936"/>
                </a:lnTo>
                <a:lnTo>
                  <a:pt x="17254" y="8776"/>
                </a:lnTo>
                <a:lnTo>
                  <a:pt x="18276" y="5729"/>
                </a:lnTo>
                <a:lnTo>
                  <a:pt x="19427" y="2569"/>
                </a:lnTo>
                <a:lnTo>
                  <a:pt x="21600" y="0"/>
                </a:lnTo>
                <a:lnTo>
                  <a:pt x="1661" y="10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未知"/>
          <p:cNvSpPr/>
          <p:nvPr/>
        </p:nvSpPr>
        <p:spPr>
          <a:xfrm>
            <a:off x="7746840" y="3421080"/>
            <a:ext cx="439920" cy="96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461" y="0"/>
                </a:moveTo>
                <a:lnTo>
                  <a:pt x="0" y="9805"/>
                </a:lnTo>
                <a:lnTo>
                  <a:pt x="0" y="20889"/>
                </a:lnTo>
                <a:lnTo>
                  <a:pt x="7967" y="21600"/>
                </a:lnTo>
                <a:lnTo>
                  <a:pt x="10800" y="17194"/>
                </a:lnTo>
                <a:lnTo>
                  <a:pt x="13632" y="18473"/>
                </a:lnTo>
                <a:lnTo>
                  <a:pt x="21070" y="15347"/>
                </a:lnTo>
                <a:lnTo>
                  <a:pt x="21600" y="1847"/>
                </a:lnTo>
                <a:lnTo>
                  <a:pt x="19296" y="2415"/>
                </a:lnTo>
                <a:lnTo>
                  <a:pt x="16059" y="568"/>
                </a:lnTo>
                <a:lnTo>
                  <a:pt x="12698" y="568"/>
                </a:lnTo>
                <a:lnTo>
                  <a:pt x="9461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未知"/>
          <p:cNvSpPr/>
          <p:nvPr/>
        </p:nvSpPr>
        <p:spPr>
          <a:xfrm>
            <a:off x="7500960" y="3519360"/>
            <a:ext cx="947880" cy="141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034" y="4202"/>
                </a:moveTo>
                <a:lnTo>
                  <a:pt x="1259" y="9773"/>
                </a:lnTo>
                <a:lnTo>
                  <a:pt x="260" y="11435"/>
                </a:lnTo>
                <a:lnTo>
                  <a:pt x="72" y="15247"/>
                </a:lnTo>
                <a:lnTo>
                  <a:pt x="0" y="19938"/>
                </a:lnTo>
                <a:lnTo>
                  <a:pt x="1201" y="21600"/>
                </a:lnTo>
                <a:lnTo>
                  <a:pt x="4343" y="21600"/>
                </a:lnTo>
                <a:lnTo>
                  <a:pt x="4777" y="19058"/>
                </a:lnTo>
                <a:lnTo>
                  <a:pt x="5472" y="16517"/>
                </a:lnTo>
                <a:lnTo>
                  <a:pt x="8165" y="16517"/>
                </a:lnTo>
                <a:lnTo>
                  <a:pt x="11046" y="13585"/>
                </a:lnTo>
                <a:lnTo>
                  <a:pt x="12812" y="11826"/>
                </a:lnTo>
                <a:lnTo>
                  <a:pt x="19211" y="15247"/>
                </a:lnTo>
                <a:lnTo>
                  <a:pt x="20847" y="16908"/>
                </a:lnTo>
                <a:lnTo>
                  <a:pt x="21600" y="12314"/>
                </a:lnTo>
                <a:lnTo>
                  <a:pt x="21281" y="5082"/>
                </a:lnTo>
                <a:lnTo>
                  <a:pt x="20152" y="1270"/>
                </a:lnTo>
                <a:lnTo>
                  <a:pt x="16257" y="1270"/>
                </a:lnTo>
                <a:lnTo>
                  <a:pt x="12001" y="3811"/>
                </a:lnTo>
                <a:lnTo>
                  <a:pt x="9989" y="2932"/>
                </a:lnTo>
                <a:lnTo>
                  <a:pt x="10177" y="0"/>
                </a:lnTo>
                <a:lnTo>
                  <a:pt x="9294" y="1661"/>
                </a:lnTo>
                <a:lnTo>
                  <a:pt x="8917" y="5473"/>
                </a:lnTo>
                <a:lnTo>
                  <a:pt x="8034" y="420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未知"/>
          <p:cNvSpPr/>
          <p:nvPr/>
        </p:nvSpPr>
        <p:spPr>
          <a:xfrm>
            <a:off x="7593120" y="3624120"/>
            <a:ext cx="222120" cy="255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492" y="2090"/>
                </a:moveTo>
                <a:lnTo>
                  <a:pt x="14092" y="0"/>
                </a:lnTo>
                <a:lnTo>
                  <a:pt x="6892" y="5788"/>
                </a:lnTo>
                <a:lnTo>
                  <a:pt x="0" y="11845"/>
                </a:lnTo>
                <a:lnTo>
                  <a:pt x="1292" y="21385"/>
                </a:lnTo>
                <a:lnTo>
                  <a:pt x="13046" y="21600"/>
                </a:lnTo>
                <a:lnTo>
                  <a:pt x="16492" y="14364"/>
                </a:lnTo>
                <a:lnTo>
                  <a:pt x="21600" y="8361"/>
                </a:lnTo>
                <a:lnTo>
                  <a:pt x="20492" y="209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未知"/>
          <p:cNvSpPr/>
          <p:nvPr/>
        </p:nvSpPr>
        <p:spPr>
          <a:xfrm>
            <a:off x="7823160" y="3619440"/>
            <a:ext cx="127080" cy="214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932" y="5815"/>
                </a:moveTo>
                <a:lnTo>
                  <a:pt x="8466" y="0"/>
                </a:lnTo>
                <a:lnTo>
                  <a:pt x="0" y="1405"/>
                </a:lnTo>
                <a:lnTo>
                  <a:pt x="0" y="4728"/>
                </a:lnTo>
                <a:lnTo>
                  <a:pt x="1411" y="10544"/>
                </a:lnTo>
                <a:lnTo>
                  <a:pt x="2279" y="18276"/>
                </a:lnTo>
                <a:lnTo>
                  <a:pt x="11288" y="21600"/>
                </a:lnTo>
                <a:lnTo>
                  <a:pt x="21600" y="18021"/>
                </a:lnTo>
                <a:lnTo>
                  <a:pt x="16932" y="581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未知"/>
          <p:cNvSpPr/>
          <p:nvPr/>
        </p:nvSpPr>
        <p:spPr>
          <a:xfrm>
            <a:off x="7950240" y="3635280"/>
            <a:ext cx="173160" cy="171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2847"/>
                </a:moveTo>
                <a:lnTo>
                  <a:pt x="16852" y="4898"/>
                </a:lnTo>
                <a:lnTo>
                  <a:pt x="11709" y="722"/>
                </a:lnTo>
                <a:lnTo>
                  <a:pt x="2373" y="0"/>
                </a:lnTo>
                <a:lnTo>
                  <a:pt x="0" y="5942"/>
                </a:lnTo>
                <a:lnTo>
                  <a:pt x="7200" y="8672"/>
                </a:lnTo>
                <a:lnTo>
                  <a:pt x="10681" y="15336"/>
                </a:lnTo>
                <a:lnTo>
                  <a:pt x="21600" y="21600"/>
                </a:lnTo>
                <a:lnTo>
                  <a:pt x="21600" y="1284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未知"/>
          <p:cNvSpPr/>
          <p:nvPr/>
        </p:nvSpPr>
        <p:spPr>
          <a:xfrm>
            <a:off x="8089920" y="3624120"/>
            <a:ext cx="264960" cy="187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5730"/>
                </a:moveTo>
                <a:lnTo>
                  <a:pt x="3167" y="11461"/>
                </a:lnTo>
                <a:lnTo>
                  <a:pt x="5659" y="9551"/>
                </a:lnTo>
                <a:lnTo>
                  <a:pt x="9450" y="11461"/>
                </a:lnTo>
                <a:lnTo>
                  <a:pt x="12825" y="17485"/>
                </a:lnTo>
                <a:lnTo>
                  <a:pt x="19575" y="21600"/>
                </a:lnTo>
                <a:lnTo>
                  <a:pt x="21600" y="12710"/>
                </a:lnTo>
                <a:lnTo>
                  <a:pt x="18692" y="5363"/>
                </a:lnTo>
                <a:lnTo>
                  <a:pt x="14642" y="293"/>
                </a:lnTo>
                <a:lnTo>
                  <a:pt x="7009" y="0"/>
                </a:lnTo>
                <a:lnTo>
                  <a:pt x="3167" y="1910"/>
                </a:lnTo>
                <a:lnTo>
                  <a:pt x="0" y="573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未知"/>
          <p:cNvSpPr/>
          <p:nvPr/>
        </p:nvSpPr>
        <p:spPr>
          <a:xfrm>
            <a:off x="7765920" y="3863880"/>
            <a:ext cx="438120" cy="10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831" y="4984"/>
                </a:moveTo>
                <a:lnTo>
                  <a:pt x="9781" y="4473"/>
                </a:lnTo>
                <a:lnTo>
                  <a:pt x="11003" y="4473"/>
                </a:lnTo>
                <a:lnTo>
                  <a:pt x="14138" y="2811"/>
                </a:lnTo>
                <a:lnTo>
                  <a:pt x="15612" y="1150"/>
                </a:lnTo>
                <a:lnTo>
                  <a:pt x="19280" y="0"/>
                </a:lnTo>
                <a:lnTo>
                  <a:pt x="21600" y="4984"/>
                </a:lnTo>
                <a:lnTo>
                  <a:pt x="20784" y="13292"/>
                </a:lnTo>
                <a:lnTo>
                  <a:pt x="18747" y="16615"/>
                </a:lnTo>
                <a:lnTo>
                  <a:pt x="12759" y="16615"/>
                </a:lnTo>
                <a:lnTo>
                  <a:pt x="11536" y="16615"/>
                </a:lnTo>
                <a:lnTo>
                  <a:pt x="10314" y="17765"/>
                </a:lnTo>
                <a:lnTo>
                  <a:pt x="8809" y="17765"/>
                </a:lnTo>
                <a:lnTo>
                  <a:pt x="6928" y="20449"/>
                </a:lnTo>
                <a:lnTo>
                  <a:pt x="5015" y="20449"/>
                </a:lnTo>
                <a:lnTo>
                  <a:pt x="407" y="21600"/>
                </a:lnTo>
                <a:lnTo>
                  <a:pt x="0" y="18276"/>
                </a:lnTo>
                <a:lnTo>
                  <a:pt x="125" y="4984"/>
                </a:lnTo>
                <a:lnTo>
                  <a:pt x="2570" y="0"/>
                </a:lnTo>
                <a:lnTo>
                  <a:pt x="5831" y="498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未知"/>
          <p:cNvSpPr/>
          <p:nvPr/>
        </p:nvSpPr>
        <p:spPr>
          <a:xfrm>
            <a:off x="7924680" y="3703680"/>
            <a:ext cx="104760" cy="434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6283" y="2459"/>
                </a:moveTo>
                <a:lnTo>
                  <a:pt x="9032" y="5202"/>
                </a:lnTo>
                <a:lnTo>
                  <a:pt x="7985" y="9995"/>
                </a:lnTo>
                <a:lnTo>
                  <a:pt x="6807" y="12739"/>
                </a:lnTo>
                <a:lnTo>
                  <a:pt x="5105" y="16680"/>
                </a:lnTo>
                <a:lnTo>
                  <a:pt x="0" y="17784"/>
                </a:lnTo>
                <a:lnTo>
                  <a:pt x="0" y="18888"/>
                </a:lnTo>
                <a:lnTo>
                  <a:pt x="2880" y="20937"/>
                </a:lnTo>
                <a:lnTo>
                  <a:pt x="9032" y="21600"/>
                </a:lnTo>
                <a:lnTo>
                  <a:pt x="18196" y="19140"/>
                </a:lnTo>
                <a:lnTo>
                  <a:pt x="19898" y="16838"/>
                </a:lnTo>
                <a:lnTo>
                  <a:pt x="21600" y="12865"/>
                </a:lnTo>
                <a:lnTo>
                  <a:pt x="20421" y="11509"/>
                </a:lnTo>
                <a:lnTo>
                  <a:pt x="20421" y="8766"/>
                </a:lnTo>
                <a:lnTo>
                  <a:pt x="20421" y="5738"/>
                </a:lnTo>
                <a:lnTo>
                  <a:pt x="19374" y="977"/>
                </a:lnTo>
                <a:lnTo>
                  <a:pt x="14792" y="0"/>
                </a:lnTo>
                <a:lnTo>
                  <a:pt x="9032" y="819"/>
                </a:lnTo>
                <a:lnTo>
                  <a:pt x="6283" y="245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未知"/>
          <p:cNvSpPr/>
          <p:nvPr/>
        </p:nvSpPr>
        <p:spPr>
          <a:xfrm>
            <a:off x="7669080" y="4049640"/>
            <a:ext cx="658800" cy="10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6776" y="3962"/>
                </a:moveTo>
                <a:lnTo>
                  <a:pt x="2168" y="6646"/>
                </a:lnTo>
                <a:lnTo>
                  <a:pt x="0" y="9969"/>
                </a:lnTo>
                <a:lnTo>
                  <a:pt x="271" y="17765"/>
                </a:lnTo>
                <a:lnTo>
                  <a:pt x="1980" y="20577"/>
                </a:lnTo>
                <a:lnTo>
                  <a:pt x="3711" y="21600"/>
                </a:lnTo>
                <a:lnTo>
                  <a:pt x="7318" y="17765"/>
                </a:lnTo>
                <a:lnTo>
                  <a:pt x="13656" y="18915"/>
                </a:lnTo>
                <a:lnTo>
                  <a:pt x="17805" y="20577"/>
                </a:lnTo>
                <a:lnTo>
                  <a:pt x="20432" y="21600"/>
                </a:lnTo>
                <a:lnTo>
                  <a:pt x="21600" y="9457"/>
                </a:lnTo>
                <a:lnTo>
                  <a:pt x="19431" y="1150"/>
                </a:lnTo>
                <a:lnTo>
                  <a:pt x="14198" y="0"/>
                </a:lnTo>
                <a:lnTo>
                  <a:pt x="11654" y="1150"/>
                </a:lnTo>
                <a:lnTo>
                  <a:pt x="9215" y="3323"/>
                </a:lnTo>
                <a:lnTo>
                  <a:pt x="8131" y="3323"/>
                </a:lnTo>
                <a:lnTo>
                  <a:pt x="6776" y="39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40" descr="墨"/>
          <p:cNvPicPr/>
          <p:nvPr/>
        </p:nvPicPr>
        <p:blipFill>
          <a:blip r:embed="rId5"/>
          <a:stretch/>
        </p:blipFill>
        <p:spPr>
          <a:xfrm>
            <a:off x="7500960" y="2968560"/>
            <a:ext cx="954000" cy="1187640"/>
          </a:xfrm>
          <a:prstGeom prst="rect">
            <a:avLst/>
          </a:prstGeom>
          <a:ln w="0">
            <a:noFill/>
          </a:ln>
        </p:spPr>
      </p:pic>
      <p:sp>
        <p:nvSpPr>
          <p:cNvPr id="583" name="未知"/>
          <p:cNvSpPr/>
          <p:nvPr/>
        </p:nvSpPr>
        <p:spPr>
          <a:xfrm>
            <a:off x="7796160" y="4441680"/>
            <a:ext cx="487440" cy="228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868" y="1860"/>
                </a:moveTo>
                <a:lnTo>
                  <a:pt x="13921" y="0"/>
                </a:lnTo>
                <a:lnTo>
                  <a:pt x="8409" y="2640"/>
                </a:lnTo>
                <a:lnTo>
                  <a:pt x="1828" y="2880"/>
                </a:lnTo>
                <a:lnTo>
                  <a:pt x="0" y="6240"/>
                </a:lnTo>
                <a:lnTo>
                  <a:pt x="871" y="14340"/>
                </a:lnTo>
                <a:lnTo>
                  <a:pt x="6946" y="18480"/>
                </a:lnTo>
                <a:lnTo>
                  <a:pt x="12093" y="21600"/>
                </a:lnTo>
                <a:lnTo>
                  <a:pt x="17437" y="18780"/>
                </a:lnTo>
                <a:lnTo>
                  <a:pt x="21600" y="14040"/>
                </a:lnTo>
                <a:lnTo>
                  <a:pt x="21346" y="7800"/>
                </a:lnTo>
                <a:lnTo>
                  <a:pt x="20868" y="18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未知"/>
          <p:cNvSpPr/>
          <p:nvPr/>
        </p:nvSpPr>
        <p:spPr>
          <a:xfrm>
            <a:off x="7512120" y="4737240"/>
            <a:ext cx="936720" cy="280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95" y="10800"/>
                </a:moveTo>
                <a:lnTo>
                  <a:pt x="381" y="12705"/>
                </a:lnTo>
                <a:lnTo>
                  <a:pt x="0" y="15686"/>
                </a:lnTo>
                <a:lnTo>
                  <a:pt x="0" y="16957"/>
                </a:lnTo>
                <a:lnTo>
                  <a:pt x="1084" y="19498"/>
                </a:lnTo>
                <a:lnTo>
                  <a:pt x="3941" y="21600"/>
                </a:lnTo>
                <a:lnTo>
                  <a:pt x="9656" y="15247"/>
                </a:lnTo>
                <a:lnTo>
                  <a:pt x="10228" y="13585"/>
                </a:lnTo>
                <a:lnTo>
                  <a:pt x="11371" y="12510"/>
                </a:lnTo>
                <a:lnTo>
                  <a:pt x="13217" y="11679"/>
                </a:lnTo>
                <a:lnTo>
                  <a:pt x="17658" y="10164"/>
                </a:lnTo>
                <a:lnTo>
                  <a:pt x="21028" y="10164"/>
                </a:lnTo>
                <a:lnTo>
                  <a:pt x="21600" y="4447"/>
                </a:lnTo>
                <a:lnTo>
                  <a:pt x="21336" y="0"/>
                </a:lnTo>
                <a:lnTo>
                  <a:pt x="19123" y="0"/>
                </a:lnTo>
                <a:lnTo>
                  <a:pt x="15884" y="635"/>
                </a:lnTo>
                <a:lnTo>
                  <a:pt x="2095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未知"/>
          <p:cNvSpPr/>
          <p:nvPr/>
        </p:nvSpPr>
        <p:spPr>
          <a:xfrm>
            <a:off x="7705800" y="4898880"/>
            <a:ext cx="387360" cy="50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211" y="0"/>
                </a:moveTo>
                <a:lnTo>
                  <a:pt x="15776" y="0"/>
                </a:lnTo>
                <a:lnTo>
                  <a:pt x="13623" y="460"/>
                </a:lnTo>
                <a:lnTo>
                  <a:pt x="13023" y="1407"/>
                </a:lnTo>
                <a:lnTo>
                  <a:pt x="12388" y="3275"/>
                </a:lnTo>
                <a:lnTo>
                  <a:pt x="9811" y="5630"/>
                </a:lnTo>
                <a:lnTo>
                  <a:pt x="7517" y="8336"/>
                </a:lnTo>
                <a:lnTo>
                  <a:pt x="6600" y="9257"/>
                </a:lnTo>
                <a:lnTo>
                  <a:pt x="2611" y="12207"/>
                </a:lnTo>
                <a:lnTo>
                  <a:pt x="1694" y="13615"/>
                </a:lnTo>
                <a:lnTo>
                  <a:pt x="0" y="16538"/>
                </a:lnTo>
                <a:lnTo>
                  <a:pt x="176" y="19353"/>
                </a:lnTo>
                <a:lnTo>
                  <a:pt x="3847" y="21464"/>
                </a:lnTo>
                <a:lnTo>
                  <a:pt x="7517" y="21600"/>
                </a:lnTo>
                <a:lnTo>
                  <a:pt x="11329" y="21221"/>
                </a:lnTo>
                <a:lnTo>
                  <a:pt x="15000" y="20165"/>
                </a:lnTo>
                <a:lnTo>
                  <a:pt x="11329" y="20409"/>
                </a:lnTo>
                <a:lnTo>
                  <a:pt x="9494" y="17593"/>
                </a:lnTo>
                <a:lnTo>
                  <a:pt x="12247" y="14778"/>
                </a:lnTo>
                <a:lnTo>
                  <a:pt x="14858" y="11963"/>
                </a:lnTo>
                <a:lnTo>
                  <a:pt x="18847" y="10204"/>
                </a:lnTo>
                <a:lnTo>
                  <a:pt x="21141" y="7389"/>
                </a:lnTo>
                <a:lnTo>
                  <a:pt x="21600" y="4574"/>
                </a:lnTo>
                <a:lnTo>
                  <a:pt x="20823" y="1759"/>
                </a:lnTo>
                <a:lnTo>
                  <a:pt x="182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未知"/>
          <p:cNvSpPr/>
          <p:nvPr/>
        </p:nvSpPr>
        <p:spPr>
          <a:xfrm>
            <a:off x="7837560" y="5124600"/>
            <a:ext cx="423720" cy="266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6596" y="6259"/>
                </a:moveTo>
                <a:lnTo>
                  <a:pt x="2683" y="10261"/>
                </a:lnTo>
                <a:lnTo>
                  <a:pt x="420" y="17136"/>
                </a:lnTo>
                <a:lnTo>
                  <a:pt x="0" y="20676"/>
                </a:lnTo>
                <a:lnTo>
                  <a:pt x="840" y="21343"/>
                </a:lnTo>
                <a:lnTo>
                  <a:pt x="2683" y="21600"/>
                </a:lnTo>
                <a:lnTo>
                  <a:pt x="12061" y="16469"/>
                </a:lnTo>
                <a:lnTo>
                  <a:pt x="19789" y="10928"/>
                </a:lnTo>
                <a:lnTo>
                  <a:pt x="21600" y="7336"/>
                </a:lnTo>
                <a:lnTo>
                  <a:pt x="20759" y="0"/>
                </a:lnTo>
                <a:lnTo>
                  <a:pt x="17687" y="1333"/>
                </a:lnTo>
                <a:lnTo>
                  <a:pt x="12222" y="3591"/>
                </a:lnTo>
                <a:lnTo>
                  <a:pt x="8698" y="4925"/>
                </a:lnTo>
                <a:lnTo>
                  <a:pt x="6596" y="625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未知"/>
          <p:cNvSpPr/>
          <p:nvPr/>
        </p:nvSpPr>
        <p:spPr>
          <a:xfrm>
            <a:off x="8159760" y="4921200"/>
            <a:ext cx="258840" cy="439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3392"/>
                </a:moveTo>
                <a:lnTo>
                  <a:pt x="5041" y="8932"/>
                </a:lnTo>
                <a:lnTo>
                  <a:pt x="6899" y="10800"/>
                </a:lnTo>
                <a:lnTo>
                  <a:pt x="8491" y="14036"/>
                </a:lnTo>
                <a:lnTo>
                  <a:pt x="7589" y="17429"/>
                </a:lnTo>
                <a:lnTo>
                  <a:pt x="9871" y="19857"/>
                </a:lnTo>
                <a:lnTo>
                  <a:pt x="15390" y="21600"/>
                </a:lnTo>
                <a:lnTo>
                  <a:pt x="20697" y="19981"/>
                </a:lnTo>
                <a:lnTo>
                  <a:pt x="21600" y="12698"/>
                </a:lnTo>
                <a:lnTo>
                  <a:pt x="18840" y="9461"/>
                </a:lnTo>
                <a:lnTo>
                  <a:pt x="15178" y="4077"/>
                </a:lnTo>
                <a:lnTo>
                  <a:pt x="7801" y="1089"/>
                </a:lnTo>
                <a:lnTo>
                  <a:pt x="3449" y="0"/>
                </a:lnTo>
                <a:lnTo>
                  <a:pt x="0" y="1774"/>
                </a:lnTo>
                <a:lnTo>
                  <a:pt x="0" y="339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46" descr="云~"/>
          <p:cNvPicPr/>
          <p:nvPr/>
        </p:nvPicPr>
        <p:blipFill>
          <a:blip r:embed="rId6"/>
          <a:stretch/>
        </p:blipFill>
        <p:spPr>
          <a:xfrm>
            <a:off x="7518240" y="4433760"/>
            <a:ext cx="943200" cy="966960"/>
          </a:xfrm>
          <a:prstGeom prst="rect">
            <a:avLst/>
          </a:prstGeom>
          <a:ln w="0">
            <a:noFill/>
          </a:ln>
        </p:spPr>
      </p:pic>
      <p:sp>
        <p:nvSpPr>
          <p:cNvPr id="589" name="未知"/>
          <p:cNvSpPr/>
          <p:nvPr/>
        </p:nvSpPr>
        <p:spPr>
          <a:xfrm>
            <a:off x="7694640" y="5772240"/>
            <a:ext cx="138240" cy="34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86" y="2080"/>
                </a:moveTo>
                <a:lnTo>
                  <a:pt x="5251" y="11680"/>
                </a:lnTo>
                <a:lnTo>
                  <a:pt x="1486" y="20680"/>
                </a:lnTo>
                <a:lnTo>
                  <a:pt x="0" y="18880"/>
                </a:lnTo>
                <a:lnTo>
                  <a:pt x="0" y="21600"/>
                </a:lnTo>
                <a:lnTo>
                  <a:pt x="8917" y="21600"/>
                </a:lnTo>
                <a:lnTo>
                  <a:pt x="18627" y="20680"/>
                </a:lnTo>
                <a:lnTo>
                  <a:pt x="21600" y="8400"/>
                </a:lnTo>
                <a:lnTo>
                  <a:pt x="21600" y="3280"/>
                </a:lnTo>
                <a:lnTo>
                  <a:pt x="15655" y="0"/>
                </a:lnTo>
                <a:lnTo>
                  <a:pt x="8917" y="0"/>
                </a:lnTo>
                <a:lnTo>
                  <a:pt x="1486" y="208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未知"/>
          <p:cNvSpPr/>
          <p:nvPr/>
        </p:nvSpPr>
        <p:spPr>
          <a:xfrm>
            <a:off x="7508880" y="5967360"/>
            <a:ext cx="176040" cy="281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090" y="12092"/>
                </a:moveTo>
                <a:lnTo>
                  <a:pt x="21600" y="4388"/>
                </a:lnTo>
                <a:lnTo>
                  <a:pt x="18714" y="1121"/>
                </a:lnTo>
                <a:lnTo>
                  <a:pt x="13412" y="0"/>
                </a:lnTo>
                <a:lnTo>
                  <a:pt x="9357" y="731"/>
                </a:lnTo>
                <a:lnTo>
                  <a:pt x="7563" y="5509"/>
                </a:lnTo>
                <a:lnTo>
                  <a:pt x="5224" y="9507"/>
                </a:lnTo>
                <a:lnTo>
                  <a:pt x="2885" y="11702"/>
                </a:lnTo>
                <a:lnTo>
                  <a:pt x="545" y="14286"/>
                </a:lnTo>
                <a:lnTo>
                  <a:pt x="0" y="16480"/>
                </a:lnTo>
                <a:lnTo>
                  <a:pt x="545" y="20478"/>
                </a:lnTo>
                <a:lnTo>
                  <a:pt x="5848" y="21600"/>
                </a:lnTo>
                <a:lnTo>
                  <a:pt x="15751" y="18674"/>
                </a:lnTo>
                <a:lnTo>
                  <a:pt x="18090" y="1209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未知"/>
          <p:cNvSpPr/>
          <p:nvPr/>
        </p:nvSpPr>
        <p:spPr>
          <a:xfrm>
            <a:off x="7566120" y="6095880"/>
            <a:ext cx="280800" cy="15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6206" y="5400"/>
                </a:moveTo>
                <a:lnTo>
                  <a:pt x="2199" y="11430"/>
                </a:lnTo>
                <a:lnTo>
                  <a:pt x="1075" y="14850"/>
                </a:lnTo>
                <a:lnTo>
                  <a:pt x="0" y="18180"/>
                </a:lnTo>
                <a:lnTo>
                  <a:pt x="1466" y="21600"/>
                </a:lnTo>
                <a:lnTo>
                  <a:pt x="14269" y="16200"/>
                </a:lnTo>
                <a:lnTo>
                  <a:pt x="21600" y="7380"/>
                </a:lnTo>
                <a:lnTo>
                  <a:pt x="21257" y="0"/>
                </a:lnTo>
                <a:lnTo>
                  <a:pt x="15735" y="630"/>
                </a:lnTo>
                <a:lnTo>
                  <a:pt x="6206" y="54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未知"/>
          <p:cNvSpPr/>
          <p:nvPr/>
        </p:nvSpPr>
        <p:spPr>
          <a:xfrm>
            <a:off x="7827840" y="5924520"/>
            <a:ext cx="119160" cy="285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340" y="1776"/>
                </a:moveTo>
                <a:lnTo>
                  <a:pt x="21600" y="8640"/>
                </a:lnTo>
                <a:lnTo>
                  <a:pt x="18153" y="14736"/>
                </a:lnTo>
                <a:lnTo>
                  <a:pt x="16429" y="15456"/>
                </a:lnTo>
                <a:lnTo>
                  <a:pt x="16429" y="20496"/>
                </a:lnTo>
                <a:lnTo>
                  <a:pt x="1723" y="21600"/>
                </a:lnTo>
                <a:lnTo>
                  <a:pt x="0" y="15840"/>
                </a:lnTo>
                <a:lnTo>
                  <a:pt x="1723" y="16560"/>
                </a:lnTo>
                <a:lnTo>
                  <a:pt x="3446" y="11856"/>
                </a:lnTo>
                <a:lnTo>
                  <a:pt x="0" y="5376"/>
                </a:lnTo>
                <a:lnTo>
                  <a:pt x="4365" y="0"/>
                </a:lnTo>
                <a:lnTo>
                  <a:pt x="10340" y="177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未知"/>
          <p:cNvSpPr/>
          <p:nvPr/>
        </p:nvSpPr>
        <p:spPr>
          <a:xfrm>
            <a:off x="7927920" y="5629320"/>
            <a:ext cx="214200" cy="299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421" y="1006"/>
                </a:moveTo>
                <a:lnTo>
                  <a:pt x="10062" y="7184"/>
                </a:lnTo>
                <a:lnTo>
                  <a:pt x="3332" y="12676"/>
                </a:lnTo>
                <a:lnTo>
                  <a:pt x="0" y="18167"/>
                </a:lnTo>
                <a:lnTo>
                  <a:pt x="1922" y="21600"/>
                </a:lnTo>
                <a:lnTo>
                  <a:pt x="6729" y="19540"/>
                </a:lnTo>
                <a:lnTo>
                  <a:pt x="14421" y="13728"/>
                </a:lnTo>
                <a:lnTo>
                  <a:pt x="20638" y="5125"/>
                </a:lnTo>
                <a:lnTo>
                  <a:pt x="21600" y="2059"/>
                </a:lnTo>
                <a:lnTo>
                  <a:pt x="17754" y="0"/>
                </a:lnTo>
                <a:lnTo>
                  <a:pt x="14421" y="100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未知"/>
          <p:cNvSpPr/>
          <p:nvPr/>
        </p:nvSpPr>
        <p:spPr>
          <a:xfrm>
            <a:off x="8042400" y="5743440"/>
            <a:ext cx="214200" cy="10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84" y="12698"/>
                </a:moveTo>
                <a:lnTo>
                  <a:pt x="0" y="20552"/>
                </a:lnTo>
                <a:lnTo>
                  <a:pt x="6217" y="21600"/>
                </a:lnTo>
                <a:lnTo>
                  <a:pt x="11024" y="16625"/>
                </a:lnTo>
                <a:lnTo>
                  <a:pt x="18715" y="12698"/>
                </a:lnTo>
                <a:lnTo>
                  <a:pt x="21600" y="5890"/>
                </a:lnTo>
                <a:lnTo>
                  <a:pt x="17754" y="2880"/>
                </a:lnTo>
                <a:lnTo>
                  <a:pt x="13908" y="0"/>
                </a:lnTo>
                <a:lnTo>
                  <a:pt x="8140" y="2880"/>
                </a:lnTo>
                <a:lnTo>
                  <a:pt x="2884" y="1269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未知"/>
          <p:cNvSpPr/>
          <p:nvPr/>
        </p:nvSpPr>
        <p:spPr>
          <a:xfrm>
            <a:off x="7913520" y="5800680"/>
            <a:ext cx="314640" cy="34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lnTo>
                  <a:pt x="19636" y="0"/>
                </a:lnTo>
                <a:lnTo>
                  <a:pt x="17672" y="0"/>
                </a:lnTo>
                <a:lnTo>
                  <a:pt x="15403" y="1776"/>
                </a:lnTo>
                <a:lnTo>
                  <a:pt x="14399" y="5014"/>
                </a:lnTo>
                <a:lnTo>
                  <a:pt x="12130" y="7700"/>
                </a:lnTo>
                <a:lnTo>
                  <a:pt x="10472" y="9477"/>
                </a:lnTo>
                <a:lnTo>
                  <a:pt x="3621" y="16269"/>
                </a:lnTo>
                <a:lnTo>
                  <a:pt x="654" y="18954"/>
                </a:lnTo>
                <a:lnTo>
                  <a:pt x="0" y="21600"/>
                </a:lnTo>
                <a:lnTo>
                  <a:pt x="4276" y="21323"/>
                </a:lnTo>
                <a:lnTo>
                  <a:pt x="10167" y="18046"/>
                </a:lnTo>
                <a:lnTo>
                  <a:pt x="10821" y="15084"/>
                </a:lnTo>
                <a:lnTo>
                  <a:pt x="12785" y="11846"/>
                </a:lnTo>
                <a:lnTo>
                  <a:pt x="17672" y="7384"/>
                </a:lnTo>
                <a:lnTo>
                  <a:pt x="21600" y="2053"/>
                </a:lnTo>
                <a:lnTo>
                  <a:pt x="2160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未知"/>
          <p:cNvSpPr/>
          <p:nvPr/>
        </p:nvSpPr>
        <p:spPr>
          <a:xfrm>
            <a:off x="7999560" y="5862600"/>
            <a:ext cx="585720" cy="34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40" y="0"/>
                </a:moveTo>
                <a:lnTo>
                  <a:pt x="3346" y="3320"/>
                </a:lnTo>
                <a:lnTo>
                  <a:pt x="5101" y="5120"/>
                </a:lnTo>
                <a:lnTo>
                  <a:pt x="8775" y="6920"/>
                </a:lnTo>
                <a:lnTo>
                  <a:pt x="14930" y="9600"/>
                </a:lnTo>
                <a:lnTo>
                  <a:pt x="20546" y="12320"/>
                </a:lnTo>
                <a:lnTo>
                  <a:pt x="21600" y="13800"/>
                </a:lnTo>
                <a:lnTo>
                  <a:pt x="21061" y="21600"/>
                </a:lnTo>
                <a:lnTo>
                  <a:pt x="12988" y="18320"/>
                </a:lnTo>
                <a:lnTo>
                  <a:pt x="6669" y="12320"/>
                </a:lnTo>
                <a:lnTo>
                  <a:pt x="3861" y="7200"/>
                </a:lnTo>
                <a:lnTo>
                  <a:pt x="2644" y="6000"/>
                </a:lnTo>
                <a:lnTo>
                  <a:pt x="0" y="1800"/>
                </a:lnTo>
                <a:lnTo>
                  <a:pt x="124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未知"/>
          <p:cNvSpPr/>
          <p:nvPr/>
        </p:nvSpPr>
        <p:spPr>
          <a:xfrm>
            <a:off x="7942320" y="6100920"/>
            <a:ext cx="304920" cy="85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450" y="3680"/>
                </a:moveTo>
                <a:lnTo>
                  <a:pt x="11835" y="3680"/>
                </a:lnTo>
                <a:lnTo>
                  <a:pt x="16560" y="0"/>
                </a:lnTo>
                <a:lnTo>
                  <a:pt x="19935" y="0"/>
                </a:lnTo>
                <a:lnTo>
                  <a:pt x="21600" y="15680"/>
                </a:lnTo>
                <a:lnTo>
                  <a:pt x="16875" y="19200"/>
                </a:lnTo>
                <a:lnTo>
                  <a:pt x="13500" y="19200"/>
                </a:lnTo>
                <a:lnTo>
                  <a:pt x="10485" y="21600"/>
                </a:lnTo>
                <a:lnTo>
                  <a:pt x="8100" y="21600"/>
                </a:lnTo>
                <a:lnTo>
                  <a:pt x="1710" y="21600"/>
                </a:lnTo>
                <a:lnTo>
                  <a:pt x="0" y="18080"/>
                </a:lnTo>
                <a:lnTo>
                  <a:pt x="360" y="9600"/>
                </a:lnTo>
                <a:lnTo>
                  <a:pt x="9450" y="368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未知"/>
          <p:cNvSpPr/>
          <p:nvPr/>
        </p:nvSpPr>
        <p:spPr>
          <a:xfrm>
            <a:off x="7942320" y="6210360"/>
            <a:ext cx="285840" cy="85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40" y="10720"/>
                </a:moveTo>
                <a:lnTo>
                  <a:pt x="8640" y="4800"/>
                </a:lnTo>
                <a:lnTo>
                  <a:pt x="12240" y="3520"/>
                </a:lnTo>
                <a:lnTo>
                  <a:pt x="18384" y="0"/>
                </a:lnTo>
                <a:lnTo>
                  <a:pt x="20880" y="1120"/>
                </a:lnTo>
                <a:lnTo>
                  <a:pt x="21600" y="15520"/>
                </a:lnTo>
                <a:lnTo>
                  <a:pt x="17664" y="14400"/>
                </a:lnTo>
                <a:lnTo>
                  <a:pt x="15120" y="15520"/>
                </a:lnTo>
                <a:lnTo>
                  <a:pt x="11184" y="17920"/>
                </a:lnTo>
                <a:lnTo>
                  <a:pt x="4704" y="21600"/>
                </a:lnTo>
                <a:lnTo>
                  <a:pt x="0" y="19200"/>
                </a:lnTo>
                <a:lnTo>
                  <a:pt x="1440" y="1072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未知"/>
          <p:cNvSpPr/>
          <p:nvPr/>
        </p:nvSpPr>
        <p:spPr>
          <a:xfrm>
            <a:off x="7794720" y="6267600"/>
            <a:ext cx="561960" cy="16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64" y="13976"/>
                </a:moveTo>
                <a:lnTo>
                  <a:pt x="11520" y="8216"/>
                </a:lnTo>
                <a:lnTo>
                  <a:pt x="13350" y="8216"/>
                </a:lnTo>
                <a:lnTo>
                  <a:pt x="16279" y="6945"/>
                </a:lnTo>
                <a:lnTo>
                  <a:pt x="17011" y="0"/>
                </a:lnTo>
                <a:lnTo>
                  <a:pt x="21600" y="9487"/>
                </a:lnTo>
                <a:lnTo>
                  <a:pt x="20672" y="17110"/>
                </a:lnTo>
                <a:lnTo>
                  <a:pt x="12447" y="14569"/>
                </a:lnTo>
                <a:lnTo>
                  <a:pt x="9884" y="16517"/>
                </a:lnTo>
                <a:lnTo>
                  <a:pt x="7322" y="19651"/>
                </a:lnTo>
                <a:lnTo>
                  <a:pt x="2733" y="21600"/>
                </a:lnTo>
                <a:lnTo>
                  <a:pt x="0" y="19058"/>
                </a:lnTo>
                <a:lnTo>
                  <a:pt x="1464" y="1397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未知"/>
          <p:cNvSpPr/>
          <p:nvPr/>
        </p:nvSpPr>
        <p:spPr>
          <a:xfrm>
            <a:off x="8051760" y="5996160"/>
            <a:ext cx="114480" cy="776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600" y="1730"/>
                </a:moveTo>
                <a:lnTo>
                  <a:pt x="4440" y="5563"/>
                </a:lnTo>
                <a:lnTo>
                  <a:pt x="3600" y="9148"/>
                </a:lnTo>
                <a:lnTo>
                  <a:pt x="0" y="14040"/>
                </a:lnTo>
                <a:lnTo>
                  <a:pt x="0" y="20928"/>
                </a:lnTo>
                <a:lnTo>
                  <a:pt x="8040" y="21600"/>
                </a:lnTo>
                <a:lnTo>
                  <a:pt x="21600" y="18950"/>
                </a:lnTo>
                <a:lnTo>
                  <a:pt x="16200" y="13652"/>
                </a:lnTo>
                <a:lnTo>
                  <a:pt x="14400" y="12186"/>
                </a:lnTo>
                <a:lnTo>
                  <a:pt x="13440" y="6093"/>
                </a:lnTo>
                <a:lnTo>
                  <a:pt x="17040" y="4768"/>
                </a:lnTo>
                <a:lnTo>
                  <a:pt x="17040" y="1589"/>
                </a:lnTo>
                <a:lnTo>
                  <a:pt x="12600" y="0"/>
                </a:lnTo>
                <a:lnTo>
                  <a:pt x="7200" y="0"/>
                </a:lnTo>
                <a:lnTo>
                  <a:pt x="3600" y="173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59" descr="峰"/>
          <p:cNvPicPr/>
          <p:nvPr/>
        </p:nvPicPr>
        <p:blipFill>
          <a:blip r:embed="rId7"/>
          <a:stretch/>
        </p:blipFill>
        <p:spPr>
          <a:xfrm>
            <a:off x="7500960" y="5610240"/>
            <a:ext cx="1090440" cy="116208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60" descr="山2"/>
          <p:cNvPicPr/>
          <p:nvPr/>
        </p:nvPicPr>
        <p:blipFill>
          <a:blip r:embed="rId8"/>
          <a:stretch/>
        </p:blipFill>
        <p:spPr>
          <a:xfrm>
            <a:off x="-20520" y="2297160"/>
            <a:ext cx="9128160" cy="5164200"/>
          </a:xfrm>
          <a:prstGeom prst="rect">
            <a:avLst/>
          </a:prstGeom>
          <a:ln w="0">
            <a:noFill/>
          </a:ln>
        </p:spPr>
      </p:pic>
      <p:sp>
        <p:nvSpPr>
          <p:cNvPr id="603" name="Rectangle 61"/>
          <p:cNvSpPr/>
          <p:nvPr/>
        </p:nvSpPr>
        <p:spPr>
          <a:xfrm>
            <a:off x="7767720" y="5397480"/>
            <a:ext cx="13968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62"/>
          <p:cNvSpPr/>
          <p:nvPr/>
        </p:nvSpPr>
        <p:spPr>
          <a:xfrm>
            <a:off x="8172360" y="4148280"/>
            <a:ext cx="289080" cy="13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63"/>
          <p:cNvSpPr/>
          <p:nvPr/>
        </p:nvSpPr>
        <p:spPr>
          <a:xfrm>
            <a:off x="7597800" y="4148280"/>
            <a:ext cx="287280" cy="13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64"/>
          <p:cNvSpPr/>
          <p:nvPr/>
        </p:nvSpPr>
        <p:spPr>
          <a:xfrm>
            <a:off x="7815240" y="2630520"/>
            <a:ext cx="214200" cy="13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65"/>
          <p:cNvSpPr/>
          <p:nvPr/>
        </p:nvSpPr>
        <p:spPr>
          <a:xfrm>
            <a:off x="8442360" y="3519360"/>
            <a:ext cx="125280" cy="1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66"/>
          <p:cNvSpPr/>
          <p:nvPr/>
        </p:nvSpPr>
        <p:spPr>
          <a:xfrm>
            <a:off x="5797440" y="2563560"/>
            <a:ext cx="747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777777"/>
                </a:solidFill>
                <a:latin typeface="Arial"/>
                <a:ea typeface="叶根友毛笔行书简体"/>
              </a:rPr>
              <a:t>修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777777"/>
                </a:solidFill>
                <a:latin typeface="Arial"/>
                <a:ea typeface="叶根友毛笔行书简体"/>
              </a:rPr>
              <a:t>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67"/>
          <p:cNvSpPr/>
          <p:nvPr/>
        </p:nvSpPr>
        <p:spPr>
          <a:xfrm>
            <a:off x="4067280" y="3307680"/>
            <a:ext cx="749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777777"/>
                </a:solidFill>
                <a:latin typeface="Arial"/>
                <a:ea typeface="叶根友毛笔行书简体"/>
              </a:rPr>
              <a:t>乐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68"/>
          <p:cNvSpPr/>
          <p:nvPr/>
        </p:nvSpPr>
        <p:spPr>
          <a:xfrm>
            <a:off x="2556000" y="4028400"/>
            <a:ext cx="749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777777"/>
                </a:solidFill>
                <a:latin typeface="Arial"/>
                <a:ea typeface="叶根友毛笔行书简体"/>
              </a:rPr>
              <a:t>务实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69"/>
          <p:cNvSpPr/>
          <p:nvPr/>
        </p:nvSpPr>
        <p:spPr>
          <a:xfrm>
            <a:off x="942840" y="4676040"/>
            <a:ext cx="747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777777"/>
                </a:solidFill>
                <a:latin typeface="Arial"/>
                <a:ea typeface="叶根友毛笔行书简体"/>
              </a:rPr>
              <a:t>笃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4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901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401"/>
                            </p:stCondLst>
                            <p:childTnLst>
                              <p:par>
                                <p:cTn id="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901"/>
                            </p:stCondLst>
                            <p:childTnLst>
                              <p:par>
                                <p:cTn id="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5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25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25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" dur="25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" dur="25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5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25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5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25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0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" dur="25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5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1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25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25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1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25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25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25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25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1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25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25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475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25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25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25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25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25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25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625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25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25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25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25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7250"/>
                            </p:stCondLst>
                            <p:childTnLst>
                              <p:par>
                                <p:cTn id="1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25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5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7750"/>
                            </p:stCondLst>
                            <p:childTnLst>
                              <p:par>
                                <p:cTn id="1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25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1" dur="25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825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25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25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875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25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25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925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25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25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9750"/>
                            </p:stCondLst>
                            <p:childTnLst>
                              <p:par>
                                <p:cTn id="2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25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2" descr="山2"/>
          <p:cNvPicPr/>
          <p:nvPr/>
        </p:nvPicPr>
        <p:blipFill>
          <a:blip r:embed="rId1"/>
          <a:stretch/>
        </p:blipFill>
        <p:spPr>
          <a:xfrm>
            <a:off x="-96840" y="2532240"/>
            <a:ext cx="9348840" cy="528948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3" descr="园徽（初）2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611440" y="981000"/>
            <a:ext cx="3976560" cy="3959280"/>
          </a:xfrm>
          <a:prstGeom prst="rect">
            <a:avLst/>
          </a:prstGeom>
          <a:ln w="0">
            <a:noFill/>
          </a:ln>
        </p:spPr>
      </p:pic>
      <p:sp>
        <p:nvSpPr>
          <p:cNvPr id="614" name="Text Box 4"/>
          <p:cNvSpPr/>
          <p:nvPr/>
        </p:nvSpPr>
        <p:spPr>
          <a:xfrm>
            <a:off x="826920" y="-63000"/>
            <a:ext cx="515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叶根友毛笔行书简体"/>
              </a:rPr>
              <a:t>目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叶根友毛笔行书简体"/>
              </a:rPr>
              <a:t>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5" descr="标题"/>
          <p:cNvPicPr/>
          <p:nvPr/>
        </p:nvPicPr>
        <p:blipFill>
          <a:blip r:embed="rId3"/>
          <a:stretch/>
        </p:blipFill>
        <p:spPr>
          <a:xfrm>
            <a:off x="755640" y="981000"/>
            <a:ext cx="3743280" cy="38412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6" descr="标号"/>
          <p:cNvPicPr/>
          <p:nvPr/>
        </p:nvPicPr>
        <p:blipFill>
          <a:blip r:embed="rId4"/>
          <a:stretch/>
        </p:blipFill>
        <p:spPr>
          <a:xfrm>
            <a:off x="682560" y="1628640"/>
            <a:ext cx="720720" cy="649440"/>
          </a:xfrm>
          <a:prstGeom prst="rect">
            <a:avLst/>
          </a:prstGeom>
          <a:ln w="0">
            <a:noFill/>
          </a:ln>
        </p:spPr>
      </p:pic>
      <p:sp>
        <p:nvSpPr>
          <p:cNvPr id="617" name="Text Box 7"/>
          <p:cNvSpPr/>
          <p:nvPr/>
        </p:nvSpPr>
        <p:spPr>
          <a:xfrm>
            <a:off x="826920" y="1771920"/>
            <a:ext cx="3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dobe 繁黑體 Std B"/>
                <a:ea typeface="叶根友毛笔行书简体"/>
              </a:rPr>
              <a:t>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8" descr="标号"/>
          <p:cNvPicPr/>
          <p:nvPr/>
        </p:nvPicPr>
        <p:blipFill>
          <a:blip r:embed="rId5"/>
          <a:stretch/>
        </p:blipFill>
        <p:spPr>
          <a:xfrm>
            <a:off x="682560" y="2851200"/>
            <a:ext cx="720720" cy="649080"/>
          </a:xfrm>
          <a:prstGeom prst="rect">
            <a:avLst/>
          </a:prstGeom>
          <a:ln w="0">
            <a:noFill/>
          </a:ln>
        </p:spPr>
      </p:pic>
      <p:sp>
        <p:nvSpPr>
          <p:cNvPr id="619" name="Text Box 9"/>
          <p:cNvSpPr/>
          <p:nvPr/>
        </p:nvSpPr>
        <p:spPr>
          <a:xfrm>
            <a:off x="826920" y="2992680"/>
            <a:ext cx="3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dobe 繁黑體 Std B"/>
                <a:ea typeface="叶根友毛笔行书简体"/>
              </a:rPr>
              <a:t>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Picture 10" descr="标号"/>
          <p:cNvPicPr/>
          <p:nvPr/>
        </p:nvPicPr>
        <p:blipFill>
          <a:blip r:embed="rId6"/>
          <a:stretch/>
        </p:blipFill>
        <p:spPr>
          <a:xfrm>
            <a:off x="682560" y="4219560"/>
            <a:ext cx="720720" cy="649440"/>
          </a:xfrm>
          <a:prstGeom prst="rect">
            <a:avLst/>
          </a:prstGeom>
          <a:ln w="0">
            <a:noFill/>
          </a:ln>
        </p:spPr>
      </p:pic>
      <p:sp>
        <p:nvSpPr>
          <p:cNvPr id="621" name="Text Box 11"/>
          <p:cNvSpPr/>
          <p:nvPr/>
        </p:nvSpPr>
        <p:spPr>
          <a:xfrm>
            <a:off x="826920" y="4362480"/>
            <a:ext cx="3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dobe 繁黑體 Std B"/>
                <a:ea typeface="叶根友毛笔行书简体"/>
              </a:rPr>
              <a:t>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12" descr="标号"/>
          <p:cNvPicPr/>
          <p:nvPr/>
        </p:nvPicPr>
        <p:blipFill>
          <a:blip r:embed="rId7"/>
          <a:stretch/>
        </p:blipFill>
        <p:spPr>
          <a:xfrm>
            <a:off x="682560" y="5587920"/>
            <a:ext cx="720720" cy="649440"/>
          </a:xfrm>
          <a:prstGeom prst="rect">
            <a:avLst/>
          </a:prstGeom>
          <a:ln w="0">
            <a:noFill/>
          </a:ln>
        </p:spPr>
      </p:pic>
      <p:sp>
        <p:nvSpPr>
          <p:cNvPr id="623" name="Text Box 13"/>
          <p:cNvSpPr/>
          <p:nvPr/>
        </p:nvSpPr>
        <p:spPr>
          <a:xfrm>
            <a:off x="828720" y="5731200"/>
            <a:ext cx="3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dobe 繁黑體 Std B"/>
                <a:ea typeface="叶根友毛笔行书简体"/>
              </a:rPr>
              <a:t>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4"/>
          <p:cNvSpPr/>
          <p:nvPr/>
        </p:nvSpPr>
        <p:spPr>
          <a:xfrm>
            <a:off x="1587600" y="1766880"/>
            <a:ext cx="327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15"/>
          <p:cNvSpPr/>
          <p:nvPr/>
        </p:nvSpPr>
        <p:spPr>
          <a:xfrm>
            <a:off x="1587600" y="2989440"/>
            <a:ext cx="327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6"/>
          <p:cNvSpPr/>
          <p:nvPr/>
        </p:nvSpPr>
        <p:spPr>
          <a:xfrm>
            <a:off x="1619280" y="4357800"/>
            <a:ext cx="327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17"/>
          <p:cNvSpPr/>
          <p:nvPr/>
        </p:nvSpPr>
        <p:spPr>
          <a:xfrm>
            <a:off x="1619280" y="5654880"/>
            <a:ext cx="327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72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84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96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08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Picture 2" descr="园徽（初）2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611440" y="981000"/>
            <a:ext cx="3976560" cy="3959280"/>
          </a:xfrm>
          <a:prstGeom prst="rect">
            <a:avLst/>
          </a:prstGeom>
          <a:ln w="0">
            <a:noFill/>
          </a:ln>
        </p:spPr>
      </p:pic>
      <p:sp>
        <p:nvSpPr>
          <p:cNvPr id="629" name="Text Box 3"/>
          <p:cNvSpPr/>
          <p:nvPr/>
        </p:nvSpPr>
        <p:spPr>
          <a:xfrm>
            <a:off x="682560" y="-62280"/>
            <a:ext cx="59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此处添加</a:t>
            </a: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叶根友毛笔行书简体"/>
              </a:rPr>
              <a:t>标题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4" descr="标题"/>
          <p:cNvPicPr/>
          <p:nvPr/>
        </p:nvPicPr>
        <p:blipFill>
          <a:blip r:embed="rId2"/>
          <a:stretch/>
        </p:blipFill>
        <p:spPr>
          <a:xfrm>
            <a:off x="682560" y="981000"/>
            <a:ext cx="3743280" cy="384120"/>
          </a:xfrm>
          <a:prstGeom prst="rect">
            <a:avLst/>
          </a:prstGeom>
          <a:ln w="0">
            <a:noFill/>
          </a:ln>
        </p:spPr>
      </p:pic>
      <p:grpSp>
        <p:nvGrpSpPr>
          <p:cNvPr id="631" name="Group 5"/>
          <p:cNvGrpSpPr/>
          <p:nvPr/>
        </p:nvGrpSpPr>
        <p:grpSpPr>
          <a:xfrm>
            <a:off x="682560" y="1366920"/>
            <a:ext cx="8066160" cy="4510080"/>
            <a:chOff x="682560" y="1366920"/>
            <a:chExt cx="8066160" cy="4510080"/>
          </a:xfrm>
        </p:grpSpPr>
        <p:pic>
          <p:nvPicPr>
            <p:cNvPr id="632" name="Picture 6" descr="背景"/>
            <p:cNvPicPr/>
            <p:nvPr/>
          </p:nvPicPr>
          <p:blipFill>
            <a:blip r:embed="rId3"/>
            <a:stretch/>
          </p:blipFill>
          <p:spPr>
            <a:xfrm>
              <a:off x="682560" y="1366920"/>
              <a:ext cx="8066160" cy="451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3" name="Text Box 7"/>
            <p:cNvSpPr/>
            <p:nvPr/>
          </p:nvSpPr>
          <p:spPr>
            <a:xfrm>
              <a:off x="754920" y="1555920"/>
              <a:ext cx="390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单击此处添加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4" name="Picture 8" descr="山2"/>
          <p:cNvPicPr/>
          <p:nvPr/>
        </p:nvPicPr>
        <p:blipFill>
          <a:blip r:embed="rId4"/>
          <a:stretch/>
        </p:blipFill>
        <p:spPr>
          <a:xfrm>
            <a:off x="-96840" y="2532240"/>
            <a:ext cx="9348840" cy="528948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2" descr="山2"/>
          <p:cNvPicPr/>
          <p:nvPr/>
        </p:nvPicPr>
        <p:blipFill>
          <a:blip r:embed="rId1"/>
          <a:stretch/>
        </p:blipFill>
        <p:spPr>
          <a:xfrm>
            <a:off x="-96840" y="2532240"/>
            <a:ext cx="9348840" cy="528948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3" descr="园徽（初）2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611440" y="981000"/>
            <a:ext cx="3976560" cy="395928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4" descr="背景"/>
          <p:cNvPicPr/>
          <p:nvPr/>
        </p:nvPicPr>
        <p:blipFill>
          <a:blip r:embed="rId3"/>
          <a:stretch/>
        </p:blipFill>
        <p:spPr>
          <a:xfrm>
            <a:off x="682560" y="692280"/>
            <a:ext cx="8066160" cy="5041800"/>
          </a:xfrm>
          <a:prstGeom prst="rect">
            <a:avLst/>
          </a:prstGeom>
          <a:ln w="0">
            <a:noFill/>
          </a:ln>
        </p:spPr>
      </p:pic>
      <p:sp>
        <p:nvSpPr>
          <p:cNvPr id="638" name="Text Box 5"/>
          <p:cNvSpPr/>
          <p:nvPr/>
        </p:nvSpPr>
        <p:spPr>
          <a:xfrm>
            <a:off x="2771640" y="475200"/>
            <a:ext cx="59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此处添加</a:t>
            </a: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叶根友毛笔行书简体"/>
              </a:rPr>
              <a:t>标题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Picture 6" descr="标题"/>
          <p:cNvPicPr/>
          <p:nvPr/>
        </p:nvPicPr>
        <p:blipFill>
          <a:blip r:embed="rId4"/>
          <a:stretch/>
        </p:blipFill>
        <p:spPr>
          <a:xfrm>
            <a:off x="2771640" y="1521000"/>
            <a:ext cx="3743640" cy="384120"/>
          </a:xfrm>
          <a:prstGeom prst="rect">
            <a:avLst/>
          </a:prstGeom>
          <a:ln w="0">
            <a:noFill/>
          </a:ln>
        </p:spPr>
      </p:pic>
      <p:sp>
        <p:nvSpPr>
          <p:cNvPr id="640" name="Line 7"/>
          <p:cNvSpPr/>
          <p:nvPr/>
        </p:nvSpPr>
        <p:spPr>
          <a:xfrm flipV="1">
            <a:off x="1692360" y="1904760"/>
            <a:ext cx="0" cy="274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Line 8"/>
          <p:cNvSpPr/>
          <p:nvPr/>
        </p:nvSpPr>
        <p:spPr>
          <a:xfrm>
            <a:off x="1692360" y="4653000"/>
            <a:ext cx="5759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9"/>
          <p:cNvSpPr/>
          <p:nvPr/>
        </p:nvSpPr>
        <p:spPr>
          <a:xfrm>
            <a:off x="2050920" y="3357720"/>
            <a:ext cx="720720" cy="1295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10"/>
          <p:cNvSpPr/>
          <p:nvPr/>
        </p:nvSpPr>
        <p:spPr>
          <a:xfrm>
            <a:off x="2760840" y="2990880"/>
            <a:ext cx="718920" cy="16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11"/>
          <p:cNvSpPr/>
          <p:nvPr/>
        </p:nvSpPr>
        <p:spPr>
          <a:xfrm>
            <a:off x="4006800" y="2992320"/>
            <a:ext cx="720720" cy="16621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12"/>
          <p:cNvSpPr/>
          <p:nvPr/>
        </p:nvSpPr>
        <p:spPr>
          <a:xfrm>
            <a:off x="4716360" y="3357720"/>
            <a:ext cx="719280" cy="129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13"/>
          <p:cNvSpPr/>
          <p:nvPr/>
        </p:nvSpPr>
        <p:spPr>
          <a:xfrm>
            <a:off x="5807160" y="3357720"/>
            <a:ext cx="720720" cy="1296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14"/>
          <p:cNvSpPr/>
          <p:nvPr/>
        </p:nvSpPr>
        <p:spPr>
          <a:xfrm>
            <a:off x="6516720" y="3357720"/>
            <a:ext cx="719280" cy="12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Picture 2" descr="山2"/>
          <p:cNvPicPr/>
          <p:nvPr/>
        </p:nvPicPr>
        <p:blipFill>
          <a:blip r:embed="rId1"/>
          <a:stretch/>
        </p:blipFill>
        <p:spPr>
          <a:xfrm>
            <a:off x="-96840" y="2532240"/>
            <a:ext cx="9348840" cy="528948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3" descr="园徽（初）2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611440" y="981000"/>
            <a:ext cx="3976560" cy="395928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4" descr="背景"/>
          <p:cNvPicPr/>
          <p:nvPr/>
        </p:nvPicPr>
        <p:blipFill>
          <a:blip r:embed="rId3"/>
          <a:stretch/>
        </p:blipFill>
        <p:spPr>
          <a:xfrm>
            <a:off x="682560" y="333360"/>
            <a:ext cx="8066160" cy="5400720"/>
          </a:xfrm>
          <a:prstGeom prst="rect">
            <a:avLst/>
          </a:prstGeom>
          <a:ln w="0">
            <a:noFill/>
          </a:ln>
        </p:spPr>
      </p:pic>
      <p:grpSp>
        <p:nvGrpSpPr>
          <p:cNvPr id="651" name="Group 5"/>
          <p:cNvGrpSpPr/>
          <p:nvPr/>
        </p:nvGrpSpPr>
        <p:grpSpPr>
          <a:xfrm>
            <a:off x="1189080" y="2206800"/>
            <a:ext cx="2085840" cy="2950920"/>
            <a:chOff x="1189080" y="2206800"/>
            <a:chExt cx="2085840" cy="2950920"/>
          </a:xfrm>
        </p:grpSpPr>
        <p:pic>
          <p:nvPicPr>
            <p:cNvPr id="652" name="Picture 6" descr="插图"/>
            <p:cNvPicPr/>
            <p:nvPr/>
          </p:nvPicPr>
          <p:blipFill>
            <a:blip r:embed="rId4"/>
            <a:stretch/>
          </p:blipFill>
          <p:spPr>
            <a:xfrm>
              <a:off x="1189080" y="2206800"/>
              <a:ext cx="2085840" cy="29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3" name="Text Box 7"/>
            <p:cNvSpPr/>
            <p:nvPr/>
          </p:nvSpPr>
          <p:spPr>
            <a:xfrm>
              <a:off x="1295640" y="2269800"/>
              <a:ext cx="183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此处添加图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4" name="Text Box 8"/>
          <p:cNvSpPr/>
          <p:nvPr/>
        </p:nvSpPr>
        <p:spPr>
          <a:xfrm>
            <a:off x="3635280" y="2341800"/>
            <a:ext cx="327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9"/>
          <p:cNvSpPr/>
          <p:nvPr/>
        </p:nvSpPr>
        <p:spPr>
          <a:xfrm>
            <a:off x="1187280" y="342720"/>
            <a:ext cx="59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此处添加</a:t>
            </a: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叶根友毛笔行书简体"/>
              </a:rPr>
              <a:t>标题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Picture 10" descr="标题"/>
          <p:cNvPicPr/>
          <p:nvPr/>
        </p:nvPicPr>
        <p:blipFill>
          <a:blip r:embed="rId5"/>
          <a:stretch/>
        </p:blipFill>
        <p:spPr>
          <a:xfrm>
            <a:off x="1187280" y="1387440"/>
            <a:ext cx="3743640" cy="38412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3:03:43Z</dcterms:modified>
  <cp:revision>0</cp:revision>
  <dc:subject/>
  <dc:title/>
</cp:coreProperties>
</file>