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cashreg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6.jpeg" ContentType="image/jpeg"/>
  <Override PartName="/ppt/media/image21.gif" ContentType="image/gif"/>
  <Override PartName="/ppt/media/image19.jpeg" ContentType="image/jpeg"/>
  <Override PartName="/ppt/media/image18.jpeg" ContentType="image/jpeg"/>
  <Override PartName="/ppt/media/type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  <p:custShowLst>
    <p:custShow name="自定义放映1" id="0">
      <p:sldLst>
        <p:sld r:id="rId38"/>
        <p:sld r:id="rId40"/>
        <p:sld r:id="rId37"/>
        <p:sld r:id="rId3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431-66EF-4EDB-8B91-33A4CD29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233-E866-4416-BC37-939E537B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1D2C0-9BBE-4D7C-9E1F-4058CA7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697C7-C577-4BCB-BC53-6C91DC60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40565-CE61-42D8-AB7E-CB6654E5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3D5F8-0382-4CD1-B154-82275664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CF575-C844-4CB8-BA70-7CD4CEA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2B27E-0B5A-4F1A-ACD0-00C39988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9D07F-F00E-4366-8765-1C3CEC93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98A2-4243-4BC0-8C15-64A4868F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5CDD8-41A8-47F0-B6DD-FADCD71C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0ADA9-1B0A-46DC-88E8-E793215E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166-01BC-4A6A-9BDD-95757BC5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E7155-09A5-4E4A-8EBE-27A16836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F407E-C4BD-4BB4-9EEF-706D464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188E4-C661-4256-A0DF-12EFFF6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B6648-AEBF-411F-87B2-27C585B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55067-657B-49EE-AAAD-37F98105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0A6C5-1B0B-4D8B-97FB-5200005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76E99-3966-49D4-90E5-0B52BCBF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31DD1-37C0-46D5-B188-3A1B3A27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3C0C-FEA8-40D1-9261-5BF1D95B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13EAA-CF09-44C7-88CC-0ACF2B0D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B62-B4E0-4ED2-993B-C7B9E51E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ABD75-5B01-4E7C-9F70-84BEEB66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1CEE9-21D5-496F-B5ED-2C927D0D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2FD94-DE07-4533-8FAD-046007E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DC187-10A1-4D26-9AAC-6827D88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4DF40-92F2-464B-B0A3-851273E4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493C2-3E77-452C-BFB0-07CC0202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2A794-306F-4AD0-B10D-5F32E92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389F7-8D58-44D4-B435-33AFA9A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35525-6815-48EB-9C0D-59A30C6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EFE08-9EB9-45C9-8663-1354D952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54A-E899-41DF-8790-199EF07D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780B5-25EA-4B98-917E-11FB46B9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4FCE2-7C8A-492B-907C-C3501BF4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0A2A5-A6F7-4BFE-BD67-12ED7FC0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1ACD4-3BC3-4636-A4EF-38A90190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7E2B3-CF13-467E-9443-38789205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659E8-B01D-479D-ACDC-9A4FEE0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642E7-8C14-4D92-BF73-C0B74E6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02D6B-E0D7-44B3-B52C-3216D953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3629D-9A12-4EDC-B9E3-83CD0AD7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4FB52-161E-4F63-93FE-46C24AB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B094-7836-480F-9CCA-830CAB4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1AB28-956E-4EAC-B254-702AE02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82753-349C-41D7-B4E5-53C46AD1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0C333-0960-408E-A3EF-BA6CB45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1CF08-14A0-4B82-8378-1716FCE5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BF141-5076-4860-8230-A3BF2E9C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9E0D5-1E53-40EC-BDF5-C471DD38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28361-B6F5-4805-A8AA-1D66476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9BA3A-B5B1-4D41-8878-E5D73577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5F6B2-03D8-45BF-A5FF-CD318730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5017E-4CD9-4CB0-8B0C-1BA4FA7F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543-5ADC-4671-B06F-3A4C85AA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B99E0-FA6E-4C80-AEDE-01AA8EB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F4BE5-5E93-4574-91AC-2EC9E62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9E23F-0EBA-4D58-B631-C25B0F6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C7AF8-013F-47E7-A3C1-5816622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A89EF-4A86-4A05-A35A-8E559A4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26EE5-4F70-480B-B0A5-D0D5F6D4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297E5-0026-4072-A1B2-86757673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C894-4E46-47D1-BD3E-C5D2F54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2039-C265-43B5-ADD1-81148ED2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A0A0-57FC-4E7E-A3E9-BE11B67F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813C-08E1-4329-BCAD-CD6F7BC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86A-B71E-4452-93B4-E9566B52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D9B3-E2E3-40DC-8D8B-BCC7AA3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1308-596E-4EFD-813A-73A75A76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2622-5341-4D9A-BFDB-FE59458F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6E58-9D45-42F5-8A12-A5E12E61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283E-47F9-48A6-B633-5A3E5081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278E-C97B-4F2F-BEF7-A61EB247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A093D-2AF6-4742-9160-AC39099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C2F4-CC28-4F66-9DA9-FF849EEC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7C1C-E722-4313-B4F5-457A2E0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1CE2-3456-4F27-BD05-D4A6D8C3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D13-2DEE-439D-A4E1-57641A3C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71F7-41A9-4EE8-9C62-BF44F778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4A4D-6301-4F62-929C-6FAD99B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6CE0-F350-4DC9-9D0E-BB05C261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E786-5581-43DB-9057-4E65033A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B603-C6D2-4B30-B1C4-B9629B5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009E-F26C-4489-B020-50C964F9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6D31-9A29-4F5E-8EF4-7EE1C0E6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D9177-EA85-4284-9495-2B948F98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C6E8-4164-41C4-B749-DEE6CAFF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8E55-9F95-47DC-85C9-9070CC2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01A-2AE9-4542-9DD3-DC477599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C771-3DC5-4ED0-AFE1-C92478A4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C75D-867B-4365-8A67-9C9382C4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8AFB-D1EA-404B-85E3-F5F08D80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8DBF-93E2-4EB9-892C-717AACA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0787-0EB4-47F6-9800-3DF1A93E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83B66-6870-44A9-A962-36651770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9434F-2B0B-4827-9CCB-73184BC0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D0E3-E6D0-42CC-8ED6-1D92A0A9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2CD5-A039-4042-A745-DA3DFCA7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A9F7-3F57-4E16-8412-5AA81800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C7E-29BE-48AE-8BF6-212E5DFE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049C-A7F0-427D-A5CE-A3146D0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875D-C7DE-4687-B5B7-8B659BFB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0506-2A86-4EA9-98ED-73F7454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3696-A831-46DA-96AA-D159235A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8BDDB-1954-4BCE-94A1-E63CB32F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AA35-7EC9-45DD-8EB4-B5341A33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11FBE-D2B9-4DC2-914D-AE54A34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A8107-8E0F-40C9-8F7C-D7BEF19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A485-6233-44EE-AE4F-F2B45D67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6D6BA-AD2F-4BC8-8F26-3DCC0297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F09-EC1E-4FA0-91D8-97F46197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247AE-A74E-4087-A5A9-D397EED5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41AE2-B9DE-4FD3-822B-341848A7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3169-4A1E-40D9-9336-B541C26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DD0B5-743F-465F-BF0D-BE181398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C1B1A-9512-45AB-87C4-A2021788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4B56-E4AC-466F-AC98-AD40EBCF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47612-D736-4332-906A-C9E398D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A2DC9-81B6-49C4-8C4B-969BF99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133C-B3DC-4372-A51E-BFE6DDF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369DD-A8BD-4576-A3C3-21E8CA93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F43-F44D-4CA0-B986-5B47BAD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4179A-6921-4E4C-AE44-194C199E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A8751-F0BA-4E85-89D2-92C27E30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CD6B-F0C4-4859-991B-6FBD0896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9A78-E600-4843-9484-4888B57B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490C-3B30-483A-A5F9-70E5605C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ACB8A-06FA-4DB4-AACE-C8EB424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7D443-839A-4814-9410-BE553328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49C9-A619-41F8-8E90-2487B1E4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6C1E7-A77E-4DD8-9AA9-315181AA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0CF8C-419E-4844-9C52-2C20276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BCA-1D06-47B8-8E52-41C12DFB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F107-9C4F-4384-90DC-54AB1F7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43A9A-8487-49E4-AB7C-3ECA9977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8DB1-369C-4A19-A0EA-980D4D60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D9881-CB3E-4A52-AB99-FA549CA6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FEB3-17D8-4FAE-9C45-95F892C0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B7A9A-93F8-4DE1-94C0-22CA583E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1DC9D-A36D-427E-8E43-76EDB74C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0710B-8838-41EE-ACAD-570E9215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30899-5810-458D-8384-E38BBCC3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2A3D5-63FD-407E-8969-C6B7C724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9BB-E402-4BB8-8982-1843A969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EBF2-E9C2-4935-A4EF-91740975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6B44-04AB-4678-AFB5-06112D7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E6426-18C6-4651-98EA-0340A123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3136A-53FF-41C8-8D52-FB101077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A7B3C-D0F7-48FE-8C4D-062C3EC7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0D5C1-BB96-4DE3-9F97-C6311F57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09053-0599-41F9-B0DB-98CEA944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89494-A3BC-4CFD-BF2A-FC131417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85A71-F22A-4152-896F-6D683884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93BB3-5FC1-4FBB-ADB7-2FBB163B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3AE8-A8B7-4A65-B2F2-5521801AD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43B7-2CAA-4260-BCEF-FBDC2F299B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8264-1177-4E11-A100-4E3B181773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2C1-FB5B-487E-8EEA-3A9C0BFD74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49A0-0F35-4CD2-8EA9-DACE9E43E1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4731-4634-4FFF-960F-10046068DA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804F-57AF-480E-BA62-D7D655CDF4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A8F2-9800-4BF6-A8D6-8D21073624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E25C-45EC-495C-826C-A251D3F7D8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055E-567B-4BCA-BC38-2A80445A4D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847E-7E57-40D1-A2B4-F463A7C918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30A7-1FF0-4871-ADB7-7BD23FD5B1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F603-7FF2-4B05-A4B1-2D175784CB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" Target="slide4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.xml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bianhao05"/>
          <p:cNvPicPr/>
          <p:nvPr/>
        </p:nvPicPr>
        <p:blipFill>
          <a:blip r:embed="rId2"/>
          <a:stretch/>
        </p:blipFill>
        <p:spPr>
          <a:xfrm>
            <a:off x="6094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bianhao05"/>
          <p:cNvPicPr/>
          <p:nvPr/>
        </p:nvPicPr>
        <p:blipFill>
          <a:blip r:embed="rId3"/>
          <a:stretch/>
        </p:blipFill>
        <p:spPr>
          <a:xfrm>
            <a:off x="4495680" y="5638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3" descr="bianhao05"/>
          <p:cNvPicPr/>
          <p:nvPr/>
        </p:nvPicPr>
        <p:blipFill>
          <a:blip r:embed="rId4"/>
          <a:stretch/>
        </p:blipFill>
        <p:spPr>
          <a:xfrm>
            <a:off x="266688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4" descr="bianhao05"/>
          <p:cNvPicPr/>
          <p:nvPr/>
        </p:nvPicPr>
        <p:blipFill>
          <a:blip r:embed="rId5"/>
          <a:stretch/>
        </p:blipFill>
        <p:spPr>
          <a:xfrm>
            <a:off x="693432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8" descr="bianhao05"/>
          <p:cNvPicPr/>
          <p:nvPr/>
        </p:nvPicPr>
        <p:blipFill>
          <a:blip r:embed="rId6"/>
          <a:stretch/>
        </p:blipFill>
        <p:spPr>
          <a:xfrm>
            <a:off x="7467480" y="1066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8" name="WordArt 20"/>
          <p:cNvSpPr txBox="1"/>
          <p:nvPr/>
        </p:nvSpPr>
        <p:spPr>
          <a:xfrm>
            <a:off x="635040" y="1066680"/>
            <a:ext cx="24890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07932" dir="2700000" blurRad="0" rotWithShape="0">
                    <a:srgbClr val="ffccff"/>
                  </a:outerShdw>
                </a:effectLst>
                <a:latin typeface="华文行楷"/>
              </a:rPr>
              <a:t>猫</a:t>
            </a:r>
            <a:endParaRPr b="0" lang="en-US" sz="4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07932" dir="2700000" blurRad="0" rotWithShape="0">
                  <a:srgbClr val="ffccff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539" name="Group 23"/>
          <p:cNvGrpSpPr/>
          <p:nvPr/>
        </p:nvGrpSpPr>
        <p:grpSpPr>
          <a:xfrm>
            <a:off x="304920" y="0"/>
            <a:ext cx="4190760" cy="1371600"/>
            <a:chOff x="304920" y="0"/>
            <a:chExt cx="4190760" cy="1371600"/>
          </a:xfrm>
        </p:grpSpPr>
        <p:sp>
          <p:nvSpPr>
            <p:cNvPr id="540" name="Text Box 21"/>
            <p:cNvSpPr/>
            <p:nvPr/>
          </p:nvSpPr>
          <p:spPr>
            <a:xfrm>
              <a:off x="380880" y="0"/>
              <a:ext cx="380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22"/>
            <p:cNvSpPr/>
            <p:nvPr/>
          </p:nvSpPr>
          <p:spPr>
            <a:xfrm>
              <a:off x="304920" y="609480"/>
              <a:ext cx="4190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矩形 1"/>
          <p:cNvSpPr/>
          <p:nvPr/>
        </p:nvSpPr>
        <p:spPr>
          <a:xfrm>
            <a:off x="2523960" y="652320"/>
            <a:ext cx="53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四年级之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矩形 12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dalianmao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380880" y="4479840"/>
            <a:ext cx="8458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它听到老鼠的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点响动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，又是多么</a:t>
            </a:r>
            <a:r>
              <a:rPr b="1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尽职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。它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屏息凝视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，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连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就是几个钟头，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非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把老鼠等出来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不可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7620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200807212025435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3413880" y="3733920"/>
            <a:ext cx="3664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由朗读第二自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画出表现猫古怪性格的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讨论课文是怎样表现猫的性格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对猫是一种什么样的感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哪里看出来的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1523880" y="2286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句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590920" y="990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句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228600" y="1066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行楷"/>
              </a:rPr>
              <a:t>句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594360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行楷"/>
              </a:rPr>
              <a:t>句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7924680" y="22860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762120" y="190512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      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用身子蹭你的腿</a:t>
            </a: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把脖子伸出来要求抓痒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762120" y="190512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      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用身子</a:t>
            </a:r>
            <a:r>
              <a:rPr b="0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蹭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你的腿</a:t>
            </a: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把脖子</a:t>
            </a:r>
            <a:r>
              <a:rPr b="0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伸出来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要求抓痒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152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0" y="0"/>
            <a:ext cx="94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1daf"/>
                </a:solidFill>
                <a:latin typeface="华文新魏"/>
                <a:ea typeface="华文新魏"/>
              </a:rPr>
              <a:t>      </a:t>
            </a:r>
            <a:r>
              <a:rPr b="0" lang="zh-CN" sz="5400" spc="-1" strike="noStrike">
                <a:solidFill>
                  <a:srgbClr val="091daf"/>
                </a:solidFill>
                <a:latin typeface="华文新魏"/>
                <a:ea typeface="华文新魏"/>
              </a:rPr>
              <a:t>在你写作的时候，跳上桌来，在稿纸上踩印几朵小梅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457200" y="12193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你写作的时候，跳上桌来，在稿纸上踩印几朵小梅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57200" y="3200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在你写作的时候，跳上桌来，在稿纸上踩印几个脏脚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457200" y="1219320"/>
            <a:ext cx="8458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你写作的时候，跳上桌来，在稿纸上踩印几朵</a:t>
            </a:r>
            <a:r>
              <a:rPr b="0" lang="zh-CN" sz="4800" spc="-1" strike="noStrike">
                <a:solidFill>
                  <a:srgbClr val="f94919"/>
                </a:solidFill>
                <a:latin typeface="华文新魏"/>
                <a:ea typeface="华文新魏"/>
              </a:rPr>
              <a:t>小梅花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457200" y="3200400"/>
            <a:ext cx="8458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在你写作的时候，跳上桌来，在稿纸上踩印几个</a:t>
            </a:r>
            <a:r>
              <a:rPr b="0" lang="zh-CN" sz="4800" spc="-1" strike="noStrike">
                <a:solidFill>
                  <a:srgbClr val="f94919"/>
                </a:solidFill>
                <a:latin typeface="华文新魏"/>
                <a:ea typeface="华文新魏"/>
              </a:rPr>
              <a:t>脏脚印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184"/>
          <p:cNvPicPr/>
          <p:nvPr/>
        </p:nvPicPr>
        <p:blipFill>
          <a:blip r:embed="rId1"/>
          <a:stretch/>
        </p:blipFill>
        <p:spPr>
          <a:xfrm>
            <a:off x="-304920" y="-76320"/>
            <a:ext cx="9677520" cy="710244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5"/>
          <p:cNvSpPr/>
          <p:nvPr/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丰富多腔地叫唤，长短不同，粗细各异，变化多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3"/>
          <p:cNvSpPr/>
          <p:nvPr/>
        </p:nvSpPr>
        <p:spPr>
          <a:xfrm>
            <a:off x="685800" y="3505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怪声怪气地号叫，让人听了心烦。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丰富多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叫唤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长短不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粗细各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变化多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68389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读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画出表现猫性格古怪的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619280" y="2133720"/>
            <a:ext cx="4205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老实、贪玩、尽职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971640" y="3357720"/>
            <a:ext cx="54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画出相关的句子，读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76212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不叫的时候，它还会咕噜咕噜地给自己解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76212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不叫的时候，它还会</a:t>
            </a:r>
            <a:r>
              <a:rPr b="1" lang="zh-CN" sz="4000" spc="-1" strike="noStrike">
                <a:solidFill>
                  <a:srgbClr val="f94919"/>
                </a:solidFill>
                <a:latin typeface="Times New Roman"/>
                <a:ea typeface="楷体_GB2312"/>
              </a:rPr>
              <a:t>咕噜咕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给自己解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685800" y="1905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505320" y="19051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3203640" y="40766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dx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dx1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dx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dx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685800" y="19051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3505320" y="19051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132000" y="414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685800" y="1905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3492360" y="1916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3132000" y="414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PM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RT_002"/>
          <p:cNvPicPr/>
          <p:nvPr/>
        </p:nvPicPr>
        <p:blipFill>
          <a:blip r:embed="rId2"/>
          <a:stretch/>
        </p:blipFill>
        <p:spPr>
          <a:xfrm>
            <a:off x="7696080" y="30492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6"/>
          <p:cNvSpPr/>
          <p:nvPr/>
        </p:nvSpPr>
        <p:spPr>
          <a:xfrm>
            <a:off x="4191120" y="5867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1332000" y="134136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猫的性格古怪，主要表现在：它既（              ）又（              ），既贪玩又 （          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既胆小又（                    ）；高兴时，（                                  ），不高兴时，（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19920" y="525780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027"/>
          <p:cNvSpPr/>
          <p:nvPr/>
        </p:nvSpPr>
        <p:spPr>
          <a:xfrm>
            <a:off x="4378680" y="250992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028"/>
          <p:cNvSpPr/>
          <p:nvPr/>
        </p:nvSpPr>
        <p:spPr>
          <a:xfrm>
            <a:off x="2549880" y="518148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029" descr="SLEEP-2"/>
          <p:cNvPicPr/>
          <p:nvPr/>
        </p:nvPicPr>
        <p:blipFill>
          <a:blip r:embed="rId4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030" descr="Cat on the tree"/>
          <p:cNvPicPr/>
          <p:nvPr/>
        </p:nvPicPr>
        <p:blipFill>
          <a:blip r:embed="rId5"/>
          <a:stretch/>
        </p:blipFill>
        <p:spPr>
          <a:xfrm>
            <a:off x="0" y="0"/>
            <a:ext cx="4800600" cy="3233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031" descr="paode Cat"/>
          <p:cNvPicPr/>
          <p:nvPr/>
        </p:nvPicPr>
        <p:blipFill>
          <a:blip r:embed="rId6"/>
          <a:stretch/>
        </p:blipFill>
        <p:spPr>
          <a:xfrm>
            <a:off x="4724280" y="0"/>
            <a:ext cx="4419720" cy="32544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032">
            <a:hlinkClick r:id="rId7" action="ppaction://hlinksldjump"/>
          </p:cNvPr>
          <p:cNvSpPr/>
          <p:nvPr/>
        </p:nvSpPr>
        <p:spPr>
          <a:xfrm>
            <a:off x="4604040" y="5562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76f040"/>
                </a:solidFill>
                <a:latin typeface="Times New Roman"/>
                <a:ea typeface="隶书"/>
              </a:rPr>
              <a:t>老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33">
            <a:hlinkClick r:id="rId8" action="ppaction://hlinksldjump"/>
          </p:cNvPr>
          <p:cNvSpPr/>
          <p:nvPr/>
        </p:nvSpPr>
        <p:spPr>
          <a:xfrm>
            <a:off x="2895480" y="22543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0f44e"/>
                </a:solidFill>
                <a:latin typeface="Times New Roman"/>
                <a:ea typeface="华文新魏"/>
              </a:rPr>
              <a:t>贪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35">
            <a:hlinkClick r:id="rId9" action="ppaction://hlinksldjump"/>
          </p:cNvPr>
          <p:cNvSpPr/>
          <p:nvPr/>
        </p:nvSpPr>
        <p:spPr>
          <a:xfrm>
            <a:off x="6172200" y="220968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尽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037">
            <a:hlinkClick r:id="rId10" action="ppaction://hlinksldjump"/>
          </p:cNvPr>
          <p:cNvSpPr/>
          <p:nvPr/>
        </p:nvSpPr>
        <p:spPr>
          <a:xfrm>
            <a:off x="7620120" y="6216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dissolve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5067360"/>
            <a:ext cx="874872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说它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老实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吧，它的确有时候很乖。它会找个暖和的地方，成天睡大觉，无忧无虑，什么事也不过问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5143680"/>
            <a:ext cx="874872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说它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老实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吧，它的确有时候很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乖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。它会找个暖和的地方，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成天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睡大觉，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无忧无虑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，什么事也不过问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620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026" descr="cat23"/>
          <p:cNvPicPr/>
          <p:nvPr/>
        </p:nvPicPr>
        <p:blipFill>
          <a:blip r:embed="rId2"/>
          <a:stretch/>
        </p:blipFill>
        <p:spPr>
          <a:xfrm>
            <a:off x="3708360" y="3789360"/>
            <a:ext cx="914400" cy="1467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27"/>
          <p:cNvSpPr/>
          <p:nvPr/>
        </p:nvSpPr>
        <p:spPr>
          <a:xfrm>
            <a:off x="1187280" y="5300640"/>
            <a:ext cx="541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028"/>
          <p:cNvSpPr/>
          <p:nvPr/>
        </p:nvSpPr>
        <p:spPr>
          <a:xfrm>
            <a:off x="0" y="52578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它决定要出去玩玩，就会出走一天一夜，任凭谁怎么呼唤，它也不肯回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cat23"/>
          <p:cNvPicPr/>
          <p:nvPr/>
        </p:nvPicPr>
        <p:blipFill>
          <a:blip r:embed="rId2"/>
          <a:stretch/>
        </p:blipFill>
        <p:spPr>
          <a:xfrm>
            <a:off x="3708360" y="3789360"/>
            <a:ext cx="914400" cy="1467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"/>
          <p:cNvSpPr/>
          <p:nvPr/>
        </p:nvSpPr>
        <p:spPr>
          <a:xfrm>
            <a:off x="1187280" y="5300640"/>
            <a:ext cx="541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0" y="52578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它决定要出去玩玩，就会出走</a:t>
            </a: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天一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，任凭谁</a:t>
            </a: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怎么呼唤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，它也不肯回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7924680" y="6216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026" descr="dalianmao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1027"/>
          <p:cNvSpPr/>
          <p:nvPr/>
        </p:nvSpPr>
        <p:spPr>
          <a:xfrm>
            <a:off x="380880" y="447984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它听到老鼠的一点响动，又是多么</a:t>
            </a:r>
            <a:r>
              <a:rPr b="1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尽职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。它屏息凝视，一连就是几个钟头，非把老鼠等出来不可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23:36:18Z</dcterms:created>
  <dc:creator/>
  <dc:description/>
  <cp:keywords>幻灯片之家 http:/www.eeppt.com</cp:keywords>
  <dc:language>en-US</dc:language>
  <cp:lastModifiedBy/>
  <dcterms:modified xsi:type="dcterms:W3CDTF">2015-07-20T03:07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