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8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5.png" ContentType="image/png"/>
  <Override PartName="/ppt/media/image35.png" ContentType="image/png"/>
  <Override PartName="/ppt/media/image7.png" ContentType="image/png"/>
  <Override PartName="/ppt/media/image37.png" ContentType="image/png"/>
  <Override PartName="/ppt/media/image30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132-5E41-4361-AF02-A3B886C8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9E0-1A0E-41A5-86F5-6BADAAC6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A6F-5D34-41E7-B525-24F157C5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60E-FDDD-41D7-989F-F1DDE354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725-0728-4B36-AA60-2E0D5916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3F8-4697-48E7-BE84-7AA83634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033-7C94-4BEB-926F-538B0126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CD6-280F-4D71-B520-8571A775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97E-6D73-44ED-8A7F-B38CEF3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548-89F6-4F09-A2F1-2501A9A3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7EE-9828-4B7B-A895-D3B33396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701-95C0-434C-88B3-2B54D558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나눔고딕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나눔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나눔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나눔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나눔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2528-44AC-46A5-AC75-E1D391BAD5E2}" type="datetime">
              <a:rPr b="0" lang="zh-CN" sz="1200" spc="-1" strike="noStrike">
                <a:solidFill>
                  <a:srgbClr val="898989"/>
                </a:solidFill>
                <a:latin typeface="나눔고딕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BEA1-51B7-4A63-A277-C06612F292E1}" type="slidenum">
              <a:rPr b="0" lang="zh-CN" sz="1200" spc="-1" strike="noStrike">
                <a:solidFill>
                  <a:srgbClr val="898989"/>
                </a:solidFill>
                <a:latin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hangeul.naver.com/font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hangeul.naver.com/font" TargetMode="External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jpe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8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6443640" y="1665360"/>
            <a:ext cx="2700360" cy="1781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2987640" y="0"/>
            <a:ext cx="469116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직사각형 14"/>
          <p:cNvSpPr/>
          <p:nvPr/>
        </p:nvSpPr>
        <p:spPr>
          <a:xfrm>
            <a:off x="-34920" y="3429000"/>
            <a:ext cx="9144000" cy="3429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77668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9"/>
          <p:cNvSpPr/>
          <p:nvPr/>
        </p:nvSpPr>
        <p:spPr>
          <a:xfrm>
            <a:off x="179280" y="357336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나눔고딕"/>
              </a:rPr>
              <a:t>室内装修</a:t>
            </a:r>
            <a:r>
              <a:rPr b="0" lang="en-US" sz="4000" spc="-1" strike="noStrike">
                <a:solidFill>
                  <a:srgbClr val="ffffff"/>
                </a:solidFill>
                <a:latin typeface="나눔고딕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나눔고딕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223920" y="6488280"/>
            <a:ext cx="4040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나눔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ffffff"/>
                </a:solidFill>
                <a:latin typeface="나눔고딕"/>
              </a:rPr>
              <a:t>. </a:t>
            </a:r>
            <a:r>
              <a:rPr b="0" lang="zh-CN" sz="700" spc="-1" strike="noStrike" u="sng">
                <a:solidFill>
                  <a:srgbClr val="ff8119"/>
                </a:solidFill>
                <a:uFillTx/>
                <a:latin typeface="나눔고딕"/>
                <a:hlinkClick r:id="rId5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0"/>
          <p:cNvSpPr/>
          <p:nvPr/>
        </p:nvSpPr>
        <p:spPr>
          <a:xfrm>
            <a:off x="7236000" y="3573360"/>
            <a:ext cx="18730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나눔고딕"/>
              </a:rPr>
              <a:t>May,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6"/>
          <a:stretch/>
        </p:blipFill>
        <p:spPr>
          <a:xfrm>
            <a:off x="2771640" y="0"/>
            <a:ext cx="2305080" cy="173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7"/>
          <a:stretch/>
        </p:blipFill>
        <p:spPr>
          <a:xfrm>
            <a:off x="2771640" y="170028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51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179280" y="461880"/>
            <a:ext cx="6697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구역 </a:t>
            </a: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용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Design Plan   |   </a:t>
            </a:r>
            <a:r>
              <a:rPr b="1" lang="zh-CN" sz="700" spc="-1" strike="noStrike">
                <a:solidFill>
                  <a:srgbClr val="3f3f3f"/>
                </a:solidFill>
                <a:latin typeface="나눔고딕"/>
              </a:rPr>
              <a:t>구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24000" y="1387440"/>
            <a:ext cx="8280360" cy="4498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5"/>
          <p:cNvSpPr/>
          <p:nvPr/>
        </p:nvSpPr>
        <p:spPr>
          <a:xfrm>
            <a:off x="971640" y="6021360"/>
            <a:ext cx="15112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2 Seminar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60</a:t>
            </a:r>
            <a:r>
              <a:rPr b="1" lang="zh-CN" sz="800" spc="-1" strike="noStrike">
                <a:solidFill>
                  <a:srgbClr val="000000"/>
                </a:solidFill>
                <a:latin typeface="나눔고딕"/>
              </a:rPr>
              <a:t>인 입실 </a:t>
            </a: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x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6"/>
          <p:cNvSpPr/>
          <p:nvPr/>
        </p:nvSpPr>
        <p:spPr>
          <a:xfrm>
            <a:off x="3787920" y="6021360"/>
            <a:ext cx="15112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1 Seminar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120</a:t>
            </a:r>
            <a:r>
              <a:rPr b="1" lang="zh-CN" sz="800" spc="-1" strike="noStrike">
                <a:solidFill>
                  <a:srgbClr val="000000"/>
                </a:solidFill>
                <a:latin typeface="나눔고딕"/>
              </a:rPr>
              <a:t>인 입실 </a:t>
            </a: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x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7"/>
          <p:cNvSpPr/>
          <p:nvPr/>
        </p:nvSpPr>
        <p:spPr>
          <a:xfrm>
            <a:off x="6759720" y="6021360"/>
            <a:ext cx="15112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고딕"/>
              </a:rPr>
              <a:t>Open D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나눔고딕"/>
              </a:rPr>
              <a:t>마주보고 앉는 형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5C58-4657-4DC9-8D85-DCE6B68982C9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页脚占位符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"/>
          <p:cNvPicPr/>
          <p:nvPr/>
        </p:nvPicPr>
        <p:blipFill>
          <a:blip r:embed="rId1"/>
          <a:srcRect l="0" t="0" r="0" b="3525"/>
          <a:stretch/>
        </p:blipFill>
        <p:spPr>
          <a:xfrm>
            <a:off x="971640" y="539640"/>
            <a:ext cx="8137440" cy="5913720"/>
          </a:xfrm>
          <a:prstGeom prst="rect">
            <a:avLst/>
          </a:prstGeom>
          <a:ln w="0">
            <a:noFill/>
          </a:ln>
        </p:spPr>
      </p:pic>
      <p:sp>
        <p:nvSpPr>
          <p:cNvPr id="184" name="직사각형 8"/>
          <p:cNvSpPr/>
          <p:nvPr/>
        </p:nvSpPr>
        <p:spPr>
          <a:xfrm>
            <a:off x="324000" y="4238640"/>
            <a:ext cx="27972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179280" y="461880"/>
            <a:ext cx="367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구역 </a:t>
            </a: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용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Design Plan   |   </a:t>
            </a:r>
            <a:r>
              <a:rPr b="1" lang="zh-CN" sz="700" spc="-1" strike="noStrike">
                <a:solidFill>
                  <a:srgbClr val="3f3f3f"/>
                </a:solidFill>
                <a:latin typeface="나눔고딕"/>
              </a:rPr>
              <a:t>구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395280" y="4616280"/>
            <a:ext cx="2665440" cy="1787760"/>
          </a:xfrm>
          <a:prstGeom prst="rect">
            <a:avLst/>
          </a:prstGeom>
          <a:ln w="0">
            <a:noFill/>
          </a:ln>
        </p:spPr>
      </p:pic>
      <p:sp>
        <p:nvSpPr>
          <p:cNvPr id="189" name="직사각형 7"/>
          <p:cNvSpPr/>
          <p:nvPr/>
        </p:nvSpPr>
        <p:spPr>
          <a:xfrm>
            <a:off x="1403280" y="5751360"/>
            <a:ext cx="1594080" cy="59868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4427640" y="476280"/>
            <a:ext cx="432108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내용을 작성하세요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세부 설명 내용은 나눔고딕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R, 9pt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를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글자 간격은 좁게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0.3pt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를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줄 간격은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1.5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배를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상황에 따라 조정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1281240" y="6357960"/>
            <a:ext cx="1368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c00000"/>
                </a:solidFill>
                <a:latin typeface="나눔고딕"/>
                <a:ea typeface="宋体"/>
              </a:rPr>
              <a:t>구역 표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2A01-4F18-4EC6-A39E-EF7C79AB0DB6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2131920" y="3246480"/>
            <a:ext cx="38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사각형 16"/>
          <p:cNvSpPr/>
          <p:nvPr/>
        </p:nvSpPr>
        <p:spPr>
          <a:xfrm>
            <a:off x="263520" y="1917720"/>
            <a:ext cx="27972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95280" y="2273400"/>
            <a:ext cx="2665440" cy="1787400"/>
          </a:xfrm>
          <a:prstGeom prst="rect">
            <a:avLst/>
          </a:prstGeom>
          <a:ln w="0">
            <a:noFill/>
          </a:ln>
        </p:spPr>
      </p:pic>
      <p:sp>
        <p:nvSpPr>
          <p:cNvPr id="197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179280" y="461880"/>
            <a:ext cx="446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나눔고딕"/>
              </a:rPr>
              <a:t>회의공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Floor Design Plan   |   18</a:t>
            </a:r>
            <a:r>
              <a:rPr b="1" lang="zh-CN" sz="700" spc="-1" strike="noStrike">
                <a:solidFill>
                  <a:srgbClr val="3f3f3f"/>
                </a:solidFill>
                <a:latin typeface="나눔고딕"/>
              </a:rPr>
              <a:t>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15"/>
          <p:cNvSpPr/>
          <p:nvPr/>
        </p:nvSpPr>
        <p:spPr>
          <a:xfrm>
            <a:off x="2411280" y="3068640"/>
            <a:ext cx="513000" cy="9367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rcRect l="18157" t="3704" r="3114" b="767"/>
          <a:stretch/>
        </p:blipFill>
        <p:spPr>
          <a:xfrm>
            <a:off x="250920" y="4327560"/>
            <a:ext cx="2806560" cy="228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3170160" y="1916280"/>
            <a:ext cx="281628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4"/>
          <a:srcRect l="568" t="10714" r="0" b="2683"/>
          <a:stretch/>
        </p:blipFill>
        <p:spPr>
          <a:xfrm>
            <a:off x="6100920" y="1916280"/>
            <a:ext cx="279540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3170160" y="4307040"/>
            <a:ext cx="2816280" cy="23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6100920" y="4307040"/>
            <a:ext cx="2792160" cy="23065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8"/>
          <p:cNvSpPr/>
          <p:nvPr/>
        </p:nvSpPr>
        <p:spPr>
          <a:xfrm>
            <a:off x="4427640" y="476280"/>
            <a:ext cx="4321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구성원의 크리에이티브를 자극하고 활력이 넘치는 공간구성을 위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원색의 산뜻한 컬러포인트를 각 회의공간마다 부여하되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감각적이면서도 젊은 느낌을 유지하기 위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테이블이나 의자 등의 소품 디자인 및 소재를 디테일하게 신경쓴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2266920" y="4017960"/>
            <a:ext cx="1368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c00000"/>
                </a:solidFill>
                <a:latin typeface="나눔고딕"/>
              </a:rPr>
              <a:t>회의공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910B-B5C7-4D1C-B9D7-D04942205853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页脚占位符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나눔고딕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9"/>
          <p:cNvSpPr/>
          <p:nvPr/>
        </p:nvSpPr>
        <p:spPr>
          <a:xfrm>
            <a:off x="179280" y="3173400"/>
            <a:ext cx="6553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나눔고딕"/>
              </a:rPr>
              <a:t>감사합니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선 연결선 10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179280" y="6415200"/>
            <a:ext cx="4040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68727e"/>
                </a:solidFill>
                <a:latin typeface="나눔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</a:rPr>
              <a:t>. </a:t>
            </a:r>
            <a:r>
              <a:rPr b="0" lang="zh-CN" sz="700" spc="-1" strike="noStrike" u="sng">
                <a:solidFill>
                  <a:srgbClr val="68727e"/>
                </a:solidFill>
                <a:uFillTx/>
                <a:latin typeface="나눔고딕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664000" y="6273720"/>
            <a:ext cx="40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9"/>
          <p:cNvSpPr/>
          <p:nvPr/>
        </p:nvSpPr>
        <p:spPr>
          <a:xfrm>
            <a:off x="179280" y="3573360"/>
            <a:ext cx="530388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나눔고딕"/>
              </a:rPr>
              <a:t>INTERI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나눔고딕"/>
              </a:rPr>
              <a:t>DESIG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나눔고딕"/>
              </a:rPr>
              <a:t>PROPOS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7093080" y="3500280"/>
            <a:ext cx="1871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직선 연결선 9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720" cy="185760"/>
          </a:xfrm>
          <a:prstGeom prst="rect">
            <a:avLst/>
          </a:prstGeom>
          <a:ln w="0">
            <a:noFill/>
          </a:ln>
        </p:spPr>
      </p:pic>
      <p:sp>
        <p:nvSpPr>
          <p:cNvPr id="57" name="직선 연결선 11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선 연결선 12"/>
          <p:cNvSpPr/>
          <p:nvPr/>
        </p:nvSpPr>
        <p:spPr>
          <a:xfrm>
            <a:off x="250920" y="653400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179280" y="6237360"/>
            <a:ext cx="4040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68727e"/>
                </a:solidFill>
                <a:latin typeface="나눔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</a:rPr>
              <a:t>. </a:t>
            </a:r>
            <a:r>
              <a:rPr b="0" lang="zh-CN" sz="700" spc="-1" strike="noStrike" u="sng">
                <a:solidFill>
                  <a:srgbClr val="ff8119"/>
                </a:solidFill>
                <a:uFillTx/>
                <a:latin typeface="나눔고딕"/>
                <a:hlinkClick r:id="rId2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698920" y="609444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9"/>
          <p:cNvSpPr/>
          <p:nvPr/>
        </p:nvSpPr>
        <p:spPr>
          <a:xfrm>
            <a:off x="108000" y="3429000"/>
            <a:ext cx="6551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나눔고딕"/>
              </a:rPr>
              <a:t>문서의 제목을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나눔고딕"/>
              </a:rPr>
              <a:t>작성해 주세요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선 연결선 9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선 연결선 11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선 연결선 12"/>
          <p:cNvSpPr/>
          <p:nvPr/>
        </p:nvSpPr>
        <p:spPr>
          <a:xfrm>
            <a:off x="250920" y="653400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720" cy="185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6"/>
          <p:cNvSpPr/>
          <p:nvPr/>
        </p:nvSpPr>
        <p:spPr>
          <a:xfrm>
            <a:off x="179280" y="6237360"/>
            <a:ext cx="4040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68727e"/>
                </a:solidFill>
                <a:latin typeface="나눔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</a:rPr>
              <a:t>. </a:t>
            </a:r>
            <a:r>
              <a:rPr b="0" lang="zh-CN" sz="700" spc="-1" strike="noStrike" u="sng">
                <a:solidFill>
                  <a:srgbClr val="ff8119"/>
                </a:solidFill>
                <a:uFillTx/>
                <a:latin typeface="나눔고딕"/>
                <a:hlinkClick r:id="rId2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7093080" y="3500280"/>
            <a:ext cx="1871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9"/>
          <p:cNvSpPr/>
          <p:nvPr/>
        </p:nvSpPr>
        <p:spPr>
          <a:xfrm>
            <a:off x="179280" y="3500280"/>
            <a:ext cx="129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나눔고딕"/>
              </a:rPr>
              <a:t>목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선 연결선 18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선 연결선 10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720" cy="185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179280" y="4202280"/>
            <a:ext cx="1656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2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3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4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5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000000"/>
              </a:buClr>
              <a:buFont typeface="나눔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6.  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선 연결선 9"/>
          <p:cNvSpPr/>
          <p:nvPr/>
        </p:nvSpPr>
        <p:spPr>
          <a:xfrm>
            <a:off x="250920" y="443088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14"/>
          <p:cNvSpPr/>
          <p:nvPr/>
        </p:nvSpPr>
        <p:spPr>
          <a:xfrm>
            <a:off x="250920" y="468936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16"/>
          <p:cNvSpPr/>
          <p:nvPr/>
        </p:nvSpPr>
        <p:spPr>
          <a:xfrm>
            <a:off x="250920" y="494820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17"/>
          <p:cNvSpPr/>
          <p:nvPr/>
        </p:nvSpPr>
        <p:spPr>
          <a:xfrm>
            <a:off x="250920" y="520704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21"/>
          <p:cNvSpPr/>
          <p:nvPr/>
        </p:nvSpPr>
        <p:spPr>
          <a:xfrm>
            <a:off x="250920" y="546588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22"/>
          <p:cNvSpPr/>
          <p:nvPr/>
        </p:nvSpPr>
        <p:spPr>
          <a:xfrm>
            <a:off x="250920" y="572436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27"/>
          <p:cNvSpPr/>
          <p:nvPr/>
        </p:nvSpPr>
        <p:spPr>
          <a:xfrm>
            <a:off x="250920" y="4172040"/>
            <a:ext cx="432108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선 연결선 18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79280" y="461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79280" y="2152800"/>
            <a:ext cx="18003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회사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주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창립 년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직원 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Prof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1039680" y="2152800"/>
            <a:ext cx="3027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회사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주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총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00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명 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| </a:t>
            </a: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인테리어 디자이너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0</a:t>
            </a: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명 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|  </a:t>
            </a: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프로젝트 매니저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0</a:t>
            </a: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명  </a:t>
            </a:r>
            <a:r>
              <a:rPr b="0" lang="en-US" sz="800" spc="-1" strike="noStrike">
                <a:solidFill>
                  <a:srgbClr val="000000"/>
                </a:solidFill>
                <a:latin typeface="나눔고딕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선 연결선 9"/>
          <p:cNvSpPr/>
          <p:nvPr/>
        </p:nvSpPr>
        <p:spPr>
          <a:xfrm>
            <a:off x="250920" y="3284640"/>
            <a:ext cx="8642160" cy="144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179280" y="329076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1039680" y="5446800"/>
            <a:ext cx="1731960" cy="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고딕"/>
              </a:rPr>
              <a:t>OOO</a:t>
            </a: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실장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약력을 작성하세요</a:t>
            </a:r>
            <a:r>
              <a:rPr b="1" lang="en-US" sz="7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2843280" y="5446800"/>
            <a:ext cx="1655640" cy="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고딕"/>
              </a:rPr>
              <a:t>OOO</a:t>
            </a: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팀장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약력을 작성하세요</a:t>
            </a:r>
            <a:r>
              <a:rPr b="1" lang="en-US" sz="7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64DD-AF3B-478E-9329-26423FADA4A0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50920" y="3500280"/>
            <a:ext cx="1440000" cy="187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930400" y="3500280"/>
            <a:ext cx="1441440" cy="187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4711680" y="3502080"/>
            <a:ext cx="13683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9"/>
          <p:cNvSpPr/>
          <p:nvPr/>
        </p:nvSpPr>
        <p:spPr>
          <a:xfrm>
            <a:off x="4640400" y="5446800"/>
            <a:ext cx="2020680" cy="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고딕"/>
              </a:rPr>
              <a:t>OOO</a:t>
            </a:r>
            <a:r>
              <a:rPr b="1" lang="zh-CN" sz="9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수석디자이너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나눔고딕"/>
              </a:rPr>
              <a:t>약력을 작성하세요</a:t>
            </a:r>
            <a:r>
              <a:rPr b="1" lang="en-US" sz="7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50920" y="5222880"/>
            <a:ext cx="1376280" cy="137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704960" y="5229360"/>
            <a:ext cx="1376280" cy="137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3146400" y="5229360"/>
            <a:ext cx="1376280" cy="1374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4603680" y="5229360"/>
            <a:ext cx="1374840" cy="137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>
            <a:off x="7531200" y="5229360"/>
            <a:ext cx="1376280" cy="137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6060960" y="5229360"/>
            <a:ext cx="1374840" cy="137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7"/>
          <a:stretch/>
        </p:blipFill>
        <p:spPr>
          <a:xfrm>
            <a:off x="1704960" y="3713040"/>
            <a:ext cx="1376280" cy="1435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8"/>
          <a:stretch/>
        </p:blipFill>
        <p:spPr>
          <a:xfrm>
            <a:off x="3146400" y="3713040"/>
            <a:ext cx="1376280" cy="143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9"/>
          <a:stretch/>
        </p:blipFill>
        <p:spPr>
          <a:xfrm>
            <a:off x="4610160" y="3713040"/>
            <a:ext cx="1368360" cy="143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10"/>
          <a:stretch/>
        </p:blipFill>
        <p:spPr>
          <a:xfrm>
            <a:off x="6060960" y="3713040"/>
            <a:ext cx="1371600" cy="143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11"/>
          <a:stretch/>
        </p:blipFill>
        <p:spPr>
          <a:xfrm>
            <a:off x="7516800" y="3713040"/>
            <a:ext cx="1390680" cy="143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12"/>
          <a:stretch/>
        </p:blipFill>
        <p:spPr>
          <a:xfrm>
            <a:off x="3146400" y="2203560"/>
            <a:ext cx="1390680" cy="142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13"/>
          <a:stretch/>
        </p:blipFill>
        <p:spPr>
          <a:xfrm>
            <a:off x="4610160" y="2203560"/>
            <a:ext cx="1376280" cy="142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14"/>
          <a:stretch/>
        </p:blipFill>
        <p:spPr>
          <a:xfrm>
            <a:off x="6060960" y="2203560"/>
            <a:ext cx="138132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15"/>
          <a:stretch/>
        </p:blipFill>
        <p:spPr>
          <a:xfrm>
            <a:off x="7516800" y="2203560"/>
            <a:ext cx="1376280" cy="142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16"/>
          <a:stretch/>
        </p:blipFill>
        <p:spPr>
          <a:xfrm>
            <a:off x="244440" y="3713040"/>
            <a:ext cx="1387440" cy="143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17"/>
          <a:stretch/>
        </p:blipFill>
        <p:spPr>
          <a:xfrm>
            <a:off x="1704960" y="2203560"/>
            <a:ext cx="13683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선 연결선 18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179280" y="461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Portfol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8"/>
          <a:stretch/>
        </p:blipFill>
        <p:spPr>
          <a:xfrm>
            <a:off x="244440" y="2203560"/>
            <a:ext cx="1387440" cy="1431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210960" y="3444840"/>
            <a:ext cx="10796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1646280" y="344484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3098880" y="3444840"/>
            <a:ext cx="14000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4572000" y="344484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6006960" y="3444840"/>
            <a:ext cx="14004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7461360" y="344484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210960" y="4930920"/>
            <a:ext cx="1584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1"/>
          <p:cNvSpPr/>
          <p:nvPr/>
        </p:nvSpPr>
        <p:spPr>
          <a:xfrm>
            <a:off x="1646280" y="493092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3098880" y="4930920"/>
            <a:ext cx="14000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4572000" y="493092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4"/>
          <p:cNvSpPr/>
          <p:nvPr/>
        </p:nvSpPr>
        <p:spPr>
          <a:xfrm>
            <a:off x="6006960" y="4930920"/>
            <a:ext cx="14004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7461360" y="493092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7"/>
          <p:cNvSpPr/>
          <p:nvPr/>
        </p:nvSpPr>
        <p:spPr>
          <a:xfrm>
            <a:off x="210960" y="6400800"/>
            <a:ext cx="7192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1646280" y="640080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9"/>
          <p:cNvSpPr/>
          <p:nvPr/>
        </p:nvSpPr>
        <p:spPr>
          <a:xfrm>
            <a:off x="3098880" y="6400800"/>
            <a:ext cx="14000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0"/>
          <p:cNvSpPr/>
          <p:nvPr/>
        </p:nvSpPr>
        <p:spPr>
          <a:xfrm>
            <a:off x="4572000" y="640080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1"/>
          <p:cNvSpPr/>
          <p:nvPr/>
        </p:nvSpPr>
        <p:spPr>
          <a:xfrm>
            <a:off x="6006960" y="6400800"/>
            <a:ext cx="14004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2"/>
          <p:cNvSpPr/>
          <p:nvPr/>
        </p:nvSpPr>
        <p:spPr>
          <a:xfrm>
            <a:off x="7461360" y="6400800"/>
            <a:ext cx="1503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ff"/>
                </a:solidFill>
                <a:latin typeface="나눔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5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51E9-40C1-4D53-B8C3-A2BD1BB5E759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页脚占位符 4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선 연결선 18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79280" y="461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179280" y="2104920"/>
            <a:ext cx="8713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내용을 작성하세요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본문은 나눔고딕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R, 12pt /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글자 간격은 좁게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0.2pt /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줄 간격은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배를 권장합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황에 따라 조절하실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타원 13"/>
          <p:cNvSpPr/>
          <p:nvPr/>
        </p:nvSpPr>
        <p:spPr>
          <a:xfrm>
            <a:off x="-250920" y="3068640"/>
            <a:ext cx="2733840" cy="2736720"/>
          </a:xfrm>
          <a:prstGeom prst="ellipse">
            <a:avLst/>
          </a:prstGeom>
          <a:solidFill>
            <a:srgbClr val="c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고딕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타원 15"/>
          <p:cNvSpPr/>
          <p:nvPr/>
        </p:nvSpPr>
        <p:spPr>
          <a:xfrm>
            <a:off x="2050920" y="3068640"/>
            <a:ext cx="2737080" cy="2736720"/>
          </a:xfrm>
          <a:prstGeom prst="ellipse">
            <a:avLst/>
          </a:prstGeom>
          <a:solidFill>
            <a:srgbClr val="c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고딕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타원 16"/>
          <p:cNvSpPr/>
          <p:nvPr/>
        </p:nvSpPr>
        <p:spPr>
          <a:xfrm>
            <a:off x="4356000" y="3068640"/>
            <a:ext cx="2737080" cy="2736720"/>
          </a:xfrm>
          <a:prstGeom prst="ellipse">
            <a:avLst/>
          </a:prstGeom>
          <a:solidFill>
            <a:srgbClr val="c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고딕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타원 17"/>
          <p:cNvSpPr/>
          <p:nvPr/>
        </p:nvSpPr>
        <p:spPr>
          <a:xfrm>
            <a:off x="6661080" y="3068640"/>
            <a:ext cx="2735280" cy="2736720"/>
          </a:xfrm>
          <a:prstGeom prst="ellipse">
            <a:avLst/>
          </a:prstGeom>
          <a:solidFill>
            <a:srgbClr val="c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나눔고딕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27640" y="476280"/>
            <a:ext cx="23050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내용을 작성하세요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4427640" y="692280"/>
            <a:ext cx="2305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965520" y="45813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나눔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3259440" y="45813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나눔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9"/>
          <p:cNvSpPr/>
          <p:nvPr/>
        </p:nvSpPr>
        <p:spPr>
          <a:xfrm>
            <a:off x="5565600" y="45813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나눔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0"/>
          <p:cNvSpPr/>
          <p:nvPr/>
        </p:nvSpPr>
        <p:spPr>
          <a:xfrm>
            <a:off x="7864200" y="4581360"/>
            <a:ext cx="31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나눔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2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Ti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2CAD-C37C-4DEB-AE27-0694B388AD08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页脚占位符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2664000" y="627372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직선 연결선 14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직선 연결선 18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3240">
            <a:solidFill>
              <a:srgbClr val="687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179280" y="4618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PAC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179280" y="2060640"/>
            <a:ext cx="417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나눔고딕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나눔고딕"/>
              </a:rPr>
              <a:t>Design Concept, He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4427640" y="2060640"/>
            <a:ext cx="432108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내용을 작성하세요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세부 설명 내용은 나눔고딕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R, 9pt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를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글자 간격은 좁게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0.3pt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를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줄 간격은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1.5</a:t>
            </a: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배를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상황에 따라 조정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179280" y="92160"/>
            <a:ext cx="2340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Space design conce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50920" y="3719520"/>
            <a:ext cx="4249800" cy="287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4294080" cy="2884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489C-855F-4231-9DE2-060D6170A190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9"/>
          <p:cNvSpPr/>
          <p:nvPr/>
        </p:nvSpPr>
        <p:spPr>
          <a:xfrm>
            <a:off x="179280" y="3573360"/>
            <a:ext cx="6553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나눔고딕"/>
              </a:rPr>
              <a:t>공간별 디자인계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직선 연결선 18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선 연결선 10"/>
          <p:cNvSpPr/>
          <p:nvPr/>
        </p:nvSpPr>
        <p:spPr>
          <a:xfrm>
            <a:off x="250920" y="333360"/>
            <a:ext cx="8642160" cy="0"/>
          </a:xfrm>
          <a:prstGeom prst="line">
            <a:avLst/>
          </a:prstGeom>
          <a:ln w="324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6661080" y="92160"/>
            <a:ext cx="2340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E615-69D6-4832-8F94-7FF7DD0B3E8A}" type="slidenum">
              <a:rPr b="1" lang="en-US" sz="700" spc="-1" strike="noStrike">
                <a:solidFill>
                  <a:srgbClr val="3f3f3f"/>
                </a:solidFill>
                <a:latin typeface="나눔고딕"/>
              </a:rPr>
              <a:t>&lt;number&gt;</a:t>
            </a:fld>
            <a:r>
              <a:rPr b="1" lang="en-US" sz="700" spc="-1" strike="noStrike">
                <a:solidFill>
                  <a:srgbClr val="3f3f3f"/>
                </a:solidFill>
                <a:latin typeface="나눔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2:05:19Z</dcterms:modified>
  <cp:revision>1</cp:revision>
  <dc:subject/>
  <dc:title>PowerPoint 演示文稿</dc:title>
</cp:coreProperties>
</file>