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827-93BF-4116-9CB9-C9D5667D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145-C618-469F-90BB-AD5C071C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73A4-B9C7-4D45-B26E-EAB7357E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11D-F94D-49E5-9473-392AE5E9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ED21-752C-4E1D-90CF-AB2C9FDD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F353-A8D7-4BEC-B8D7-13D91EFD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1609-17E9-4230-9C90-37761BCB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C3CF-6865-4F5E-804E-38232EE9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4826-B699-4ABE-90C1-FC290C18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EB6D-5768-4104-8E18-3B54B18F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AD75-872D-48A0-8CC2-7D6433FB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CC17-E0F9-47CD-B2B4-3259CF91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CFF9-6579-480F-AF0D-C07DB4F0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BA1D-703F-4271-8CC8-1A1F2FA7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882F-A217-46F4-BB2C-7FC2658B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1922-8103-4075-9BCF-332679A9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61AE-8905-4CE3-A1AB-DA5E3723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9E76-601A-4271-AFF3-7893015E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F54-7C97-4E4C-B932-9EF838CC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E82C-5FD6-4050-8CB3-04D72F8A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9915-84DD-4C5F-867B-FDA4093D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063-7718-4432-80A7-CC1DC1A8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3BE-C13D-4D0E-A92C-A70A55A9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F4E-9DC1-4327-A5D2-852C37DC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美黑简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美黑简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美黑简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美黑简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美黑简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美黑简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美黑简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9AEA-008D-4493-96AC-7709CCEBBC9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4288-9D89-45F7-BC97-698B3A2844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52EE-FCB8-4AAC-B4A0-D3B4DEF7891F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3593-3F10-4C4E-A73C-7D9893D23FE7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4700520" y="2813040"/>
            <a:ext cx="441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b0200"/>
                </a:solidFill>
                <a:latin typeface="方正瘦金书繁体"/>
                <a:ea typeface="方正瘦金书繁体"/>
              </a:rPr>
              <a:t>照亮</a:t>
            </a:r>
            <a:r>
              <a:rPr b="1" lang="zh-CN" sz="3200" spc="-1" strike="noStrike">
                <a:solidFill>
                  <a:srgbClr val="ffffff"/>
                </a:solidFill>
                <a:latin typeface="造字工房悦黑体验版纤细体"/>
              </a:rPr>
              <a:t>你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3160800" y="987480"/>
            <a:ext cx="387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239760" y="45878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2"/>
          <p:cNvSpPr/>
          <p:nvPr/>
        </p:nvSpPr>
        <p:spPr>
          <a:xfrm>
            <a:off x="3780000" y="2946240"/>
            <a:ext cx="4176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方正美黑简体"/>
              </a:rPr>
              <a:t>如何取得</a:t>
            </a:r>
            <a:r>
              <a:rPr b="1" lang="zh-CN" sz="4800" spc="-1" strike="noStrike">
                <a:solidFill>
                  <a:srgbClr val="00b0f0"/>
                </a:solidFill>
                <a:latin typeface="方正美黑简体"/>
              </a:rPr>
              <a:t>真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方正美黑简体"/>
              </a:rPr>
              <a:t>取</a:t>
            </a:r>
            <a:r>
              <a:rPr b="1" lang="zh-CN" sz="4800" spc="-1" strike="noStrike">
                <a:solidFill>
                  <a:srgbClr val="00b0f0"/>
                </a:solidFill>
                <a:latin typeface="方正美黑简体"/>
              </a:rPr>
              <a:t>悦</a:t>
            </a:r>
            <a:r>
              <a:rPr b="1" lang="zh-CN" sz="3600" spc="-1" strike="noStrike">
                <a:solidFill>
                  <a:srgbClr val="595959"/>
                </a:solidFill>
                <a:latin typeface="方正美黑简体"/>
              </a:rPr>
              <a:t>观众</a:t>
            </a:r>
            <a:r>
              <a:rPr b="1" lang="zh-CN" sz="5400" spc="-1" strike="noStrike">
                <a:solidFill>
                  <a:srgbClr val="3f3f3f"/>
                </a:solidFill>
                <a:latin typeface="方正美黑简体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755640" y="62712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美黑简体"/>
              </a:rPr>
              <a:t>解除</a:t>
            </a:r>
            <a:r>
              <a:rPr b="1" lang="zh-CN" sz="4800" spc="-1" strike="noStrike">
                <a:solidFill>
                  <a:srgbClr val="00b0f0"/>
                </a:solidFill>
                <a:latin typeface="方正美黑简体"/>
              </a:rPr>
              <a:t>烦恼</a:t>
            </a:r>
            <a:r>
              <a:rPr b="1" lang="zh-CN" sz="3600" spc="-1" strike="noStrike">
                <a:solidFill>
                  <a:srgbClr val="ffffff"/>
                </a:solidFill>
                <a:latin typeface="方正美黑简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2"/>
          <p:cNvSpPr/>
          <p:nvPr/>
        </p:nvSpPr>
        <p:spPr>
          <a:xfrm>
            <a:off x="2627280" y="2055960"/>
            <a:ext cx="53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隶书"/>
                <a:ea typeface="华文隶书"/>
              </a:rPr>
              <a:t>谢谢观看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"/>
          <p:cNvSpPr/>
          <p:nvPr/>
        </p:nvSpPr>
        <p:spPr>
          <a:xfrm>
            <a:off x="6806160" y="4443480"/>
            <a:ext cx="3830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c0c0c"/>
                </a:solidFill>
                <a:latin typeface="方正美黑简体"/>
                <a:ea typeface="造字工房悦黑体验版纤细体"/>
              </a:rPr>
              <a:t>PPT</a:t>
            </a:r>
            <a:r>
              <a:rPr b="0" lang="zh-CN" sz="100" spc="-1" strike="noStrike">
                <a:solidFill>
                  <a:srgbClr val="0c0c0c"/>
                </a:solidFill>
                <a:latin typeface="方正美黑简体"/>
              </a:rPr>
              <a:t>模板下载：</a:t>
            </a:r>
            <a:r>
              <a:rPr b="0" lang="en-US" sz="100" spc="-1" strike="noStrike">
                <a:solidFill>
                  <a:srgbClr val="0c0c0c"/>
                </a:solidFill>
                <a:latin typeface="方正美黑简体"/>
                <a:ea typeface="造字工房悦黑体验版纤细体"/>
              </a:rPr>
              <a:t>www.1ppt.com/mob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116000" y="473220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E0D3-A3BD-48B5-946D-D6ED4D9A72E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2473200" y="6951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美黑简体"/>
              </a:rPr>
              <a:t>演示目录是平淡无奇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表 1" descr=""/>
          <p:cNvPicPr/>
          <p:nvPr/>
        </p:nvPicPr>
        <p:blipFill>
          <a:blip r:embed="rId1"/>
          <a:stretch/>
        </p:blipFill>
        <p:spPr>
          <a:xfrm>
            <a:off x="2389320" y="1500120"/>
            <a:ext cx="4632120" cy="3087720"/>
          </a:xfrm>
          <a:prstGeom prst="rect">
            <a:avLst/>
          </a:prstGeom>
          <a:ln w="0">
            <a:noFill/>
          </a:ln>
        </p:spPr>
      </p:pic>
      <p:sp>
        <p:nvSpPr>
          <p:cNvPr id="88" name="直接连接符 5"/>
          <p:cNvSpPr/>
          <p:nvPr/>
        </p:nvSpPr>
        <p:spPr>
          <a:xfrm flipV="1">
            <a:off x="5730840" y="1787040"/>
            <a:ext cx="289080" cy="289080"/>
          </a:xfrm>
          <a:prstGeom prst="line">
            <a:avLst/>
          </a:prstGeom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6019920" y="158112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美黑简体"/>
              </a:rPr>
              <a:t>新颖创意的</a:t>
            </a:r>
            <a:r>
              <a:rPr b="0" lang="en-US" sz="1800" spc="-1" strike="noStrike">
                <a:solidFill>
                  <a:srgbClr val="000000"/>
                </a:solidFill>
                <a:latin typeface="Kozuka Gothic Pr6N M"/>
                <a:ea typeface="Kozuka Gothic Pr6N M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1200240" y="41148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美黑简体"/>
              </a:rPr>
              <a:t>非新颖创意的</a:t>
            </a:r>
            <a:r>
              <a:rPr b="0" lang="en-US" sz="1800" spc="-1" strike="noStrike">
                <a:solidFill>
                  <a:srgbClr val="000000"/>
                </a:solidFill>
                <a:latin typeface="Kozuka Gothic Pr6N M"/>
                <a:ea typeface="Kozuka Gothic Pr6N M"/>
              </a:rPr>
              <a:t>8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9"/>
          <p:cNvSpPr/>
          <p:nvPr/>
        </p:nvSpPr>
        <p:spPr>
          <a:xfrm flipV="1">
            <a:off x="3360600" y="3971520"/>
            <a:ext cx="287640" cy="289080"/>
          </a:xfrm>
          <a:prstGeom prst="line">
            <a:avLst/>
          </a:prstGeom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1146240" y="270000"/>
            <a:ext cx="1411200" cy="1008360"/>
            <a:chOff x="1146240" y="270000"/>
            <a:chExt cx="1411200" cy="1008360"/>
          </a:xfrm>
        </p:grpSpPr>
        <p:sp>
          <p:nvSpPr>
            <p:cNvPr id="93" name="TextBox 2"/>
            <p:cNvSpPr/>
            <p:nvPr/>
          </p:nvSpPr>
          <p:spPr>
            <a:xfrm>
              <a:off x="1146240" y="270000"/>
              <a:ext cx="1109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b0200"/>
                  </a:solidFill>
                  <a:latin typeface="Kozuka Gothic Pr6N M"/>
                  <a:ea typeface="Kozuka Gothic Pr6N M"/>
                </a:rPr>
                <a:t>85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1"/>
            <p:cNvSpPr/>
            <p:nvPr/>
          </p:nvSpPr>
          <p:spPr>
            <a:xfrm>
              <a:off x="1954440" y="423360"/>
              <a:ext cx="60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b0200"/>
                  </a:solidFill>
                  <a:latin typeface="Kozuka Gothic Pr6N M"/>
                  <a:ea typeface="Kozuka Gothic Pr6N M"/>
                </a:rPr>
                <a:t>%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2CC2-B200-47CB-9751-3727D32C02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多吉\Desktop\目录板式\方与圆\方与圆类目录@多吉格格辑录-042.jpg"/>
          <p:cNvPicPr/>
          <p:nvPr/>
        </p:nvPicPr>
        <p:blipFill>
          <a:blip r:embed="rId1"/>
          <a:stretch/>
        </p:blipFill>
        <p:spPr>
          <a:xfrm>
            <a:off x="4861080" y="1284120"/>
            <a:ext cx="3384360" cy="338472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 rot="1675200">
            <a:off x="7524720" y="24768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方正瘦金书繁体"/>
                <a:ea typeface="方正瘦金书繁体"/>
              </a:rPr>
              <a:t>常见案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263600" y="7714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造字工房悦黑体验版纤细体"/>
              </a:rPr>
              <a:t>某培训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5219640" y="77148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造字工房悦黑体验版纤细体"/>
              </a:rPr>
              <a:t>某创意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4282920" y="771480"/>
            <a:ext cx="5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b0200"/>
                </a:solidFill>
                <a:latin typeface="微软雅黑"/>
                <a:ea typeface="微软雅黑"/>
              </a:rPr>
              <a:t>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rcRect l="8312" t="277" r="14393" b="0"/>
          <a:stretch/>
        </p:blipFill>
        <p:spPr>
          <a:xfrm>
            <a:off x="812880" y="1284120"/>
            <a:ext cx="3448080" cy="338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1655640" y="224784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美黑简体"/>
              </a:rPr>
              <a:t>或许，有些夸张</a:t>
            </a:r>
            <a:r>
              <a:rPr b="1" lang="en-US" sz="4000" spc="-1" strike="noStrike">
                <a:solidFill>
                  <a:srgbClr val="7f7f7f"/>
                </a:solidFill>
                <a:latin typeface="方正美黑简体"/>
                <a:ea typeface="造字工房悦黑体验版纤细体"/>
              </a:rPr>
              <a:t>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1571760" y="6332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c0c0c"/>
                </a:solidFill>
                <a:latin typeface="方正美黑简体"/>
              </a:rPr>
              <a:t>但实际上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10"/>
          <p:cNvGrpSpPr/>
          <p:nvPr/>
        </p:nvGrpSpPr>
        <p:grpSpPr>
          <a:xfrm>
            <a:off x="1128600" y="1500120"/>
            <a:ext cx="6972480" cy="3087720"/>
            <a:chOff x="1128600" y="1500120"/>
            <a:chExt cx="6972480" cy="3087720"/>
          </a:xfrm>
        </p:grpSpPr>
        <p:pic>
          <p:nvPicPr>
            <p:cNvPr id="105" name="图表 1" descr=""/>
            <p:cNvPicPr/>
            <p:nvPr/>
          </p:nvPicPr>
          <p:blipFill>
            <a:blip r:embed="rId1"/>
            <a:stretch/>
          </p:blipFill>
          <p:spPr>
            <a:xfrm>
              <a:off x="2389320" y="1500120"/>
              <a:ext cx="4632840" cy="30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直接连接符 5"/>
            <p:cNvSpPr/>
            <p:nvPr/>
          </p:nvSpPr>
          <p:spPr>
            <a:xfrm flipV="1">
              <a:off x="5744160" y="1819800"/>
              <a:ext cx="288000" cy="288000"/>
            </a:xfrm>
            <a:prstGeom prst="line">
              <a:avLst/>
            </a:prstGeom>
            <a:ln w="64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6"/>
            <p:cNvSpPr/>
            <p:nvPr/>
          </p:nvSpPr>
          <p:spPr>
            <a:xfrm>
              <a:off x="6019560" y="1581120"/>
              <a:ext cx="20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美黑简体"/>
                </a:rPr>
                <a:t>新颖创意的</a:t>
              </a:r>
              <a:r>
                <a:rPr b="0" lang="en-US" sz="1800" spc="-1" strike="noStrike">
                  <a:solidFill>
                    <a:srgbClr val="000000"/>
                  </a:solidFill>
                  <a:latin typeface="Kozuka Gothic Pr6N M"/>
                  <a:ea typeface="Kozuka Gothic Pr6N M"/>
                </a:rPr>
                <a:t>1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7"/>
            <p:cNvSpPr/>
            <p:nvPr/>
          </p:nvSpPr>
          <p:spPr>
            <a:xfrm>
              <a:off x="1128600" y="404568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美黑简体"/>
                </a:rPr>
                <a:t>非新颖创意的</a:t>
              </a:r>
              <a:r>
                <a:rPr b="0" lang="en-US" sz="1800" spc="-1" strike="noStrike">
                  <a:solidFill>
                    <a:srgbClr val="000000"/>
                  </a:solidFill>
                  <a:latin typeface="Kozuka Gothic Pr6N M"/>
                  <a:ea typeface="Kozuka Gothic Pr6N M"/>
                </a:rPr>
                <a:t>99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9"/>
            <p:cNvSpPr/>
            <p:nvPr/>
          </p:nvSpPr>
          <p:spPr>
            <a:xfrm flipV="1">
              <a:off x="3288960" y="3877560"/>
              <a:ext cx="288000" cy="288000"/>
            </a:xfrm>
            <a:prstGeom prst="line">
              <a:avLst/>
            </a:prstGeom>
            <a:ln w="64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Box 2"/>
          <p:cNvSpPr/>
          <p:nvPr/>
        </p:nvSpPr>
        <p:spPr>
          <a:xfrm>
            <a:off x="4162320" y="307800"/>
            <a:ext cx="1108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b0200"/>
                </a:solidFill>
                <a:latin typeface="Kozuka Gothic Pr6N M"/>
                <a:ea typeface="Kozuka Gothic Pr6N M"/>
              </a:rPr>
              <a:t>9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1"/>
          <p:cNvSpPr/>
          <p:nvPr/>
        </p:nvSpPr>
        <p:spPr>
          <a:xfrm>
            <a:off x="5117760" y="477720"/>
            <a:ext cx="64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0200"/>
                </a:solidFill>
                <a:latin typeface="Kozuka Gothic Pr6N M"/>
                <a:ea typeface="Kozuka Gothic Pr6N M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630360" y="65736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美黑简体"/>
                <a:ea typeface="造字工房悦黑体验版纤细体"/>
              </a:rPr>
              <a:t>W</a:t>
            </a:r>
            <a:r>
              <a:rPr b="1" lang="en-US" sz="3600" spc="-1" strike="noStrike">
                <a:solidFill>
                  <a:srgbClr val="ffffff"/>
                </a:solidFill>
                <a:latin typeface="方正美黑简体"/>
                <a:ea typeface="造字工房悦黑体验版纤细体"/>
              </a:rPr>
              <a:t>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4920" y="4732200"/>
            <a:ext cx="33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843280" y="9507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0c0c"/>
                </a:solidFill>
                <a:latin typeface="方正美黑简体"/>
              </a:rPr>
              <a:t>我们看到的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3132000" y="1670040"/>
            <a:ext cx="2880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方正美黑简体"/>
              </a:rPr>
              <a:t>乏味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方正美黑简体"/>
              </a:rPr>
              <a:t>鲜有新意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方正美黑简体"/>
              </a:rPr>
              <a:t>粗制滥造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方正美黑简体"/>
              </a:rPr>
              <a:t>彼此撞衫的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2843280" y="9507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0c0c"/>
                </a:solidFill>
                <a:latin typeface="方正美黑简体"/>
              </a:rPr>
              <a:t>我们想看的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2808360" y="1670040"/>
            <a:ext cx="3529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方正美黑简体"/>
              </a:rPr>
              <a:t>稀罕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方正美黑简体"/>
              </a:rPr>
              <a:t>眼前一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方正美黑简体"/>
              </a:rPr>
              <a:t>能</a:t>
            </a:r>
            <a:r>
              <a:rPr b="0" lang="en-US" sz="2800" spc="-1" strike="noStrike">
                <a:solidFill>
                  <a:srgbClr val="0c0c0c"/>
                </a:solidFill>
                <a:latin typeface="方正美黑简体"/>
                <a:ea typeface="造字工房悦黑体验版纤细体"/>
              </a:rPr>
              <a:t>HOLD</a:t>
            </a:r>
            <a:r>
              <a:rPr b="0" lang="zh-CN" sz="2800" spc="-1" strike="noStrike">
                <a:solidFill>
                  <a:srgbClr val="0c0c0c"/>
                </a:solidFill>
                <a:latin typeface="方正美黑简体"/>
              </a:rPr>
              <a:t>住全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方正美黑简体"/>
              </a:rPr>
              <a:t>耳目一新的创意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6T09:18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58:2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