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450A-3F55-4DD6-A514-511F276B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74674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814640"/>
            <a:ext cx="74674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104E-AB9F-4653-BBEB-97465A99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81464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0480" y="481464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5400-DFCD-48F4-AB15-DA541C6B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39080" y="449568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4120" y="449568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81464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39080" y="481464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4120" y="481464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B4FD-0CAE-4CA8-B44A-2A898018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040" y="44956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8686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040" y="481464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44956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B20D-BCE3-48CC-AA68-ECDD3B6E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0480" y="481464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4814640"/>
            <a:ext cx="74674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74674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040" y="4814640"/>
            <a:ext cx="74674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81464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0480" y="481464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39080" y="449568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4120" y="449568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040" y="481464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39080" y="481464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4120" y="4814640"/>
            <a:ext cx="240444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B649-F99B-4914-A2C5-947C6447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8BAA-BC7B-4F5E-8F75-E10D4797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398D-9F1A-49BB-9B8C-21D0193C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8686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75A5-74AC-48AC-AC1F-ADC6806C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81464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C533-74BF-411C-8F1F-86D65A70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0480" y="481464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9F3D-97BE-4BD1-AE1B-66D24AF3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0480" y="4495680"/>
            <a:ext cx="364392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814640"/>
            <a:ext cx="746748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3480-2071-471E-8499-44F0613B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100000">
                <a:srgbClr val="000066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6c0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99cc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99cc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48F0-2B60-411C-87E2-C0F560A77DEB}" type="slidenum">
              <a:rPr b="0" lang="en-US" sz="1400" spc="-1" strike="noStrike">
                <a:solidFill>
                  <a:srgbClr val="99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0" y="837720"/>
            <a:ext cx="9144000" cy="76320"/>
          </a:xfrm>
          <a:prstGeom prst="rect">
            <a:avLst/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5562720"/>
            <a:ext cx="1841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99cc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99cc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Verdana"/>
                <a:ea typeface="宋体"/>
              </a:rPr>
              <a:t>商务商业</a:t>
            </a:r>
            <a:r>
              <a:rPr b="1" lang="en-US" sz="4000" spc="-1" strike="noStrike">
                <a:solidFill>
                  <a:srgbClr val="000066"/>
                </a:solidFill>
                <a:latin typeface="Verdana"/>
                <a:ea typeface="宋体"/>
              </a:rPr>
              <a:t>PPT</a:t>
            </a:r>
            <a:r>
              <a:rPr b="1" lang="en-US" sz="4000" spc="-1" strike="noStrike">
                <a:solidFill>
                  <a:srgbClr val="000066"/>
                </a:solidFill>
                <a:latin typeface="Verdana"/>
                <a:ea typeface="宋体"/>
              </a:rPr>
              <a:t>素材免费下载</a:t>
            </a: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14040" y="44956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 </a:t>
            </a:r>
            <a:r>
              <a:rPr b="0" lang="en-US" sz="2000" spc="-1" strike="noStrike">
                <a:solidFill>
                  <a:srgbClr val="99ccff"/>
                </a:solidFill>
                <a:latin typeface="Verdana"/>
                <a:ea typeface="宋体"/>
              </a:rPr>
              <a:t>– PowerPoint2002</a:t>
            </a:r>
            <a:endParaRPr b="0" lang="en-US" sz="20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86c05a"/>
              </a:gs>
              <a:gs pos="100000">
                <a:srgbClr val="cae3b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2d2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9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9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25289"/>
              </a:gs>
              <a:gs pos="50000">
                <a:srgbClr val="9999ff"/>
              </a:gs>
              <a:gs pos="100000">
                <a:srgbClr val="52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9999ff">
                  <a:alpha val="0"/>
                </a:srgbClr>
              </a:gs>
              <a:gs pos="100000">
                <a:srgbClr val="6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6969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6969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05050"/>
              </a:gs>
              <a:gs pos="50000">
                <a:srgbClr val="969696"/>
              </a:gs>
              <a:gs pos="100000">
                <a:srgbClr val="50505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969696">
                  <a:alpha val="0"/>
                </a:srgbClr>
              </a:gs>
              <a:gs pos="100000">
                <a:srgbClr val="5e5e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70" name="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3860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86c05a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3d5829"/>
              </a:gs>
              <a:gs pos="100000">
                <a:srgbClr val="86c05a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86730"/>
              </a:gs>
              <a:gs pos="50000">
                <a:srgbClr val="86c05a"/>
              </a:gs>
              <a:gs pos="100000">
                <a:srgbClr val="48673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6c05a">
                  <a:alpha val="0"/>
                </a:srgbClr>
              </a:gs>
              <a:gs pos="100000">
                <a:srgbClr val="54793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280" name="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77532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285" name="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2176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96" name="未知"/>
          <p:cNvSpPr/>
          <p:nvPr/>
        </p:nvSpPr>
        <p:spPr>
          <a:xfrm>
            <a:off x="9907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9999ff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410080" y="3505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20876400">
            <a:off x="3154320" y="5003640"/>
            <a:ext cx="1438200" cy="6670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86280" y="378468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106800" y="379404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80988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16240" y="385452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03880" y="441180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20826600">
            <a:off x="1325520" y="439380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249200" y="3403440"/>
            <a:ext cx="1371240" cy="1441080"/>
            <a:chOff x="1249200" y="3403440"/>
            <a:chExt cx="1371240" cy="1441080"/>
          </a:xfrm>
        </p:grpSpPr>
        <p:sp>
          <p:nvSpPr>
            <p:cNvPr id="306" name=""/>
            <p:cNvSpPr/>
            <p:nvPr/>
          </p:nvSpPr>
          <p:spPr>
            <a:xfrm>
              <a:off x="1249200" y="340344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67200" y="341172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80160" y="342504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51800" y="346176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29640" y="3909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990720" y="263844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203184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79640" y="203688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90440" y="2048040"/>
            <a:ext cx="951120" cy="9331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44440" y="2073240"/>
            <a:ext cx="847800" cy="757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263960" y="2381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0816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408400" y="1574640"/>
            <a:ext cx="682560" cy="6829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17760" y="157788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424240" y="1584360"/>
            <a:ext cx="633240" cy="6224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60600" y="160344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478600" y="17985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ffffff"/>
              </a:gs>
              <a:gs pos="100000">
                <a:srgbClr val="e2e2e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32" name="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35" name="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38" name="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41" name="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44" name="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47" name="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349960" y="5162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5e8c6"/>
                </a:gs>
                <a:gs pos="100000">
                  <a:srgbClr val="86c05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62412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9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629160" y="27766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464675"/>
              </a:gs>
              <a:gs pos="100000">
                <a:srgbClr val="99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751200" y="289728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525289"/>
              </a:gs>
              <a:gs pos="50000">
                <a:srgbClr val="9999ff"/>
              </a:gs>
              <a:gs pos="100000">
                <a:srgbClr val="52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733920" y="287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9999ff">
                  <a:alpha val="0"/>
                </a:srgbClr>
              </a:gs>
              <a:gs pos="100000">
                <a:srgbClr val="6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3835440" y="2981160"/>
            <a:ext cx="1522440" cy="1522440"/>
            <a:chOff x="3835440" y="2981160"/>
            <a:chExt cx="1522440" cy="1522440"/>
          </a:xfrm>
        </p:grpSpPr>
        <p:sp>
          <p:nvSpPr>
            <p:cNvPr id="354" name=""/>
            <p:cNvSpPr/>
            <p:nvPr/>
          </p:nvSpPr>
          <p:spPr>
            <a:xfrm>
              <a:off x="3835440" y="298116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857760" y="300024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875040" y="300960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90880" y="302400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71880" y="306036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4164480" y="347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>
            <a:off x="1092240" y="209556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25360" y="210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143000" y="416736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43000" y="2125800"/>
            <a:ext cx="207000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836720" y="1787400"/>
            <a:ext cx="642960" cy="642960"/>
            <a:chOff x="1836720" y="1787400"/>
            <a:chExt cx="642960" cy="642960"/>
          </a:xfrm>
        </p:grpSpPr>
        <p:sp>
          <p:nvSpPr>
            <p:cNvPr id="372" name=""/>
            <p:cNvSpPr/>
            <p:nvPr/>
          </p:nvSpPr>
          <p:spPr>
            <a:xfrm>
              <a:off x="1836720" y="178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43200" y="179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51120" y="1796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57600" y="180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91440" y="181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1976760" y="187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168560" y="254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16520" y="209556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850000" y="210348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416736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867280" y="2125800"/>
            <a:ext cx="207036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561000" y="1787400"/>
            <a:ext cx="642960" cy="642960"/>
            <a:chOff x="6561000" y="1787400"/>
            <a:chExt cx="642960" cy="642960"/>
          </a:xfrm>
        </p:grpSpPr>
        <p:sp>
          <p:nvSpPr>
            <p:cNvPr id="384" name=""/>
            <p:cNvSpPr/>
            <p:nvPr/>
          </p:nvSpPr>
          <p:spPr>
            <a:xfrm>
              <a:off x="6561000" y="1787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67480" y="1792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575400" y="1796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81880" y="1801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15720" y="1817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6701040" y="187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892840" y="254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4560" y="209556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87680" y="210348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505320" y="416736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505320" y="2125800"/>
            <a:ext cx="207000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199040" y="1787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205160" y="1792440"/>
            <a:ext cx="622440" cy="62208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13080" y="179532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19560" y="180180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54480" y="1817640"/>
            <a:ext cx="512640" cy="46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339080" y="1879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530520" y="2549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09480" y="2286000"/>
            <a:ext cx="8159760" cy="3740760"/>
            <a:chOff x="609480" y="2286000"/>
            <a:chExt cx="8159760" cy="3740760"/>
          </a:xfrm>
        </p:grpSpPr>
        <p:grpSp>
          <p:nvGrpSpPr>
            <p:cNvPr id="406" name=""/>
            <p:cNvGrpSpPr/>
            <p:nvPr/>
          </p:nvGrpSpPr>
          <p:grpSpPr>
            <a:xfrm>
              <a:off x="4954680" y="3338280"/>
              <a:ext cx="1656720" cy="2617200"/>
              <a:chOff x="4954680" y="3338280"/>
              <a:chExt cx="1656720" cy="261720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4954680" y="3511080"/>
                <a:ext cx="1537200" cy="2444400"/>
                <a:chOff x="4954680" y="3511080"/>
                <a:chExt cx="1537200" cy="2444400"/>
              </a:xfrm>
            </p:grpSpPr>
            <p:sp>
              <p:nvSpPr>
                <p:cNvPr id="408" name="未知"/>
                <p:cNvSpPr/>
                <p:nvPr/>
              </p:nvSpPr>
              <p:spPr>
                <a:xfrm rot="3876600">
                  <a:off x="4497840" y="4463640"/>
                  <a:ext cx="2450160" cy="538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09" name="未知"/>
                <p:cNvSpPr/>
                <p:nvPr/>
              </p:nvSpPr>
              <p:spPr>
                <a:xfrm rot="3876600">
                  <a:off x="5970240" y="5410440"/>
                  <a:ext cx="384840" cy="44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5431680" y="3338280"/>
                <a:ext cx="1179720" cy="1875960"/>
                <a:chOff x="5431680" y="3338280"/>
                <a:chExt cx="1179720" cy="1875960"/>
              </a:xfrm>
            </p:grpSpPr>
            <p:sp>
              <p:nvSpPr>
                <p:cNvPr id="411" name="未知"/>
                <p:cNvSpPr/>
                <p:nvPr/>
              </p:nvSpPr>
              <p:spPr>
                <a:xfrm flipV="1" rot="3876600">
                  <a:off x="5081040" y="4069080"/>
                  <a:ext cx="1880280" cy="413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12" name="未知"/>
                <p:cNvSpPr/>
                <p:nvPr/>
              </p:nvSpPr>
              <p:spPr>
                <a:xfrm flipV="1" rot="3876600">
                  <a:off x="6194520" y="4803840"/>
                  <a:ext cx="295560" cy="3384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3" name=""/>
            <p:cNvGrpSpPr/>
            <p:nvPr/>
          </p:nvGrpSpPr>
          <p:grpSpPr>
            <a:xfrm>
              <a:off x="4505760" y="2441160"/>
              <a:ext cx="1391760" cy="1409400"/>
              <a:chOff x="4505760" y="2441160"/>
              <a:chExt cx="1391760" cy="1409400"/>
            </a:xfrm>
          </p:grpSpPr>
          <p:sp>
            <p:nvSpPr>
              <p:cNvPr id="414" name=""/>
              <p:cNvSpPr/>
              <p:nvPr/>
            </p:nvSpPr>
            <p:spPr>
              <a:xfrm>
                <a:off x="4505760" y="2441160"/>
                <a:ext cx="1391760" cy="14094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505760" y="2441160"/>
                <a:ext cx="1391760" cy="14094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597920" y="2532600"/>
                <a:ext cx="1207080" cy="122436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597920" y="2535840"/>
                <a:ext cx="1207080" cy="12243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657680" y="2594880"/>
                <a:ext cx="1087560" cy="1101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grpSp>
            <p:nvGrpSpPr>
              <p:cNvPr id="419" name=""/>
              <p:cNvGrpSpPr/>
              <p:nvPr/>
            </p:nvGrpSpPr>
            <p:grpSpPr>
              <a:xfrm>
                <a:off x="4674240" y="2611800"/>
                <a:ext cx="1054080" cy="1068840"/>
                <a:chOff x="4674240" y="2611800"/>
                <a:chExt cx="1054080" cy="106884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4674240" y="2611800"/>
                  <a:ext cx="1054080" cy="106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687560" y="2617560"/>
                  <a:ext cx="1028520" cy="104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698360" y="2628000"/>
                  <a:ext cx="978120" cy="9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755960" y="2655360"/>
                  <a:ext cx="869760" cy="79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4" name=""/>
            <p:cNvGrpSpPr/>
            <p:nvPr/>
          </p:nvGrpSpPr>
          <p:grpSpPr>
            <a:xfrm>
              <a:off x="7112520" y="3409560"/>
              <a:ext cx="1656720" cy="2617200"/>
              <a:chOff x="7112520" y="3409560"/>
              <a:chExt cx="1656720" cy="261720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7112520" y="3582360"/>
                <a:ext cx="1537200" cy="2444400"/>
                <a:chOff x="7112520" y="3582360"/>
                <a:chExt cx="1537200" cy="2444400"/>
              </a:xfrm>
            </p:grpSpPr>
            <p:sp>
              <p:nvSpPr>
                <p:cNvPr id="426" name="未知"/>
                <p:cNvSpPr/>
                <p:nvPr/>
              </p:nvSpPr>
              <p:spPr>
                <a:xfrm rot="3876600">
                  <a:off x="6655680" y="4534920"/>
                  <a:ext cx="2450160" cy="538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27" name="未知"/>
                <p:cNvSpPr/>
                <p:nvPr/>
              </p:nvSpPr>
              <p:spPr>
                <a:xfrm rot="3876600">
                  <a:off x="8128080" y="5481720"/>
                  <a:ext cx="384840" cy="44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7589520" y="3409560"/>
                <a:ext cx="1179720" cy="1875960"/>
                <a:chOff x="7589520" y="3409560"/>
                <a:chExt cx="1179720" cy="1875960"/>
              </a:xfrm>
            </p:grpSpPr>
            <p:sp>
              <p:nvSpPr>
                <p:cNvPr id="429" name="未知"/>
                <p:cNvSpPr/>
                <p:nvPr/>
              </p:nvSpPr>
              <p:spPr>
                <a:xfrm flipV="1" rot="3876600">
                  <a:off x="7238880" y="4140360"/>
                  <a:ext cx="1880280" cy="413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30" name="未知"/>
                <p:cNvSpPr/>
                <p:nvPr/>
              </p:nvSpPr>
              <p:spPr>
                <a:xfrm flipV="1" rot="3876600">
                  <a:off x="8352360" y="4875120"/>
                  <a:ext cx="295560" cy="3384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1" name=""/>
            <p:cNvSpPr/>
            <p:nvPr/>
          </p:nvSpPr>
          <p:spPr>
            <a:xfrm>
              <a:off x="6453360" y="2286000"/>
              <a:ext cx="1672560" cy="16905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53360" y="2286000"/>
              <a:ext cx="1672560" cy="16905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565320" y="2396160"/>
              <a:ext cx="1451880" cy="1468080"/>
            </a:xfrm>
            <a:prstGeom prst="ellipse">
              <a:avLst/>
            </a:prstGeom>
            <a:gradFill rotWithShape="0">
              <a:gsLst>
                <a:gs pos="0">
                  <a:srgbClr val="1b5289"/>
                </a:gs>
                <a:gs pos="50000">
                  <a:srgbClr val="3399ff"/>
                </a:gs>
                <a:gs pos="100000">
                  <a:srgbClr val="1b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567120" y="2399400"/>
              <a:ext cx="1451520" cy="146808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37320" y="2470680"/>
              <a:ext cx="1307160" cy="1320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6657480" y="2490840"/>
              <a:ext cx="1267200" cy="1281600"/>
              <a:chOff x="6657480" y="2490840"/>
              <a:chExt cx="1267200" cy="1281600"/>
            </a:xfrm>
          </p:grpSpPr>
          <p:sp>
            <p:nvSpPr>
              <p:cNvPr id="437" name=""/>
              <p:cNvSpPr/>
              <p:nvPr/>
            </p:nvSpPr>
            <p:spPr>
              <a:xfrm>
                <a:off x="6657480" y="2490840"/>
                <a:ext cx="1267200" cy="12816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673680" y="2497680"/>
                <a:ext cx="1236600" cy="1249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686640" y="2510280"/>
                <a:ext cx="1176120" cy="11678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755400" y="2543040"/>
                <a:ext cx="1045440" cy="947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2975040" y="3338280"/>
              <a:ext cx="1656720" cy="2617200"/>
              <a:chOff x="2975040" y="3338280"/>
              <a:chExt cx="1656720" cy="2617200"/>
            </a:xfrm>
          </p:grpSpPr>
          <p:grpSp>
            <p:nvGrpSpPr>
              <p:cNvPr id="442" name=""/>
              <p:cNvGrpSpPr/>
              <p:nvPr/>
            </p:nvGrpSpPr>
            <p:grpSpPr>
              <a:xfrm>
                <a:off x="2975040" y="3511080"/>
                <a:ext cx="1537200" cy="2444400"/>
                <a:chOff x="2975040" y="3511080"/>
                <a:chExt cx="1537200" cy="2444400"/>
              </a:xfrm>
            </p:grpSpPr>
            <p:sp>
              <p:nvSpPr>
                <p:cNvPr id="443" name="未知"/>
                <p:cNvSpPr/>
                <p:nvPr/>
              </p:nvSpPr>
              <p:spPr>
                <a:xfrm rot="3876600">
                  <a:off x="2518560" y="4464000"/>
                  <a:ext cx="245016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44" name="未知"/>
                <p:cNvSpPr/>
                <p:nvPr/>
              </p:nvSpPr>
              <p:spPr>
                <a:xfrm rot="3876600">
                  <a:off x="3990600" y="5410440"/>
                  <a:ext cx="384840" cy="44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452040" y="3338280"/>
                <a:ext cx="1179720" cy="1875960"/>
                <a:chOff x="3452040" y="3338280"/>
                <a:chExt cx="1179720" cy="1875960"/>
              </a:xfrm>
            </p:grpSpPr>
            <p:sp>
              <p:nvSpPr>
                <p:cNvPr id="446" name="未知"/>
                <p:cNvSpPr/>
                <p:nvPr/>
              </p:nvSpPr>
              <p:spPr>
                <a:xfrm flipV="1" rot="3876600">
                  <a:off x="3101400" y="4069080"/>
                  <a:ext cx="1880280" cy="413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47" name="未知"/>
                <p:cNvSpPr/>
                <p:nvPr/>
              </p:nvSpPr>
              <p:spPr>
                <a:xfrm flipV="1" rot="3876600">
                  <a:off x="4214880" y="4803840"/>
                  <a:ext cx="295560" cy="3384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8" name=""/>
            <p:cNvGrpSpPr/>
            <p:nvPr/>
          </p:nvGrpSpPr>
          <p:grpSpPr>
            <a:xfrm>
              <a:off x="2526120" y="2441160"/>
              <a:ext cx="1391400" cy="1409400"/>
              <a:chOff x="2526120" y="2441160"/>
              <a:chExt cx="1391400" cy="1409400"/>
            </a:xfrm>
          </p:grpSpPr>
          <p:sp>
            <p:nvSpPr>
              <p:cNvPr id="449" name=""/>
              <p:cNvSpPr/>
              <p:nvPr/>
            </p:nvSpPr>
            <p:spPr>
              <a:xfrm>
                <a:off x="2526120" y="2441160"/>
                <a:ext cx="1391400" cy="14094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526120" y="2441160"/>
                <a:ext cx="1391400" cy="14094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618280" y="2532600"/>
                <a:ext cx="1206720" cy="122436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618280" y="2535840"/>
                <a:ext cx="1206720" cy="12243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678040" y="2594880"/>
                <a:ext cx="1087200" cy="1101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2694600" y="2611800"/>
                <a:ext cx="1053720" cy="1068840"/>
                <a:chOff x="2694600" y="2611800"/>
                <a:chExt cx="1053720" cy="106884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2694600" y="2611800"/>
                  <a:ext cx="1053720" cy="106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707920" y="2617560"/>
                  <a:ext cx="1028160" cy="104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718720" y="2628000"/>
                  <a:ext cx="977760" cy="9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775960" y="2655360"/>
                  <a:ext cx="869400" cy="79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9" name=""/>
            <p:cNvGrpSpPr/>
            <p:nvPr/>
          </p:nvGrpSpPr>
          <p:grpSpPr>
            <a:xfrm>
              <a:off x="1058400" y="3338280"/>
              <a:ext cx="1656720" cy="2617200"/>
              <a:chOff x="1058400" y="3338280"/>
              <a:chExt cx="1656720" cy="261720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1058400" y="3511080"/>
                <a:ext cx="1537200" cy="2444400"/>
                <a:chOff x="1058400" y="3511080"/>
                <a:chExt cx="1537200" cy="2444400"/>
              </a:xfrm>
            </p:grpSpPr>
            <p:sp>
              <p:nvSpPr>
                <p:cNvPr id="461" name="未知"/>
                <p:cNvSpPr/>
                <p:nvPr/>
              </p:nvSpPr>
              <p:spPr>
                <a:xfrm rot="3876600">
                  <a:off x="601920" y="4464000"/>
                  <a:ext cx="245016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62" name="未知"/>
                <p:cNvSpPr/>
                <p:nvPr/>
              </p:nvSpPr>
              <p:spPr>
                <a:xfrm rot="3876600">
                  <a:off x="2073960" y="5410440"/>
                  <a:ext cx="384840" cy="44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1535400" y="3338280"/>
                <a:ext cx="1179720" cy="1875960"/>
                <a:chOff x="1535400" y="3338280"/>
                <a:chExt cx="1179720" cy="1875960"/>
              </a:xfrm>
            </p:grpSpPr>
            <p:sp>
              <p:nvSpPr>
                <p:cNvPr id="464" name="未知"/>
                <p:cNvSpPr/>
                <p:nvPr/>
              </p:nvSpPr>
              <p:spPr>
                <a:xfrm flipV="1" rot="3876600">
                  <a:off x="1184760" y="4069080"/>
                  <a:ext cx="1880280" cy="413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65" name="未知"/>
                <p:cNvSpPr/>
                <p:nvPr/>
              </p:nvSpPr>
              <p:spPr>
                <a:xfrm flipV="1" rot="3876600">
                  <a:off x="2298240" y="4803840"/>
                  <a:ext cx="295560" cy="3384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6" name=""/>
            <p:cNvGrpSpPr/>
            <p:nvPr/>
          </p:nvGrpSpPr>
          <p:grpSpPr>
            <a:xfrm>
              <a:off x="609480" y="2441160"/>
              <a:ext cx="1391760" cy="1409400"/>
              <a:chOff x="609480" y="2441160"/>
              <a:chExt cx="1391760" cy="1409400"/>
            </a:xfrm>
          </p:grpSpPr>
          <p:sp>
            <p:nvSpPr>
              <p:cNvPr id="467" name=""/>
              <p:cNvSpPr/>
              <p:nvPr/>
            </p:nvSpPr>
            <p:spPr>
              <a:xfrm>
                <a:off x="609480" y="2441160"/>
                <a:ext cx="1391760" cy="14094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09480" y="2441160"/>
                <a:ext cx="1391760" cy="14094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01640" y="2532600"/>
                <a:ext cx="1207080" cy="122436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01640" y="2535840"/>
                <a:ext cx="1207080" cy="12243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61400" y="2594880"/>
                <a:ext cx="1087560" cy="1101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grpSp>
            <p:nvGrpSpPr>
              <p:cNvPr id="472" name=""/>
              <p:cNvGrpSpPr/>
              <p:nvPr/>
            </p:nvGrpSpPr>
            <p:grpSpPr>
              <a:xfrm>
                <a:off x="777960" y="2611800"/>
                <a:ext cx="1054080" cy="1068840"/>
                <a:chOff x="777960" y="2611800"/>
                <a:chExt cx="1054080" cy="106884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777960" y="2611800"/>
                  <a:ext cx="1054080" cy="106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91280" y="2617560"/>
                  <a:ext cx="1028520" cy="104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802080" y="2628000"/>
                  <a:ext cx="978120" cy="97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859680" y="2655360"/>
                  <a:ext cx="869760" cy="79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99cc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7" name=""/>
            <p:cNvSpPr/>
            <p:nvPr/>
          </p:nvSpPr>
          <p:spPr>
            <a:xfrm rot="3925800">
              <a:off x="1060920" y="43495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3925800">
              <a:off x="1556280" y="40640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3925800">
              <a:off x="2980080" y="43574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3925800">
              <a:off x="3468240" y="40640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3925800">
              <a:off x="4960440" y="434952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3925800">
              <a:off x="5456160" y="40640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3925800">
              <a:off x="7101360" y="45050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3925800">
              <a:off x="7594920" y="42174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7779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76840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74984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795000" y="1752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cxnSp>
        <p:nvCxnSpPr>
          <p:cNvPr id="489" name=""/>
          <p:cNvCxnSpPr>
            <a:stCxn id="485" idx="3"/>
            <a:endCxn id="486" idx="1"/>
          </p:cNvCxnSpPr>
          <p:nvPr/>
        </p:nvCxnSpPr>
        <p:spPr>
          <a:xfrm>
            <a:off x="1514160" y="1979280"/>
            <a:ext cx="1222920" cy="1080"/>
          </a:xfrm>
          <a:prstGeom prst="straightConnector1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</p:cxnSp>
      <p:cxnSp>
        <p:nvCxnSpPr>
          <p:cNvPr id="490" name=""/>
          <p:cNvCxnSpPr>
            <a:stCxn id="486" idx="3"/>
            <a:endCxn id="487" idx="1"/>
          </p:cNvCxnSpPr>
          <p:nvPr/>
        </p:nvCxnSpPr>
        <p:spPr>
          <a:xfrm>
            <a:off x="3504960" y="1979280"/>
            <a:ext cx="1213560" cy="1080"/>
          </a:xfrm>
          <a:prstGeom prst="straightConnector1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</p:cxnSp>
      <p:cxnSp>
        <p:nvCxnSpPr>
          <p:cNvPr id="491" name=""/>
          <p:cNvCxnSpPr>
            <a:stCxn id="487" idx="3"/>
            <a:endCxn id="488" idx="1"/>
          </p:cNvCxnSpPr>
          <p:nvPr/>
        </p:nvCxnSpPr>
        <p:spPr>
          <a:xfrm>
            <a:off x="5486040" y="1979640"/>
            <a:ext cx="1220040" cy="2160"/>
          </a:xfrm>
          <a:prstGeom prst="straightConnector1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Progress Diagram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5562720" y="2819520"/>
            <a:ext cx="2819160" cy="28191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33cc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352680" y="2819520"/>
            <a:ext cx="2819520" cy="2819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9999ff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86c05a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6c05a"/>
              </a:gs>
              <a:gs pos="100000">
                <a:srgbClr val="3d582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ccff"/>
              </a:gs>
              <a:gs pos="100000">
                <a:srgbClr val="175e75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Block Diagram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627120" y="1752480"/>
          <a:ext cx="7734240" cy="3505320"/>
        </p:xfrm>
        <a:graphic>
          <a:graphicData uri="http://schemas.openxmlformats.org/drawingml/2006/table">
            <a:tbl>
              <a:tblPr/>
              <a:tblGrid>
                <a:gridCol w="1041480"/>
                <a:gridCol w="2019240"/>
                <a:gridCol w="374760"/>
                <a:gridCol w="2043000"/>
                <a:gridCol w="357120"/>
                <a:gridCol w="1898640"/>
              </a:tblGrid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99ccff"/>
                      </a:solidFill>
                    </a:lnR>
                    <a:lnT>
                      <a:noFill/>
                    </a:lnT>
                    <a:lnB w="5760">
                      <a:solidFill>
                        <a:srgbClr val="99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8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80000"/>
                      </a:srgbClr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33cc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99cc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86c05a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</a:t>
                      </a:r>
                      <a:endParaRPr b="0" lang="en-US" sz="1200" spc="-1" strike="noStrike">
                        <a:solidFill>
                          <a:srgbClr val="99c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c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99ccff"/>
                      </a:solidFill>
                    </a:lnT>
                    <a:lnB w="5760">
                      <a:solidFill>
                        <a:srgbClr val="99c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Table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 rot="13770000">
            <a:off x="4912920" y="3960720"/>
            <a:ext cx="960480" cy="1922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20856000">
            <a:off x="2923920" y="3508200"/>
            <a:ext cx="1009440" cy="173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3862440" y="2202120"/>
            <a:ext cx="1697400" cy="1836000"/>
            <a:chOff x="3862440" y="2202120"/>
            <a:chExt cx="1697400" cy="1836000"/>
          </a:xfrm>
        </p:grpSpPr>
        <p:sp>
          <p:nvSpPr>
            <p:cNvPr id="505" name=""/>
            <p:cNvSpPr/>
            <p:nvPr/>
          </p:nvSpPr>
          <p:spPr>
            <a:xfrm rot="18394200">
              <a:off x="5032800" y="2413800"/>
              <a:ext cx="594000" cy="131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3862440" y="2454120"/>
              <a:ext cx="1609560" cy="1584000"/>
              <a:chOff x="3862440" y="2454120"/>
              <a:chExt cx="1609560" cy="1584000"/>
            </a:xfrm>
          </p:grpSpPr>
          <p:sp>
            <p:nvSpPr>
              <p:cNvPr id="507" name=""/>
              <p:cNvSpPr/>
              <p:nvPr/>
            </p:nvSpPr>
            <p:spPr>
              <a:xfrm>
                <a:off x="3862440" y="2454120"/>
                <a:ext cx="1609560" cy="158400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13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508" name="未知"/>
              <p:cNvSpPr/>
              <p:nvPr/>
            </p:nvSpPr>
            <p:spPr>
              <a:xfrm>
                <a:off x="4046400" y="2480400"/>
                <a:ext cx="1241640" cy="597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3949200" y="3143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5272200" y="1519200"/>
            <a:ext cx="891720" cy="861840"/>
            <a:chOff x="5272200" y="1519200"/>
            <a:chExt cx="891720" cy="861840"/>
          </a:xfrm>
        </p:grpSpPr>
        <p:grpSp>
          <p:nvGrpSpPr>
            <p:cNvPr id="511" name=""/>
            <p:cNvGrpSpPr/>
            <p:nvPr/>
          </p:nvGrpSpPr>
          <p:grpSpPr>
            <a:xfrm>
              <a:off x="5272200" y="1519200"/>
              <a:ext cx="871560" cy="861840"/>
              <a:chOff x="5272200" y="1519200"/>
              <a:chExt cx="871560" cy="861840"/>
            </a:xfrm>
          </p:grpSpPr>
          <p:sp>
            <p:nvSpPr>
              <p:cNvPr id="512" name=""/>
              <p:cNvSpPr/>
              <p:nvPr/>
            </p:nvSpPr>
            <p:spPr>
              <a:xfrm>
                <a:off x="5272200" y="1519200"/>
                <a:ext cx="871560" cy="86184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3131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513" name="未知"/>
              <p:cNvSpPr/>
              <p:nvPr/>
            </p:nvSpPr>
            <p:spPr>
              <a:xfrm>
                <a:off x="5371560" y="1533240"/>
                <a:ext cx="672480" cy="32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5292720" y="1851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oncept</a:t>
              </a:r>
              <a:endParaRPr b="0" lang="en-US" sz="1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447920" y="2844720"/>
            <a:ext cx="1744560" cy="1790640"/>
            <a:chOff x="1447920" y="2844720"/>
            <a:chExt cx="1744560" cy="1790640"/>
          </a:xfrm>
        </p:grpSpPr>
        <p:grpSp>
          <p:nvGrpSpPr>
            <p:cNvPr id="516" name=""/>
            <p:cNvGrpSpPr/>
            <p:nvPr/>
          </p:nvGrpSpPr>
          <p:grpSpPr>
            <a:xfrm>
              <a:off x="1447920" y="2844720"/>
              <a:ext cx="1744560" cy="1790640"/>
              <a:chOff x="1447920" y="2844720"/>
              <a:chExt cx="1744560" cy="1790640"/>
            </a:xfrm>
          </p:grpSpPr>
          <p:sp>
            <p:nvSpPr>
              <p:cNvPr id="517" name=""/>
              <p:cNvSpPr/>
              <p:nvPr/>
            </p:nvSpPr>
            <p:spPr>
              <a:xfrm>
                <a:off x="1447920" y="2844720"/>
                <a:ext cx="1744560" cy="17906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d311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518" name="未知"/>
              <p:cNvSpPr/>
              <p:nvPr/>
            </p:nvSpPr>
            <p:spPr>
              <a:xfrm>
                <a:off x="1647360" y="2874240"/>
                <a:ext cx="1345680" cy="67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1542240" y="363996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5203800" y="4105440"/>
            <a:ext cx="2013120" cy="1989000"/>
            <a:chOff x="5203800" y="4105440"/>
            <a:chExt cx="2013120" cy="1989000"/>
          </a:xfrm>
        </p:grpSpPr>
        <p:grpSp>
          <p:nvGrpSpPr>
            <p:cNvPr id="521" name=""/>
            <p:cNvGrpSpPr/>
            <p:nvPr/>
          </p:nvGrpSpPr>
          <p:grpSpPr>
            <a:xfrm>
              <a:off x="5203800" y="4105440"/>
              <a:ext cx="2013120" cy="1989000"/>
              <a:chOff x="5203800" y="4105440"/>
              <a:chExt cx="2013120" cy="1989000"/>
            </a:xfrm>
          </p:grpSpPr>
          <p:sp>
            <p:nvSpPr>
              <p:cNvPr id="522" name=""/>
              <p:cNvSpPr/>
              <p:nvPr/>
            </p:nvSpPr>
            <p:spPr>
              <a:xfrm>
                <a:off x="5203800" y="4105440"/>
                <a:ext cx="2013120" cy="198900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61e6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523" name="未知"/>
              <p:cNvSpPr/>
              <p:nvPr/>
            </p:nvSpPr>
            <p:spPr>
              <a:xfrm>
                <a:off x="5433840" y="4138200"/>
                <a:ext cx="1553040" cy="750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5492160" y="496728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3-D Pie Chart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1194840" y="1325880"/>
            <a:ext cx="6879600" cy="4804560"/>
            <a:chOff x="1194840" y="1325880"/>
            <a:chExt cx="6879600" cy="4804560"/>
          </a:xfrm>
        </p:grpSpPr>
        <p:sp>
          <p:nvSpPr>
            <p:cNvPr id="527" name=""/>
            <p:cNvSpPr/>
            <p:nvPr/>
          </p:nvSpPr>
          <p:spPr>
            <a:xfrm>
              <a:off x="2262240" y="4465440"/>
              <a:ext cx="5562720" cy="1325520"/>
            </a:xfrm>
            <a:prstGeom prst="ellipse">
              <a:avLst/>
            </a:prstGeom>
            <a:solidFill>
              <a:srgbClr val="000134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20601600">
              <a:off x="1536840" y="235224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20601600">
              <a:off x="1593720" y="219024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20601600">
              <a:off x="1508040" y="217620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 rot="20602200">
              <a:off x="1486080" y="220716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20601600">
              <a:off x="1517760" y="218736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rot="20602200">
              <a:off x="1500120" y="219492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20601600">
              <a:off x="3054600" y="290484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9880" y="3127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275000" y="22129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951160" y="2670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8" name="未知"/>
            <p:cNvSpPr/>
            <p:nvPr/>
          </p:nvSpPr>
          <p:spPr>
            <a:xfrm>
              <a:off x="6377040" y="320328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20539200">
              <a:off x="1512360" y="220572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0" name="未知"/>
            <p:cNvSpPr/>
            <p:nvPr/>
          </p:nvSpPr>
          <p:spPr>
            <a:xfrm>
              <a:off x="4676760" y="368460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951160" y="36604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98680" y="44226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29356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20601600">
              <a:off x="3156120" y="315756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6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45" name="未知"/>
            <p:cNvSpPr/>
            <p:nvPr/>
          </p:nvSpPr>
          <p:spPr>
            <a:xfrm>
              <a:off x="4853160" y="407988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2484360" y="6453360"/>
            <a:ext cx="4392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3335400" y="4875120"/>
            <a:ext cx="5274720" cy="1308240"/>
            <a:chOff x="3335400" y="4875120"/>
            <a:chExt cx="5274720" cy="1308240"/>
          </a:xfrm>
        </p:grpSpPr>
        <p:sp>
          <p:nvSpPr>
            <p:cNvPr id="549" name="未知"/>
            <p:cNvSpPr/>
            <p:nvPr/>
          </p:nvSpPr>
          <p:spPr>
            <a:xfrm>
              <a:off x="7679880" y="4875120"/>
              <a:ext cx="930240" cy="130680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646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50" name="未知"/>
            <p:cNvSpPr/>
            <p:nvPr/>
          </p:nvSpPr>
          <p:spPr>
            <a:xfrm>
              <a:off x="3756600" y="4875120"/>
              <a:ext cx="4335120" cy="5565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4040a1"/>
                </a:gs>
                <a:gs pos="100000">
                  <a:srgbClr val="66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51" name="未知"/>
            <p:cNvSpPr/>
            <p:nvPr/>
          </p:nvSpPr>
          <p:spPr>
            <a:xfrm>
              <a:off x="3335400" y="5428800"/>
              <a:ext cx="4785120" cy="7545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9898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3849840" y="4092480"/>
            <a:ext cx="4179240" cy="1181160"/>
            <a:chOff x="3849840" y="4092480"/>
            <a:chExt cx="4179240" cy="1181160"/>
          </a:xfrm>
        </p:grpSpPr>
        <p:sp>
          <p:nvSpPr>
            <p:cNvPr id="553" name="未知"/>
            <p:cNvSpPr/>
            <p:nvPr/>
          </p:nvSpPr>
          <p:spPr>
            <a:xfrm>
              <a:off x="7206840" y="4092480"/>
              <a:ext cx="822240" cy="1181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94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4261680" y="4092480"/>
              <a:ext cx="3256920" cy="41580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5a43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3849840" y="4506840"/>
              <a:ext cx="3781440" cy="76644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85e5c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343400" y="3313080"/>
            <a:ext cx="3107880" cy="1027080"/>
            <a:chOff x="4343400" y="3313080"/>
            <a:chExt cx="3107880" cy="1027080"/>
          </a:xfrm>
        </p:grpSpPr>
        <p:sp>
          <p:nvSpPr>
            <p:cNvPr id="557" name="未知"/>
            <p:cNvSpPr/>
            <p:nvPr/>
          </p:nvSpPr>
          <p:spPr>
            <a:xfrm>
              <a:off x="6731640" y="3313080"/>
              <a:ext cx="719640" cy="10270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b1790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58" name="未知"/>
            <p:cNvSpPr/>
            <p:nvPr/>
          </p:nvSpPr>
          <p:spPr>
            <a:xfrm>
              <a:off x="4762080" y="3313080"/>
              <a:ext cx="2174760" cy="27720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734e05"/>
                </a:gs>
                <a:gs pos="100000">
                  <a:srgbClr val="f4a70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59" name="未知"/>
            <p:cNvSpPr/>
            <p:nvPr/>
          </p:nvSpPr>
          <p:spPr>
            <a:xfrm>
              <a:off x="4343400" y="3588840"/>
              <a:ext cx="2813760" cy="75096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f8d4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4844880" y="2525760"/>
            <a:ext cx="2025360" cy="893880"/>
            <a:chOff x="4844880" y="2525760"/>
            <a:chExt cx="2025360" cy="893880"/>
          </a:xfrm>
        </p:grpSpPr>
        <p:sp>
          <p:nvSpPr>
            <p:cNvPr id="561" name="未知"/>
            <p:cNvSpPr/>
            <p:nvPr/>
          </p:nvSpPr>
          <p:spPr>
            <a:xfrm>
              <a:off x="6250680" y="2525760"/>
              <a:ext cx="619560" cy="89388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9938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62" name="未知"/>
            <p:cNvSpPr/>
            <p:nvPr/>
          </p:nvSpPr>
          <p:spPr>
            <a:xfrm>
              <a:off x="5271480" y="2525760"/>
              <a:ext cx="1084680" cy="1339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622481"/>
                </a:gs>
                <a:gs pos="100000">
                  <a:srgbClr val="c247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63" name="未知"/>
            <p:cNvSpPr/>
            <p:nvPr/>
          </p:nvSpPr>
          <p:spPr>
            <a:xfrm>
              <a:off x="4844880" y="2658240"/>
              <a:ext cx="1831320" cy="76104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dfa2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5342040" y="1738440"/>
            <a:ext cx="948960" cy="757080"/>
            <a:chOff x="5342040" y="1738440"/>
            <a:chExt cx="948960" cy="757080"/>
          </a:xfrm>
        </p:grpSpPr>
        <p:sp>
          <p:nvSpPr>
            <p:cNvPr id="565" name="未知"/>
            <p:cNvSpPr/>
            <p:nvPr/>
          </p:nvSpPr>
          <p:spPr>
            <a:xfrm>
              <a:off x="5766480" y="1738440"/>
              <a:ext cx="524520" cy="75708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0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66" name="未知"/>
            <p:cNvSpPr/>
            <p:nvPr/>
          </p:nvSpPr>
          <p:spPr>
            <a:xfrm>
              <a:off x="5342040" y="1738440"/>
              <a:ext cx="850320" cy="75708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9dc4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1294920" y="1828800"/>
            <a:ext cx="4419720" cy="4328640"/>
            <a:chOff x="1294920" y="1828800"/>
            <a:chExt cx="4419720" cy="4328640"/>
          </a:xfrm>
        </p:grpSpPr>
        <p:sp>
          <p:nvSpPr>
            <p:cNvPr id="568" name=""/>
            <p:cNvSpPr/>
            <p:nvPr/>
          </p:nvSpPr>
          <p:spPr>
            <a:xfrm flipH="1">
              <a:off x="1295280" y="6156000"/>
              <a:ext cx="1957680" cy="144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1294920" y="5283360"/>
              <a:ext cx="2526840" cy="144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1294920" y="4378680"/>
              <a:ext cx="2966040" cy="144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1294920" y="3489480"/>
              <a:ext cx="3472200" cy="108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1294920" y="2593800"/>
              <a:ext cx="3976200" cy="144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1295280" y="1828800"/>
              <a:ext cx="4419360" cy="108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582560" y="1716120"/>
            <a:ext cx="1800" cy="75240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582560" y="2516040"/>
            <a:ext cx="1800" cy="88740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582560" y="3451320"/>
            <a:ext cx="1800" cy="88884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582560" y="4387680"/>
            <a:ext cx="1800" cy="88920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582560" y="5319720"/>
            <a:ext cx="1800" cy="82080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635840" y="19130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635840" y="28274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635840" y="3741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635840" y="4656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635840" y="5570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482440" y="2112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482440" y="2951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482440" y="3865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482440" y="47800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482440" y="56944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Contents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21160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8be67"/>
              </a:gs>
              <a:gs pos="50000">
                <a:srgbClr val="d7f0dd"/>
              </a:gs>
              <a:gs pos="100000">
                <a:srgbClr val="48be67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21718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8018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78fcb"/>
              </a:gs>
              <a:gs pos="50000">
                <a:srgbClr val="aed1e9"/>
              </a:gs>
              <a:gs pos="100000">
                <a:srgbClr val="378fcb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28576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34876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8be67"/>
              </a:gs>
              <a:gs pos="50000">
                <a:srgbClr val="d7f0dd"/>
              </a:gs>
              <a:gs pos="100000">
                <a:srgbClr val="48be67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35434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41734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78fcb"/>
              </a:gs>
              <a:gs pos="50000">
                <a:srgbClr val="aed1e9"/>
              </a:gs>
              <a:gs pos="100000">
                <a:srgbClr val="378fcb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42292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4859280"/>
            <a:ext cx="457200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8be67"/>
              </a:gs>
              <a:gs pos="50000">
                <a:srgbClr val="d7f0dd"/>
              </a:gs>
              <a:gs pos="100000">
                <a:srgbClr val="48be67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4915080"/>
            <a:ext cx="26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895480" y="1677960"/>
            <a:ext cx="122400" cy="4030560"/>
            <a:chOff x="2895480" y="1677960"/>
            <a:chExt cx="122400" cy="4030560"/>
          </a:xfrm>
        </p:grpSpPr>
        <p:sp>
          <p:nvSpPr>
            <p:cNvPr id="98" name=""/>
            <p:cNvSpPr/>
            <p:nvPr/>
          </p:nvSpPr>
          <p:spPr>
            <a:xfrm>
              <a:off x="2896920" y="1677960"/>
              <a:ext cx="117720" cy="38088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2579760"/>
              <a:ext cx="111240" cy="16992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00160" y="3260520"/>
              <a:ext cx="111240" cy="16992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96920" y="3946320"/>
              <a:ext cx="111240" cy="16992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96920" y="4630680"/>
              <a:ext cx="111240" cy="16992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00160" y="5327640"/>
              <a:ext cx="117720" cy="38088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894280" y="1676520"/>
            <a:ext cx="125280" cy="4030560"/>
            <a:chOff x="5894280" y="1676520"/>
            <a:chExt cx="125280" cy="4030560"/>
          </a:xfrm>
        </p:grpSpPr>
        <p:sp>
          <p:nvSpPr>
            <p:cNvPr id="105" name=""/>
            <p:cNvSpPr/>
            <p:nvPr/>
          </p:nvSpPr>
          <p:spPr>
            <a:xfrm>
              <a:off x="5895720" y="1676520"/>
              <a:ext cx="117720" cy="38088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94280" y="2578320"/>
              <a:ext cx="120600" cy="17604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98960" y="3259080"/>
              <a:ext cx="120600" cy="17640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95720" y="3944880"/>
              <a:ext cx="120960" cy="17640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95720" y="4629240"/>
              <a:ext cx="120960" cy="17640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98960" y="5326200"/>
              <a:ext cx="117720" cy="380880"/>
            </a:xfrm>
            <a:prstGeom prst="rect">
              <a:avLst/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286000" y="5697360"/>
            <a:ext cx="4495680" cy="152640"/>
          </a:xfrm>
          <a:prstGeom prst="rect">
            <a:avLst/>
          </a:prstGeom>
          <a:gradFill rotWithShape="0">
            <a:gsLst>
              <a:gs pos="0">
                <a:srgbClr val="5f87d7">
                  <a:alpha val="0"/>
                </a:srgbClr>
              </a:gs>
              <a:gs pos="50000">
                <a:srgbClr val="2b3e63">
                  <a:alpha val="58039"/>
                </a:srgbClr>
              </a:gs>
              <a:gs pos="100000">
                <a:srgbClr val="5f87d7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9cc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F4CE-C4A4-4C0E-B520-8B31B88F2B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133720" y="335268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981080" y="2514600"/>
            <a:ext cx="5105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f87d7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f87d7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Hot Tip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6760" y="1371240"/>
            <a:ext cx="8132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6c0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99ccff"/>
                </a:solidFill>
                <a:latin typeface="Verdana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99ccff"/>
                </a:solidFill>
                <a:latin typeface="Verdana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99ccff"/>
                </a:solidFill>
                <a:latin typeface="Verdana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or </a:t>
            </a:r>
            <a:r>
              <a:rPr b="0" lang="en-US" sz="2400" spc="-1" strike="noStrike">
                <a:solidFill>
                  <a:srgbClr val="99ccff"/>
                </a:solidFill>
                <a:latin typeface="Verdana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15000" y="3471840"/>
            <a:ext cx="2057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2f0fe"/>
              </a:gs>
            </a:gsLst>
            <a:lin ang="54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adcd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0" name="未知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7eac9"/>
              </a:gs>
              <a:gs pos="100000">
                <a:srgbClr val="86c0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048120" y="1552680"/>
            <a:ext cx="2998440" cy="1601280"/>
            <a:chOff x="3048120" y="1552680"/>
            <a:chExt cx="2998440" cy="1601280"/>
          </a:xfrm>
        </p:grpSpPr>
        <p:grpSp>
          <p:nvGrpSpPr>
            <p:cNvPr id="122" name=""/>
            <p:cNvGrpSpPr/>
            <p:nvPr/>
          </p:nvGrpSpPr>
          <p:grpSpPr>
            <a:xfrm>
              <a:off x="3048120" y="1695600"/>
              <a:ext cx="2998440" cy="1458360"/>
              <a:chOff x="3048120" y="1695600"/>
              <a:chExt cx="2998440" cy="1458360"/>
            </a:xfrm>
          </p:grpSpPr>
          <p:sp>
            <p:nvSpPr>
              <p:cNvPr id="123" name=""/>
              <p:cNvSpPr/>
              <p:nvPr/>
            </p:nvSpPr>
            <p:spPr>
              <a:xfrm>
                <a:off x="3080880" y="174204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4a4a7b"/>
                  </a:gs>
                  <a:gs pos="100000">
                    <a:srgbClr val="99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048120" y="169560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d0d0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18924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86c05a"/>
                </a:gs>
                <a:gs pos="100000">
                  <a:srgbClr val="3d58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24160" y="156060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d3e8c4"/>
                </a:gs>
                <a:gs pos="100000">
                  <a:srgbClr val="86c05a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51160" y="157320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86c05a">
                    <a:alpha val="48235"/>
                  </a:srgbClr>
                </a:gs>
                <a:gs pos="100000">
                  <a:srgbClr val="6997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82920" y="160020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86c05a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ff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Cycle Diagram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523880" y="1600200"/>
            <a:ext cx="1752480" cy="4267080"/>
            <a:chOff x="1523880" y="1600200"/>
            <a:chExt cx="1752480" cy="4267080"/>
          </a:xfrm>
        </p:grpSpPr>
        <p:sp>
          <p:nvSpPr>
            <p:cNvPr id="132" name=""/>
            <p:cNvSpPr/>
            <p:nvPr/>
          </p:nvSpPr>
          <p:spPr>
            <a:xfrm>
              <a:off x="1600200" y="3200400"/>
              <a:ext cx="1600200" cy="26668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6880"/>
                <a:gd name="textAreaBottom" fmla="*/ 2629800 h 2666880"/>
              </a:gdLst>
              <a:ahLst/>
              <a:rect l="textAreaLeft" t="textAreaTop" r="textAreaRight" b="textAreaBottom"/>
              <a:pathLst>
                <a:path w="21600" h="35995">
                  <a:moveTo>
                    <a:pt x="1714" y="0"/>
                  </a:moveTo>
                  <a:arcTo wR="1714" hR="1714" stAng="16200000" swAng="-5400000"/>
                  <a:lnTo>
                    <a:pt x="0" y="34281"/>
                  </a:lnTo>
                  <a:arcTo wR="1714" hR="1714" stAng="10800000" swAng="-5400000"/>
                  <a:lnTo>
                    <a:pt x="19886" y="3599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3a5792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17640" y="38862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3880" y="1600200"/>
              <a:ext cx="1752480" cy="2057400"/>
            </a:xfrm>
            <a:custGeom>
              <a:avLst/>
              <a:gdLst>
                <a:gd name="textAreaLeft" fmla="*/ 89640 w 1752480"/>
                <a:gd name="textAreaRight" fmla="*/ 1662840 w 175248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7">
                  <a:moveTo>
                    <a:pt x="3782" y="0"/>
                  </a:moveTo>
                  <a:arcTo wR="3782" hR="3782" stAng="16200000" swAng="-5400000"/>
                  <a:lnTo>
                    <a:pt x="0" y="21575"/>
                  </a:lnTo>
                  <a:arcTo wR="3782" hR="3782" stAng="10800000" swAng="-5400000"/>
                  <a:lnTo>
                    <a:pt x="17818" y="25357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4e9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65280" y="3092400"/>
              <a:ext cx="167616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92bb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65280" y="1622520"/>
              <a:ext cx="167616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ddff2"/>
                </a:gs>
                <a:gs pos="100000">
                  <a:srgbClr val="4e91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82880" y="193500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40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709640" y="553320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8cffe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059520" y="2286000"/>
            <a:ext cx="1712880" cy="3581280"/>
            <a:chOff x="6059520" y="2286000"/>
            <a:chExt cx="1712880" cy="3581280"/>
          </a:xfrm>
        </p:grpSpPr>
        <p:sp>
          <p:nvSpPr>
            <p:cNvPr id="140" name=""/>
            <p:cNvSpPr/>
            <p:nvPr/>
          </p:nvSpPr>
          <p:spPr>
            <a:xfrm>
              <a:off x="6121440" y="3657600"/>
              <a:ext cx="1600200" cy="22096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09680"/>
                <a:gd name="textAreaBottom" fmla="*/ 2172600 h 2209680"/>
              </a:gdLst>
              <a:ahLst/>
              <a:rect l="textAreaLeft" t="textAreaTop" r="textAreaRight" b="textAreaBottom"/>
              <a:pathLst>
                <a:path w="21600" h="29825">
                  <a:moveTo>
                    <a:pt x="1714" y="0"/>
                  </a:moveTo>
                  <a:arcTo wR="1714" hR="1714" stAng="16200000" swAng="-5400000"/>
                  <a:lnTo>
                    <a:pt x="0" y="28111"/>
                  </a:lnTo>
                  <a:arcTo wR="1714" hR="1714" stAng="10800000" swAng="-5400000"/>
                  <a:lnTo>
                    <a:pt x="19886" y="2982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6a5a0b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39240" y="431172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59520" y="2286000"/>
              <a:ext cx="1712880" cy="1901880"/>
            </a:xfrm>
            <a:custGeom>
              <a:avLst/>
              <a:gdLst>
                <a:gd name="textAreaLeft" fmla="*/ 87840 w 1712880"/>
                <a:gd name="textAreaRight" fmla="*/ 1625040 w 1712880"/>
                <a:gd name="textAreaTop" fmla="*/ 87840 h 1901880"/>
                <a:gd name="textAreaBottom" fmla="*/ 1814040 h 1901880"/>
              </a:gdLst>
              <a:ahLst/>
              <a:rect l="textAreaLeft" t="textAreaTop" r="textAreaRight" b="textAreaBottom"/>
              <a:pathLst>
                <a:path w="21600" h="23983">
                  <a:moveTo>
                    <a:pt x="3782" y="0"/>
                  </a:moveTo>
                  <a:arcTo wR="3782" hR="3782" stAng="16200000" swAng="-5400000"/>
                  <a:lnTo>
                    <a:pt x="0" y="20201"/>
                  </a:lnTo>
                  <a:arcTo wR="3782" hR="3782" stAng="10800000" swAng="-5400000"/>
                  <a:lnTo>
                    <a:pt x="17818" y="2398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b59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99120" y="3665520"/>
              <a:ext cx="1639800" cy="471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dacf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9120" y="2306520"/>
              <a:ext cx="1639800" cy="470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ce6d0"/>
                </a:gs>
                <a:gs pos="100000">
                  <a:srgbClr val="b59f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55240" y="274320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0" lang="en-US" sz="40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6248520" y="556200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3d4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835440" y="1905120"/>
            <a:ext cx="1727280" cy="3961800"/>
            <a:chOff x="3835440" y="1905120"/>
            <a:chExt cx="1727280" cy="3961800"/>
          </a:xfrm>
        </p:grpSpPr>
        <p:sp>
          <p:nvSpPr>
            <p:cNvPr id="148" name=""/>
            <p:cNvSpPr/>
            <p:nvPr/>
          </p:nvSpPr>
          <p:spPr>
            <a:xfrm>
              <a:off x="3911760" y="3504960"/>
              <a:ext cx="1600200" cy="236196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1960"/>
                <a:gd name="textAreaBottom" fmla="*/ 2324880 h 2361960"/>
              </a:gdLst>
              <a:ahLst/>
              <a:rect l="textAreaLeft" t="textAreaTop" r="textAreaRight" b="textAreaBottom"/>
              <a:pathLst>
                <a:path w="21600" h="31880">
                  <a:moveTo>
                    <a:pt x="1714" y="0"/>
                  </a:moveTo>
                  <a:arcTo wR="1714" hR="1714" stAng="16200000" swAng="-5400000"/>
                  <a:lnTo>
                    <a:pt x="0" y="30166"/>
                  </a:lnTo>
                  <a:arcTo wR="1714" hR="1714" stAng="10800000" swAng="-5400000"/>
                  <a:lnTo>
                    <a:pt x="19886" y="3188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35440" y="1905120"/>
              <a:ext cx="1727280" cy="1980720"/>
            </a:xfrm>
            <a:custGeom>
              <a:avLst/>
              <a:gdLst>
                <a:gd name="textAreaLeft" fmla="*/ 88560 w 1727280"/>
                <a:gd name="textAreaRight" fmla="*/ 1638720 w 1727280"/>
                <a:gd name="textAreaTop" fmla="*/ 88560 h 1980720"/>
                <a:gd name="textAreaBottom" fmla="*/ 1892160 h 1980720"/>
              </a:gdLst>
              <a:ahLst/>
              <a:rect l="textAreaLeft" t="textAreaTop" r="textAreaRight" b="textAreaBottom"/>
              <a:pathLst>
                <a:path w="21600" h="24769">
                  <a:moveTo>
                    <a:pt x="3782" y="0"/>
                  </a:moveTo>
                  <a:arcTo wR="3782" hR="3782" stAng="16200000" swAng="-5400000"/>
                  <a:lnTo>
                    <a:pt x="0" y="20987"/>
                  </a:lnTo>
                  <a:arcTo wR="3782" hR="3782" stAng="10800000" swAng="-5400000"/>
                  <a:lnTo>
                    <a:pt x="17818" y="2476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34b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76840" y="3342960"/>
              <a:ext cx="1650960" cy="491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b034">
                    <a:alpha val="0"/>
                  </a:srgbClr>
                </a:gs>
                <a:gs pos="100000">
                  <a:srgbClr val="a2da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76840" y="1928520"/>
              <a:ext cx="1650960" cy="490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ff1df"/>
                </a:gs>
                <a:gs pos="100000">
                  <a:srgbClr val="34b0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29200" y="411444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94440" y="236196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0" lang="en-US" sz="4000" spc="-1" strike="noStrike">
                <a:solidFill>
                  <a:srgbClr val="99c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038480" y="5562360"/>
              <a:ext cx="1371600" cy="228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ceda9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Diagram 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8fe2fe">
                  <a:alpha val="12156"/>
                </a:srgbClr>
              </a:gs>
              <a:gs pos="100000">
                <a:srgbClr val="33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33ccff"/>
              </a:gs>
              <a:gs pos="100000">
                <a:srgbClr val="8fe2fe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33ccff"/>
              </a:gs>
              <a:gs pos="100000">
                <a:srgbClr val="8fe2fe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464675"/>
              </a:gs>
              <a:gs pos="50000">
                <a:srgbClr val="9999ff"/>
              </a:gs>
              <a:gs pos="100000">
                <a:srgbClr val="46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8fe2fe">
                  <a:alpha val="12156"/>
                </a:srgbClr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75e75"/>
              </a:gs>
              <a:gs pos="50000">
                <a:srgbClr val="33ccff"/>
              </a:gs>
              <a:gs pos="100000">
                <a:srgbClr val="17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d5829"/>
              </a:gs>
              <a:gs pos="50000">
                <a:srgbClr val="86c05a"/>
              </a:gs>
              <a:gs pos="100000">
                <a:srgbClr val="3d58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d5829"/>
              </a:gs>
              <a:gs pos="50000">
                <a:srgbClr val="86c05a"/>
              </a:gs>
              <a:gs pos="100000">
                <a:srgbClr val="3d58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d5829"/>
              </a:gs>
              <a:gs pos="50000">
                <a:srgbClr val="86c05a"/>
              </a:gs>
              <a:gs pos="100000">
                <a:srgbClr val="3d58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917800" y="1981080"/>
            <a:ext cx="3156840" cy="2841480"/>
            <a:chOff x="2917800" y="1981080"/>
            <a:chExt cx="3156840" cy="2841480"/>
          </a:xfrm>
        </p:grpSpPr>
        <p:sp>
          <p:nvSpPr>
            <p:cNvPr id="182" name=""/>
            <p:cNvSpPr/>
            <p:nvPr/>
          </p:nvSpPr>
          <p:spPr>
            <a:xfrm flipH="1" rot="16200000">
              <a:off x="2836080" y="3089520"/>
              <a:ext cx="490680" cy="32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e5267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rot="5400000">
              <a:off x="5664960" y="3035160"/>
              <a:ext cx="490680" cy="32796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e5267"/>
                </a:gs>
                <a:gs pos="100000">
                  <a:srgbClr val="99cc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rot="10800000">
              <a:off x="4251960" y="4495680"/>
              <a:ext cx="48996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e5267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23440" y="1981080"/>
              <a:ext cx="256968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69600" y="2125440"/>
              <a:ext cx="22755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03520" y="2260440"/>
              <a:ext cx="200808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3520" y="2260440"/>
              <a:ext cx="200808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35640" y="2392200"/>
              <a:ext cx="1744200" cy="174312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35640" y="2392200"/>
              <a:ext cx="174420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16000" y="3047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6453360"/>
            <a:ext cx="4392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01" name="未知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71d"/>
              </a:gs>
              <a:gs pos="50000">
                <a:srgbClr val="00563f"/>
              </a:gs>
              <a:gs pos="100000">
                <a:srgbClr val="0027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2" name="未知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3" name="未知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0743"/>
              </a:gs>
              <a:gs pos="50000">
                <a:srgbClr val="4b1092"/>
              </a:gs>
              <a:gs pos="100000">
                <a:srgbClr val="2207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4" name="未知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5" name="未知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21704"/>
              </a:gs>
              <a:gs pos="50000">
                <a:srgbClr val="90330a"/>
              </a:gs>
              <a:gs pos="100000">
                <a:srgbClr val="4217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6" name="未知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7" name="未知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7" name="未知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906a"/>
              </a:gs>
              <a:gs pos="100000">
                <a:srgbClr val="00684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c2eb8"/>
              </a:gs>
              <a:gs pos="50000">
                <a:srgbClr val="8041ff"/>
              </a:gs>
              <a:gs pos="100000">
                <a:srgbClr val="5c2e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0" name="未知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9e5139"/>
              </a:gs>
              <a:gs pos="50000">
                <a:srgbClr val="dc7150"/>
              </a:gs>
              <a:gs pos="100000">
                <a:srgbClr val="9e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847880"/>
            <a:ext cx="4222800" cy="719280"/>
          </a:xfrm>
          <a:prstGeom prst="rect">
            <a:avLst/>
          </a:prstGeom>
          <a:gradFill rotWithShape="0">
            <a:gsLst>
              <a:gs pos="0">
                <a:srgbClr val="e98931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668760" y="1573200"/>
            <a:ext cx="1098000" cy="1001520"/>
            <a:chOff x="3668760" y="1573200"/>
            <a:chExt cx="1098000" cy="1001520"/>
          </a:xfrm>
        </p:grpSpPr>
        <p:grpSp>
          <p:nvGrpSpPr>
            <p:cNvPr id="230" name=""/>
            <p:cNvGrpSpPr/>
            <p:nvPr/>
          </p:nvGrpSpPr>
          <p:grpSpPr>
            <a:xfrm>
              <a:off x="3668760" y="1573200"/>
              <a:ext cx="1098000" cy="1001520"/>
              <a:chOff x="3668760" y="1573200"/>
              <a:chExt cx="1098000" cy="1001520"/>
            </a:xfrm>
          </p:grpSpPr>
          <p:sp>
            <p:nvSpPr>
              <p:cNvPr id="231" name=""/>
              <p:cNvSpPr/>
              <p:nvPr/>
            </p:nvSpPr>
            <p:spPr>
              <a:xfrm>
                <a:off x="3668760" y="1573200"/>
                <a:ext cx="1098000" cy="10015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33b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232" name="未知"/>
              <p:cNvSpPr/>
              <p:nvPr/>
            </p:nvSpPr>
            <p:spPr>
              <a:xfrm>
                <a:off x="3794040" y="1589760"/>
                <a:ext cx="847080" cy="3780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4046400" y="168444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57200" y="2030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979720"/>
            <a:ext cx="4665600" cy="719280"/>
          </a:xfrm>
          <a:prstGeom prst="rect">
            <a:avLst/>
          </a:prstGeom>
          <a:gradFill rotWithShape="0">
            <a:gsLst>
              <a:gs pos="0">
                <a:srgbClr val="418aeb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316400" y="2727360"/>
            <a:ext cx="1087200" cy="1006200"/>
            <a:chOff x="4316400" y="2727360"/>
            <a:chExt cx="1087200" cy="1006200"/>
          </a:xfrm>
        </p:grpSpPr>
        <p:grpSp>
          <p:nvGrpSpPr>
            <p:cNvPr id="237" name=""/>
            <p:cNvGrpSpPr/>
            <p:nvPr/>
          </p:nvGrpSpPr>
          <p:grpSpPr>
            <a:xfrm>
              <a:off x="4316400" y="2727360"/>
              <a:ext cx="1087200" cy="1006200"/>
              <a:chOff x="4316400" y="2727360"/>
              <a:chExt cx="1087200" cy="1006200"/>
            </a:xfrm>
          </p:grpSpPr>
          <p:sp>
            <p:nvSpPr>
              <p:cNvPr id="238" name=""/>
              <p:cNvSpPr/>
              <p:nvPr/>
            </p:nvSpPr>
            <p:spPr>
              <a:xfrm>
                <a:off x="4316400" y="2727360"/>
                <a:ext cx="1087200" cy="100620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152d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4440600" y="2743920"/>
                <a:ext cx="838800" cy="3798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4657320" y="28656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B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066680" y="318456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4091040"/>
            <a:ext cx="5686560" cy="720720"/>
          </a:xfrm>
          <a:prstGeom prst="rect">
            <a:avLst/>
          </a:prstGeom>
          <a:gradFill rotWithShape="0">
            <a:gsLst>
              <a:gs pos="0">
                <a:srgbClr val="9942e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021280" y="3809880"/>
            <a:ext cx="1098000" cy="1012680"/>
            <a:chOff x="5021280" y="3809880"/>
            <a:chExt cx="1098000" cy="1012680"/>
          </a:xfrm>
        </p:grpSpPr>
        <p:grpSp>
          <p:nvGrpSpPr>
            <p:cNvPr id="244" name=""/>
            <p:cNvGrpSpPr/>
            <p:nvPr/>
          </p:nvGrpSpPr>
          <p:grpSpPr>
            <a:xfrm>
              <a:off x="5021280" y="3809880"/>
              <a:ext cx="1098000" cy="1012680"/>
              <a:chOff x="5021280" y="3809880"/>
              <a:chExt cx="1098000" cy="1012680"/>
            </a:xfrm>
          </p:grpSpPr>
          <p:sp>
            <p:nvSpPr>
              <p:cNvPr id="245" name=""/>
              <p:cNvSpPr/>
              <p:nvPr/>
            </p:nvSpPr>
            <p:spPr>
              <a:xfrm>
                <a:off x="5021280" y="3809880"/>
                <a:ext cx="1098000" cy="1012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2518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  <p:sp>
            <p:nvSpPr>
              <p:cNvPr id="246" name="未知"/>
              <p:cNvSpPr/>
              <p:nvPr/>
            </p:nvSpPr>
            <p:spPr>
              <a:xfrm>
                <a:off x="5146560" y="3826440"/>
                <a:ext cx="847080" cy="381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ccff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5441400" y="386424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C</a:t>
              </a:r>
              <a:endParaRPr b="0" lang="en-US" sz="24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828800" y="42670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5214960"/>
            <a:ext cx="6392880" cy="719280"/>
          </a:xfrm>
          <a:prstGeom prst="rect">
            <a:avLst/>
          </a:prstGeom>
          <a:gradFill rotWithShape="0">
            <a:gsLst>
              <a:gs pos="0">
                <a:srgbClr val="33ad8a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678640" y="4952880"/>
            <a:ext cx="1103040" cy="1019160"/>
            <a:chOff x="5678640" y="4952880"/>
            <a:chExt cx="1103040" cy="1019160"/>
          </a:xfrm>
        </p:grpSpPr>
        <p:sp>
          <p:nvSpPr>
            <p:cNvPr id="251" name=""/>
            <p:cNvSpPr/>
            <p:nvPr/>
          </p:nvSpPr>
          <p:spPr>
            <a:xfrm>
              <a:off x="5678640" y="4952880"/>
              <a:ext cx="1103040" cy="10191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c313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5804640" y="4969800"/>
              <a:ext cx="851040" cy="3844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ccff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6128640" y="50198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38280" y="5405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72200" y="1676520"/>
            <a:ext cx="2514600" cy="1981080"/>
          </a:xfrm>
          <a:prstGeom prst="wedgeRoundRectCallout">
            <a:avLst>
              <a:gd name="adj1" fmla="val -44759"/>
              <a:gd name="adj2" fmla="val 84694"/>
              <a:gd name="adj3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 here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2:04:1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5:26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NXTAG2">
    <vt:lpwstr>0008007003000000000001024140</vt:lpwstr>
  </property>
</Properties>
</file>