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295-7795-48B8-82DC-5EDA9F32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1A0-BA6C-4173-A4F3-2D7B7B1C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0BA-29E5-40CD-9BD4-159F3409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312-60BB-4BFA-97C6-EDFCEEE0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2B3-3A9D-43CC-B904-47C3E3F6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2F6-1E55-4435-BC66-6BADC735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17A-5B56-4A82-BC02-75213A17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4AB-EF84-4E1D-863E-384ED012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69A-D343-4432-93BA-6DC362B5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D1D-C2F7-486E-A43E-690BEBF7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FA9-B8FD-4777-9911-F43FDD4E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83D-840E-4782-A690-E9CE1AD7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8E1A-B811-47B5-ACFD-1C202852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132000" y="3284640"/>
            <a:ext cx="57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74640" y="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叶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851280" y="3284640"/>
            <a:ext cx="4467240" cy="647640"/>
            <a:chOff x="3851280" y="3284640"/>
            <a:chExt cx="4467240" cy="64764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3851280" y="3284640"/>
              <a:ext cx="644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00720" y="3861000"/>
              <a:ext cx="381780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427640" y="4941720"/>
            <a:ext cx="4467240" cy="647640"/>
            <a:chOff x="4427640" y="4941720"/>
            <a:chExt cx="4467240" cy="6476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4427640" y="4941720"/>
              <a:ext cx="644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077080" y="5516280"/>
              <a:ext cx="381780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348000" y="1700280"/>
            <a:ext cx="4537080" cy="647640"/>
            <a:chOff x="3348000" y="1700280"/>
            <a:chExt cx="4537080" cy="64764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3348000" y="1700280"/>
              <a:ext cx="644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067280" y="2276640"/>
              <a:ext cx="381780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67280" y="1916280"/>
              <a:ext cx="38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572000" y="3500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51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50920" y="3500280"/>
            <a:ext cx="2376720" cy="208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0faa4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9956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3995640" y="4221000"/>
            <a:ext cx="1152720" cy="432000"/>
          </a:xfrm>
          <a:custGeom>
            <a:avLst/>
            <a:gdLst>
              <a:gd name="textAreaLeft" fmla="*/ 207360 w 1152720"/>
              <a:gd name="textAreaRight" fmla="*/ 835560 w 1152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74" hR="21600" stAng="10800000" swAng="5400000"/>
                <a:lnTo>
                  <a:pt x="11771" y="0"/>
                </a:lnTo>
                <a:arcTo wR="7774" hR="21600" stAng="-5400000" swAng="4257768"/>
                <a:lnTo>
                  <a:pt x="21541" y="18938"/>
                </a:lnTo>
                <a:lnTo>
                  <a:pt x="17547" y="21600"/>
                </a:lnTo>
                <a:lnTo>
                  <a:pt x="13434" y="18938"/>
                </a:lnTo>
                <a:lnTo>
                  <a:pt x="15489" y="18938"/>
                </a:lnTo>
                <a:arcTo wR="7774" hR="21600" stAng="-1142232" swAng="-3929636"/>
                <a:lnTo>
                  <a:pt x="9773" y="726"/>
                </a:lnTo>
                <a:arcTo wR="7774" hR="21600" stAng="-5728133" swAng="-5071867"/>
                <a:close/>
              </a:path>
              <a:path fill="darkenLess" w="21600" h="21600">
                <a:moveTo>
                  <a:pt x="0" y="21600"/>
                </a:moveTo>
                <a:arcTo wR="7774" hR="21600" stAng="10800000" swAng="5400000"/>
                <a:lnTo>
                  <a:pt x="7774" y="0"/>
                </a:lnTo>
                <a:arcTo wR="7774" hR="21600" stAng="-5400000" swAng="328133"/>
                <a:lnTo>
                  <a:pt x="9773" y="726"/>
                </a:lnTo>
                <a:arcTo wR="7774" hR="21600" stAng="-5728133" swAng="-5071867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3500280"/>
            <a:ext cx="2376720" cy="208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aa4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69956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5364000" y="3141360"/>
            <a:ext cx="1152360" cy="43200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1052640"/>
            <a:ext cx="237672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aa4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9956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1844640"/>
            <a:ext cx="1152360" cy="43200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028000" y="189000"/>
            <a:ext cx="930240" cy="6405480"/>
            <a:chOff x="8028000" y="189000"/>
            <a:chExt cx="930240" cy="6405480"/>
          </a:xfrm>
        </p:grpSpPr>
        <p:sp>
          <p:nvSpPr>
            <p:cNvPr id="66" name="未知"/>
            <p:cNvSpPr/>
            <p:nvPr/>
          </p:nvSpPr>
          <p:spPr>
            <a:xfrm>
              <a:off x="8244000" y="3357720"/>
              <a:ext cx="406440" cy="2592360"/>
            </a:xfrm>
            <a:custGeom>
              <a:avLst/>
              <a:gdLst/>
              <a:ahLst/>
              <a:rect l="l" t="t" r="r" b="b"/>
              <a:pathLst>
                <a:path w="256" h="1361">
                  <a:moveTo>
                    <a:pt x="105" y="0"/>
                  </a:moveTo>
                  <a:cubicBezTo>
                    <a:pt x="180" y="109"/>
                    <a:pt x="256" y="219"/>
                    <a:pt x="241" y="363"/>
                  </a:cubicBezTo>
                  <a:cubicBezTo>
                    <a:pt x="226" y="507"/>
                    <a:pt x="30" y="696"/>
                    <a:pt x="15" y="862"/>
                  </a:cubicBezTo>
                  <a:cubicBezTo>
                    <a:pt x="0" y="1028"/>
                    <a:pt x="128" y="1278"/>
                    <a:pt x="151" y="136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8292960" y="765360"/>
              <a:ext cx="406440" cy="2376360"/>
            </a:xfrm>
            <a:custGeom>
              <a:avLst/>
              <a:gdLst/>
              <a:ahLst/>
              <a:rect l="l" t="t" r="r" b="b"/>
              <a:pathLst>
                <a:path w="256" h="1361">
                  <a:moveTo>
                    <a:pt x="105" y="0"/>
                  </a:moveTo>
                  <a:cubicBezTo>
                    <a:pt x="180" y="109"/>
                    <a:pt x="256" y="219"/>
                    <a:pt x="241" y="363"/>
                  </a:cubicBezTo>
                  <a:cubicBezTo>
                    <a:pt x="226" y="507"/>
                    <a:pt x="30" y="696"/>
                    <a:pt x="15" y="862"/>
                  </a:cubicBezTo>
                  <a:cubicBezTo>
                    <a:pt x="0" y="1028"/>
                    <a:pt x="128" y="1278"/>
                    <a:pt x="151" y="136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8028000" y="189000"/>
              <a:ext cx="930240" cy="934920"/>
              <a:chOff x="8028000" y="189000"/>
              <a:chExt cx="930240" cy="934920"/>
            </a:xfrm>
          </p:grpSpPr>
          <p:pic>
            <p:nvPicPr>
              <p:cNvPr id="69" name="" descr="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>
                <a:off x="8028000" y="189000"/>
                <a:ext cx="93024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8315280" y="405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汉仪娃娃篆简"/>
                    <a:ea typeface="汉仪娃娃篆简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8028000" y="2781360"/>
              <a:ext cx="928800" cy="934920"/>
              <a:chOff x="8028000" y="2781360"/>
              <a:chExt cx="928800" cy="934920"/>
            </a:xfrm>
          </p:grpSpPr>
          <p:pic>
            <p:nvPicPr>
              <p:cNvPr id="72" name="" descr="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>
                <a:off x="8028000" y="2781360"/>
                <a:ext cx="92880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8317080" y="299736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华康少女文字(P) - Kelvin"/>
                    <a:ea typeface="华康少女文字(P) - Kelvi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8028000" y="5661000"/>
              <a:ext cx="928800" cy="933480"/>
              <a:chOff x="8028000" y="5661000"/>
              <a:chExt cx="928800" cy="933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>
                <a:off x="8028000" y="5661000"/>
                <a:ext cx="92880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8291520" y="592128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华康少女文字(P) - Kelvin"/>
                    <a:ea typeface="华康少女文字(P) - Kelvi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8028000" y="-1176480"/>
            <a:ext cx="928800" cy="933480"/>
            <a:chOff x="8028000" y="-1176480"/>
            <a:chExt cx="928800" cy="933480"/>
          </a:xfrm>
        </p:grpSpPr>
        <p:pic>
          <p:nvPicPr>
            <p:cNvPr id="78" name="" descr=""/>
            <p:cNvPicPr/>
            <p:nvPr/>
          </p:nvPicPr>
          <p:blipFill>
            <a:blip r:embed="rId8"/>
            <a:stretch/>
          </p:blipFill>
          <p:spPr>
            <a:xfrm>
              <a:off x="8028000" y="-1176480"/>
              <a:ext cx="92880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317080" y="-9604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汉仪娃娃篆简"/>
                  <a:ea typeface="汉仪娃娃篆简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050920" y="1052640"/>
            <a:ext cx="237672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0faa4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69956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12916 L 0.00173 0.1963 E">
                                      <p:cBhvr>
                                        <p:cTn id="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028000" y="189000"/>
            <a:ext cx="930240" cy="6405480"/>
            <a:chOff x="8028000" y="189000"/>
            <a:chExt cx="930240" cy="6405480"/>
          </a:xfrm>
        </p:grpSpPr>
        <p:sp>
          <p:nvSpPr>
            <p:cNvPr id="84" name="未知"/>
            <p:cNvSpPr/>
            <p:nvPr/>
          </p:nvSpPr>
          <p:spPr>
            <a:xfrm>
              <a:off x="8244000" y="3357720"/>
              <a:ext cx="406440" cy="2592360"/>
            </a:xfrm>
            <a:custGeom>
              <a:avLst/>
              <a:gdLst/>
              <a:ahLst/>
              <a:rect l="l" t="t" r="r" b="b"/>
              <a:pathLst>
                <a:path w="256" h="1361">
                  <a:moveTo>
                    <a:pt x="105" y="0"/>
                  </a:moveTo>
                  <a:cubicBezTo>
                    <a:pt x="180" y="109"/>
                    <a:pt x="256" y="219"/>
                    <a:pt x="241" y="363"/>
                  </a:cubicBezTo>
                  <a:cubicBezTo>
                    <a:pt x="226" y="507"/>
                    <a:pt x="30" y="696"/>
                    <a:pt x="15" y="862"/>
                  </a:cubicBezTo>
                  <a:cubicBezTo>
                    <a:pt x="0" y="1028"/>
                    <a:pt x="128" y="1278"/>
                    <a:pt x="151" y="136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8292960" y="765360"/>
              <a:ext cx="406440" cy="2376360"/>
            </a:xfrm>
            <a:custGeom>
              <a:avLst/>
              <a:gdLst/>
              <a:ahLst/>
              <a:rect l="l" t="t" r="r" b="b"/>
              <a:pathLst>
                <a:path w="256" h="1361">
                  <a:moveTo>
                    <a:pt x="105" y="0"/>
                  </a:moveTo>
                  <a:cubicBezTo>
                    <a:pt x="180" y="109"/>
                    <a:pt x="256" y="219"/>
                    <a:pt x="241" y="363"/>
                  </a:cubicBezTo>
                  <a:cubicBezTo>
                    <a:pt x="226" y="507"/>
                    <a:pt x="30" y="696"/>
                    <a:pt x="15" y="862"/>
                  </a:cubicBezTo>
                  <a:cubicBezTo>
                    <a:pt x="0" y="1028"/>
                    <a:pt x="128" y="1278"/>
                    <a:pt x="151" y="136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028000" y="189000"/>
              <a:ext cx="930240" cy="934920"/>
              <a:chOff x="8028000" y="189000"/>
              <a:chExt cx="930240" cy="934920"/>
            </a:xfrm>
          </p:grpSpPr>
          <p:pic>
            <p:nvPicPr>
              <p:cNvPr id="87" name="" descr="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>
                <a:off x="8028000" y="189000"/>
                <a:ext cx="93024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8315280" y="405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汉仪娃娃篆简"/>
                    <a:ea typeface="汉仪娃娃篆简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8028000" y="2781360"/>
              <a:ext cx="928800" cy="934920"/>
              <a:chOff x="8028000" y="2781360"/>
              <a:chExt cx="928800" cy="934920"/>
            </a:xfrm>
          </p:grpSpPr>
          <p:pic>
            <p:nvPicPr>
              <p:cNvPr id="90" name="" descr="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>
                <a:off x="8028000" y="2781360"/>
                <a:ext cx="92880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8317080" y="299736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华康少女文字(P) - Kelvin"/>
                    <a:ea typeface="华康少女文字(P) - Kelvi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8028000" y="5661000"/>
              <a:ext cx="928800" cy="933480"/>
              <a:chOff x="8028000" y="5661000"/>
              <a:chExt cx="928800" cy="933480"/>
            </a:xfrm>
          </p:grpSpPr>
          <p:pic>
            <p:nvPicPr>
              <p:cNvPr id="93" name="" descr="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>
                <a:off x="8028000" y="5661000"/>
                <a:ext cx="92880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8291520" y="592128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华康少女文字(P) - Kelvin"/>
                    <a:ea typeface="华康少女文字(P) - Kelvi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8028000" y="189000"/>
            <a:ext cx="92880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17080" y="40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44000" y="3054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康少女文字(P) - Kelvin"/>
                <a:ea typeface="华康少女文字(P) - Kelvi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1916280"/>
            <a:ext cx="2520720" cy="3384360"/>
          </a:xfrm>
          <a:prstGeom prst="rightArrowCallout">
            <a:avLst>
              <a:gd name="adj1" fmla="val 33568"/>
              <a:gd name="adj2" fmla="val 33565"/>
              <a:gd name="adj3" fmla="val 16667"/>
              <a:gd name="adj4" fmla="val 66667"/>
            </a:avLst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844640"/>
            <a:ext cx="1655640" cy="33847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1844640"/>
            <a:ext cx="2520720" cy="3384720"/>
          </a:xfrm>
          <a:prstGeom prst="rightArrowCallout">
            <a:avLst>
              <a:gd name="adj1" fmla="val 33572"/>
              <a:gd name="adj2" fmla="val 33569"/>
              <a:gd name="adj3" fmla="val 16667"/>
              <a:gd name="adj4" fmla="val 6666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1.85185E-006 C 0.00416 0.02986 0.01736 0.05996 0.01475 0.09838 C 0.01215 0.13681 -0.02188 0.18241 -0.02448 0.2294 C -0.02709 0.27662 -0.00487 0.35533 -0.00087 0.38334 E">
                                      <p:cBhvr>
                                        <p:cTn id="4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028000" y="189000"/>
            <a:ext cx="930240" cy="6405480"/>
            <a:chOff x="8028000" y="189000"/>
            <a:chExt cx="930240" cy="6405480"/>
          </a:xfrm>
        </p:grpSpPr>
        <p:sp>
          <p:nvSpPr>
            <p:cNvPr id="104" name="未知"/>
            <p:cNvSpPr/>
            <p:nvPr/>
          </p:nvSpPr>
          <p:spPr>
            <a:xfrm>
              <a:off x="8244000" y="3357720"/>
              <a:ext cx="406440" cy="2592360"/>
            </a:xfrm>
            <a:custGeom>
              <a:avLst/>
              <a:gdLst/>
              <a:ahLst/>
              <a:rect l="l" t="t" r="r" b="b"/>
              <a:pathLst>
                <a:path w="256" h="1361">
                  <a:moveTo>
                    <a:pt x="105" y="0"/>
                  </a:moveTo>
                  <a:cubicBezTo>
                    <a:pt x="180" y="109"/>
                    <a:pt x="256" y="219"/>
                    <a:pt x="241" y="363"/>
                  </a:cubicBezTo>
                  <a:cubicBezTo>
                    <a:pt x="226" y="507"/>
                    <a:pt x="30" y="696"/>
                    <a:pt x="15" y="862"/>
                  </a:cubicBezTo>
                  <a:cubicBezTo>
                    <a:pt x="0" y="1028"/>
                    <a:pt x="128" y="1278"/>
                    <a:pt x="151" y="136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8292960" y="765360"/>
              <a:ext cx="406440" cy="2376360"/>
            </a:xfrm>
            <a:custGeom>
              <a:avLst/>
              <a:gdLst/>
              <a:ahLst/>
              <a:rect l="l" t="t" r="r" b="b"/>
              <a:pathLst>
                <a:path w="256" h="1361">
                  <a:moveTo>
                    <a:pt x="105" y="0"/>
                  </a:moveTo>
                  <a:cubicBezTo>
                    <a:pt x="180" y="109"/>
                    <a:pt x="256" y="219"/>
                    <a:pt x="241" y="363"/>
                  </a:cubicBezTo>
                  <a:cubicBezTo>
                    <a:pt x="226" y="507"/>
                    <a:pt x="30" y="696"/>
                    <a:pt x="15" y="862"/>
                  </a:cubicBezTo>
                  <a:cubicBezTo>
                    <a:pt x="0" y="1028"/>
                    <a:pt x="128" y="1278"/>
                    <a:pt x="151" y="136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028000" y="189000"/>
              <a:ext cx="930240" cy="934920"/>
              <a:chOff x="8028000" y="189000"/>
              <a:chExt cx="930240" cy="9349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>
                <a:off x="8028000" y="189000"/>
                <a:ext cx="93024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8315280" y="405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汉仪娃娃篆简"/>
                    <a:ea typeface="汉仪娃娃篆简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8028000" y="2781360"/>
              <a:ext cx="928800" cy="934920"/>
              <a:chOff x="8028000" y="2781360"/>
              <a:chExt cx="928800" cy="934920"/>
            </a:xfrm>
          </p:grpSpPr>
          <p:pic>
            <p:nvPicPr>
              <p:cNvPr id="110" name="" descr="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>
                <a:off x="8028000" y="2781360"/>
                <a:ext cx="92880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8317080" y="299736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华康少女文字(P) - Kelvin"/>
                    <a:ea typeface="华康少女文字(P) - Kelvi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028000" y="5661000"/>
              <a:ext cx="928800" cy="933480"/>
              <a:chOff x="8028000" y="5661000"/>
              <a:chExt cx="928800" cy="9334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>
                <a:off x="8028000" y="5661000"/>
                <a:ext cx="92880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8291520" y="592128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华康少女文字(P) - Kelvin"/>
                    <a:ea typeface="华康少女文字(P) - Kelvi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8028000" y="2781360"/>
            <a:ext cx="928800" cy="933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317080" y="299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康少女文字(P) - Kelvin"/>
                <a:ea typeface="华康少女文字(P) - Kelvi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7080" y="5934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康少女文字(P) - Kelvin"/>
                <a:ea typeface="华康少女文字(P) - Kelvi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09480" y="609480"/>
            <a:ext cx="5410080" cy="1523880"/>
            <a:chOff x="609480" y="609480"/>
            <a:chExt cx="5410080" cy="1523880"/>
          </a:xfrm>
        </p:grpSpPr>
        <p:sp>
          <p:nvSpPr>
            <p:cNvPr id="119" name=""/>
            <p:cNvSpPr/>
            <p:nvPr/>
          </p:nvSpPr>
          <p:spPr>
            <a:xfrm>
              <a:off x="1218960" y="914400"/>
              <a:ext cx="4800600" cy="990360"/>
            </a:xfrm>
            <a:prstGeom prst="flowChartTerminator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(P) - Kelvin"/>
                </a:rPr>
                <a:t>示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09480" y="609480"/>
              <a:ext cx="1522440" cy="1523880"/>
              <a:chOff x="609480" y="609480"/>
              <a:chExt cx="1522440" cy="1523880"/>
            </a:xfrm>
          </p:grpSpPr>
          <p:sp>
            <p:nvSpPr>
              <p:cNvPr id="121" name=""/>
              <p:cNvSpPr/>
              <p:nvPr/>
            </p:nvSpPr>
            <p:spPr>
              <a:xfrm>
                <a:off x="609480" y="609480"/>
                <a:ext cx="1522440" cy="1523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838080"/>
                <a:ext cx="1042920" cy="10429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01560" y="2421000"/>
            <a:ext cx="5410080" cy="1523880"/>
            <a:chOff x="601560" y="2421000"/>
            <a:chExt cx="5410080" cy="1523880"/>
          </a:xfrm>
        </p:grpSpPr>
        <p:sp>
          <p:nvSpPr>
            <p:cNvPr id="124" name=""/>
            <p:cNvSpPr/>
            <p:nvPr/>
          </p:nvSpPr>
          <p:spPr>
            <a:xfrm>
              <a:off x="1211040" y="2725920"/>
              <a:ext cx="4800600" cy="990360"/>
            </a:xfrm>
            <a:prstGeom prst="flowChartTerminator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(P) - Kelvin"/>
                </a:rPr>
                <a:t>示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01560" y="2421000"/>
              <a:ext cx="1522440" cy="1523880"/>
              <a:chOff x="601560" y="2421000"/>
              <a:chExt cx="1522440" cy="1523880"/>
            </a:xfrm>
          </p:grpSpPr>
          <p:sp>
            <p:nvSpPr>
              <p:cNvPr id="126" name=""/>
              <p:cNvSpPr/>
              <p:nvPr/>
            </p:nvSpPr>
            <p:spPr>
              <a:xfrm>
                <a:off x="601560" y="2421000"/>
                <a:ext cx="1522440" cy="1523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30160" y="2649600"/>
                <a:ext cx="1042920" cy="10429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601560" y="4221000"/>
            <a:ext cx="5410080" cy="1523880"/>
            <a:chOff x="601560" y="4221000"/>
            <a:chExt cx="5410080" cy="1523880"/>
          </a:xfrm>
        </p:grpSpPr>
        <p:sp>
          <p:nvSpPr>
            <p:cNvPr id="129" name=""/>
            <p:cNvSpPr/>
            <p:nvPr/>
          </p:nvSpPr>
          <p:spPr>
            <a:xfrm>
              <a:off x="1211040" y="4525920"/>
              <a:ext cx="4800600" cy="990360"/>
            </a:xfrm>
            <a:prstGeom prst="flowChartTerminator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(P) - Kelvin"/>
                </a:rPr>
                <a:t>示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01560" y="4221000"/>
              <a:ext cx="1522440" cy="1523880"/>
              <a:chOff x="601560" y="4221000"/>
              <a:chExt cx="1522440" cy="1523880"/>
            </a:xfrm>
          </p:grpSpPr>
          <p:sp>
            <p:nvSpPr>
              <p:cNvPr id="131" name=""/>
              <p:cNvSpPr/>
              <p:nvPr/>
            </p:nvSpPr>
            <p:spPr>
              <a:xfrm>
                <a:off x="601560" y="4221000"/>
                <a:ext cx="1522440" cy="1523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0160" y="4449600"/>
                <a:ext cx="1042920" cy="10429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1835280" y="5950080"/>
            <a:ext cx="44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509 C 0.00763 0.0257 0.01753 0.05695 0.01354 0.09838 C 0.00954 0.13982 -0.02466 0.19028 -0.02587 0.24375 C -0.02709 0.29745 0.00052 0.39259 0.00573 0.42037 E">
                                      <p:cBhvr>
                                        <p:cTn id="5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2205000"/>
            <a:ext cx="568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lin ang="5400000"/>
                </a:gradFill>
                <a:latin typeface="华康少女文字(P) - Kelvin"/>
              </a:rPr>
              <a:t>Thank you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lin ang="5400000"/>
              </a:gradFill>
              <a:latin typeface="华康少女文字(P) - Kelvin"/>
              <a:ea typeface="华康少女文字(P) - Kelv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D90-AE23-4B47-ACBE-B5A5CD69C1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4T06:48:15Z</dcterms:created>
  <dc:creator>User</dc:creator>
  <dc:description/>
  <dc:language>en-US</dc:language>
  <cp:lastModifiedBy>User</cp:lastModifiedBy>
  <dcterms:modified xsi:type="dcterms:W3CDTF">2015-07-20T11:58:46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