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8B4-4EF2-461D-AA4E-F46D4021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850-4861-47A0-8638-7D26F8A4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6EA-08EF-423F-BCA9-0E2A5135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D4C-9ABC-4250-927A-588DC551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8B4A-10CE-4A63-AEDF-C5BF6D9E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E1E4-4D26-42A0-8A82-2C8E6C31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5D79-7D69-4597-91DD-04FF5D0E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C858-BEB3-466E-AFD2-9389B2B3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34D5-E90E-4634-BD00-A8841D37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77D7-99DB-470A-AE98-46DB801B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231-480C-4255-A138-FFD4C2B1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198-992F-472A-80CE-ECBF8F86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1AAE-880E-4184-B6A1-75184DEA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274B-81B8-4F66-B966-FB6577C2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68BD-F645-4C57-AA92-63916781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FF2B-976B-47A7-94FA-9014AAB7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0726-7E25-4AF3-BF0B-99AFD0CA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634-386D-4936-9338-EABB6DFE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83BD-927F-4C2F-98BF-3762EF6C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C91-F65D-4A4B-BB0A-FC60ABF0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22F-BCC8-4D94-B752-57380869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239-2565-4521-8248-BFA6B4A3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50B-071D-4A68-B3F8-15389A19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BED-F5BD-497F-AC3B-60719CCD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8F60-0D2E-40D5-8BB4-E9E63CF3225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71B2-1184-4AA3-AE3C-42EEDF5167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FBE1-E215-445B-AF47-4C333BDCDA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Freeform 3"/>
          <p:cNvSpPr/>
          <p:nvPr/>
        </p:nvSpPr>
        <p:spPr>
          <a:xfrm>
            <a:off x="517680" y="2425680"/>
            <a:ext cx="7997760" cy="247644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1082520" y="3629160"/>
            <a:ext cx="1133280" cy="1044000"/>
            <a:chOff x="1082520" y="3629160"/>
            <a:chExt cx="1133280" cy="1044000"/>
          </a:xfrm>
        </p:grpSpPr>
        <p:sp>
          <p:nvSpPr>
            <p:cNvPr id="85" name="Freeform 5"/>
            <p:cNvSpPr/>
            <p:nvPr/>
          </p:nvSpPr>
          <p:spPr>
            <a:xfrm>
              <a:off x="1194480" y="4433400"/>
              <a:ext cx="441360" cy="226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1497600" y="4350600"/>
              <a:ext cx="483480" cy="222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1811520" y="4485960"/>
              <a:ext cx="404280" cy="187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1082520" y="391104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1367280" y="3629160"/>
              <a:ext cx="371520" cy="939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707120" y="3926880"/>
              <a:ext cx="295200" cy="746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11" descr="161"/>
          <p:cNvPicPr/>
          <p:nvPr/>
        </p:nvPicPr>
        <p:blipFill>
          <a:blip r:embed="rId3"/>
          <a:stretch/>
        </p:blipFill>
        <p:spPr>
          <a:xfrm>
            <a:off x="7029360" y="150480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232"/>
          <p:cNvPicPr/>
          <p:nvPr/>
        </p:nvPicPr>
        <p:blipFill>
          <a:blip r:embed="rId4"/>
          <a:stretch/>
        </p:blipFill>
        <p:spPr>
          <a:xfrm>
            <a:off x="4976640" y="2143080"/>
            <a:ext cx="1062360" cy="928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133"/>
          <p:cNvPicPr/>
          <p:nvPr/>
        </p:nvPicPr>
        <p:blipFill>
          <a:blip r:embed="rId5"/>
          <a:stretch/>
        </p:blipFill>
        <p:spPr>
          <a:xfrm>
            <a:off x="3070080" y="2779560"/>
            <a:ext cx="1016280" cy="1159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4"/>
          <p:cNvGrpSpPr/>
          <p:nvPr/>
        </p:nvGrpSpPr>
        <p:grpSpPr>
          <a:xfrm>
            <a:off x="446040" y="4994280"/>
            <a:ext cx="1808280" cy="314280"/>
            <a:chOff x="446040" y="4994280"/>
            <a:chExt cx="1808280" cy="314280"/>
          </a:xfrm>
        </p:grpSpPr>
        <p:sp>
          <p:nvSpPr>
            <p:cNvPr id="95" name="AutoShape 15"/>
            <p:cNvSpPr/>
            <p:nvPr/>
          </p:nvSpPr>
          <p:spPr>
            <a:xfrm>
              <a:off x="446040" y="499428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16"/>
            <p:cNvSpPr/>
            <p:nvPr/>
          </p:nvSpPr>
          <p:spPr>
            <a:xfrm flipH="1">
              <a:off x="2164320" y="502092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AutoShape 17"/>
            <p:cNvSpPr/>
            <p:nvPr/>
          </p:nvSpPr>
          <p:spPr>
            <a:xfrm>
              <a:off x="456840" y="502200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18"/>
          <p:cNvSpPr/>
          <p:nvPr/>
        </p:nvSpPr>
        <p:spPr>
          <a:xfrm>
            <a:off x="439560" y="497196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87520" y="141300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517680" y="534816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2638440" y="464652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4641840" y="381960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6746760" y="2992320"/>
            <a:ext cx="1768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4"/>
          <p:cNvGrpSpPr/>
          <p:nvPr/>
        </p:nvGrpSpPr>
        <p:grpSpPr>
          <a:xfrm>
            <a:off x="2576520" y="4195800"/>
            <a:ext cx="1808280" cy="312840"/>
            <a:chOff x="2576520" y="4195800"/>
            <a:chExt cx="1808280" cy="312840"/>
          </a:xfrm>
        </p:grpSpPr>
        <p:sp>
          <p:nvSpPr>
            <p:cNvPr id="105" name="AutoShape 25"/>
            <p:cNvSpPr/>
            <p:nvPr/>
          </p:nvSpPr>
          <p:spPr>
            <a:xfrm>
              <a:off x="2576520" y="4195800"/>
              <a:ext cx="1808280" cy="31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6"/>
            <p:cNvSpPr/>
            <p:nvPr/>
          </p:nvSpPr>
          <p:spPr>
            <a:xfrm flipH="1">
              <a:off x="4294800" y="4222080"/>
              <a:ext cx="80640" cy="261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7"/>
            <p:cNvSpPr/>
            <p:nvPr/>
          </p:nvSpPr>
          <p:spPr>
            <a:xfrm>
              <a:off x="2587320" y="4223520"/>
              <a:ext cx="80280" cy="257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8"/>
          <p:cNvSpPr/>
          <p:nvPr/>
        </p:nvSpPr>
        <p:spPr>
          <a:xfrm>
            <a:off x="2643120" y="41734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9"/>
          <p:cNvGrpSpPr/>
          <p:nvPr/>
        </p:nvGrpSpPr>
        <p:grpSpPr>
          <a:xfrm>
            <a:off x="4606920" y="3382920"/>
            <a:ext cx="1806480" cy="314280"/>
            <a:chOff x="4606920" y="3382920"/>
            <a:chExt cx="1806480" cy="314280"/>
          </a:xfrm>
        </p:grpSpPr>
        <p:sp>
          <p:nvSpPr>
            <p:cNvPr id="110" name="AutoShape 30"/>
            <p:cNvSpPr/>
            <p:nvPr/>
          </p:nvSpPr>
          <p:spPr>
            <a:xfrm>
              <a:off x="4606920" y="3382920"/>
              <a:ext cx="18064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31"/>
            <p:cNvSpPr/>
            <p:nvPr/>
          </p:nvSpPr>
          <p:spPr>
            <a:xfrm flipH="1">
              <a:off x="6323400" y="340956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32"/>
            <p:cNvSpPr/>
            <p:nvPr/>
          </p:nvSpPr>
          <p:spPr>
            <a:xfrm>
              <a:off x="4617720" y="341064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8"/>
          <p:cNvSpPr/>
          <p:nvPr/>
        </p:nvSpPr>
        <p:spPr>
          <a:xfrm>
            <a:off x="4646520" y="336060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4"/>
          <p:cNvGrpSpPr/>
          <p:nvPr/>
        </p:nvGrpSpPr>
        <p:grpSpPr>
          <a:xfrm>
            <a:off x="6724800" y="2592360"/>
            <a:ext cx="1806480" cy="314280"/>
            <a:chOff x="6724800" y="2592360"/>
            <a:chExt cx="1806480" cy="314280"/>
          </a:xfrm>
        </p:grpSpPr>
        <p:sp>
          <p:nvSpPr>
            <p:cNvPr id="115" name="AutoShape 35"/>
            <p:cNvSpPr/>
            <p:nvPr/>
          </p:nvSpPr>
          <p:spPr>
            <a:xfrm>
              <a:off x="6724800" y="2592360"/>
              <a:ext cx="18064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36"/>
            <p:cNvSpPr/>
            <p:nvPr/>
          </p:nvSpPr>
          <p:spPr>
            <a:xfrm flipH="1">
              <a:off x="8441280" y="2619000"/>
              <a:ext cx="80640" cy="26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7"/>
            <p:cNvSpPr/>
            <p:nvPr/>
          </p:nvSpPr>
          <p:spPr>
            <a:xfrm>
              <a:off x="6735600" y="2620080"/>
              <a:ext cx="8028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79" y="854"/>
                    <a:pt x="4758" y="5080"/>
                    <a:pt x="4758" y="10800"/>
                  </a:cubicBezTo>
                  <a:cubicBezTo>
                    <a:pt x="4758" y="16520"/>
                    <a:pt x="13179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8"/>
          <p:cNvSpPr/>
          <p:nvPr/>
        </p:nvSpPr>
        <p:spPr>
          <a:xfrm>
            <a:off x="6748560" y="257004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76500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阶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16C5-A563-4C0D-B00C-29B137F777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9Z</dcterms:modified>
  <cp:revision>74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