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721-BB83-4BFB-A952-8380496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B2F-F0B8-4610-BB3D-983081C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005-B1B0-462C-B569-438577BF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48D-BF8B-4ACE-BCC4-2DABA460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19D-73EA-40CE-8DD2-668F6DD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305-A4AD-4B22-BF9F-AB3E892E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D59-AD8C-486D-AF9F-3D37DE8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30F-070B-452D-9042-448A19A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1BD-475D-49E5-8D78-93C50C3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3A5-80B3-444A-A5EC-7556BC4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450-FADF-41FA-9F3A-C0CC968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E43-73D7-41ED-903A-A50BED6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3FE-5B01-4389-BB38-17F2AD18F6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710-3AA6-42EE-A66C-91C4428861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5408640" y="-47484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471600" y="-63828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1824120" y="698832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13512960" y="240516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8160" y="4478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特效动态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0 -0.00162 L -0.23047 0.18842 L -0.26797 0.4787 L -0.20183 0.80416 L -0.09271 0.84537 L 0.12786 0.80416 L 0.22174 0.64352 L 0.37721 0.36898 C 0.37604 0.36296 0.37148 0.33541 0.36836 0.32569 C 0.3664 0.31967 0.36367 0.31435 0.36172 0.3081 C 0.36002 0.30254 0.35898 0.29629 0.35729 0.29051 C 0.35677 0.28842 0.35612 0.28611 0.35507 0.28449 C 0.35234 0.28032 0.34922 0.27685 0.34635 0.27291 C 0.34479 0.27083 0.34362 0.26805 0.34192 0.2669 C 0.33802 0.26412 0.33333 0.26111 0.32981 0.25717 C 0.32773 0.25486 0.32643 0.25115 0.32422 0.2493 C 0.31562 0.2419 0.30651 0.23657 0.29778 0.22963 C 0.28164 0.2169 0.29218 0.22222 0.28229 0.21782 C 0.27643 0.21875 0.26484 0.21967 0.25807 0.22176 C 0.25286 0.22361 0.25625 0.22453 0.25039 0.22777 C 0.24817 0.22893 0.24596 0.22893 0.24375 0.22963 C 0.2401 0.23102 0.23645 0.23333 0.23268 0.23356 C 0.21106 0.23518 0.18932 0.23495 0.16757 0.23565 C 0.1651 0.2375 0.1625 0.23958 0.15989 0.24143 C 0.15768 0.24305 0.15547 0.24375 0.15325 0.24537 C 0.15208 0.24629 0.1513 0.24861 0.15 0.2493 C 0.1457 0.25139 0.14114 0.25162 0.13672 0.25324 C 0.13554 0.2537 0.1345 0.25463 0.13346 0.25509 L 0.09036 0.24745 C 0.08932 0.24699 0.08815 0.24652 0.08711 0.24537 C 0.07265 0.22824 0.08216 0.23472 0.07382 0.22963 C 0.05677 0.23981 0.07031 0.23148 0.0375 0.25717 C 0.03489 0.25926 0.03229 0.26111 0.02981 0.26296 C 0.02799 0.26435 0.02617 0.2662 0.02422 0.2669 L 0.01536 0.27083 C 0.01289 0.26967 0.01015 0.26898 0.00768 0.2669 C -0.00091 0.25995 -0.00105 0.25324 -0.00664 0.2375 C -0.00938 0.21296 -0.00534 0.24328 -0.01107 0.21782 C -0.01172 0.21481 -0.01172 0.21134 -0.01211 0.2081 C -0.01146 0.19629 -0.01146 0.18426 -0.0099 0.17291 C -0.00964 0.17014 -0.00782 0.16875 -0.00664 0.1669 C -0.0056 0.16551 -0.00443 0.16412 -0.00339 0.16296 C -0.00026 0.15995 0.00338 0.1574 0.00664 0.15509 C 0.0181 0.14768 0.00937 0.1544 0.02539 0.14537 C 0.06263 0.1243 0.00599 0.15277 0.05507 0.12963 C 0.08294 0.11666 0.07395 0.11875 0.10911 0.10625 C 0.11614 0.1037 0.12317 0.10231 0.13007 0.10023 C 0.15221 0.09352 0.13099 0.09861 0.15 0.09444 C 0.15143 0.09375 0.15286 0.09305 0.15442 0.09236 C 0.18268 0.0824 0.2444 0.08657 0.247 0.08657 C 0.25364 0.08449 0.26028 0.08217 0.26692 0.08078 C 0.27161 0.07963 0.27656 0.07986 0.28125 0.0787 C 0.32005 0.06852 0.27435 0.07592 0.31106 0.07083 C 0.33294 0.06227 0.32409 0.06412 0.36289 0.06898 C 0.36523 0.06921 0.36718 0.07176 0.36953 0.07291 L 0.39153 0.08264 C 0.40104 0.08194 0.41067 0.08287 0.42018 0.08078 C 0.42174 0.08032 0.42838 0.06828 0.42903 0.0669 C 0.43398 0.05555 0.43112 0.05856 0.4345 0.04537 C 0.44205 0.01597 0.43346 0.06713 0.44231 0.01018 C 0.44388 -0.000229999999999999 0.44544 -0.01065 0.44674 -0.0213 C 0.44948 -0.04607 0.45442 -0.09584 0.45442 -0.09584 C 0.45442 -0.09676 0.45599 -0.1375 0.45664 -0.1426 C 0.4569 -0.14491 0.45807 -0.14653 0.45885 -0.14861 C 0.46966 -0.14468 0.45898 -0.14908 0.46979 -0.1426 C 0.47682 -0.13843 0.48385 -0.13496 0.49075 -0.13079 C 0.4927 -0.12963 0.4944 -0.12801 0.49635 -0.12685 C 0.49922 -0.12523 0.50221 -0.12454 0.50507 -0.12292 C 0.50846 -0.1213 0.51172 -0.11852 0.5151 -0.11713 C 0.52643 -0.11227 0.52057 -0.11783 0.52942 -0.1132 C 0.54596 -0.10486 0.53281 -0.10903 0.547 -0.10533 C 0.55078 -0.10209 0.55416 -0.09815 0.55807 -0.09584 C 0.56198 -0.09352 0.56614 -0.09306 0.57018 -0.0919 L 0.60547 -0.08218 C 0.62838 -0.06574 0.60494 -0.08033 0.64414 -0.07037 C 0.64544 -0.06991 0.64648 -0.06806 0.64739 -0.06644 C 0.65052 -0.06135 0.65625 -0.0507 0.65625 -0.0507 C 0.65664 -0.04885 0.65677 -0.04676 0.65729 -0.04491 C 0.66106 -0.03172 0.66015 -0.03935 0.66172 -0.02917 C 0.66289 -0.02199 0.6638 -0.01459 0.6651 -0.00764 C 0.66562 -0.00417 0.66666 -0.00116 0.66731 0.00231 C 0.66797 0.00648 0.66849 0.01527 0.66953 0.0199 C 0.67044 0.02407 0.67174 0.02777 0.67278 0.03171 C 0.67552 0.06134 0.67356 0.04768 0.67825 0.07291 C 0.67864 0.07801 0.67877 0.08333 0.67942 0.08842 C 0.67981 0.0919 0.68086 0.09514 0.68164 0.09838 C 0.68398 0.10995 0.68099 0.09838 0.68489 0.11203 C 0.69453 0.17639 0.69192 0.14838 0.68828 0.26296 C 0.68802 0.26805 0.68593 0.27222 0.68489 0.27685 C 0.68333 0.28379 0.68203 0.2912 0.68047 0.29838 C 0.67981 0.30764 0.67916 0.32176 0.67604 0.32963 C 0.67539 0.33171 0.67448 0.33333 0.67382 0.33565 C 0.67291 0.33935 0.67226 0.34328 0.67174 0.34745 C 0.67005 0.35787 0.67122 0.3581 0.66836 0.36898 C 0.66601 0.37754 0.66341 0.38611 0.66067 0.39444 C 0.65755 0.4037 0.65455 0.41342 0.65078 0.42176 L 0.6375 0.45115 C 0.63476 0.46597 0.63841 0.44791 0.63424 0.46296 C 0.62994 0.47824 0.63997 0.45648 0.6276 0.48449 C 0.62565 0.48889 0.62291 0.4919 0.62096 0.49629 C 0.62083 0.49652 0.61041 0.52176 0.60768 0.52384 C 0.60403 0.52639 0.60039 0.5294 0.59674 0.53171 C 0.59492 0.53264 0.59297 0.53287 0.59114 0.53356 C 0.58164 0.5449 0.59375 0.53148 0.5845 0.53958 C 0.58333 0.54051 0.58255 0.54282 0.58125 0.54352 C 0.57656 0.54606 0.57161 0.54699 0.56692 0.5493 C 0.56497 0.55023 0.56328 0.55208 0.56132 0.55324 C 0.55403 0.5574 0.54622 0.55879 0.53932 0.56504 C 0.53711 0.5669 0.53502 0.56898 0.53268 0.57083 C 0.52994 0.57315 0.52682 0.57384 0.52382 0.57477 C 0.51692 0.58402 0.52083 0.57847 0.51289 0.59236 L 0.5095 0.59838 C 0.50846 0.60023 0.50716 0.60185 0.50625 0.60416 C 0.50481 0.6081 0.50351 0.6125 0.50182 0.61597 C 0.49882 0.62222 0.49427 0.62639 0.49192 0.63356 C 0.49101 0.63634 0.48515 0.65416 0.48424 0.65509 C 0.47994 0.66018 0.48216 0.65833 0.4776 0.66111 C 0.47187 0.70717 0.4733 0.68819 0.47643 0.77477 C 0.47682 0.78402 0.47864 0.79305 0.47981 0.80231 C 0.4802 0.81828 0.48268 0.8581 0.47864 0.87685 C 0.47812 0.87916 0.47578 0.87801 0.47422 0.8787 C 0.47057 0.88333 0.46705 0.88842 0.46328 0.89236 C 0.45976 0.89629 0.4556 0.89838 0.45221 0.90231 C 0.45039 0.90416 0.44935 0.90764 0.44778 0.91018 C 0.44349 0.9162 0.43906 0.92199 0.4345 0.92777 C 0.43125 0.93194 0.42825 0.93426 0.42461 0.9375 C 0.42174 0.94398 0.41731 0.9493 0.41575 0.95717 C 0.41185 0.97824 0.41497 0.97037 0.40807 0.98264 C 0.40703 0.98727 0.40625 0.99213 0.40481 0.99629 C 0.40364 0.99953 0.40208 1.00208 0.40039 1.00416 C 0.39505 1.01111 0.39414 1.01111 0.38932 1.01412 C 0.38229 1.01065 0.37526 1.0081 0.36836 1.00416 C 0.36705 1.00347 0.36614 1.00162 0.3651 1.00023 C 0.36132 0.99514 0.35781 0.98958 0.35403 0.98449 C 0.35117 0.98102 0.34791 0.9787 0.34518 0.97477 C 0.3427 0.97129 0.33854 0.96296 0.33854 0.96296 C 0.33828 0.96041 0.33776 0.95787 0.3375 0.95509 C 0.33698 0.9493 0.33737 0.94328 0.33632 0.9375 C 0.33554 0.9324 0.33333 0.92847 0.33203 0.92384 C 0.33151 0.92199 0.33151 0.91967 0.33086 0.91782 C 0.3289 0.9118 0.32708 0.91018 0.32539 0.90416 C 0.32448 0.90092 0.32369 0.89352 0.32317 0.89051 C 0.32252 0.88657 0.32174 0.88264 0.32096 0.8787 C 0.32031 0.87592 0.3194 0.87361 0.31875 0.87083 C 0.31718 0.86435 0.31575 0.85787 0.31432 0.85115 C 0.31393 0.8493 0.31354 0.84745 0.31328 0.84537 C 0.31276 0.84213 0.3125 0.83889 0.31211 0.83565 C 0.3125 0.81852 0.31224 0.80162 0.31328 0.78449 C 0.31341 0.78102 0.31471 0.77801 0.31549 0.77477 C 0.31744 0.76551 0.31536 0.77199 0.31875 0.76296 C 0.32096 0.70625 0.31797 0.75717 0.322 0.72176 C 0.32669 0.68171 0.32226 0.69953 0.3276 0.68078 L 0.32864 0.66898 E">
                                      <p:cBhvr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-0.03229 0.81945 C -0.03607 0.82014 -0.03997 0.82199 -0.04375 0.82153 C -0.04583 0.8213 -0.04765 0.81852 -0.04961 0.81736 C -0.05221 0.81598 -0.05495 0.81459 -0.05768 0.81343 C -0.0595 0.8125 -0.06146 0.81204 -0.06341 0.81135 C -0.06458 0.81065 -0.06575 0.80973 -0.06693 0.80926 C -0.06836 0.80857 -0.06992 0.80787 -0.07148 0.80718 C -0.07265 0.80648 -0.07383 0.80556 -0.075 0.8051 C -0.07708 0.80417 -0.08294 0.80255 -0.08528 0.80093 C -0.08698 0.8 -0.08828 0.79792 -0.08997 0.79699 C -0.0918 0.79584 -0.09375 0.7956 -0.0957 0.79491 C -0.09726 0.79422 -0.09883 0.79375 -0.10039 0.79283 C -0.11146 0.78635 -0.10052 0.79028 -0.11302 0.78658 C -0.11953 0.77894 -0.11367 0.78473 -0.12461 0.78056 C -0.12825 0.77917 -0.13242 0.77662 -0.13607 0.77431 C -0.13763 0.77223 -0.13906 0.76991 -0.14075 0.76829 C -0.1418 0.76713 -0.14323 0.76736 -0.14414 0.76621 C -0.14674 0.7625 -0.14844 0.75741 -0.15104 0.75394 C -0.15703 0.74584 -0.1539 0.74931 -0.16015 0.74352 C -0.16289 0.7375 -0.16484 0.7301 -0.16823 0.725 C -0.17174 0.72014 -0.17695 0.71227 -0.18099 0.7088 C -0.1832 0.70672 -0.18555 0.70602 -0.18789 0.70463 C -0.1914 0.68611 -0.18984 0.69676 -0.18672 0.65741 C -0.18581 0.64607 -0.18424 0.6382 -0.18099 0.62871 C -0.17995 0.6257 -0.17864 0.62315 -0.17747 0.62037 C -0.17656 0.61065 -0.17708 0.60787 -0.17409 0.6 C -0.17344 0.59838 -0.17252 0.59723 -0.17174 0.59584 C -0.17096 0.59167 -0.17044 0.5875 -0.1694 0.58357 C -0.16614 0.57084 -0.16523 0.5706 -0.16133 0.56088 C -0.15924 0.55556 -0.15794 0.55023 -0.15443 0.54653 C -0.15221 0.54422 -0.14765 0.53959 -0.14531 0.53635 C -0.14336 0.5338 -0.14166 0.53033 -0.13958 0.52824 C -0.13398 0.52223 -0.1345 0.52547 -0.12916 0.52199 C -0.1276 0.52084 -0.12617 0.51875 -0.12461 0.51783 C -0.12265 0.5169 -0.1207 0.5169 -0.11875 0.51574 C -0.1168 0.51482 -0.11497 0.51297 -0.11302 0.51181 C -0.11068 0.51019 -0.10807 0.50996 -0.10612 0.50764 C -0.10495 0.50625 -0.10364 0.5051 -0.1026 0.50348 C -0.10065 0.50023 -0.09687 0.49329 -0.09687 0.49329 C -0.09635 0.49074 -0.09349 0.47755 -0.09232 0.47477 C -0.0914 0.47292 -0.08997 0.47199 -0.0888 0.4706 C -0.08633 0.45741 -0.08958 0.47176 -0.08411 0.45834 C -0.0776 0.44213 -0.08502 0.45741 -0.08073 0.44398 C -0.07982 0.44098 -0.07838 0.43866 -0.07721 0.43588 C -0.07604 0.43241 -0.07487 0.42894 -0.07383 0.42547 C -0.07291 0.42292 -0.07252 0.41991 -0.07148 0.41736 C -0.07057 0.41505 -0.06914 0.41343 -0.06797 0.41111 C -0.0668 0.40857 -0.06562 0.40579 -0.06458 0.40301 C -0.06302 0.39885 -0.06263 0.39213 -0.05989 0.39074 L -0.05651 0.38866 C -0.04726 0.39005 -0.03789 0.38982 -0.02877 0.39283 C -0.02695 0.39329 -0.02578 0.39699 -0.02422 0.39885 C -0.02265 0.40047 -0.02083 0.40116 -0.01953 0.40301 C -0.01666 0.40718 -0.01419 0.4125 -0.01146 0.41736 C -0.00703 0.42523 -0.00742 0.42361 -0.00456 0.43172 C 0.00091 0.44746 0.00534 0.46412 0.01159 0.47894 C 0.01276 0.48172 0.01393 0.48426 0.01511 0.48704 C 0.01667 0.49121 0.01771 0.49584 0.01966 0.49954 C 0.02422 0.50741 0.02982 0.51783 0.03464 0.52408 C 0.04206 0.53357 0.04909 0.5456 0.05781 0.5507 C 0.05886 0.55139 0.06003 0.55278 0.0612 0.55278 C 0.07891 0.55417 0.09662 0.55417 0.11432 0.55486 C 0.1155 0.55625 0.11693 0.55695 0.11771 0.55903 C 0.11888 0.56135 0.11927 0.56459 0.12005 0.56713 C 0.1207 0.56922 0.12162 0.5713 0.1224 0.57338 C 0.12448 0.58681 0.12943 0.6176 0.13164 0.62454 C 0.13464 0.63426 0.13841 0.64329 0.14089 0.65324 C 0.14349 0.66389 0.15287 0.70463 0.1582 0.72107 C 0.16615 0.7456 0.16901 0.74861 0.17435 0.77014 C 0.17826 0.78658 0.18138 0.80348 0.18581 0.81945 C 0.18737 0.825 0.18867 0.83079 0.1905 0.83588 C 0.19245 0.84167 0.1961 0.84908 0.19974 0.85232 C 0.20104 0.85348 0.20274 0.85371 0.2043 0.8544 C 0.20586 0.85648 0.20729 0.8588 0.20886 0.86042 C 0.22552 0.87824 0.23021 0.86459 0.25742 0.8831 L 0.2724 0.89329 C 0.27318 0.89607 0.27396 0.89885 0.27474 0.90162 C 0.27709 0.91158 0.27435 0.90463 0.27813 0.91598 C 0.27956 0.92014 0.28138 0.92385 0.28281 0.92824 C 0.2836 0.93079 0.28477 0.94051 0.28503 0.9426 C 0.28581 0.94746 0.28659 0.95209 0.28737 0.95695 C 0.28776 0.95903 0.28789 0.96135 0.28854 0.9632 C 0.28972 0.9669 0.29336 0.97454 0.29544 0.97755 C 0.29766 0.98056 0.29974 0.98403 0.30235 0.98565 C 0.30755 0.98866 0.30951 0.99005 0.31628 0.9919 C 0.32084 0.99306 0.32552 0.99329 0.33008 0.99398 C 0.33242 0.99468 0.33464 0.99607 0.33698 0.99584 C 0.35742 0.99468 0.3543 0.99607 0.36472 0.98982 C 0.36667 0.98704 0.36836 0.98403 0.37044 0.98148 C 0.37188 0.97986 0.37383 0.9794 0.37513 0.97755 C 0.37695 0.97454 0.37813 0.9706 0.37969 0.96713 C 0.38698 0.95209 0.37487 0.9801 0.38542 0.95486 C 0.38581 0.95278 0.38607 0.9507 0.38659 0.94885 C 0.38802 0.94329 0.38998 0.93797 0.39128 0.93241 L 0.39349 0.92199 C 0.39362 0.92107 0.39466 0.89283 0.39584 0.88727 C 0.39701 0.88148 0.39909 0.87639 0.40052 0.87084 C 0.40143 0.8669 0.40195 0.8625 0.40274 0.85857 C 0.40482 0.84885 0.40768 0.83519 0.41081 0.8257 C 0.41224 0.8213 0.41419 0.81783 0.4155 0.81343 C 0.4237 0.78403 0.41328 0.81297 0.42005 0.79491 C 0.42044 0.78797 0.4207 0.78125 0.42123 0.77431 C 0.42149 0.77153 0.42123 0.76806 0.4224 0.76621 C 0.42383 0.76389 0.4263 0.76505 0.42813 0.76412 C 0.44557 0.75556 0.4211 0.76366 0.44896 0.75787 C 0.4543 0.75695 0.46511 0.75394 0.46511 0.75394 C 0.4681 0.75185 0.4711 0.74931 0.47435 0.74769 C 0.47982 0.74491 0.48594 0.74329 0.49167 0.74144 C 0.49349 0.74005 0.49544 0.73866 0.4974 0.7375 C 0.49883 0.73658 0.50065 0.73681 0.50195 0.73542 C 0.50534 0.73195 0.5112 0.72315 0.5112 0.72315 C 0.51237 0.71968 0.51393 0.71644 0.51472 0.71273 C 0.52057 0.68588 0.51328 0.70533 0.52044 0.6882 C 0.52227 0.64931 0.52279 0.64908 0.52044 0.59584 C 0.52031 0.59213 0.51888 0.58912 0.5181 0.58565 C 0.51745 0.57824 0.51745 0.57361 0.51589 0.56713 C 0.51524 0.56435 0.51419 0.56181 0.51354 0.55903 C 0.51276 0.55556 0.51224 0.55185 0.5112 0.54861 C 0.51029 0.5456 0.50899 0.54306 0.50781 0.54051 C 0.50495 0.53449 0.5013 0.52963 0.4974 0.52616 C 0.49597 0.52477 0.49427 0.52477 0.49271 0.52408 C 0.49167 0.52338 0.4905 0.52199 0.48932 0.52199 C 0.45391 0.5206 0.41849 0.5206 0.3832 0.51991 C 0.38047 0.51852 0.37774 0.51713 0.37513 0.51574 C 0.37318 0.51505 0.37123 0.51482 0.36927 0.51389 C 0.36732 0.51273 0.3655 0.51088 0.36354 0.50973 C 0.36016 0.50764 0.35547 0.50648 0.35195 0.50556 C 0.33711 0.48658 0.34935 0.50047 0.32435 0.48102 C 0.3211 0.47848 0.31823 0.475 0.31511 0.47269 C 0.3125 0.47084 0.30964 0.4706 0.30703 0.46875 C 0.29948 0.4632 0.29414 0.45648 0.28737 0.44815 C 0.28581 0.4463 0.28438 0.44375 0.28281 0.4419 C 0.27005 0.42801 0.28659 0.44908 0.27357 0.43172 C 0.27279 0.42894 0.27136 0.42662 0.27123 0.42361 C 0.27097 0.41181 0.2724 0.38866 0.2724 0.38866 L 0.78815 0.21435 L 0.79857 0.21829 C 0.80169 0.21968 0.80781 0.22246 0.80781 0.22246 C 0.80977 0.22454 0.81159 0.22685 0.81354 0.22871 C 0.82227 0.23635 0.81654 0.22917 0.8263 0.23681 C 0.83646 0.24491 0.82214 0.2375 0.83438 0.24306 C 0.83985 0.24954 0.84336 0.25394 0.84935 0.25926 C 0.85274 0.2625 0.85625 0.26482 0.85977 0.2676 C 0.86159 0.26898 0.86354 0.27014 0.8655 0.27176 C 0.8694 0.275 0.87709 0.28195 0.87709 0.28195 C 0.87774 0.28403 0.87852 0.28611 0.8793 0.2882 C 0.87995 0.28959 0.88112 0.29051 0.88164 0.29213 C 0.88229 0.29468 0.88229 0.29769 0.88281 0.30047 C 0.88334 0.30324 0.88438 0.30579 0.88516 0.30857 C 0.88555 0.31135 0.88594 0.31412 0.8862 0.3169 C 0.89037 0.35 0.88815 0.35973 0.8862 0.41111 C 0.8862 0.41435 0.88477 0.41667 0.88399 0.41945 C 0.88086 0.42894 0.88151 0.42408 0.87709 0.43588 C 0.87214 0.44861 0.87774 0.44098 0.87005 0.45625 C 0.86888 0.4588 0.86706 0.46042 0.8655 0.4625 C 0.86172 0.47593 0.86445 0.46852 0.85625 0.4831 C 0.85391 0.48727 0.85026 0.49445 0.84701 0.49746 C 0.84557 0.49861 0.84388 0.49838 0.84245 0.49954 C 0.83386 0.50533 0.82604 0.51482 0.81706 0.51783 L 0.80547 0.52199 C 0.80352 0.52408 0.80169 0.52639 0.79974 0.52824 C 0.79453 0.53241 0.79232 0.53218 0.78698 0.53426 C 0.77383 0.53959 0.79219 0.53542 0.76159 0.53843 L 0.7582 0.54051 L 0.7362 0.53843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-0.01458 -0.04444 C -0.01419 -0.0581 -0.01393 -0.07199 -0.01341 -0.08565 C -0.01315 -0.09028 -0.01302 -0.09537 -0.01224 -0.1 C -0.01145 -0.1037 -0.00989 -0.10671 -0.00872 -0.11019 C -0.00807 -0.11782 -0.00768 -0.12338 -0.00651 -0.13079 C -0.00534 -0.13681 -0.0039 -0.14282 -0.00299 -0.14907 C -0.00208 -0.15532 -0.00169 -0.16157 -0.00065 -0.16759 C 0.00261 -0.18889 0.0056 -0.19329 0.00743 -0.21898 C 0.00795 -0.22755 0.01029 -0.26019 0.01081 -0.26412 C 0.01159 -0.26875 0.0125 -0.27361 0.01315 -0.27847 C 0.01368 -0.28171 0.01394 -0.28519 0.01433 -0.28866 C 0.01472 -0.29144 0.01511 -0.29421 0.0155 -0.29676 C 0.01589 -0.30579 0.01667 -0.31458 0.01667 -0.32361 C 0.01667 -0.3456 0.01693 -0.35417 0.01433 -0.3706 C 0.01394 -0.37269 0.01381 -0.375 0.01315 -0.37685 C 0.01224 -0.37986 0.01081 -0.38218 0.00977 -0.38495 C 0.00795 -0.38958 0.0073 -0.39352 0.00391 -0.39537 C 0.00131 -0.39676 -0.00143 -0.39676 -0.00416 -0.39745 C -0.00651 -0.39931 -0.00859 -0.40208 -0.01106 -0.40347 C -0.03229 -0.41667 -0.03125 -0.41412 -0.05494 -0.41782 L -0.06875 -0.41991 L -0.17721 -0.41574 C -0.19713 -0.41435 -0.17591 -0.41134 -0.18763 -0.40972 C -0.19427 -0.4088 -0.20377 -0.40764 -0.21067 -0.40556 C -0.21458 -0.4044 -0.21836 -0.40301 -0.22226 -0.40139 C -0.22565 -0.40023 -0.22903 -0.39769 -0.23255 -0.39745 C -0.26445 -0.3956 -0.29648 -0.39607 -0.32838 -0.39537 C -0.33112 -0.39468 -0.33398 -0.39514 -0.33645 -0.39329 C -0.33802 -0.39213 -0.33854 -0.38866 -0.33997 -0.38704 C -0.34088 -0.38588 -0.34218 -0.38565 -0.34336 -0.38495 C -0.34492 -0.3831 -0.34674 -0.38148 -0.34804 -0.37894 C -0.34909 -0.37662 -0.34895 -0.37269 -0.35026 -0.3706 C -0.35221 -0.36759 -0.35494 -0.3669 -0.35716 -0.36458 C -0.36002 -0.36157 -0.36458 -0.35463 -0.3664 -0.35023 C -0.36784 -0.34699 -0.36875 -0.34329 -0.36992 -0.33982 C -0.37031 -0.32755 -0.36979 -0.31505 -0.37109 -0.30301 C -0.37135 -0.30069 -0.37669 -0.29352 -0.37799 -0.29282 C -0.38007 -0.2912 -0.3914 -0.28426 -0.39648 -0.28241 C -0.40104 -0.28102 -0.40573 -0.27986 -0.41028 -0.27847 C -0.41744 -0.26991 -0.41002 -0.27801 -0.41718 -0.27222 C -0.42799 -0.26366 -0.42018 -0.26782 -0.42877 -0.26412 C -0.43138 -0.2544 -0.43099 -0.25764 -0.43216 -0.24769 C -0.43268 -0.24421 -0.43255 -0.24051 -0.43333 -0.23727 C -0.43398 -0.23426 -0.43554 -0.23194 -0.43672 -0.22917 C -0.44023 -0.20995 -0.43411 -0.2419 -0.44127 -0.21273 C -0.44609 -0.19398 -0.43776 -0.21574 -0.44596 -0.1963 C -0.44635 -0.19282 -0.44661 -0.18935 -0.44713 -0.18611 C -0.44739 -0.18403 -0.4483 -0.18218 -0.4483 -0.17986 C -0.4483 -0.17037 -0.44752 -0.16088 -0.44713 -0.15116 C -0.44674 -0.13148 -0.44648 -0.11157 -0.44596 -0.09167 C -0.4457 -0.08611 -0.44505 -0.08079 -0.44479 -0.07523 C -0.44427 -0.06713 -0.4444 -0.0588 -0.44362 -0.05069 C -0.44323 -0.04583 -0.44205 -0.0412 -0.44127 -0.03634 C -0.44127 -0.03565 -0.43958 -0.01944 -0.43906 -0.01782 C -0.43815 -0.01528 -0.43672 -0.01366 -0.43554 -0.01181 C -0.43515 -0.00694 -0.43489 -0.00208 -0.43437 0.00255 C -0.43372 0.0088 -0.43268 0.01481 -0.43216 0.02106 C -0.43151 0.02917 -0.43164 0.0375 -0.43112 0.04583 C -0.43086 0.04907 -0.4302 0.05255 -0.42994 0.05602 C -0.42864 0.06968 -0.4276 0.08333 -0.42643 0.09699 C -0.42565 0.10579 -0.42487 0.11481 -0.42409 0.12361 C -0.42304 0.13657 -0.42174 0.14954 -0.4207 0.16273 C -0.41992 0.17245 -0.41966 0.17801 -0.41836 0.18727 C -0.41731 0.1956 -0.41614 0.2037 -0.41497 0.21181 C -0.41432 0.21597 -0.41328 0.22014 -0.41263 0.22431 C -0.41145 0.23102 -0.41028 0.23773 -0.40911 0.24468 C -0.40872 0.24745 -0.40846 0.25023 -0.40794 0.25301 C -0.4069 0.25903 -0.4056 0.26528 -0.40455 0.2713 C -0.40143 0.28912 -0.40091 0.30069 -0.39414 0.31852 C -0.39257 0.32268 -0.39127 0.32685 -0.38958 0.33079 C -0.38619 0.33866 -0.3819 0.34491 -0.37916 0.35347 C -0.37395 0.36944 -0.37669 0.36389 -0.37226 0.37199 C -0.37187 0.37454 -0.37161 0.37755 -0.37109 0.38009 C -0.3694 0.38819 -0.3681 0.38935 -0.36523 0.39653 C -0.36172 0.40556 -0.36367 0.40208 -0.35833 0.41296 C -0.3569 0.41574 -0.35494 0.41782 -0.35377 0.42106 C -0.35299 0.42315 -0.35247 0.42546 -0.35143 0.42731 C -0.34961 0.43056 -0.34114 0.44005 -0.33997 0.44167 C -0.33359 0.44954 -0.33763 0.44653 -0.33177 0.44977 C -0.33073 0.45255 -0.32968 0.45556 -0.32838 0.4581 C -0.32734 0.45972 -0.32604 0.46088 -0.32487 0.46204 C -0.32304 0.46435 -0.32096 0.46597 -0.31914 0.46829 C -0.31784 0.47014 -0.31692 0.47268 -0.31562 0.47454 C -0.31458 0.47593 -0.31328 0.47708 -0.31224 0.47847 C -0.31132 0.47986 -0.3108 0.48171 -0.30989 0.48264 C -0.30807 0.48449 -0.30599 0.48518 -0.30416 0.48681 C -0.30286 0.48796 -0.30195 0.48981 -0.30065 0.49097 C -0.29843 0.49282 -0.2901 0.49815 -0.28802 0.49907 C -0.28567 0.5 -0.28333 0.50023 -0.28112 0.50116 C -0.27838 0.50231 -0.27578 0.50417 -0.27304 0.50532 C -0.26992 0.50625 -0.26679 0.50671 -0.2638 0.50718 C -0.2414 0.51157 -0.24596 0.51088 -0.22682 0.51343 L -0.10677 0.51134 C -0.10494 0.51111 -0.10468 0.50579 -0.10338 0.50324 C -0.10156 0.49954 -0.09961 0.49606 -0.09765 0.49282 C -0.09661 0.4912 -0.09531 0.49028 -0.09414 0.48889 C -0.09218 0.48611 -0.09036 0.4831 -0.08841 0.48056 C -0.07994 0.47014 -0.08489 0.47917 -0.07682 0.4662 C -0.07487 0.46296 -0.07265 0.45995 -0.07109 0.45602 C -0.04375 0.38912 -0.09101 0.4956 -0.06302 0.43333 C -0.06159 0.42616 -0.06159 0.41991 -0.05377 0.42523 C -0.03554 0.4375 -0.01784 0.45185 -0.00065 0.46829 C 0.0086 0.47708 0.01719 0.48843 0.02696 0.49491 C 0.07565 0.52731 0.0862 0.52569 0.12969 0.5463 C 0.14167 0.55185 0.15339 0.55949 0.1655 0.56481 C 0.17578 0.56921 0.1862 0.57176 0.19662 0.575 C 0.21719 0.58125 0.23698 0.58611 0.25782 0.58935 C 0.27435 0.5919 0.29089 0.59352 0.30743 0.5956 C 0.34623 0.59143 0.38529 0.59028 0.42396 0.5831 C 0.43008 0.58194 0.43542 0.57477 0.44128 0.57083 C 0.44349 0.56944 0.44584 0.56806 0.44818 0.56667 C 0.45808 0.53866 0.44922 0.56111 0.46081 0.53796 C 0.46302 0.53356 0.46706 0.5213 0.47006 0.51968 C 0.4724 0.51829 0.47474 0.5169 0.47696 0.51551 C 0.48008 0.51343 0.48308 0.51111 0.4862 0.50926 C 0.49284 0.50579 0.49206 0.50926 0.49896 0.50324 C 0.51198 0.49167 0.5155 0.48634 0.52657 0.47245 C 0.52735 0.47037 0.52813 0.46829 0.52891 0.4662 C 0.52956 0.46481 0.53073 0.46389 0.53125 0.46204 C 0.5319 0.46018 0.5319 0.45787 0.53243 0.45602 C 0.53529 0.44491 0.53815 0.4338 0.54167 0.42315 C 0.54362 0.41736 0.54597 0.41181 0.54857 0.40671 C 0.553 0.39792 0.56706 0.37268 0.57396 0.36574 L 0.58203 0.35764 C 0.58282 0.35556 0.58373 0.3537 0.58438 0.35139 C 0.58568 0.34537 0.58685 0.33912 0.58776 0.33287 C 0.5892 0.32292 0.59011 0.3044 0.59245 0.29398 C 0.59323 0.29028 0.59466 0.28704 0.59584 0.2838 C 0.59818 0.26319 0.59597 0.28426 0.59818 0.25486 C 0.59844 0.25093 0.59909 0.24676 0.59935 0.24259 C 0.60065 0.22176 0.60105 0.20255 0.60157 0.18102 C 0.59805 0.14954 0.60183 0.16944 0.59701 0.1544 C 0.5961 0.15185 0.59571 0.14861 0.59466 0.1463 C 0.59336 0.14306 0.59102 0.14143 0.59011 0.13796 C 0.58711 0.12755 0.5892 0.13148 0.58438 0.12569 C 0.56394 0.12917 0.54323 0.12893 0.52318 0.13588 C 0.5194 0.13727 0.51784 0.14583 0.51511 0.15023 C 0.50964 0.15926 0.49753 0.17292 0.4931 0.17708 C 0.4892 0.18079 0.48464 0.18218 0.48047 0.18518 C 0.47696 0.18773 0.47357 0.19097 0.47006 0.19352 C 0.46745 0.19514 0.46459 0.1956 0.46198 0.19745 C 0.45834 0.20023 0.45508 0.2044 0.45157 0.20787 C 0.4431 0.21574 0.44401 0.21481 0.43659 0.22014 C 0.43477 0.22292 0.43295 0.22616 0.43086 0.22824 C 0.42904 0.23009 0.4267 0.22986 0.42513 0.23241 C 0.42305 0.23565 0.42214 0.24074 0.42045 0.24468 C 0.41927 0.24745 0.41836 0.25069 0.41706 0.25301 C 0.40573 0.27153 0.40769 0.26736 0.39857 0.27755 C 0.3974 0.27893 0.39636 0.28079 0.39506 0.28171 C 0.39141 0.28426 0.38464 0.28819 0.38008 0.28981 C 0.37631 0.2912 0.3724 0.29259 0.36849 0.29398 C 0.34818 0.2919 0.32774 0.29074 0.30743 0.28773 C 0.30352 0.28727 0.29961 0.28565 0.29584 0.2838 C 0.29453 0.28287 0.29362 0.28079 0.29245 0.27963 C 0.2905 0.27801 0.28855 0.27685 0.28659 0.27546 C 0.28542 0.27338 0.28399 0.27176 0.28321 0.26921 C 0.28243 0.2669 0.2823 0.26389 0.28203 0.26111 C 0.28177 0.25833 0.28021 0.22986 0.27969 0.22616 C 0.27513 0.19028 0.27435 0.1875 0.26927 0.16065 L 0.2681 0.1544 C 0.26784 0.15231 0.26745 0.15023 0.26706 0.14838 L 0.26472 0.13796 C 0.26589 0.10579 0.26654 0.07361 0.2681 0.04167 C 0.26836 0.03657 0.2694 0.03194 0.27045 0.02731 C 0.27292 0.0169 0.27539 0.00625 0.27852 -0.00347 C 0.28008 -0.0081 0.28216 -0.01204 0.28438 -0.01574 C 0.29362 -0.03148 0.29935 -0.04051 0.30977 -0.05069 C 0.31341 -0.0544 0.31745 -0.05718 0.32123 -0.06088 C 0.32565 -0.06528 0.32943 -0.0713 0.33399 -0.07523 C 0.33868 -0.07963 0.34401 -0.08171 0.34896 -0.08565 C 0.35248 -0.08843 0.3556 -0.09329 0.35938 -0.09583 C 0.36341 -0.09861 0.36784 -0.09977 0.37201 -0.10208 C 0.3767 -0.1044 0.38112 -0.1081 0.38581 -0.11019 C 0.39297 -0.11343 0.40391 -0.11574 0.4112 -0.11644 C 0.42396 -0.11736 0.43659 -0.11759 0.44935 -0.11829 C 0.45743 -0.11898 0.4655 -0.11968 0.47357 -0.12037 C 0.47969 -0.12407 0.47995 -0.12361 0.48503 -0.1287 C 0.48711 -0.13056 0.48881 -0.13333 0.49089 -0.13472 C 0.50287 -0.14398 0.50261 -0.13796 0.51511 -0.15324 C 0.52006 -0.15949 0.52526 -0.16505 0.53008 -0.17176 C 0.5323 -0.17477 0.53581 -0.18194 0.53581 -0.18194 C 0.53933 -0.20069 0.53386 -0.17546 0.5405 -0.19213 C 0.54245 -0.19722 0.54323 -0.20347 0.54506 -0.20857 C 0.54636 -0.21227 0.54831 -0.21528 0.54974 -0.21898 C 0.55065 -0.22153 0.55105 -0.22454 0.55196 -0.22708 C 0.5569 -0.24074 0.55443 -0.22963 0.55899 -0.2456 C 0.55951 -0.24745 0.55951 -0.24977 0.56003 -0.25162 C 0.56146 -0.25602 0.56315 -0.25995 0.56472 -0.26412 C 0.56511 -0.26667 0.56498 -0.26991 0.56589 -0.27222 C 0.57097 -0.28495 0.57552 -0.29236 0.58203 -0.30093 C 0.58464 -0.3044 0.5875 -0.30741 0.59011 -0.31111 C 0.60365 -0.33125 0.59011 -0.31482 0.59935 -0.32546 C 0.60052 -0.32824 0.60183 -0.33079 0.60274 -0.3338 C 0.60495 -0.34005 0.60573 -0.3456 0.60743 -0.35232 C 0.60808 -0.35509 0.60899 -0.35764 0.60977 -0.36042 C 0.60782 -0.37199 0.60664 -0.38426 0.60391 -0.39537 C 0.60339 -0.39769 0.6017 -0.39815 0.60052 -0.39931 C 0.59011 -0.40972 0.5806 -0.42384 0.56927 -0.43009 C 0.55703 -0.43704 0.54506 -0.44699 0.53243 -0.45069 C 0.53008 -0.45139 0.52774 -0.45162 0.52552 -0.45278 C 0.50105 -0.46435 0.52526 -0.45532 0.50938 -0.46088 C 0.4875 -0.47755 0.51341 -0.45926 0.49427 -0.46921 C 0.48933 -0.47176 0.47201 -0.4838 0.46784 -0.48773 C 0.45599 -0.49815 0.4362 -0.51898 0.42735 -0.53472 C 0.42631 -0.53681 0.42513 -0.53912 0.42396 -0.54097 C 0.42292 -0.54259 0.42162 -0.54352 0.42045 -0.54514 C 0.41888 -0.54699 0.41745 -0.54931 0.41589 -0.55116 C 0.40638 -0.5625 0.41263 -0.5537 0.39857 -0.56343 C 0.39532 -0.56574 0.39258 -0.56944 0.38933 -0.57176 C 0.38177 -0.57708 0.37383 -0.58079 0.36628 -0.58588 C 0.36029 -0.59005 0.35456 -0.59468 0.34896 -0.60023 C 0.34675 -0.60232 0.34519 -0.60602 0.3431 -0.60833 C 0.34024 -0.61204 0.33724 -0.61574 0.33399 -0.61875 C 0.33256 -0.61991 0.33086 -0.61991 0.3293 -0.62083 C 0.32813 -0.6213 0.32696 -0.62199 0.32591 -0.62269 C 0.32422 -0.62269 0.29258 -0.62523 0.28203 -0.61667 C 0.28047 -0.61551 0.27995 -0.61204 0.27852 -0.61042 C 0.27253 -0.60324 0.26628 -0.59676 0.26003 -0.59005 C 0.25743 -0.58704 0.25456 -0.58519 0.25196 -0.58194 C 0.24623 -0.57454 0.24024 -0.56736 0.23477 -0.55949 C 0.225 -0.54537 0.21667 -0.53032 0.20938 -0.51227 C 0.20573 -0.50324 0.20612 -0.50069 0.20469 -0.49167 C 0.20443 -0.48958 0.20391 -0.48773 0.20352 -0.48565 C 0.20313 -0.4787 0.203 -0.47176 0.20235 -0.46505 C 0.20222 -0.46227 0.20131 -0.45694 0.20131 -0.45694 E">
                                      <p:cBhvr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0.00039 -0.03009 C -0.00651 -0.10625 -0.000909999999999999 -0.05579 -0.00886 -0.11227 C -0.01003 -0.12106 -0.01042 -0.13032 -0.01224 -0.13889 C -0.02044 -0.17593 -0.01849 -0.15995 -0.02735 -0.18194 C -0.0362 -0.20417 -0.03073 -0.20023 -0.04688 -0.22083 C -0.05664 -0.23333 -0.07526 -0.24792 -0.0862 -0.25579 C -0.09688 -0.26366 -0.10742 -0.27176 -0.11849 -0.27824 C -0.1237 -0.28148 -0.12917 -0.28241 -0.13464 -0.28449 C -0.14961 -0.29051 -0.13802 -0.28727 -0.153 -0.29074 C -0.15847 -0.30486 -0.15794 -0.30509 -0.17149 -0.31944 C -0.17617 -0.3243 -0.18151 -0.32616 -0.18646 -0.32963 C -0.18919 -0.33148 -0.19193 -0.3338 -0.19453 -0.33565 C -0.20651 -0.3331 -0.21953 -0.3368 -0.23034 -0.32755 C -0.24154 -0.31805 -0.24701 -0.28495 -0.25117 -0.26597 C -0.25469 -0.22593 -0.26042 -0.1838 -0.25456 -0.14282 C -0.25274 -0.12963 -0.24779 -0.11805 -0.24427 -0.10602 C -0.22084 -0.02801 -0.24909 -0.12755 -0.23034 -0.06088 C -0.22995 -0.05208 -0.22748 -0.04259 -0.22917 -0.03426 C -0.22995 -0.03032 -0.23386 -0.03125 -0.23607 -0.03218 C -0.24492 -0.03611 -0.25352 -0.0412 -0.26146 -0.04861 C -0.27669 -0.0625 -0.28972 -0.08356 -0.30534 -0.09583 C -0.38594 -0.15856 -0.41745 -0.19444 -0.49453 -0.225 C -0.52969 -0.23889 -0.55013 -0.2375 -0.58464 -0.23935 C -0.5931 -0.23866 -0.60677 -0.25116 -0.61003 -0.23727 C -0.61263 -0.22593 -0.61016 -0.15116 -0.60534 -0.11829 C -0.60443 -0.11204 -0.603 -0.10602 -0.60196 -0.09977 C -0.59766 -0.04745 -0.60274 -0.09074 -0.58685 -0.02199 C -0.57617 0.02454 -0.58255 0.00764 -0.57305 0.04375 C -0.5724 0.04607 -0.57149 0.04792 -0.57071 0.05 C -0.57031 0.05255 -0.56914 0.05532 -0.56953 0.0581 C -0.57005 0.06088 -0.57149 0.0632 -0.57305 0.06435 C -0.57904 0.06875 -0.58542 0.07107 -0.59154 0.07454 C -0.61302 0.07315 -0.63477 0.075 -0.65612 0.07037 C -0.66719 0.06806 -0.67761 0.0588 -0.68841 0.05394 C -0.71563 0.04236 -0.74284 0.03009 -0.77031 0.02107 C -0.78946 0.01505 -0.80886 0.0132 -0.828 0.0088 C -0.83841 0.00648 -0.84883 0.00324 -0.85925 0.0007 L -0.87643 -0.00347 C -0.87578 0.01644 -0.87487 0.03611 -0.87422 0.05602 C -0.8737 0.06829 -0.87396 0.08079 -0.87305 0.09306 C -0.8724 0.1007 -0.87123 0.10833 -0.86953 0.11551 C -0.85599 0.17639 -0.86003 0.15857 -0.8431 0.2037 C -0.84102 0.20903 -0.83946 0.21505 -0.83724 0.22014 C -0.83529 0.22477 -0.83255 0.22824 -0.83034 0.23241 C -0.82722 0.23843 -0.82409 0.24468 -0.8211 0.25093 C -0.81992 0.25347 -0.81914 0.25695 -0.81771 0.25903 C -0.81667 0.26042 -0.81524 0.26019 -0.81419 0.26111 C -0.77904 0.29583 -0.80886 0.26898 -0.78998 0.28588 C -0.78959 0.28912 -0.78841 0.29259 -0.7888 0.29607 C -0.79037 0.3081 -0.79284 0.31968 -0.79571 0.33102 C -0.79636 0.33357 -0.79818 0.33495 -0.79922 0.33704 C -0.80638 0.35255 -0.79479 0.33148 -0.80495 0.35347 C -0.80703 0.3581 -0.80951 0.36204 -0.81185 0.36574 C -0.81862 0.37639 -0.81302 0.36042 -0.82227 0.38218 C -0.82604 0.39097 -0.82604 0.39051 -0.82917 0.4007 C -0.83268 0.41181 -0.82982 0.40602 -0.83386 0.41296 C -0.83646 0.42732 -0.83294 0.40949 -0.83724 0.42732 C -0.83776 0.4294 -0.83802 0.43148 -0.83841 0.43357 C -0.83802 0.46088 -0.83802 0.4882 -0.83724 0.51551 C -0.83711 0.51945 -0.83438 0.52708 -0.83386 0.52986 C -0.82357 0.57755 -0.82982 0.5669 -0.80612 0.61597 C -0.80443 0.61945 -0.8013 0.61968 -0.79922 0.62222 C -0.79466 0.62778 -0.79037 0.6338 -0.78646 0.64074 C -0.78386 0.64537 -0.78164 0.65139 -0.77839 0.65509 C -0.76706 0.66829 -0.75456 0.6757 -0.74154 0.68171 C -0.73464 0.68495 -0.72761 0.68681 -0.72071 0.68982 C -0.7168 0.69167 -0.71315 0.69445 -0.70925 0.69607 C -0.70651 0.69722 -0.70378 0.69722 -0.70117 0.69815 C -0.69571 0.7 -0.69037 0.70232 -0.68503 0.7044 L -0.45078 0.68982 C -0.43919 0.68889 -0.43646 0.68171 -0.42656 0.67546 C -0.41849 0.6706 -0.41055 0.66829 -0.40235 0.66528 C -0.39844 0.6625 -0.39466 0.65949 -0.39076 0.65718 C -0.37005 0.64491 -0.38516 0.65741 -0.3711 0.64491 C -0.33464 0.58009 -0.36133 0.6294 -0.37578 0.38218 C -0.37656 0.36782 -0.38164 0.35509 -0.38607 0.34329 C -0.39258 0.32616 -0.4043 0.30764 -0.41498 0.29815 C -0.41927 0.29421 -0.42422 0.29259 -0.42878 0.28982 C -0.4668 0.26852 -0.49167 0.28264 -0.54414 0.27963 C -0.54492 0.27407 -0.54636 0.26898 -0.54649 0.2632 C -0.54675 0.24884 -0.54649 0.23449 -0.54531 0.22014 C -0.54492 0.21505 -0.54323 0.21042 -0.54193 0.20579 C -0.53906 0.19607 -0.53607 0.18634 -0.53268 0.17708 C -0.52761 0.16366 -0.52305 0.14907 -0.51654 0.1382 C -0.50912 0.1257 -0.5 0.1162 -0.49115 0.10741 C -0.46654 0.08264 -0.45781 0.08056 -0.43112 0.06829 C -0.42617 0.0662 -0.42123 0.06366 -0.41615 0.06227 C -0.41159 0.06088 -0.4069 0.06088 -0.40235 0.06019 C -0.37383 0.06829 -0.34518 0.07477 -0.31693 0.08472 C -0.31419 0.08565 -0.31237 0.09028 -0.31003 0.09306 C -0.30612 0.09722 -0.30222 0.10093 -0.29844 0.10532 C -0.29636 0.10764 -0.29427 0.11019 -0.29271 0.11343 C -0.28906 0.12083 -0.28581 0.13403 -0.28347 0.14213 C -0.28268 0.14491 -0.28164 0.14745 -0.28112 0.15046 C -0.27956 0.15995 -0.27852 0.16991 -0.27656 0.17917 C -0.275 0.18611 -0.26875 0.2081 -0.26498 0.21806 C -0.26315 0.22292 -0.26107 0.22755 -0.25925 0.23241 C -0.25716 0.23773 -0.2556 0.24375 -0.25339 0.24884 C -0.24792 0.26227 -0.24193 0.27477 -0.23607 0.28796 C -0.23047 0.3007 -0.22617 0.31389 -0.21888 0.32477 C -0.21263 0.33403 -0.20508 0.34028 -0.19805 0.34745 C -0.18698 0.35857 -0.16472 0.37407 -0.15651 0.38009 L -0.14844 0.38634 C -0.14571 0.38843 -0.14323 0.39144 -0.14037 0.39236 C -0.13294 0.39514 -0.13516 0.39445 -0.12656 0.39653 C -0.12344 0.39722 -0.12031 0.39769 -0.11732 0.39861 C -0.11341 0.39977 -0.10964 0.40139 -0.10573 0.40278 C -0.08308 0.39861 -0.06003 0.39884 -0.03763 0.39051 C -0.03529 0.38958 -0.01901 0.36181 -0.01576 0.35764 C -0.00495 0.34398 0.00651 0.33195 0.01653 0.31667 C 0.04648 0.2706 0.03672 0.28264 0.05117 0.24282 C 0.05442 0.23357 0.05846 0.22546 0.06159 0.21597 C 0.07122 0.18634 0.07982 0.15556 0.08919 0.1257 C 0.09518 0.10718 0.10169 0.08889 0.10768 0.07037 C 0.1112 0.05949 0.11588 0.04954 0.1181 0.0375 L 0.12161 0.01921 C 0.12044 0.00347 0.12122 -0.01319 0.1181 -0.02801 C 0.11263 -0.05486 0.10742 -0.0838 0.09622 -0.10393 C 0.09427 -0.10741 0.09206 -0.11042 0.09036 -0.11412 C 0.08854 -0.11852 0.08763 -0.12407 0.08581 -0.12847 C 0.08411 -0.13241 0.08177 -0.13518 0.07995 -0.13889 C 0.07682 -0.14537 0.0737 -0.15231 0.07083 -0.15926 C 0.06719 -0.16805 0.06471 -0.17847 0.06041 -0.18611 C 0.05495 -0.1956 0.05013 -0.20625 0.04427 -0.21481 C 0.03932 -0.22199 0.02617 -0.23588 0.01888 -0.24143 C 0.01745 -0.24259 0.01575 -0.24282 0.01419 -0.24352 C 0.01081 -0.24491 0.00742 -0.24676 0.0039 -0.24745 C 0.00156 -0.24815 -0.00078 -0.24745 -0.00313 -0.24745 L -0.00417 -0.24745 E">
                                      <p:cBhvr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496-A1A1-476C-9460-357A070FC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5237280" y="314280"/>
            <a:ext cx="208440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3:0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