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3.png" ContentType="image/png"/>
  <Override PartName="/ppt/media/image18.gif" ContentType="image/gif"/>
  <Override PartName="/ppt/media/image17.jpeg" ContentType="image/jpeg"/>
  <Override PartName="/ppt/media/image16.gif" ContentType="image/gif"/>
  <Override PartName="/ppt/media/image2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11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4.jpeg" ContentType="image/jpeg"/>
  <Override PartName="/ppt/media/image5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EE7-340C-4082-A1BA-DE5075E4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C89-17BB-4C7E-BA5A-AAE8577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A144B-0948-495A-B1C3-E1F62CA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E686-F64F-4445-A264-2564806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6F3C9-2238-4C8C-A1C6-3B77669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A661-FA0A-4E38-8814-EC87862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82F22-A0E6-480D-B36B-7993C2A2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217C3-3A5C-40C6-A2B5-549A3EE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4D3BD-C027-445A-880B-3CFE06B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B360-A722-4132-A554-87A9D896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D1439-90A5-402E-AE1F-B0FD9E96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7171C-28EE-4B98-8F65-B059BF2C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809-66D5-4A30-A42B-769EE508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9979-6764-492B-B753-86631D3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9752-99DB-417E-BAFC-A9D4C1F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11AF1-C739-4306-B5D6-0AF2831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D1D8-80F4-418E-AEF1-A809F9DF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BD921-E8F5-45E5-9EE4-6AFE04CC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4929D-9AFB-4AEC-B22B-5DF6AAF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9EBA8-8728-4A5A-B75D-2099500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36334-C635-4362-8663-F5AEA7A3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DAE7C-AB7A-497A-B2A4-9EFAD92B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1578E-F51E-41B4-B870-A541ECD5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3C0-A52C-48A9-954B-62BF2C7B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7A4C-8172-4B1B-84C4-64E79BAB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35D6-B769-4FD8-855A-F29CC014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AB710-F22E-4678-AD7B-9FBF01C1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1F8D-4D0A-498F-9E94-586D0109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8383-5975-4224-9EC6-DD8432D4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521E4-CBF0-41B7-9045-0972ED2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1C9B6-0E0B-474A-9499-DE7B8F4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AA33C-5CEC-45D2-A73C-9B0A211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5ACEE-9214-43EC-894B-F9723E60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02E51-A6BC-4CA0-B403-34456A25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8BAA-8157-4F47-9A8B-2E282869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B406F-55FF-49FB-9E65-0A43D60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D80B-340F-4E73-BC99-4F29178E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92BB-E6AC-4A90-9DED-E5533459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E944A-FC35-440D-B4DB-2E29BE9A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44C0D-B13B-440E-9A01-365955C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EDBE0-E27A-4813-BE44-1BECEDD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F8258-A717-4D1F-B0EB-862E4ED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CD892-8AAD-40CA-9AC0-5DD5237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45F32-C756-4035-A51D-D1B2F14D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E7BEF-C4E0-4D5A-8DCD-F27C795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A8D5-327F-48CD-8D7E-BE37EE4C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F99C2-1E5D-40F2-9EA8-7F0F57F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27CCB-EC2A-483D-9E0D-C12FA1E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F617-2305-4C0B-8FCB-42C1628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0F63A-F613-46E3-BA62-7D57C34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FE22-46AC-44C1-AAAB-BE281D40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0D8DE-9719-40FA-B30B-DCD3ECE4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7EF8A-938A-467A-B9B2-D54768C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8524D-8C47-4805-A671-83F4DEE4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FE723-268C-47E2-AFAC-0A7F51EC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6B4CF-34E8-43BD-AF8D-D8BF753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ED1D-DD97-4CA5-BB7C-C13F31C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1060E-F3C5-4A6B-AA60-ABF0768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43D57-EF27-49F5-B755-F22BB04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15168-24E6-4181-825A-D8F6788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DB55D-AC06-4A14-8B5E-5C24786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78CA0-8E64-4F47-874D-38B1EC5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B1967-330E-4144-BF1B-1AE994A1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FA417-6EFD-402F-B867-DCDF4060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798C0-05BB-4230-820D-8DA2E04B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3A036-639F-4C20-830A-E99F774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CD3C8-3DC5-47EE-B3EC-F86077B0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1483-6D50-4756-AD6C-88E8FB9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3744C-EA0B-4B09-94FF-236CB31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B87AD-8EA3-469B-B3ED-48A4D291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1DCB2-28F3-4E2E-B480-FE399A1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B2EC4-037C-4BD3-AFD9-72C2F82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84FDE-79AF-4A3F-93A7-216249B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8747B-A43D-493F-8B68-E6DE734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140AA-C981-485B-92DE-61B6C13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296AB-E2AE-4DED-8005-3CAE7F1F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509CD-EB91-49CB-835E-D2583FD7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5FC45-9B7F-4AF7-A6A3-456CDD9A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C2F-BCC1-4A48-A9CC-D822030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3B8E3-8EAC-46AC-907F-8AFBFF1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81540-383C-4A93-A95C-6A43A77B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38BE7-1204-495E-A974-9D6A4A9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B8338-370B-4931-B564-7B882E56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9BAA1-BB29-4BD5-8B21-37DB370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4E896-8954-4719-9B70-EDCD889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BF18A-4E4F-41C4-8A60-04E0066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5A881-0B5B-4F63-B376-42BC2F3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0875E-2DE8-4D99-915F-4A3DB81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D01F1-6C1A-44EF-9954-E40AB87E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FAC-4BF4-4526-B136-63AA7E3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33661-B682-438A-96AB-C1E262B1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D827C-4247-4338-A884-DF33173A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77AB2-9736-445E-AB8D-457ACDB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74DAD-CD1E-46D4-857A-6B9A524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576B5-3A7E-4250-A2E7-F6F72F5A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E290C-AF58-41D7-9784-9318153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ACB9E-778C-46F6-9309-4BF391A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F0FF4-9DE0-40A5-AA7C-F026044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A7A2C-A570-4CAE-9BDB-C00A327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E3278-4439-4D95-86D1-C8242E3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210-7389-475C-9C6F-66014F4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0B3D1-43C5-4835-9DE5-9B9A5239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09F3A-2ECB-4F9E-8761-BC4C8B23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55D67-AB0D-4B0C-BF3F-4D9EF7B9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F0279-C096-4DB3-8543-64A6679C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7D0E6-2058-4A22-A9C5-43F2D840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3DDA1-86A0-4E97-9619-87E265DC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E6F69-E847-4C1D-9227-DC2B23E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C558E-4012-4133-B203-2DD7B4B1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B4254-CC66-463B-8FE3-E0F552C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31CD0-13C0-43FC-A75F-984E78B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FAB-F892-42EB-83DE-DC90ADB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DE97-545D-4A5E-8196-D0203D5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33809-BC9D-4C9C-B049-8B666E6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82091-E302-4059-AD52-A4D5D006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50E32-71FD-4CD3-80B4-E263ACB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FC55E-FCF5-4CBF-B08A-A69DD79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9DAA1-78FA-4F05-8314-2DBCE34F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BDD1E-F6EA-434A-8938-A867DEAF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EF159-69BF-4569-8207-05A050D1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35DF5-096B-44CA-9031-CA691BDC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6AE3D-81E4-4AAF-A5E6-BFA78E1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5E686-8BD6-4B8C-BA7A-1DE9A058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8995-8ED0-48D2-B032-22E896A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BF202-85AF-43F8-94A2-BF2A38C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4D151-E639-4028-A77E-40D9146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05909-1E65-4DCE-97B3-49F6598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AB1FA-3F5D-4F6E-8292-449EE3B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64E0F-8BE0-4A4D-9AD8-812B00C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2B8F9-5E06-49D4-B67F-6032F69C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D2112-F81A-4C29-A8D4-C5523C77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098EC-BC43-482B-AFF5-D6514D76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3FD8B-013D-4037-B6BC-65D15583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E9972-3244-40B6-A223-73C7D7E0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7078-7CBA-4B55-BEE0-62026EE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5FB95-4D33-4232-B953-5EEABD4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585B7-EDC3-45B8-A1FD-8AAFAD8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C1EC1-5346-4F0B-857B-2008257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ABEC3-9F3A-43BC-B565-F6ECC6A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978B9-2152-461D-80A8-A052CD2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6B778-322F-4B53-BB52-DA5F4BB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EF6A2-E0E3-444E-9E38-BC04BAF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5BE98-56A7-4F50-8F6F-8D59A698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6686A-48AA-486F-A404-56AA84F5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4A3F7-C7CB-443C-B1D6-9ED9D844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DC0-5AB3-4F59-8496-28F6FF1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BACA9-377B-4BD3-8B60-A83A688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077F3-C556-45D2-B6BC-73931593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7C694-044A-4703-BB51-32095ECF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8C479-FC98-4D88-8826-7E2CD165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CF303-A9FD-423A-8523-02CF0F2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E1DF5-AB40-4524-B5BD-771767F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E5566-A177-48FF-B646-D246946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67B29-AD1A-4A4A-B617-A53AF4F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680BE-0FF5-4DA3-9BBD-42E624C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209D17-94A6-438B-9C6C-BCB3FAB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8A4F-3E4D-4A88-92F4-69B503A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986D7-FBD3-46DE-9687-A3818D99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226DA-7885-485F-9631-968E42CF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8E552-DD2B-499A-BF23-257E2318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85213-3A0F-4229-B551-3DDE6E82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BFC39-7A86-48DA-8686-B9530F53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450F0-9A4D-41A1-AC0A-52CAB92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2FECF-9210-4F20-8122-6B9DDAA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3982F-9470-40F2-A500-4F17A18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9D367-65ED-4F34-98C6-74FB38A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77D1E-CA63-4308-8557-13DEF3C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6CE2-C8E7-48EA-BB3D-9AC837E9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1D6CA-E3A5-4A71-9DFA-0BBC5F06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0CCFB-19A0-4EC9-91E6-00A1C34C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8B8E7-EED8-49EA-9DA4-E6B8A4B0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C4A6-4034-44A1-B5EC-73F8CF56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1514-C2AF-4EB4-A0E8-F8FAE8CF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E7A3-B8DE-4788-93D0-6FC784C3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B763-2541-443E-9115-0404020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459-DC68-4013-B57B-EACFE73A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7868-63A0-479E-9766-B0B75B8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5584-51C0-4994-88EC-ABCF30C2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1CF8-BEEB-4BA0-80B4-767E6BA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DB95-250F-4A0D-8730-8C191E0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EA6D-F6EC-4AD4-9E0F-155245B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31BE-D247-4EC9-A984-0F889381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4E83-D559-4D98-B23C-F89895F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7F15-1D52-4F5E-A1F7-66AEA0F1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883D-9FF5-4952-AAF3-6A3AB29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2EFA-6AF2-4C23-91FF-88D4FD94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7AA-5827-4BE9-A48F-D379BA2B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1CE4-EC58-4E06-AA7D-2D58598B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D9A5-2309-416A-A4FE-74ED6E9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9233-E8BE-4049-B334-6D65A92A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46F6-4A13-4D9F-91F7-8F48106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DB36-4714-4775-9048-4285503D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ECFD-CC27-4978-A47F-B201AD0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E7B7-E241-4E5F-8BA7-030F5AB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BA02-F838-4A89-AEA6-43C171BD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C5F6-CE2D-47DC-BCE1-857CF5E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FEFE-9E50-45FD-8BC8-ABCBED36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87-115F-4099-AEF3-04E0C4F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54AE-AECD-44CA-846F-9E54B00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5857-F502-4973-B594-57FC317B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D040-3FD8-440A-BFD1-46E7235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16DB-A942-4349-BA61-568F28F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4943-DAF2-4428-9FB4-C367880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FAD5-6A6F-4B41-84AA-5092546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9D35-CDB7-48EA-A4E3-9F830A3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8C9D-A5C8-4245-9BDF-704B162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E5F6-41D7-404F-B24E-74E11C87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CC3A-B3A8-4AD9-BFCC-DA4C590A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1CA-8E5D-4012-A069-C12EA0F6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BF75-AC9F-4354-B2C9-5E83F4FB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3860-0E65-482C-A09C-21FE48B4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29EA-D9CB-42E2-B577-2586B878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34F4-ED18-4479-AF78-E77B6309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F3E7-BE40-4103-BF95-B1DACA6B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EC835-CAD8-449A-A265-DECA1BD3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A5086-91AD-42F2-AFD9-9AB12F8B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9A0F-07A0-4144-94FE-4788539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6A6E-7CDA-434D-AA88-9FAE9C3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37B5-FAB2-443F-A3E1-BB7D133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E1E-8599-4EB9-A939-9F3383D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A8F8-A3E6-4692-9867-755A0700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0200-5B67-434A-8DE3-9C891276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1E950-4F2F-4F4A-BE73-3E48C61D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9682-B0C4-4021-A38A-5491097E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36E2-8B3B-4FD4-AE1C-3896AFA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8D15-FA55-49C7-A05D-FEA6CB5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DF18-B843-430A-8D83-04F881A2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3300-C241-4B0F-A2D1-879A9A5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DB02-3741-4E08-A42F-E3D730A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A3266-EDDB-45E4-BE32-823B352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1FE-B7E0-42F7-9804-0CA80C5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3DE3-4CAE-48B7-809B-6B80EDC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D2C1-BBC7-42CD-8549-5C886E0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3D692-552F-4EC7-9432-F7BDEFE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362C5-7F82-4856-A438-B47880EA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2A7B-0299-4398-B193-80C154E7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BF91-CFF2-469E-A3B0-35779382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A904-98B4-4522-82DF-88404D1B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C637-0301-4285-93E4-90AA9F8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1BEF-6450-44A0-AAB2-925F3D7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3CD0-00DC-4910-8519-9D9AC27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EBA-B911-48A7-91E5-90A1C47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B9D6C-29E7-4D23-8EBB-F786EB6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8A4C0-407E-4C7B-946C-56A5C2D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8258-B14B-4599-8C5F-F8683B4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57412-5627-4C9A-BEB5-8752DE3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67AA-394E-4610-B170-F386021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0032F-33E2-4D8C-BA82-4FE161D6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4E1B5-838F-4E89-8D8D-2AF30FF6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41E9D-16A5-4871-807E-3DD4F527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B5FB9-A724-4783-A8C9-02F4E71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0F2B-0A5A-4939-A3A6-1CEFE464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48F-E69E-46F4-B611-D0BA62681F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079120" y="1408680"/>
            <a:ext cx="423000" cy="490320"/>
            <a:chOff x="8079120" y="1408680"/>
            <a:chExt cx="423000" cy="490320"/>
          </a:xfrm>
        </p:grpSpPr>
        <p:grpSp>
          <p:nvGrpSpPr>
            <p:cNvPr id="6" name="Group 8"/>
            <p:cNvGrpSpPr/>
            <p:nvPr/>
          </p:nvGrpSpPr>
          <p:grpSpPr>
            <a:xfrm>
              <a:off x="8079120" y="1408680"/>
              <a:ext cx="423000" cy="340920"/>
              <a:chOff x="8079120" y="1408680"/>
              <a:chExt cx="423000" cy="34092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8259120" y="1537920"/>
                <a:ext cx="243000" cy="146880"/>
                <a:chOff x="8259120" y="1537920"/>
                <a:chExt cx="243000" cy="146880"/>
              </a:xfrm>
            </p:grpSpPr>
            <p:sp>
              <p:nvSpPr>
                <p:cNvPr id="8" name="Oval 10"/>
                <p:cNvSpPr/>
                <p:nvPr/>
              </p:nvSpPr>
              <p:spPr>
                <a:xfrm rot="1040400">
                  <a:off x="8262000" y="159732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 rot="10996800">
                  <a:off x="8274960" y="1544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12"/>
              <p:cNvGrpSpPr/>
              <p:nvPr/>
            </p:nvGrpSpPr>
            <p:grpSpPr>
              <a:xfrm>
                <a:off x="8079120" y="1485000"/>
                <a:ext cx="239040" cy="135360"/>
                <a:chOff x="8079120" y="1485000"/>
                <a:chExt cx="239040" cy="135360"/>
              </a:xfrm>
            </p:grpSpPr>
            <p:sp>
              <p:nvSpPr>
                <p:cNvPr id="11" name="Oval 13"/>
                <p:cNvSpPr/>
                <p:nvPr/>
              </p:nvSpPr>
              <p:spPr>
                <a:xfrm rot="11611200">
                  <a:off x="8089200" y="151020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 rot="21568800">
                  <a:off x="8079120" y="156492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" name="Oval 15"/>
              <p:cNvSpPr/>
              <p:nvPr/>
            </p:nvSpPr>
            <p:spPr>
              <a:xfrm rot="624600">
                <a:off x="8259840" y="152604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 rot="624600">
                <a:off x="8258040" y="14115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 rot="624600">
                <a:off x="8332560" y="14252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 flipH="1" rot="19862400">
              <a:off x="8232840" y="179748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 flipH="1" rot="19862400">
              <a:off x="8219880" y="186732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4266360" y="6400800"/>
            <a:ext cx="424800" cy="485640"/>
            <a:chOff x="4266360" y="6400800"/>
            <a:chExt cx="424800" cy="485640"/>
          </a:xfrm>
        </p:grpSpPr>
        <p:grpSp>
          <p:nvGrpSpPr>
            <p:cNvPr id="19" name="Group 21"/>
            <p:cNvGrpSpPr/>
            <p:nvPr/>
          </p:nvGrpSpPr>
          <p:grpSpPr>
            <a:xfrm>
              <a:off x="4266360" y="6400800"/>
              <a:ext cx="424800" cy="340200"/>
              <a:chOff x="4266360" y="6400800"/>
              <a:chExt cx="424800" cy="3402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4449240" y="6452280"/>
                <a:ext cx="241920" cy="168480"/>
                <a:chOff x="4449240" y="6452280"/>
                <a:chExt cx="241920" cy="168480"/>
              </a:xfrm>
            </p:grpSpPr>
            <p:sp>
              <p:nvSpPr>
                <p:cNvPr id="21" name="Oval 23"/>
                <p:cNvSpPr/>
                <p:nvPr/>
              </p:nvSpPr>
              <p:spPr>
                <a:xfrm rot="21049800">
                  <a:off x="4463280" y="654840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Oval 24"/>
                <p:cNvSpPr/>
                <p:nvPr/>
              </p:nvSpPr>
              <p:spPr>
                <a:xfrm rot="9406200">
                  <a:off x="4450680" y="649440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4266360" y="6523560"/>
                <a:ext cx="243720" cy="179640"/>
                <a:chOff x="4266360" y="6523560"/>
                <a:chExt cx="243720" cy="179640"/>
              </a:xfrm>
            </p:grpSpPr>
            <p:sp>
              <p:nvSpPr>
                <p:cNvPr id="24" name="Oval 26"/>
                <p:cNvSpPr/>
                <p:nvPr/>
              </p:nvSpPr>
              <p:spPr>
                <a:xfrm rot="10021200">
                  <a:off x="4269240" y="654804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Oval 27"/>
                <p:cNvSpPr/>
                <p:nvPr/>
              </p:nvSpPr>
              <p:spPr>
                <a:xfrm rot="19978200">
                  <a:off x="4285080" y="660060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" name="Oval 28"/>
              <p:cNvSpPr/>
              <p:nvPr/>
            </p:nvSpPr>
            <p:spPr>
              <a:xfrm rot="20634000">
                <a:off x="4476600" y="651816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27" name="Oval 29"/>
              <p:cNvSpPr/>
              <p:nvPr/>
            </p:nvSpPr>
            <p:spPr>
              <a:xfrm rot="20634000">
                <a:off x="4386960" y="64252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28" name="Oval 30"/>
              <p:cNvSpPr/>
              <p:nvPr/>
            </p:nvSpPr>
            <p:spPr>
              <a:xfrm rot="20634000">
                <a:off x="4459320" y="640476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29" name="Oval 31"/>
            <p:cNvSpPr/>
            <p:nvPr/>
          </p:nvSpPr>
          <p:spPr>
            <a:xfrm flipH="1" rot="18271200">
              <a:off x="4531680" y="678636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 flipH="1" rot="18271200">
              <a:off x="4551120" y="685476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31" name="Group 33"/>
          <p:cNvGrpSpPr/>
          <p:nvPr/>
        </p:nvGrpSpPr>
        <p:grpSpPr>
          <a:xfrm>
            <a:off x="2037240" y="6613200"/>
            <a:ext cx="512640" cy="524160"/>
            <a:chOff x="2037240" y="6613200"/>
            <a:chExt cx="512640" cy="524160"/>
          </a:xfrm>
        </p:grpSpPr>
        <p:grpSp>
          <p:nvGrpSpPr>
            <p:cNvPr id="32" name="Group 34"/>
            <p:cNvGrpSpPr/>
            <p:nvPr/>
          </p:nvGrpSpPr>
          <p:grpSpPr>
            <a:xfrm>
              <a:off x="2037240" y="6613200"/>
              <a:ext cx="512640" cy="379800"/>
              <a:chOff x="2037240" y="6613200"/>
              <a:chExt cx="512640" cy="37980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2247840" y="6759720"/>
                <a:ext cx="302040" cy="233280"/>
                <a:chOff x="2247840" y="6759720"/>
                <a:chExt cx="302040" cy="233280"/>
              </a:xfrm>
            </p:grpSpPr>
            <p:sp>
              <p:nvSpPr>
                <p:cNvPr id="34" name="Oval 36"/>
                <p:cNvSpPr/>
                <p:nvPr/>
              </p:nvSpPr>
              <p:spPr>
                <a:xfrm rot="2069400">
                  <a:off x="2241000" y="6858360"/>
                  <a:ext cx="274680" cy="6192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Oval 37"/>
                <p:cNvSpPr/>
                <p:nvPr/>
              </p:nvSpPr>
              <p:spPr>
                <a:xfrm rot="12025800">
                  <a:off x="2272680" y="6805800"/>
                  <a:ext cx="274680" cy="6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2037240" y="6634440"/>
                <a:ext cx="302760" cy="220680"/>
                <a:chOff x="2037240" y="6634440"/>
                <a:chExt cx="302760" cy="220680"/>
              </a:xfrm>
            </p:grpSpPr>
            <p:sp>
              <p:nvSpPr>
                <p:cNvPr id="37" name="Oval 39"/>
                <p:cNvSpPr/>
                <p:nvPr/>
              </p:nvSpPr>
              <p:spPr>
                <a:xfrm rot="12640800">
                  <a:off x="2068560" y="6699960"/>
                  <a:ext cx="274680" cy="6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Oval 40"/>
                <p:cNvSpPr/>
                <p:nvPr/>
              </p:nvSpPr>
              <p:spPr>
                <a:xfrm rot="997200">
                  <a:off x="2040120" y="6755400"/>
                  <a:ext cx="274680" cy="61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" name="Oval 41"/>
              <p:cNvSpPr/>
              <p:nvPr/>
            </p:nvSpPr>
            <p:spPr>
              <a:xfrm rot="1653600">
                <a:off x="2240640" y="6741720"/>
                <a:ext cx="46080" cy="250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40" name="Oval 42"/>
              <p:cNvSpPr/>
              <p:nvPr/>
            </p:nvSpPr>
            <p:spPr>
              <a:xfrm rot="1653600">
                <a:off x="2301480" y="662004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 rot="1653600">
                <a:off x="2383200" y="6662520"/>
                <a:ext cx="45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42" name="Oval 44"/>
            <p:cNvSpPr/>
            <p:nvPr/>
          </p:nvSpPr>
          <p:spPr>
            <a:xfrm flipH="1" rot="20891400">
              <a:off x="2140920" y="703152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 flipH="1" rot="20891400">
              <a:off x="2100600" y="710352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44" name="Group 46"/>
          <p:cNvGrpSpPr/>
          <p:nvPr/>
        </p:nvGrpSpPr>
        <p:grpSpPr>
          <a:xfrm>
            <a:off x="203040" y="5932080"/>
            <a:ext cx="496080" cy="492120"/>
            <a:chOff x="203040" y="5932080"/>
            <a:chExt cx="496080" cy="492120"/>
          </a:xfrm>
        </p:grpSpPr>
        <p:grpSp>
          <p:nvGrpSpPr>
            <p:cNvPr id="45" name="Group 47"/>
            <p:cNvGrpSpPr/>
            <p:nvPr/>
          </p:nvGrpSpPr>
          <p:grpSpPr>
            <a:xfrm>
              <a:off x="212040" y="5932080"/>
              <a:ext cx="487080" cy="428760"/>
              <a:chOff x="212040" y="5932080"/>
              <a:chExt cx="487080" cy="428760"/>
            </a:xfrm>
          </p:grpSpPr>
          <p:grpSp>
            <p:nvGrpSpPr>
              <p:cNvPr id="46" name="Group 48"/>
              <p:cNvGrpSpPr/>
              <p:nvPr/>
            </p:nvGrpSpPr>
            <p:grpSpPr>
              <a:xfrm>
                <a:off x="406080" y="6094800"/>
                <a:ext cx="293040" cy="266040"/>
                <a:chOff x="406080" y="6094800"/>
                <a:chExt cx="293040" cy="266040"/>
              </a:xfrm>
            </p:grpSpPr>
            <p:sp>
              <p:nvSpPr>
                <p:cNvPr id="47" name="Oval 49"/>
                <p:cNvSpPr/>
                <p:nvPr/>
              </p:nvSpPr>
              <p:spPr>
                <a:xfrm rot="2778000">
                  <a:off x="385560" y="620856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Oval 50"/>
                <p:cNvSpPr/>
                <p:nvPr/>
              </p:nvSpPr>
              <p:spPr>
                <a:xfrm rot="12734400">
                  <a:off x="428040" y="616320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51"/>
              <p:cNvGrpSpPr/>
              <p:nvPr/>
            </p:nvGrpSpPr>
            <p:grpSpPr>
              <a:xfrm>
                <a:off x="212040" y="5932080"/>
                <a:ext cx="297720" cy="256320"/>
                <a:chOff x="212040" y="5932080"/>
                <a:chExt cx="297720" cy="256320"/>
              </a:xfrm>
            </p:grpSpPr>
            <p:sp>
              <p:nvSpPr>
                <p:cNvPr id="50" name="Oval 52"/>
                <p:cNvSpPr/>
                <p:nvPr/>
              </p:nvSpPr>
              <p:spPr>
                <a:xfrm rot="13349400">
                  <a:off x="249120" y="601668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Oval 53"/>
                <p:cNvSpPr/>
                <p:nvPr/>
              </p:nvSpPr>
              <p:spPr>
                <a:xfrm rot="1705800">
                  <a:off x="209880" y="606492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Oval 54"/>
              <p:cNvSpPr/>
              <p:nvPr/>
            </p:nvSpPr>
            <p:spPr>
              <a:xfrm rot="2362200">
                <a:off x="392760" y="606852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 rot="2362200">
                <a:off x="495360" y="596376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 rot="2362200">
                <a:off x="567000" y="602244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57"/>
            <p:cNvSpPr/>
            <p:nvPr/>
          </p:nvSpPr>
          <p:spPr>
            <a:xfrm flipH="1">
              <a:off x="257760" y="6330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 flipH="1">
              <a:off x="203040" y="6392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7" name="Group 59"/>
          <p:cNvGrpSpPr/>
          <p:nvPr/>
        </p:nvGrpSpPr>
        <p:grpSpPr>
          <a:xfrm>
            <a:off x="8174880" y="5817960"/>
            <a:ext cx="516240" cy="440280"/>
            <a:chOff x="8174880" y="5817960"/>
            <a:chExt cx="516240" cy="440280"/>
          </a:xfrm>
        </p:grpSpPr>
        <p:grpSp>
          <p:nvGrpSpPr>
            <p:cNvPr id="58" name="Group 60"/>
            <p:cNvGrpSpPr/>
            <p:nvPr/>
          </p:nvGrpSpPr>
          <p:grpSpPr>
            <a:xfrm>
              <a:off x="8174880" y="5817960"/>
              <a:ext cx="516240" cy="262800"/>
              <a:chOff x="8174880" y="5817960"/>
              <a:chExt cx="516240" cy="262800"/>
            </a:xfrm>
          </p:grpSpPr>
          <p:grpSp>
            <p:nvGrpSpPr>
              <p:cNvPr id="59" name="Group 61"/>
              <p:cNvGrpSpPr/>
              <p:nvPr/>
            </p:nvGrpSpPr>
            <p:grpSpPr>
              <a:xfrm>
                <a:off x="8404920" y="5902200"/>
                <a:ext cx="286200" cy="119160"/>
                <a:chOff x="8404920" y="5902200"/>
                <a:chExt cx="286200" cy="119160"/>
              </a:xfrm>
            </p:grpSpPr>
            <p:sp>
              <p:nvSpPr>
                <p:cNvPr id="60" name="Oval 62"/>
                <p:cNvSpPr/>
                <p:nvPr/>
              </p:nvSpPr>
              <p:spPr>
                <a:xfrm rot="580200">
                  <a:off x="8406360" y="595548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63"/>
                <p:cNvSpPr/>
                <p:nvPr/>
              </p:nvSpPr>
              <p:spPr>
                <a:xfrm rot="10536600">
                  <a:off x="8410680" y="591264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64"/>
              <p:cNvGrpSpPr/>
              <p:nvPr/>
            </p:nvGrpSpPr>
            <p:grpSpPr>
              <a:xfrm>
                <a:off x="8174880" y="5887440"/>
                <a:ext cx="283320" cy="119160"/>
                <a:chOff x="8174880" y="5887440"/>
                <a:chExt cx="283320" cy="119160"/>
              </a:xfrm>
            </p:grpSpPr>
            <p:sp>
              <p:nvSpPr>
                <p:cNvPr id="63" name="Oval 65"/>
                <p:cNvSpPr/>
                <p:nvPr/>
              </p:nvSpPr>
              <p:spPr>
                <a:xfrm rot="11151600">
                  <a:off x="8177760" y="590148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 rot="21108600">
                  <a:off x="8176320" y="594432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Oval 67"/>
              <p:cNvSpPr/>
              <p:nvPr/>
            </p:nvSpPr>
            <p:spPr>
              <a:xfrm rot="164400">
                <a:off x="8406720" y="590688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 rot="164400">
                <a:off x="8368200" y="581868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 rot="164400">
                <a:off x="8461440" y="582336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8" name="Oval 70"/>
            <p:cNvSpPr/>
            <p:nvPr/>
          </p:nvSpPr>
          <p:spPr>
            <a:xfrm flipH="1" rot="19402200">
              <a:off x="8353080" y="616140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 flipH="1" rot="19402200">
              <a:off x="8332920" y="623016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70" name="Group 72"/>
          <p:cNvGrpSpPr/>
          <p:nvPr/>
        </p:nvGrpSpPr>
        <p:grpSpPr>
          <a:xfrm>
            <a:off x="6179760" y="6342120"/>
            <a:ext cx="560520" cy="515520"/>
            <a:chOff x="6179760" y="6342120"/>
            <a:chExt cx="560520" cy="515520"/>
          </a:xfrm>
        </p:grpSpPr>
        <p:grpSp>
          <p:nvGrpSpPr>
            <p:cNvPr id="71" name="Group 73"/>
            <p:cNvGrpSpPr/>
            <p:nvPr/>
          </p:nvGrpSpPr>
          <p:grpSpPr>
            <a:xfrm>
              <a:off x="6195240" y="6342120"/>
              <a:ext cx="545040" cy="476280"/>
              <a:chOff x="6195240" y="6342120"/>
              <a:chExt cx="545040" cy="476280"/>
            </a:xfrm>
          </p:grpSpPr>
          <p:grpSp>
            <p:nvGrpSpPr>
              <p:cNvPr id="72" name="Group 74"/>
              <p:cNvGrpSpPr/>
              <p:nvPr/>
            </p:nvGrpSpPr>
            <p:grpSpPr>
              <a:xfrm>
                <a:off x="6417720" y="6528240"/>
                <a:ext cx="322560" cy="290160"/>
                <a:chOff x="6417720" y="6528240"/>
                <a:chExt cx="322560" cy="290160"/>
              </a:xfrm>
            </p:grpSpPr>
            <p:sp>
              <p:nvSpPr>
                <p:cNvPr id="73" name="Oval 75"/>
                <p:cNvSpPr/>
                <p:nvPr/>
              </p:nvSpPr>
              <p:spPr>
                <a:xfrm rot="2778000">
                  <a:off x="6391080" y="665208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Oval 76"/>
                <p:cNvSpPr/>
                <p:nvPr/>
              </p:nvSpPr>
              <p:spPr>
                <a:xfrm rot="12734400">
                  <a:off x="6433200" y="660744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Group 77"/>
              <p:cNvGrpSpPr/>
              <p:nvPr/>
            </p:nvGrpSpPr>
            <p:grpSpPr>
              <a:xfrm>
                <a:off x="6195240" y="6342120"/>
                <a:ext cx="329040" cy="279000"/>
                <a:chOff x="6195240" y="6342120"/>
                <a:chExt cx="329040" cy="279000"/>
              </a:xfrm>
            </p:grpSpPr>
            <p:sp>
              <p:nvSpPr>
                <p:cNvPr id="76" name="Oval 78"/>
                <p:cNvSpPr/>
                <p:nvPr/>
              </p:nvSpPr>
              <p:spPr>
                <a:xfrm rot="13349400">
                  <a:off x="6229800" y="644004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79"/>
                <p:cNvSpPr/>
                <p:nvPr/>
              </p:nvSpPr>
              <p:spPr>
                <a:xfrm rot="1705800">
                  <a:off x="6190560" y="648792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Oval 80"/>
              <p:cNvSpPr/>
              <p:nvPr/>
            </p:nvSpPr>
            <p:spPr>
              <a:xfrm rot="2362200">
                <a:off x="6401880" y="650160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9" name="Oval 81"/>
              <p:cNvSpPr/>
              <p:nvPr/>
            </p:nvSpPr>
            <p:spPr>
              <a:xfrm rot="2362200">
                <a:off x="6500160" y="63932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80" name="Oval 82"/>
              <p:cNvSpPr/>
              <p:nvPr/>
            </p:nvSpPr>
            <p:spPr>
              <a:xfrm rot="2362200">
                <a:off x="6581520" y="646020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81" name="Oval 83"/>
            <p:cNvSpPr/>
            <p:nvPr/>
          </p:nvSpPr>
          <p:spPr>
            <a:xfrm flipH="1">
              <a:off x="6243480" y="676440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 flipH="1">
              <a:off x="6179400" y="682632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83" name="Group 85"/>
          <p:cNvGrpSpPr/>
          <p:nvPr/>
        </p:nvGrpSpPr>
        <p:grpSpPr>
          <a:xfrm>
            <a:off x="8411760" y="1368720"/>
            <a:ext cx="503280" cy="544680"/>
            <a:chOff x="8411760" y="1368720"/>
            <a:chExt cx="503280" cy="544680"/>
          </a:xfrm>
        </p:grpSpPr>
        <p:grpSp>
          <p:nvGrpSpPr>
            <p:cNvPr id="84" name="Group 86"/>
            <p:cNvGrpSpPr/>
            <p:nvPr/>
          </p:nvGrpSpPr>
          <p:grpSpPr>
            <a:xfrm>
              <a:off x="8411760" y="1368720"/>
              <a:ext cx="503280" cy="411840"/>
              <a:chOff x="8411760" y="1368720"/>
              <a:chExt cx="503280" cy="411840"/>
            </a:xfrm>
          </p:grpSpPr>
          <p:grpSp>
            <p:nvGrpSpPr>
              <p:cNvPr id="85" name="Group 87"/>
              <p:cNvGrpSpPr/>
              <p:nvPr/>
            </p:nvGrpSpPr>
            <p:grpSpPr>
              <a:xfrm>
                <a:off x="8616960" y="1375200"/>
                <a:ext cx="298080" cy="257040"/>
                <a:chOff x="8616960" y="1375200"/>
                <a:chExt cx="298080" cy="257040"/>
              </a:xfrm>
            </p:grpSpPr>
            <p:sp>
              <p:nvSpPr>
                <p:cNvPr id="86" name="Oval 88"/>
                <p:cNvSpPr/>
                <p:nvPr/>
              </p:nvSpPr>
              <p:spPr>
                <a:xfrm rot="20128200">
                  <a:off x="8638560" y="151164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89"/>
                <p:cNvSpPr/>
                <p:nvPr/>
              </p:nvSpPr>
              <p:spPr>
                <a:xfrm rot="8485200">
                  <a:off x="8607240" y="145368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90"/>
              <p:cNvGrpSpPr/>
              <p:nvPr/>
            </p:nvGrpSpPr>
            <p:grpSpPr>
              <a:xfrm>
                <a:off x="8411760" y="1512720"/>
                <a:ext cx="295560" cy="267840"/>
                <a:chOff x="8411760" y="1512720"/>
                <a:chExt cx="295560" cy="267840"/>
              </a:xfrm>
            </p:grpSpPr>
            <p:sp>
              <p:nvSpPr>
                <p:cNvPr id="89" name="Oval 91"/>
                <p:cNvSpPr/>
                <p:nvPr/>
              </p:nvSpPr>
              <p:spPr>
                <a:xfrm rot="9099600">
                  <a:off x="8410680" y="157392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Oval 92"/>
                <p:cNvSpPr/>
                <p:nvPr/>
              </p:nvSpPr>
              <p:spPr>
                <a:xfrm rot="19056600">
                  <a:off x="8445960" y="163008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Oval 93"/>
              <p:cNvSpPr/>
              <p:nvPr/>
            </p:nvSpPr>
            <p:spPr>
              <a:xfrm rot="19713000">
                <a:off x="8675640" y="149904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92" name="Oval 94"/>
              <p:cNvSpPr/>
              <p:nvPr/>
            </p:nvSpPr>
            <p:spPr>
              <a:xfrm rot="19713000">
                <a:off x="8514720" y="142344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93" name="Oval 95"/>
              <p:cNvSpPr/>
              <p:nvPr/>
            </p:nvSpPr>
            <p:spPr>
              <a:xfrm rot="19713000">
                <a:off x="8592840" y="137556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94" name="Oval 96"/>
            <p:cNvSpPr/>
            <p:nvPr/>
          </p:nvSpPr>
          <p:spPr>
            <a:xfrm flipH="1" rot="17350200">
              <a:off x="8795520" y="180324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 flipH="1" rot="17350200">
              <a:off x="8840160" y="187740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C9E0-A958-45D6-BE7F-07036BD19F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D65-1F47-4C95-9910-3F827817F1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064-7F38-4FC1-9303-B92D226711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313-197F-4116-B195-DF5F3831A4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CA02-FD5E-4B81-9794-CDB884D6F5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A4D-77A8-4240-BE1E-61E08FD8B7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C850-C441-484A-8558-10157F0DD4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9122-5E2D-417C-A145-3D7D8BE5C7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09EC-EA30-45EE-B620-E09A3906E0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225C-43BC-46E2-A267-0D693214E2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C83-586A-4774-8537-6BABA39159E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280D-4BAF-4854-8DD9-9B01DA0287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9BBE-C7FD-4229-88A7-3C36DFDAB9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229-4FF5-4F48-BEBC-39492D765C5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215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6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7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E8F-0B20-48DA-8921-4FCB6E20546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405-FB90-4B29-872C-67003028E2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AA18-94B9-430D-9C13-D50F249D988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1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31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4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6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19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2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grpSp>
          <p:nvGrpSpPr>
            <p:cNvPr id="32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3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24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328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32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grpSp>
            <p:nvGrpSpPr>
              <p:cNvPr id="33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34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342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43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344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grpSp>
            <p:nvGrpSpPr>
              <p:cNvPr id="345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346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5B7-16CE-4AEA-BEC8-0D9BC68BBDC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EDF8-B731-4A3C-9F78-20523F615BF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93"/>
          <p:cNvGrpSpPr/>
          <p:nvPr/>
        </p:nvGrpSpPr>
        <p:grpSpPr>
          <a:xfrm>
            <a:off x="5071320" y="5954040"/>
            <a:ext cx="508680" cy="1803600"/>
            <a:chOff x="5071320" y="5954040"/>
            <a:chExt cx="508680" cy="1803600"/>
          </a:xfrm>
        </p:grpSpPr>
        <p:sp>
          <p:nvSpPr>
            <p:cNvPr id="474" name="Arc 194"/>
            <p:cNvSpPr/>
            <p:nvPr/>
          </p:nvSpPr>
          <p:spPr>
            <a:xfrm>
              <a:off x="5135400" y="615780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5" name="Oval 195"/>
            <p:cNvSpPr/>
            <p:nvPr/>
          </p:nvSpPr>
          <p:spPr>
            <a:xfrm rot="18084000">
              <a:off x="5181480" y="6295320"/>
              <a:ext cx="19944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6" name="Oval 196"/>
            <p:cNvSpPr/>
            <p:nvPr/>
          </p:nvSpPr>
          <p:spPr>
            <a:xfrm rot="19984200">
              <a:off x="5076720" y="615744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7" name="Oval 197"/>
            <p:cNvSpPr/>
            <p:nvPr/>
          </p:nvSpPr>
          <p:spPr>
            <a:xfrm rot="6199200">
              <a:off x="5181120" y="60292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8" name="Oval 198"/>
            <p:cNvSpPr/>
            <p:nvPr/>
          </p:nvSpPr>
          <p:spPr>
            <a:xfrm>
              <a:off x="5368680" y="622440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79" name="Oval 199"/>
            <p:cNvSpPr/>
            <p:nvPr/>
          </p:nvSpPr>
          <p:spPr>
            <a:xfrm>
              <a:off x="5076720" y="60894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0" name="Oval 200"/>
            <p:cNvSpPr/>
            <p:nvPr/>
          </p:nvSpPr>
          <p:spPr>
            <a:xfrm rot="17473200">
              <a:off x="5120280" y="622620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1" name="Oval 201"/>
            <p:cNvSpPr/>
            <p:nvPr/>
          </p:nvSpPr>
          <p:spPr>
            <a:xfrm rot="18975000">
              <a:off x="5252400" y="60894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2" name="Oval 202"/>
            <p:cNvSpPr/>
            <p:nvPr/>
          </p:nvSpPr>
          <p:spPr>
            <a:xfrm rot="16200000">
              <a:off x="5238000" y="63579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3" name="Oval 203"/>
            <p:cNvSpPr/>
            <p:nvPr/>
          </p:nvSpPr>
          <p:spPr>
            <a:xfrm rot="20104200">
              <a:off x="5309640" y="61578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484" name="Group 192"/>
          <p:cNvGrpSpPr/>
          <p:nvPr/>
        </p:nvGrpSpPr>
        <p:grpSpPr>
          <a:xfrm>
            <a:off x="128880" y="5836680"/>
            <a:ext cx="874080" cy="2063160"/>
            <a:chOff x="128880" y="5836680"/>
            <a:chExt cx="874080" cy="2063160"/>
          </a:xfrm>
        </p:grpSpPr>
        <p:sp>
          <p:nvSpPr>
            <p:cNvPr id="485" name="Arc 173"/>
            <p:cNvSpPr/>
            <p:nvPr/>
          </p:nvSpPr>
          <p:spPr>
            <a:xfrm flipH="1" rot="290400">
              <a:off x="203040" y="607860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6" name="Oval 174"/>
            <p:cNvSpPr/>
            <p:nvPr/>
          </p:nvSpPr>
          <p:spPr>
            <a:xfrm flipH="1" rot="3516000">
              <a:off x="612000" y="624240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7" name="Oval 175"/>
            <p:cNvSpPr/>
            <p:nvPr/>
          </p:nvSpPr>
          <p:spPr>
            <a:xfrm flipH="1" rot="1615800">
              <a:off x="767160" y="608184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8" name="Oval 176"/>
            <p:cNvSpPr/>
            <p:nvPr/>
          </p:nvSpPr>
          <p:spPr>
            <a:xfrm flipH="1" rot="15400800">
              <a:off x="612360" y="59245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89" name="Oval 177"/>
            <p:cNvSpPr/>
            <p:nvPr/>
          </p:nvSpPr>
          <p:spPr>
            <a:xfrm flipH="1">
              <a:off x="391320" y="616104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0" name="Oval 179"/>
            <p:cNvSpPr/>
            <p:nvPr/>
          </p:nvSpPr>
          <p:spPr>
            <a:xfrm flipH="1" rot="4126800">
              <a:off x="688680" y="616140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1" name="Oval 180"/>
            <p:cNvSpPr/>
            <p:nvPr/>
          </p:nvSpPr>
          <p:spPr>
            <a:xfrm flipH="1" rot="2625000">
              <a:off x="542520" y="60004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2" name="Oval 181"/>
            <p:cNvSpPr/>
            <p:nvPr/>
          </p:nvSpPr>
          <p:spPr>
            <a:xfrm flipH="1" rot="2743200">
              <a:off x="537480" y="632124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3" name="Oval 182"/>
            <p:cNvSpPr/>
            <p:nvPr/>
          </p:nvSpPr>
          <p:spPr>
            <a:xfrm flipH="1" rot="1495800">
              <a:off x="467280" y="608148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4" name="Oval 183"/>
            <p:cNvSpPr/>
            <p:nvPr/>
          </p:nvSpPr>
          <p:spPr>
            <a:xfrm flipH="1" rot="2743200">
              <a:off x="478440" y="642600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5" name="Oval 184"/>
            <p:cNvSpPr/>
            <p:nvPr/>
          </p:nvSpPr>
          <p:spPr>
            <a:xfrm flipH="1" rot="2743200">
              <a:off x="407160" y="64990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6" name="Oval 185"/>
            <p:cNvSpPr/>
            <p:nvPr/>
          </p:nvSpPr>
          <p:spPr>
            <a:xfrm flipH="1" rot="20563800">
              <a:off x="178200" y="6562800"/>
              <a:ext cx="239760" cy="741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7" name="Oval 186"/>
            <p:cNvSpPr/>
            <p:nvPr/>
          </p:nvSpPr>
          <p:spPr>
            <a:xfrm flipH="1" rot="21196800">
              <a:off x="334800" y="6283440"/>
              <a:ext cx="239400" cy="7416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8" name="Oval 187"/>
            <p:cNvSpPr/>
            <p:nvPr/>
          </p:nvSpPr>
          <p:spPr>
            <a:xfrm flipH="1" rot="21253200">
              <a:off x="250920" y="641808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499" name="Oval 191"/>
            <p:cNvSpPr/>
            <p:nvPr/>
          </p:nvSpPr>
          <p:spPr>
            <a:xfrm flipH="1" rot="2686200">
              <a:off x="323280" y="663408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00" name="Group 407"/>
          <p:cNvGrpSpPr/>
          <p:nvPr/>
        </p:nvGrpSpPr>
        <p:grpSpPr>
          <a:xfrm>
            <a:off x="0" y="5850000"/>
            <a:ext cx="9144000" cy="1008000"/>
            <a:chOff x="0" y="5850000"/>
            <a:chExt cx="9144000" cy="1008000"/>
          </a:xfrm>
        </p:grpSpPr>
        <p:sp>
          <p:nvSpPr>
            <p:cNvPr id="501" name="AutoShape 368"/>
            <p:cNvSpPr/>
            <p:nvPr/>
          </p:nvSpPr>
          <p:spPr>
            <a:xfrm>
              <a:off x="0" y="6066000"/>
              <a:ext cx="53964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2" name="AutoShape 369"/>
            <p:cNvSpPr/>
            <p:nvPr/>
          </p:nvSpPr>
          <p:spPr>
            <a:xfrm>
              <a:off x="324000" y="6351480"/>
              <a:ext cx="502920" cy="5050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3" name="AutoShape 370"/>
            <p:cNvSpPr/>
            <p:nvPr/>
          </p:nvSpPr>
          <p:spPr>
            <a:xfrm>
              <a:off x="684360" y="6066000"/>
              <a:ext cx="57456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4" name="AutoShape 371"/>
            <p:cNvSpPr/>
            <p:nvPr/>
          </p:nvSpPr>
          <p:spPr>
            <a:xfrm>
              <a:off x="1116000" y="5850000"/>
              <a:ext cx="43164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5" name="AutoShape 372"/>
            <p:cNvSpPr/>
            <p:nvPr/>
          </p:nvSpPr>
          <p:spPr>
            <a:xfrm>
              <a:off x="140328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6" name="AutoShape 373"/>
            <p:cNvSpPr/>
            <p:nvPr/>
          </p:nvSpPr>
          <p:spPr>
            <a:xfrm>
              <a:off x="176364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7" name="AutoShape 374"/>
            <p:cNvSpPr/>
            <p:nvPr/>
          </p:nvSpPr>
          <p:spPr>
            <a:xfrm>
              <a:off x="1908000" y="6066000"/>
              <a:ext cx="64944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8" name="AutoShape 375"/>
            <p:cNvSpPr/>
            <p:nvPr/>
          </p:nvSpPr>
          <p:spPr>
            <a:xfrm>
              <a:off x="234000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09" name="AutoShape 376"/>
            <p:cNvSpPr/>
            <p:nvPr/>
          </p:nvSpPr>
          <p:spPr>
            <a:xfrm>
              <a:off x="262728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0" name="AutoShape 377"/>
            <p:cNvSpPr/>
            <p:nvPr/>
          </p:nvSpPr>
          <p:spPr>
            <a:xfrm>
              <a:off x="305928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1" name="AutoShape 378"/>
            <p:cNvSpPr/>
            <p:nvPr/>
          </p:nvSpPr>
          <p:spPr>
            <a:xfrm>
              <a:off x="2843280" y="6066000"/>
              <a:ext cx="288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2" name="AutoShape 379"/>
            <p:cNvSpPr/>
            <p:nvPr/>
          </p:nvSpPr>
          <p:spPr>
            <a:xfrm>
              <a:off x="291636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3" name="AutoShape 380"/>
            <p:cNvSpPr/>
            <p:nvPr/>
          </p:nvSpPr>
          <p:spPr>
            <a:xfrm>
              <a:off x="3203640" y="606276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4" name="AutoShape 381"/>
            <p:cNvSpPr/>
            <p:nvPr/>
          </p:nvSpPr>
          <p:spPr>
            <a:xfrm>
              <a:off x="3780000" y="6354720"/>
              <a:ext cx="28872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5" name="AutoShape 382"/>
            <p:cNvSpPr/>
            <p:nvPr/>
          </p:nvSpPr>
          <p:spPr>
            <a:xfrm>
              <a:off x="421164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6" name="AutoShape 383"/>
            <p:cNvSpPr/>
            <p:nvPr/>
          </p:nvSpPr>
          <p:spPr>
            <a:xfrm>
              <a:off x="399564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7" name="AutoShape 384"/>
            <p:cNvSpPr/>
            <p:nvPr/>
          </p:nvSpPr>
          <p:spPr>
            <a:xfrm>
              <a:off x="442764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8" name="AutoShape 385"/>
            <p:cNvSpPr/>
            <p:nvPr/>
          </p:nvSpPr>
          <p:spPr>
            <a:xfrm>
              <a:off x="4643280" y="6066000"/>
              <a:ext cx="5749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19" name="AutoShape 386"/>
            <p:cNvSpPr/>
            <p:nvPr/>
          </p:nvSpPr>
          <p:spPr>
            <a:xfrm>
              <a:off x="536256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0" name="AutoShape 387"/>
            <p:cNvSpPr/>
            <p:nvPr/>
          </p:nvSpPr>
          <p:spPr>
            <a:xfrm>
              <a:off x="507672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1" name="AutoShape 388"/>
            <p:cNvSpPr/>
            <p:nvPr/>
          </p:nvSpPr>
          <p:spPr>
            <a:xfrm>
              <a:off x="5867280" y="6281640"/>
              <a:ext cx="28908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2" name="AutoShape 389"/>
            <p:cNvSpPr/>
            <p:nvPr/>
          </p:nvSpPr>
          <p:spPr>
            <a:xfrm>
              <a:off x="5651640" y="6066000"/>
              <a:ext cx="28872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3" name="AutoShape 390"/>
            <p:cNvSpPr/>
            <p:nvPr/>
          </p:nvSpPr>
          <p:spPr>
            <a:xfrm>
              <a:off x="5724360" y="6354720"/>
              <a:ext cx="28764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4" name="AutoShape 391"/>
            <p:cNvSpPr/>
            <p:nvPr/>
          </p:nvSpPr>
          <p:spPr>
            <a:xfrm>
              <a:off x="6012000" y="606600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5" name="AutoShape 392"/>
            <p:cNvSpPr/>
            <p:nvPr/>
          </p:nvSpPr>
          <p:spPr>
            <a:xfrm>
              <a:off x="658800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6" name="AutoShape 393"/>
            <p:cNvSpPr/>
            <p:nvPr/>
          </p:nvSpPr>
          <p:spPr>
            <a:xfrm>
              <a:off x="7020000" y="6281640"/>
              <a:ext cx="288720" cy="5763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7" name="AutoShape 394"/>
            <p:cNvSpPr/>
            <p:nvPr/>
          </p:nvSpPr>
          <p:spPr>
            <a:xfrm>
              <a:off x="680400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8" name="AutoShape 395"/>
            <p:cNvSpPr/>
            <p:nvPr/>
          </p:nvSpPr>
          <p:spPr>
            <a:xfrm>
              <a:off x="7236000" y="6353280"/>
              <a:ext cx="50292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29" name="AutoShape 396"/>
            <p:cNvSpPr/>
            <p:nvPr/>
          </p:nvSpPr>
          <p:spPr>
            <a:xfrm>
              <a:off x="7451640" y="6066000"/>
              <a:ext cx="5749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0" name="AutoShape 397"/>
            <p:cNvSpPr/>
            <p:nvPr/>
          </p:nvSpPr>
          <p:spPr>
            <a:xfrm>
              <a:off x="8170920" y="6066000"/>
              <a:ext cx="50472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1" name="AutoShape 398"/>
            <p:cNvSpPr/>
            <p:nvPr/>
          </p:nvSpPr>
          <p:spPr>
            <a:xfrm>
              <a:off x="7885080" y="6353280"/>
              <a:ext cx="503280" cy="5047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2" name="AutoShape 402"/>
            <p:cNvSpPr/>
            <p:nvPr/>
          </p:nvSpPr>
          <p:spPr>
            <a:xfrm>
              <a:off x="7848720" y="6066000"/>
              <a:ext cx="64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3" name="AutoShape 403"/>
            <p:cNvSpPr/>
            <p:nvPr/>
          </p:nvSpPr>
          <p:spPr>
            <a:xfrm>
              <a:off x="8280360" y="5850000"/>
              <a:ext cx="360360" cy="100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4" name="AutoShape 404"/>
            <p:cNvSpPr/>
            <p:nvPr/>
          </p:nvSpPr>
          <p:spPr>
            <a:xfrm>
              <a:off x="8567640" y="6354720"/>
              <a:ext cx="289080" cy="503280"/>
            </a:xfrm>
            <a:prstGeom prst="triangle">
              <a:avLst>
                <a:gd name="adj" fmla="val 50000"/>
              </a:avLst>
            </a:prstGeom>
            <a:solidFill>
              <a:srgbClr val="008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5" name="AutoShape 405"/>
            <p:cNvSpPr/>
            <p:nvPr/>
          </p:nvSpPr>
          <p:spPr>
            <a:xfrm>
              <a:off x="8783640" y="6066000"/>
              <a:ext cx="289080" cy="792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6" name="AutoShape 406"/>
            <p:cNvSpPr/>
            <p:nvPr/>
          </p:nvSpPr>
          <p:spPr>
            <a:xfrm>
              <a:off x="8856720" y="6354720"/>
              <a:ext cx="287280" cy="50328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37" name="Group 231"/>
          <p:cNvGrpSpPr/>
          <p:nvPr/>
        </p:nvGrpSpPr>
        <p:grpSpPr>
          <a:xfrm>
            <a:off x="964080" y="5729040"/>
            <a:ext cx="811080" cy="1915920"/>
            <a:chOff x="964080" y="5729040"/>
            <a:chExt cx="811080" cy="1915920"/>
          </a:xfrm>
        </p:grpSpPr>
        <p:sp>
          <p:nvSpPr>
            <p:cNvPr id="538" name="Arc 232"/>
            <p:cNvSpPr/>
            <p:nvPr/>
          </p:nvSpPr>
          <p:spPr>
            <a:xfrm rot="21309600">
              <a:off x="1032840" y="5953320"/>
              <a:ext cx="672840" cy="16660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39" name="Oval 233"/>
            <p:cNvSpPr/>
            <p:nvPr/>
          </p:nvSpPr>
          <p:spPr>
            <a:xfrm rot="18084000">
              <a:off x="1103400" y="610560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0" name="Oval 234"/>
            <p:cNvSpPr/>
            <p:nvPr/>
          </p:nvSpPr>
          <p:spPr>
            <a:xfrm rot="19984200">
              <a:off x="971280" y="5956200"/>
              <a:ext cx="2106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1" name="Oval 235"/>
            <p:cNvSpPr/>
            <p:nvPr/>
          </p:nvSpPr>
          <p:spPr>
            <a:xfrm rot="6199200">
              <a:off x="1103760" y="581040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2" name="Oval 236"/>
            <p:cNvSpPr/>
            <p:nvPr/>
          </p:nvSpPr>
          <p:spPr>
            <a:xfrm>
              <a:off x="1320480" y="6030360"/>
              <a:ext cx="210600" cy="738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3" name="Oval 237"/>
            <p:cNvSpPr/>
            <p:nvPr/>
          </p:nvSpPr>
          <p:spPr>
            <a:xfrm rot="17473200">
              <a:off x="1032480" y="6031080"/>
              <a:ext cx="222480" cy="7056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4" name="Oval 238"/>
            <p:cNvSpPr/>
            <p:nvPr/>
          </p:nvSpPr>
          <p:spPr>
            <a:xfrm rot="18975000">
              <a:off x="1182240" y="5881320"/>
              <a:ext cx="208800" cy="734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5" name="Oval 239"/>
            <p:cNvSpPr/>
            <p:nvPr/>
          </p:nvSpPr>
          <p:spPr>
            <a:xfrm rot="18856800">
              <a:off x="1172880" y="61786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6" name="Oval 240"/>
            <p:cNvSpPr/>
            <p:nvPr/>
          </p:nvSpPr>
          <p:spPr>
            <a:xfrm rot="20104200">
              <a:off x="1251000" y="5956560"/>
              <a:ext cx="208800" cy="7344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7" name="Oval 241"/>
            <p:cNvSpPr/>
            <p:nvPr/>
          </p:nvSpPr>
          <p:spPr>
            <a:xfrm rot="18856800">
              <a:off x="1227600" y="6275880"/>
              <a:ext cx="22248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8" name="Oval 242"/>
            <p:cNvSpPr/>
            <p:nvPr/>
          </p:nvSpPr>
          <p:spPr>
            <a:xfrm rot="18856800">
              <a:off x="1293840" y="6343920"/>
              <a:ext cx="22248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49" name="Oval 243"/>
            <p:cNvSpPr/>
            <p:nvPr/>
          </p:nvSpPr>
          <p:spPr>
            <a:xfrm rot="1036200">
              <a:off x="1505880" y="6403320"/>
              <a:ext cx="222120" cy="691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0" name="Oval 244"/>
            <p:cNvSpPr/>
            <p:nvPr/>
          </p:nvSpPr>
          <p:spPr>
            <a:xfrm rot="403200">
              <a:off x="1361520" y="6143760"/>
              <a:ext cx="22176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1" name="Oval 245"/>
            <p:cNvSpPr/>
            <p:nvPr/>
          </p:nvSpPr>
          <p:spPr>
            <a:xfrm rot="346800">
              <a:off x="1437840" y="6269040"/>
              <a:ext cx="222120" cy="691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52" name="Oval 246"/>
            <p:cNvSpPr/>
            <p:nvPr/>
          </p:nvSpPr>
          <p:spPr>
            <a:xfrm rot="18913800">
              <a:off x="1371960" y="6469200"/>
              <a:ext cx="222120" cy="694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53" name="Group 25"/>
          <p:cNvGrpSpPr/>
          <p:nvPr/>
        </p:nvGrpSpPr>
        <p:grpSpPr>
          <a:xfrm>
            <a:off x="1594080" y="5735160"/>
            <a:ext cx="595080" cy="635040"/>
            <a:chOff x="1594080" y="5735160"/>
            <a:chExt cx="595080" cy="635040"/>
          </a:xfrm>
        </p:grpSpPr>
        <p:grpSp>
          <p:nvGrpSpPr>
            <p:cNvPr id="554" name="Group 20"/>
            <p:cNvGrpSpPr/>
            <p:nvPr/>
          </p:nvGrpSpPr>
          <p:grpSpPr>
            <a:xfrm>
              <a:off x="1594080" y="5735160"/>
              <a:ext cx="595080" cy="444240"/>
              <a:chOff x="1594080" y="5735160"/>
              <a:chExt cx="595080" cy="444240"/>
            </a:xfrm>
          </p:grpSpPr>
          <p:grpSp>
            <p:nvGrpSpPr>
              <p:cNvPr id="555" name="Group 12"/>
              <p:cNvGrpSpPr/>
              <p:nvPr/>
            </p:nvGrpSpPr>
            <p:grpSpPr>
              <a:xfrm>
                <a:off x="1843200" y="5906880"/>
                <a:ext cx="345960" cy="231480"/>
                <a:chOff x="1843200" y="5906880"/>
                <a:chExt cx="345960" cy="231480"/>
              </a:xfrm>
            </p:grpSpPr>
            <p:sp>
              <p:nvSpPr>
                <p:cNvPr id="556" name="Oval 10"/>
                <p:cNvSpPr/>
                <p:nvPr/>
              </p:nvSpPr>
              <p:spPr>
                <a:xfrm rot="1518600">
                  <a:off x="1843200" y="6002640"/>
                  <a:ext cx="314640" cy="716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11"/>
                <p:cNvSpPr/>
                <p:nvPr/>
              </p:nvSpPr>
              <p:spPr>
                <a:xfrm rot="11475000">
                  <a:off x="1870200" y="5936760"/>
                  <a:ext cx="314640" cy="7128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13"/>
              <p:cNvGrpSpPr/>
              <p:nvPr/>
            </p:nvGrpSpPr>
            <p:grpSpPr>
              <a:xfrm>
                <a:off x="1594080" y="5798520"/>
                <a:ext cx="342720" cy="214560"/>
                <a:chOff x="1594080" y="5798520"/>
                <a:chExt cx="342720" cy="214560"/>
              </a:xfrm>
            </p:grpSpPr>
            <p:sp>
              <p:nvSpPr>
                <p:cNvPr id="559" name="Oval 14"/>
                <p:cNvSpPr/>
                <p:nvPr/>
              </p:nvSpPr>
              <p:spPr>
                <a:xfrm rot="12089400">
                  <a:off x="1619640" y="5853240"/>
                  <a:ext cx="314640" cy="716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15"/>
                <p:cNvSpPr/>
                <p:nvPr/>
              </p:nvSpPr>
              <p:spPr>
                <a:xfrm rot="446400">
                  <a:off x="1597320" y="5921280"/>
                  <a:ext cx="314640" cy="7128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Oval 17"/>
              <p:cNvSpPr/>
              <p:nvPr/>
            </p:nvSpPr>
            <p:spPr>
              <a:xfrm rot="1102800">
                <a:off x="1839960" y="5889240"/>
                <a:ext cx="5292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 rot="1102800">
                <a:off x="1870560" y="574128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 rot="1102800">
                <a:off x="1970280" y="5774400"/>
                <a:ext cx="5220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64" name="Oval 21"/>
            <p:cNvSpPr/>
            <p:nvPr/>
          </p:nvSpPr>
          <p:spPr>
            <a:xfrm flipH="1" rot="20340600">
              <a:off x="1762200" y="6239520"/>
              <a:ext cx="324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65" name="Oval 24"/>
            <p:cNvSpPr/>
            <p:nvPr/>
          </p:nvSpPr>
          <p:spPr>
            <a:xfrm flipH="1" rot="20340600">
              <a:off x="1728000" y="6329160"/>
              <a:ext cx="3204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66" name="Group 26"/>
          <p:cNvGrpSpPr/>
          <p:nvPr/>
        </p:nvGrpSpPr>
        <p:grpSpPr>
          <a:xfrm>
            <a:off x="8202240" y="4019040"/>
            <a:ext cx="422280" cy="469080"/>
            <a:chOff x="8202240" y="4019040"/>
            <a:chExt cx="422280" cy="469080"/>
          </a:xfrm>
        </p:grpSpPr>
        <p:grpSp>
          <p:nvGrpSpPr>
            <p:cNvPr id="567" name="Group 27"/>
            <p:cNvGrpSpPr/>
            <p:nvPr/>
          </p:nvGrpSpPr>
          <p:grpSpPr>
            <a:xfrm>
              <a:off x="8202240" y="4019040"/>
              <a:ext cx="422280" cy="333720"/>
              <a:chOff x="8202240" y="4019040"/>
              <a:chExt cx="422280" cy="333720"/>
            </a:xfrm>
          </p:grpSpPr>
          <p:grpSp>
            <p:nvGrpSpPr>
              <p:cNvPr id="568" name="Group 28"/>
              <p:cNvGrpSpPr/>
              <p:nvPr/>
            </p:nvGrpSpPr>
            <p:grpSpPr>
              <a:xfrm>
                <a:off x="8378640" y="4046040"/>
                <a:ext cx="245880" cy="193320"/>
                <a:chOff x="8378640" y="4046040"/>
                <a:chExt cx="245880" cy="193320"/>
              </a:xfrm>
            </p:grpSpPr>
            <p:sp>
              <p:nvSpPr>
                <p:cNvPr id="569" name="Oval 29"/>
                <p:cNvSpPr/>
                <p:nvPr/>
              </p:nvSpPr>
              <p:spPr>
                <a:xfrm rot="20553600">
                  <a:off x="8396280" y="4151880"/>
                  <a:ext cx="22500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30"/>
                <p:cNvSpPr/>
                <p:nvPr/>
              </p:nvSpPr>
              <p:spPr>
                <a:xfrm rot="8910000">
                  <a:off x="8376120" y="4100760"/>
                  <a:ext cx="22500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31"/>
              <p:cNvGrpSpPr/>
              <p:nvPr/>
            </p:nvGrpSpPr>
            <p:grpSpPr>
              <a:xfrm>
                <a:off x="8202240" y="4140720"/>
                <a:ext cx="245160" cy="203400"/>
                <a:chOff x="8202240" y="4140720"/>
                <a:chExt cx="245160" cy="203400"/>
              </a:xfrm>
            </p:grpSpPr>
            <p:sp>
              <p:nvSpPr>
                <p:cNvPr id="572" name="Oval 32"/>
                <p:cNvSpPr/>
                <p:nvPr/>
              </p:nvSpPr>
              <p:spPr>
                <a:xfrm rot="9524400">
                  <a:off x="8204400" y="4179600"/>
                  <a:ext cx="22500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Oval 33"/>
                <p:cNvSpPr/>
                <p:nvPr/>
              </p:nvSpPr>
              <p:spPr>
                <a:xfrm rot="19481400">
                  <a:off x="8227440" y="4229640"/>
                  <a:ext cx="22500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Oval 34"/>
              <p:cNvSpPr/>
              <p:nvPr/>
            </p:nvSpPr>
            <p:spPr>
              <a:xfrm rot="20137800">
                <a:off x="8418240" y="4132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75" name="Oval 35"/>
              <p:cNvSpPr/>
              <p:nvPr/>
            </p:nvSpPr>
            <p:spPr>
              <a:xfrm rot="20137800">
                <a:off x="8304120" y="4055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76" name="Oval 36"/>
              <p:cNvSpPr/>
              <p:nvPr/>
            </p:nvSpPr>
            <p:spPr>
              <a:xfrm rot="20137800">
                <a:off x="8372520" y="402408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77" name="Oval 37"/>
            <p:cNvSpPr/>
            <p:nvPr/>
          </p:nvSpPr>
          <p:spPr>
            <a:xfrm flipH="1" rot="17775600">
              <a:off x="8497440" y="4392720"/>
              <a:ext cx="2304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78" name="Oval 38"/>
            <p:cNvSpPr/>
            <p:nvPr/>
          </p:nvSpPr>
          <p:spPr>
            <a:xfrm flipH="1" rot="17775600">
              <a:off x="8525880" y="445788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79" name="Group 39"/>
          <p:cNvGrpSpPr/>
          <p:nvPr/>
        </p:nvGrpSpPr>
        <p:grpSpPr>
          <a:xfrm>
            <a:off x="4242600" y="5743080"/>
            <a:ext cx="424800" cy="486000"/>
            <a:chOff x="4242600" y="5743080"/>
            <a:chExt cx="424800" cy="486000"/>
          </a:xfrm>
        </p:grpSpPr>
        <p:grpSp>
          <p:nvGrpSpPr>
            <p:cNvPr id="580" name="Group 40"/>
            <p:cNvGrpSpPr/>
            <p:nvPr/>
          </p:nvGrpSpPr>
          <p:grpSpPr>
            <a:xfrm>
              <a:off x="4242600" y="5743080"/>
              <a:ext cx="424800" cy="340560"/>
              <a:chOff x="4242600" y="5743080"/>
              <a:chExt cx="424800" cy="340560"/>
            </a:xfrm>
          </p:grpSpPr>
          <p:grpSp>
            <p:nvGrpSpPr>
              <p:cNvPr id="581" name="Group 41"/>
              <p:cNvGrpSpPr/>
              <p:nvPr/>
            </p:nvGrpSpPr>
            <p:grpSpPr>
              <a:xfrm>
                <a:off x="4425840" y="5795280"/>
                <a:ext cx="241560" cy="168120"/>
                <a:chOff x="4425840" y="5795280"/>
                <a:chExt cx="241560" cy="168120"/>
              </a:xfrm>
            </p:grpSpPr>
            <p:sp>
              <p:nvSpPr>
                <p:cNvPr id="582" name="Oval 42"/>
                <p:cNvSpPr/>
                <p:nvPr/>
              </p:nvSpPr>
              <p:spPr>
                <a:xfrm rot="21049800">
                  <a:off x="4439160" y="5891040"/>
                  <a:ext cx="225360" cy="5472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3"/>
                <p:cNvSpPr/>
                <p:nvPr/>
              </p:nvSpPr>
              <p:spPr>
                <a:xfrm rot="9406200">
                  <a:off x="4427280" y="5837400"/>
                  <a:ext cx="225360" cy="5436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44"/>
              <p:cNvGrpSpPr/>
              <p:nvPr/>
            </p:nvGrpSpPr>
            <p:grpSpPr>
              <a:xfrm>
                <a:off x="4242600" y="5865840"/>
                <a:ext cx="243720" cy="180000"/>
                <a:chOff x="4242600" y="5865840"/>
                <a:chExt cx="243720" cy="180000"/>
              </a:xfrm>
            </p:grpSpPr>
            <p:sp>
              <p:nvSpPr>
                <p:cNvPr id="585" name="Oval 45"/>
                <p:cNvSpPr/>
                <p:nvPr/>
              </p:nvSpPr>
              <p:spPr>
                <a:xfrm rot="10021200">
                  <a:off x="4245480" y="5890320"/>
                  <a:ext cx="225360" cy="54720"/>
                </a:xfrm>
                <a:prstGeom prst="ellipse">
                  <a:avLst/>
                </a:prstGeom>
                <a:solidFill>
                  <a:srgbClr val="ff99cc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6"/>
                <p:cNvSpPr/>
                <p:nvPr/>
              </p:nvSpPr>
              <p:spPr>
                <a:xfrm rot="19978200">
                  <a:off x="4260960" y="5943240"/>
                  <a:ext cx="225360" cy="54360"/>
                </a:xfrm>
                <a:prstGeom prst="ellipse">
                  <a:avLst/>
                </a:prstGeom>
                <a:solidFill>
                  <a:srgbClr val="ff00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Oval 47"/>
              <p:cNvSpPr/>
              <p:nvPr/>
            </p:nvSpPr>
            <p:spPr>
              <a:xfrm rot="20634000">
                <a:off x="4452480" y="5860800"/>
                <a:ext cx="37800" cy="2217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88" name="Oval 48"/>
              <p:cNvSpPr/>
              <p:nvPr/>
            </p:nvSpPr>
            <p:spPr>
              <a:xfrm rot="20634000">
                <a:off x="4362840" y="576792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589" name="Oval 49"/>
              <p:cNvSpPr/>
              <p:nvPr/>
            </p:nvSpPr>
            <p:spPr>
              <a:xfrm rot="20634000">
                <a:off x="4435200" y="5747040"/>
                <a:ext cx="3708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590" name="Oval 50"/>
            <p:cNvSpPr/>
            <p:nvPr/>
          </p:nvSpPr>
          <p:spPr>
            <a:xfrm flipH="1" rot="18271200">
              <a:off x="4506480" y="6129000"/>
              <a:ext cx="23400" cy="2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591" name="Oval 51"/>
            <p:cNvSpPr/>
            <p:nvPr/>
          </p:nvSpPr>
          <p:spPr>
            <a:xfrm flipH="1" rot="18271200">
              <a:off x="4527000" y="6197400"/>
              <a:ext cx="23040" cy="2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592" name="Group 65"/>
          <p:cNvGrpSpPr/>
          <p:nvPr/>
        </p:nvGrpSpPr>
        <p:grpSpPr>
          <a:xfrm>
            <a:off x="817920" y="5295600"/>
            <a:ext cx="369360" cy="432000"/>
            <a:chOff x="817920" y="5295600"/>
            <a:chExt cx="369360" cy="432000"/>
          </a:xfrm>
        </p:grpSpPr>
        <p:grpSp>
          <p:nvGrpSpPr>
            <p:cNvPr id="593" name="Group 66"/>
            <p:cNvGrpSpPr/>
            <p:nvPr/>
          </p:nvGrpSpPr>
          <p:grpSpPr>
            <a:xfrm>
              <a:off x="817920" y="5295600"/>
              <a:ext cx="369360" cy="312120"/>
              <a:chOff x="817920" y="5295600"/>
              <a:chExt cx="369360" cy="312120"/>
            </a:xfrm>
          </p:grpSpPr>
          <p:grpSp>
            <p:nvGrpSpPr>
              <p:cNvPr id="594" name="Group 67"/>
              <p:cNvGrpSpPr/>
              <p:nvPr/>
            </p:nvGrpSpPr>
            <p:grpSpPr>
              <a:xfrm>
                <a:off x="964800" y="5414760"/>
                <a:ext cx="222480" cy="180000"/>
                <a:chOff x="964800" y="5414760"/>
                <a:chExt cx="222480" cy="180000"/>
              </a:xfrm>
            </p:grpSpPr>
            <p:sp>
              <p:nvSpPr>
                <p:cNvPr id="595" name="Oval 68"/>
                <p:cNvSpPr/>
                <p:nvPr/>
              </p:nvSpPr>
              <p:spPr>
                <a:xfrm rot="2069400">
                  <a:off x="962640" y="5491440"/>
                  <a:ext cx="194040" cy="525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69"/>
                <p:cNvSpPr/>
                <p:nvPr/>
              </p:nvSpPr>
              <p:spPr>
                <a:xfrm rot="12025800">
                  <a:off x="990000" y="5446800"/>
                  <a:ext cx="194040" cy="52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70"/>
              <p:cNvGrpSpPr/>
              <p:nvPr/>
            </p:nvGrpSpPr>
            <p:grpSpPr>
              <a:xfrm>
                <a:off x="817920" y="5325120"/>
                <a:ext cx="221400" cy="171720"/>
                <a:chOff x="817920" y="5325120"/>
                <a:chExt cx="221400" cy="171720"/>
              </a:xfrm>
            </p:grpSpPr>
            <p:sp>
              <p:nvSpPr>
                <p:cNvPr id="598" name="Oval 71"/>
                <p:cNvSpPr/>
                <p:nvPr/>
              </p:nvSpPr>
              <p:spPr>
                <a:xfrm rot="12640800">
                  <a:off x="845280" y="5370840"/>
                  <a:ext cx="194040" cy="52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Oval 72"/>
                <p:cNvSpPr/>
                <p:nvPr/>
              </p:nvSpPr>
              <p:spPr>
                <a:xfrm rot="997200">
                  <a:off x="821160" y="5418000"/>
                  <a:ext cx="194040" cy="522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Oval 73"/>
              <p:cNvSpPr/>
              <p:nvPr/>
            </p:nvSpPr>
            <p:spPr>
              <a:xfrm rot="1653600">
                <a:off x="960480" y="5399640"/>
                <a:ext cx="32400" cy="2124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01" name="Oval 74"/>
              <p:cNvSpPr/>
              <p:nvPr/>
            </p:nvSpPr>
            <p:spPr>
              <a:xfrm rot="1653600">
                <a:off x="1017720" y="529992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02" name="Oval 75"/>
              <p:cNvSpPr/>
              <p:nvPr/>
            </p:nvSpPr>
            <p:spPr>
              <a:xfrm rot="1653600">
                <a:off x="1075320" y="5329800"/>
                <a:ext cx="320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03" name="Oval 76"/>
            <p:cNvSpPr/>
            <p:nvPr/>
          </p:nvSpPr>
          <p:spPr>
            <a:xfrm flipH="1" rot="20891400">
              <a:off x="899640" y="5639760"/>
              <a:ext cx="19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04" name="Oval 77"/>
            <p:cNvSpPr/>
            <p:nvPr/>
          </p:nvSpPr>
          <p:spPr>
            <a:xfrm flipH="1" rot="20891400">
              <a:off x="872280" y="5699160"/>
              <a:ext cx="19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05" name="Group 78"/>
          <p:cNvGrpSpPr/>
          <p:nvPr/>
        </p:nvGrpSpPr>
        <p:grpSpPr>
          <a:xfrm>
            <a:off x="-724680" y="1240200"/>
            <a:ext cx="657360" cy="642240"/>
            <a:chOff x="-724680" y="1240200"/>
            <a:chExt cx="657360" cy="642240"/>
          </a:xfrm>
        </p:grpSpPr>
        <p:grpSp>
          <p:nvGrpSpPr>
            <p:cNvPr id="606" name="Group 79"/>
            <p:cNvGrpSpPr/>
            <p:nvPr/>
          </p:nvGrpSpPr>
          <p:grpSpPr>
            <a:xfrm>
              <a:off x="-546120" y="1240200"/>
              <a:ext cx="478800" cy="642240"/>
              <a:chOff x="-546120" y="1240200"/>
              <a:chExt cx="478800" cy="642240"/>
            </a:xfrm>
          </p:grpSpPr>
          <p:grpSp>
            <p:nvGrpSpPr>
              <p:cNvPr id="607" name="Group 80"/>
              <p:cNvGrpSpPr/>
              <p:nvPr/>
            </p:nvGrpSpPr>
            <p:grpSpPr>
              <a:xfrm>
                <a:off x="-364320" y="1510560"/>
                <a:ext cx="297000" cy="371880"/>
                <a:chOff x="-364320" y="1510560"/>
                <a:chExt cx="297000" cy="371880"/>
              </a:xfrm>
            </p:grpSpPr>
            <p:sp>
              <p:nvSpPr>
                <p:cNvPr id="608" name="Oval 81"/>
                <p:cNvSpPr/>
                <p:nvPr/>
              </p:nvSpPr>
              <p:spPr>
                <a:xfrm rot="4081800">
                  <a:off x="-441360" y="1669320"/>
                  <a:ext cx="353520" cy="7164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82"/>
                <p:cNvSpPr/>
                <p:nvPr/>
              </p:nvSpPr>
              <p:spPr>
                <a:xfrm rot="14038800">
                  <a:off x="-376560" y="1638720"/>
                  <a:ext cx="353520" cy="7128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Group 83"/>
              <p:cNvGrpSpPr/>
              <p:nvPr/>
            </p:nvGrpSpPr>
            <p:grpSpPr>
              <a:xfrm>
                <a:off x="-546120" y="1240200"/>
                <a:ext cx="312480" cy="367920"/>
                <a:chOff x="-546120" y="1240200"/>
                <a:chExt cx="312480" cy="367920"/>
              </a:xfrm>
            </p:grpSpPr>
            <p:sp>
              <p:nvSpPr>
                <p:cNvPr id="611" name="Oval 84"/>
                <p:cNvSpPr/>
                <p:nvPr/>
              </p:nvSpPr>
              <p:spPr>
                <a:xfrm rot="14653200">
                  <a:off x="-519120" y="1379160"/>
                  <a:ext cx="353520" cy="7164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85"/>
                <p:cNvSpPr/>
                <p:nvPr/>
              </p:nvSpPr>
              <p:spPr>
                <a:xfrm rot="3010200">
                  <a:off x="-582120" y="1413720"/>
                  <a:ext cx="353520" cy="7128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Oval 86"/>
              <p:cNvSpPr/>
              <p:nvPr/>
            </p:nvSpPr>
            <p:spPr>
              <a:xfrm rot="3666600">
                <a:off x="-397080" y="1451880"/>
                <a:ext cx="59400" cy="2890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14" name="Oval 87"/>
              <p:cNvSpPr/>
              <p:nvPr/>
            </p:nvSpPr>
            <p:spPr>
              <a:xfrm rot="3666600">
                <a:off x="-203760" y="138636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15" name="Oval 88"/>
              <p:cNvSpPr/>
              <p:nvPr/>
            </p:nvSpPr>
            <p:spPr>
              <a:xfrm rot="3666600">
                <a:off x="-146520" y="1489680"/>
                <a:ext cx="586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16" name="Oval 89"/>
            <p:cNvSpPr/>
            <p:nvPr/>
          </p:nvSpPr>
          <p:spPr>
            <a:xfrm flipH="1" rot="1303800">
              <a:off x="-626400" y="16732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17" name="Oval 90"/>
            <p:cNvSpPr/>
            <p:nvPr/>
          </p:nvSpPr>
          <p:spPr>
            <a:xfrm flipH="1" rot="1303800">
              <a:off x="-719280" y="17128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18" name="Group 91"/>
          <p:cNvGrpSpPr/>
          <p:nvPr/>
        </p:nvGrpSpPr>
        <p:grpSpPr>
          <a:xfrm>
            <a:off x="179280" y="5274720"/>
            <a:ext cx="496080" cy="492480"/>
            <a:chOff x="179280" y="5274720"/>
            <a:chExt cx="496080" cy="492480"/>
          </a:xfrm>
        </p:grpSpPr>
        <p:grpSp>
          <p:nvGrpSpPr>
            <p:cNvPr id="619" name="Group 92"/>
            <p:cNvGrpSpPr/>
            <p:nvPr/>
          </p:nvGrpSpPr>
          <p:grpSpPr>
            <a:xfrm>
              <a:off x="188280" y="5274720"/>
              <a:ext cx="487080" cy="428760"/>
              <a:chOff x="188280" y="5274720"/>
              <a:chExt cx="487080" cy="428760"/>
            </a:xfrm>
          </p:grpSpPr>
          <p:grpSp>
            <p:nvGrpSpPr>
              <p:cNvPr id="620" name="Group 93"/>
              <p:cNvGrpSpPr/>
              <p:nvPr/>
            </p:nvGrpSpPr>
            <p:grpSpPr>
              <a:xfrm>
                <a:off x="382320" y="5437440"/>
                <a:ext cx="293040" cy="266040"/>
                <a:chOff x="382320" y="5437440"/>
                <a:chExt cx="293040" cy="266040"/>
              </a:xfrm>
            </p:grpSpPr>
            <p:sp>
              <p:nvSpPr>
                <p:cNvPr id="621" name="Oval 94"/>
                <p:cNvSpPr/>
                <p:nvPr/>
              </p:nvSpPr>
              <p:spPr>
                <a:xfrm rot="2778000">
                  <a:off x="361800" y="5551200"/>
                  <a:ext cx="275760" cy="6192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95"/>
                <p:cNvSpPr/>
                <p:nvPr/>
              </p:nvSpPr>
              <p:spPr>
                <a:xfrm rot="12734400">
                  <a:off x="404280" y="5505840"/>
                  <a:ext cx="275760" cy="6156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96"/>
              <p:cNvGrpSpPr/>
              <p:nvPr/>
            </p:nvGrpSpPr>
            <p:grpSpPr>
              <a:xfrm>
                <a:off x="188280" y="5274720"/>
                <a:ext cx="297720" cy="256320"/>
                <a:chOff x="188280" y="5274720"/>
                <a:chExt cx="297720" cy="256320"/>
              </a:xfrm>
            </p:grpSpPr>
            <p:sp>
              <p:nvSpPr>
                <p:cNvPr id="624" name="Oval 97"/>
                <p:cNvSpPr/>
                <p:nvPr/>
              </p:nvSpPr>
              <p:spPr>
                <a:xfrm rot="13349400">
                  <a:off x="225360" y="5359320"/>
                  <a:ext cx="275760" cy="61920"/>
                </a:xfrm>
                <a:prstGeom prst="ellipse">
                  <a:avLst/>
                </a:prstGeom>
                <a:solidFill>
                  <a:srgbClr val="3366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Oval 98"/>
                <p:cNvSpPr/>
                <p:nvPr/>
              </p:nvSpPr>
              <p:spPr>
                <a:xfrm rot="1705800">
                  <a:off x="186120" y="5407560"/>
                  <a:ext cx="275760" cy="61560"/>
                </a:xfrm>
                <a:prstGeom prst="ellipse">
                  <a:avLst/>
                </a:prstGeom>
                <a:solidFill>
                  <a:srgbClr val="00cc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99"/>
              <p:cNvSpPr/>
              <p:nvPr/>
            </p:nvSpPr>
            <p:spPr>
              <a:xfrm rot="2362200">
                <a:off x="369000" y="5411160"/>
                <a:ext cx="4644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27" name="Oval 100"/>
              <p:cNvSpPr/>
              <p:nvPr/>
            </p:nvSpPr>
            <p:spPr>
              <a:xfrm rot="2362200">
                <a:off x="471600" y="530640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28" name="Oval 101"/>
              <p:cNvSpPr/>
              <p:nvPr/>
            </p:nvSpPr>
            <p:spPr>
              <a:xfrm rot="2362200">
                <a:off x="543240" y="5365080"/>
                <a:ext cx="4572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29" name="Oval 102"/>
            <p:cNvSpPr/>
            <p:nvPr/>
          </p:nvSpPr>
          <p:spPr>
            <a:xfrm flipH="1">
              <a:off x="234000" y="5673960"/>
              <a:ext cx="284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30" name="Oval 103"/>
            <p:cNvSpPr/>
            <p:nvPr/>
          </p:nvSpPr>
          <p:spPr>
            <a:xfrm flipH="1">
              <a:off x="179280" y="5735880"/>
              <a:ext cx="2808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31" name="Group 104"/>
          <p:cNvGrpSpPr/>
          <p:nvPr/>
        </p:nvGrpSpPr>
        <p:grpSpPr>
          <a:xfrm>
            <a:off x="8151120" y="5160600"/>
            <a:ext cx="516240" cy="440280"/>
            <a:chOff x="8151120" y="5160600"/>
            <a:chExt cx="516240" cy="440280"/>
          </a:xfrm>
        </p:grpSpPr>
        <p:grpSp>
          <p:nvGrpSpPr>
            <p:cNvPr id="632" name="Group 105"/>
            <p:cNvGrpSpPr/>
            <p:nvPr/>
          </p:nvGrpSpPr>
          <p:grpSpPr>
            <a:xfrm>
              <a:off x="8151120" y="5160600"/>
              <a:ext cx="516240" cy="262800"/>
              <a:chOff x="8151120" y="5160600"/>
              <a:chExt cx="516240" cy="262800"/>
            </a:xfrm>
          </p:grpSpPr>
          <p:grpSp>
            <p:nvGrpSpPr>
              <p:cNvPr id="633" name="Group 106"/>
              <p:cNvGrpSpPr/>
              <p:nvPr/>
            </p:nvGrpSpPr>
            <p:grpSpPr>
              <a:xfrm>
                <a:off x="8381160" y="5244840"/>
                <a:ext cx="286200" cy="119160"/>
                <a:chOff x="8381160" y="5244840"/>
                <a:chExt cx="286200" cy="119160"/>
              </a:xfrm>
            </p:grpSpPr>
            <p:sp>
              <p:nvSpPr>
                <p:cNvPr id="634" name="Oval 107"/>
                <p:cNvSpPr/>
                <p:nvPr/>
              </p:nvSpPr>
              <p:spPr>
                <a:xfrm rot="580200">
                  <a:off x="8382600" y="5298120"/>
                  <a:ext cx="279000" cy="4284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108"/>
                <p:cNvSpPr/>
                <p:nvPr/>
              </p:nvSpPr>
              <p:spPr>
                <a:xfrm rot="10536600">
                  <a:off x="8386920" y="5255280"/>
                  <a:ext cx="279000" cy="424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Group 109"/>
              <p:cNvGrpSpPr/>
              <p:nvPr/>
            </p:nvGrpSpPr>
            <p:grpSpPr>
              <a:xfrm>
                <a:off x="8151120" y="5230080"/>
                <a:ext cx="283320" cy="119160"/>
                <a:chOff x="8151120" y="5230080"/>
                <a:chExt cx="283320" cy="119160"/>
              </a:xfrm>
            </p:grpSpPr>
            <p:sp>
              <p:nvSpPr>
                <p:cNvPr id="637" name="Oval 110"/>
                <p:cNvSpPr/>
                <p:nvPr/>
              </p:nvSpPr>
              <p:spPr>
                <a:xfrm rot="11151600">
                  <a:off x="8154000" y="5244120"/>
                  <a:ext cx="279000" cy="42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111"/>
                <p:cNvSpPr/>
                <p:nvPr/>
              </p:nvSpPr>
              <p:spPr>
                <a:xfrm rot="21108600">
                  <a:off x="8152560" y="5286960"/>
                  <a:ext cx="279000" cy="424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Oval 112"/>
              <p:cNvSpPr/>
              <p:nvPr/>
            </p:nvSpPr>
            <p:spPr>
              <a:xfrm rot="164400">
                <a:off x="8382960" y="5249520"/>
                <a:ext cx="46800" cy="1724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40" name="Oval 113"/>
              <p:cNvSpPr/>
              <p:nvPr/>
            </p:nvSpPr>
            <p:spPr>
              <a:xfrm rot="164400">
                <a:off x="8344440" y="516132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41" name="Oval 114"/>
              <p:cNvSpPr/>
              <p:nvPr/>
            </p:nvSpPr>
            <p:spPr>
              <a:xfrm rot="164400">
                <a:off x="8437680" y="5166000"/>
                <a:ext cx="46080" cy="4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42" name="Oval 115"/>
            <p:cNvSpPr/>
            <p:nvPr/>
          </p:nvSpPr>
          <p:spPr>
            <a:xfrm flipH="1" rot="19402200">
              <a:off x="8329320" y="5504040"/>
              <a:ext cx="2880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43" name="Oval 116"/>
            <p:cNvSpPr/>
            <p:nvPr/>
          </p:nvSpPr>
          <p:spPr>
            <a:xfrm flipH="1" rot="19402200">
              <a:off x="8309160" y="5572800"/>
              <a:ext cx="28440" cy="2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44" name="Group 133"/>
          <p:cNvGrpSpPr/>
          <p:nvPr/>
        </p:nvGrpSpPr>
        <p:grpSpPr>
          <a:xfrm>
            <a:off x="6156000" y="5684760"/>
            <a:ext cx="560520" cy="515520"/>
            <a:chOff x="6156000" y="5684760"/>
            <a:chExt cx="560520" cy="515520"/>
          </a:xfrm>
        </p:grpSpPr>
        <p:grpSp>
          <p:nvGrpSpPr>
            <p:cNvPr id="645" name="Group 134"/>
            <p:cNvGrpSpPr/>
            <p:nvPr/>
          </p:nvGrpSpPr>
          <p:grpSpPr>
            <a:xfrm>
              <a:off x="6171480" y="5684760"/>
              <a:ext cx="545040" cy="476280"/>
              <a:chOff x="6171480" y="5684760"/>
              <a:chExt cx="545040" cy="476280"/>
            </a:xfrm>
          </p:grpSpPr>
          <p:grpSp>
            <p:nvGrpSpPr>
              <p:cNvPr id="646" name="Group 135"/>
              <p:cNvGrpSpPr/>
              <p:nvPr/>
            </p:nvGrpSpPr>
            <p:grpSpPr>
              <a:xfrm>
                <a:off x="6393960" y="5870880"/>
                <a:ext cx="322560" cy="290160"/>
                <a:chOff x="6393960" y="5870880"/>
                <a:chExt cx="322560" cy="290160"/>
              </a:xfrm>
            </p:grpSpPr>
            <p:sp>
              <p:nvSpPr>
                <p:cNvPr id="647" name="Oval 136"/>
                <p:cNvSpPr/>
                <p:nvPr/>
              </p:nvSpPr>
              <p:spPr>
                <a:xfrm rot="2778000">
                  <a:off x="6367320" y="5994720"/>
                  <a:ext cx="314640" cy="6192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137"/>
                <p:cNvSpPr/>
                <p:nvPr/>
              </p:nvSpPr>
              <p:spPr>
                <a:xfrm rot="12734400">
                  <a:off x="6409440" y="5950080"/>
                  <a:ext cx="314640" cy="6156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Group 138"/>
              <p:cNvGrpSpPr/>
              <p:nvPr/>
            </p:nvGrpSpPr>
            <p:grpSpPr>
              <a:xfrm>
                <a:off x="6171480" y="5684760"/>
                <a:ext cx="329040" cy="279000"/>
                <a:chOff x="6171480" y="5684760"/>
                <a:chExt cx="329040" cy="279000"/>
              </a:xfrm>
            </p:grpSpPr>
            <p:sp>
              <p:nvSpPr>
                <p:cNvPr id="650" name="Oval 139"/>
                <p:cNvSpPr/>
                <p:nvPr/>
              </p:nvSpPr>
              <p:spPr>
                <a:xfrm rot="13349400">
                  <a:off x="6206040" y="5782680"/>
                  <a:ext cx="314640" cy="6192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Oval 140"/>
                <p:cNvSpPr/>
                <p:nvPr/>
              </p:nvSpPr>
              <p:spPr>
                <a:xfrm rot="1705800">
                  <a:off x="6166800" y="5830560"/>
                  <a:ext cx="314640" cy="6156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Oval 141"/>
              <p:cNvSpPr/>
              <p:nvPr/>
            </p:nvSpPr>
            <p:spPr>
              <a:xfrm rot="2362200">
                <a:off x="6378120" y="5844240"/>
                <a:ext cx="52920" cy="24984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53" name="Oval 142"/>
              <p:cNvSpPr/>
              <p:nvPr/>
            </p:nvSpPr>
            <p:spPr>
              <a:xfrm rot="2362200">
                <a:off x="6476400" y="573588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654" name="Oval 143"/>
              <p:cNvSpPr/>
              <p:nvPr/>
            </p:nvSpPr>
            <p:spPr>
              <a:xfrm rot="2362200">
                <a:off x="6557760" y="5802840"/>
                <a:ext cx="52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144"/>
            <p:cNvSpPr/>
            <p:nvPr/>
          </p:nvSpPr>
          <p:spPr>
            <a:xfrm flipH="1">
              <a:off x="6219720" y="6107040"/>
              <a:ext cx="324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56" name="Oval 145"/>
            <p:cNvSpPr/>
            <p:nvPr/>
          </p:nvSpPr>
          <p:spPr>
            <a:xfrm flipH="1">
              <a:off x="6155640" y="6168960"/>
              <a:ext cx="3204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57" name="Group 190"/>
          <p:cNvGrpSpPr/>
          <p:nvPr/>
        </p:nvGrpSpPr>
        <p:grpSpPr>
          <a:xfrm>
            <a:off x="6090120" y="6007680"/>
            <a:ext cx="1042560" cy="1775880"/>
            <a:chOff x="6090120" y="6007680"/>
            <a:chExt cx="1042560" cy="1775880"/>
          </a:xfrm>
        </p:grpSpPr>
        <p:sp>
          <p:nvSpPr>
            <p:cNvPr id="658" name="Arc 154"/>
            <p:cNvSpPr/>
            <p:nvPr/>
          </p:nvSpPr>
          <p:spPr>
            <a:xfrm rot="1401600">
              <a:off x="6388920" y="616104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59" name="Oval 155"/>
            <p:cNvSpPr/>
            <p:nvPr/>
          </p:nvSpPr>
          <p:spPr>
            <a:xfrm rot="19485600">
              <a:off x="6692760" y="6320520"/>
              <a:ext cx="19944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0" name="Oval 156"/>
            <p:cNvSpPr/>
            <p:nvPr/>
          </p:nvSpPr>
          <p:spPr>
            <a:xfrm rot="21386400">
              <a:off x="6650280" y="61470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1" name="Oval 157"/>
            <p:cNvSpPr/>
            <p:nvPr/>
          </p:nvSpPr>
          <p:spPr>
            <a:xfrm rot="7601400">
              <a:off x="6797520" y="607608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2" name="Oval 160"/>
            <p:cNvSpPr/>
            <p:nvPr/>
          </p:nvSpPr>
          <p:spPr>
            <a:xfrm rot="1401600">
              <a:off x="6892200" y="632448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3" name="Oval 161"/>
            <p:cNvSpPr/>
            <p:nvPr/>
          </p:nvSpPr>
          <p:spPr>
            <a:xfrm rot="1401600">
              <a:off x="6677280" y="608472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4" name="Oval 162"/>
            <p:cNvSpPr/>
            <p:nvPr/>
          </p:nvSpPr>
          <p:spPr>
            <a:xfrm rot="18875400">
              <a:off x="6663960" y="623304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5" name="Oval 164"/>
            <p:cNvSpPr/>
            <p:nvPr/>
          </p:nvSpPr>
          <p:spPr>
            <a:xfrm rot="20377200">
              <a:off x="6838560" y="61542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6" name="Oval 166"/>
            <p:cNvSpPr/>
            <p:nvPr/>
          </p:nvSpPr>
          <p:spPr>
            <a:xfrm rot="17602200">
              <a:off x="6719400" y="640044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67" name="Oval 167"/>
            <p:cNvSpPr/>
            <p:nvPr/>
          </p:nvSpPr>
          <p:spPr>
            <a:xfrm rot="21506400">
              <a:off x="6864120" y="624024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68" name="Group 204"/>
          <p:cNvGrpSpPr/>
          <p:nvPr/>
        </p:nvGrpSpPr>
        <p:grpSpPr>
          <a:xfrm>
            <a:off x="1692360" y="6449400"/>
            <a:ext cx="508680" cy="1803600"/>
            <a:chOff x="1692360" y="6449400"/>
            <a:chExt cx="508680" cy="1803600"/>
          </a:xfrm>
        </p:grpSpPr>
        <p:sp>
          <p:nvSpPr>
            <p:cNvPr id="669" name="Arc 205"/>
            <p:cNvSpPr/>
            <p:nvPr/>
          </p:nvSpPr>
          <p:spPr>
            <a:xfrm flipH="1">
              <a:off x="1692000" y="6653160"/>
              <a:ext cx="444600" cy="1599840"/>
            </a:xfrm>
            <a:custGeom>
              <a:avLst/>
              <a:gdLst/>
              <a:ahLst/>
              <a:rect l="l" t="t" r="r" b="b"/>
              <a:pathLst>
                <a:path fill="none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</a:path>
                <a:path stroke="0" w="16421" h="21600">
                  <a:moveTo>
                    <a:pt x="-1" y="0"/>
                  </a:moveTo>
                  <a:cubicBezTo>
                    <a:pt x="6317" y="0"/>
                    <a:pt x="12317" y="2765"/>
                    <a:pt x="16421" y="75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0" name="Oval 206"/>
            <p:cNvSpPr/>
            <p:nvPr/>
          </p:nvSpPr>
          <p:spPr>
            <a:xfrm flipH="1" rot="3516000">
              <a:off x="1891080" y="6790680"/>
              <a:ext cx="199440" cy="568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1" name="Oval 207"/>
            <p:cNvSpPr/>
            <p:nvPr/>
          </p:nvSpPr>
          <p:spPr>
            <a:xfrm flipH="1" rot="1615800">
              <a:off x="2019240" y="665280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2" name="Oval 208"/>
            <p:cNvSpPr/>
            <p:nvPr/>
          </p:nvSpPr>
          <p:spPr>
            <a:xfrm flipH="1" rot="15400800">
              <a:off x="1891080" y="6524640"/>
              <a:ext cx="199800" cy="57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3" name="Oval 209"/>
            <p:cNvSpPr/>
            <p:nvPr/>
          </p:nvSpPr>
          <p:spPr>
            <a:xfrm flipH="1">
              <a:off x="1727280" y="6719760"/>
              <a:ext cx="176400" cy="64800"/>
            </a:xfrm>
            <a:prstGeom prst="ellipse">
              <a:avLst/>
            </a:prstGeom>
            <a:solidFill>
              <a:srgbClr val="808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4" name="Oval 210"/>
            <p:cNvSpPr/>
            <p:nvPr/>
          </p:nvSpPr>
          <p:spPr>
            <a:xfrm flipH="1">
              <a:off x="2019240" y="6584760"/>
              <a:ext cx="17604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5" name="Oval 211"/>
            <p:cNvSpPr/>
            <p:nvPr/>
          </p:nvSpPr>
          <p:spPr>
            <a:xfrm flipH="1" rot="4126800">
              <a:off x="1951560" y="672156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6" name="Oval 212"/>
            <p:cNvSpPr/>
            <p:nvPr/>
          </p:nvSpPr>
          <p:spPr>
            <a:xfrm flipH="1" rot="2625000">
              <a:off x="1842840" y="65844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7" name="Oval 213"/>
            <p:cNvSpPr/>
            <p:nvPr/>
          </p:nvSpPr>
          <p:spPr>
            <a:xfrm flipH="1" rot="5400000">
              <a:off x="1834200" y="6853320"/>
              <a:ext cx="199800" cy="586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78" name="Oval 214"/>
            <p:cNvSpPr/>
            <p:nvPr/>
          </p:nvSpPr>
          <p:spPr>
            <a:xfrm flipH="1" rot="1495800">
              <a:off x="1785600" y="6652800"/>
              <a:ext cx="176400" cy="662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grpSp>
        <p:nvGrpSpPr>
          <p:cNvPr id="679" name="Group 263"/>
          <p:cNvGrpSpPr/>
          <p:nvPr/>
        </p:nvGrpSpPr>
        <p:grpSpPr>
          <a:xfrm>
            <a:off x="7292880" y="5499720"/>
            <a:ext cx="872640" cy="2072880"/>
            <a:chOff x="7292880" y="5499720"/>
            <a:chExt cx="872640" cy="2072880"/>
          </a:xfrm>
        </p:grpSpPr>
        <p:sp>
          <p:nvSpPr>
            <p:cNvPr id="680" name="Arc 264"/>
            <p:cNvSpPr/>
            <p:nvPr/>
          </p:nvSpPr>
          <p:spPr>
            <a:xfrm rot="248400">
              <a:off x="7356240" y="5754960"/>
              <a:ext cx="725400" cy="1793880"/>
            </a:xfrm>
            <a:custGeom>
              <a:avLst/>
              <a:gdLst/>
              <a:ahLst/>
              <a:rect l="l" t="t" r="r" b="b"/>
              <a:pathLst>
                <a:path fill="none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</a:path>
                <a:path stroke="0" w="20810" h="20197">
                  <a:moveTo>
                    <a:pt x="7657" y="0"/>
                  </a:moveTo>
                  <a:cubicBezTo>
                    <a:pt x="14084" y="2436"/>
                    <a:pt x="18967" y="7786"/>
                    <a:pt x="20809" y="14408"/>
                  </a:cubicBezTo>
                  <a:lnTo>
                    <a:pt x="0" y="20197"/>
                  </a:lnTo>
                  <a:lnTo>
                    <a:pt x="765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1" name="Oval 265"/>
            <p:cNvSpPr/>
            <p:nvPr/>
          </p:nvSpPr>
          <p:spPr>
            <a:xfrm rot="18622200">
              <a:off x="7543080" y="59011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2" name="Oval 266"/>
            <p:cNvSpPr/>
            <p:nvPr/>
          </p:nvSpPr>
          <p:spPr>
            <a:xfrm rot="20523000">
              <a:off x="7426800" y="5719320"/>
              <a:ext cx="2271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3" name="Oval 267"/>
            <p:cNvSpPr/>
            <p:nvPr/>
          </p:nvSpPr>
          <p:spPr>
            <a:xfrm rot="6737400">
              <a:off x="7592040" y="558756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4" name="Oval 268"/>
            <p:cNvSpPr/>
            <p:nvPr/>
          </p:nvSpPr>
          <p:spPr>
            <a:xfrm rot="538200">
              <a:off x="7786080" y="5856120"/>
              <a:ext cx="227160" cy="79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5" name="Oval 269"/>
            <p:cNvSpPr/>
            <p:nvPr/>
          </p:nvSpPr>
          <p:spPr>
            <a:xfrm rot="18012000">
              <a:off x="7480080" y="5809680"/>
              <a:ext cx="239760" cy="763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6" name="Oval 270"/>
            <p:cNvSpPr/>
            <p:nvPr/>
          </p:nvSpPr>
          <p:spPr>
            <a:xfrm rot="19513800">
              <a:off x="7663680" y="5674680"/>
              <a:ext cx="225360" cy="7920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7" name="Oval 271"/>
            <p:cNvSpPr/>
            <p:nvPr/>
          </p:nvSpPr>
          <p:spPr>
            <a:xfrm rot="19395000">
              <a:off x="7604640" y="599076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8" name="Oval 272"/>
            <p:cNvSpPr/>
            <p:nvPr/>
          </p:nvSpPr>
          <p:spPr>
            <a:xfrm rot="20643000">
              <a:off x="7725240" y="5766120"/>
              <a:ext cx="225360" cy="7920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89" name="Oval 273"/>
            <p:cNvSpPr/>
            <p:nvPr/>
          </p:nvSpPr>
          <p:spPr>
            <a:xfrm rot="19395000">
              <a:off x="7646400" y="61034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0" name="Oval 274"/>
            <p:cNvSpPr/>
            <p:nvPr/>
          </p:nvSpPr>
          <p:spPr>
            <a:xfrm rot="19395000">
              <a:off x="7705440" y="618696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1" name="Oval 275"/>
            <p:cNvSpPr/>
            <p:nvPr/>
          </p:nvSpPr>
          <p:spPr>
            <a:xfrm rot="1574400">
              <a:off x="7921440" y="6285240"/>
              <a:ext cx="239760" cy="7452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2" name="Oval 276"/>
            <p:cNvSpPr/>
            <p:nvPr/>
          </p:nvSpPr>
          <p:spPr>
            <a:xfrm rot="942000">
              <a:off x="7811280" y="5985360"/>
              <a:ext cx="23940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3" name="Oval 277"/>
            <p:cNvSpPr/>
            <p:nvPr/>
          </p:nvSpPr>
          <p:spPr>
            <a:xfrm rot="885000">
              <a:off x="7871760" y="6131520"/>
              <a:ext cx="239760" cy="7452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694" name="Oval 278"/>
            <p:cNvSpPr/>
            <p:nvPr/>
          </p:nvSpPr>
          <p:spPr>
            <a:xfrm rot="19452600">
              <a:off x="7767000" y="6333120"/>
              <a:ext cx="239760" cy="7488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695" name="AutoShape 313"/>
          <p:cNvSpPr/>
          <p:nvPr/>
        </p:nvSpPr>
        <p:spPr>
          <a:xfrm rot="19980000">
            <a:off x="7090920" y="7051320"/>
            <a:ext cx="360360" cy="90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7020000"/>
          </a:gra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696" name="Group 351"/>
          <p:cNvGrpSpPr/>
          <p:nvPr/>
        </p:nvGrpSpPr>
        <p:grpSpPr>
          <a:xfrm>
            <a:off x="684000" y="4021560"/>
            <a:ext cx="503280" cy="544680"/>
            <a:chOff x="684000" y="4021560"/>
            <a:chExt cx="503280" cy="544680"/>
          </a:xfrm>
        </p:grpSpPr>
        <p:grpSp>
          <p:nvGrpSpPr>
            <p:cNvPr id="697" name="Group 352"/>
            <p:cNvGrpSpPr/>
            <p:nvPr/>
          </p:nvGrpSpPr>
          <p:grpSpPr>
            <a:xfrm>
              <a:off x="684000" y="4021560"/>
              <a:ext cx="503280" cy="411840"/>
              <a:chOff x="684000" y="4021560"/>
              <a:chExt cx="503280" cy="411840"/>
            </a:xfrm>
          </p:grpSpPr>
          <p:grpSp>
            <p:nvGrpSpPr>
              <p:cNvPr id="698" name="Group 353"/>
              <p:cNvGrpSpPr/>
              <p:nvPr/>
            </p:nvGrpSpPr>
            <p:grpSpPr>
              <a:xfrm>
                <a:off x="889200" y="4028040"/>
                <a:ext cx="298080" cy="257040"/>
                <a:chOff x="889200" y="4028040"/>
                <a:chExt cx="298080" cy="257040"/>
              </a:xfrm>
            </p:grpSpPr>
            <p:sp>
              <p:nvSpPr>
                <p:cNvPr id="699" name="Oval 354"/>
                <p:cNvSpPr/>
                <p:nvPr/>
              </p:nvSpPr>
              <p:spPr>
                <a:xfrm rot="20128200">
                  <a:off x="910800" y="4164480"/>
                  <a:ext cx="274680" cy="6660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355"/>
                <p:cNvSpPr/>
                <p:nvPr/>
              </p:nvSpPr>
              <p:spPr>
                <a:xfrm rot="8485200">
                  <a:off x="879480" y="4106520"/>
                  <a:ext cx="274680" cy="6624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Group 356"/>
              <p:cNvGrpSpPr/>
              <p:nvPr/>
            </p:nvGrpSpPr>
            <p:grpSpPr>
              <a:xfrm>
                <a:off x="684000" y="4165560"/>
                <a:ext cx="295560" cy="267840"/>
                <a:chOff x="684000" y="4165560"/>
                <a:chExt cx="295560" cy="267840"/>
              </a:xfrm>
            </p:grpSpPr>
            <p:sp>
              <p:nvSpPr>
                <p:cNvPr id="702" name="Oval 357"/>
                <p:cNvSpPr/>
                <p:nvPr/>
              </p:nvSpPr>
              <p:spPr>
                <a:xfrm rot="9099600">
                  <a:off x="682920" y="4226760"/>
                  <a:ext cx="274680" cy="66600"/>
                </a:xfrm>
                <a:prstGeom prst="ellipse">
                  <a:avLst/>
                </a:prstGeom>
                <a:solidFill>
                  <a:srgbClr val="ff9933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Oval 358"/>
                <p:cNvSpPr/>
                <p:nvPr/>
              </p:nvSpPr>
              <p:spPr>
                <a:xfrm rot="19056600">
                  <a:off x="718200" y="4282920"/>
                  <a:ext cx="274680" cy="66240"/>
                </a:xfrm>
                <a:prstGeom prst="ellipse">
                  <a:avLst/>
                </a:prstGeom>
                <a:solidFill>
                  <a:srgbClr val="ff6600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33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" name="Oval 359"/>
              <p:cNvSpPr/>
              <p:nvPr/>
            </p:nvSpPr>
            <p:spPr>
              <a:xfrm rot="19713000">
                <a:off x="947880" y="4151880"/>
                <a:ext cx="46080" cy="26928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05" name="Oval 360"/>
              <p:cNvSpPr/>
              <p:nvPr/>
            </p:nvSpPr>
            <p:spPr>
              <a:xfrm rot="19713000">
                <a:off x="786960" y="407628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  <p:sp>
            <p:nvSpPr>
              <p:cNvPr id="706" name="Oval 361"/>
              <p:cNvSpPr/>
              <p:nvPr/>
            </p:nvSpPr>
            <p:spPr>
              <a:xfrm rot="19713000">
                <a:off x="865080" y="4028400"/>
                <a:ext cx="453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33cc"/>
                  </a:solidFill>
                  <a:latin typeface="Times New Roman"/>
                </a:endParaRPr>
              </a:p>
            </p:txBody>
          </p:sp>
        </p:grpSp>
        <p:sp>
          <p:nvSpPr>
            <p:cNvPr id="707" name="Oval 362"/>
            <p:cNvSpPr/>
            <p:nvPr/>
          </p:nvSpPr>
          <p:spPr>
            <a:xfrm flipH="1" rot="17350200">
              <a:off x="1067760" y="4456080"/>
              <a:ext cx="284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  <p:sp>
          <p:nvSpPr>
            <p:cNvPr id="708" name="Oval 363"/>
            <p:cNvSpPr/>
            <p:nvPr/>
          </p:nvSpPr>
          <p:spPr>
            <a:xfrm flipH="1" rot="17350200">
              <a:off x="1112400" y="4530240"/>
              <a:ext cx="28080" cy="3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cc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AF4-2EB6-44A1-AE7B-BECF39F5C3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8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8.gi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小小少年.mp3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10"/>
          <p:cNvSpPr/>
          <p:nvPr/>
        </p:nvSpPr>
        <p:spPr>
          <a:xfrm>
            <a:off x="698400" y="1197000"/>
            <a:ext cx="7834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的信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44" name="矩形 4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063" fill="hold"/>
                                        <p:tgtEl>
                                          <p:spTgt spid="1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4"/>
          <p:cNvSpPr/>
          <p:nvPr/>
        </p:nvSpPr>
        <p:spPr>
          <a:xfrm>
            <a:off x="1852560" y="1216080"/>
            <a:ext cx="5057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少女时期我在巴黎，孤独得过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着求学的岁月，为什么“孤独”也是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一种“美好快乐的记忆”？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77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6" descr="lp3"/>
          <p:cNvPicPr/>
          <p:nvPr/>
        </p:nvPicPr>
        <p:blipFill>
          <a:blip r:embed="rId2"/>
          <a:stretch/>
        </p:blipFill>
        <p:spPr>
          <a:xfrm>
            <a:off x="7164360" y="5216400"/>
            <a:ext cx="1979640" cy="16416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book11"/>
          <p:cNvPicPr/>
          <p:nvPr/>
        </p:nvPicPr>
        <p:blipFill>
          <a:blip r:embed="rId3"/>
          <a:stretch/>
        </p:blipFill>
        <p:spPr>
          <a:xfrm>
            <a:off x="-181080" y="5661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4"/>
          <p:cNvSpPr/>
          <p:nvPr/>
        </p:nvSpPr>
        <p:spPr>
          <a:xfrm>
            <a:off x="2088720" y="981000"/>
            <a:ext cx="45698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里的孤独非一般意义上的孤独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而是指她潜心学业，远离喧嚣，一个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精心读书，在这期间作者读了许多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书，大有收获，回忆起来，觉得没有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虚度年华，所以这样的回忆也是一种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好快乐的记忆。这也说明了她对科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的渴求，对科学研究的热忱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1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Text Box 4"/>
          <p:cNvSpPr/>
          <p:nvPr/>
        </p:nvSpPr>
        <p:spPr>
          <a:xfrm>
            <a:off x="1625400" y="260280"/>
            <a:ext cx="56934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诚然，人类需要寻求现实的人，他们在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作中获得很大的报酬。但是，人类也需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学研究强烈地吸引着他们，使他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们忘我地工作，没有闲暇，也无热情去谋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物质上的利益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究现实的人”是什么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梦想家”最基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的特征是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哪一件事上可以看出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就是这样的“梦想家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4"/>
          <p:cNvSpPr/>
          <p:nvPr/>
        </p:nvSpPr>
        <p:spPr>
          <a:xfrm>
            <a:off x="1788480" y="1052640"/>
            <a:ext cx="54842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讲究现实的人是指为自身的利益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而工作，为享受生活而工作的人。梦想家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基本的特点是，献身事业，全身心投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入事业，事业就是一切，根本不考虑物质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利益。从居里夫人放弃申请镭专利，可以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看出她就是这样的“梦想家。” 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4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6" descr="book11"/>
          <p:cNvPicPr/>
          <p:nvPr/>
        </p:nvPicPr>
        <p:blipFill>
          <a:blip r:embed="rId2"/>
          <a:stretch/>
        </p:blipFill>
        <p:spPr>
          <a:xfrm>
            <a:off x="-181080" y="56610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4"/>
          <p:cNvSpPr/>
          <p:nvPr/>
        </p:nvSpPr>
        <p:spPr>
          <a:xfrm>
            <a:off x="3917160" y="620640"/>
            <a:ext cx="1552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一位从事研究工作的科学家，不只是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技术人员，而且，他更像一个小孩儿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迷醉在如同神话故事一样的大自然中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87" name="Rectangle 7"/>
          <p:cNvSpPr/>
          <p:nvPr/>
        </p:nvSpPr>
        <p:spPr>
          <a:xfrm>
            <a:off x="0" y="3716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作者说，科学家也应当是“一个孩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儿”？这反映了作者怎样的心态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88" name="Picture 8" descr="book11"/>
          <p:cNvPicPr/>
          <p:nvPr/>
        </p:nvPicPr>
        <p:blipFill>
          <a:blip r:embed="rId1"/>
          <a:stretch/>
        </p:blipFill>
        <p:spPr>
          <a:xfrm>
            <a:off x="-18108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5"/>
          <p:cNvSpPr/>
          <p:nvPr/>
        </p:nvSpPr>
        <p:spPr>
          <a:xfrm>
            <a:off x="2063880" y="1557360"/>
            <a:ext cx="5250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科学本身具有伟大的美，魅力无穷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同神话般，在这美妙的科学世界面前，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学家就好像沉醉于神话故事的小孩儿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样，反映作者在科学研究中如痴如醉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心态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0" name="Picture 6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Text Box 5"/>
          <p:cNvSpPr/>
          <p:nvPr/>
        </p:nvSpPr>
        <p:spPr>
          <a:xfrm>
            <a:off x="1533600" y="1628640"/>
            <a:ext cx="597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这位伟大的女性，在一生中共获得过两次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诺贝尔奖。她是巴黎大学第一位女教授，是法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国科学院第一位女院士，同时还被其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家聘为科学院院士。她共接受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次奖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金和奖章，担任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国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荣誉职位。</a:t>
            </a: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2" name="Picture 6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Text Box 4"/>
          <p:cNvSpPr/>
          <p:nvPr/>
        </p:nvSpPr>
        <p:spPr>
          <a:xfrm>
            <a:off x="324000" y="404640"/>
            <a:ext cx="856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讨论感悟，书写美丽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有人说：居里夫人丢掉了那么多的荣誉而一生清贫，是很不值得的。你认为呢？小组讨论后，把你的想法说下来。</a:t>
            </a:r>
            <a:endParaRPr b="0" lang="en-US" sz="48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96" name="Picture 5" descr="图片3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413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7" descr="book11"/>
          <p:cNvPicPr/>
          <p:nvPr/>
        </p:nvPicPr>
        <p:blipFill>
          <a:blip r:embed="rId2"/>
          <a:stretch/>
        </p:blipFill>
        <p:spPr>
          <a:xfrm>
            <a:off x="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4"/>
          <p:cNvSpPr/>
          <p:nvPr/>
        </p:nvSpPr>
        <p:spPr>
          <a:xfrm>
            <a:off x="1095480" y="390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99" name="Text Box 6"/>
          <p:cNvSpPr/>
          <p:nvPr/>
        </p:nvSpPr>
        <p:spPr>
          <a:xfrm>
            <a:off x="0" y="1125360"/>
            <a:ext cx="9236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弱者坐失良机，强者制造时机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成名的道路上，流的不是汗水而是鲜血，他们的名字不是用笔而是用生命写成的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喝玩乐的享受生活是没有意义的。这样的人，只不过是时代的过客而已。 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没有生活目标，今天我们懂得了人生必须有目标；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一味贪图安逸，今天我们要学会艰苦，因为艰苦才能成才；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说我们过去一直意志薄弱，今天我们开始拥有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念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念是人生不老的长青树。 </a:t>
            </a:r>
            <a:endParaRPr b="0" lang="en-US" sz="2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00" name="WordArt 8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331632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6"/>
          <p:cNvSpPr/>
          <p:nvPr/>
        </p:nvSpPr>
        <p:spPr>
          <a:xfrm>
            <a:off x="879480" y="408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02" name="Text Box 7"/>
          <p:cNvSpPr/>
          <p:nvPr/>
        </p:nvSpPr>
        <p:spPr>
          <a:xfrm>
            <a:off x="250920" y="1557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在的美是短暂的、易逝的，只有内在的美才会是永恒的，不变的。居里夫人的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美丽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仅表现在她美丽的容颜，更重要的表现在她那坚定执著的信念与追求、为科学献身的崇高精神、淡薄名利的人格魅力上。所以，她的美丽才会牢牢铭刻在人们心中，才会跨越百年，甚至是永远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03" name="Picture 8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9" descr="lp3"/>
          <p:cNvPicPr/>
          <p:nvPr/>
        </p:nvPicPr>
        <p:blipFill>
          <a:blip r:embed="rId2"/>
          <a:stretch/>
        </p:blipFill>
        <p:spPr>
          <a:xfrm>
            <a:off x="7164360" y="5589720"/>
            <a:ext cx="1979640" cy="164124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图片3"/>
          <p:cNvPicPr/>
          <p:nvPr/>
        </p:nvPicPr>
        <p:blipFill>
          <a:blip r:embed="rId3"/>
          <a:stretch/>
        </p:blipFill>
        <p:spPr>
          <a:xfrm>
            <a:off x="0" y="5950080"/>
            <a:ext cx="19796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17" descr="1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8" descr="2290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733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20" descr="2292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21" descr="mcurie-port.jpg (15561 bytes)"/>
          <p:cNvPicPr/>
          <p:nvPr/>
        </p:nvPicPr>
        <p:blipFill>
          <a:blip r:embed="rId4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4"/>
          <p:cNvSpPr/>
          <p:nvPr/>
        </p:nvSpPr>
        <p:spPr>
          <a:xfrm>
            <a:off x="684360" y="692280"/>
            <a:ext cx="813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主完成作业，课外拓展阅读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写会本课生字新词，摘抄自己喜欢的语句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阅读爱因斯坦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悼念玛丽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居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文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把你心中对居里夫人的赞美之词写在读书笔记上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Picture 4" descr="图片az"/>
          <p:cNvPicPr/>
          <p:nvPr/>
        </p:nvPicPr>
        <p:blipFill>
          <a:blip r:embed="rId1"/>
          <a:stretch/>
        </p:blipFill>
        <p:spPr>
          <a:xfrm>
            <a:off x="2776680" y="1776240"/>
            <a:ext cx="3590640" cy="330552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" descr="lp3"/>
          <p:cNvPicPr/>
          <p:nvPr/>
        </p:nvPicPr>
        <p:blipFill>
          <a:blip r:embed="rId2"/>
          <a:stretch/>
        </p:blipFill>
        <p:spPr>
          <a:xfrm>
            <a:off x="7164360" y="5445000"/>
            <a:ext cx="1979640" cy="164160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ext Box 3"/>
          <p:cNvSpPr/>
          <p:nvPr/>
        </p:nvSpPr>
        <p:spPr>
          <a:xfrm>
            <a:off x="9907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读下列生词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17748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51" name="Picture 14" descr="sx6"/>
          <p:cNvPicPr/>
          <p:nvPr/>
        </p:nvPicPr>
        <p:blipFill>
          <a:blip r:embed="rId1"/>
          <a:stretch/>
        </p:blipFill>
        <p:spPr>
          <a:xfrm>
            <a:off x="0" y="0"/>
            <a:ext cx="1589040" cy="1523880"/>
          </a:xfrm>
          <a:prstGeom prst="rect">
            <a:avLst/>
          </a:prstGeom>
          <a:ln w="0">
            <a:noFill/>
          </a:ln>
        </p:spPr>
      </p:pic>
      <p:pic>
        <p:nvPicPr>
          <p:cNvPr id="1252" name="WordArt 15" descr=""/>
          <p:cNvPicPr/>
          <p:nvPr/>
        </p:nvPicPr>
        <p:blipFill>
          <a:blip r:embed="rId2"/>
          <a:stretch/>
        </p:blipFill>
        <p:spPr>
          <a:xfrm>
            <a:off x="1908000" y="195120"/>
            <a:ext cx="2840040" cy="944640"/>
          </a:xfrm>
          <a:prstGeom prst="rect">
            <a:avLst/>
          </a:prstGeom>
          <a:ln w="0">
            <a:noFill/>
          </a:ln>
        </p:spPr>
      </p:pic>
      <p:sp>
        <p:nvSpPr>
          <p:cNvPr id="1253" name="Text Box 16"/>
          <p:cNvSpPr/>
          <p:nvPr/>
        </p:nvSpPr>
        <p:spPr>
          <a:xfrm>
            <a:off x="1476360" y="2276640"/>
            <a:ext cx="698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奢望  蹂躏   坚韧不拔  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呵责  执著   猝然长逝 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心无愧     获益匪浅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 Box 2"/>
          <p:cNvSpPr/>
          <p:nvPr/>
        </p:nvSpPr>
        <p:spPr>
          <a:xfrm>
            <a:off x="468360" y="24922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信念：自己认为可以确信的看法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鞭策：用鞭和策赶马，喻督促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奢望：过高的希望。呵责：呵斥。 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蹂躏：踩踏；践踏辗压。引申为侵扰、侵略。欺凌、糟蹋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问心无愧 ：扪心自问，毫无惭愧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坚韧不拔：坚固有任性，不动摇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获益非浅：得到很多益处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猝然长逝：突然死去。</a:t>
            </a:r>
            <a:endParaRPr b="0" lang="en-US" sz="28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三、解释下列词语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6" name="Text Box 4"/>
          <p:cNvSpPr/>
          <p:nvPr/>
        </p:nvSpPr>
        <p:spPr>
          <a:xfrm>
            <a:off x="7351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7" name="Text Box 6"/>
          <p:cNvSpPr/>
          <p:nvPr/>
        </p:nvSpPr>
        <p:spPr>
          <a:xfrm>
            <a:off x="1042920" y="119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651320" y="1052640"/>
            <a:ext cx="5301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信念　鞭策　奢望　蹂躏　坚韧不拔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问心无愧　获益匪浅　猝然长逝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ext Box 4"/>
          <p:cNvSpPr/>
          <p:nvPr/>
        </p:nvSpPr>
        <p:spPr>
          <a:xfrm>
            <a:off x="395280" y="1268280"/>
            <a:ext cx="8497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速读课文，完成下列问题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标出段前序号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感知居里夫人的信念，勾画出相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关语句。请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居里夫人是一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句式说话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0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6" descr="book11"/>
          <p:cNvPicPr/>
          <p:nvPr/>
        </p:nvPicPr>
        <p:blipFill>
          <a:blip r:embed="rId2"/>
          <a:stretch/>
        </p:blipFill>
        <p:spPr>
          <a:xfrm>
            <a:off x="-181080" y="55897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4"/>
          <p:cNvSpPr/>
          <p:nvPr/>
        </p:nvSpPr>
        <p:spPr>
          <a:xfrm>
            <a:off x="0" y="2276640"/>
            <a:ext cx="93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默读课文，你认为居里夫人身上有哪些优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课文，归纳了解居里夫人的人生“信念”。请用“我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句话中体会到了 居里夫人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精神。（或优秀品质）”的句式回答。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3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264" name="Text Box 6"/>
          <p:cNvSpPr/>
          <p:nvPr/>
        </p:nvSpPr>
        <p:spPr>
          <a:xfrm>
            <a:off x="1731240" y="987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细读课文，感悟品质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5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Text Box 4"/>
          <p:cNvSpPr/>
          <p:nvPr/>
        </p:nvSpPr>
        <p:spPr>
          <a:xfrm>
            <a:off x="2110680" y="2133720"/>
            <a:ext cx="520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这或许是因为有某种力量在鞭策着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正如蚕被鞭策着去结茧一样。“某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种力量”指哪种力量？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67" name="Picture 5" descr="lp2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268" name="Text Box 6"/>
          <p:cNvSpPr/>
          <p:nvPr/>
        </p:nvSpPr>
        <p:spPr>
          <a:xfrm>
            <a:off x="2339280" y="333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质疑探究，理解重点语句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Text Box 4"/>
          <p:cNvSpPr/>
          <p:nvPr/>
        </p:nvSpPr>
        <p:spPr>
          <a:xfrm>
            <a:off x="250920" y="1557360"/>
            <a:ext cx="86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力量是一种复合的因素。对事业的追求、对真理的渴求、科学对作者巨大的吸引，还有崇高的使命感等等种种因素，糅合成一股巨大的力量，鞭策着作者不断前行，“正如蚕被鞭策着去结茧一般”。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270" name="Picture 6" descr="book9"/>
          <p:cNvPicPr/>
          <p:nvPr/>
        </p:nvPicPr>
        <p:blipFill>
          <a:blip r:embed="rId1"/>
          <a:stretch/>
        </p:blipFill>
        <p:spPr>
          <a:xfrm>
            <a:off x="0" y="0"/>
            <a:ext cx="2876400" cy="152712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7" descr="book11"/>
          <p:cNvPicPr/>
          <p:nvPr/>
        </p:nvPicPr>
        <p:blipFill>
          <a:blip r:embed="rId2"/>
          <a:stretch/>
        </p:blipFill>
        <p:spPr>
          <a:xfrm>
            <a:off x="0" y="551664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00:46:29Z</dcterms:created>
  <dc:creator/>
  <dc:description/>
  <cp:keywords>幻灯片之家 http:/www.eeppt.com</cp:keywords>
  <dc:language>en-US</dc:language>
  <cp:lastModifiedBy/>
  <dcterms:modified xsi:type="dcterms:W3CDTF">2015-07-20T04:00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_TemplateID">
    <vt:lpwstr>TC011271011028</vt:lpwstr>
  </property>
</Properties>
</file>