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38.png" ContentType="image/png"/>
  <Override PartName="/ppt/media/image3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4B1-5DBF-47E7-9079-679D89B4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480-7FFE-4805-9E72-D3EC399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D1D-4D6A-4E21-BA9F-572A341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8ED-1ED4-4456-B9FC-F5438123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5D8B-9CE6-4FEA-871E-34D84782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3F9-0B9E-42F6-B5E6-AFA05255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BE41-A487-44D9-B5ED-20C00C6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2699-6639-479C-9672-ADFABA9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BAAF-917B-446E-BEDA-5B23CF87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40A0-6488-45E6-B9F9-2366895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4598-9435-4A1B-842B-99AFA6B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AAF4-1926-4F19-849E-69E802C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2017-504B-49B2-894C-8344419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FD23-BB37-4515-9091-92BD037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EEF7-7E22-41BF-B7A9-C9911A0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6BFA-1BE0-46AE-A325-43DCA9D0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C57-E176-4431-939E-C494133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FA36-525B-4490-ADBE-E1E2D2FE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81DA-7D4F-439B-A446-BAA725B4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1357-1A78-4F3A-A060-896F15A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BB81-904C-47EB-B1FF-716C2EAA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FCF2-B8D1-489D-B5A2-3E5600D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D3F0-E8A9-4471-856A-F4B07AA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8CD5-60B0-4A05-867B-E3D831A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7130-809F-4AFB-B632-C162A436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3DA2-802B-46D8-A7D1-AF3CFA55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2127-1F6B-416A-9519-24AC7F6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20C-1870-44B5-9EA7-B6C6A40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0268-CC5C-44B5-8662-0A99974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98D1-4C37-4945-BF6C-8EA82CF8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99C7-AC87-4D0C-8304-78F54056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31F1-EDDD-45F4-887B-697A4896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23F2-0A99-4295-B6ED-EE7E929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BE6A-2980-4EE2-BCD7-034CEEF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6396-CC3F-4A55-8AE1-6113A10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4C7F-A8AF-432A-86FD-6F96C61E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13DF-B220-4366-8F75-B8BB182A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83DC-86EC-4D5E-8088-0BFE086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D90-206F-4000-9397-98AFA59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0408-6D0A-4EE6-88C5-EE364CD8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3F9F-86EE-4D91-9FDC-585376F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CADF-BEFD-40D7-940E-73A2EAD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FD8E-88A5-43FC-B571-54FB9FD0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56BD-39EE-4DBD-886A-8F219345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4286-7848-4B1E-9571-2EBE44AE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47F2-F725-4E9A-9162-C87A75D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9B3A-D937-4A11-94B6-7E56D2B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3E8B-FC7E-4FE5-A7F0-1D46DAE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904D-7E2A-4A12-8789-C6EBF3ED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C77-AC4C-429F-9225-4A29FF9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0F1C-DE90-4AAF-BE42-1EC6D6C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0F68-28E5-4F5D-9564-B63C5360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6C0D-0DDA-4CB7-B67A-31B7B3E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FEC1-1E6F-40B2-891D-9C0F0B8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E35C-9987-4ADC-A4D6-8084D127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D5A9-F170-4EA0-B80E-48C80A93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99B39-5D72-4D2C-81B7-968D4F61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9878-1C89-4E7C-8DE8-B2F1CA9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BE3A-68EB-4CCF-AA15-0FC2EFD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2247-958E-4CE2-B54C-3441AE63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47E-A352-4247-90D0-686B378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8D75-3931-45A2-B4C5-7851A41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0230-BB22-45AA-9C59-AA3783F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CACA2-981F-48B4-865E-B945F44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808DB-1056-48A1-A306-AB915BA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21FDA-1C9C-4264-AA37-6585B5A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5725-20CC-44CD-86FD-F799BD1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D53B-6498-4119-B740-6C3BD19F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49B3-5A99-429C-831D-CA9CFA40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4035-DD5E-49CB-B1C0-2D54158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D710B-1FBA-423B-94CE-67554B56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18C-2711-411C-8970-1D81A726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E129-734D-489E-AF0A-D302F33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1123E-4DE0-479E-9284-61B598A5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54DD-BF5B-4F09-A105-DBCA1B8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DD53-90A9-444D-B39D-4812735B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14A0-A929-4035-85A1-83AB2A4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FBBDE-57F2-4775-8664-778718C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0FFF-9ACC-4343-BE5E-8AEF070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240B4-65B2-4419-B544-17F733B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44C44-1E5B-457F-A117-4CDE25A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4237-541C-44A5-8570-9421EB18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AEA-C2C9-459D-BE69-4C5E2E5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8AA2-065F-4A84-BE04-A40C4FD8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6E25-FF4B-40C9-8D77-E2A7DA11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1E18-1EFB-4640-BED9-627F9BC2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36937-D5D4-41EC-B655-151B3AC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32F3B-5338-4950-9588-589305A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E04ED-A486-48A9-947C-B2357345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4D850-5630-44FD-8303-8FBCBC49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4EADA-E25F-483D-96D9-8AAC8C3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D270-5496-421B-A4D9-2567DA6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9F535-1A8B-4A56-8ABE-873CFFC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148D-40AA-4D40-8F40-A5C9953A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00DBB-796E-412A-BD01-DA10325A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EA0F5-2AC9-42BA-8605-CA70610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905BC-005E-478D-B871-D1AF89B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A217-B26E-43EC-8D61-7307BFB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5212F-27CC-4C2F-8052-49FE7B7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EF763-4D0C-48F3-BA60-CE03933B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1DFD-91D7-4EA1-92C4-EF4FA153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E1E5C-67C3-43C2-94D7-F070606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34B0-9137-4646-867F-833E8FB5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8FDA1-B836-4A6F-B88B-51FD272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5513-B953-414E-B9CD-2684634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1FFDF-297A-44E4-9497-4EB1B752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8F1BC-6BFE-4A45-AB70-FA75BFE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3BE0-7330-4A88-BB8C-1FC714E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CC971-588F-47B7-9D6C-C0AAF710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3EECA-6DDB-4B4D-AF97-4F4E5F95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0BDF-AAA7-48A2-A8DA-909BA4B0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62675-9A0C-4261-BD29-0132BAA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31C66-BAC8-4CCB-B146-C438FC7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8537E-1BD0-4440-9A34-2DC4B313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71728-6811-4EFC-BE47-C1422FD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AF2-D0D2-4828-957A-9239AC5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76B8-2851-4BF5-9DA5-B1DD9AA4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19F71-4B3E-4C41-B5C2-D23D633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2645-CE0C-4887-89F3-150F247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ADF1-DA0B-4092-8323-A9C0B39A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9721-9760-4A71-A64A-05650E6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AFBF8-C521-4C66-B41D-07FD048A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31B15-9BE1-41EA-9222-E6BA26A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17CCE-B321-4ABD-83B3-D48C56F9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AD319-CDEE-4BE9-AC74-728C7F2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C26A5-71C6-4913-A4E0-34A2D64E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D22-3879-469B-AE40-EE9E6E3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62895-DFDE-4CDF-9941-71167A6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DA789-0589-4121-AAE5-6FF2DD5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ABF1-B35E-470C-AFEC-75B14F0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DE3E8-2DF3-445C-94A8-C59806A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5C2C6-9750-4963-8FDE-FFAF0E5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52F0A-96AC-4904-A2B5-1AA8208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AAB1C-6ADB-425E-81DD-F45B7A3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EDF68-53F8-41DE-8FE1-F373DC69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0DF5-2044-4E27-AADA-4717F87C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319E2-130D-4790-9D2C-1F20E790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952A-474B-40CF-A34D-75F593F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3164C-1EBB-4694-9EDF-D0A6689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BCE0A-4E00-4779-AE81-FC7CDEE6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50672-8529-44F5-890A-8EB053B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08953-40A9-452E-BD04-1C1BB806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D21C0-833E-4A33-8CDA-E3CE5CE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093CE-4ACB-414E-BD4F-E9CF2C4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66CD7-2775-4637-B9D6-FE34DA3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7E309-5F6D-4C1F-B4BB-E3AEF98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2F099-E507-4F62-90AD-A3E4B37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6FC52-B6E5-47EE-80E5-187E9E91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044-07DA-4F48-B95B-2391315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3EA71-A949-492C-BD0B-ABAB8A3D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88A01-F990-47E3-A533-B551F4DC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B786A-D7CA-4C25-9813-888A1C61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7A217-1894-4B06-9912-7BA7C4B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AA578-DD21-4E2B-B428-C141C037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67CC0-9BE5-4EFE-B6CF-9E6B1FB9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9600C-2B84-43D7-8A27-C097D2D6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1C979-BA21-4522-AC43-3E201EA3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E05C9-C4EF-40FE-ACAD-FDBEA5E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FC529-900F-4578-9BD6-48228CE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762-08C9-4428-AB8C-43DB72B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82711-52F2-4AB4-A916-43336B3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FB7E0-4893-4A54-8698-D4E7EE5D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2DD84-16F9-49C1-9AFD-144394E3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7218D-A970-4426-9832-70D9E46D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B0307-C931-4676-82E7-BD9BA92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8B7D7-F844-4B19-8518-8C488B7B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9B5CE-B136-4F6A-A5D1-1B753C08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FA0D7-1F74-4F03-B8C1-3969C6D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33F31-16F9-4FBE-AD9C-A34AF8C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D0844-B238-4EBB-840F-7CF56B5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EBA1-AD70-4497-B69F-2CB85F19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5994B-1C33-4CB6-90BC-B41E650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73C1F-4E1E-4A1B-9D52-A3DA048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7B7D7-8072-411A-8117-E072181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135A1-FA48-46EB-87BD-D8819820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0A12D-6C3F-4D54-995A-6022C85E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49C4F-7001-4474-BC6B-E5E360F4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9614E-8EBD-481B-A1ED-DD1E1516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6008A-A40F-4A90-95B6-9B42825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81869-2520-4E04-A9A9-3E3EBCFA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C5E70-C89D-4372-B655-FD7AE1E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1A9C-7A24-4EC1-A583-4E4575B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56751-0F28-40F1-B73E-E0EDE0E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4E917-7468-4117-9359-215CAB7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7A702-0F74-40D0-80E0-FEAADCB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10824-F9BB-42B7-BDA9-FF96558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B14C0-2399-4AF9-8C7B-FCB9827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0311F-DC7F-42FE-8796-5718CB42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B7E65-A44A-465F-B4EE-82B6062C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F7889-1EA7-4EAC-81B9-1EAB9222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0C79C-D974-4DC5-ADAD-B259762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2876B-C11D-44C8-B069-DE9E312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E329-3202-4DC8-A6DF-262CE6B4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190D1-5036-4E27-8349-C8B6731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E8FFD-FF63-41C8-96B4-BE0A8A4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00286-79FE-45F0-9158-0A54681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85E3A-61EE-4150-AEE0-05AB6E1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60EE3-B951-4DAC-BE27-8B52BE3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F2EEC-B936-4A8C-9B59-48E9EBC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561DA-E683-4EC0-B3AA-F86E8DD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7F0C7-5986-46E0-A8EA-8866352F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E25C3-DE42-49E7-88FA-49B200E3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BF74C-0194-44A7-8B68-E09720D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87A-9DA9-4D1C-8263-2871338B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A246F-F5B6-45F8-9E58-376ADC3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C6162-CFAD-4F2B-AD95-B0159E73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CB204-42FD-4C57-BEC9-F66921E2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389B2-8F4A-4939-804D-4D34951C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11820-A54A-4F14-B247-9C56FD2B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EACC4-D4E8-4FB1-8EF5-97BCF4C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6F0E1-0CAF-43C1-9259-225B0C0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6E242-0162-405C-B9EE-22AB723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47724-E811-41A2-A5C5-F3C30E0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CA015-BB4C-42E5-A439-E3692412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D5CE-101B-415B-A2D4-57385C22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16A67-5802-4E54-9931-BC1BB1DE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62F47-7D79-4320-BA61-5CF921F0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C7FC2-2A42-4ED8-85F0-6F4EAE5C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9B87F-E38D-4B5D-A66F-CA2650C0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7CD97-717A-4F83-AC6A-5EE0F71C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32BC6-A134-4984-BBD9-DEE19B6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5546B-FFC8-4E46-BB6F-E9BC056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CD8B1-8F76-44FA-979D-003FD2D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F57AD-60CD-4695-A4C0-D96D6681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CAA7C-0BF1-48FA-A42B-997892C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D33DA-30E6-40A0-9A95-8AD58F7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60169-DAC5-4ECF-8846-0666168E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33F68-3152-4ADD-8365-7551D688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59DD0-3855-43AA-9A30-6383220F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70289-41D3-426D-82A9-82A4A129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D6C0E-531D-4043-B925-1F66ACF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68E8A-C9F2-48C1-9CA8-CFAA8FFE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DAC9B-84FC-415B-B6BC-C575688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7614C-51C6-4D2D-83FD-7CDABDA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C4E17-F88D-452B-AE9C-C0634D1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CD914-B639-4FA4-ADEF-528E0D3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6A307-B04B-4E0F-8B70-097E9C7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BF57D-8A1B-491D-80B2-D4A51EA5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AAAB2-BCD1-42F0-96BA-A4A7621F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03C539-4877-417C-8B0F-21C15667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93BF3-F649-4C90-9B97-0FA1E1A1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C2AEC-F51E-4E09-85AD-7161AF3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E24B9-33D2-4930-8FB8-AE0EC79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F1F40-60BF-4003-8277-01729712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3E126-F356-4CD9-B0FB-538BF64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DF3F2-C4BC-4151-9033-6834D5D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B3A26-0DC3-4920-8E68-28CBC58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0C579-1640-46A7-9141-1CAE4A7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C9DBC-3CE2-49C1-80CB-8D191E8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99C59-B0BD-4C56-BA22-16C881B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73B29-F496-42F0-9472-51685E1F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EC902-B28F-4026-A554-271A8E58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EF3F4-B1B8-41C7-A150-6EEADFE6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5B62C-742D-4BE2-BCD5-6B487A8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1CF9C-4142-424C-9A41-D8DCFE6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ACFDB-3E15-4E7B-B5AB-3C466EB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58D81-E9FD-4708-883B-CE416E1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8AD2E-6101-4AE4-B9D9-DA825DC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13403B-22D8-4FAE-A70C-1B80FA99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7BA98-0024-43BA-9A1E-CEC386E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BB3F6-A75D-4818-9EFB-657D09F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335E4-592F-4864-84CB-8B1AC33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ACDF93-157C-4064-86FE-5D21C8D8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E4C9E1-CB62-4340-923C-F7E1E36E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1F827-59BD-4110-83AB-E70C0BEE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A77A1-9C36-4213-86F5-F1BCA7C2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070E96-C7DB-4803-BA46-BFFA7D4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0C998C-BAF3-47F7-9283-253CC135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4F40D-E768-49C3-B534-C0F67D14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8AED15-194D-4D54-A8FA-AB94AC58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023C40-6B01-4059-A699-55EAC34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4AFEB-9549-49D7-A1A0-86F651B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A8B21-9477-4399-8368-C1772C5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F8E8B-17EF-4DCA-8854-1F4C581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3D71C5-171F-43AF-B727-31904A7E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CE209-A64F-4DEC-A9CD-76016D56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F9472-F7D8-4E5E-BDF9-5F26C42A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F3FA3-0ED6-4E64-A2F5-38D6B5A1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93A10F-E7BE-467C-BADB-E345DBE8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34865-027A-45E3-8207-6DE989D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7F0D2-3EBB-45C2-B523-6D21FF0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07443-483D-4E23-BA0C-45B9900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24F1B7-E4C9-4B62-B2B3-599A2CE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B1E36F-3BB3-4F61-8E3B-F1D0278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FFE95D-DCCD-445B-9A3B-877B632D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51C0D3-165D-4ED5-A8EB-5FF851C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9576A-8D4E-4444-9074-375B45F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DA2E1-631F-48EC-964C-A764E78C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B5F-FD95-4008-8811-3D64291256D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8B9-6AFD-48C2-B773-1BB6F475FCE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B1D0-B52A-420A-B004-BAB0B2CFE2A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D4D-7118-473C-91AA-5B092610341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007-19C4-4C2E-B708-7BEC344348A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2F36-996F-4444-9169-4045FF4B95B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6B4-D1F0-4CC4-8202-C1479E3F475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22D-480B-401B-A7A2-0C35F302F6A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FB72-BA08-4959-81E2-68ABB825333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36F-516C-4EF2-AA77-F9CE5AA1A79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4BA-4D73-4881-BCF5-375474B8288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ounded Rectangle 13"/>
          <p:cNvSpPr/>
          <p:nvPr/>
        </p:nvSpPr>
        <p:spPr>
          <a:xfrm>
            <a:off x="0" y="0"/>
            <a:ext cx="9144000" cy="4965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9565-0335-40E6-B4EC-C62E60B1A26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4EC-D152-45CC-AB99-11CE37E4CC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1F5-136F-4F7F-A7EE-80D6C193D3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2ED-868D-4156-9A5F-CA9F0A0C8C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3C89-E929-4670-8286-A58521A08C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78A-56E6-4A38-B8B6-CE12E05D32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277-5EAB-4F9A-AE0C-0F62EB0779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C072-F165-4FD9-9080-97D4DF60A9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6F9-3D72-4491-BA04-CDC21C7E6E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2599-F9CB-40F9-BDF8-8BCF3F557E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8ECE-F71C-4060-A8A4-B978B4569F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260-610B-4331-956A-3FB19A5BAA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849-7A68-45B5-8753-629478F13A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thumbnail (3)"/>
          <p:cNvPicPr/>
          <p:nvPr/>
        </p:nvPicPr>
        <p:blipFill>
          <a:blip r:embed="rId3"/>
          <a:stretch/>
        </p:blipFill>
        <p:spPr>
          <a:xfrm>
            <a:off x="0" y="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thumbnail (3)"/>
          <p:cNvPicPr/>
          <p:nvPr/>
        </p:nvPicPr>
        <p:blipFill>
          <a:blip r:embed="rId4"/>
          <a:stretch/>
        </p:blipFill>
        <p:spPr>
          <a:xfrm>
            <a:off x="7804080" y="5013360"/>
            <a:ext cx="1376280" cy="18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Picture 2" descr="图片2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2340000" y="1023840"/>
            <a:ext cx="3456000" cy="4205520"/>
          </a:xfrm>
          <a:prstGeom prst="rect">
            <a:avLst/>
          </a:prstGeom>
          <a:ln w="0">
            <a:noFill/>
          </a:ln>
        </p:spPr>
      </p:pic>
      <p:pic>
        <p:nvPicPr>
          <p:cNvPr id="1515" name="56.wma" descr=""/>
          <p:cNvPicPr/>
          <p:nvPr/>
        </p:nvPicPr>
        <p:blipFill>
          <a:blip r:embed="rId2"/>
          <a:stretch/>
        </p:blipFill>
        <p:spPr>
          <a:xfrm>
            <a:off x="-969840" y="31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16" name="矩形 1"/>
          <p:cNvSpPr/>
          <p:nvPr/>
        </p:nvSpPr>
        <p:spPr>
          <a:xfrm>
            <a:off x="2409480" y="549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行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4"/>
          <p:cNvSpPr/>
          <p:nvPr/>
        </p:nvSpPr>
        <p:spPr>
          <a:xfrm>
            <a:off x="19512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61457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Line 2"/>
          <p:cNvSpPr/>
          <p:nvPr/>
        </p:nvSpPr>
        <p:spPr>
          <a:xfrm>
            <a:off x="0" y="4726080"/>
            <a:ext cx="918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3"/>
          <p:cNvSpPr/>
          <p:nvPr/>
        </p:nvSpPr>
        <p:spPr>
          <a:xfrm>
            <a:off x="15840" y="2284560"/>
            <a:ext cx="91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4"/>
          <p:cNvSpPr/>
          <p:nvPr/>
        </p:nvSpPr>
        <p:spPr>
          <a:xfrm>
            <a:off x="4427640" y="0"/>
            <a:ext cx="1440" cy="6872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5"/>
          <p:cNvSpPr/>
          <p:nvPr/>
        </p:nvSpPr>
        <p:spPr>
          <a:xfrm>
            <a:off x="6732720" y="-14400"/>
            <a:ext cx="1440" cy="6872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6"/>
          <p:cNvSpPr/>
          <p:nvPr/>
        </p:nvSpPr>
        <p:spPr>
          <a:xfrm>
            <a:off x="2193840" y="66600"/>
            <a:ext cx="1800" cy="688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images (9)"/>
          <p:cNvPicPr/>
          <p:nvPr/>
        </p:nvPicPr>
        <p:blipFill>
          <a:blip r:embed="rId1"/>
          <a:stretch/>
        </p:blipFill>
        <p:spPr>
          <a:xfrm>
            <a:off x="4429080" y="2349360"/>
            <a:ext cx="2303640" cy="2376720"/>
          </a:xfrm>
          <a:prstGeom prst="rect">
            <a:avLst/>
          </a:prstGeom>
          <a:ln w="0">
            <a:noFill/>
          </a:ln>
        </p:spPr>
      </p:pic>
      <p:sp>
        <p:nvSpPr>
          <p:cNvPr id="1566" name="Text Box 8"/>
          <p:cNvSpPr/>
          <p:nvPr/>
        </p:nvSpPr>
        <p:spPr>
          <a:xfrm>
            <a:off x="396720" y="476280"/>
            <a:ext cx="185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9"/>
          <p:cNvSpPr/>
          <p:nvPr/>
        </p:nvSpPr>
        <p:spPr>
          <a:xfrm>
            <a:off x="2556000" y="476280"/>
            <a:ext cx="185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10"/>
          <p:cNvSpPr/>
          <p:nvPr/>
        </p:nvSpPr>
        <p:spPr>
          <a:xfrm>
            <a:off x="4788000" y="476280"/>
            <a:ext cx="185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11"/>
          <p:cNvSpPr/>
          <p:nvPr/>
        </p:nvSpPr>
        <p:spPr>
          <a:xfrm>
            <a:off x="7164360" y="476280"/>
            <a:ext cx="185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12"/>
          <p:cNvSpPr/>
          <p:nvPr/>
        </p:nvSpPr>
        <p:spPr>
          <a:xfrm>
            <a:off x="324000" y="2781360"/>
            <a:ext cx="185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3"/>
          <p:cNvSpPr/>
          <p:nvPr/>
        </p:nvSpPr>
        <p:spPr>
          <a:xfrm>
            <a:off x="2556000" y="2852640"/>
            <a:ext cx="185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4"/>
          <p:cNvSpPr/>
          <p:nvPr/>
        </p:nvSpPr>
        <p:spPr>
          <a:xfrm>
            <a:off x="466560" y="5157720"/>
            <a:ext cx="185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4861080" y="2852640"/>
            <a:ext cx="185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6"/>
          <p:cNvSpPr/>
          <p:nvPr/>
        </p:nvSpPr>
        <p:spPr>
          <a:xfrm>
            <a:off x="7380360" y="2781360"/>
            <a:ext cx="185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7"/>
          <p:cNvSpPr/>
          <p:nvPr/>
        </p:nvSpPr>
        <p:spPr>
          <a:xfrm>
            <a:off x="2378160" y="5141880"/>
            <a:ext cx="185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8"/>
          <p:cNvSpPr/>
          <p:nvPr/>
        </p:nvSpPr>
        <p:spPr>
          <a:xfrm>
            <a:off x="4932360" y="5229360"/>
            <a:ext cx="185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Picture 19" descr="images (8)"/>
          <p:cNvPicPr/>
          <p:nvPr/>
        </p:nvPicPr>
        <p:blipFill>
          <a:blip r:embed="rId2"/>
          <a:stretch/>
        </p:blipFill>
        <p:spPr>
          <a:xfrm>
            <a:off x="2197080" y="2270160"/>
            <a:ext cx="2232000" cy="245412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20" descr="images (7)"/>
          <p:cNvPicPr/>
          <p:nvPr/>
        </p:nvPicPr>
        <p:blipFill>
          <a:blip r:embed="rId3"/>
          <a:srcRect l="905" t="5163" r="0" b="4734"/>
          <a:stretch/>
        </p:blipFill>
        <p:spPr>
          <a:xfrm>
            <a:off x="2197080" y="4726080"/>
            <a:ext cx="2232000" cy="213336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21" descr="下载 (4)"/>
          <p:cNvPicPr/>
          <p:nvPr/>
        </p:nvPicPr>
        <p:blipFill>
          <a:blip r:embed="rId4"/>
          <a:stretch/>
        </p:blipFill>
        <p:spPr>
          <a:xfrm>
            <a:off x="6734160" y="1440"/>
            <a:ext cx="2413080" cy="22752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22" descr="下载 (2)"/>
          <p:cNvPicPr/>
          <p:nvPr/>
        </p:nvPicPr>
        <p:blipFill>
          <a:blip r:embed="rId5"/>
          <a:stretch/>
        </p:blipFill>
        <p:spPr>
          <a:xfrm>
            <a:off x="34920" y="1440"/>
            <a:ext cx="2160720" cy="2276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23" descr="images (5)"/>
          <p:cNvPicPr/>
          <p:nvPr/>
        </p:nvPicPr>
        <p:blipFill>
          <a:blip r:embed="rId6"/>
          <a:stretch/>
        </p:blipFill>
        <p:spPr>
          <a:xfrm>
            <a:off x="0" y="4726080"/>
            <a:ext cx="2195640" cy="213336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24" descr="thumbnail (4)"/>
          <p:cNvPicPr/>
          <p:nvPr/>
        </p:nvPicPr>
        <p:blipFill>
          <a:blip r:embed="rId7"/>
          <a:stretch/>
        </p:blipFill>
        <p:spPr>
          <a:xfrm>
            <a:off x="2197080" y="0"/>
            <a:ext cx="22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5" descr="images (11)"/>
          <p:cNvPicPr/>
          <p:nvPr/>
        </p:nvPicPr>
        <p:blipFill>
          <a:blip r:embed="rId8"/>
          <a:stretch/>
        </p:blipFill>
        <p:spPr>
          <a:xfrm>
            <a:off x="6732720" y="2276640"/>
            <a:ext cx="2423880" cy="246672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26" descr="images (6)"/>
          <p:cNvPicPr/>
          <p:nvPr/>
        </p:nvPicPr>
        <p:blipFill>
          <a:blip r:embed="rId9"/>
          <a:stretch/>
        </p:blipFill>
        <p:spPr>
          <a:xfrm>
            <a:off x="4429080" y="0"/>
            <a:ext cx="2303640" cy="22924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27" descr="下载 (3)"/>
          <p:cNvPicPr/>
          <p:nvPr/>
        </p:nvPicPr>
        <p:blipFill>
          <a:blip r:embed="rId10"/>
          <a:stretch/>
        </p:blipFill>
        <p:spPr>
          <a:xfrm>
            <a:off x="6661080" y="4726080"/>
            <a:ext cx="2521080" cy="214308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28" descr="images (4)"/>
          <p:cNvPicPr/>
          <p:nvPr/>
        </p:nvPicPr>
        <p:blipFill>
          <a:blip r:embed="rId11"/>
          <a:stretch/>
        </p:blipFill>
        <p:spPr>
          <a:xfrm>
            <a:off x="4429080" y="4726080"/>
            <a:ext cx="2305080" cy="213192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29" descr="images (10)"/>
          <p:cNvPicPr/>
          <p:nvPr/>
        </p:nvPicPr>
        <p:blipFill>
          <a:blip r:embed="rId12"/>
          <a:stretch/>
        </p:blipFill>
        <p:spPr>
          <a:xfrm>
            <a:off x="0" y="2276640"/>
            <a:ext cx="219708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489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90" dur="3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92" dur="3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94" dur="3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1500" autoRev="1" fill="hold"/>
                                        <p:tgtEl>
                                          <p:spTgt spid="1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200"/>
                            </p:stCondLst>
                            <p:childTnLst>
                              <p:par>
                                <p:cTn id="49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98" dur="3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1500" autoRev="1" fill="hold"/>
                                        <p:tgtEl>
                                          <p:spTgt spid="15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50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2" dur="3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1500" autoRev="1" fill="hold"/>
                                        <p:tgtEl>
                                          <p:spTgt spid="15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6200"/>
                            </p:stCondLst>
                            <p:childTnLst>
                              <p:par>
                                <p:cTn id="50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6" dur="3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1500" autoRev="1" fill="hold"/>
                                        <p:tgtEl>
                                          <p:spTgt spid="1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50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0" dur="3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1500" autoRev="1" fill="hold"/>
                                        <p:tgtEl>
                                          <p:spTgt spid="1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51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4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1500" autoRev="1" fill="hold"/>
                                        <p:tgtEl>
                                          <p:spTgt spid="1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5200"/>
                            </p:stCondLst>
                            <p:childTnLst>
                              <p:par>
                                <p:cTn id="51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8" dur="3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1500" autoRev="1" fill="hold"/>
                                        <p:tgtEl>
                                          <p:spTgt spid="15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52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22" dur="3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1500" autoRev="1" fill="hold"/>
                                        <p:tgtEl>
                                          <p:spTgt spid="1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2" descr="images (12)"/>
          <p:cNvPicPr/>
          <p:nvPr/>
        </p:nvPicPr>
        <p:blipFill>
          <a:blip r:embed="rId1"/>
          <a:stretch/>
        </p:blipFill>
        <p:spPr>
          <a:xfrm>
            <a:off x="6804000" y="11592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4" descr="3906055_174417048458_2"/>
          <p:cNvPicPr/>
          <p:nvPr/>
        </p:nvPicPr>
        <p:blipFill>
          <a:blip r:embed="rId2"/>
          <a:srcRect l="50203" t="932" r="0" b="1476"/>
          <a:stretch/>
        </p:blipFill>
        <p:spPr>
          <a:xfrm rot="2400000">
            <a:off x="728280" y="5762160"/>
            <a:ext cx="530280" cy="90324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6" descr="3906055_174417048458_2"/>
          <p:cNvPicPr/>
          <p:nvPr/>
        </p:nvPicPr>
        <p:blipFill>
          <a:blip r:embed="rId3"/>
          <a:srcRect l="50203" t="936" r="0" b="1483"/>
          <a:stretch/>
        </p:blipFill>
        <p:spPr>
          <a:xfrm rot="2400000">
            <a:off x="2052360" y="5518080"/>
            <a:ext cx="530280" cy="90180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8" descr="3906055_174417048458_2"/>
          <p:cNvPicPr/>
          <p:nvPr/>
        </p:nvPicPr>
        <p:blipFill>
          <a:blip r:embed="rId4"/>
          <a:srcRect l="50203" t="936" r="0" b="1483"/>
          <a:stretch/>
        </p:blipFill>
        <p:spPr>
          <a:xfrm rot="2400000">
            <a:off x="1834920" y="3933720"/>
            <a:ext cx="529920" cy="9018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10" descr="3906055_174417048458_2"/>
          <p:cNvPicPr/>
          <p:nvPr/>
        </p:nvPicPr>
        <p:blipFill>
          <a:blip r:embed="rId5"/>
          <a:srcRect l="50203" t="932" r="0" b="1476"/>
          <a:stretch/>
        </p:blipFill>
        <p:spPr>
          <a:xfrm rot="2400000">
            <a:off x="3563640" y="4076280"/>
            <a:ext cx="530280" cy="9032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2" descr="3906055_174417048458_2"/>
          <p:cNvPicPr/>
          <p:nvPr/>
        </p:nvPicPr>
        <p:blipFill>
          <a:blip r:embed="rId6"/>
          <a:srcRect l="50203" t="932" r="0" b="1476"/>
          <a:stretch/>
        </p:blipFill>
        <p:spPr>
          <a:xfrm rot="2400000">
            <a:off x="3276360" y="2491920"/>
            <a:ext cx="530280" cy="903240"/>
          </a:xfrm>
          <a:prstGeom prst="rect">
            <a:avLst/>
          </a:prstGeom>
          <a:ln w="0">
            <a:noFill/>
          </a:ln>
        </p:spPr>
      </p:pic>
      <p:sp>
        <p:nvSpPr>
          <p:cNvPr id="1594" name="Text Box 13"/>
          <p:cNvSpPr/>
          <p:nvPr/>
        </p:nvSpPr>
        <p:spPr>
          <a:xfrm>
            <a:off x="5007600" y="1844640"/>
            <a:ext cx="1094760" cy="100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4"/>
          <p:cNvSpPr/>
          <p:nvPr/>
        </p:nvSpPr>
        <p:spPr>
          <a:xfrm>
            <a:off x="5078880" y="2925720"/>
            <a:ext cx="1094760" cy="1006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15"/>
          <p:cNvSpPr/>
          <p:nvPr/>
        </p:nvSpPr>
        <p:spPr>
          <a:xfrm>
            <a:off x="5078880" y="3860640"/>
            <a:ext cx="109476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16"/>
          <p:cNvSpPr/>
          <p:nvPr/>
        </p:nvSpPr>
        <p:spPr>
          <a:xfrm>
            <a:off x="5007600" y="4797360"/>
            <a:ext cx="1094760" cy="1006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17"/>
          <p:cNvSpPr/>
          <p:nvPr/>
        </p:nvSpPr>
        <p:spPr>
          <a:xfrm>
            <a:off x="5351400" y="1943280"/>
            <a:ext cx="19573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都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18"/>
          <p:cNvSpPr/>
          <p:nvPr/>
        </p:nvSpPr>
        <p:spPr>
          <a:xfrm>
            <a:off x="5288040" y="4127400"/>
            <a:ext cx="360504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更近一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19"/>
          <p:cNvSpPr/>
          <p:nvPr/>
        </p:nvSpPr>
        <p:spPr>
          <a:xfrm>
            <a:off x="5364000" y="2997360"/>
            <a:ext cx="282276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离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1" name="图片 1" descr=""/>
          <p:cNvPicPr/>
          <p:nvPr/>
        </p:nvPicPr>
        <p:blipFill>
          <a:blip r:embed="rId7"/>
          <a:stretch/>
        </p:blipFill>
        <p:spPr>
          <a:xfrm>
            <a:off x="2612880" y="2147760"/>
            <a:ext cx="1022400" cy="1065240"/>
          </a:xfrm>
          <a:prstGeom prst="rect">
            <a:avLst/>
          </a:prstGeom>
          <a:ln w="0">
            <a:noFill/>
          </a:ln>
        </p:spPr>
      </p:pic>
      <p:pic>
        <p:nvPicPr>
          <p:cNvPr id="1602" name="图片 20" descr=""/>
          <p:cNvPicPr/>
          <p:nvPr/>
        </p:nvPicPr>
        <p:blipFill>
          <a:blip r:embed="rId8"/>
          <a:stretch/>
        </p:blipFill>
        <p:spPr>
          <a:xfrm>
            <a:off x="2846520" y="3732120"/>
            <a:ext cx="1022040" cy="1065240"/>
          </a:xfrm>
          <a:prstGeom prst="rect">
            <a:avLst/>
          </a:prstGeom>
          <a:ln w="0">
            <a:noFill/>
          </a:ln>
        </p:spPr>
      </p:pic>
      <p:pic>
        <p:nvPicPr>
          <p:cNvPr id="1603" name="图片 21" descr=""/>
          <p:cNvPicPr/>
          <p:nvPr/>
        </p:nvPicPr>
        <p:blipFill>
          <a:blip r:embed="rId9"/>
          <a:stretch/>
        </p:blipFill>
        <p:spPr>
          <a:xfrm>
            <a:off x="1198440" y="3500280"/>
            <a:ext cx="1022400" cy="1065240"/>
          </a:xfrm>
          <a:prstGeom prst="rect">
            <a:avLst/>
          </a:prstGeom>
          <a:ln w="0">
            <a:noFill/>
          </a:ln>
        </p:spPr>
      </p:pic>
      <p:pic>
        <p:nvPicPr>
          <p:cNvPr id="1604" name="图片 22" descr=""/>
          <p:cNvPicPr/>
          <p:nvPr/>
        </p:nvPicPr>
        <p:blipFill>
          <a:blip r:embed="rId10"/>
          <a:stretch/>
        </p:blipFill>
        <p:spPr>
          <a:xfrm>
            <a:off x="1332000" y="5157720"/>
            <a:ext cx="1020600" cy="1067040"/>
          </a:xfrm>
          <a:prstGeom prst="rect">
            <a:avLst/>
          </a:prstGeom>
          <a:ln w="0">
            <a:noFill/>
          </a:ln>
        </p:spPr>
      </p:pic>
      <p:pic>
        <p:nvPicPr>
          <p:cNvPr id="1605" name="图片 23" descr=""/>
          <p:cNvPicPr/>
          <p:nvPr/>
        </p:nvPicPr>
        <p:blipFill>
          <a:blip r:embed="rId11"/>
          <a:stretch/>
        </p:blipFill>
        <p:spPr>
          <a:xfrm>
            <a:off x="0" y="5394240"/>
            <a:ext cx="10224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52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15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6" dur="2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5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4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100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100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00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3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2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8" dur="2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100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100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00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7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10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10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0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6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5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9" dur="2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 Box 2"/>
          <p:cNvSpPr/>
          <p:nvPr/>
        </p:nvSpPr>
        <p:spPr>
          <a:xfrm>
            <a:off x="1415880" y="1108080"/>
            <a:ext cx="25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献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3"/>
          <p:cNvSpPr/>
          <p:nvPr/>
        </p:nvSpPr>
        <p:spPr>
          <a:xfrm>
            <a:off x="1400040" y="2473200"/>
            <a:ext cx="641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所有跋涉在路上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4"/>
          <p:cNvSpPr/>
          <p:nvPr/>
        </p:nvSpPr>
        <p:spPr>
          <a:xfrm>
            <a:off x="1303200" y="3870360"/>
            <a:ext cx="25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华文行楷"/>
                <a:ea typeface="华文行楷"/>
              </a:rPr>
              <a:t>朋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5"/>
          <p:cNvSpPr/>
          <p:nvPr/>
        </p:nvSpPr>
        <p:spPr>
          <a:xfrm>
            <a:off x="2629080" y="2637000"/>
            <a:ext cx="33508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6"/>
          <p:cNvSpPr/>
          <p:nvPr/>
        </p:nvSpPr>
        <p:spPr>
          <a:xfrm>
            <a:off x="1763640" y="2492280"/>
            <a:ext cx="50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cc99"/>
                </a:solidFill>
                <a:latin typeface="Arial Black"/>
                <a:ea typeface="华文行楷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3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3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3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WordArt 2"/>
          <p:cNvSpPr txBox="1"/>
          <p:nvPr/>
        </p:nvSpPr>
        <p:spPr>
          <a:xfrm rot="5400000">
            <a:off x="-959400" y="3012120"/>
            <a:ext cx="6854760" cy="830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68000"/>
                  </a:srgbClr>
                </a:solidFill>
                <a:latin typeface="华文行楷"/>
              </a:rPr>
              <a:t>比赛过程中努力奔跑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68000"/>
                </a:srgbClr>
              </a:solidFill>
              <a:latin typeface="华文行楷"/>
              <a:ea typeface="华文行楷"/>
            </a:endParaRPr>
          </a:p>
        </p:txBody>
      </p:sp>
      <p:sp>
        <p:nvSpPr>
          <p:cNvPr id="1519" name="WordArt 3"/>
          <p:cNvSpPr txBox="1"/>
          <p:nvPr/>
        </p:nvSpPr>
        <p:spPr>
          <a:xfrm rot="5400000">
            <a:off x="-271440" y="2944800"/>
            <a:ext cx="5332320" cy="830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69000"/>
                  </a:srgbClr>
                </a:solidFill>
                <a:latin typeface="华文行楷"/>
              </a:rPr>
              <a:t>即使起跑线相同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69000"/>
                </a:srgbClr>
              </a:solidFill>
              <a:latin typeface="华文行楷"/>
              <a:ea typeface="华文行楷"/>
            </a:endParaRPr>
          </a:p>
        </p:txBody>
      </p:sp>
      <p:sp>
        <p:nvSpPr>
          <p:cNvPr id="1520" name="WordArt 4"/>
          <p:cNvSpPr txBox="1"/>
          <p:nvPr/>
        </p:nvSpPr>
        <p:spPr>
          <a:xfrm>
            <a:off x="2340000" y="1054080"/>
            <a:ext cx="60958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70000"/>
                  </a:srgbClr>
                </a:solidFill>
                <a:latin typeface="华文行楷"/>
              </a:rPr>
              <a:t>人生就像一场赛跑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70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1521" name="Picture 5" descr=""/>
          <p:cNvPicPr/>
          <p:nvPr/>
        </p:nvPicPr>
        <p:blipFill>
          <a:blip r:embed="rId1"/>
          <a:stretch/>
        </p:blipFill>
        <p:spPr>
          <a:xfrm>
            <a:off x="0" y="1917720"/>
            <a:ext cx="4568760" cy="262260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6" descr=""/>
          <p:cNvPicPr/>
          <p:nvPr/>
        </p:nvPicPr>
        <p:blipFill>
          <a:blip r:embed="rId2"/>
          <a:stretch/>
        </p:blipFill>
        <p:spPr>
          <a:xfrm rot="20340000">
            <a:off x="3564000" y="1053720"/>
            <a:ext cx="5030640" cy="335268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7" descr=""/>
          <p:cNvPicPr/>
          <p:nvPr/>
        </p:nvPicPr>
        <p:blipFill>
          <a:blip r:embed="rId3"/>
          <a:stretch/>
        </p:blipFill>
        <p:spPr>
          <a:xfrm>
            <a:off x="3492360" y="44280"/>
            <a:ext cx="5445360" cy="4778640"/>
          </a:xfrm>
          <a:prstGeom prst="rect">
            <a:avLst/>
          </a:prstGeom>
          <a:ln w="0">
            <a:noFill/>
          </a:ln>
        </p:spPr>
      </p:pic>
      <p:sp>
        <p:nvSpPr>
          <p:cNvPr id="1524" name="WordArt 8"/>
          <p:cNvSpPr txBox="1"/>
          <p:nvPr/>
        </p:nvSpPr>
        <p:spPr>
          <a:xfrm>
            <a:off x="552600" y="4726080"/>
            <a:ext cx="761976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67000"/>
                  </a:srgbClr>
                </a:solidFill>
                <a:latin typeface="华文行楷"/>
              </a:rPr>
              <a:t>结果也不一定如己所愿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67000"/>
                </a:srgbClr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998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1"/>
                            </p:stCondLst>
                            <p:childTnLst>
                              <p:par>
                                <p:cTn id="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Picture 2" descr="图片1z"/>
          <p:cNvPicPr/>
          <p:nvPr/>
        </p:nvPicPr>
        <p:blipFill>
          <a:blip r:embed="rId1"/>
          <a:stretch/>
        </p:blipFill>
        <p:spPr>
          <a:xfrm>
            <a:off x="3060720" y="1557360"/>
            <a:ext cx="2889360" cy="3983040"/>
          </a:xfrm>
          <a:prstGeom prst="rect">
            <a:avLst/>
          </a:prstGeom>
          <a:ln w="0">
            <a:noFill/>
          </a:ln>
        </p:spPr>
      </p:pic>
      <p:sp>
        <p:nvSpPr>
          <p:cNvPr id="1526" name="Rectangle 3"/>
          <p:cNvSpPr/>
          <p:nvPr/>
        </p:nvSpPr>
        <p:spPr>
          <a:xfrm>
            <a:off x="2916360" y="3718080"/>
            <a:ext cx="360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5470560" y="3749760"/>
            <a:ext cx="3589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Picture 5" descr="演示文稿2"/>
          <p:cNvPicPr/>
          <p:nvPr/>
        </p:nvPicPr>
        <p:blipFill>
          <a:blip r:embed="rId2"/>
          <a:srcRect l="12" t="0" r="0" b="49281"/>
          <a:stretch/>
        </p:blipFill>
        <p:spPr>
          <a:xfrm>
            <a:off x="0" y="0"/>
            <a:ext cx="9144000" cy="3479760"/>
          </a:xfrm>
          <a:prstGeom prst="rect">
            <a:avLst/>
          </a:prstGeom>
          <a:ln w="0">
            <a:noFill/>
          </a:ln>
        </p:spPr>
      </p:pic>
      <p:sp>
        <p:nvSpPr>
          <p:cNvPr id="1529" name="Text Box 8"/>
          <p:cNvSpPr/>
          <p:nvPr/>
        </p:nvSpPr>
        <p:spPr>
          <a:xfrm>
            <a:off x="684360" y="5013360"/>
            <a:ext cx="29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别人的起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652320" y="5816520"/>
            <a:ext cx="29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也许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10"/>
          <p:cNvSpPr/>
          <p:nvPr/>
        </p:nvSpPr>
        <p:spPr>
          <a:xfrm>
            <a:off x="539640" y="5013360"/>
            <a:ext cx="29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另一些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11"/>
          <p:cNvSpPr/>
          <p:nvPr/>
        </p:nvSpPr>
        <p:spPr>
          <a:xfrm>
            <a:off x="468360" y="5805360"/>
            <a:ext cx="45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一辈子都达不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12"/>
          <p:cNvSpPr/>
          <p:nvPr/>
        </p:nvSpPr>
        <p:spPr>
          <a:xfrm>
            <a:off x="1525680" y="513072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华文行楷"/>
                <a:ea typeface="华文行楷"/>
              </a:rPr>
              <a:t>终 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4" name="Picture 11" descr="行·路1"/>
          <p:cNvPicPr/>
          <p:nvPr/>
        </p:nvPicPr>
        <p:blipFill>
          <a:blip r:embed="rId3"/>
          <a:srcRect l="-622" t="50357" r="0" b="0"/>
          <a:stretch/>
        </p:blipFill>
        <p:spPr>
          <a:xfrm>
            <a:off x="-104760" y="3479760"/>
            <a:ext cx="9263160" cy="3405240"/>
          </a:xfrm>
          <a:prstGeom prst="rect">
            <a:avLst/>
          </a:prstGeom>
          <a:ln w="0">
            <a:noFill/>
          </a:ln>
        </p:spPr>
      </p:pic>
      <p:sp>
        <p:nvSpPr>
          <p:cNvPr id="1535" name="WordArt 7"/>
          <p:cNvSpPr txBox="1"/>
          <p:nvPr/>
        </p:nvSpPr>
        <p:spPr>
          <a:xfrm>
            <a:off x="3314880" y="2971800"/>
            <a:ext cx="274320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>
                      <a:alpha val="50000"/>
                    </a:srgbClr>
                  </a:outerShdw>
                </a:effectLst>
                <a:latin typeface="华文行楷"/>
              </a:rPr>
              <a:t>更何况</a:t>
            </a:r>
            <a:endParaRPr b="1" lang="en-US" sz="7200" spc="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0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4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2000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76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2"/>
          <p:cNvSpPr/>
          <p:nvPr/>
        </p:nvSpPr>
        <p:spPr>
          <a:xfrm>
            <a:off x="3060720" y="3933720"/>
            <a:ext cx="358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3"/>
          <p:cNvSpPr/>
          <p:nvPr/>
        </p:nvSpPr>
        <p:spPr>
          <a:xfrm>
            <a:off x="5213520" y="3884760"/>
            <a:ext cx="358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4" descr="8bf3b825-57ff-4a05-811f-4ad6a131dc89"/>
          <p:cNvPicPr/>
          <p:nvPr/>
        </p:nvPicPr>
        <p:blipFill>
          <a:blip r:embed="rId1"/>
          <a:stretch/>
        </p:blipFill>
        <p:spPr>
          <a:xfrm>
            <a:off x="0" y="0"/>
            <a:ext cx="4711680" cy="685800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5" descr="20101123050901448"/>
          <p:cNvPicPr/>
          <p:nvPr/>
        </p:nvPicPr>
        <p:blipFill>
          <a:blip r:embed="rId2"/>
          <a:srcRect l="10450" t="0" r="0" b="-756"/>
          <a:stretch/>
        </p:blipFill>
        <p:spPr>
          <a:xfrm>
            <a:off x="4713120" y="-20520"/>
            <a:ext cx="4430880" cy="69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2" descr="153244497"/>
          <p:cNvPicPr/>
          <p:nvPr/>
        </p:nvPicPr>
        <p:blipFill>
          <a:blip r:embed="rId1"/>
          <a:stretch/>
        </p:blipFill>
        <p:spPr>
          <a:xfrm>
            <a:off x="0" y="0"/>
            <a:ext cx="9169560" cy="69022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3" descr="2008418161651339_2"/>
          <p:cNvPicPr/>
          <p:nvPr/>
        </p:nvPicPr>
        <p:blipFill>
          <a:blip r:embed="rId2"/>
          <a:srcRect l="0" t="5203" r="0" b="0"/>
          <a:stretch/>
        </p:blipFill>
        <p:spPr>
          <a:xfrm>
            <a:off x="0" y="144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1542" name="WordArt 4"/>
          <p:cNvSpPr txBox="1"/>
          <p:nvPr/>
        </p:nvSpPr>
        <p:spPr>
          <a:xfrm>
            <a:off x="0" y="2930400"/>
            <a:ext cx="914400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8080"/>
                </a:solidFill>
                <a:latin typeface="华文行楷"/>
              </a:rPr>
              <a:t>有些东西我们无法选择</a:t>
            </a:r>
            <a:endParaRPr b="1" lang="en-US" sz="7200" spc="1" strike="noStrike">
              <a:ln w="9360">
                <a:solidFill>
                  <a:srgbClr val="9999ff"/>
                </a:solidFill>
                <a:miter/>
              </a:ln>
              <a:solidFill>
                <a:srgbClr val="00808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WordArt 2"/>
          <p:cNvSpPr txBox="1"/>
          <p:nvPr/>
        </p:nvSpPr>
        <p:spPr>
          <a:xfrm>
            <a:off x="0" y="3097080"/>
            <a:ext cx="9144000" cy="663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行楷"/>
              </a:rPr>
              <a:t>我们可以选择以积极的心面对生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44" name="Text Box 3"/>
          <p:cNvSpPr/>
          <p:nvPr/>
        </p:nvSpPr>
        <p:spPr>
          <a:xfrm>
            <a:off x="2536920" y="866880"/>
            <a:ext cx="34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华文行楷"/>
                <a:ea typeface="华文行楷"/>
              </a:rPr>
              <a:t>但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2" descr="17c07e13-5ca3-47f5-9bb9-7c1f3d04f45d"/>
          <p:cNvPicPr/>
          <p:nvPr/>
        </p:nvPicPr>
        <p:blipFill>
          <a:blip r:embed="rId1"/>
          <a:stretch/>
        </p:blipFill>
        <p:spPr>
          <a:xfrm>
            <a:off x="2306520" y="0"/>
            <a:ext cx="5073840" cy="6885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5"/>
          <p:cNvSpPr/>
          <p:nvPr/>
        </p:nvSpPr>
        <p:spPr>
          <a:xfrm>
            <a:off x="2373480" y="36360"/>
            <a:ext cx="494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7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岁的新西兰人马克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英格利斯于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006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年曾成功登顶珠穆朗玛峰，成为世界上第一位登上世界最高峰的双腿残疾者。英格利斯是一个传奇人物。 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982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年，在攀登新西兰最高峰库克峰时，他的双腿被冻坏。截肢后的英格利斯改练自行车，并获得残奥会银牌。但是，他从未放弃登山梦想，终于在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006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年 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日梦想成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Picture 3" descr="bd978947-9636-42f6-9b84-9e61cccb2455"/>
          <p:cNvPicPr/>
          <p:nvPr/>
        </p:nvPicPr>
        <p:blipFill>
          <a:blip r:embed="rId2"/>
          <a:srcRect l="0" t="988" r="-524" b="0"/>
          <a:stretch/>
        </p:blipFill>
        <p:spPr>
          <a:xfrm>
            <a:off x="1476360" y="520560"/>
            <a:ext cx="6769080" cy="6018480"/>
          </a:xfrm>
          <a:prstGeom prst="rect">
            <a:avLst/>
          </a:prstGeom>
          <a:ln w="0">
            <a:noFill/>
          </a:ln>
        </p:spPr>
      </p:pic>
      <p:sp>
        <p:nvSpPr>
          <p:cNvPr id="1548" name="Text Box 7"/>
          <p:cNvSpPr/>
          <p:nvPr/>
        </p:nvSpPr>
        <p:spPr>
          <a:xfrm>
            <a:off x="1332000" y="1589040"/>
            <a:ext cx="73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华文行楷"/>
                <a:ea typeface="华文行楷"/>
              </a:rPr>
              <a:t>我的手指还能活动，我的大脑还能思维；我有终身追求的理想，我有爱和爱我的亲人朋友；对了，我还有一颗感恩的心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3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9" name="Picture 2" descr="quzhe"/>
          <p:cNvPicPr/>
          <p:nvPr/>
        </p:nvPicPr>
        <p:blipFill>
          <a:blip r:embed="rId1"/>
          <a:srcRect l="7806" t="20389" r="443" b="14980"/>
          <a:stretch/>
        </p:blipFill>
        <p:spPr>
          <a:xfrm>
            <a:off x="34920" y="0"/>
            <a:ext cx="9109080" cy="688500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temp"/>
          <p:cNvPicPr/>
          <p:nvPr/>
        </p:nvPicPr>
        <p:blipFill>
          <a:blip r:embed="rId2"/>
          <a:stretch/>
        </p:blipFill>
        <p:spPr>
          <a:xfrm>
            <a:off x="179280" y="3933720"/>
            <a:ext cx="8399520" cy="1656000"/>
          </a:xfrm>
          <a:prstGeom prst="rect">
            <a:avLst/>
          </a:prstGeom>
          <a:ln w="0">
            <a:noFill/>
          </a:ln>
        </p:spPr>
      </p:pic>
      <p:sp>
        <p:nvSpPr>
          <p:cNvPr id="1551" name="Text Box 4"/>
          <p:cNvSpPr/>
          <p:nvPr/>
        </p:nvSpPr>
        <p:spPr>
          <a:xfrm>
            <a:off x="2070000" y="73836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99"/>
                </a:solidFill>
                <a:latin typeface="华文楷体"/>
                <a:ea typeface="华文行楷"/>
              </a:rPr>
              <a:t>要相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5"/>
          <p:cNvSpPr/>
          <p:nvPr/>
        </p:nvSpPr>
        <p:spPr>
          <a:xfrm>
            <a:off x="2054160" y="283860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99"/>
                </a:solidFill>
                <a:latin typeface="华文楷体"/>
                <a:ea typeface="华文行楷"/>
              </a:rPr>
              <a:t>明天会更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3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3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Picture 2" descr="31"/>
          <p:cNvPicPr/>
          <p:nvPr/>
        </p:nvPicPr>
        <p:blipFill>
          <a:blip r:embed="rId1"/>
          <a:stretch/>
        </p:blipFill>
        <p:spPr>
          <a:xfrm>
            <a:off x="144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3" descr="01200000231928117258214551927_s"/>
          <p:cNvPicPr/>
          <p:nvPr/>
        </p:nvPicPr>
        <p:blipFill>
          <a:blip r:embed="rId2"/>
          <a:stretch/>
        </p:blipFill>
        <p:spPr>
          <a:xfrm>
            <a:off x="3060720" y="1486080"/>
            <a:ext cx="2232000" cy="2822400"/>
          </a:xfrm>
          <a:prstGeom prst="rect">
            <a:avLst/>
          </a:prstGeom>
          <a:ln w="0">
            <a:noFill/>
          </a:ln>
        </p:spPr>
      </p:pic>
      <p:sp>
        <p:nvSpPr>
          <p:cNvPr id="1555" name="Text Box 4"/>
          <p:cNvSpPr/>
          <p:nvPr/>
        </p:nvSpPr>
        <p:spPr>
          <a:xfrm>
            <a:off x="179280" y="458136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面对选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5"/>
          <p:cNvSpPr/>
          <p:nvPr/>
        </p:nvSpPr>
        <p:spPr>
          <a:xfrm>
            <a:off x="324000" y="5661000"/>
            <a:ext cx="33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行楷"/>
              </a:rPr>
              <a:t>谨慎为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幻灯片之家 http:/www.eeppt.com</cp:keywords>
  <dc:language>en-US</dc:language>
  <cp:lastModifiedBy/>
  <dcterms:modified xsi:type="dcterms:W3CDTF">2015-07-20T06:30:50Z</dcterms:modified>
  <cp:revision>0</cp:revision>
  <dc:subject/>
  <dc:title/>
</cp:coreProperties>
</file>