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4C5-BD1E-4C5C-80B4-7A8F0AB9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F8D-2E45-4D90-BE3B-0DFDFBAB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36E-E170-4C68-A47E-F7603642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064-0B75-4207-AE5E-16745B6F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BA2-166C-436A-9583-7627928F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046-BDDA-41D4-A5D2-262B1AAE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AAC-B1AC-46EC-BB9C-9A206552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682-3DC2-483E-A07F-558757D0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7DE-D544-45DA-8A50-4DF83F98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2EA-7B96-4AC3-8A78-B2BBAB4F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622-B841-4CF1-9BF3-948832EF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DCA-B500-4800-92B3-61EA76C4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B5B6-3B81-43BC-9099-E1F963F02A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882440" y="1928880"/>
            <a:ext cx="667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3371400" y="7891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783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854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497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426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8550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59979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6406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664380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1211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711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5283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0690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7200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569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497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426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7118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569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488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498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2831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a</cp:lastModifiedBy>
  <dcterms:modified xsi:type="dcterms:W3CDTF">2015-07-21T02:27:53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