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E33-4590-442D-8897-097D16F4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BC5-5791-4103-9D0C-5EDB7784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EE71-9FEC-4B56-95BA-D69439B2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349-4B32-44AD-A1EA-6ED0EA43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6811-A72A-43BE-A035-25A8E501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CF13-DF21-499F-AD00-BB3FD6F4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792D-0407-4E94-86FA-2D9DBB57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6230-F499-47CE-BFFC-6B4BEB8F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5C0D-B0F0-4337-B281-2D205853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D4A3-992C-47DD-8FB5-943D4851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3DAD-2E4C-4BA4-B0BA-33263E6B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5ACF-34E8-472D-9B7A-28C4A620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BC01-014D-41F2-95C4-F8EF7AFF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887D-6BE8-4B89-961F-AEC9D4F9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5A4E-8C79-4157-8CCA-D3437467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A5E7-95B7-43D2-AAEC-0864527B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B7FD-ED80-430C-B00B-B1EB1791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C98-0D3D-4293-9FAA-70BED32F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9E7-CA73-4242-898A-56EA5519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78A-BCCC-44E1-B70E-08332F5A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A32-98A0-41AF-8274-7A4F0889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8C12-B1C4-421B-924C-E4C2D057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B314-61CA-4D13-823A-0C5E4A0D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1AF9-DA0B-4EDD-A1A4-140FCA26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3532-4792-463C-8867-189E859B817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6555-E704-49DF-81D3-E6C0F3457DC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82640" y="4428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小清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CA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CA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F0B-E0C6-4042-A188-4B20FF6A95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6:25:11Z</dcterms:created>
  <dc:creator>keke</dc:creator>
  <dc:description/>
  <dc:language>en-US</dc:language>
  <cp:lastModifiedBy>微软用户</cp:lastModifiedBy>
  <dcterms:modified xsi:type="dcterms:W3CDTF">2015-07-21T01:25:53Z</dcterms:modified>
  <cp:revision>4</cp:revision>
  <dc:subject/>
  <dc:title>站长站素材 SC.china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