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316-E6C4-48E3-BA61-4EB04B87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1ED-E008-49A0-B107-712EA8C9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900-4ABF-4CA5-BF50-277505C7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842-B0C7-4B79-9315-20EF6BC4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89CD-3849-4F22-9E80-17E479D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208A-60FB-4482-99AB-C04CB02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987B-DF28-4AA9-98D9-E64FB65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F4CD-C4A2-4351-9D3D-CB43406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1D0E-A318-43A8-B27B-D042132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9F0-0DCA-40E8-BB2D-1CC877F3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2A7-1846-40C1-97F2-B14D83F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1AA-8E42-4A74-83E0-3B06C1D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A9F-F4A8-459A-8438-7AE5A70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A693-B1AD-4A41-B005-938A6AC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BF22-B1D5-48FC-A484-C5D6C047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9979-E6F0-42F4-A957-33BD0A52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530E-007E-4228-8C86-B334E805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2AF-800D-487F-8B80-7AA196CC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7D1-6051-4DA8-95BD-BFA8B305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BDE-8209-4FD6-A988-A6DB98EC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FAA-EE31-4F9D-B84A-CB42A23C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82D-46E3-452E-82C7-23C1573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0C8-0F18-47AA-BA87-96A510A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804-1A61-4949-BC54-A167B1C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E8CF-8732-4713-BF31-74275A8CD46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D006-B106-4B51-BFBD-6C283FF5B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672320" y="620640"/>
            <a:ext cx="118584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Arial"/>
                <a:ea typeface="华文仿宋"/>
              </a:rPr>
              <a:t>放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474320" y="1413000"/>
            <a:ext cx="3934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tangCh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6400" y="2700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清新唯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目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537680" y="692280"/>
            <a:ext cx="850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31000" y="1365120"/>
            <a:ext cx="3106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那個一直桎梏在籠中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过度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5003640" y="3803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200560" y="443880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skerville Old Fac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内容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60440" y="333360"/>
            <a:ext cx="23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7360" y="1263600"/>
            <a:ext cx="68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放飛就是遠離城市的喧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擺脫日常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家庭和事業的羈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縱情於山水之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不同的錦繡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各地的風俗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滿足好奇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求知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增加閱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賞心悅目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4365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结束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280480" y="1974960"/>
            <a:ext cx="164268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謝謝觀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A96-4828-4E73-A2B5-CDCE2872C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</cp:lastModifiedBy>
  <dcterms:modified xsi:type="dcterms:W3CDTF">2015-07-21T03:00:4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