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4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</p:sldMasterIdLst>
  <p:sldIdLst>
    <p:sldId id="256" r:id="rId43"/>
    <p:sldId id="257" r:id="rId44"/>
    <p:sldId id="258" r:id="rId45"/>
    <p:sldId id="259" r:id="rId46"/>
    <p:sldId id="260" r:id="rId47"/>
    <p:sldId id="261" r:id="rId48"/>
    <p:sldId id="26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" Target="slides/slide1.xml"/><Relationship Id="rId44" Type="http://schemas.openxmlformats.org/officeDocument/2006/relationships/slide" Target="slides/slide2.xml"/><Relationship Id="rId45" Type="http://schemas.openxmlformats.org/officeDocument/2006/relationships/slide" Target="slides/slide3.xml"/><Relationship Id="rId46" Type="http://schemas.openxmlformats.org/officeDocument/2006/relationships/slide" Target="slides/slide4.xml"/><Relationship Id="rId47" Type="http://schemas.openxmlformats.org/officeDocument/2006/relationships/slide" Target="slides/slide5.xml"/><Relationship Id="rId48" Type="http://schemas.openxmlformats.org/officeDocument/2006/relationships/slide" Target="slides/slide6.xml"/><Relationship Id="rId49" Type="http://schemas.openxmlformats.org/officeDocument/2006/relationships/slide" Target="slides/slide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05B4-9B08-4B51-9A45-65FF356A7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8811-81B3-4DB9-A5DE-6C13D4DE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97468-F128-4548-8352-88E7183CF33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920AF-04D2-4CBB-944A-E2D5C35C10A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C6DC3-AF4A-4837-AD36-5EBA3E5AE40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49B26-C2D7-45BF-AF58-4E9A4DA0544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F919F-A8BA-4CCF-BD6F-B65901637EE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B172D-EEB5-43A2-A3B8-21AE16B13EF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0EBAC-5443-4230-86D0-F9766BCF25A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A2F61-B5D3-4368-A1A3-58C71C268CD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4B7BF-2422-4A85-B47D-43F71B6076E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5E9DB2-C69F-4F8F-A9EA-183F1F11C9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F1CF-1B42-4FD9-A493-AF8A87630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D02A58-3D5C-42B0-A5E9-2BB9CB6D9EE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69916F-3F35-4558-AC5C-E5657EBDD84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A48BE8-E344-40D3-AC2F-E1D4CC88944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E70458-9758-4CA0-B492-433E503F613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71BD59-50F9-4714-BCFF-D2EC7347DA5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8C9C3D-804F-46C1-B233-8017CDD138E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23302A-F082-4673-94A6-9E0433AF462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1C68D7-8BA4-4F5F-9530-04592869959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BA6E32-BB46-4DFD-8E77-D62A70756A1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C20C72-7B48-427C-8BB0-7D9B2828E0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DA81-8456-436A-A34F-017ABFD7F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1DE2D5-E7BA-47B5-B40C-F42E33F5DD4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CE0F53-5042-4F11-B8A1-3298EFBCB13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D93B77-8FCD-4055-B5D8-2ECFE446D7F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D979C2-0200-46A0-A05C-7162496A951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613C4B-15E4-4A57-B8C8-CB189490F6A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198B82-D1F9-4C3E-86E0-386D3BA985A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67CC4A-802E-48EE-9395-961ACB66094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804802-6E0F-4A03-9155-F64C8950B4B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786740-24A1-43C0-93B5-AFFF1534351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846C3A-3E00-4139-A24B-9986ED6A46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3A6C1-713E-48E4-BBD3-AE6EA11D136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13A533-7C29-49AA-9DAE-69097B75C68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FB9CF8-40FE-4836-AD32-AA5AB42AB3C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D2ABB6-14E8-4524-A50E-8DE8AEF1AA0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C6D5B-357F-434E-8F57-FB76EA069B0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2D309-1848-4ADA-B667-DFDB5343A8D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D4FAD-C73D-4FCB-AAB5-6F3C859D4E6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94693-9B26-4F2F-B48E-F695C5B395E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FAB17-90C8-4699-829F-49C73E5F42D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68667-88DF-42EC-9E06-C756C9AA870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F4F81-9539-4E97-9AB4-064148837A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DD25A3-EEA0-470C-9515-DDC61C2342D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49268-8B09-4EFD-9DBE-1DEF5F13758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D7C1D-944D-40DA-A67C-121E1CA8776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25A86-9336-4C74-8193-AF42B0A1D2F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CA19B-71DE-4C6E-9DD6-3A0B63A6F6E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024F8-08CB-483D-845C-EDBD1F2A341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A256B-C540-4EFF-90C9-3FEA5203788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F6EB25-1416-4EBC-AB61-647739B29D9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5AEAF-2C94-4FA6-A4AD-F6327C42BA4D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07513-8209-47F4-B871-B49408DB5612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99BF7-FB93-4960-BF04-014882B82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75B33-A01A-42DF-94CA-B4E7C34A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1B9EC-8297-47A7-B135-7C7B7758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A7B58-C385-4242-A3F3-1F6B68CA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B11FD-3952-44C4-96F5-04A0FFCE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37795-7FED-4198-9EE3-92BB8C0A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D70EA-E761-4732-A95B-0FD8AED4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C658A-CF3C-4B24-AF62-CAD159DA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0DA17-AC95-422E-931C-AA332D49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A8F729-1018-4FE8-AD1B-EFF129A42AA2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D542D-4BDF-4694-893F-EC1C5C4A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2198C-9F00-432A-B7EA-B52F6B5E5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EB5C2-BED4-4960-9957-ECD4984BC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BE11-BC9E-4F9E-B3E0-7B92DB36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BA452F-9251-498C-AF88-E8B596EB13AB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B69B8F-35F4-42B6-9690-D20BE411970A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22BC55-0D17-4E7C-970F-80C8FCEF70E1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798B65-1579-4AA5-84AC-C2CD1E9BBFA0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D7119A-6B53-432D-B652-43E19EA988EA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FBC778-298B-42AD-B432-D5E1B1C530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C70AF3-B797-4763-9CED-90C9691AC744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5A2C2F-3DE6-40EA-A683-60FD89CB2816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FAB8F1-7DC1-4BF9-9A86-C1588C30314E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AFCADA-8FC3-44E9-BBF6-8CEEC4E99F7A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E03EBA-8388-4821-93F6-CA080CB85F5E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112C84-79C0-4452-9B86-0D7BE34AB349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B92D44-6642-4F1D-9192-50C4A3530B73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1DFE93-382D-4349-A3E0-BB581FA34659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72F3C2-BC4A-4CE2-9CD7-94A6F2A694C7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4552CE-38B3-4332-A8D4-42CAAC418DA8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E2EE43-9081-444A-8183-FB50992E02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3CCE88-F23B-4871-8838-069903F5F2FD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05839B-AFDF-403E-A47A-F0E36698400F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476EC2-22C6-426A-8B62-F017517F3CD3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F5F3EF-60BF-46BA-9A12-E41C00706EB5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66DF14-83B0-42DF-8A7D-018F98FA4ECC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A0AE7D-4A48-4873-8CA9-6F2FE48EA229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488C30-B787-4DB1-8645-2C71CE2DBBEA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6ACBCE-9BF5-4610-A705-4D4BA130DB32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FD4789-E65D-44BE-B13F-DFE024EEDBBA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218EF3-132A-4FA4-BCB5-BE6CBE99B7F5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449BD-8439-428A-83C5-065B50AA5220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8C57A8-6E14-4484-B2C1-43C2E8A69C10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0E8A9B-EF07-407F-9F9F-B52F0B86799B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08DEA1-505C-4AA0-9448-FA1A6664D8BE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E7D43C-F2D2-4465-95F8-3E5749DB7C75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64FE9A-8A53-44EA-BE77-BDA2A7BDC8CD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39C365-C693-49D2-BD42-06C5AF305C44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DEEF68-FBD2-41F2-84B0-4E1DDFAE0F39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ACDC87-0526-4385-AAA8-A8BF3BC03001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F698FD-8976-442C-B914-19EC3D201806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B559B8-4384-4D14-92C9-A3A4FEA30EF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8B1F0F-DEDA-4A70-B7CA-8F47114D538C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7409BD-FA2C-4B42-BE1B-6EC682FF5FE6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3AAAC6-78B4-41B6-99B4-DF6EAD79F190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4B5BCA-044B-45CF-B0E1-7B560DD519A2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50EB61B-909F-41EC-94D2-3A0B6EA1BB7E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6597D57-1255-4F7F-B8E1-1689A34B503B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9CE11F3-6748-47D2-A451-C521C65B11C7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69AB5C-13E2-4D88-B720-7C0C791BFE65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5D78D3A-2E03-4C64-92C7-4AD83E4FBD70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9F82408-BBDA-41AF-BC0C-94A7B3D53ACB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5DB463F-93E8-430F-A025-DD551F3A35E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BF5697-7C11-4B88-A121-B5DE46F8CE84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7CFE5D8-F766-400A-A0A2-1C699665B052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B838F2-8BF2-462C-B19E-D79F95A64A2F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42226FE-2CAF-4BED-A739-08BC32C139CC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98D61A7-FF12-4FCA-B36C-A4A5A2D73E27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3CA0479-C8E2-4C11-808F-F8E99F697D8C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3C4122-35E4-4AD5-A1A3-D64F78DB9068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57DC5F-E381-438F-A6D0-1E05DAE1EF2D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95A3FE-21EE-417E-B1A5-90A3AE3740F4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0046B0-3FF8-4DC4-82B6-F4C3D84F79C9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3B3F0D-68FC-4622-B226-42AE3E15352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37014C-BEAE-411B-9306-100A9BE7C3EA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12FEFB-679A-4E73-9B70-A5E4286FCCDD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07CC74-FA8A-4684-A6CA-43590F928B28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BB6313-0663-4790-B1DD-F0BA0649B082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DCCA23-61E5-4EF3-85A2-EDCCFC497FD3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73A593-A89E-42C2-B788-5ED8822D403D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47369D-E7E4-43F6-823D-BD48E97AD029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7778E5-444D-41FD-A13D-D1EB241A147F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4014FA-F8C1-4F3F-A7AC-21992B11A11B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933A09-622D-47EC-AAFF-396E5CD2203F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9CE92C-D3EB-4A76-BA9C-CBEBB7D0CE6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808B00-8A13-4288-BBE2-57CA68B8A8FA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FC6358-517B-4B54-A9A1-4C0B6D8FA783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A23001-6F83-4908-BC83-30FB785E507E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FB17B7-4536-4AE3-9997-8B7185F7C786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0CF6A3-B087-48B4-8837-F4AC6B8E90B6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1BA0D6-63D6-47D4-904D-AC2AABE1AB84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BE1E5B-580F-4CBF-A4A6-0777C176FB9B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06CD5B-B16E-4CE5-B944-301D0E4F3D99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7A0F79-8488-416F-ACBF-C5D0E74EB941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6A943D-18D5-4A13-9196-EDAE686413A2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1964E0-ECA2-4C42-9AFD-30F87E78B9E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2621FD-795F-4446-9BD1-47D79562CA09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AA6F5CB-BCDA-49F5-894D-B82FDE1579B6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3C1B3A-AA13-4740-A1BF-058D24CB43C7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9FDC28-610A-4DFC-B3F5-E90A18FAA3F8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858EC1-93E8-4AC1-A6E1-358581B14AB3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05391E-5760-42D6-991B-4C4A8B905C55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3E7E61-2D83-4E9B-8121-748306B34548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8112369-75BD-4052-AB18-353E79D4283A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3C8B2B-8ABA-4C7E-B76A-18081609A4B4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424E6A-C9D3-4FAD-90D1-19F521F04627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F2E441-7254-4E54-951C-E3F8AEE0AB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E715-D6F8-4395-BDF3-28BD543F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E7D3C7-01BC-46EB-88D8-6A4EB76781AC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0B49FBE-6AEA-49E4-A45A-E32C02714370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A34586-E587-4118-992E-EB30EEBD12B5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E2AAC4-4A04-44F0-BA3C-C13E7C4AD302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1A990B-BD63-41CC-BF0D-AD172B0AAF6F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48A687B-8C91-4A95-9E1C-433DC5A93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848E61E-75E7-41D1-9BF3-C1D0693F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77627EB-4632-4D04-A784-387C9E85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6D5BB0-CDED-4B4E-B44F-D3650B47FD30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CE211CA-723F-402A-99AB-D72C4462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5EB1F6F-6F6C-4B74-A6D4-897E548F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983EEF7-3A6D-4A7F-A2DC-E250FA21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982B241-E882-439C-916E-DE06A056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11E1E99-362C-428E-A6BC-ED79A056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12A112F-FCE1-4EB2-8373-0EFCD884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713CB83-F0D1-4170-A480-168A04D2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9683D90-067C-43F4-894D-81DB5AF99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0A8637E-07CE-4D1C-99DC-E94E4ED1F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8691EB1-F710-449D-818C-ACEDD70D1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F2F092-C47A-4654-8327-14DCFF2A5DF1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54ADDFF-3BAA-4EE1-9A3D-319BE9F1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F77ED07-DE95-4ED2-A008-E05D79B9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C4F7C2B-9603-4351-BDAD-39508156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1A62BAD-55B4-4225-A6C9-DB6D27C3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EDF3F68-3EF9-463B-996E-802FA407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5B377AC-5780-4B11-AE39-BAEF78E6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CC0F068-74E7-42DB-A428-84013DCA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CEF5C3E-B03F-4D7E-876A-38CFD541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AECCA0F-5560-4D62-A91D-BA239EA5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6BB6F05-9280-4EF8-9B67-58BD0B9A2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DC3E72-1E6E-49D5-B28C-844CDA7E36E7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86E10D8-FF72-4F71-98EC-B91F20CD6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E16092E-08EC-4FFB-97E8-1CDA62A7D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FEA27D8-505F-4861-87C5-6BE01EC5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EB2003A-8B88-48FC-AF4F-DDC3C120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56D1503-99AE-42F8-BC34-322D7D1A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6DA2876-8327-40FE-8789-2C05C84C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4A7CFF6-C889-4897-87E8-F3A2C8E3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3095D1B-77B2-459D-957B-4F757B8F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BAB85CF-E6BA-4A97-B67A-65FDED45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7706845-5E76-42D4-A4FC-8733E65F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AD4004E-EFB1-4C8E-AF73-55016F3C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19F4D70-2D18-47F3-889A-B7E8DF739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E1E0944-A22E-4907-9882-28AE9A2F2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74B0367-62CF-4079-BE83-141538EA5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6B40610-3BA6-468F-9233-32463677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2DAFCDE-679C-4AC4-BFC7-72383367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E12938E-AC4C-4B4B-98D2-4D79A32D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5F82594-B999-4B63-8F56-4ECBA7E1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4AD49C4-48A3-4CFA-A31B-9559BE1F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412CA6F-ABDA-4A9A-A72E-FC584097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570BC9C-2CD8-4418-A145-968DA2EE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AE85791-76C3-4270-933B-594433A0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B66C150-242D-44AE-A777-429BC871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2190A27-860B-4EA0-AE71-82A9028F1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5E03014-0D0D-4166-A11D-7FA199682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E0339AE-517E-48C2-9964-5DCC4F1B3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D50026C-112D-4372-99DA-BBD4482A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AD094E2-0031-4D34-952A-646E29D3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E9C4A4F-BF8A-4708-91FA-D1F759A6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700B7A3-4AB3-4070-AA90-9BC8B479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5442289-BCF0-4336-8B27-3BEC3FD1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915B55D-C839-40C3-80C9-FD6380D9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E323C50-D428-4B3A-8AA0-F39435B4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3A4CA87-E278-498E-A07D-AFFD0FB9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3570FA2-C036-47D7-BC1A-B1ED3788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D9DDA8A-6E0B-4C9C-A81D-2FA8BD3A6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018207C-2850-4142-88C1-4CB95DEBB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5E84AFB-7183-47FE-AB2C-5FADA7EEB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163E942-9977-40D1-B0C9-F4168961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513D163-CC68-490D-AB0A-BE01B9BE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BC4F-A8FD-4DCB-9B07-96DD6D27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5902819-C683-48FB-8E72-3468F5C9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58ED35A-77F8-4884-85A4-4A2600A1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6EB6C1A-39AF-44CB-A42E-6A193EF9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D575905-BA14-4D8A-B948-2EA70712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E22ED92-60BD-4354-B8B0-25D779E8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434FAD0-DEF5-4E9D-A43D-BC092C86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2C44C69-0598-4968-8853-580CACDF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4E04697-1E85-4592-A770-70A355FF2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D26A9E7-82DD-4E25-82E6-7E9E2A99A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997F7F1-F5D6-41DD-8C8A-87EC2F549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1D20862-DE9D-438A-80B2-A6375AFF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5F88278-6A50-43A8-B3A2-30CA8953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17E8FE4-B0AD-4081-8867-E52EBFAB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363DDF5-5B20-4105-812E-1CD2FC5D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0F26121-8B28-4F90-8C90-B6D4D302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A6302EF-3BDE-40AC-997F-0DAE281E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690F501-5C08-4D24-9616-3E0407C4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873DAA1-7E15-4C12-872F-103A9C70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061A55A-653C-46CE-A834-0D76A6F3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586BA90-1E14-434C-8858-D2411D7F2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9CF1363-B953-4144-BF51-220C63394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273927A-290B-46BF-9534-151184492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0E06C25-2E0A-4B67-B0E3-CDEA7E00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D147466-B11D-41F8-9C77-B6DD2378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911A398-F4C4-4475-B46D-0589A559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A494FD3-B9FF-4C0C-8821-E30D45F1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5C2B4E7-C734-4C55-9A22-BDB7403C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D28F8BA-0242-4068-A0C6-7925C7FA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CF10D2A-2AC6-4847-8D50-F46BC03D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CA6B7D3-BA59-41D2-BA55-94D89B44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645C83D-1A35-4D72-95B1-A8390DD6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2978320-1826-4150-9C57-6C078C2AA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27CF523-3306-4D89-834D-7D6EA6BE9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69C0B7E-AE0D-4BBF-9AD0-BA25FFD75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7AE13FC-16EE-4D9E-A044-9ECE75AB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D4EC976-9D32-4B73-BFFF-86DAEEE4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8467531-3A7F-4BEF-8D37-400A53FD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E2DA07E-198D-4948-96DF-9B3909F3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EE07086-1102-46B3-9668-D7EDEB08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241C859-8DDB-4C97-9B04-52E5DE87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B6D3050-D202-4CE2-99D1-C326F248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08A0BF2-F50E-45FA-BE41-E2C9DFBF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DDEB28C-02CF-415B-BD5F-773A8695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E278C03-D2E9-4CF0-AB75-924266379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9F1F532-47F8-4E15-9EF0-13C752A85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D0D4E0B-E009-4CDC-A1C4-BD0870BC1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3F88953-F18F-4E5F-9D00-BA72B25A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438B6CC-F52B-493B-93E2-714C8BEF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2C72EB5-95C3-49D9-8377-9799CFB6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AA1018E-0888-42AB-8D2C-813F2155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B8D2218-45B9-44E5-BDCD-7071E09B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556C9C2-26C1-4F8C-98E3-243D3894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DB3C567-2954-40B1-BF0E-D7A5D912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312EAD6-CDF1-46DC-AD4D-5500BBE2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A832662-7B5B-465F-94C2-DC5B8EE7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C52CDE4-3BBE-4293-BD13-B65A707B5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3DA6EEF-399E-45B9-93BF-6E51E7DF3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26D59BA-6905-4A05-B758-75BC75956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DDD02EB-0202-4CD9-A971-88CE9272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BEEC694-3A63-4568-B559-1ED3DE43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68B68FE-393A-4806-9006-61339F83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D02DF54-416C-4C3A-9E09-3432F6D6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FE965E7-ABBA-40EA-B5EC-ABDB5404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5919BC8-1FFA-4B20-8539-9F06986D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3367ECB-213C-418A-872B-E8878216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E361A72-86DF-4C79-93E0-3B1285AD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04BE7A7-A11C-4341-ACBB-ED20E7E2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48E7E34-5F6F-4762-8D2E-CDD8E61F9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EE28A33-558D-4051-8995-C731A3ECA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EE1E03B-3FC1-4DB1-9AA2-06A9C1D06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F59E056-1CBC-445F-85D4-F7FD0D49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6B3D61B-D98A-4305-9807-071B96F7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D807413-B9B9-4C0F-9B95-FEE040BE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1AA3976-C5B0-405F-B137-BA02E185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A60C5BE-413D-4797-9656-A9A01CF6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0F8BD1A-A588-4BF7-9DEF-B82B3D5F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D308B3E-9442-407A-B6BB-77E9ACF2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B76AC70-0D12-405F-8DFB-0FF8F0A5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DAA7B7F-B3CB-4F26-A999-BA64A1D2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25A28C6-D06C-41EF-87D9-D6823BDB8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5450FDF-05DB-4321-87FF-FD7BDF818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166B8A6-1A00-4A58-BF71-6713A775B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750B607-9E8F-4AD0-8E82-57652CE3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1F361EA-B636-436C-9A66-FB1B71C3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08BF6B1-751C-46FF-A917-427F88BD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E19AE63-5695-414D-9D90-23699192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A105C80-5F9C-4143-B14D-15E39BC6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68486FD-1751-4514-A2F2-94BE8414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E567CFA-3BBF-4B24-AC51-82CDA9E9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CC18683-3429-4368-B223-8AFEC87F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038AF-94F7-4BC2-8A5B-3C6770E3CD7B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561F598-B91A-40D6-A5A0-9900013B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2C2B6D3-21A2-48AC-A523-0E6093EAB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F1120DC-7865-495E-BCDA-99F3299D0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7689-8267-45F5-B328-83E239E2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BED68-30C5-4702-B8E3-7ED9AFE13D9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E271B-5520-4D93-8061-54EAF838997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067CD-6F36-4CBD-8961-6B331129D6D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50C81-7921-482D-9084-A0316003F92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6A5DF-0780-4DF7-A0B4-2B107277DD7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A6B34-5364-40D5-960C-D3CB4B5A057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3E507-CDA4-4CAD-ADD0-E076C343595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563C4-FC1E-41F1-81D6-376238313B6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BA87C-D783-481D-9A73-C84D053C2E9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A4223-8A7D-4E0C-94D4-AFBFECC110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C01C-85AA-4732-B61D-7E19C5E0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415E5-AE9A-444A-A545-E9698807C07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3F3DE6-03C1-491C-9EA4-57DE90719C6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D06018-5719-4F12-8418-3FCFC61FD57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5BA8C8-465F-4CEB-B835-3273FD77298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6495FD-A49D-4E89-AB34-F04F91B354C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669315-632F-4CEC-95F4-B19A6286903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1BB03F-32B4-48E2-B2FF-2E8F8485716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16B937-0462-4B92-86D4-198D8CEC465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336029-BC7A-47B6-B675-79D2F54C01F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D16844-5C80-4934-84BA-2F62CFD504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3454-BE69-486C-9F8F-304C92C3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30D8E1-D3F1-403B-BFE0-BAC038DB956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2ECDDE-6DC1-4A86-8C2B-EFDFC067AEC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EA1A16-9520-4690-B27D-F672A5B9C1F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C48B-956C-4D7B-AB24-E0B69DCC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3FC1CC-D407-48AA-8130-325650A0B3B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0EB792-99F3-4D12-B957-651DE423DDD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AC580F-BBC8-4828-9AD2-5D9A1310D92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F2192B-277F-4995-A8EF-67A4228AB86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E4CE05-D38D-4DC8-B92F-0645CE4E58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A3AD-961D-4460-9B20-C11D2ACD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D41F7A-CBB3-4C19-B629-99B3545331B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762A24-79AF-4B5A-A7BA-A03FEC77AD0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70FD6A-D46D-48E7-A168-50C77336FFB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78CDCA-0055-4F15-97FE-FA16D760E6E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BF8FB4-EDBF-4777-BD5D-D8FD035069E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AA8E0B-9C77-4BA6-A92C-754AF9ABAB2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7139C7-5E82-4F57-AF13-9401A838C71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7C9E6-62B4-47D6-B021-717005FB8E0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F90E1-FA61-4491-9A4B-4B3D3CC8420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9D658-26AC-4453-9173-AF5EBB8D6C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5B80-394D-41C7-9024-46985A5EF0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sldNum" idx="17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413F-2E57-495E-AFB8-1E61878BDEDC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5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19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846F-E0E6-4E57-9183-3D8EEB436560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sldNum" idx="2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0D78-9587-484F-BCC6-AEF7758DB6E3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5" descr="Orange outline.jpg"/>
          <p:cNvPicPr/>
          <p:nvPr/>
        </p:nvPicPr>
        <p:blipFill>
          <a:blip r:embed="rId3"/>
          <a:stretch/>
        </p:blipFill>
        <p:spPr>
          <a:xfrm>
            <a:off x="7439040" y="6043680"/>
            <a:ext cx="1425600" cy="58572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292929"/>
                </a:solidFill>
                <a:latin typeface="Segoe U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Segoe UI"/>
                <a:ea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24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BA68-B4C4-4176-BB8A-657A668DD4AD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5"/>
          <p:cNvSpPr/>
          <p:nvPr/>
        </p:nvSpPr>
        <p:spPr>
          <a:xfrm>
            <a:off x="1606680" y="0"/>
            <a:ext cx="29196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6"/>
          <p:cNvSpPr/>
          <p:nvPr/>
        </p:nvSpPr>
        <p:spPr>
          <a:xfrm>
            <a:off x="0" y="1347840"/>
            <a:ext cx="206280" cy="85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8953560" y="5303880"/>
            <a:ext cx="19044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8"/>
          <p:cNvSpPr/>
          <p:nvPr/>
        </p:nvSpPr>
        <p:spPr>
          <a:xfrm>
            <a:off x="1606680" y="6273720"/>
            <a:ext cx="126972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3" descr="C:\Documents and Settings\rob.morrison\Desktop\PiL_PPT\Picture 20.png"/>
          <p:cNvPicPr/>
          <p:nvPr/>
        </p:nvPicPr>
        <p:blipFill>
          <a:blip r:embed="rId3"/>
          <a:stretch/>
        </p:blipFill>
        <p:spPr>
          <a:xfrm>
            <a:off x="4054320" y="573120"/>
            <a:ext cx="4557960" cy="39290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0" descr="Blue_Background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1" descr="yellow-square.png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2876400" y="368280"/>
            <a:ext cx="1722600" cy="18334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" descr="M:\Public Sector\FY10 Active Jobs\SLX00019_PiL_More Templates\STUDIO\Print\PiL_PPT\Partners-in-Learning_2_bL_r.png"/>
          <p:cNvPicPr/>
          <p:nvPr/>
        </p:nvPicPr>
        <p:blipFill>
          <a:blip r:embed="rId6"/>
          <a:stretch/>
        </p:blipFill>
        <p:spPr>
          <a:xfrm>
            <a:off x="339840" y="6146640"/>
            <a:ext cx="1766880" cy="40824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 type="sldNum" idx="26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0BC9-5477-48A4-8E2D-DAF08A862155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5" descr="circles-yellow.png"/>
          <p:cNvPicPr/>
          <p:nvPr/>
        </p:nvPicPr>
        <p:blipFill>
          <a:blip r:embed="rId3"/>
          <a:stretch/>
        </p:blipFill>
        <p:spPr>
          <a:xfrm>
            <a:off x="7831080" y="3637080"/>
            <a:ext cx="1135080" cy="226224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sldNum" idx="28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50B6-199F-4256-8DFC-6C012E4104A8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15A9-58C9-4A40-ACAF-D7778C680845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Picture 5" descr="yellow-square.png"/>
          <p:cNvPicPr/>
          <p:nvPr/>
        </p:nvPicPr>
        <p:blipFill>
          <a:blip r:embed="rId3"/>
          <a:stretch/>
        </p:blipFill>
        <p:spPr>
          <a:xfrm>
            <a:off x="6622920" y="3687840"/>
            <a:ext cx="1987560" cy="2117520"/>
          </a:xfrm>
          <a:prstGeom prst="rect">
            <a:avLst/>
          </a:prstGeom>
          <a:ln w="0">
            <a:noFill/>
          </a:ln>
        </p:spPr>
      </p:pic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sldNum" idx="30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1474-3F98-41C5-8D65-A983730C942B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sldNum" idx="32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6252-A2A9-4B02-ACFE-3160D9D75F1C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sldNum" idx="34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C706-C32D-4515-B1CC-C6E2FAADD048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Picture 5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sldNum" idx="36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73A2-F0A0-4B30-9BAF-30581D244533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sldNum" idx="38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1700-9580-45A7-AF7B-71BCB8AE3108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5" descr="Orange outline.jpg"/>
          <p:cNvPicPr/>
          <p:nvPr/>
        </p:nvPicPr>
        <p:blipFill>
          <a:blip r:embed="rId3"/>
          <a:stretch/>
        </p:blipFill>
        <p:spPr>
          <a:xfrm>
            <a:off x="7439040" y="6043680"/>
            <a:ext cx="1425600" cy="585720"/>
          </a:xfrm>
          <a:prstGeom prst="rect">
            <a:avLst/>
          </a:prstGeom>
          <a:ln w="0">
            <a:noFill/>
          </a:ln>
        </p:spPr>
      </p:pic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292929"/>
                </a:solidFill>
                <a:latin typeface="Segoe U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Segoe UI"/>
                <a:ea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 type="sldNum" idx="4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B60C-3CD5-4FAC-9241-CE37D1DF7E81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1242-D7D6-4C81-9973-81C51FBBFA38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0B15-A0B7-47F3-8A4A-568BE7805C3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 type="dt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 type="ftr" idx="4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 type="sldNum" idx="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34EE-210C-4A46-9C3D-2F22249AF20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 type="dt" idx="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 type="ftr" idx="4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 type="sldNum" idx="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5935-5052-4B1D-91DE-D3AFB7BAF30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 type="dt" idx="5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 type="ftr" idx="5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 type="sldNum" idx="5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9F8E-243A-48A1-880B-4BF62970832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 type="dt" idx="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 type="ftr" idx="5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 type="sldNum" idx="5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0AC3-1F3B-4029-B0AF-32568F2ECB4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 type="dt" idx="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 type="ftr" idx="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 type="sldNum" idx="5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D66F-02E6-4311-BA9A-FFA6A0A13A4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 type="dt" idx="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 type="ftr" idx="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 type="sldNum" idx="6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FE42-B6EB-40AD-A2FD-81863BAEBF8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 type="dt" idx="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 type="ftr" idx="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 type="sldNum" idx="6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A791-73F7-4897-A805-C27B87864A1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 type="dt" idx="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 type="ftr" idx="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 type="sldNum" idx="6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D402-9B7F-4297-B2AC-0E95F535859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 type="dt" idx="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 type="ftr" idx="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 type="sldNum" idx="7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4633-A30E-40D4-B2B0-1AC952C5335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1606680" y="0"/>
            <a:ext cx="29196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0" y="1347840"/>
            <a:ext cx="206280" cy="85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8953560" y="5303880"/>
            <a:ext cx="19044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1606680" y="6273720"/>
            <a:ext cx="126972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C:\Documents and Settings\rob.morrison\Desktop\PiL_PPT\Picture 20.png"/>
          <p:cNvPicPr/>
          <p:nvPr/>
        </p:nvPicPr>
        <p:blipFill>
          <a:blip r:embed="rId3"/>
          <a:stretch/>
        </p:blipFill>
        <p:spPr>
          <a:xfrm>
            <a:off x="4054320" y="573120"/>
            <a:ext cx="4557960" cy="3929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Blue_Background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yellow-square.png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2876400" y="368280"/>
            <a:ext cx="1722600" cy="1833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M:\Public Sector\FY10 Active Jobs\SLX00019_PiL_More Templates\STUDIO\Print\PiL_PPT\Partners-in-Learning_2_bL_r.png"/>
          <p:cNvPicPr/>
          <p:nvPr/>
        </p:nvPicPr>
        <p:blipFill>
          <a:blip r:embed="rId6"/>
          <a:stretch/>
        </p:blipFill>
        <p:spPr>
          <a:xfrm>
            <a:off x="339840" y="6146640"/>
            <a:ext cx="1766880" cy="4082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 type="dt" idx="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 type="ftr" idx="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 type="sldNum" idx="7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1DDE-B510-42C2-8974-EA32C409891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 type="dt" idx="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 type="ftr" idx="7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 type="sldNum" idx="7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2B91-ED62-43A7-BA03-4D47EC64079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9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F0AE-19B5-4AEF-8E65-6AAB709AB03A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5" descr="circles-yellow.png"/>
          <p:cNvPicPr/>
          <p:nvPr/>
        </p:nvPicPr>
        <p:blipFill>
          <a:blip r:embed="rId3"/>
          <a:stretch/>
        </p:blipFill>
        <p:spPr>
          <a:xfrm>
            <a:off x="7831080" y="3637080"/>
            <a:ext cx="1135080" cy="22622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D9E1-91D8-4BD5-A4A7-A5B3A352EFAD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5" descr="yellow-square.png"/>
          <p:cNvPicPr/>
          <p:nvPr/>
        </p:nvPicPr>
        <p:blipFill>
          <a:blip r:embed="rId3"/>
          <a:stretch/>
        </p:blipFill>
        <p:spPr>
          <a:xfrm>
            <a:off x="6622920" y="3687840"/>
            <a:ext cx="1987560" cy="21175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13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7A09-0593-4CD3-A767-421D7BD6AC34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sldNum" idx="15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02D4-718E-4F53-9152-26ACA87A6C54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6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slideLayout" Target="../slideLayouts/slideLayout3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TextBox 1"/>
          <p:cNvSpPr/>
          <p:nvPr/>
        </p:nvSpPr>
        <p:spPr>
          <a:xfrm>
            <a:off x="642960" y="465120"/>
            <a:ext cx="4929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bacc6"/>
                </a:solidFill>
                <a:latin typeface="微软雅黑"/>
                <a:ea typeface="微软雅黑"/>
              </a:rPr>
              <a:t>交通安全不是问题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问题是解决的方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圆角矩形标注 7"/>
          <p:cNvSpPr/>
          <p:nvPr/>
        </p:nvSpPr>
        <p:spPr>
          <a:xfrm>
            <a:off x="1714680" y="3429000"/>
            <a:ext cx="1285560" cy="285840"/>
          </a:xfrm>
          <a:prstGeom prst="wedgeRoundRectCallout">
            <a:avLst>
              <a:gd name="adj1" fmla="val -33319"/>
              <a:gd name="adj2" fmla="val 92958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TextBox 3"/>
          <p:cNvSpPr/>
          <p:nvPr/>
        </p:nvSpPr>
        <p:spPr>
          <a:xfrm>
            <a:off x="1724040" y="343836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6228"/>
                </a:solidFill>
                <a:latin typeface="微软雅黑"/>
                <a:ea typeface="微软雅黑"/>
              </a:rPr>
              <a:t>xxx</a:t>
            </a:r>
            <a:r>
              <a:rPr b="0" lang="zh-CN" sz="1200" spc="-1" strike="noStrike">
                <a:solidFill>
                  <a:srgbClr val="4f6228"/>
                </a:solidFill>
                <a:latin typeface="微软雅黑"/>
                <a:ea typeface="微软雅黑"/>
              </a:rPr>
              <a:t>小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TextBox 12"/>
          <p:cNvSpPr/>
          <p:nvPr/>
        </p:nvSpPr>
        <p:spPr>
          <a:xfrm>
            <a:off x="4143240" y="178596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我们有解决的方案啦！！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TextBox 17"/>
          <p:cNvSpPr/>
          <p:nvPr/>
        </p:nvSpPr>
        <p:spPr>
          <a:xfrm>
            <a:off x="142920" y="285840"/>
            <a:ext cx="6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3cddd"/>
                </a:solidFill>
                <a:latin typeface="微软雅黑"/>
                <a:ea typeface="微软雅黑"/>
              </a:rPr>
              <a:t>{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矩形 1"/>
          <p:cNvSpPr/>
          <p:nvPr/>
        </p:nvSpPr>
        <p:spPr>
          <a:xfrm>
            <a:off x="2547720" y="-3348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学生交通安全卡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矩形 7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TextBox 3"/>
          <p:cNvSpPr/>
          <p:nvPr/>
        </p:nvSpPr>
        <p:spPr>
          <a:xfrm>
            <a:off x="1771560" y="857160"/>
            <a:ext cx="30610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区交通安全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的解决方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TextBox 4"/>
          <p:cNvSpPr/>
          <p:nvPr/>
        </p:nvSpPr>
        <p:spPr>
          <a:xfrm>
            <a:off x="855000" y="2243160"/>
            <a:ext cx="94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圆角矩形标注 5"/>
          <p:cNvSpPr/>
          <p:nvPr/>
        </p:nvSpPr>
        <p:spPr>
          <a:xfrm>
            <a:off x="1714680" y="3429000"/>
            <a:ext cx="1285560" cy="285840"/>
          </a:xfrm>
          <a:prstGeom prst="wedgeRoundRectCallout">
            <a:avLst>
              <a:gd name="adj1" fmla="val -33319"/>
              <a:gd name="adj2" fmla="val 92958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TextBox 6"/>
          <p:cNvSpPr/>
          <p:nvPr/>
        </p:nvSpPr>
        <p:spPr>
          <a:xfrm>
            <a:off x="1724040" y="343836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6228"/>
                </a:solidFill>
                <a:latin typeface="微软雅黑"/>
                <a:ea typeface="微软雅黑"/>
              </a:rPr>
              <a:t>xxx</a:t>
            </a:r>
            <a:r>
              <a:rPr b="0" lang="zh-CN" sz="1200" spc="-1" strike="noStrike">
                <a:solidFill>
                  <a:srgbClr val="4f6228"/>
                </a:solidFill>
                <a:latin typeface="微软雅黑"/>
                <a:ea typeface="微软雅黑"/>
              </a:rPr>
              <a:t>小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TextBox 1"/>
          <p:cNvSpPr/>
          <p:nvPr/>
        </p:nvSpPr>
        <p:spPr>
          <a:xfrm>
            <a:off x="1187280" y="80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卷首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TextBox 3"/>
          <p:cNvSpPr/>
          <p:nvPr/>
        </p:nvSpPr>
        <p:spPr>
          <a:xfrm>
            <a:off x="1886040" y="244620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矩形​​ 4"/>
          <p:cNvSpPr/>
          <p:nvPr/>
        </p:nvSpPr>
        <p:spPr>
          <a:xfrm>
            <a:off x="969840" y="1515960"/>
            <a:ext cx="417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区交通安全问题：我们的解决方案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一学习项目主要是通过学生在观察学校放学时段人流量的基础上，搜集数据，并进行整理、分析，找出校门口人车混行的原因，提出了学生的校区交通安全问题解决方案。通过项目的学习，期望学生在亲身实践中，体验运用已学知识解决设计问题的过程，培养整理、分析信息的能力、问题解决的能力与协作意识、态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TextBox 9"/>
          <p:cNvSpPr/>
          <p:nvPr/>
        </p:nvSpPr>
        <p:spPr>
          <a:xfrm>
            <a:off x="398520" y="587520"/>
            <a:ext cx="6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3cddd"/>
                </a:solidFill>
                <a:latin typeface="微软雅黑"/>
                <a:ea typeface="微软雅黑"/>
              </a:rPr>
              <a:t>{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TextBox 2"/>
          <p:cNvSpPr/>
          <p:nvPr/>
        </p:nvSpPr>
        <p:spPr>
          <a:xfrm>
            <a:off x="1510200" y="1609560"/>
            <a:ext cx="1460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 action="ppaction://hlinksldjump"/>
              </a:rPr>
              <a:t>一、问题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TextBox 3"/>
          <p:cNvSpPr/>
          <p:nvPr/>
        </p:nvSpPr>
        <p:spPr>
          <a:xfrm>
            <a:off x="3311640" y="2395440"/>
            <a:ext cx="32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 action="ppaction://hlinksldjump"/>
              </a:rPr>
              <a:t>二、学区交通安全问题原因的调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TextBox 4"/>
          <p:cNvSpPr/>
          <p:nvPr/>
        </p:nvSpPr>
        <p:spPr>
          <a:xfrm>
            <a:off x="1071720" y="3214800"/>
            <a:ext cx="428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 action="ppaction://hlinksldjump"/>
              </a:rPr>
              <a:t>三、我们的解决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TextBox 5"/>
          <p:cNvSpPr/>
          <p:nvPr/>
        </p:nvSpPr>
        <p:spPr>
          <a:xfrm>
            <a:off x="1114920" y="801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TextBox 6"/>
          <p:cNvSpPr/>
          <p:nvPr/>
        </p:nvSpPr>
        <p:spPr>
          <a:xfrm>
            <a:off x="398520" y="587520"/>
            <a:ext cx="6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3cddd"/>
                </a:solidFill>
                <a:latin typeface="微软雅黑"/>
                <a:ea typeface="微软雅黑"/>
              </a:rPr>
              <a:t>{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TextBox 7"/>
          <p:cNvSpPr/>
          <p:nvPr/>
        </p:nvSpPr>
        <p:spPr>
          <a:xfrm>
            <a:off x="1073160" y="4029120"/>
            <a:ext cx="321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 action="ppaction://hlinksldjump"/>
              </a:rPr>
              <a:t>四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的奇思妙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企业介绍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TextBox 8"/>
          <p:cNvSpPr/>
          <p:nvPr/>
        </p:nvSpPr>
        <p:spPr>
          <a:xfrm>
            <a:off x="1672560" y="6192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我们的学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TextBox 9"/>
          <p:cNvSpPr/>
          <p:nvPr/>
        </p:nvSpPr>
        <p:spPr>
          <a:xfrm>
            <a:off x="1157040" y="190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bacc6"/>
                </a:solidFill>
                <a:latin typeface="微软雅黑"/>
                <a:ea typeface="微软雅黑"/>
              </a:rPr>
              <a:t>一、问题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TextBox 10"/>
          <p:cNvSpPr/>
          <p:nvPr/>
        </p:nvSpPr>
        <p:spPr>
          <a:xfrm>
            <a:off x="285840" y="-65160"/>
            <a:ext cx="642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3cddd"/>
                </a:solidFill>
                <a:latin typeface="微软雅黑"/>
                <a:ea typeface="微软雅黑"/>
              </a:rPr>
              <a:t>{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6" name="TextBox 7" descr=""/>
          <p:cNvPicPr/>
          <p:nvPr/>
        </p:nvPicPr>
        <p:blipFill>
          <a:blip r:embed="rId2"/>
          <a:stretch/>
        </p:blipFill>
        <p:spPr>
          <a:xfrm>
            <a:off x="2554200" y="1920960"/>
            <a:ext cx="47116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8:16:0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4:17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