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611-4305-450D-981A-71C71303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083-F105-432D-8B53-192C8C01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3B1CC-A7AB-465E-ADC2-D99A99E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E4722-387E-4241-A199-412D1D8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BB64-7CE9-4E18-9FA4-B4D2EB34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0CAD5-7B1E-4DBD-8455-35E0C8D5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A401B-2AFA-4FB8-B011-EF1CFD18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47691-2B60-4B64-A33B-933EBC6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1A380-32A7-4065-99D5-BDA7340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5270-2088-4AF0-B51A-AFEBDECF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49901-5A8F-42E5-A08D-DF0E227A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B7926-93B7-40BE-BD4A-ECB9C355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492-ABB5-45F9-BA2E-424E2B43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7B9FF-2705-435C-BF43-68E35AB6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D8B09-4344-4960-A5A2-E40B69B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2B389-A02C-4C1C-B7D4-8B8675A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59BAF-5B7D-4403-BB14-49662DB7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FD72C-F4D9-4534-ABFF-21D88AE0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7DEEB-4FCB-4A11-A63A-ACC5DE6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15171-16A5-4C19-A692-641AD03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90892-964E-4C57-AC11-E92B216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76F7-6C26-49C9-8D7E-11A2FEB3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57F54-309E-46D5-B8E2-EEE097A2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4D6-944E-4DCE-8563-1FEC694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E5EF9-1FAF-405E-9FA0-55511CD8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963B6-DD1D-44CF-A37A-65CF8DF3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D77D2-9166-4BA4-9B62-E2DDB8CF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4E2F0-E8CC-482E-B1BF-9D13A31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D342C-1BEC-418F-B3BB-12B15D3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7D15-725E-467C-A733-1646E7F4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197A-B8E1-486F-B32C-08FE269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F06D-089F-4B40-8550-4A51ECA1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12C7A-2293-4BFC-ACF0-67867B7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51F1-EFD5-4249-AFF2-7405BB0A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5B6-DF0D-4D0A-9FF9-C3EFAF66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6F486-7473-410A-9328-3DA97632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4E838-5762-4276-94F3-25F7B0F4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903D5-D753-457B-AC64-7426F0A2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2ECF3-EA9A-469C-B8FD-93095EB1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B3F4A-59F5-4813-A5A3-9D09B78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84EEC-B0CF-4031-84C7-55BD4886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18744-3D60-49C9-81D8-3FCD9680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AD919-7E02-44A0-8E5D-5BEA2E62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BEBF6-42AD-48F7-9C1C-6B8032DC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459F4-B9AC-4B81-BF5B-B8381AA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D879-1062-4068-BBAA-6FCEF0DA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1A871-C52D-43F0-A607-7BC6C5BA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8B716-F821-49CD-A953-8F2A0A1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43590-0809-4CA0-8114-B0E2711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50959-540A-40AC-8586-F9F74D8B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A4EAE-381A-451E-A379-732C81DC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C8C32-ED1D-4182-9C10-421F9BD6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FA191-72AA-4D5E-BCDC-DCE43EA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8955E-F325-4728-A2F2-E1A97A9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BE299-AADD-412B-8856-B79C933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186F1-2277-41C1-9A06-88969865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FE2-4580-42FB-9C70-CA2F7461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C8502-3E93-4B65-828B-3C4954D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B5334-2CB8-424B-899E-4212AE3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7EE26-D0F6-46E6-8E31-7AC6B5B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A2D93-A300-45D3-B61B-AFB70EA3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FB03B-B255-4772-819B-E6624F6F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26DE6-2CEB-4123-A54E-E2C58016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A4B17-ED1D-4828-8E66-3E73DB49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8DE8-2147-4EFA-BAE4-4E14E44A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86C-3448-427A-8594-FBD9CD9E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A59-B841-45C7-B648-A0F8098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FF12-2E0C-46AD-966D-596FA33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ED5-3C11-4903-B4FC-88A56E8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D6A7-9752-4A1D-AE4C-39460BB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8EE-9C27-4464-BA38-8C527BC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19E-67D6-497B-82C5-27E220C7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231-A040-49CE-AA9D-B80AFE6B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E05D-4F32-4F78-A903-B3DC883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B743-6E70-43DA-A90A-DCE33C10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C5B6-DFE8-45EF-AA59-EE3B717B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E4A4-7309-467F-B54D-3EE776B9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FDEC-F2AA-4358-AD9C-18C4AED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11C9-544C-478D-AE94-A738CF70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23A-17BD-4F8A-BC18-65F9EA4B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816C-8593-4AE5-BC36-06BEB6C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4EE6-EB52-4264-A5A0-4F832DE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FDD9-DD62-4518-8F40-C0271DA9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48F5-7B51-4C9A-B110-2B79148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B35E-8D1B-466F-8D0C-72AC0B89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F9D2-FF05-4996-9C2E-AEC4D7FC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3994-A24A-4024-8EA6-7DD056BB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BDEB-4CA5-4AEA-A948-C4AABCE3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47BC-3704-4E78-8B2F-6E70094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78D8-0817-4746-9D67-DC0D135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A8E-25CB-4A74-AD85-A03DD10C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AA12-DFED-43F4-8FB1-6F02E410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EB4B-1D43-409F-8A54-B3136D84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F644-E714-45ED-80BB-3EED9589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5E0B-79E0-4B86-A109-4E7333D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FD60-CA31-4CCD-92FC-A5B18D6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3FB8-BE58-415D-80E0-4983A46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CFB2-D72F-4101-BBDE-192C081C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CA770-166A-41CC-8CE3-B43260F9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3A25-2EB9-418F-B0DD-F5FA9B08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5132-B20F-4E31-AB41-30EDAFD7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934-CB04-45CB-851E-8BCD2906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605E8-F141-493A-B655-58717A48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3D5A-319F-4956-921F-A0561370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F95D-FD82-4ACB-9DCF-039F90BB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5F5D-98E5-4282-AC0E-09FCCF8D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E3A1-3041-4250-81FE-1EFFB414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7FE3-1DC6-4AA4-90B7-BAEA295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9B768-436C-4D86-A6D4-6D55A0C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7784-ADDD-404C-8C26-43DB2D7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22329-695D-40CF-9630-9579F00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E42E-7532-4A77-BA31-9C7D15B9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0B0-AF49-4F73-8B79-08BCF627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E329-2934-469C-A7C2-A28261CF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FA18-4036-4AB7-BAA2-142B44B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F116-B33F-46C4-8A6E-E523D692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A35C-5F9D-4D7D-BA60-D563B19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793A-67CD-4075-A17F-372D854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2429-3551-48D4-8D05-48D14B98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8147-1886-4F58-BCBA-39E5FC99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E212-9F0D-4CD0-BCBF-7C24CF5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8996-00E5-492E-ADEB-42C67729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8823B-04A9-4409-B409-D107099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BE9-58B2-4EE5-AC66-9AF2F5F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3C2C-E4D2-4847-9543-07AF2AB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60F39-3C79-4678-97D5-E0CA35CE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F4A9-A27C-42AA-B640-7AF91789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AE609-CBCA-4D62-8EAC-47E0AFB4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E9BE-4BCC-4274-BD53-F7550B8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C58F-78BE-4E81-A6C1-4BCD68D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B0D5-C447-4652-AD86-6B685F3E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B2651-5D32-4976-BDDA-EB675C33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4EAB5-2B8E-4B85-AF86-1DD9F911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C2EBD-3A74-44BC-95DE-550A82E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5C0-0F6E-4351-A5E7-A1C34CE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5838-835B-4760-AA9A-EB43EA7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AD38-0E41-4262-B4D2-2A80ABC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BEF17-DD92-40D3-B463-2D8E82EC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6BAB-E593-4F37-AB8F-D8480612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F624-66D0-4819-B168-B7C7E360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5E1A-7806-46E1-AAAB-817F55D5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86EA9-8632-4C35-B746-06B1ADD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F8AE-CCA8-4E94-BA8A-3554C9A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3371-E968-48A8-B2FF-730266F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8BAF-291A-4931-BF06-505D02F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EBE-2C16-42D8-96DE-D8C0DEB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E54A-A076-455C-89C1-5E29A967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CF9E2-04C4-48F6-9AC2-8A16F40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7442-7366-4134-95D8-6C253A1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DC89-D90A-4378-A82E-1F37274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7057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D1EBB-6637-41B7-AF66-69536B23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705760"/>
            <a:ext cx="4015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2B43-9DB0-4B14-9413-D0F03DB5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705760"/>
            <a:ext cx="264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9913B-7F27-4967-837A-DF121855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43086-DE4B-4383-B5CF-4A67DA13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DDD85-E166-4C7C-8495-8F85824D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157AD-D1AD-4400-B0C5-F151F90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B1C1-A7ED-4278-B5CB-E3828E1919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1187-8A0A-4471-95C2-B3F80CBA04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A85-E4EA-4CD0-9883-8A5C134361C2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2F2-6838-45FE-B183-B0231101BEF8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1736-E467-4E36-B294-7D1E072D69A9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9261-BA96-4955-8036-E4CB9A8DBCCB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5183-EDB5-4ECD-8F7B-402DCBAE8AA4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D15-7C0C-481A-9035-6E73EFBC3D50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A9EA-58B8-407C-8C5C-D2AA6A2A2449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353-5CC6-4512-BAE1-8C04A4D09F4C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C79-6AAE-4232-B838-14A23A72FBE3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1D0-A399-4CEB-AD48-BDD67A07230B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C1D3-A5E5-4EC3-A683-D89C48F79F21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6EF2-0E62-4B87-9A61-C7FB8B0DDD43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184-06E8-4D19-BF58-534CE87D675C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0E8-1BCF-4896-A4E4-3767CEB41FA6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4FA-777D-4F42-99CA-D52DBCCFA9A7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A203-6281-48B6-B95A-38D3D1460E4E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8555-57EC-4236-821E-60576640339B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91AD-973D-47BF-A416-93E7739EB701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8D13-B8C3-4C31-9D55-495D04D89429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825E-1C1F-42F5-87A1-497738011304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0222-EDB7-4456-9F5E-752FFB547720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A8B4-0222-4DB6-9CD2-07CA40CD1624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FAAC-9029-4960-B678-18B9E013F01D}" type="datetime">
              <a:rPr b="0" lang="zh-CN" sz="8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C61-5F97-49B7-AD58-653AD804FDEF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0.png"/><Relationship Id="rId19" Type="http://schemas.openxmlformats.org/officeDocument/2006/relationships/image" Target="../media/image32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7858080" y="2697120"/>
            <a:ext cx="290520" cy="11304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5" descr=""/>
          <p:cNvPicPr/>
          <p:nvPr/>
        </p:nvPicPr>
        <p:blipFill>
          <a:blip r:embed="rId2"/>
          <a:stretch/>
        </p:blipFill>
        <p:spPr>
          <a:xfrm>
            <a:off x="1071720" y="2768760"/>
            <a:ext cx="460080" cy="10000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8" descr=""/>
          <p:cNvPicPr/>
          <p:nvPr/>
        </p:nvPicPr>
        <p:blipFill>
          <a:blip r:embed="rId3"/>
          <a:stretch/>
        </p:blipFill>
        <p:spPr>
          <a:xfrm>
            <a:off x="2857680" y="2697120"/>
            <a:ext cx="793440" cy="140976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1" descr=""/>
          <p:cNvPicPr/>
          <p:nvPr/>
        </p:nvPicPr>
        <p:blipFill>
          <a:blip r:embed="rId4"/>
          <a:stretch/>
        </p:blipFill>
        <p:spPr>
          <a:xfrm>
            <a:off x="4857840" y="2492280"/>
            <a:ext cx="512640" cy="163836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4" descr=""/>
          <p:cNvPicPr/>
          <p:nvPr/>
        </p:nvPicPr>
        <p:blipFill>
          <a:blip r:embed="rId5"/>
          <a:stretch/>
        </p:blipFill>
        <p:spPr>
          <a:xfrm>
            <a:off x="6357960" y="2554200"/>
            <a:ext cx="503280" cy="155412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>
            <a:off x="-493560" y="444600"/>
            <a:ext cx="1423800" cy="32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9"/>
          <p:cNvSpPr/>
          <p:nvPr/>
        </p:nvSpPr>
        <p:spPr>
          <a:xfrm flipH="1">
            <a:off x="928800" y="446040"/>
            <a:ext cx="1440" cy="14288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10"/>
          <p:cNvSpPr/>
          <p:nvPr/>
        </p:nvSpPr>
        <p:spPr>
          <a:xfrm flipH="1" flipV="1">
            <a:off x="-493920" y="1872720"/>
            <a:ext cx="1423800" cy="32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12"/>
          <p:cNvSpPr/>
          <p:nvPr/>
        </p:nvSpPr>
        <p:spPr>
          <a:xfrm flipH="1">
            <a:off x="-495720" y="446040"/>
            <a:ext cx="1800" cy="14270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1"/>
          <p:cNvGrpSpPr/>
          <p:nvPr/>
        </p:nvGrpSpPr>
        <p:grpSpPr>
          <a:xfrm>
            <a:off x="3786120" y="411120"/>
            <a:ext cx="1430280" cy="1430280"/>
            <a:chOff x="3786120" y="411120"/>
            <a:chExt cx="1430280" cy="1430280"/>
          </a:xfrm>
        </p:grpSpPr>
        <p:sp>
          <p:nvSpPr>
            <p:cNvPr id="543" name="直接连接符 15"/>
            <p:cNvSpPr/>
            <p:nvPr/>
          </p:nvSpPr>
          <p:spPr>
            <a:xfrm>
              <a:off x="3786840" y="411120"/>
              <a:ext cx="1428840" cy="14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6"/>
            <p:cNvSpPr/>
            <p:nvPr/>
          </p:nvSpPr>
          <p:spPr>
            <a:xfrm flipH="1">
              <a:off x="5214960" y="411840"/>
              <a:ext cx="1440" cy="14288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直接连接符 18"/>
            <p:cNvSpPr/>
            <p:nvPr/>
          </p:nvSpPr>
          <p:spPr>
            <a:xfrm flipH="1" flipV="1">
              <a:off x="3786480" y="1839960"/>
              <a:ext cx="1428840" cy="14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直接连接符 19"/>
            <p:cNvSpPr/>
            <p:nvPr/>
          </p:nvSpPr>
          <p:spPr>
            <a:xfrm flipH="1">
              <a:off x="3786120" y="411840"/>
              <a:ext cx="1440" cy="14288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17" descr=""/>
          <p:cNvPicPr/>
          <p:nvPr/>
        </p:nvPicPr>
        <p:blipFill>
          <a:blip r:embed="rId6"/>
          <a:stretch/>
        </p:blipFill>
        <p:spPr>
          <a:xfrm>
            <a:off x="6500880" y="2840040"/>
            <a:ext cx="3714840" cy="5170320"/>
          </a:xfrm>
          <a:prstGeom prst="rect">
            <a:avLst/>
          </a:prstGeom>
          <a:ln w="0">
            <a:noFill/>
          </a:ln>
        </p:spPr>
      </p:pic>
      <p:sp>
        <p:nvSpPr>
          <p:cNvPr id="548" name="椭圆 22"/>
          <p:cNvSpPr/>
          <p:nvPr/>
        </p:nvSpPr>
        <p:spPr>
          <a:xfrm>
            <a:off x="328608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23"/>
          <p:cNvSpPr/>
          <p:nvPr/>
        </p:nvSpPr>
        <p:spPr>
          <a:xfrm>
            <a:off x="3786120" y="1268280"/>
            <a:ext cx="1357560" cy="135756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24"/>
          <p:cNvSpPr/>
          <p:nvPr/>
        </p:nvSpPr>
        <p:spPr>
          <a:xfrm>
            <a:off x="428616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25"/>
          <p:cNvSpPr/>
          <p:nvPr/>
        </p:nvSpPr>
        <p:spPr>
          <a:xfrm>
            <a:off x="3500280" y="625320"/>
            <a:ext cx="50040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6"/>
          <p:cNvSpPr/>
          <p:nvPr/>
        </p:nvSpPr>
        <p:spPr>
          <a:xfrm>
            <a:off x="4143240" y="9111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27"/>
          <p:cNvSpPr/>
          <p:nvPr/>
        </p:nvSpPr>
        <p:spPr>
          <a:xfrm>
            <a:off x="3714840" y="13399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 28"/>
          <p:cNvSpPr/>
          <p:nvPr/>
        </p:nvSpPr>
        <p:spPr>
          <a:xfrm>
            <a:off x="4500720" y="169704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29"/>
          <p:cNvSpPr/>
          <p:nvPr/>
        </p:nvSpPr>
        <p:spPr>
          <a:xfrm>
            <a:off x="4714920" y="7682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30"/>
          <p:cNvSpPr/>
          <p:nvPr/>
        </p:nvSpPr>
        <p:spPr>
          <a:xfrm>
            <a:off x="4000680" y="16257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6"/>
          <p:cNvGrpSpPr/>
          <p:nvPr/>
        </p:nvGrpSpPr>
        <p:grpSpPr>
          <a:xfrm>
            <a:off x="3786120" y="0"/>
            <a:ext cx="1506600" cy="2054160"/>
            <a:chOff x="3786120" y="0"/>
            <a:chExt cx="1506600" cy="2054160"/>
          </a:xfrm>
        </p:grpSpPr>
        <p:pic>
          <p:nvPicPr>
            <p:cNvPr id="558" name="图片 32" descr=""/>
            <p:cNvPicPr/>
            <p:nvPr/>
          </p:nvPicPr>
          <p:blipFill>
            <a:blip r:embed="rId7"/>
            <a:stretch/>
          </p:blipFill>
          <p:spPr>
            <a:xfrm>
              <a:off x="4077720" y="0"/>
              <a:ext cx="1215000" cy="20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33" descr=""/>
            <p:cNvPicPr/>
            <p:nvPr/>
          </p:nvPicPr>
          <p:blipFill>
            <a:blip r:embed="rId8"/>
            <a:stretch/>
          </p:blipFill>
          <p:spPr>
            <a:xfrm>
              <a:off x="3786120" y="419400"/>
              <a:ext cx="506160" cy="103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矩形 1"/>
          <p:cNvSpPr/>
          <p:nvPr/>
        </p:nvSpPr>
        <p:spPr>
          <a:xfrm>
            <a:off x="2871720" y="21146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絮语人生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4686E-006 L -0.36667 -1.64686E-006 E">
                                      <p:cBhvr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38" dur="2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40" dur="2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42" dur="2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44" dur="2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46" dur="2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4679E-006 L 0.46945 -4.34679E-006 E">
                                      <p:cBhvr>
                                        <p:cTn id="52" dur="28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0543E-006 L 0.46997 -0.00136 E">
                                      <p:cBhvr>
                                        <p:cTn id="57" dur="28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5935E-007 L 0.46945 3.35935E-007 E">
                                      <p:cBhvr>
                                        <p:cTn id="62" dur="28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00543E-006 L 0.46875 -2.00543E-006 E">
                                      <p:cBhvr>
                                        <p:cTn id="67" dur="28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301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801"/>
                            </p:stCondLst>
                            <p:childTnLst>
                              <p:par>
                                <p:cTn id="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3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302"/>
                            </p:stCondLst>
                            <p:childTnLst>
                              <p:par>
                                <p:cTn id="10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2528280" y="1219320"/>
            <a:ext cx="510120" cy="503640"/>
            <a:chOff x="2528280" y="1219320"/>
            <a:chExt cx="510120" cy="503640"/>
          </a:xfrm>
        </p:grpSpPr>
        <p:grpSp>
          <p:nvGrpSpPr>
            <p:cNvPr id="685" name="Group 3"/>
            <p:cNvGrpSpPr/>
            <p:nvPr/>
          </p:nvGrpSpPr>
          <p:grpSpPr>
            <a:xfrm>
              <a:off x="2528280" y="1219320"/>
              <a:ext cx="510120" cy="503640"/>
              <a:chOff x="2528280" y="1219320"/>
              <a:chExt cx="510120" cy="503640"/>
            </a:xfrm>
          </p:grpSpPr>
          <p:sp>
            <p:nvSpPr>
              <p:cNvPr id="686" name="椭圆 106"/>
              <p:cNvSpPr/>
              <p:nvPr/>
            </p:nvSpPr>
            <p:spPr>
              <a:xfrm rot="223200">
                <a:off x="2542680" y="123408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87" name="图片 13" descr=""/>
          <p:cNvPicPr/>
          <p:nvPr/>
        </p:nvPicPr>
        <p:blipFill>
          <a:blip r:embed="rId1"/>
          <a:stretch/>
        </p:blipFill>
        <p:spPr>
          <a:xfrm>
            <a:off x="857160" y="2093760"/>
            <a:ext cx="4143600" cy="517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"/>
          <p:cNvGrpSpPr/>
          <p:nvPr/>
        </p:nvGrpSpPr>
        <p:grpSpPr>
          <a:xfrm>
            <a:off x="2528280" y="1219320"/>
            <a:ext cx="510120" cy="503640"/>
            <a:chOff x="2528280" y="1219320"/>
            <a:chExt cx="510120" cy="503640"/>
          </a:xfrm>
        </p:grpSpPr>
        <p:grpSp>
          <p:nvGrpSpPr>
            <p:cNvPr id="689" name="Group 3"/>
            <p:cNvGrpSpPr/>
            <p:nvPr/>
          </p:nvGrpSpPr>
          <p:grpSpPr>
            <a:xfrm>
              <a:off x="2528280" y="1219320"/>
              <a:ext cx="510120" cy="503640"/>
              <a:chOff x="2528280" y="1219320"/>
              <a:chExt cx="510120" cy="503640"/>
            </a:xfrm>
          </p:grpSpPr>
          <p:sp>
            <p:nvSpPr>
              <p:cNvPr id="690" name="椭圆 12"/>
              <p:cNvSpPr/>
              <p:nvPr/>
            </p:nvSpPr>
            <p:spPr>
              <a:xfrm rot="223200">
                <a:off x="2542680" y="123408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4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4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心形 1"/>
          <p:cNvSpPr/>
          <p:nvPr/>
        </p:nvSpPr>
        <p:spPr>
          <a:xfrm>
            <a:off x="3357720" y="2927520"/>
            <a:ext cx="428400" cy="326880"/>
          </a:xfrm>
          <a:custGeom>
            <a:avLst/>
            <a:gdLst>
              <a:gd name="textAreaLeft" fmla="*/ 99720 w 428400"/>
              <a:gd name="textAreaRight" fmla="*/ 328320 w 428400"/>
              <a:gd name="textAreaTop" fmla="*/ 34200 h 326880"/>
              <a:gd name="textAreaBottom" fmla="*/ 207000 h 326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14" descr=""/>
          <p:cNvPicPr/>
          <p:nvPr/>
        </p:nvPicPr>
        <p:blipFill>
          <a:blip r:embed="rId1"/>
          <a:stretch/>
        </p:blipFill>
        <p:spPr>
          <a:xfrm>
            <a:off x="1714680" y="3687840"/>
            <a:ext cx="244440" cy="36648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15" descr=""/>
          <p:cNvPicPr/>
          <p:nvPr/>
        </p:nvPicPr>
        <p:blipFill>
          <a:blip r:embed="rId2"/>
          <a:stretch/>
        </p:blipFill>
        <p:spPr>
          <a:xfrm>
            <a:off x="2857680" y="3902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16" descr=""/>
          <p:cNvPicPr/>
          <p:nvPr/>
        </p:nvPicPr>
        <p:blipFill>
          <a:blip r:embed="rId3"/>
          <a:stretch/>
        </p:blipFill>
        <p:spPr>
          <a:xfrm>
            <a:off x="1714680" y="31878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7" descr=""/>
          <p:cNvPicPr/>
          <p:nvPr/>
        </p:nvPicPr>
        <p:blipFill>
          <a:blip r:embed="rId4"/>
          <a:stretch/>
        </p:blipFill>
        <p:spPr>
          <a:xfrm>
            <a:off x="1214280" y="3411360"/>
            <a:ext cx="243000" cy="36684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18" descr=""/>
          <p:cNvPicPr/>
          <p:nvPr/>
        </p:nvPicPr>
        <p:blipFill>
          <a:blip r:embed="rId5"/>
          <a:stretch/>
        </p:blipFill>
        <p:spPr>
          <a:xfrm>
            <a:off x="70009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19" descr=""/>
          <p:cNvPicPr/>
          <p:nvPr/>
        </p:nvPicPr>
        <p:blipFill>
          <a:blip r:embed="rId6"/>
          <a:stretch/>
        </p:blipFill>
        <p:spPr>
          <a:xfrm>
            <a:off x="4000680" y="3687840"/>
            <a:ext cx="244440" cy="366480"/>
          </a:xfrm>
          <a:prstGeom prst="rect">
            <a:avLst/>
          </a:prstGeom>
          <a:ln w="0">
            <a:noFill/>
          </a:ln>
        </p:spPr>
      </p:pic>
      <p:pic>
        <p:nvPicPr>
          <p:cNvPr id="700" name="图片 20" descr=""/>
          <p:cNvPicPr/>
          <p:nvPr/>
        </p:nvPicPr>
        <p:blipFill>
          <a:blip r:embed="rId7"/>
          <a:stretch/>
        </p:blipFill>
        <p:spPr>
          <a:xfrm>
            <a:off x="3214800" y="3411360"/>
            <a:ext cx="242640" cy="36684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21" descr=""/>
          <p:cNvPicPr/>
          <p:nvPr/>
        </p:nvPicPr>
        <p:blipFill>
          <a:blip r:embed="rId8"/>
          <a:stretch/>
        </p:blipFill>
        <p:spPr>
          <a:xfrm>
            <a:off x="3286080" y="412596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22" descr=""/>
          <p:cNvPicPr/>
          <p:nvPr/>
        </p:nvPicPr>
        <p:blipFill>
          <a:blip r:embed="rId9"/>
          <a:stretch/>
        </p:blipFill>
        <p:spPr>
          <a:xfrm>
            <a:off x="2286000" y="361620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23" descr=""/>
          <p:cNvPicPr/>
          <p:nvPr/>
        </p:nvPicPr>
        <p:blipFill>
          <a:blip r:embed="rId10"/>
          <a:stretch/>
        </p:blipFill>
        <p:spPr>
          <a:xfrm>
            <a:off x="2714760" y="361620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24" descr=""/>
          <p:cNvPicPr/>
          <p:nvPr/>
        </p:nvPicPr>
        <p:blipFill>
          <a:blip r:embed="rId11"/>
          <a:stretch/>
        </p:blipFill>
        <p:spPr>
          <a:xfrm>
            <a:off x="214308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25" descr=""/>
          <p:cNvPicPr/>
          <p:nvPr/>
        </p:nvPicPr>
        <p:blipFill>
          <a:blip r:embed="rId12"/>
          <a:stretch/>
        </p:blipFill>
        <p:spPr>
          <a:xfrm>
            <a:off x="2214720" y="3197160"/>
            <a:ext cx="242640" cy="365040"/>
          </a:xfrm>
          <a:prstGeom prst="rect">
            <a:avLst/>
          </a:prstGeom>
          <a:ln w="0">
            <a:noFill/>
          </a:ln>
        </p:spPr>
      </p:pic>
      <p:pic>
        <p:nvPicPr>
          <p:cNvPr id="706" name="图片 26" descr=""/>
          <p:cNvPicPr/>
          <p:nvPr/>
        </p:nvPicPr>
        <p:blipFill>
          <a:blip r:embed="rId13"/>
          <a:stretch/>
        </p:blipFill>
        <p:spPr>
          <a:xfrm>
            <a:off x="3643200" y="3830760"/>
            <a:ext cx="243000" cy="36648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27" descr=""/>
          <p:cNvPicPr/>
          <p:nvPr/>
        </p:nvPicPr>
        <p:blipFill>
          <a:blip r:embed="rId14"/>
          <a:stretch/>
        </p:blipFill>
        <p:spPr>
          <a:xfrm>
            <a:off x="4429080" y="347328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28" descr=""/>
          <p:cNvPicPr/>
          <p:nvPr/>
        </p:nvPicPr>
        <p:blipFill>
          <a:blip r:embed="rId15"/>
          <a:stretch/>
        </p:blipFill>
        <p:spPr>
          <a:xfrm>
            <a:off x="1571760" y="412596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29" descr=""/>
          <p:cNvPicPr/>
          <p:nvPr/>
        </p:nvPicPr>
        <p:blipFill>
          <a:blip r:embed="rId16"/>
          <a:stretch/>
        </p:blipFill>
        <p:spPr>
          <a:xfrm>
            <a:off x="4214880" y="3840120"/>
            <a:ext cx="243000" cy="36684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30" descr=""/>
          <p:cNvPicPr/>
          <p:nvPr/>
        </p:nvPicPr>
        <p:blipFill>
          <a:blip r:embed="rId17"/>
          <a:stretch/>
        </p:blipFill>
        <p:spPr>
          <a:xfrm>
            <a:off x="7286760" y="3768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31" descr=""/>
          <p:cNvPicPr/>
          <p:nvPr/>
        </p:nvPicPr>
        <p:blipFill>
          <a:blip r:embed="rId18"/>
          <a:stretch/>
        </p:blipFill>
        <p:spPr>
          <a:xfrm>
            <a:off x="4857840" y="354492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32" descr=""/>
          <p:cNvPicPr/>
          <p:nvPr/>
        </p:nvPicPr>
        <p:blipFill>
          <a:blip r:embed="rId19"/>
          <a:stretch/>
        </p:blipFill>
        <p:spPr>
          <a:xfrm>
            <a:off x="3786120" y="3340080"/>
            <a:ext cx="243000" cy="3650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33" descr=""/>
          <p:cNvPicPr/>
          <p:nvPr/>
        </p:nvPicPr>
        <p:blipFill>
          <a:blip r:embed="rId20"/>
          <a:stretch/>
        </p:blipFill>
        <p:spPr>
          <a:xfrm>
            <a:off x="4714920" y="3268800"/>
            <a:ext cx="244440" cy="36648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34" descr=""/>
          <p:cNvPicPr/>
          <p:nvPr/>
        </p:nvPicPr>
        <p:blipFill>
          <a:blip r:embed="rId21"/>
          <a:stretch/>
        </p:blipFill>
        <p:spPr>
          <a:xfrm>
            <a:off x="6072120" y="3830760"/>
            <a:ext cx="244440" cy="3664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35" descr=""/>
          <p:cNvPicPr/>
          <p:nvPr/>
        </p:nvPicPr>
        <p:blipFill>
          <a:blip r:embed="rId22"/>
          <a:stretch/>
        </p:blipFill>
        <p:spPr>
          <a:xfrm>
            <a:off x="6470640" y="4206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36" descr=""/>
          <p:cNvPicPr/>
          <p:nvPr/>
        </p:nvPicPr>
        <p:blipFill>
          <a:blip r:embed="rId23"/>
          <a:stretch/>
        </p:blipFill>
        <p:spPr>
          <a:xfrm>
            <a:off x="5327640" y="3492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37" descr=""/>
          <p:cNvPicPr/>
          <p:nvPr/>
        </p:nvPicPr>
        <p:blipFill>
          <a:blip r:embed="rId24"/>
          <a:stretch/>
        </p:blipFill>
        <p:spPr>
          <a:xfrm>
            <a:off x="6572160" y="341136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38" descr=""/>
          <p:cNvPicPr/>
          <p:nvPr/>
        </p:nvPicPr>
        <p:blipFill>
          <a:blip r:embed="rId25"/>
          <a:stretch/>
        </p:blipFill>
        <p:spPr>
          <a:xfrm>
            <a:off x="4143240" y="4179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39" descr=""/>
          <p:cNvPicPr/>
          <p:nvPr/>
        </p:nvPicPr>
        <p:blipFill>
          <a:blip r:embed="rId26"/>
          <a:stretch/>
        </p:blipFill>
        <p:spPr>
          <a:xfrm>
            <a:off x="5357880" y="3822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0" descr=""/>
          <p:cNvPicPr/>
          <p:nvPr/>
        </p:nvPicPr>
        <p:blipFill>
          <a:blip r:embed="rId27"/>
          <a:stretch/>
        </p:blipFill>
        <p:spPr>
          <a:xfrm>
            <a:off x="1214280" y="3911760"/>
            <a:ext cx="243000" cy="3650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41" descr=""/>
          <p:cNvPicPr/>
          <p:nvPr/>
        </p:nvPicPr>
        <p:blipFill>
          <a:blip r:embed="rId28"/>
          <a:stretch/>
        </p:blipFill>
        <p:spPr>
          <a:xfrm>
            <a:off x="471492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2" descr=""/>
          <p:cNvPicPr/>
          <p:nvPr/>
        </p:nvPicPr>
        <p:blipFill>
          <a:blip r:embed="rId29"/>
          <a:stretch/>
        </p:blipFill>
        <p:spPr>
          <a:xfrm>
            <a:off x="5686560" y="4332240"/>
            <a:ext cx="242640" cy="3650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43" descr=""/>
          <p:cNvPicPr/>
          <p:nvPr/>
        </p:nvPicPr>
        <p:blipFill>
          <a:blip r:embed="rId30"/>
          <a:stretch/>
        </p:blipFill>
        <p:spPr>
          <a:xfrm>
            <a:off x="6899400" y="39751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44" descr=""/>
          <p:cNvPicPr/>
          <p:nvPr/>
        </p:nvPicPr>
        <p:blipFill>
          <a:blip r:embed="rId31"/>
          <a:stretch/>
        </p:blipFill>
        <p:spPr>
          <a:xfrm>
            <a:off x="56437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45" descr=""/>
          <p:cNvPicPr/>
          <p:nvPr/>
        </p:nvPicPr>
        <p:blipFill>
          <a:blip r:embed="rId32"/>
          <a:stretch/>
        </p:blipFill>
        <p:spPr>
          <a:xfrm>
            <a:off x="7858080" y="355428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46" descr=""/>
          <p:cNvPicPr/>
          <p:nvPr/>
        </p:nvPicPr>
        <p:blipFill>
          <a:blip r:embed="rId33"/>
          <a:stretch/>
        </p:blipFill>
        <p:spPr>
          <a:xfrm>
            <a:off x="814392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47" descr=""/>
          <p:cNvPicPr/>
          <p:nvPr/>
        </p:nvPicPr>
        <p:blipFill>
          <a:blip r:embed="rId34"/>
          <a:stretch/>
        </p:blipFill>
        <p:spPr>
          <a:xfrm>
            <a:off x="7786800" y="398304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48" descr=""/>
          <p:cNvPicPr/>
          <p:nvPr/>
        </p:nvPicPr>
        <p:blipFill>
          <a:blip r:embed="rId35"/>
          <a:stretch/>
        </p:blipFill>
        <p:spPr>
          <a:xfrm>
            <a:off x="8286840" y="341136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49" descr=""/>
          <p:cNvPicPr/>
          <p:nvPr/>
        </p:nvPicPr>
        <p:blipFill>
          <a:blip r:embed="rId36"/>
          <a:stretch/>
        </p:blipFill>
        <p:spPr>
          <a:xfrm>
            <a:off x="571680" y="34830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50" descr=""/>
          <p:cNvPicPr/>
          <p:nvPr/>
        </p:nvPicPr>
        <p:blipFill>
          <a:blip r:embed="rId37"/>
          <a:stretch/>
        </p:blipFill>
        <p:spPr>
          <a:xfrm>
            <a:off x="0" y="3983040"/>
            <a:ext cx="244440" cy="3668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51" descr=""/>
          <p:cNvPicPr/>
          <p:nvPr/>
        </p:nvPicPr>
        <p:blipFill>
          <a:blip r:embed="rId38"/>
          <a:stretch/>
        </p:blipFill>
        <p:spPr>
          <a:xfrm>
            <a:off x="714240" y="3983040"/>
            <a:ext cx="244440" cy="366840"/>
          </a:xfrm>
          <a:prstGeom prst="rect">
            <a:avLst/>
          </a:prstGeom>
          <a:ln w="0">
            <a:noFill/>
          </a:ln>
        </p:spPr>
      </p:pic>
      <p:sp>
        <p:nvSpPr>
          <p:cNvPr id="732" name="TextBox 52"/>
          <p:cNvSpPr/>
          <p:nvPr/>
        </p:nvSpPr>
        <p:spPr>
          <a:xfrm>
            <a:off x="5394600" y="4111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让爱的种子洒满人生路，爱心会生机盎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0.00034 C -0.01006 0.00272 -0.02014 0.00543 -0.04722 0.01391 C -0.0743 0.0224 -0.14167 0.0302 -0.16303 0.05124 C -0.18438 0.07228 -0.17935 0.1113 -0.17535 0.13913 C -0.17136 0.16695 -0.16129 0.19817 -0.13855 0.21785 C -0.1158 0.23787 -0.08246 0.24805 -0.03854 0.25925 C 0.00539 0.27011 0.06563 0.28368 0.12466 0.2847 C 0.18334 0.28572 0.26355 0.27961 0.3158 0.26502 C 0.36806 0.25009 0.41615 0.22057 0.43872 0.19613 C 0.46129 0.1717 0.46459 0.14998 0.45087 0.11775 C 0.43716 0.08551 0.3882 0.02986 0.35608 0.0017 C 0.32396 -0.02647 0.279 -0.04038 0.25869 -0.05158 E">
                                      <p:cBhvr>
                                        <p:cTn id="638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86400000">
                                      <p:cBhvr>
                                        <p:cTn id="64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图片 4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35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36" name="Group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37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38" name="Group 1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39" name="TextBox 40"/>
          <p:cNvSpPr/>
          <p:nvPr/>
        </p:nvSpPr>
        <p:spPr>
          <a:xfrm>
            <a:off x="2031120" y="83988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会有许多阻碍，坚信只要努力就会越过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8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6" dur="2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0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2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142920" y="2036880"/>
            <a:ext cx="1071360" cy="1158840"/>
            <a:chOff x="142920" y="2036880"/>
            <a:chExt cx="1071360" cy="1158840"/>
          </a:xfrm>
        </p:grpSpPr>
        <p:grpSp>
          <p:nvGrpSpPr>
            <p:cNvPr id="741" name="Group 3"/>
            <p:cNvGrpSpPr/>
            <p:nvPr/>
          </p:nvGrpSpPr>
          <p:grpSpPr>
            <a:xfrm>
              <a:off x="685080" y="2037600"/>
              <a:ext cx="303840" cy="298080"/>
              <a:chOff x="685080" y="2037600"/>
              <a:chExt cx="303840" cy="298080"/>
            </a:xfrm>
          </p:grpSpPr>
          <p:grpSp>
            <p:nvGrpSpPr>
              <p:cNvPr id="742" name="Group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43" name="Group 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744" name="椭圆 48"/>
              <p:cNvSpPr/>
              <p:nvPr/>
            </p:nvSpPr>
            <p:spPr>
              <a:xfrm>
                <a:off x="685080" y="2037600"/>
                <a:ext cx="303840" cy="298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矩形 46"/>
            <p:cNvSpPr/>
            <p:nvPr/>
          </p:nvSpPr>
          <p:spPr>
            <a:xfrm>
              <a:off x="142920" y="2036880"/>
              <a:ext cx="1071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20"/>
          <p:cNvGrpSpPr/>
          <p:nvPr/>
        </p:nvGrpSpPr>
        <p:grpSpPr>
          <a:xfrm>
            <a:off x="-281160" y="0"/>
            <a:ext cx="9425160" cy="1627200"/>
            <a:chOff x="-281160" y="0"/>
            <a:chExt cx="9425160" cy="1627200"/>
          </a:xfrm>
        </p:grpSpPr>
        <p:pic>
          <p:nvPicPr>
            <p:cNvPr id="747" name="图片 33" descr=""/>
            <p:cNvPicPr/>
            <p:nvPr/>
          </p:nvPicPr>
          <p:blipFill>
            <a:blip r:embed="rId1"/>
            <a:stretch/>
          </p:blipFill>
          <p:spPr>
            <a:xfrm>
              <a:off x="1646640" y="767880"/>
              <a:ext cx="182160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"/>
            <p:cNvPicPr/>
            <p:nvPr/>
          </p:nvPicPr>
          <p:blipFill>
            <a:blip r:embed="rId2"/>
            <a:stretch/>
          </p:blipFill>
          <p:spPr>
            <a:xfrm>
              <a:off x="1932120" y="268200"/>
              <a:ext cx="182160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"/>
            <p:cNvPicPr/>
            <p:nvPr/>
          </p:nvPicPr>
          <p:blipFill>
            <a:blip r:embed="rId3"/>
            <a:stretch/>
          </p:blipFill>
          <p:spPr>
            <a:xfrm>
              <a:off x="3288960" y="339480"/>
              <a:ext cx="182160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图片 36" descr=""/>
            <p:cNvPicPr/>
            <p:nvPr/>
          </p:nvPicPr>
          <p:blipFill>
            <a:blip r:embed="rId4"/>
            <a:stretch/>
          </p:blipFill>
          <p:spPr>
            <a:xfrm>
              <a:off x="5002560" y="0"/>
              <a:ext cx="182160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图片 37" descr=""/>
            <p:cNvPicPr/>
            <p:nvPr/>
          </p:nvPicPr>
          <p:blipFill>
            <a:blip r:embed="rId5"/>
            <a:stretch/>
          </p:blipFill>
          <p:spPr>
            <a:xfrm>
              <a:off x="289800" y="268200"/>
              <a:ext cx="12110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图片 38" descr=""/>
            <p:cNvPicPr/>
            <p:nvPr/>
          </p:nvPicPr>
          <p:blipFill>
            <a:blip r:embed="rId6"/>
            <a:stretch/>
          </p:blipFill>
          <p:spPr>
            <a:xfrm>
              <a:off x="5931000" y="268200"/>
              <a:ext cx="321300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图片 39" descr=""/>
            <p:cNvPicPr/>
            <p:nvPr/>
          </p:nvPicPr>
          <p:blipFill>
            <a:blip r:embed="rId7"/>
            <a:stretch/>
          </p:blipFill>
          <p:spPr>
            <a:xfrm>
              <a:off x="-281160" y="553680"/>
              <a:ext cx="182160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图片 40" descr=""/>
            <p:cNvPicPr/>
            <p:nvPr/>
          </p:nvPicPr>
          <p:blipFill>
            <a:blip r:embed="rId8"/>
            <a:stretch/>
          </p:blipFill>
          <p:spPr>
            <a:xfrm>
              <a:off x="861120" y="339480"/>
              <a:ext cx="182160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TextBox 59"/>
          <p:cNvSpPr/>
          <p:nvPr/>
        </p:nvSpPr>
        <p:spPr>
          <a:xfrm>
            <a:off x="5686200" y="625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前进的路上，要面对许多困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0"/>
          <p:cNvGrpSpPr/>
          <p:nvPr/>
        </p:nvGrpSpPr>
        <p:grpSpPr>
          <a:xfrm>
            <a:off x="0" y="3108240"/>
            <a:ext cx="9144000" cy="1660680"/>
            <a:chOff x="0" y="3108240"/>
            <a:chExt cx="9144000" cy="1660680"/>
          </a:xfrm>
        </p:grpSpPr>
        <p:grpSp>
          <p:nvGrpSpPr>
            <p:cNvPr id="757" name="Group 31"/>
            <p:cNvGrpSpPr/>
            <p:nvPr/>
          </p:nvGrpSpPr>
          <p:grpSpPr>
            <a:xfrm>
              <a:off x="0" y="3108240"/>
              <a:ext cx="9144000" cy="1660680"/>
              <a:chOff x="0" y="3108240"/>
              <a:chExt cx="9144000" cy="1660680"/>
            </a:xfrm>
          </p:grpSpPr>
          <p:sp>
            <p:nvSpPr>
              <p:cNvPr id="758" name="矩形 18"/>
              <p:cNvSpPr/>
              <p:nvPr/>
            </p:nvSpPr>
            <p:spPr>
              <a:xfrm>
                <a:off x="0" y="3286080"/>
                <a:ext cx="9144000" cy="14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9" name="Group 33"/>
              <p:cNvGrpSpPr/>
              <p:nvPr/>
            </p:nvGrpSpPr>
            <p:grpSpPr>
              <a:xfrm>
                <a:off x="0" y="3108240"/>
                <a:ext cx="9144000" cy="160200"/>
                <a:chOff x="0" y="3108240"/>
                <a:chExt cx="9144000" cy="160200"/>
              </a:xfrm>
            </p:grpSpPr>
            <p:sp>
              <p:nvSpPr>
                <p:cNvPr id="760" name="矩形 22"/>
                <p:cNvSpPr/>
                <p:nvPr/>
              </p:nvSpPr>
              <p:spPr>
                <a:xfrm>
                  <a:off x="0" y="3125520"/>
                  <a:ext cx="9144000" cy="142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1" name="Group 35"/>
                <p:cNvGrpSpPr/>
                <p:nvPr/>
              </p:nvGrpSpPr>
              <p:grpSpPr>
                <a:xfrm>
                  <a:off x="0" y="3108240"/>
                  <a:ext cx="9144000" cy="144360"/>
                  <a:chOff x="0" y="3108240"/>
                  <a:chExt cx="9144000" cy="144360"/>
                </a:xfrm>
              </p:grpSpPr>
              <p:sp>
                <p:nvSpPr>
                  <p:cNvPr id="762" name="直接连接符 24"/>
                  <p:cNvSpPr/>
                  <p:nvPr/>
                </p:nvSpPr>
                <p:spPr>
                  <a:xfrm>
                    <a:off x="0" y="310824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直接连接符 25"/>
                  <p:cNvSpPr/>
                  <p:nvPr/>
                </p:nvSpPr>
                <p:spPr>
                  <a:xfrm>
                    <a:off x="0" y="325116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64" name="矩形 62"/>
            <p:cNvSpPr/>
            <p:nvPr/>
          </p:nvSpPr>
          <p:spPr>
            <a:xfrm>
              <a:off x="0" y="3929040"/>
              <a:ext cx="9144000" cy="8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5" name="图片 2" descr=""/>
          <p:cNvPicPr/>
          <p:nvPr/>
        </p:nvPicPr>
        <p:blipFill>
          <a:blip r:embed="rId9"/>
          <a:stretch/>
        </p:blipFill>
        <p:spPr>
          <a:xfrm rot="2380800">
            <a:off x="-347760" y="3548160"/>
            <a:ext cx="711540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8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8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3" dur="1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"/>
          <p:cNvGrpSpPr/>
          <p:nvPr/>
        </p:nvGrpSpPr>
        <p:grpSpPr>
          <a:xfrm>
            <a:off x="142920" y="2036880"/>
            <a:ext cx="1071360" cy="1158840"/>
            <a:chOff x="142920" y="2036880"/>
            <a:chExt cx="1071360" cy="1158840"/>
          </a:xfrm>
        </p:grpSpPr>
        <p:grpSp>
          <p:nvGrpSpPr>
            <p:cNvPr id="767" name="Group 3"/>
            <p:cNvGrpSpPr/>
            <p:nvPr/>
          </p:nvGrpSpPr>
          <p:grpSpPr>
            <a:xfrm>
              <a:off x="685080" y="2037600"/>
              <a:ext cx="303840" cy="298080"/>
              <a:chOff x="685080" y="2037600"/>
              <a:chExt cx="303840" cy="298080"/>
            </a:xfrm>
          </p:grpSpPr>
          <p:grpSp>
            <p:nvGrpSpPr>
              <p:cNvPr id="768" name="Group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69" name="Group 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770" name="椭圆 117"/>
              <p:cNvSpPr/>
              <p:nvPr/>
            </p:nvSpPr>
            <p:spPr>
              <a:xfrm>
                <a:off x="685080" y="2037600"/>
                <a:ext cx="303840" cy="298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矩形 115"/>
            <p:cNvSpPr/>
            <p:nvPr/>
          </p:nvSpPr>
          <p:spPr>
            <a:xfrm>
              <a:off x="142920" y="2036880"/>
              <a:ext cx="1071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图片 7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  <p:sp>
        <p:nvSpPr>
          <p:cNvPr id="773" name="矩形 56"/>
          <p:cNvSpPr/>
          <p:nvPr/>
        </p:nvSpPr>
        <p:spPr>
          <a:xfrm>
            <a:off x="214200" y="2054160"/>
            <a:ext cx="103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22"/>
          <p:cNvGrpSpPr/>
          <p:nvPr/>
        </p:nvGrpSpPr>
        <p:grpSpPr>
          <a:xfrm>
            <a:off x="-281160" y="0"/>
            <a:ext cx="9425160" cy="1627200"/>
            <a:chOff x="-281160" y="0"/>
            <a:chExt cx="9425160" cy="1627200"/>
          </a:xfrm>
        </p:grpSpPr>
        <p:pic>
          <p:nvPicPr>
            <p:cNvPr id="775" name="图片 46" descr=""/>
            <p:cNvPicPr/>
            <p:nvPr/>
          </p:nvPicPr>
          <p:blipFill>
            <a:blip r:embed="rId2"/>
            <a:stretch/>
          </p:blipFill>
          <p:spPr>
            <a:xfrm>
              <a:off x="1646640" y="767880"/>
              <a:ext cx="182160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图片 47" descr=""/>
            <p:cNvPicPr/>
            <p:nvPr/>
          </p:nvPicPr>
          <p:blipFill>
            <a:blip r:embed="rId3"/>
            <a:stretch/>
          </p:blipFill>
          <p:spPr>
            <a:xfrm>
              <a:off x="1932120" y="268200"/>
              <a:ext cx="182160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图片 48" descr=""/>
            <p:cNvPicPr/>
            <p:nvPr/>
          </p:nvPicPr>
          <p:blipFill>
            <a:blip r:embed="rId4"/>
            <a:stretch/>
          </p:blipFill>
          <p:spPr>
            <a:xfrm>
              <a:off x="3288960" y="339480"/>
              <a:ext cx="182160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图片 49" descr=""/>
            <p:cNvPicPr/>
            <p:nvPr/>
          </p:nvPicPr>
          <p:blipFill>
            <a:blip r:embed="rId5"/>
            <a:stretch/>
          </p:blipFill>
          <p:spPr>
            <a:xfrm>
              <a:off x="5002560" y="0"/>
              <a:ext cx="182160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图片 50" descr=""/>
            <p:cNvPicPr/>
            <p:nvPr/>
          </p:nvPicPr>
          <p:blipFill>
            <a:blip r:embed="rId6"/>
            <a:stretch/>
          </p:blipFill>
          <p:spPr>
            <a:xfrm>
              <a:off x="289800" y="268200"/>
              <a:ext cx="12110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图片 51" descr=""/>
            <p:cNvPicPr/>
            <p:nvPr/>
          </p:nvPicPr>
          <p:blipFill>
            <a:blip r:embed="rId7"/>
            <a:stretch/>
          </p:blipFill>
          <p:spPr>
            <a:xfrm>
              <a:off x="5931000" y="268200"/>
              <a:ext cx="321300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图片 52" descr=""/>
            <p:cNvPicPr/>
            <p:nvPr/>
          </p:nvPicPr>
          <p:blipFill>
            <a:blip r:embed="rId8"/>
            <a:stretch/>
          </p:blipFill>
          <p:spPr>
            <a:xfrm>
              <a:off x="-281160" y="553680"/>
              <a:ext cx="182160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图片 53" descr=""/>
            <p:cNvPicPr/>
            <p:nvPr/>
          </p:nvPicPr>
          <p:blipFill>
            <a:blip r:embed="rId9"/>
            <a:stretch/>
          </p:blipFill>
          <p:spPr>
            <a:xfrm>
              <a:off x="861120" y="339480"/>
              <a:ext cx="182160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矩形 93"/>
          <p:cNvSpPr/>
          <p:nvPr/>
        </p:nvSpPr>
        <p:spPr>
          <a:xfrm>
            <a:off x="71280" y="1339920"/>
            <a:ext cx="863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32"/>
          <p:cNvGrpSpPr/>
          <p:nvPr/>
        </p:nvGrpSpPr>
        <p:grpSpPr>
          <a:xfrm>
            <a:off x="0" y="3108240"/>
            <a:ext cx="9144000" cy="1660680"/>
            <a:chOff x="0" y="3108240"/>
            <a:chExt cx="9144000" cy="1660680"/>
          </a:xfrm>
        </p:grpSpPr>
        <p:grpSp>
          <p:nvGrpSpPr>
            <p:cNvPr id="785" name="Group 33"/>
            <p:cNvGrpSpPr/>
            <p:nvPr/>
          </p:nvGrpSpPr>
          <p:grpSpPr>
            <a:xfrm>
              <a:off x="0" y="3108240"/>
              <a:ext cx="9144000" cy="1660680"/>
              <a:chOff x="0" y="3108240"/>
              <a:chExt cx="9144000" cy="1660680"/>
            </a:xfrm>
          </p:grpSpPr>
          <p:sp>
            <p:nvSpPr>
              <p:cNvPr id="786" name="矩形 18"/>
              <p:cNvSpPr/>
              <p:nvPr/>
            </p:nvSpPr>
            <p:spPr>
              <a:xfrm>
                <a:off x="0" y="3286080"/>
                <a:ext cx="9144000" cy="14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35"/>
              <p:cNvGrpSpPr/>
              <p:nvPr/>
            </p:nvGrpSpPr>
            <p:grpSpPr>
              <a:xfrm>
                <a:off x="0" y="3108240"/>
                <a:ext cx="9144000" cy="160200"/>
                <a:chOff x="0" y="3108240"/>
                <a:chExt cx="9144000" cy="160200"/>
              </a:xfrm>
            </p:grpSpPr>
            <p:sp>
              <p:nvSpPr>
                <p:cNvPr id="788" name="矩形 83"/>
                <p:cNvSpPr/>
                <p:nvPr/>
              </p:nvSpPr>
              <p:spPr>
                <a:xfrm>
                  <a:off x="0" y="3125520"/>
                  <a:ext cx="9144000" cy="142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9" name="Group 37"/>
                <p:cNvGrpSpPr/>
                <p:nvPr/>
              </p:nvGrpSpPr>
              <p:grpSpPr>
                <a:xfrm>
                  <a:off x="0" y="3108240"/>
                  <a:ext cx="9144000" cy="144360"/>
                  <a:chOff x="0" y="3108240"/>
                  <a:chExt cx="9144000" cy="144360"/>
                </a:xfrm>
              </p:grpSpPr>
              <p:sp>
                <p:nvSpPr>
                  <p:cNvPr id="790" name="直接连接符 85"/>
                  <p:cNvSpPr/>
                  <p:nvPr/>
                </p:nvSpPr>
                <p:spPr>
                  <a:xfrm>
                    <a:off x="0" y="310824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直接连接符 86"/>
                  <p:cNvSpPr/>
                  <p:nvPr/>
                </p:nvSpPr>
                <p:spPr>
                  <a:xfrm>
                    <a:off x="0" y="325116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2" name="矩形 77"/>
            <p:cNvSpPr/>
            <p:nvPr/>
          </p:nvSpPr>
          <p:spPr>
            <a:xfrm>
              <a:off x="0" y="3929040"/>
              <a:ext cx="9144000" cy="8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3" name="图片 103" descr=""/>
          <p:cNvPicPr/>
          <p:nvPr/>
        </p:nvPicPr>
        <p:blipFill>
          <a:blip r:embed="rId10"/>
          <a:stretch/>
        </p:blipFill>
        <p:spPr>
          <a:xfrm>
            <a:off x="500040" y="424332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04" descr=""/>
          <p:cNvPicPr/>
          <p:nvPr/>
        </p:nvPicPr>
        <p:blipFill>
          <a:blip r:embed="rId11"/>
          <a:stretch/>
        </p:blipFill>
        <p:spPr>
          <a:xfrm>
            <a:off x="842976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05" descr=""/>
          <p:cNvPicPr/>
          <p:nvPr/>
        </p:nvPicPr>
        <p:blipFill>
          <a:blip r:embed="rId12"/>
          <a:stretch/>
        </p:blipFill>
        <p:spPr>
          <a:xfrm>
            <a:off x="7000920" y="412596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106" descr=""/>
          <p:cNvPicPr/>
          <p:nvPr/>
        </p:nvPicPr>
        <p:blipFill>
          <a:blip r:embed="rId13"/>
          <a:stretch/>
        </p:blipFill>
        <p:spPr>
          <a:xfrm>
            <a:off x="4643280" y="4340160"/>
            <a:ext cx="357480" cy="1350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107" descr=""/>
          <p:cNvPicPr/>
          <p:nvPr/>
        </p:nvPicPr>
        <p:blipFill>
          <a:blip r:embed="rId14"/>
          <a:stretch/>
        </p:blipFill>
        <p:spPr>
          <a:xfrm>
            <a:off x="5643720" y="412596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08" descr=""/>
          <p:cNvPicPr/>
          <p:nvPr/>
        </p:nvPicPr>
        <p:blipFill>
          <a:blip r:embed="rId15"/>
          <a:stretch/>
        </p:blipFill>
        <p:spPr>
          <a:xfrm>
            <a:off x="750096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09" descr=""/>
          <p:cNvPicPr/>
          <p:nvPr/>
        </p:nvPicPr>
        <p:blipFill>
          <a:blip r:embed="rId16"/>
          <a:stretch/>
        </p:blipFill>
        <p:spPr>
          <a:xfrm>
            <a:off x="628668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10" descr=""/>
          <p:cNvPicPr/>
          <p:nvPr/>
        </p:nvPicPr>
        <p:blipFill>
          <a:blip r:embed="rId17"/>
          <a:stretch/>
        </p:blipFill>
        <p:spPr>
          <a:xfrm>
            <a:off x="3357720" y="426888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111" descr=""/>
          <p:cNvPicPr/>
          <p:nvPr/>
        </p:nvPicPr>
        <p:blipFill>
          <a:blip r:embed="rId18"/>
          <a:stretch/>
        </p:blipFill>
        <p:spPr>
          <a:xfrm>
            <a:off x="2071800" y="405432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112" descr=""/>
          <p:cNvPicPr/>
          <p:nvPr/>
        </p:nvPicPr>
        <p:blipFill>
          <a:blip r:embed="rId19"/>
          <a:stretch/>
        </p:blipFill>
        <p:spPr>
          <a:xfrm>
            <a:off x="2286000" y="4395960"/>
            <a:ext cx="357120" cy="134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57"/>
          <p:cNvSpPr/>
          <p:nvPr/>
        </p:nvSpPr>
        <p:spPr>
          <a:xfrm>
            <a:off x="5686200" y="625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前进的路上，要面对许多困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2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94" nodeType="afterEffect" fill="hold" presetClass="entr" presetID="11" repeatCount="2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1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97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72222E-006 -1.03296E-006 L 0.96337 0.00034 E">
                                      <p:cBhvr>
                                        <p:cTn id="899" dur="9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 repeatCount="17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3" presetSubtype="16" repeatCount="17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 repeatCount="1700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3" presetSubtype="16" repeatCount="17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0" repeatCount="1700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3" presetSubtype="16" repeatCount="17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 repeatCount="1700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3" presetSubtype="16" repeatCount="17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0" repeatCount="17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3" presetSubtype="16" repeatCount="17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 repeatCount="1700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3" presetSubtype="16" repeatCount="170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 repeatCount="1700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3" presetSubtype="16" repeatCount="17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 repeatCount="1700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23" presetSubtype="16" repeatCount="17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0" repeatCount="17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23" presetSubtype="16" repeatCount="17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700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23" presetSubtype="16" repeatCount="17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9650"/>
                            </p:stCondLst>
                            <p:childTnLst>
                              <p:par>
                                <p:cTn id="971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灯片编号占位符 5"/>
          <p:cNvSpPr/>
          <p:nvPr/>
        </p:nvSpPr>
        <p:spPr>
          <a:xfrm>
            <a:off x="6553080" y="4336920"/>
            <a:ext cx="2133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6BFB-9A01-4884-9488-EF7CE32404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152280" y="-738360"/>
            <a:ext cx="9144000" cy="2233800"/>
            <a:chOff x="152280" y="-738360"/>
            <a:chExt cx="9144000" cy="2233800"/>
          </a:xfrm>
        </p:grpSpPr>
        <p:sp>
          <p:nvSpPr>
            <p:cNvPr id="806" name="椭圆 34"/>
            <p:cNvSpPr/>
            <p:nvPr/>
          </p:nvSpPr>
          <p:spPr>
            <a:xfrm>
              <a:off x="4259880" y="-738360"/>
              <a:ext cx="357120" cy="35640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椭圆 35"/>
            <p:cNvSpPr/>
            <p:nvPr/>
          </p:nvSpPr>
          <p:spPr>
            <a:xfrm>
              <a:off x="4295520" y="-702360"/>
              <a:ext cx="285480" cy="28512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8" name="图片 36" descr=""/>
            <p:cNvPicPr/>
            <p:nvPr/>
          </p:nvPicPr>
          <p:blipFill>
            <a:blip r:embed="rId1"/>
            <a:stretch/>
          </p:blipFill>
          <p:spPr>
            <a:xfrm>
              <a:off x="152280" y="155520"/>
              <a:ext cx="182232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37" descr=""/>
            <p:cNvPicPr/>
            <p:nvPr/>
          </p:nvPicPr>
          <p:blipFill>
            <a:blip r:embed="rId2"/>
            <a:stretch/>
          </p:blipFill>
          <p:spPr>
            <a:xfrm>
              <a:off x="723600" y="637200"/>
              <a:ext cx="182844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38" descr=""/>
            <p:cNvPicPr/>
            <p:nvPr/>
          </p:nvPicPr>
          <p:blipFill>
            <a:blip r:embed="rId3"/>
            <a:stretch/>
          </p:blipFill>
          <p:spPr>
            <a:xfrm>
              <a:off x="2438280" y="155520"/>
              <a:ext cx="1822320" cy="8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图片 39" descr=""/>
            <p:cNvPicPr/>
            <p:nvPr/>
          </p:nvPicPr>
          <p:blipFill>
            <a:blip r:embed="rId4"/>
            <a:stretch/>
          </p:blipFill>
          <p:spPr>
            <a:xfrm>
              <a:off x="4152600" y="-147240"/>
              <a:ext cx="1071360" cy="13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图片 40" descr=""/>
            <p:cNvPicPr/>
            <p:nvPr/>
          </p:nvPicPr>
          <p:blipFill>
            <a:blip r:embed="rId5"/>
            <a:stretch/>
          </p:blipFill>
          <p:spPr>
            <a:xfrm>
              <a:off x="5759280" y="155520"/>
              <a:ext cx="3537000" cy="85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3" name="Group 10"/>
          <p:cNvGrpSpPr/>
          <p:nvPr/>
        </p:nvGrpSpPr>
        <p:grpSpPr>
          <a:xfrm>
            <a:off x="0" y="-888840"/>
            <a:ext cx="9144000" cy="2232000"/>
            <a:chOff x="0" y="-888840"/>
            <a:chExt cx="9144000" cy="2232000"/>
          </a:xfrm>
        </p:grpSpPr>
        <p:sp>
          <p:nvSpPr>
            <p:cNvPr id="814" name="椭圆 6"/>
            <p:cNvSpPr/>
            <p:nvPr/>
          </p:nvSpPr>
          <p:spPr>
            <a:xfrm>
              <a:off x="4107600" y="-888840"/>
              <a:ext cx="357120" cy="35640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椭圆 7"/>
            <p:cNvSpPr/>
            <p:nvPr/>
          </p:nvSpPr>
          <p:spPr>
            <a:xfrm>
              <a:off x="4143240" y="-852840"/>
              <a:ext cx="285480" cy="28512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图片 26" descr=""/>
            <p:cNvPicPr/>
            <p:nvPr/>
          </p:nvPicPr>
          <p:blipFill>
            <a:blip r:embed="rId6"/>
            <a:stretch/>
          </p:blipFill>
          <p:spPr>
            <a:xfrm>
              <a:off x="0" y="4320"/>
              <a:ext cx="182232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图片 27" descr=""/>
            <p:cNvPicPr/>
            <p:nvPr/>
          </p:nvPicPr>
          <p:blipFill>
            <a:blip r:embed="rId7"/>
            <a:stretch/>
          </p:blipFill>
          <p:spPr>
            <a:xfrm>
              <a:off x="571320" y="485640"/>
              <a:ext cx="182844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图片 29" descr=""/>
            <p:cNvPicPr/>
            <p:nvPr/>
          </p:nvPicPr>
          <p:blipFill>
            <a:blip r:embed="rId8"/>
            <a:stretch/>
          </p:blipFill>
          <p:spPr>
            <a:xfrm>
              <a:off x="2286000" y="4320"/>
              <a:ext cx="1822320" cy="8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30" descr=""/>
            <p:cNvPicPr/>
            <p:nvPr/>
          </p:nvPicPr>
          <p:blipFill>
            <a:blip r:embed="rId9"/>
            <a:stretch/>
          </p:blipFill>
          <p:spPr>
            <a:xfrm>
              <a:off x="4000320" y="-298080"/>
              <a:ext cx="1071360" cy="13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31" descr=""/>
            <p:cNvPicPr/>
            <p:nvPr/>
          </p:nvPicPr>
          <p:blipFill>
            <a:blip r:embed="rId10"/>
            <a:stretch/>
          </p:blipFill>
          <p:spPr>
            <a:xfrm>
              <a:off x="5607000" y="4320"/>
              <a:ext cx="3537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1" name="矩形 3"/>
          <p:cNvSpPr/>
          <p:nvPr/>
        </p:nvSpPr>
        <p:spPr>
          <a:xfrm>
            <a:off x="0" y="2340000"/>
            <a:ext cx="9144000" cy="2340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44"/>
          <p:cNvSpPr/>
          <p:nvPr/>
        </p:nvSpPr>
        <p:spPr>
          <a:xfrm>
            <a:off x="5143680" y="1482840"/>
            <a:ext cx="2357280" cy="235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41"/>
          <p:cNvSpPr/>
          <p:nvPr/>
        </p:nvSpPr>
        <p:spPr>
          <a:xfrm>
            <a:off x="6143760" y="2482920"/>
            <a:ext cx="357120" cy="357120"/>
          </a:xfrm>
          <a:prstGeom prst="ellipse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28" descr=""/>
          <p:cNvPicPr/>
          <p:nvPr/>
        </p:nvPicPr>
        <p:blipFill>
          <a:blip r:embed="rId11"/>
          <a:stretch/>
        </p:blipFill>
        <p:spPr>
          <a:xfrm>
            <a:off x="0" y="3240"/>
            <a:ext cx="9142560" cy="4676760"/>
          </a:xfrm>
          <a:prstGeom prst="rect">
            <a:avLst/>
          </a:prstGeom>
          <a:ln w="0">
            <a:noFill/>
          </a:ln>
        </p:spPr>
      </p:pic>
      <p:sp>
        <p:nvSpPr>
          <p:cNvPr id="825" name="椭圆 43"/>
          <p:cNvSpPr/>
          <p:nvPr/>
        </p:nvSpPr>
        <p:spPr>
          <a:xfrm>
            <a:off x="4286160" y="-67464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45"/>
          <p:cNvSpPr/>
          <p:nvPr/>
        </p:nvSpPr>
        <p:spPr>
          <a:xfrm>
            <a:off x="4286160" y="-67464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46"/>
          <p:cNvSpPr/>
          <p:nvPr/>
        </p:nvSpPr>
        <p:spPr>
          <a:xfrm>
            <a:off x="4357800" y="-604800"/>
            <a:ext cx="357120" cy="3585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47"/>
          <p:cNvSpPr/>
          <p:nvPr/>
        </p:nvSpPr>
        <p:spPr>
          <a:xfrm>
            <a:off x="4500720" y="-58428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48"/>
          <p:cNvSpPr/>
          <p:nvPr/>
        </p:nvSpPr>
        <p:spPr>
          <a:xfrm>
            <a:off x="3786120" y="-638280"/>
            <a:ext cx="642960" cy="63828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49"/>
          <p:cNvSpPr/>
          <p:nvPr/>
        </p:nvSpPr>
        <p:spPr>
          <a:xfrm>
            <a:off x="4643280" y="-453960"/>
            <a:ext cx="500400" cy="453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42"/>
          <p:cNvSpPr/>
          <p:nvPr/>
        </p:nvSpPr>
        <p:spPr>
          <a:xfrm>
            <a:off x="6229440" y="26607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50"/>
          <p:cNvSpPr/>
          <p:nvPr/>
        </p:nvSpPr>
        <p:spPr>
          <a:xfrm>
            <a:off x="6365880" y="2797200"/>
            <a:ext cx="64296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51"/>
          <p:cNvSpPr/>
          <p:nvPr/>
        </p:nvSpPr>
        <p:spPr>
          <a:xfrm>
            <a:off x="6508800" y="294012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52"/>
          <p:cNvSpPr/>
          <p:nvPr/>
        </p:nvSpPr>
        <p:spPr>
          <a:xfrm>
            <a:off x="5800680" y="22683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53"/>
          <p:cNvSpPr/>
          <p:nvPr/>
        </p:nvSpPr>
        <p:spPr>
          <a:xfrm>
            <a:off x="5937120" y="2403360"/>
            <a:ext cx="642960" cy="64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54"/>
          <p:cNvSpPr/>
          <p:nvPr/>
        </p:nvSpPr>
        <p:spPr>
          <a:xfrm>
            <a:off x="6080040" y="2546280"/>
            <a:ext cx="3571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55" descr=""/>
          <p:cNvPicPr/>
          <p:nvPr/>
        </p:nvPicPr>
        <p:blipFill>
          <a:blip r:embed="rId12"/>
          <a:stretch/>
        </p:blipFill>
        <p:spPr>
          <a:xfrm>
            <a:off x="3387600" y="3625920"/>
            <a:ext cx="541440" cy="5000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56" descr=""/>
          <p:cNvPicPr/>
          <p:nvPr/>
        </p:nvPicPr>
        <p:blipFill>
          <a:blip r:embed="rId13"/>
          <a:stretch/>
        </p:blipFill>
        <p:spPr>
          <a:xfrm>
            <a:off x="4786200" y="3983040"/>
            <a:ext cx="233640" cy="2142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57" descr=""/>
          <p:cNvPicPr/>
          <p:nvPr/>
        </p:nvPicPr>
        <p:blipFill>
          <a:blip r:embed="rId14"/>
          <a:stretch/>
        </p:blipFill>
        <p:spPr>
          <a:xfrm>
            <a:off x="4214880" y="4197240"/>
            <a:ext cx="357120" cy="33048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58" descr=""/>
          <p:cNvPicPr/>
          <p:nvPr/>
        </p:nvPicPr>
        <p:blipFill>
          <a:blip r:embed="rId15"/>
          <a:stretch/>
        </p:blipFill>
        <p:spPr>
          <a:xfrm>
            <a:off x="2286000" y="377820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59" descr=""/>
          <p:cNvPicPr/>
          <p:nvPr/>
        </p:nvPicPr>
        <p:blipFill>
          <a:blip r:embed="rId16"/>
          <a:stretch/>
        </p:blipFill>
        <p:spPr>
          <a:xfrm>
            <a:off x="3500280" y="4135320"/>
            <a:ext cx="357480" cy="3304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60" descr=""/>
          <p:cNvPicPr/>
          <p:nvPr/>
        </p:nvPicPr>
        <p:blipFill>
          <a:blip r:embed="rId17"/>
          <a:stretch/>
        </p:blipFill>
        <p:spPr>
          <a:xfrm>
            <a:off x="2928960" y="4349880"/>
            <a:ext cx="298440" cy="27612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61" descr=""/>
          <p:cNvPicPr/>
          <p:nvPr/>
        </p:nvPicPr>
        <p:blipFill>
          <a:blip r:embed="rId18"/>
          <a:stretch/>
        </p:blipFill>
        <p:spPr>
          <a:xfrm>
            <a:off x="5357880" y="377820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62" descr=""/>
          <p:cNvPicPr/>
          <p:nvPr/>
        </p:nvPicPr>
        <p:blipFill>
          <a:blip r:embed="rId19"/>
          <a:stretch/>
        </p:blipFill>
        <p:spPr>
          <a:xfrm>
            <a:off x="6572160" y="4135320"/>
            <a:ext cx="453960" cy="41904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63" descr=""/>
          <p:cNvPicPr/>
          <p:nvPr/>
        </p:nvPicPr>
        <p:blipFill>
          <a:blip r:embed="rId20"/>
          <a:stretch/>
        </p:blipFill>
        <p:spPr>
          <a:xfrm>
            <a:off x="6000840" y="4349880"/>
            <a:ext cx="298440" cy="276120"/>
          </a:xfrm>
          <a:prstGeom prst="rect">
            <a:avLst/>
          </a:prstGeom>
          <a:ln w="0">
            <a:noFill/>
          </a:ln>
        </p:spPr>
      </p:pic>
      <p:sp>
        <p:nvSpPr>
          <p:cNvPr id="846" name="矩形 64"/>
          <p:cNvSpPr/>
          <p:nvPr/>
        </p:nvSpPr>
        <p:spPr>
          <a:xfrm rot="21048600">
            <a:off x="8820000" y="915840"/>
            <a:ext cx="305604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983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985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987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989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991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993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6" presetSubtype="37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3753E-006 C 0.00452 -0.00475 0.00903 -0.00917 0.01511 -0.02919 C 0.02118 -0.04921 0.02188 -0.08178 0.03681 -0.12047 C 0.05174 -0.15915 0.0783 -0.21005 0.10504 -0.26061 E">
                                      <p:cBhvr>
                                        <p:cTn id="1002" dur="2000" fill="hold"/>
                                        <p:tgtEl>
                                          <p:spTgt spid="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008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3.25416E-006 C 0.00452 -0.00475 0.00434 0.01764 0.01511 -0.02919 C 0.02587 -0.07601 0.04271 -0.22566 0.06459 -0.28131 C 0.08646 -0.33696 0.12934 -0.34578 0.14636 -0.36275 E">
                                      <p:cBhvr>
                                        <p:cTn id="1014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-4.11944E-006 C 0.00452 -0.00475 0.0073 -0.00441 0.01511 -0.02918 C 0.02292 -0.05395 0.04549 -0.10722 0.04723 -0.1493 C 0.04896 -0.19138 0.03004 -0.25483 0.02553 -0.28266 E">
                                      <p:cBhvr>
                                        <p:cTn id="1020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026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-2.24635E-006 C 0.00451 -0.00475 0.0118 0.01425 0.0151 -0.02918 C 0.0184 -0.07261 0.01441 -0.19511 0.02031 -0.26162 C 0.02621 -0.32813 0.04392 -0.39328 0.05017 -0.42789 E">
                                      <p:cBhvr>
                                        <p:cTn id="1032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3753E-006 C 0.00452 -0.00475 0.00903 -0.00917 0.01511 -0.02919 C 0.02118 -0.04921 0.02188 -0.08178 0.03681 -0.12047 C 0.05174 -0.15915 0.0783 -0.21005 0.10504 -0.26061 E">
                                      <p:cBhvr>
                                        <p:cTn id="1038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044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-2.24635E-006 C 0.00452 -0.00475 0.00434 0.01765 0.01511 -0.02918 C 0.02587 -0.07601 0.05799 -0.21174 0.06459 -0.2813 C 0.07119 -0.35086 0.05643 -0.41262 0.05434 -0.44723 E">
                                      <p:cBhvr>
                                        <p:cTn id="1050" dur="2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5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1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5002E-006 L 0 0.1691 E">
                                      <p:cBhvr>
                                        <p:cTn id="1080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986 0.19206 L 0.23993 -0.05226 E">
                                      <p:cBhvr>
                                        <p:cTn id="1111" dur="5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49 0.11707 L 0.16164 -0.05226 E">
                                      <p:cBhvr>
                                        <p:cTn id="1113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514 0.05192 L 0.08837 -0.04886 E">
                                      <p:cBhvr>
                                        <p:cTn id="1115" dur="5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67 -0.07499 L -0.11666 0.03563 E">
                                      <p:cBhvr>
                                        <p:cTn id="1117" dur="5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-0.13336 L -0.19496 0.04581 E">
                                      <p:cBhvr>
                                        <p:cTn id="1119" dur="5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83 -0.22464 L -0.29167 0.03902 E">
                                      <p:cBhvr>
                                        <p:cTn id="1121" dur="5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1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4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0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1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1.35451 -0.5854 E">
                                      <p:cBhvr>
                                        <p:cTn id="1145" dur="2000" fill="hold"/>
                                        <p:tgtEl>
                                          <p:spTgt spid="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矩形 1"/>
          <p:cNvSpPr/>
          <p:nvPr/>
        </p:nvSpPr>
        <p:spPr>
          <a:xfrm>
            <a:off x="0" y="3125880"/>
            <a:ext cx="9144000" cy="155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71"/>
          <p:cNvSpPr/>
          <p:nvPr/>
        </p:nvSpPr>
        <p:spPr>
          <a:xfrm>
            <a:off x="5143680" y="1482840"/>
            <a:ext cx="2357280" cy="235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73"/>
          <p:cNvSpPr/>
          <p:nvPr/>
        </p:nvSpPr>
        <p:spPr>
          <a:xfrm>
            <a:off x="6143760" y="2482920"/>
            <a:ext cx="357120" cy="357120"/>
          </a:xfrm>
          <a:prstGeom prst="ellipse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51" descr=""/>
          <p:cNvPicPr/>
          <p:nvPr/>
        </p:nvPicPr>
        <p:blipFill>
          <a:blip r:embed="rId1"/>
          <a:stretch/>
        </p:blipFill>
        <p:spPr>
          <a:xfrm>
            <a:off x="5357880" y="2482920"/>
            <a:ext cx="84132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Group 6"/>
          <p:cNvGrpSpPr/>
          <p:nvPr/>
        </p:nvGrpSpPr>
        <p:grpSpPr>
          <a:xfrm>
            <a:off x="6694920" y="2894040"/>
            <a:ext cx="136080" cy="133920"/>
            <a:chOff x="6694920" y="2894040"/>
            <a:chExt cx="136080" cy="133920"/>
          </a:xfrm>
        </p:grpSpPr>
        <p:grpSp>
          <p:nvGrpSpPr>
            <p:cNvPr id="852" name="Group 7"/>
            <p:cNvGrpSpPr/>
            <p:nvPr/>
          </p:nvGrpSpPr>
          <p:grpSpPr>
            <a:xfrm>
              <a:off x="6694920" y="2894040"/>
              <a:ext cx="136080" cy="133920"/>
              <a:chOff x="6694920" y="2894040"/>
              <a:chExt cx="136080" cy="133920"/>
            </a:xfrm>
          </p:grpSpPr>
          <p:sp>
            <p:nvSpPr>
              <p:cNvPr id="853" name="椭圆 118"/>
              <p:cNvSpPr/>
              <p:nvPr/>
            </p:nvSpPr>
            <p:spPr>
              <a:xfrm rot="223200">
                <a:off x="6698880" y="2898000"/>
                <a:ext cx="128160" cy="126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4" name="矩形 50"/>
          <p:cNvSpPr/>
          <p:nvPr/>
        </p:nvSpPr>
        <p:spPr>
          <a:xfrm>
            <a:off x="5572080" y="1473120"/>
            <a:ext cx="37828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19"/>
          <p:cNvGrpSpPr/>
          <p:nvPr/>
        </p:nvGrpSpPr>
        <p:grpSpPr>
          <a:xfrm>
            <a:off x="0" y="-298440"/>
            <a:ext cx="9144000" cy="1641600"/>
            <a:chOff x="0" y="-298440"/>
            <a:chExt cx="9144000" cy="1641600"/>
          </a:xfrm>
        </p:grpSpPr>
        <p:pic>
          <p:nvPicPr>
            <p:cNvPr id="856" name="图片 100" descr=""/>
            <p:cNvPicPr/>
            <p:nvPr/>
          </p:nvPicPr>
          <p:blipFill>
            <a:blip r:embed="rId2"/>
            <a:stretch/>
          </p:blipFill>
          <p:spPr>
            <a:xfrm>
              <a:off x="0" y="3960"/>
              <a:ext cx="182232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图片 101" descr=""/>
            <p:cNvPicPr/>
            <p:nvPr/>
          </p:nvPicPr>
          <p:blipFill>
            <a:blip r:embed="rId3"/>
            <a:stretch/>
          </p:blipFill>
          <p:spPr>
            <a:xfrm>
              <a:off x="571320" y="485640"/>
              <a:ext cx="182844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图片 102" descr=""/>
            <p:cNvPicPr/>
            <p:nvPr/>
          </p:nvPicPr>
          <p:blipFill>
            <a:blip r:embed="rId4"/>
            <a:stretch/>
          </p:blipFill>
          <p:spPr>
            <a:xfrm>
              <a:off x="2286000" y="3960"/>
              <a:ext cx="1822320" cy="8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图片 103" descr=""/>
            <p:cNvPicPr/>
            <p:nvPr/>
          </p:nvPicPr>
          <p:blipFill>
            <a:blip r:embed="rId5"/>
            <a:stretch/>
          </p:blipFill>
          <p:spPr>
            <a:xfrm>
              <a:off x="4000320" y="-298440"/>
              <a:ext cx="1071360" cy="13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图片 104" descr=""/>
            <p:cNvPicPr/>
            <p:nvPr/>
          </p:nvPicPr>
          <p:blipFill>
            <a:blip r:embed="rId6"/>
            <a:stretch/>
          </p:blipFill>
          <p:spPr>
            <a:xfrm>
              <a:off x="5607000" y="3960"/>
              <a:ext cx="3537000" cy="85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862" name="Group 2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863" name="Group 2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pic>
        <p:nvPicPr>
          <p:cNvPr id="864" name="图片 70" descr=""/>
          <p:cNvPicPr/>
          <p:nvPr/>
        </p:nvPicPr>
        <p:blipFill>
          <a:blip r:embed="rId7"/>
          <a:stretch/>
        </p:blipFill>
        <p:spPr>
          <a:xfrm>
            <a:off x="5580000" y="-744480"/>
            <a:ext cx="4349880" cy="5424480"/>
          </a:xfrm>
          <a:prstGeom prst="rect">
            <a:avLst/>
          </a:prstGeom>
          <a:ln w="0">
            <a:noFill/>
          </a:ln>
        </p:spPr>
      </p:pic>
      <p:sp>
        <p:nvSpPr>
          <p:cNvPr id="865" name="TextBox 72"/>
          <p:cNvSpPr/>
          <p:nvPr/>
        </p:nvSpPr>
        <p:spPr>
          <a:xfrm>
            <a:off x="1745280" y="33984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永远不要放弃你的梦想，这是你生命航行的力量之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0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6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3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9694E-006 L 1.66667E-006 0.73972 E">
                                      <p:cBhvr>
                                        <p:cTn id="1171" dur="3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3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3" dur="2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6" nodeType="afterEffect" fill="hold" presetClass="entr" presetID="11" repeatCount="15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74255E-006 L -0.13975 4.74255E-006 E">
                                      <p:cBhvr>
                                        <p:cTn id="1189" dur="8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13385 0 E">
                                      <p:cBhvr>
                                        <p:cTn id="1191" dur="7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1.13385 0 E">
                                      <p:cBhvr>
                                        <p:cTn id="1193" dur="7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6" dur="2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0" dur="2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9144000" cy="4678200"/>
            <a:chOff x="0" y="0"/>
            <a:chExt cx="9144000" cy="4678200"/>
          </a:xfrm>
        </p:grpSpPr>
        <p:grpSp>
          <p:nvGrpSpPr>
            <p:cNvPr id="562" name="Group 3"/>
            <p:cNvGrpSpPr/>
            <p:nvPr/>
          </p:nvGrpSpPr>
          <p:grpSpPr>
            <a:xfrm>
              <a:off x="0" y="0"/>
              <a:ext cx="9144000" cy="4678200"/>
              <a:chOff x="0" y="0"/>
              <a:chExt cx="9144000" cy="4678200"/>
            </a:xfrm>
          </p:grpSpPr>
          <p:grpSp>
            <p:nvGrpSpPr>
              <p:cNvPr id="563" name="Group 4"/>
              <p:cNvGrpSpPr/>
              <p:nvPr/>
            </p:nvGrpSpPr>
            <p:grpSpPr>
              <a:xfrm>
                <a:off x="0" y="1800"/>
                <a:ext cx="9144000" cy="4676400"/>
                <a:chOff x="0" y="1800"/>
                <a:chExt cx="9144000" cy="4676400"/>
              </a:xfrm>
            </p:grpSpPr>
            <p:pic>
              <p:nvPicPr>
                <p:cNvPr id="564" name="图片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1800"/>
                  <a:ext cx="9144000" cy="467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图片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58800" y="2697120"/>
                  <a:ext cx="29016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图片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71000" y="2768760"/>
                  <a:ext cx="460440" cy="100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图片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8320" y="2554200"/>
                  <a:ext cx="5029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68" name="Group 9"/>
                <p:cNvGrpSpPr/>
                <p:nvPr/>
              </p:nvGrpSpPr>
              <p:grpSpPr>
                <a:xfrm>
                  <a:off x="3784320" y="410760"/>
                  <a:ext cx="1430280" cy="1430280"/>
                  <a:chOff x="3784320" y="410760"/>
                  <a:chExt cx="1430280" cy="1430280"/>
                </a:xfrm>
              </p:grpSpPr>
              <p:sp>
                <p:nvSpPr>
                  <p:cNvPr id="569" name="直接连接符 19"/>
                  <p:cNvSpPr/>
                  <p:nvPr/>
                </p:nvSpPr>
                <p:spPr>
                  <a:xfrm>
                    <a:off x="3785040" y="410760"/>
                    <a:ext cx="1428840" cy="14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直接连接符 20"/>
                  <p:cNvSpPr/>
                  <p:nvPr/>
                </p:nvSpPr>
                <p:spPr>
                  <a:xfrm flipH="1">
                    <a:off x="5213160" y="411480"/>
                    <a:ext cx="1440" cy="14288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直接连接符 21"/>
                  <p:cNvSpPr/>
                  <p:nvPr/>
                </p:nvSpPr>
                <p:spPr>
                  <a:xfrm flipH="1" flipV="1">
                    <a:off x="3784680" y="1839600"/>
                    <a:ext cx="1428840" cy="14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直接连接符 22"/>
                  <p:cNvSpPr/>
                  <p:nvPr/>
                </p:nvSpPr>
                <p:spPr>
                  <a:xfrm flipH="1">
                    <a:off x="3784320" y="411480"/>
                    <a:ext cx="1440" cy="14288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Group 14"/>
              <p:cNvGrpSpPr/>
              <p:nvPr/>
            </p:nvGrpSpPr>
            <p:grpSpPr>
              <a:xfrm>
                <a:off x="3786120" y="0"/>
                <a:ext cx="1506240" cy="2054160"/>
                <a:chOff x="3786120" y="0"/>
                <a:chExt cx="1506240" cy="2054160"/>
              </a:xfrm>
            </p:grpSpPr>
            <p:pic>
              <p:nvPicPr>
                <p:cNvPr id="574" name="图片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77720" y="0"/>
                  <a:ext cx="1214640" cy="205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图片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86120" y="419400"/>
                  <a:ext cx="505800" cy="103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576" name="图片 25" descr=""/>
            <p:cNvPicPr/>
            <p:nvPr/>
          </p:nvPicPr>
          <p:blipFill>
            <a:blip r:embed="rId7"/>
            <a:stretch/>
          </p:blipFill>
          <p:spPr>
            <a:xfrm>
              <a:off x="2857320" y="2697120"/>
              <a:ext cx="79380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图片 26" descr=""/>
            <p:cNvPicPr/>
            <p:nvPr/>
          </p:nvPicPr>
          <p:blipFill>
            <a:blip r:embed="rId8"/>
            <a:stretch/>
          </p:blipFill>
          <p:spPr>
            <a:xfrm>
              <a:off x="4857840" y="2492640"/>
              <a:ext cx="512640" cy="1638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" fill="hold"/>
                                        <p:tgtEl>
                                          <p:spTgt spid="5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1000" fill="hold"/>
                                        <p:tgtEl>
                                          <p:spTgt spid="56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椭圆 1"/>
          <p:cNvSpPr/>
          <p:nvPr/>
        </p:nvSpPr>
        <p:spPr>
          <a:xfrm>
            <a:off x="3071880" y="20239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"/>
          <p:cNvSpPr/>
          <p:nvPr/>
        </p:nvSpPr>
        <p:spPr>
          <a:xfrm>
            <a:off x="3714840" y="23097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3"/>
          <p:cNvSpPr/>
          <p:nvPr/>
        </p:nvSpPr>
        <p:spPr>
          <a:xfrm>
            <a:off x="3286080" y="27385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4"/>
          <p:cNvSpPr/>
          <p:nvPr/>
        </p:nvSpPr>
        <p:spPr>
          <a:xfrm>
            <a:off x="4071960" y="30956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5"/>
          <p:cNvSpPr/>
          <p:nvPr/>
        </p:nvSpPr>
        <p:spPr>
          <a:xfrm>
            <a:off x="4286160" y="21668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6"/>
          <p:cNvSpPr/>
          <p:nvPr/>
        </p:nvSpPr>
        <p:spPr>
          <a:xfrm>
            <a:off x="3571920" y="30243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367"/>
          <p:cNvSpPr/>
          <p:nvPr/>
        </p:nvSpPr>
        <p:spPr>
          <a:xfrm rot="20617800">
            <a:off x="9144000" y="1554120"/>
            <a:ext cx="103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366"/>
          <p:cNvSpPr/>
          <p:nvPr/>
        </p:nvSpPr>
        <p:spPr>
          <a:xfrm>
            <a:off x="1501200" y="482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人生路，留下了你无数足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图片 1368" descr=""/>
          <p:cNvPicPr/>
          <p:nvPr/>
        </p:nvPicPr>
        <p:blipFill>
          <a:blip r:embed="rId1"/>
          <a:stretch/>
        </p:blipFill>
        <p:spPr>
          <a:xfrm>
            <a:off x="0" y="3467160"/>
            <a:ext cx="914400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6405E-007 L 2.5E-006 -0.01529 E">
                                      <p:cBhvr>
                                        <p:cTn id="188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6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4.4324E-006 L 0.0717 4.4324E-006 E">
                                      <p:cBhvr>
                                        <p:cTn id="198" dur="5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1" repeatCount="20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4.02377E-006 L -1.0842 -0.20272 E">
                                      <p:cBhvr>
                                        <p:cTn id="202" dur="6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4" dur="6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椭圆 492"/>
          <p:cNvSpPr/>
          <p:nvPr/>
        </p:nvSpPr>
        <p:spPr>
          <a:xfrm>
            <a:off x="157176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493"/>
          <p:cNvSpPr/>
          <p:nvPr/>
        </p:nvSpPr>
        <p:spPr>
          <a:xfrm>
            <a:off x="2071800" y="1268280"/>
            <a:ext cx="1357200" cy="135756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494"/>
          <p:cNvSpPr/>
          <p:nvPr/>
        </p:nvSpPr>
        <p:spPr>
          <a:xfrm>
            <a:off x="257184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522"/>
          <p:cNvSpPr/>
          <p:nvPr/>
        </p:nvSpPr>
        <p:spPr>
          <a:xfrm>
            <a:off x="1285920" y="6253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523"/>
          <p:cNvSpPr/>
          <p:nvPr/>
        </p:nvSpPr>
        <p:spPr>
          <a:xfrm>
            <a:off x="1928880" y="9111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524"/>
          <p:cNvSpPr/>
          <p:nvPr/>
        </p:nvSpPr>
        <p:spPr>
          <a:xfrm>
            <a:off x="1500120" y="13399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525"/>
          <p:cNvSpPr/>
          <p:nvPr/>
        </p:nvSpPr>
        <p:spPr>
          <a:xfrm>
            <a:off x="2286000" y="16970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526"/>
          <p:cNvSpPr/>
          <p:nvPr/>
        </p:nvSpPr>
        <p:spPr>
          <a:xfrm>
            <a:off x="2500200" y="7682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527"/>
          <p:cNvSpPr/>
          <p:nvPr/>
        </p:nvSpPr>
        <p:spPr>
          <a:xfrm>
            <a:off x="1785960" y="16257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1"/>
          <p:cNvGrpSpPr/>
          <p:nvPr/>
        </p:nvGrpSpPr>
        <p:grpSpPr>
          <a:xfrm>
            <a:off x="-3067200" y="-1227240"/>
            <a:ext cx="3067560" cy="1200600"/>
            <a:chOff x="-3067200" y="-1227240"/>
            <a:chExt cx="3067560" cy="1200600"/>
          </a:xfrm>
        </p:grpSpPr>
        <p:grpSp>
          <p:nvGrpSpPr>
            <p:cNvPr id="597" name="Group 12"/>
            <p:cNvGrpSpPr/>
            <p:nvPr/>
          </p:nvGrpSpPr>
          <p:grpSpPr>
            <a:xfrm>
              <a:off x="-3067200" y="-1223280"/>
              <a:ext cx="783360" cy="1196640"/>
              <a:chOff x="-3067200" y="-1223280"/>
              <a:chExt cx="783360" cy="1196640"/>
            </a:xfrm>
          </p:grpSpPr>
          <p:sp>
            <p:nvSpPr>
              <p:cNvPr id="598" name="矩形 666"/>
              <p:cNvSpPr/>
              <p:nvPr/>
            </p:nvSpPr>
            <p:spPr>
              <a:xfrm>
                <a:off x="-3067200" y="-1223280"/>
                <a:ext cx="783360" cy="11966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9" name="Group 1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00" name="Group 1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grpSp>
          <p:nvGrpSpPr>
            <p:cNvPr id="601" name="Group 48"/>
            <p:cNvGrpSpPr/>
            <p:nvPr/>
          </p:nvGrpSpPr>
          <p:grpSpPr>
            <a:xfrm>
              <a:off x="-2068200" y="-1227240"/>
              <a:ext cx="686520" cy="1200240"/>
              <a:chOff x="-2068200" y="-1227240"/>
              <a:chExt cx="686520" cy="1200240"/>
            </a:xfrm>
          </p:grpSpPr>
          <p:sp>
            <p:nvSpPr>
              <p:cNvPr id="602" name="矩形 592"/>
              <p:cNvSpPr/>
              <p:nvPr/>
            </p:nvSpPr>
            <p:spPr>
              <a:xfrm>
                <a:off x="-2068200" y="-1227240"/>
                <a:ext cx="686520" cy="1200240"/>
              </a:xfrm>
              <a:prstGeom prst="rect">
                <a:avLst/>
              </a:prstGeom>
              <a:solidFill>
                <a:srgbClr val="e85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5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604" name="Group 123"/>
            <p:cNvGrpSpPr/>
            <p:nvPr/>
          </p:nvGrpSpPr>
          <p:grpSpPr>
            <a:xfrm>
              <a:off x="-1142640" y="-1227240"/>
              <a:ext cx="1143000" cy="1200240"/>
              <a:chOff x="-1142640" y="-1227240"/>
              <a:chExt cx="1143000" cy="1200240"/>
            </a:xfrm>
          </p:grpSpPr>
          <p:sp>
            <p:nvSpPr>
              <p:cNvPr id="605" name="矩形 532"/>
              <p:cNvSpPr/>
              <p:nvPr/>
            </p:nvSpPr>
            <p:spPr>
              <a:xfrm>
                <a:off x="-1142640" y="-1227240"/>
                <a:ext cx="1143000" cy="1200240"/>
              </a:xfrm>
              <a:prstGeom prst="rect">
                <a:avLst/>
              </a:prstGeom>
              <a:solidFill>
                <a:srgbClr val="5f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2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607" name="Group 184"/>
          <p:cNvGrpSpPr/>
          <p:nvPr/>
        </p:nvGrpSpPr>
        <p:grpSpPr>
          <a:xfrm>
            <a:off x="928800" y="839880"/>
            <a:ext cx="2001600" cy="3044880"/>
            <a:chOff x="928800" y="839880"/>
            <a:chExt cx="2001600" cy="3044880"/>
          </a:xfrm>
        </p:grpSpPr>
        <p:sp>
          <p:nvSpPr>
            <p:cNvPr id="608" name="矩形 702"/>
            <p:cNvSpPr/>
            <p:nvPr/>
          </p:nvSpPr>
          <p:spPr>
            <a:xfrm>
              <a:off x="928800" y="839880"/>
              <a:ext cx="2001600" cy="304488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Group 18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610" name="Group 210"/>
          <p:cNvGrpSpPr/>
          <p:nvPr/>
        </p:nvGrpSpPr>
        <p:grpSpPr>
          <a:xfrm>
            <a:off x="571680" y="728640"/>
            <a:ext cx="6141960" cy="2397240"/>
            <a:chOff x="571680" y="728640"/>
            <a:chExt cx="6141960" cy="2397240"/>
          </a:xfrm>
        </p:grpSpPr>
        <p:grpSp>
          <p:nvGrpSpPr>
            <p:cNvPr id="611" name="Group 211"/>
            <p:cNvGrpSpPr/>
            <p:nvPr/>
          </p:nvGrpSpPr>
          <p:grpSpPr>
            <a:xfrm>
              <a:off x="571680" y="735480"/>
              <a:ext cx="1568880" cy="2390040"/>
              <a:chOff x="571680" y="735480"/>
              <a:chExt cx="1568880" cy="2390040"/>
            </a:xfrm>
          </p:grpSpPr>
          <p:sp>
            <p:nvSpPr>
              <p:cNvPr id="612" name="矩形 865"/>
              <p:cNvSpPr/>
              <p:nvPr/>
            </p:nvSpPr>
            <p:spPr>
              <a:xfrm>
                <a:off x="571680" y="735480"/>
                <a:ext cx="1568880" cy="23900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Group 21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14" name="Group 21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grpSp>
          <p:nvGrpSpPr>
            <p:cNvPr id="615" name="Group 247"/>
            <p:cNvGrpSpPr/>
            <p:nvPr/>
          </p:nvGrpSpPr>
          <p:grpSpPr>
            <a:xfrm>
              <a:off x="2571480" y="728640"/>
              <a:ext cx="1374840" cy="2397240"/>
              <a:chOff x="2571480" y="728640"/>
              <a:chExt cx="1374840" cy="2397240"/>
            </a:xfrm>
          </p:grpSpPr>
          <p:sp>
            <p:nvSpPr>
              <p:cNvPr id="616" name="矩形 791"/>
              <p:cNvSpPr/>
              <p:nvPr/>
            </p:nvSpPr>
            <p:spPr>
              <a:xfrm>
                <a:off x="2571480" y="728640"/>
                <a:ext cx="1374840" cy="2397240"/>
              </a:xfrm>
              <a:prstGeom prst="rect">
                <a:avLst/>
              </a:prstGeom>
              <a:solidFill>
                <a:srgbClr val="e85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Group 24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618" name="Group 322"/>
            <p:cNvGrpSpPr/>
            <p:nvPr/>
          </p:nvGrpSpPr>
          <p:grpSpPr>
            <a:xfrm>
              <a:off x="4424760" y="728640"/>
              <a:ext cx="2288880" cy="2397240"/>
              <a:chOff x="4424760" y="728640"/>
              <a:chExt cx="2288880" cy="2397240"/>
            </a:xfrm>
          </p:grpSpPr>
          <p:sp>
            <p:nvSpPr>
              <p:cNvPr id="619" name="矩形 731"/>
              <p:cNvSpPr/>
              <p:nvPr/>
            </p:nvSpPr>
            <p:spPr>
              <a:xfrm>
                <a:off x="4424760" y="728640"/>
                <a:ext cx="2288880" cy="2397240"/>
              </a:xfrm>
              <a:prstGeom prst="rect">
                <a:avLst/>
              </a:prstGeom>
              <a:solidFill>
                <a:srgbClr val="5f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3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621" name="Group 383"/>
          <p:cNvGrpSpPr/>
          <p:nvPr/>
        </p:nvGrpSpPr>
        <p:grpSpPr>
          <a:xfrm>
            <a:off x="7143840" y="674640"/>
            <a:ext cx="1000080" cy="1522440"/>
            <a:chOff x="7143840" y="674640"/>
            <a:chExt cx="1000080" cy="1522440"/>
          </a:xfrm>
        </p:grpSpPr>
        <p:sp>
          <p:nvSpPr>
            <p:cNvPr id="622" name="矩形 901"/>
            <p:cNvSpPr/>
            <p:nvPr/>
          </p:nvSpPr>
          <p:spPr>
            <a:xfrm>
              <a:off x="7143840" y="674640"/>
              <a:ext cx="1000080" cy="152244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38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624" name="TextBox 926"/>
          <p:cNvSpPr/>
          <p:nvPr/>
        </p:nvSpPr>
        <p:spPr>
          <a:xfrm>
            <a:off x="4785840" y="4111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我们来到这世界，就开始了人生旅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927"/>
          <p:cNvSpPr/>
          <p:nvPr/>
        </p:nvSpPr>
        <p:spPr>
          <a:xfrm>
            <a:off x="4281840" y="3983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或独自前行，或引领时尚，或牵手而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1"/>
                            </p:stCondLst>
                            <p:childTnLst>
                              <p:par>
                                <p:cTn id="31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6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601"/>
                            </p:stCondLst>
                            <p:childTnLst>
                              <p:par>
                                <p:cTn id="375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691 -4.76756E-006 L -0.00521 -4.76756E-006 E">
                                      <p:cBhvr>
                                        <p:cTn id="376" dur="3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5935E-006 L 0.24965 -0.00475 E">
                                      <p:cBhvr>
                                        <p:cTn id="378" dur="3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601"/>
                            </p:stCondLst>
                            <p:childTnLst>
                              <p:par>
                                <p:cTn id="380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5 -0.00475 L 0.6276 -0.35807 E">
                                      <p:cBhvr>
                                        <p:cTn id="389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1003E-008 C 0.00312 0.02033 0.00625 0.04065 0.0125 0.07351 C 0.01875 0.10569 0.025 0.14973 0.0375 0.19512 C 0.05 0.24051 0.06944 0.30081 0.08767 0.34553 C 0.10555 0.39024 0.12673 0.42818 0.14583 0.46341 C 0.16493 0.49864 0.17951 0.53117 0.20208 0.55691 C 0.22465 0.58266 0.24896 0.60163 0.28125 0.61789 C 0.31354 0.63415 0.34739 0.64736 0.39583 0.65447 C 0.44427 0.66159 0.53541 0.65888 0.57205 0.66023 E">
                                      <p:cBhvr>
                                        <p:cTn id="395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7601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" dur="1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701"/>
                            </p:stCondLst>
                            <p:childTnLst>
                              <p:par>
                                <p:cTn id="410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97421E-007 L 0.03143 7.97421E-007 E">
                                      <p:cBhvr>
                                        <p:cTn id="411" dur="3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6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4.4324E-006 L 0.0717 4.4324E-006 E">
                                      <p:cBhvr>
                                        <p:cTn id="421" dur="5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3701"/>
                            </p:stCondLst>
                            <p:childTnLst>
                              <p:par>
                                <p:cTn id="423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42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71560" y="128160"/>
            <a:ext cx="560088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5680" y="866520"/>
            <a:ext cx="609264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6424560" y="227160"/>
            <a:ext cx="947880" cy="23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图片 409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  <p:sp>
        <p:nvSpPr>
          <p:cNvPr id="630" name="椭圆 8"/>
          <p:cNvSpPr/>
          <p:nvPr/>
        </p:nvSpPr>
        <p:spPr>
          <a:xfrm>
            <a:off x="-2066760" y="-8287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9"/>
          <p:cNvSpPr/>
          <p:nvPr/>
        </p:nvSpPr>
        <p:spPr>
          <a:xfrm>
            <a:off x="-1424160" y="-542880"/>
            <a:ext cx="5018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10"/>
          <p:cNvSpPr/>
          <p:nvPr/>
        </p:nvSpPr>
        <p:spPr>
          <a:xfrm>
            <a:off x="-1852560" y="-114480"/>
            <a:ext cx="358560" cy="3524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11"/>
          <p:cNvSpPr/>
          <p:nvPr/>
        </p:nvSpPr>
        <p:spPr>
          <a:xfrm>
            <a:off x="-1066680" y="23796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椭圆 12"/>
          <p:cNvSpPr/>
          <p:nvPr/>
        </p:nvSpPr>
        <p:spPr>
          <a:xfrm>
            <a:off x="-852480" y="-685800"/>
            <a:ext cx="64440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13"/>
          <p:cNvSpPr/>
          <p:nvPr/>
        </p:nvSpPr>
        <p:spPr>
          <a:xfrm>
            <a:off x="-1566720" y="166680"/>
            <a:ext cx="50148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436" dur="1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438" dur="1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440" dur="1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442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444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446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3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图片 11" descr=""/>
          <p:cNvPicPr/>
          <p:nvPr/>
        </p:nvPicPr>
        <p:blipFill>
          <a:blip r:embed="rId1"/>
          <a:stretch/>
        </p:blipFill>
        <p:spPr>
          <a:xfrm flipH="1" rot="15752400">
            <a:off x="5720400" y="-2438280"/>
            <a:ext cx="1949400" cy="468000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3"/>
          <p:cNvGrpSpPr/>
          <p:nvPr/>
        </p:nvGrpSpPr>
        <p:grpSpPr>
          <a:xfrm>
            <a:off x="2122200" y="828000"/>
            <a:ext cx="4736160" cy="2585520"/>
            <a:chOff x="2122200" y="828000"/>
            <a:chExt cx="4736160" cy="2585520"/>
          </a:xfrm>
        </p:grpSpPr>
        <p:grpSp>
          <p:nvGrpSpPr>
            <p:cNvPr id="638" name="Group 4"/>
            <p:cNvGrpSpPr/>
            <p:nvPr/>
          </p:nvGrpSpPr>
          <p:grpSpPr>
            <a:xfrm>
              <a:off x="2122200" y="828000"/>
              <a:ext cx="4736160" cy="2585520"/>
              <a:chOff x="2122200" y="828000"/>
              <a:chExt cx="4736160" cy="2585520"/>
            </a:xfrm>
          </p:grpSpPr>
          <p:grpSp>
            <p:nvGrpSpPr>
              <p:cNvPr id="639" name="Group 5"/>
              <p:cNvGrpSpPr/>
              <p:nvPr/>
            </p:nvGrpSpPr>
            <p:grpSpPr>
              <a:xfrm>
                <a:off x="4500000" y="840960"/>
                <a:ext cx="1440" cy="2572560"/>
                <a:chOff x="4500000" y="840960"/>
                <a:chExt cx="1440" cy="2572560"/>
              </a:xfrm>
            </p:grpSpPr>
            <p:sp>
              <p:nvSpPr>
                <p:cNvPr id="640" name="直接连接符 49"/>
                <p:cNvSpPr/>
                <p:nvPr/>
              </p:nvSpPr>
              <p:spPr>
                <a:xfrm flipH="1">
                  <a:off x="4500000" y="840960"/>
                  <a:ext cx="1440" cy="2572560"/>
                </a:xfrm>
                <a:prstGeom prst="line">
                  <a:avLst/>
                </a:prstGeom>
                <a:ln w="190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直接连接符 5"/>
              <p:cNvSpPr/>
              <p:nvPr/>
            </p:nvSpPr>
            <p:spPr>
              <a:xfrm>
                <a:off x="6422760" y="828000"/>
                <a:ext cx="435600" cy="2580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直接连接符 47"/>
              <p:cNvSpPr/>
              <p:nvPr/>
            </p:nvSpPr>
            <p:spPr>
              <a:xfrm flipH="1">
                <a:off x="2122200" y="828000"/>
                <a:ext cx="480600" cy="256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椭圆 68"/>
          <p:cNvSpPr/>
          <p:nvPr/>
        </p:nvSpPr>
        <p:spPr>
          <a:xfrm>
            <a:off x="2357280" y="1839960"/>
            <a:ext cx="500400" cy="500040"/>
          </a:xfrm>
          <a:prstGeom prst="ellipse">
            <a:avLst/>
          </a:prstGeom>
          <a:solidFill>
            <a:srgbClr val="77933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69"/>
          <p:cNvSpPr/>
          <p:nvPr/>
        </p:nvSpPr>
        <p:spPr>
          <a:xfrm>
            <a:off x="2643120" y="2411280"/>
            <a:ext cx="500040" cy="500040"/>
          </a:xfrm>
          <a:prstGeom prst="ellipse">
            <a:avLst/>
          </a:prstGeom>
          <a:solidFill>
            <a:srgbClr val="b3a2c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70"/>
          <p:cNvSpPr/>
          <p:nvPr/>
        </p:nvSpPr>
        <p:spPr>
          <a:xfrm>
            <a:off x="2928960" y="1625760"/>
            <a:ext cx="642960" cy="642600"/>
          </a:xfrm>
          <a:prstGeom prst="ellipse">
            <a:avLst/>
          </a:prstGeom>
          <a:solidFill>
            <a:srgbClr val="f2a4e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6"/>
          <p:cNvGrpSpPr/>
          <p:nvPr/>
        </p:nvGrpSpPr>
        <p:grpSpPr>
          <a:xfrm>
            <a:off x="2122200" y="827640"/>
            <a:ext cx="4736160" cy="2584080"/>
            <a:chOff x="2122200" y="827640"/>
            <a:chExt cx="4736160" cy="2584080"/>
          </a:xfrm>
        </p:grpSpPr>
        <p:grpSp>
          <p:nvGrpSpPr>
            <p:cNvPr id="647" name="Group 7"/>
            <p:cNvGrpSpPr/>
            <p:nvPr/>
          </p:nvGrpSpPr>
          <p:grpSpPr>
            <a:xfrm>
              <a:off x="4500000" y="840600"/>
              <a:ext cx="1440" cy="2571120"/>
              <a:chOff x="4500000" y="840600"/>
              <a:chExt cx="1440" cy="2571120"/>
            </a:xfrm>
          </p:grpSpPr>
          <p:sp>
            <p:nvSpPr>
              <p:cNvPr id="648" name="直接连接符 97"/>
              <p:cNvSpPr/>
              <p:nvPr/>
            </p:nvSpPr>
            <p:spPr>
              <a:xfrm flipH="1">
                <a:off x="4500000" y="840600"/>
                <a:ext cx="1440" cy="2571120"/>
              </a:xfrm>
              <a:prstGeom prst="line">
                <a:avLst/>
              </a:prstGeom>
              <a:ln w="190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直接连接符 94"/>
            <p:cNvSpPr/>
            <p:nvPr/>
          </p:nvSpPr>
          <p:spPr>
            <a:xfrm>
              <a:off x="6422760" y="827640"/>
              <a:ext cx="435600" cy="257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95"/>
            <p:cNvSpPr/>
            <p:nvPr/>
          </p:nvSpPr>
          <p:spPr>
            <a:xfrm flipH="1">
              <a:off x="2122200" y="827640"/>
              <a:ext cx="480600" cy="2568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直接连接符 111"/>
          <p:cNvSpPr/>
          <p:nvPr/>
        </p:nvSpPr>
        <p:spPr>
          <a:xfrm flipH="1">
            <a:off x="4473720" y="785880"/>
            <a:ext cx="33120" cy="263196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3" name="直接连接符 119"/>
          <p:cNvSpPr/>
          <p:nvPr/>
        </p:nvSpPr>
        <p:spPr>
          <a:xfrm>
            <a:off x="4500720" y="3429000"/>
            <a:ext cx="4680" cy="12528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55" name="Group 2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56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57" name="Group 3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58" name="Group 3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9" name="椭圆 216"/>
          <p:cNvSpPr/>
          <p:nvPr/>
        </p:nvSpPr>
        <p:spPr>
          <a:xfrm>
            <a:off x="9644040" y="348300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217"/>
          <p:cNvSpPr/>
          <p:nvPr/>
        </p:nvSpPr>
        <p:spPr>
          <a:xfrm>
            <a:off x="10001160" y="29829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218"/>
          <p:cNvSpPr/>
          <p:nvPr/>
        </p:nvSpPr>
        <p:spPr>
          <a:xfrm>
            <a:off x="9715680" y="398304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219"/>
          <p:cNvSpPr/>
          <p:nvPr/>
        </p:nvSpPr>
        <p:spPr>
          <a:xfrm>
            <a:off x="10287000" y="44528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220"/>
          <p:cNvSpPr/>
          <p:nvPr/>
        </p:nvSpPr>
        <p:spPr>
          <a:xfrm>
            <a:off x="10429920" y="312588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221"/>
          <p:cNvSpPr/>
          <p:nvPr/>
        </p:nvSpPr>
        <p:spPr>
          <a:xfrm>
            <a:off x="9786960" y="43815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47"/>
          <p:cNvGrpSpPr/>
          <p:nvPr/>
        </p:nvGrpSpPr>
        <p:grpSpPr>
          <a:xfrm>
            <a:off x="2714760" y="1268280"/>
            <a:ext cx="1511280" cy="1667160"/>
            <a:chOff x="2714760" y="1268280"/>
            <a:chExt cx="1511280" cy="1667160"/>
          </a:xfrm>
        </p:grpSpPr>
        <p:grpSp>
          <p:nvGrpSpPr>
            <p:cNvPr id="666" name="Group 48"/>
            <p:cNvGrpSpPr/>
            <p:nvPr/>
          </p:nvGrpSpPr>
          <p:grpSpPr>
            <a:xfrm>
              <a:off x="3686400" y="1434600"/>
              <a:ext cx="428400" cy="428760"/>
              <a:chOff x="3686400" y="1434600"/>
              <a:chExt cx="428400" cy="428760"/>
            </a:xfrm>
          </p:grpSpPr>
          <p:sp>
            <p:nvSpPr>
              <p:cNvPr id="667" name="椭圆 225"/>
              <p:cNvSpPr/>
              <p:nvPr/>
            </p:nvSpPr>
            <p:spPr>
              <a:xfrm>
                <a:off x="3686400" y="1434600"/>
                <a:ext cx="428400" cy="4287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5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69" name="Group 5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670" name="Group 6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671" name="矩形 224"/>
            <p:cNvSpPr/>
            <p:nvPr/>
          </p:nvSpPr>
          <p:spPr>
            <a:xfrm>
              <a:off x="2714760" y="1268280"/>
              <a:ext cx="1511280" cy="16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2" name="图片 240" descr=""/>
          <p:cNvPicPr/>
          <p:nvPr/>
        </p:nvPicPr>
        <p:blipFill>
          <a:blip r:embed="rId1"/>
          <a:stretch/>
        </p:blipFill>
        <p:spPr>
          <a:xfrm>
            <a:off x="1571760" y="1697040"/>
            <a:ext cx="4143240" cy="51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476" dur="1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478" dur="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480" dur="1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277 -0.00509 C -0.06841 0.0078 -0.13386 0.02068 -0.19167 0.01051 C -0.24948 0.00034 -0.29289 -0.03052 -0.34931 -0.06646 C -0.40573 -0.10241 -0.47535 -0.14073 -0.53039 -0.20482 C -0.58542 -0.26891 -0.63282 -0.36114 -0.68004 -0.451 C -0.72726 -0.54086 -0.74827 -0.62021 -0.81389 -0.7433 C -0.87952 -0.8664 -1.01337 -1.07392 -1.07379 -1.18888 C -1.13421 -1.30451 -1.15764 -1.392 -1.17605 -1.4354 E">
                                      <p:cBhvr>
                                        <p:cTn id="482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484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486" dur="1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601"/>
                            </p:stCondLst>
                            <p:childTnLst>
                              <p:par>
                                <p:cTn id="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22034E-006 C -0.02986 -0.0722 -0.04809 -0.17254 -0.08489 -0.16271 C -0.1217 -0.15288 -0.16892 0.03831 -0.22083 0.05899 C -0.27274 0.07966 -0.35989 -0.0183 -0.3967 -0.03864 E">
                                      <p:cBhvr>
                                        <p:cTn id="509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69492E-006 C -0.02292 -0.01152 -0.04045 -0.03017 -0.07014 -0.06847 C -0.09983 -0.10678 -0.13316 -0.19457 -0.17813 -0.23051 C -0.22309 -0.26644 -0.3066 -0.27322 -0.34028 -0.28441 E">
                                      <p:cBhvr>
                                        <p:cTn id="511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4.40678E-006 C -0.0408 -0.01899 -0.08125 -0.03797 -0.10833 -0.06848 C -0.13594 -0.09899 -0.1474 -0.15322 -0.1651 -0.18272 C -0.18281 -0.21221 -0.18472 -0.23017 -0.21458 -0.24509 C -0.24444 -0.26 -0.31684 -0.26645 -0.34392 -0.27187 E">
                                      <p:cBhvr>
                                        <p:cTn id="51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5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302"/>
                            </p:stCondLst>
                            <p:childTnLst>
                              <p:par>
                                <p:cTn id="5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802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302"/>
                            </p:stCondLst>
                            <p:childTnLst>
                              <p:par>
                                <p:cTn id="5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248"/>
          <p:cNvSpPr/>
          <p:nvPr/>
        </p:nvSpPr>
        <p:spPr>
          <a:xfrm>
            <a:off x="0" y="2625840"/>
            <a:ext cx="22986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928800" y="-1677960"/>
            <a:ext cx="1511280" cy="1668600"/>
            <a:chOff x="928800" y="-1677960"/>
            <a:chExt cx="1511280" cy="1668600"/>
          </a:xfrm>
        </p:grpSpPr>
        <p:grpSp>
          <p:nvGrpSpPr>
            <p:cNvPr id="675" name="Group 4"/>
            <p:cNvGrpSpPr/>
            <p:nvPr/>
          </p:nvGrpSpPr>
          <p:grpSpPr>
            <a:xfrm>
              <a:off x="1900440" y="-1510920"/>
              <a:ext cx="428400" cy="429120"/>
              <a:chOff x="1900440" y="-1510920"/>
              <a:chExt cx="428400" cy="429120"/>
            </a:xfrm>
          </p:grpSpPr>
          <p:sp>
            <p:nvSpPr>
              <p:cNvPr id="676" name="椭圆 24"/>
              <p:cNvSpPr/>
              <p:nvPr/>
            </p:nvSpPr>
            <p:spPr>
              <a:xfrm>
                <a:off x="1900440" y="-1510920"/>
                <a:ext cx="428400" cy="4291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78" name="Group 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679" name="Group 1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680" name="矩形 23"/>
            <p:cNvSpPr/>
            <p:nvPr/>
          </p:nvSpPr>
          <p:spPr>
            <a:xfrm>
              <a:off x="928800" y="-1677960"/>
              <a:ext cx="151128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图片 20" descr=""/>
          <p:cNvPicPr/>
          <p:nvPr/>
        </p:nvPicPr>
        <p:blipFill>
          <a:blip r:embed="rId1"/>
          <a:stretch/>
        </p:blipFill>
        <p:spPr>
          <a:xfrm>
            <a:off x="142920" y="-485640"/>
            <a:ext cx="4143240" cy="516564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39" descr=""/>
          <p:cNvPicPr/>
          <p:nvPr/>
        </p:nvPicPr>
        <p:blipFill>
          <a:blip r:embed="rId2"/>
          <a:stretch/>
        </p:blipFill>
        <p:spPr>
          <a:xfrm>
            <a:off x="-138240" y="3197160"/>
            <a:ext cx="4138920" cy="5170680"/>
          </a:xfrm>
          <a:prstGeom prst="rect">
            <a:avLst/>
          </a:prstGeom>
          <a:ln w="0">
            <a:noFill/>
          </a:ln>
        </p:spPr>
      </p:pic>
      <p:sp>
        <p:nvSpPr>
          <p:cNvPr id="683" name="TextBox 43"/>
          <p:cNvSpPr/>
          <p:nvPr/>
        </p:nvSpPr>
        <p:spPr>
          <a:xfrm>
            <a:off x="4281840" y="554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你需要不停地向着目标前行，坚持不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4448E-007 L -3.88889E-006 0.9236 E">
                                      <p:cBhvr>
                                        <p:cTn id="546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8998E-006 L 5E-006 0.91885 E">
                                      <p:cBhvr>
                                        <p:cTn id="548" dur="5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1" repeatCount="9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4.00407E-006 L 0.93368 4.00407E-006 E">
                                      <p:cBhvr>
                                        <p:cTn id="569" dur="8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3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577" dur="6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3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21:1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9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