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92D-E47D-4EB5-AB89-40BC23F0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51F-CD85-4FEF-913E-658EA58D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4AC-7984-44C1-9C2D-740E075B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1548-4D4E-4E2C-AA18-D61F8A70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C0E-1F76-4965-ACA3-CAEDEF35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0F8-8220-4D5C-BA44-3C0383FC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E7D-2D77-4AEE-B0B4-DB2A6498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481C-6F65-4F21-90AA-940CECE5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B1B7-E5BA-4D2A-85AD-E78106CE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B406-A951-4DA7-97D2-EF4F8792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F2F4-E4B6-42BC-A9D7-9A2C55FD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510-FB0F-4503-8AD4-85F022B9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-17640" y="2130480"/>
            <a:ext cx="9161640" cy="2336760"/>
          </a:xfrm>
          <a:custGeom>
            <a:avLst/>
            <a:gdLst/>
            <a:ahLst/>
            <a:rect l="l" t="t" r="r" b="b"/>
            <a:pathLst>
              <a:path w="9162662" h="2337173">
                <a:moveTo>
                  <a:pt x="0" y="0"/>
                </a:moveTo>
                <a:cubicBezTo>
                  <a:pt x="1050212" y="68285"/>
                  <a:pt x="2728873" y="112239"/>
                  <a:pt x="4620479" y="112239"/>
                </a:cubicBezTo>
                <a:cubicBezTo>
                  <a:pt x="6465741" y="112239"/>
                  <a:pt x="8108362" y="70412"/>
                  <a:pt x="9162662" y="5283"/>
                </a:cubicBezTo>
                <a:lnTo>
                  <a:pt x="9162662" y="2328598"/>
                </a:lnTo>
                <a:cubicBezTo>
                  <a:pt x="8107458" y="2264244"/>
                  <a:pt x="6476977" y="2223119"/>
                  <a:pt x="4647254" y="2223119"/>
                </a:cubicBezTo>
                <a:cubicBezTo>
                  <a:pt x="2739485" y="2223119"/>
                  <a:pt x="1048316" y="2267827"/>
                  <a:pt x="0" y="2337173"/>
                </a:cubicBezTo>
                <a:close/>
              </a:path>
            </a:pathLst>
          </a:custGeom>
          <a:gradFill rotWithShape="0">
            <a:gsLst>
              <a:gs pos="0">
                <a:srgbClr val="8205ff"/>
              </a:gs>
              <a:gs pos="100000">
                <a:srgbClr val="a568d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EA67-82BB-4D95-88C5-15D139A2FC2E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[动画大师]_Freeform 9"/>
          <p:cNvSpPr/>
          <p:nvPr/>
        </p:nvSpPr>
        <p:spPr>
          <a:xfrm>
            <a:off x="1440" y="5732640"/>
            <a:ext cx="9144000" cy="307800"/>
          </a:xfrm>
          <a:custGeom>
            <a:avLst/>
            <a:gdLst/>
            <a:ahLst/>
            <a:rect l="l" t="t" r="r" b="b"/>
            <a:pathLst>
              <a:path w="4333461" h="742121">
                <a:moveTo>
                  <a:pt x="0" y="702365"/>
                </a:moveTo>
                <a:cubicBezTo>
                  <a:pt x="702365" y="351182"/>
                  <a:pt x="1404731" y="0"/>
                  <a:pt x="2126974" y="6626"/>
                </a:cubicBezTo>
                <a:cubicBezTo>
                  <a:pt x="2849217" y="13252"/>
                  <a:pt x="4333461" y="742121"/>
                  <a:pt x="4333461" y="742121"/>
                </a:cubicBezTo>
                <a:lnTo>
                  <a:pt x="4333461" y="742121"/>
                </a:lnTo>
              </a:path>
            </a:pathLst>
          </a:custGeom>
          <a:noFill/>
          <a:ln w="114480">
            <a:solidFill>
              <a:srgbClr val="4bacc6"/>
            </a:solidFill>
            <a:round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[动画大师]_Freeform 16"/>
          <p:cNvSpPr/>
          <p:nvPr/>
        </p:nvSpPr>
        <p:spPr>
          <a:xfrm>
            <a:off x="1440" y="5732640"/>
            <a:ext cx="9144000" cy="307800"/>
          </a:xfrm>
          <a:custGeom>
            <a:avLst/>
            <a:gdLst/>
            <a:ahLst/>
            <a:rect l="l" t="t" r="r" b="b"/>
            <a:pathLst>
              <a:path w="4333461" h="742121">
                <a:moveTo>
                  <a:pt x="0" y="702365"/>
                </a:moveTo>
                <a:cubicBezTo>
                  <a:pt x="702365" y="351182"/>
                  <a:pt x="1404731" y="0"/>
                  <a:pt x="2126974" y="6626"/>
                </a:cubicBezTo>
                <a:cubicBezTo>
                  <a:pt x="2849217" y="13252"/>
                  <a:pt x="4333461" y="742121"/>
                  <a:pt x="4333461" y="742121"/>
                </a:cubicBezTo>
                <a:lnTo>
                  <a:pt x="4333461" y="742121"/>
                </a:lnTo>
              </a:path>
            </a:pathLst>
          </a:custGeom>
          <a:noFill/>
          <a:ln w="228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[动画大师]_Freeform 9"/>
          <p:cNvSpPr/>
          <p:nvPr/>
        </p:nvSpPr>
        <p:spPr>
          <a:xfrm>
            <a:off x="0" y="5084640"/>
            <a:ext cx="9144000" cy="168480"/>
          </a:xfrm>
          <a:custGeom>
            <a:avLst/>
            <a:gdLst/>
            <a:ahLst/>
            <a:rect l="l" t="t" r="r" b="b"/>
            <a:pathLst>
              <a:path w="4333461" h="742121">
                <a:moveTo>
                  <a:pt x="0" y="702365"/>
                </a:moveTo>
                <a:cubicBezTo>
                  <a:pt x="702365" y="351182"/>
                  <a:pt x="1404731" y="0"/>
                  <a:pt x="2126974" y="6626"/>
                </a:cubicBezTo>
                <a:cubicBezTo>
                  <a:pt x="2849217" y="13252"/>
                  <a:pt x="4333461" y="742121"/>
                  <a:pt x="4333461" y="742121"/>
                </a:cubicBezTo>
                <a:lnTo>
                  <a:pt x="4333461" y="742121"/>
                </a:lnTo>
              </a:path>
            </a:pathLst>
          </a:custGeom>
          <a:noFill/>
          <a:ln w="11448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[动画大师]_Freeform 16"/>
          <p:cNvSpPr/>
          <p:nvPr/>
        </p:nvSpPr>
        <p:spPr>
          <a:xfrm>
            <a:off x="0" y="5084640"/>
            <a:ext cx="9144000" cy="168480"/>
          </a:xfrm>
          <a:custGeom>
            <a:avLst/>
            <a:gdLst/>
            <a:ahLst/>
            <a:rect l="l" t="t" r="r" b="b"/>
            <a:pathLst>
              <a:path w="4333461" h="742121">
                <a:moveTo>
                  <a:pt x="0" y="702365"/>
                </a:moveTo>
                <a:cubicBezTo>
                  <a:pt x="702365" y="351182"/>
                  <a:pt x="1404731" y="0"/>
                  <a:pt x="2126974" y="6626"/>
                </a:cubicBezTo>
                <a:cubicBezTo>
                  <a:pt x="2849217" y="13252"/>
                  <a:pt x="4333461" y="742121"/>
                  <a:pt x="4333461" y="742121"/>
                </a:cubicBezTo>
                <a:lnTo>
                  <a:pt x="4333461" y="742121"/>
                </a:lnTo>
              </a:path>
            </a:pathLst>
          </a:custGeom>
          <a:noFill/>
          <a:ln w="228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[动画大师]_Straight Connector 20"/>
          <p:cNvSpPr/>
          <p:nvPr/>
        </p:nvSpPr>
        <p:spPr>
          <a:xfrm flipH="1">
            <a:off x="-4570920" y="0"/>
            <a:ext cx="1800" cy="6858000"/>
          </a:xfrm>
          <a:prstGeom prst="line">
            <a:avLst/>
          </a:prstGeom>
          <a:ln w="152280">
            <a:solidFill>
              <a:srgbClr val="f79646">
                <a:alpha val="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接连接符 21"/>
          <p:cNvSpPr/>
          <p:nvPr/>
        </p:nvSpPr>
        <p:spPr>
          <a:xfrm flipH="1">
            <a:off x="-2712960" y="0"/>
            <a:ext cx="1440" cy="6858000"/>
          </a:xfrm>
          <a:prstGeom prst="line">
            <a:avLst/>
          </a:prstGeom>
          <a:ln w="152280">
            <a:solidFill>
              <a:srgbClr val="f79646">
                <a:alpha val="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22"/>
          <p:cNvSpPr/>
          <p:nvPr/>
        </p:nvSpPr>
        <p:spPr>
          <a:xfrm flipH="1">
            <a:off x="-856080" y="0"/>
            <a:ext cx="1800" cy="6858000"/>
          </a:xfrm>
          <a:prstGeom prst="line">
            <a:avLst/>
          </a:prstGeom>
          <a:ln w="152280">
            <a:solidFill>
              <a:srgbClr val="f79646">
                <a:alpha val="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23"/>
          <p:cNvSpPr/>
          <p:nvPr/>
        </p:nvSpPr>
        <p:spPr>
          <a:xfrm flipH="1">
            <a:off x="1071720" y="0"/>
            <a:ext cx="1440" cy="6858000"/>
          </a:xfrm>
          <a:prstGeom prst="line">
            <a:avLst/>
          </a:prstGeom>
          <a:ln w="152280">
            <a:solidFill>
              <a:srgbClr val="f79646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接连接符 24"/>
          <p:cNvSpPr/>
          <p:nvPr/>
        </p:nvSpPr>
        <p:spPr>
          <a:xfrm flipH="1">
            <a:off x="2999880" y="0"/>
            <a:ext cx="1800" cy="6858000"/>
          </a:xfrm>
          <a:prstGeom prst="line">
            <a:avLst/>
          </a:prstGeom>
          <a:ln w="152280">
            <a:solidFill>
              <a:srgbClr val="f79646">
                <a:alpha val="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25"/>
          <p:cNvSpPr/>
          <p:nvPr/>
        </p:nvSpPr>
        <p:spPr>
          <a:xfrm flipH="1">
            <a:off x="5072040" y="0"/>
            <a:ext cx="1440" cy="6858000"/>
          </a:xfrm>
          <a:prstGeom prst="line">
            <a:avLst/>
          </a:prstGeom>
          <a:ln w="152280">
            <a:solidFill>
              <a:srgbClr val="f79646">
                <a:alpha val="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26"/>
          <p:cNvSpPr/>
          <p:nvPr/>
        </p:nvSpPr>
        <p:spPr>
          <a:xfrm flipH="1">
            <a:off x="7143840" y="0"/>
            <a:ext cx="1440" cy="6858000"/>
          </a:xfrm>
          <a:prstGeom prst="line">
            <a:avLst/>
          </a:prstGeom>
          <a:ln w="152280">
            <a:solidFill>
              <a:srgbClr val="f79646">
                <a:alpha val="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[动画大师]_Oval 3"/>
          <p:cNvSpPr/>
          <p:nvPr/>
        </p:nvSpPr>
        <p:spPr>
          <a:xfrm>
            <a:off x="-5356080" y="3222720"/>
            <a:ext cx="12642840" cy="3571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12a8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ff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[动画大师]_Moon 2"/>
          <p:cNvSpPr/>
          <p:nvPr/>
        </p:nvSpPr>
        <p:spPr>
          <a:xfrm rot="16388400">
            <a:off x="-1128600" y="-1609560"/>
            <a:ext cx="109440" cy="684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37" y="3099"/>
                  <a:pt x="17274" y="5080"/>
                  <a:pt x="17274" y="10800"/>
                </a:cubicBezTo>
                <a:cubicBezTo>
                  <a:pt x="17274" y="16520"/>
                  <a:pt x="19437" y="1850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6600cc">
                  <a:alpha val="0"/>
                </a:srgbClr>
              </a:gs>
              <a:gs pos="100000">
                <a:srgbClr val="ffffff"/>
              </a:gs>
            </a:gsLst>
            <a:lin ang="16014000"/>
          </a:gradFill>
          <a:ln w="0">
            <a:noFill/>
          </a:ln>
          <a:effectLst>
            <a:outerShdw dist="153753" dir="2700000" blurRad="0" rotWithShape="0">
              <a:srgbClr val="ff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[动画大师]_Moon 4"/>
          <p:cNvSpPr/>
          <p:nvPr/>
        </p:nvSpPr>
        <p:spPr>
          <a:xfrm rot="5200200">
            <a:off x="-879840" y="1951920"/>
            <a:ext cx="47520" cy="4776480"/>
          </a:xfrm>
          <a:custGeom>
            <a:avLst/>
            <a:gdLst/>
            <a:ahLst/>
            <a:rect l="l" t="t" r="r" b="b"/>
            <a:pathLst>
              <a:path w="47098" h="4777831">
                <a:moveTo>
                  <a:pt x="47098" y="4777831"/>
                </a:moveTo>
                <a:cubicBezTo>
                  <a:pt x="21848" y="4777831"/>
                  <a:pt x="5030" y="3185857"/>
                  <a:pt x="1379" y="2389552"/>
                </a:cubicBezTo>
                <a:cubicBezTo>
                  <a:pt x="-2272" y="1593247"/>
                  <a:pt x="-60" y="0"/>
                  <a:pt x="25190" y="0"/>
                </a:cubicBezTo>
                <a:cubicBezTo>
                  <a:pt x="19145" y="756639"/>
                  <a:pt x="37941" y="1569661"/>
                  <a:pt x="37941" y="2389550"/>
                </a:cubicBezTo>
                <a:cubicBezTo>
                  <a:pt x="37941" y="3209439"/>
                  <a:pt x="41054" y="4021189"/>
                  <a:pt x="47098" y="4777827"/>
                </a:cubicBezTo>
                <a:lnTo>
                  <a:pt x="47098" y="4777831"/>
                </a:lnTo>
                <a:close/>
              </a:path>
            </a:pathLst>
          </a:custGeom>
          <a:gradFill rotWithShape="0">
            <a:gsLst>
              <a:gs pos="0">
                <a:srgbClr val="6600cc">
                  <a:alpha val="0"/>
                </a:srgbClr>
              </a:gs>
              <a:gs pos="100000">
                <a:srgbClr val="ffffff"/>
              </a:gs>
            </a:gsLst>
            <a:lin ang="5598000"/>
          </a:gradFill>
          <a:ln w="0">
            <a:noFill/>
          </a:ln>
          <a:effectLst>
            <a:outerShdw dist="153753" dir="2700000" blurRad="0" rotWithShape="0">
              <a:srgbClr val="ff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[动画大师]_Freeform 8"/>
          <p:cNvSpPr/>
          <p:nvPr/>
        </p:nvSpPr>
        <p:spPr>
          <a:xfrm rot="10800000">
            <a:off x="0" y="713520"/>
            <a:ext cx="9144000" cy="306360"/>
          </a:xfrm>
          <a:custGeom>
            <a:avLst/>
            <a:gdLst/>
            <a:ahLst/>
            <a:rect l="l" t="t" r="r" b="b"/>
            <a:pathLst>
              <a:path w="4333461" h="742121">
                <a:moveTo>
                  <a:pt x="0" y="702365"/>
                </a:moveTo>
                <a:cubicBezTo>
                  <a:pt x="702365" y="351182"/>
                  <a:pt x="1404731" y="0"/>
                  <a:pt x="2126974" y="6626"/>
                </a:cubicBezTo>
                <a:cubicBezTo>
                  <a:pt x="2849217" y="13252"/>
                  <a:pt x="4333461" y="742121"/>
                  <a:pt x="4333461" y="742121"/>
                </a:cubicBezTo>
                <a:lnTo>
                  <a:pt x="4333461" y="742121"/>
                </a:lnTo>
              </a:path>
            </a:pathLst>
          </a:custGeom>
          <a:noFill/>
          <a:ln w="114480">
            <a:solidFill>
              <a:srgbClr val="4bacc6"/>
            </a:solidFill>
            <a:round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[动画大师]_Freeform 10"/>
          <p:cNvSpPr/>
          <p:nvPr/>
        </p:nvSpPr>
        <p:spPr>
          <a:xfrm rot="10800000">
            <a:off x="-54000" y="2781000"/>
            <a:ext cx="9142560" cy="46080"/>
          </a:xfrm>
          <a:custGeom>
            <a:avLst/>
            <a:gdLst/>
            <a:ahLst/>
            <a:rect l="l" t="t" r="r" b="b"/>
            <a:pathLst>
              <a:path w="4333461" h="742121">
                <a:moveTo>
                  <a:pt x="0" y="702365"/>
                </a:moveTo>
                <a:cubicBezTo>
                  <a:pt x="702365" y="351182"/>
                  <a:pt x="1404731" y="0"/>
                  <a:pt x="2126974" y="6626"/>
                </a:cubicBezTo>
                <a:cubicBezTo>
                  <a:pt x="2849217" y="13252"/>
                  <a:pt x="4333461" y="742121"/>
                  <a:pt x="4333461" y="742121"/>
                </a:cubicBezTo>
                <a:lnTo>
                  <a:pt x="4333461" y="742121"/>
                </a:lnTo>
              </a:path>
            </a:pathLst>
          </a:custGeom>
          <a:noFill/>
          <a:ln w="11448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[动画大师]_Freeform 14"/>
          <p:cNvSpPr/>
          <p:nvPr/>
        </p:nvSpPr>
        <p:spPr>
          <a:xfrm>
            <a:off x="-54000" y="6418440"/>
            <a:ext cx="9142560" cy="306360"/>
          </a:xfrm>
          <a:custGeom>
            <a:avLst/>
            <a:gdLst/>
            <a:ahLst/>
            <a:rect l="l" t="t" r="r" b="b"/>
            <a:pathLst>
              <a:path w="4333461" h="742121">
                <a:moveTo>
                  <a:pt x="0" y="702365"/>
                </a:moveTo>
                <a:cubicBezTo>
                  <a:pt x="702365" y="351182"/>
                  <a:pt x="1404731" y="0"/>
                  <a:pt x="2126974" y="6626"/>
                </a:cubicBezTo>
                <a:cubicBezTo>
                  <a:pt x="2849217" y="13252"/>
                  <a:pt x="4333461" y="742121"/>
                  <a:pt x="4333461" y="742121"/>
                </a:cubicBezTo>
                <a:lnTo>
                  <a:pt x="4333461" y="742121"/>
                </a:lnTo>
              </a:path>
            </a:pathLst>
          </a:custGeom>
          <a:noFill/>
          <a:ln w="1143000">
            <a:solidFill>
              <a:srgbClr val="612a8a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[动画大师]_Arc 6"/>
          <p:cNvSpPr/>
          <p:nvPr/>
        </p:nvSpPr>
        <p:spPr>
          <a:xfrm rot="10800000">
            <a:off x="-540000" y="1915920"/>
            <a:ext cx="10007640" cy="442800"/>
          </a:xfrm>
          <a:custGeom>
            <a:avLst/>
            <a:gdLst>
              <a:gd name="textAreaLeft" fmla="*/ 66240 w 10007640"/>
              <a:gd name="textAreaRight" fmla="*/ 9917640 w 10007640"/>
              <a:gd name="textAreaTop" fmla="*/ 0 h 442800"/>
              <a:gd name="textAreaBottom" fmla="*/ 185400 h 442800"/>
            </a:gdLst>
            <a:ahLst/>
            <a:rect l="textAreaLeft" t="textAreaTop" r="textAreaRight" b="textAreaBottom"/>
            <a:pathLst>
              <a:path stroke="0" w="10009112" h="441834">
                <a:moveTo>
                  <a:pt x="66416" y="185045"/>
                </a:moveTo>
                <a:lnTo>
                  <a:pt x="66417" y="185045"/>
                </a:lnTo>
                <a:arcTo wR="5004556" hR="220917" stAng="-10775028" swAng="10745835"/>
                <a:lnTo>
                  <a:pt x="5004556" y="220917"/>
                </a:lnTo>
                <a:close/>
              </a:path>
              <a:path fill="none" w="10009112" h="441834">
                <a:moveTo>
                  <a:pt x="66416" y="185045"/>
                </a:moveTo>
                <a:lnTo>
                  <a:pt x="66417" y="185045"/>
                </a:lnTo>
                <a:arcTo wR="5004556" hR="220917" stAng="-10775028" swAng="10745835"/>
              </a:path>
            </a:pathLst>
          </a:custGeom>
          <a:noFill/>
          <a:ln w="38160">
            <a:solidFill>
              <a:srgbClr val="ffff00">
                <a:alpha val="2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[动画大师]_Arc 19" hidden="1"/>
          <p:cNvSpPr/>
          <p:nvPr/>
        </p:nvSpPr>
        <p:spPr>
          <a:xfrm>
            <a:off x="-430200" y="4281480"/>
            <a:ext cx="10005840" cy="441360"/>
          </a:xfrm>
          <a:custGeom>
            <a:avLst/>
            <a:gdLst>
              <a:gd name="textAreaLeft" fmla="*/ 66240 w 10005840"/>
              <a:gd name="textAreaRight" fmla="*/ 9915840 w 10005840"/>
              <a:gd name="textAreaTop" fmla="*/ 0 h 441360"/>
              <a:gd name="textAreaBottom" fmla="*/ 184680 h 441360"/>
            </a:gdLst>
            <a:ahLst/>
            <a:rect l="textAreaLeft" t="textAreaTop" r="textAreaRight" b="textAreaBottom"/>
            <a:pathLst>
              <a:path stroke="0" w="10009112" h="441834">
                <a:moveTo>
                  <a:pt x="66416" y="185045"/>
                </a:moveTo>
                <a:lnTo>
                  <a:pt x="66417" y="185045"/>
                </a:lnTo>
                <a:arcTo wR="5004556" hR="220917" stAng="-10775028" swAng="10745835"/>
                <a:lnTo>
                  <a:pt x="5004556" y="220917"/>
                </a:lnTo>
                <a:close/>
              </a:path>
              <a:path fill="none" w="10009112" h="441834">
                <a:moveTo>
                  <a:pt x="66416" y="185045"/>
                </a:moveTo>
                <a:lnTo>
                  <a:pt x="66417" y="185045"/>
                </a:lnTo>
                <a:arcTo wR="5004556" hR="220917" stAng="-10775028" swAng="10745835"/>
              </a:path>
            </a:pathLst>
          </a:custGeom>
          <a:noFill/>
          <a:ln w="38160">
            <a:solidFill>
              <a:srgbClr val="ffffff">
                <a:alpha val="29000"/>
              </a:srgbClr>
            </a:solidFill>
            <a:round/>
          </a:ln>
          <a:effectLst>
            <a:outerShdw dist="153753" dir="2700000" blurRad="0" rotWithShape="0">
              <a:srgbClr val="ffffff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314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1521000" y="1628640"/>
            <a:ext cx="356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下载动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7" dur="1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Motion origin="layout" path="M 0 0 L 1.55122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base">
                                        <p:cTn id="9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restart="never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1" dur="4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4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Motion origin="layout" path="M -1.94444E-006 4.07407E-006 L 1.75695 -0.00533 E">
                                      <p:cBhvr>
                                        <p:cTn id="15" dur="2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set>
                                      <p:cBhvr>
                                        <p:cTn id="16" dur="10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Effect filter="wipe(left)" transition="out">
                                      <p:cBhvr additive="base">
                                        <p:cTn id="20" dur="1000" restart="never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restart="never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22" dur="3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5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Rot by="21600000" from="0" to="-599760">
                                      <p:cBhvr>
                                        <p:cTn id="26" dur="2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fltVal val="-9.99600028991699"/>
                                      </p:to>
                                    </p:animRot>
                                    <p:animMotion origin="layout" path="M 1.11111E-006 -1.85185E-006 L 0.51163 0.02662 C 0.61892 0.03264 0.7809 0.02084 0.94792 0.02084 C 1.14792 0.01713 1.37569 -0.00139 1.47014 -0.0125 L 1.92847 -0.07916 E">
                                      <p:cBhvr>
                                        <p:cTn id="27" dur="2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set>
                                      <p:cBhvr>
                                        <p:cTn id="28" dur="6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31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Rot by="0" from="0" to="540000">
                                      <p:cBhvr>
                                        <p:cTn id="32" dur="2000" restart="never" fill="hold">
                                          <p:stCondLst>
                                            <p:cond delay="2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fltVal val="9"/>
                                      </p:to>
                                    </p:animRot>
                                    <p:animMotion origin="layout" path="M -2.77556E-017 2.48959E-006 L 0.37622 -0.02476 C 0.4559 -0.02869 0.58003 -0.02545 0.70434 -0.02545 C 0.84635 -0.02545 0.9599 -0.01712 1.03958 -0.01319 L 1.42622 0.0155 E">
                                      <p:cBhvr>
                                        <p:cTn id="33" dur="2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set>
                                      <p:cBhvr>
                                        <p:cTn id="34" dur="6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Effect filter="wipe(left)" transition="out">
                                      <p:cBhvr additive="base">
                                        <p:cTn id="38" dur="1000" restart="never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restart="never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40" dur="3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restart="never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45" dur="7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restart="never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48" dur="2000" restart="never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restart="never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50" dur="7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base">
                                        <p:cTn id="52" dur="1000" restart="never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restart="never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Effect filter="wipe(left)" transition="out">
                                      <p:cBhvr additive="base">
                                        <p:cTn id="57" dur="1000" restart="never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restart="never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59" dur="6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Effect filter="wipe(left)" transition="out">
                                      <p:cBhvr additive="base">
                                        <p:cTn id="63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restart="never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65" dur="5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68" dur="1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Motion origin="layout" path="M 0 0 L 1.55122 0 E">
                                      <p:cBhvr>
                                        <p:cTn id="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base">
                                        <p:cTn id="70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restart="never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72" dur="4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75" dur="1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Motion origin="layout" path="M 0 0 L 1.55122 0 E">
                                      <p:cBhvr>
                                        <p:cTn id="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base">
                                        <p:cTn id="77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restart="never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79" dur="4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82" dur="1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Motion origin="layout" path="M 0 0 L 1.55122 0 E">
                                      <p:cBhvr>
                                        <p:cTn id="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base">
                                        <p:cTn id="84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restart="never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86" dur="4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89" dur="1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Motion origin="layout" path="M 0 0 L 1.55122 0 E">
                                      <p:cBhvr>
                                        <p:cTn id="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base">
                                        <p:cTn id="91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restart="never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93" dur="4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96" dur="1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Motion origin="layout" path="M 0 0 L 1.55122 0 E">
                                      <p:cBhvr>
                                        <p:cTn id="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base">
                                        <p:cTn id="98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restart="never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00" dur="4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03" dur="1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Motion origin="layout" path="M 0 0 L 1.55122 0 E">
                                      <p:cBhvr>
                                        <p:cTn id="1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base">
                                        <p:cTn id="105" dur="1000" restart="never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restart="never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07" dur="4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restart="never" fill="hold">
                                          <p:stCondLst>
                                            <p:cond delay="23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12" dur="5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restart="never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15" dur="1200" restart="never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restart="never" fill="hold">
                                          <p:stCondLst>
                                            <p:cond delay="23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17" dur="5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CBC-341A-4DC0-BE12-FEFB94D0E8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01:01:00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1:52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