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107-7B7E-4EB5-B1F3-D9633CD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C08-2F33-421E-8315-43ACB67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7B6-5338-414C-9D64-90F1B3A1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A34-2CF2-4493-8378-53BB867F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6E5-A73F-4E9E-B9F1-E2D0C692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C39-6D75-424D-80DB-7965544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A87-FA77-401D-9111-5AA89F0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4F3-53B6-4792-AE6A-E2B78DCD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4C0-4CC4-42C1-8566-FBE326B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2C1-F994-4E49-94BA-401C784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422-D792-4CEE-A298-19AFCD7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E3C-E1C5-41F2-86C6-6370AFA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9A3-D2BD-487E-85DF-C6937822E6C2}" type="slidenum">
              <a:rPr b="0" lang="en-US" sz="1400" spc="-1" strike="noStrike">
                <a:solidFill>
                  <a:srgbClr val="ffffff"/>
                </a:solidFill>
                <a:latin typeface="华文细黑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Administrator\桌面\图片1.jpg"/>
          <p:cNvPicPr/>
          <p:nvPr/>
        </p:nvPicPr>
        <p:blipFill>
          <a:blip r:embed="rId3"/>
          <a:stretch/>
        </p:blipFill>
        <p:spPr>
          <a:xfrm>
            <a:off x="-46080" y="-42840"/>
            <a:ext cx="9236160" cy="69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2286000" y="285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071720" y="1636560"/>
          <a:ext cx="7010280" cy="211464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Text Box 25"/>
          <p:cNvSpPr/>
          <p:nvPr/>
        </p:nvSpPr>
        <p:spPr>
          <a:xfrm>
            <a:off x="1357200" y="4286160"/>
            <a:ext cx="5857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细黑"/>
              </a:rPr>
              <a:t>备注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1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2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3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74" name="圆角矩形 8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75" name="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173240" y="1897200"/>
          <a:ext cx="7143840" cy="3406680"/>
        </p:xfrm>
        <a:graphic>
          <a:graphicData uri="http://schemas.openxmlformats.org/drawingml/2006/table">
            <a:tbl>
              <a:tblPr/>
              <a:tblGrid>
                <a:gridCol w="833400"/>
                <a:gridCol w="2103480"/>
                <a:gridCol w="2103480"/>
                <a:gridCol w="2103480"/>
              </a:tblGrid>
              <a:tr h="53964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9" name="组合 5"/>
          <p:cNvGrpSpPr/>
          <p:nvPr/>
        </p:nvGrpSpPr>
        <p:grpSpPr>
          <a:xfrm>
            <a:off x="1236600" y="701280"/>
            <a:ext cx="4313160" cy="849240"/>
            <a:chOff x="1236600" y="701280"/>
            <a:chExt cx="4313160" cy="849240"/>
          </a:xfrm>
        </p:grpSpPr>
        <p:grpSp>
          <p:nvGrpSpPr>
            <p:cNvPr id="380" name="圆角矩形 6"/>
            <p:cNvGrpSpPr/>
            <p:nvPr/>
          </p:nvGrpSpPr>
          <p:grpSpPr>
            <a:xfrm>
              <a:off x="1236600" y="703080"/>
              <a:ext cx="4313160" cy="847440"/>
              <a:chOff x="1236600" y="703080"/>
              <a:chExt cx="4313160" cy="847440"/>
            </a:xfrm>
          </p:grpSpPr>
          <p:pic>
            <p:nvPicPr>
              <p:cNvPr id="381" name="圆角矩形 6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236600" y="883800"/>
                <a:ext cx="431316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21043800">
                <a:off x="1313640" y="1037160"/>
                <a:ext cx="4161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圆角矩形 4"/>
            <p:cNvSpPr/>
            <p:nvPr/>
          </p:nvSpPr>
          <p:spPr>
            <a:xfrm rot="21044400">
              <a:off x="1316520" y="1035360"/>
              <a:ext cx="41630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图表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74" descr="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1" descr="hend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560" y="3876840"/>
            <a:ext cx="3044880" cy="3044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3000240" y="20001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华文细黑"/>
              </a:rPr>
              <a:t>共创未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E98-F317-4FDC-BCE4-DE9684CAB4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154"/>
          <p:cNvSpPr/>
          <p:nvPr/>
        </p:nvSpPr>
        <p:spPr>
          <a:xfrm>
            <a:off x="4578480" y="4702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4"/>
          <p:cNvSpPr/>
          <p:nvPr/>
        </p:nvSpPr>
        <p:spPr>
          <a:xfrm>
            <a:off x="4578480" y="420228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4"/>
          <p:cNvSpPr/>
          <p:nvPr/>
        </p:nvSpPr>
        <p:spPr>
          <a:xfrm>
            <a:off x="4506840" y="291636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4"/>
          <p:cNvSpPr/>
          <p:nvPr/>
        </p:nvSpPr>
        <p:spPr>
          <a:xfrm>
            <a:off x="4506840" y="2416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6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6"/>
          <p:cNvSpPr/>
          <p:nvPr/>
        </p:nvSpPr>
        <p:spPr>
          <a:xfrm flipV="1">
            <a:off x="3929040" y="1785960"/>
            <a:ext cx="0" cy="3240000"/>
          </a:xfrm>
          <a:prstGeom prst="line">
            <a:avLst/>
          </a:prstGeom>
          <a:ln w="9360">
            <a:solidFill>
              <a:srgbClr val="4d4d4d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3"/>
          <p:cNvSpPr/>
          <p:nvPr/>
        </p:nvSpPr>
        <p:spPr>
          <a:xfrm>
            <a:off x="2071800" y="3500280"/>
            <a:ext cx="14014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6"/>
          <p:cNvSpPr/>
          <p:nvPr/>
        </p:nvSpPr>
        <p:spPr>
          <a:xfrm>
            <a:off x="1919160" y="24163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华文细黑"/>
              </a:rPr>
              <a:t>标题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7"/>
          <p:cNvSpPr/>
          <p:nvPr/>
        </p:nvSpPr>
        <p:spPr>
          <a:xfrm>
            <a:off x="2000160" y="1785960"/>
            <a:ext cx="50403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733400" y="811080"/>
            <a:ext cx="5677200" cy="5240160"/>
            <a:chOff x="1733400" y="811080"/>
            <a:chExt cx="5677200" cy="5240160"/>
          </a:xfrm>
        </p:grpSpPr>
        <p:sp>
          <p:nvSpPr>
            <p:cNvPr id="179" name="Line 4"/>
            <p:cNvSpPr/>
            <p:nvPr/>
          </p:nvSpPr>
          <p:spPr>
            <a:xfrm>
              <a:off x="1733400" y="603720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7334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74088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1733400" y="81756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7" descr="F:\于凌波\WDS\wds副本白边.png"/>
          <p:cNvPicPr/>
          <p:nvPr/>
        </p:nvPicPr>
        <p:blipFill>
          <a:blip r:embed="rId1"/>
          <a:srcRect l="12509" t="20921" r="14387" b="27877"/>
          <a:stretch/>
        </p:blipFill>
        <p:spPr>
          <a:xfrm>
            <a:off x="2214720" y="5286240"/>
            <a:ext cx="1442880" cy="7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Documents and Settings\Administrator\桌面\新建文件夹 (4)\wedo副本.png"/>
          <p:cNvPicPr/>
          <p:nvPr/>
        </p:nvPicPr>
        <p:blipFill>
          <a:blip r:embed="rId2"/>
          <a:stretch/>
        </p:blipFill>
        <p:spPr>
          <a:xfrm>
            <a:off x="4871880" y="5184720"/>
            <a:ext cx="1486080" cy="8161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3"/>
          <p:cNvSpPr/>
          <p:nvPr/>
        </p:nvSpPr>
        <p:spPr>
          <a:xfrm>
            <a:off x="4572000" y="1109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华文细黑"/>
              </a:rPr>
              <a:t>Cont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5"/>
          <p:cNvSpPr/>
          <p:nvPr/>
        </p:nvSpPr>
        <p:spPr>
          <a:xfrm>
            <a:off x="2286000" y="100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26140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261400" y="1987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261400" y="3773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526140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261400" y="4273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261400" y="2975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6"/>
          <p:cNvSpPr/>
          <p:nvPr/>
        </p:nvSpPr>
        <p:spPr>
          <a:xfrm>
            <a:off x="1928880" y="4214880"/>
            <a:ext cx="16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华文细黑"/>
              </a:rPr>
              <a:t>标题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F:\于凌波\WDS\WDS图片\-51.jpg"/>
          <p:cNvPicPr/>
          <p:nvPr/>
        </p:nvPicPr>
        <p:blipFill>
          <a:blip r:embed="rId1"/>
          <a:srcRect l="7563" t="0" r="22220" b="3315"/>
          <a:stretch/>
        </p:blipFill>
        <p:spPr>
          <a:xfrm>
            <a:off x="1785960" y="785880"/>
            <a:ext cx="5715000" cy="5248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9"/>
          <p:cNvSpPr/>
          <p:nvPr/>
        </p:nvSpPr>
        <p:spPr>
          <a:xfrm>
            <a:off x="7505640" y="2286000"/>
            <a:ext cx="199548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785960" y="1714680"/>
            <a:ext cx="5702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1824120" y="1928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细黑"/>
              </a:rPr>
              <a:t>标题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-55440" y="2286000"/>
            <a:ext cx="1841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205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3"/>
          <p:cNvSpPr/>
          <p:nvPr/>
        </p:nvSpPr>
        <p:spPr>
          <a:xfrm>
            <a:off x="2540160" y="1341360"/>
            <a:ext cx="416232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 rot="20883600">
            <a:off x="2848680" y="21031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华文细黑"/>
              </a:rPr>
              <a:t>标题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 rot="20872200">
            <a:off x="4411080" y="2052720"/>
            <a:ext cx="17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 rot="20884800">
            <a:off x="3099600" y="297180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5038560" y="551664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华文细黑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华文细黑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8"/>
          <p:cNvSpPr/>
          <p:nvPr/>
        </p:nvSpPr>
        <p:spPr>
          <a:xfrm>
            <a:off x="44719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题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39067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标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3341520" y="5516640"/>
            <a:ext cx="7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副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2428920" y="1214280"/>
            <a:ext cx="4357800" cy="3857760"/>
            <a:chOff x="2428920" y="1214280"/>
            <a:chExt cx="4357800" cy="3857760"/>
          </a:xfrm>
        </p:grpSpPr>
        <p:sp>
          <p:nvSpPr>
            <p:cNvPr id="218" name="Line 4"/>
            <p:cNvSpPr/>
            <p:nvPr/>
          </p:nvSpPr>
          <p:spPr>
            <a:xfrm>
              <a:off x="2428920" y="506160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242892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678564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2428920" y="121896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486 -0.22037 L -2.22222E-006 -2.96296E-006 E">
                                      <p:cBhvr>
                                        <p:cTn id="48" dur="3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0" y="2143080"/>
            <a:ext cx="2643120" cy="242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63052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38440" y="124308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638440" y="560880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6504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71280" y="2648880"/>
            <a:ext cx="2428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0199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3"/>
          <p:cNvGrpSpPr/>
          <p:nvPr/>
        </p:nvGrpSpPr>
        <p:grpSpPr>
          <a:xfrm>
            <a:off x="7452000" y="781200"/>
            <a:ext cx="1200240" cy="455040"/>
            <a:chOff x="7452000" y="781200"/>
            <a:chExt cx="1200240" cy="455040"/>
          </a:xfrm>
        </p:grpSpPr>
        <p:cxnSp>
          <p:nvCxnSpPr>
            <p:cNvPr id="230" name="AutoShape 14"/>
            <p:cNvCxnSpPr/>
            <p:nvPr/>
          </p:nvCxnSpPr>
          <p:spPr>
            <a:xfrm flipH="1" flipV="1">
              <a:off x="831384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  <p:cxnSp>
          <p:nvCxnSpPr>
            <p:cNvPr id="231" name="AutoShape 15"/>
            <p:cNvCxnSpPr/>
            <p:nvPr/>
          </p:nvCxnSpPr>
          <p:spPr>
            <a:xfrm>
              <a:off x="745200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</p:grpSp>
      <p:grpSp>
        <p:nvGrpSpPr>
          <p:cNvPr id="232" name="组合 17"/>
          <p:cNvGrpSpPr/>
          <p:nvPr/>
        </p:nvGrpSpPr>
        <p:grpSpPr>
          <a:xfrm>
            <a:off x="2714760" y="1522800"/>
            <a:ext cx="5857920" cy="3549240"/>
            <a:chOff x="2714760" y="1522800"/>
            <a:chExt cx="5857920" cy="3549240"/>
          </a:xfrm>
        </p:grpSpPr>
        <p:pic>
          <p:nvPicPr>
            <p:cNvPr id="233" name="Group 3" descr="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58579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reeform 8"/>
            <p:cNvSpPr/>
            <p:nvPr/>
          </p:nvSpPr>
          <p:spPr>
            <a:xfrm flipH="1" rot="9639600">
              <a:off x="3637080" y="1780200"/>
              <a:ext cx="1753920" cy="11538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 flipH="1" rot="20857800">
              <a:off x="3538440" y="2342520"/>
              <a:ext cx="1528560" cy="115452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 rot="12583200">
              <a:off x="5716440" y="2018520"/>
              <a:ext cx="995040" cy="8600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组合 477"/>
            <p:cNvGrpSpPr/>
            <p:nvPr/>
          </p:nvGrpSpPr>
          <p:grpSpPr>
            <a:xfrm>
              <a:off x="6247080" y="1716120"/>
              <a:ext cx="1372680" cy="1337040"/>
              <a:chOff x="6247080" y="1716120"/>
              <a:chExt cx="1372680" cy="1337040"/>
            </a:xfrm>
          </p:grpSpPr>
          <p:sp>
            <p:nvSpPr>
              <p:cNvPr id="238" name="Oval 116"/>
              <p:cNvSpPr/>
              <p:nvPr/>
            </p:nvSpPr>
            <p:spPr>
              <a:xfrm>
                <a:off x="6769800" y="2254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3"/>
              <p:cNvSpPr/>
              <p:nvPr/>
            </p:nvSpPr>
            <p:spPr>
              <a:xfrm>
                <a:off x="6573960" y="205236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3"/>
              <p:cNvSpPr/>
              <p:nvPr/>
            </p:nvSpPr>
            <p:spPr>
              <a:xfrm>
                <a:off x="6247080" y="171612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组合 478"/>
            <p:cNvGrpSpPr/>
            <p:nvPr/>
          </p:nvGrpSpPr>
          <p:grpSpPr>
            <a:xfrm>
              <a:off x="4481640" y="2187000"/>
              <a:ext cx="1372680" cy="1337040"/>
              <a:chOff x="4481640" y="2187000"/>
              <a:chExt cx="1372680" cy="1337040"/>
            </a:xfrm>
          </p:grpSpPr>
          <p:sp>
            <p:nvSpPr>
              <p:cNvPr id="242" name="Oval 116"/>
              <p:cNvSpPr/>
              <p:nvPr/>
            </p:nvSpPr>
            <p:spPr>
              <a:xfrm>
                <a:off x="5004360" y="27255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"/>
              <p:cNvSpPr/>
              <p:nvPr/>
            </p:nvSpPr>
            <p:spPr>
              <a:xfrm>
                <a:off x="4808520" y="252360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"/>
              <p:cNvSpPr/>
              <p:nvPr/>
            </p:nvSpPr>
            <p:spPr>
              <a:xfrm>
                <a:off x="4481640" y="2187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组合 482"/>
            <p:cNvGrpSpPr/>
            <p:nvPr/>
          </p:nvGrpSpPr>
          <p:grpSpPr>
            <a:xfrm>
              <a:off x="2847240" y="1783440"/>
              <a:ext cx="1372680" cy="1337040"/>
              <a:chOff x="2847240" y="1783440"/>
              <a:chExt cx="1372680" cy="1337040"/>
            </a:xfrm>
          </p:grpSpPr>
          <p:sp>
            <p:nvSpPr>
              <p:cNvPr id="246" name="Oval 116"/>
              <p:cNvSpPr/>
              <p:nvPr/>
            </p:nvSpPr>
            <p:spPr>
              <a:xfrm>
                <a:off x="3370680" y="23223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"/>
              <p:cNvSpPr/>
              <p:nvPr/>
            </p:nvSpPr>
            <p:spPr>
              <a:xfrm>
                <a:off x="3174120" y="211968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3"/>
              <p:cNvSpPr/>
              <p:nvPr/>
            </p:nvSpPr>
            <p:spPr>
              <a:xfrm>
                <a:off x="2847240" y="178344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486"/>
            <p:cNvGrpSpPr/>
            <p:nvPr/>
          </p:nvGrpSpPr>
          <p:grpSpPr>
            <a:xfrm>
              <a:off x="4874040" y="1850760"/>
              <a:ext cx="1372680" cy="1337040"/>
              <a:chOff x="4874040" y="1850760"/>
              <a:chExt cx="1372680" cy="1337040"/>
            </a:xfrm>
          </p:grpSpPr>
          <p:sp>
            <p:nvSpPr>
              <p:cNvPr id="250" name="Oval 116"/>
              <p:cNvSpPr/>
              <p:nvPr/>
            </p:nvSpPr>
            <p:spPr>
              <a:xfrm>
                <a:off x="5396760" y="2389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3"/>
              <p:cNvSpPr/>
              <p:nvPr/>
            </p:nvSpPr>
            <p:spPr>
              <a:xfrm>
                <a:off x="5200920" y="218736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3"/>
              <p:cNvSpPr/>
              <p:nvPr/>
            </p:nvSpPr>
            <p:spPr>
              <a:xfrm>
                <a:off x="4874040" y="185076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组合 490"/>
            <p:cNvGrpSpPr/>
            <p:nvPr/>
          </p:nvGrpSpPr>
          <p:grpSpPr>
            <a:xfrm>
              <a:off x="6704640" y="3196800"/>
              <a:ext cx="1372680" cy="1337040"/>
              <a:chOff x="6704640" y="3196800"/>
              <a:chExt cx="1372680" cy="1337040"/>
            </a:xfrm>
          </p:grpSpPr>
          <p:sp>
            <p:nvSpPr>
              <p:cNvPr id="254" name="Oval 116"/>
              <p:cNvSpPr/>
              <p:nvPr/>
            </p:nvSpPr>
            <p:spPr>
              <a:xfrm>
                <a:off x="7227720" y="373500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3"/>
              <p:cNvSpPr/>
              <p:nvPr/>
            </p:nvSpPr>
            <p:spPr>
              <a:xfrm>
                <a:off x="7031520" y="353304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"/>
              <p:cNvSpPr/>
              <p:nvPr/>
            </p:nvSpPr>
            <p:spPr>
              <a:xfrm>
                <a:off x="6704640" y="31968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494"/>
            <p:cNvGrpSpPr/>
            <p:nvPr/>
          </p:nvGrpSpPr>
          <p:grpSpPr>
            <a:xfrm>
              <a:off x="5070240" y="3735000"/>
              <a:ext cx="1372680" cy="1337040"/>
              <a:chOff x="5070240" y="3735000"/>
              <a:chExt cx="1372680" cy="1337040"/>
            </a:xfrm>
          </p:grpSpPr>
          <p:sp>
            <p:nvSpPr>
              <p:cNvPr id="258" name="Oval 116"/>
              <p:cNvSpPr/>
              <p:nvPr/>
            </p:nvSpPr>
            <p:spPr>
              <a:xfrm>
                <a:off x="5592960" y="4273920"/>
                <a:ext cx="23832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3"/>
              <p:cNvSpPr/>
              <p:nvPr/>
            </p:nvSpPr>
            <p:spPr>
              <a:xfrm>
                <a:off x="5397480" y="4071240"/>
                <a:ext cx="65304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3"/>
              <p:cNvSpPr/>
              <p:nvPr/>
            </p:nvSpPr>
            <p:spPr>
              <a:xfrm>
                <a:off x="5070240" y="3735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8"/>
            <p:cNvSpPr/>
            <p:nvPr/>
          </p:nvSpPr>
          <p:spPr>
            <a:xfrm rot="17271600">
              <a:off x="6645600" y="2723040"/>
              <a:ext cx="1023480" cy="8334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 rot="792000">
              <a:off x="6150240" y="3840840"/>
              <a:ext cx="995040" cy="8582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Oval 16"/>
          <p:cNvSpPr/>
          <p:nvPr/>
        </p:nvSpPr>
        <p:spPr>
          <a:xfrm flipV="1">
            <a:off x="2595600" y="121356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944E-006 L 0.66111 0.00277 E">
                                      <p:cBhvr>
                                        <p:cTn id="8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6489720" y="2214720"/>
            <a:ext cx="2786040" cy="22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586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66560" y="124308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466560" y="560880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47856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4527720" y="4021200"/>
            <a:ext cx="8856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0257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1641600" y="728640"/>
            <a:ext cx="88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441000" y="781200"/>
            <a:ext cx="1200240" cy="455040"/>
            <a:chOff x="441000" y="781200"/>
            <a:chExt cx="1200240" cy="455040"/>
          </a:xfrm>
        </p:grpSpPr>
        <p:cxnSp>
          <p:nvCxnSpPr>
            <p:cNvPr id="273" name="AutoShape 17"/>
            <p:cNvCxnSpPr/>
            <p:nvPr/>
          </p:nvCxnSpPr>
          <p:spPr>
            <a:xfrm flipV="1">
              <a:off x="44100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4" name="AutoShape 18"/>
            <p:cNvCxnSpPr/>
            <p:nvPr/>
          </p:nvCxnSpPr>
          <p:spPr>
            <a:xfrm flipH="1">
              <a:off x="78372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75" name="Rectangle 11"/>
          <p:cNvSpPr/>
          <p:nvPr/>
        </p:nvSpPr>
        <p:spPr>
          <a:xfrm>
            <a:off x="6572160" y="2550240"/>
            <a:ext cx="2428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7"/>
          <p:cNvGrpSpPr/>
          <p:nvPr/>
        </p:nvGrpSpPr>
        <p:grpSpPr>
          <a:xfrm>
            <a:off x="785880" y="1500120"/>
            <a:ext cx="5357880" cy="3929040"/>
            <a:chOff x="785880" y="1500120"/>
            <a:chExt cx="5357880" cy="3929040"/>
          </a:xfrm>
        </p:grpSpPr>
        <p:grpSp>
          <p:nvGrpSpPr>
            <p:cNvPr id="277" name="组合 200"/>
            <p:cNvGrpSpPr/>
            <p:nvPr/>
          </p:nvGrpSpPr>
          <p:grpSpPr>
            <a:xfrm>
              <a:off x="1500120" y="1500120"/>
              <a:ext cx="4143600" cy="3214440"/>
              <a:chOff x="1500120" y="1500120"/>
              <a:chExt cx="4143600" cy="3214440"/>
            </a:xfrm>
          </p:grpSpPr>
          <p:sp>
            <p:nvSpPr>
              <p:cNvPr id="278" name="平行四边形 29"/>
              <p:cNvSpPr/>
              <p:nvPr/>
            </p:nvSpPr>
            <p:spPr>
              <a:xfrm flipV="1" rot="5400000">
                <a:off x="3933000" y="2467440"/>
                <a:ext cx="1671840" cy="765360"/>
              </a:xfrm>
              <a:prstGeom prst="parallelogram">
                <a:avLst>
                  <a:gd name="adj" fmla="val 78041"/>
                </a:avLst>
              </a:prstGeom>
              <a:solidFill>
                <a:srgbClr val="ff6600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5"/>
              <p:cNvSpPr/>
              <p:nvPr/>
            </p:nvSpPr>
            <p:spPr>
              <a:xfrm flipV="1">
                <a:off x="1636920" y="2215440"/>
                <a:ext cx="0" cy="2356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5"/>
              <p:cNvSpPr/>
              <p:nvPr/>
            </p:nvSpPr>
            <p:spPr>
              <a:xfrm>
                <a:off x="1636920" y="4581360"/>
                <a:ext cx="3544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6"/>
              <p:cNvSpPr/>
              <p:nvPr/>
            </p:nvSpPr>
            <p:spPr>
              <a:xfrm>
                <a:off x="2913480" y="1500120"/>
                <a:ext cx="0" cy="212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7"/>
              <p:cNvSpPr/>
              <p:nvPr/>
            </p:nvSpPr>
            <p:spPr>
              <a:xfrm flipV="1">
                <a:off x="1600560" y="310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2743200" y="379152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438660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"/>
              <p:cNvSpPr/>
              <p:nvPr/>
            </p:nvSpPr>
            <p:spPr>
              <a:xfrm flipV="1">
                <a:off x="1690200" y="2914200"/>
                <a:ext cx="2224440" cy="161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208656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7"/>
              <p:cNvSpPr/>
              <p:nvPr/>
            </p:nvSpPr>
            <p:spPr>
              <a:xfrm flipV="1">
                <a:off x="335268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7"/>
              <p:cNvSpPr/>
              <p:nvPr/>
            </p:nvSpPr>
            <p:spPr>
              <a:xfrm flipV="1">
                <a:off x="3897720" y="355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2133720" y="42123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7"/>
              <p:cNvSpPr/>
              <p:nvPr/>
            </p:nvSpPr>
            <p:spPr>
              <a:xfrm>
                <a:off x="2965680" y="36219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7"/>
              <p:cNvSpPr/>
              <p:nvPr/>
            </p:nvSpPr>
            <p:spPr>
              <a:xfrm flipV="1">
                <a:off x="1617840" y="201420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7"/>
              <p:cNvSpPr/>
              <p:nvPr/>
            </p:nvSpPr>
            <p:spPr>
              <a:xfrm>
                <a:off x="2930760" y="201420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左大括号 41"/>
              <p:cNvSpPr/>
              <p:nvPr/>
            </p:nvSpPr>
            <p:spPr>
              <a:xfrm rot="16200000">
                <a:off x="2701800" y="4032000"/>
                <a:ext cx="128520" cy="1236600"/>
              </a:xfrm>
              <a:custGeom>
                <a:avLst/>
                <a:gdLst>
                  <a:gd name="textAreaLeft" fmla="*/ 82080 w 128520"/>
                  <a:gd name="textAreaRight" fmla="*/ 128880 w 128520"/>
                  <a:gd name="textAreaTop" fmla="*/ 13320 h 1236600"/>
                  <a:gd name="textAreaBottom" fmla="*/ 1223280 h 12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78"/>
                      <a:pt x="10800" y="755"/>
                    </a:cubicBezTo>
                    <a:lnTo>
                      <a:pt x="10800" y="10045"/>
                    </a:lnTo>
                    <a:cubicBezTo>
                      <a:pt x="10800" y="10423"/>
                      <a:pt x="5400" y="10800"/>
                      <a:pt x="0" y="10800"/>
                    </a:cubicBezTo>
                    <a:cubicBezTo>
                      <a:pt x="5400" y="10800"/>
                      <a:pt x="10800" y="11178"/>
                      <a:pt x="10800" y="11555"/>
                    </a:cubicBezTo>
                    <a:lnTo>
                      <a:pt x="10800" y="20845"/>
                    </a:lnTo>
                    <a:cubicBezTo>
                      <a:pt x="10800" y="2122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左大括号 42"/>
              <p:cNvSpPr/>
              <p:nvPr/>
            </p:nvSpPr>
            <p:spPr>
              <a:xfrm rot="16200000">
                <a:off x="181836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左大括号 43"/>
              <p:cNvSpPr/>
              <p:nvPr/>
            </p:nvSpPr>
            <p:spPr>
              <a:xfrm rot="16200000">
                <a:off x="358560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左大括号 44"/>
              <p:cNvSpPr/>
              <p:nvPr/>
            </p:nvSpPr>
            <p:spPr>
              <a:xfrm>
                <a:off x="1500120" y="2979720"/>
                <a:ext cx="117360" cy="109224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1092240"/>
                  <a:gd name="textAreaBottom" fmla="*/ 1080000 h 10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91"/>
                      <a:pt x="10800" y="781"/>
                    </a:cubicBezTo>
                    <a:lnTo>
                      <a:pt x="10800" y="10019"/>
                    </a:lnTo>
                    <a:cubicBezTo>
                      <a:pt x="10800" y="10410"/>
                      <a:pt x="5400" y="10800"/>
                      <a:pt x="0" y="10800"/>
                    </a:cubicBezTo>
                    <a:cubicBezTo>
                      <a:pt x="5400" y="10800"/>
                      <a:pt x="10800" y="11191"/>
                      <a:pt x="10800" y="11581"/>
                    </a:cubicBezTo>
                    <a:lnTo>
                      <a:pt x="10800" y="20819"/>
                    </a:lnTo>
                    <a:cubicBezTo>
                      <a:pt x="10800" y="2121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左大括号 45"/>
              <p:cNvSpPr/>
              <p:nvPr/>
            </p:nvSpPr>
            <p:spPr>
              <a:xfrm>
                <a:off x="1500120" y="4071960"/>
                <a:ext cx="117360" cy="52236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522360"/>
                  <a:gd name="textAreaBottom" fmla="*/ 5101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17"/>
                      <a:pt x="10800" y="1633"/>
                    </a:cubicBezTo>
                    <a:lnTo>
                      <a:pt x="10800" y="9167"/>
                    </a:lnTo>
                    <a:cubicBezTo>
                      <a:pt x="10800" y="9984"/>
                      <a:pt x="5400" y="10800"/>
                      <a:pt x="0" y="10800"/>
                    </a:cubicBezTo>
                    <a:cubicBezTo>
                      <a:pt x="5400" y="10800"/>
                      <a:pt x="10800" y="11617"/>
                      <a:pt x="10800" y="12433"/>
                    </a:cubicBezTo>
                    <a:lnTo>
                      <a:pt x="10800" y="19967"/>
                    </a:lnTo>
                    <a:cubicBezTo>
                      <a:pt x="10800" y="2078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261936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6"/>
              <p:cNvSpPr/>
              <p:nvPr/>
            </p:nvSpPr>
            <p:spPr>
              <a:xfrm>
                <a:off x="3384720" y="156348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6"/>
              <p:cNvSpPr/>
              <p:nvPr/>
            </p:nvSpPr>
            <p:spPr>
              <a:xfrm>
                <a:off x="5151600" y="150012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7"/>
              <p:cNvSpPr/>
              <p:nvPr/>
            </p:nvSpPr>
            <p:spPr>
              <a:xfrm>
                <a:off x="2971800" y="3108240"/>
                <a:ext cx="2671920" cy="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50"/>
              <p:cNvSpPr/>
              <p:nvPr/>
            </p:nvSpPr>
            <p:spPr>
              <a:xfrm>
                <a:off x="2619360" y="2592360"/>
                <a:ext cx="1766880" cy="1093680"/>
              </a:xfrm>
              <a:prstGeom prst="rect">
                <a:avLst/>
              </a:prstGeom>
              <a:solidFill>
                <a:srgbClr val="ff9900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平行四边形 54"/>
              <p:cNvSpPr/>
              <p:nvPr/>
            </p:nvSpPr>
            <p:spPr>
              <a:xfrm>
                <a:off x="2619000" y="2014200"/>
                <a:ext cx="2524680" cy="578520"/>
              </a:xfrm>
              <a:prstGeom prst="parallelogram">
                <a:avLst>
                  <a:gd name="adj" fmla="val 126516"/>
                </a:avLst>
              </a:prstGeom>
              <a:solidFill>
                <a:srgbClr val="ffc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19"/>
            <p:cNvSpPr/>
            <p:nvPr/>
          </p:nvSpPr>
          <p:spPr>
            <a:xfrm>
              <a:off x="785880" y="32144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0"/>
            <p:cNvSpPr/>
            <p:nvPr/>
          </p:nvSpPr>
          <p:spPr>
            <a:xfrm>
              <a:off x="785880" y="41432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非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1"/>
            <p:cNvSpPr/>
            <p:nvPr/>
          </p:nvSpPr>
          <p:spPr>
            <a:xfrm>
              <a:off x="155304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弱势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2"/>
            <p:cNvSpPr/>
            <p:nvPr/>
          </p:nvSpPr>
          <p:spPr>
            <a:xfrm>
              <a:off x="248508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中端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3"/>
            <p:cNvSpPr/>
            <p:nvPr/>
          </p:nvSpPr>
          <p:spPr>
            <a:xfrm>
              <a:off x="334260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顶级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4286520" y="4286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生存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4714920" y="389700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生活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6"/>
            <p:cNvSpPr/>
            <p:nvPr/>
          </p:nvSpPr>
          <p:spPr>
            <a:xfrm>
              <a:off x="5072400" y="3611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奢侈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7"/>
            <p:cNvSpPr/>
            <p:nvPr/>
          </p:nvSpPr>
          <p:spPr>
            <a:xfrm>
              <a:off x="1214280" y="19285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100" spc="-1" strike="noStrike">
                  <a:solidFill>
                    <a:srgbClr val="ffc000"/>
                  </a:solidFill>
                  <a:latin typeface="华文细黑"/>
                </a:rPr>
                <a:t>品牌影响力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8"/>
            <p:cNvSpPr/>
            <p:nvPr/>
          </p:nvSpPr>
          <p:spPr>
            <a:xfrm>
              <a:off x="5215320" y="45007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100" spc="-1" strike="noStrike">
                  <a:solidFill>
                    <a:srgbClr val="ffc000"/>
                  </a:solidFill>
                  <a:latin typeface="华文细黑"/>
                </a:rPr>
                <a:t>关注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4983 -0.41222 E">
                                      <p:cBhvr>
                                        <p:cTn id="12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H:\WDS\WDS图片\15650.jpg"/>
          <p:cNvPicPr/>
          <p:nvPr/>
        </p:nvPicPr>
        <p:blipFill>
          <a:blip r:embed="rId1"/>
          <a:srcRect l="18235" t="0" r="0" b="0"/>
          <a:stretch/>
        </p:blipFill>
        <p:spPr>
          <a:xfrm>
            <a:off x="1811160" y="822240"/>
            <a:ext cx="5689800" cy="514836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7505640" y="3714840"/>
            <a:ext cx="16383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1785960" y="4286160"/>
            <a:ext cx="57150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1809720" y="4500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细黑"/>
              </a:rPr>
              <a:t>标题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0"/>
          <p:cNvSpPr/>
          <p:nvPr/>
        </p:nvSpPr>
        <p:spPr>
          <a:xfrm>
            <a:off x="0" y="3714840"/>
            <a:ext cx="17859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325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"/>
          <p:cNvSpPr/>
          <p:nvPr/>
        </p:nvSpPr>
        <p:spPr>
          <a:xfrm>
            <a:off x="1538280" y="1255680"/>
            <a:ext cx="6248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4"/>
          <p:cNvSpPr/>
          <p:nvPr/>
        </p:nvSpPr>
        <p:spPr>
          <a:xfrm>
            <a:off x="135720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2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32" name="圆角矩形 13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33" name="圆角矩形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143000" y="1343160"/>
            <a:ext cx="6786360" cy="1814040"/>
            <a:chOff x="1143000" y="1343160"/>
            <a:chExt cx="6786360" cy="1814040"/>
          </a:xfrm>
        </p:grpSpPr>
        <p:sp>
          <p:nvSpPr>
            <p:cNvPr id="337" name="Freeform 36"/>
            <p:cNvSpPr/>
            <p:nvPr/>
          </p:nvSpPr>
          <p:spPr>
            <a:xfrm>
              <a:off x="1143000" y="134316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7"/>
            <p:cNvSpPr/>
            <p:nvPr/>
          </p:nvSpPr>
          <p:spPr>
            <a:xfrm rot="16200000">
              <a:off x="1126800" y="287352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8"/>
            <p:cNvSpPr/>
            <p:nvPr/>
          </p:nvSpPr>
          <p:spPr>
            <a:xfrm rot="10800000">
              <a:off x="7668360" y="292860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rot="5400000">
              <a:off x="7715520" y="137340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" descr="F:\于凌波\WDS\WDS图片\39.jpg"/>
          <p:cNvPicPr/>
          <p:nvPr/>
        </p:nvPicPr>
        <p:blipFill>
          <a:blip r:embed="rId2"/>
          <a:srcRect l="0" t="1643" r="8561" b="0"/>
          <a:stretch/>
        </p:blipFill>
        <p:spPr>
          <a:xfrm>
            <a:off x="928800" y="3357720"/>
            <a:ext cx="3289320" cy="2371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E:\WDS\WDS图片\9.jpg"/>
          <p:cNvPicPr/>
          <p:nvPr/>
        </p:nvPicPr>
        <p:blipFill>
          <a:blip r:embed="rId3"/>
          <a:srcRect l="4444" t="0" r="3287" b="0"/>
          <a:stretch/>
        </p:blipFill>
        <p:spPr>
          <a:xfrm>
            <a:off x="4929120" y="3359160"/>
            <a:ext cx="3214800" cy="23367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4"/>
          <p:cNvSpPr/>
          <p:nvPr/>
        </p:nvSpPr>
        <p:spPr>
          <a:xfrm>
            <a:off x="521496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7"/>
          <p:cNvSpPr/>
          <p:nvPr/>
        </p:nvSpPr>
        <p:spPr>
          <a:xfrm>
            <a:off x="1227240" y="81612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227240" y="603576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22724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791532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 flipH="1" flipV="1">
            <a:off x="7410240" y="496440"/>
            <a:ext cx="129960" cy="3207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 flipH="1" flipV="1">
            <a:off x="7275240" y="496440"/>
            <a:ext cx="82440" cy="3207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 flipV="1">
            <a:off x="7085160" y="306360"/>
            <a:ext cx="50760" cy="511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 flipV="1">
            <a:off x="6908760" y="563400"/>
            <a:ext cx="3240" cy="2541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785960" y="18813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长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1785960" y="37321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短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2162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微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61484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宏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3093480" y="3657600"/>
            <a:ext cx="866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扩大目标市场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目标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曝光率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销售机会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3054240" y="2023920"/>
            <a:ext cx="981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培养客户忠诚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扩大市场份额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培养潜在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拓展销售渠道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 flipV="1">
            <a:off x="2217600" y="1593360"/>
            <a:ext cx="0" cy="359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17600" y="5207040"/>
            <a:ext cx="54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4714920" y="1903320"/>
            <a:ext cx="0" cy="324036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7"/>
          <p:cNvSpPr/>
          <p:nvPr/>
        </p:nvSpPr>
        <p:spPr>
          <a:xfrm>
            <a:off x="2217600" y="350028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5496840" y="2071800"/>
            <a:ext cx="1209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树立强势品牌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形成良好的社会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树立良好口碑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产生辐射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1"/>
          <p:cNvSpPr/>
          <p:nvPr/>
        </p:nvSpPr>
        <p:spPr>
          <a:xfrm>
            <a:off x="5529240" y="3975120"/>
            <a:ext cx="109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提升企业正面形象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提升产品美誉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2246400" y="185724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7215120" y="1928880"/>
            <a:ext cx="0" cy="324000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7"/>
          <p:cNvGrpSpPr/>
          <p:nvPr/>
        </p:nvGrpSpPr>
        <p:grpSpPr>
          <a:xfrm>
            <a:off x="1285920" y="210960"/>
            <a:ext cx="2855880" cy="503280"/>
            <a:chOff x="1285920" y="210960"/>
            <a:chExt cx="2855880" cy="503280"/>
          </a:xfrm>
        </p:grpSpPr>
        <p:grpSp>
          <p:nvGrpSpPr>
            <p:cNvPr id="367" name="圆角矩形 28"/>
            <p:cNvGrpSpPr/>
            <p:nvPr/>
          </p:nvGrpSpPr>
          <p:grpSpPr>
            <a:xfrm>
              <a:off x="1285920" y="210960"/>
              <a:ext cx="2855880" cy="503280"/>
              <a:chOff x="1285920" y="210960"/>
              <a:chExt cx="2855880" cy="503280"/>
            </a:xfrm>
          </p:grpSpPr>
          <p:pic>
            <p:nvPicPr>
              <p:cNvPr id="368" name="圆角矩形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210960"/>
                <a:ext cx="28558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1361880" y="254520"/>
                <a:ext cx="2705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圆角矩形 4"/>
            <p:cNvSpPr/>
            <p:nvPr/>
          </p:nvSpPr>
          <p:spPr>
            <a:xfrm>
              <a:off x="1353600" y="252360"/>
              <a:ext cx="2722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; car</cp:keywords>
  <dc:language>en-US</dc:language>
  <cp:lastModifiedBy/>
  <dcterms:modified xsi:type="dcterms:W3CDTF">2015-07-11T12:18:40Z</dcterms:modified>
  <cp:revision>6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