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68BE-9214-4761-ABC5-9A08A41B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90C-5D08-4197-87E0-369DDFBE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D09-35A9-4341-9468-16C3DF6F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15F-70EF-4DD4-8A13-A411DF99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D05-86D1-40D4-9950-C477A7B6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AB8-A201-48BF-8FC5-EAAF940F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214D-0390-4070-8E3F-81AB337D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ECD-3730-4707-8E9D-51D3FFF9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4DC-224D-48B2-A952-96F7DE6A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14A-4FCE-4A4F-9AEA-7B75AEB2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F70C-D6EF-46B8-97E3-22F4AD5F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434F-E6EC-48EB-AB6E-944E06F9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D281-2D7F-412D-A110-CBA6BA3C6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2146320" y="12938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52560" y="4572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忆江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26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27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28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914400" y="1066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居易曾在江南做官十年，为人民做了很多好事，当地百姓和他的感情很深。后来，他生病了，不得不谢任苏州刺史一职，在他离任回洛阳时，苏州的人们不舍得他走，都哭着为他送别。他的好友刘禹锡曾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太守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写道：“苏州十万户，尽作婴儿啼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641760" y="47952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26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27"/>
          <p:cNvSpPr/>
          <p:nvPr/>
        </p:nvSpPr>
        <p:spPr>
          <a:xfrm>
            <a:off x="2286000" y="2514600"/>
            <a:ext cx="533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能不忆江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09480" y="1219320"/>
            <a:ext cx="3886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南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忆是杭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山寺月中寻桂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郡亭枕上看潮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何日更重游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4724280" y="1219320"/>
            <a:ext cx="3962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南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次忆吴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吴酒一杯春竹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吴娃双舞醉芙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早晚复相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mhsn-guzheng.mp3" descr=""/>
          <p:cNvPicPr/>
          <p:nvPr/>
        </p:nvPicPr>
        <p:blipFill>
          <a:blip r:embed="rId1"/>
          <a:stretch/>
        </p:blipFill>
        <p:spPr>
          <a:xfrm>
            <a:off x="8153280" y="5867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1111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26"/>
          <p:cNvSpPr/>
          <p:nvPr/>
        </p:nvSpPr>
        <p:spPr>
          <a:xfrm>
            <a:off x="762120" y="1219320"/>
            <a:ext cx="3962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南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忆是杭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山寺月中寻桂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郡亭枕上看潮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何日更重游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27"/>
          <p:cNvSpPr/>
          <p:nvPr/>
        </p:nvSpPr>
        <p:spPr>
          <a:xfrm>
            <a:off x="4648320" y="1219320"/>
            <a:ext cx="3886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南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次忆吴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吴酒一杯春竹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吴娃双舞醉芙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早晚复相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hsn-guzheng.mp3" descr=""/>
          <p:cNvPicPr/>
          <p:nvPr/>
        </p:nvPicPr>
        <p:blipFill>
          <a:blip r:embed="rId1"/>
          <a:stretch/>
        </p:blipFill>
        <p:spPr>
          <a:xfrm>
            <a:off x="8153280" y="5867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11119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2286000" y="2514600"/>
            <a:ext cx="533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能不忆江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609588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mhsn-guzheng.mp3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1111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CF5-7BF1-4C8D-A649-EC63C462D9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60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mhsn-guzheng.mp3" descr=""/>
          <p:cNvPicPr/>
          <p:nvPr/>
        </p:nvPicPr>
        <p:blipFill>
          <a:blip r:embed="rId2"/>
          <a:stretch/>
        </p:blipFill>
        <p:spPr>
          <a:xfrm>
            <a:off x="8153280" y="6095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1111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忆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0T10:14:20Z</dcterms:created>
  <dc:creator>幻灯片之家 http://www.eeppt.com</dc:creator>
  <dc:description/>
  <cp:keywords>幻灯片之家 http:/www.eeppt.com; 第一PPT模板网-WWW.1PPT.COM</cp:keywords>
  <dc:language>en-US</dc:language>
  <cp:lastModifiedBy/>
  <dcterms:modified xsi:type="dcterms:W3CDTF">2015-07-16T02:31:32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